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57F2-4858-4A39-A2B6-6D7BBF432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E36E-58AA-4FBA-83E9-1BCE514FD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1974-B81F-4759-B9D5-B0B519A99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C63F-2760-4CB2-8F4F-E9C3A1D1C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AA32-A93F-4759-AB08-5ACE51EBD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3161-AAA9-41B0-8FD1-F6376D8EB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F620-3667-4CF0-B988-C9ABD4C18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B7AE-DAF7-4664-87AF-66095A9CA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6A2C-23DF-4F4C-A60E-7E6A107F2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7DE4-21BC-4353-AF4E-FAA6E782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D689-5BE0-4B69-803E-8CFABFAA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E1A9-844F-4DBC-B859-F68C670A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414CB-5C37-4384-B074-F27685888B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 октябр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11280" y="2781360"/>
            <a:ext cx="7632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ная работ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Рефлекс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1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Сегодня на уроке я вспомнил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1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Calibri"/>
              </a:rPr>
              <a:t>2. Сегодня на уроке я узнал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 октябр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11280" y="2781360"/>
            <a:ext cx="7632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ная работ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Минутка чистопис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На колхозных полях работают тракторы, сеялки, комбайны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b0f0"/>
                </a:solidFill>
                <a:uFillTx/>
                <a:latin typeface="Calibri"/>
              </a:rPr>
              <a:t>Задание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Calibri"/>
              </a:rPr>
              <a:t>1.Вставь знаки препин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Calibri"/>
              </a:rPr>
              <a:t>2. Составь схему предложен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Calibri"/>
              </a:rPr>
              <a:t>Тема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Правописание согласных в значимых частях слов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000"/>
                </a:solidFill>
                <a:latin typeface="Calibri"/>
              </a:rPr>
              <a:t>Цели </a:t>
            </a:r>
            <a:r>
              <a:rPr b="1" i="1" lang="ru-RU" sz="6000" spc="-1" strike="noStrike">
                <a:solidFill>
                  <a:srgbClr val="ffc000"/>
                </a:solidFill>
                <a:latin typeface="Calibri"/>
              </a:rPr>
              <a:t>урока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На уроке я повторю…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Работа с учебник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Упражнение 94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Вставь пропущенные букв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:\4 класс\УРОКИ\РУС ЯЗ\гласные в корнях\3.jpg"/>
          <p:cNvPicPr/>
          <p:nvPr/>
        </p:nvPicPr>
        <p:blipFill>
          <a:blip r:embed="rId1"/>
          <a:stretch/>
        </p:blipFill>
        <p:spPr>
          <a:xfrm>
            <a:off x="324000" y="1413000"/>
            <a:ext cx="8569080" cy="2805120"/>
          </a:xfrm>
          <a:prstGeom prst="rect">
            <a:avLst/>
          </a:prstGeom>
          <a:ln w="0">
            <a:noFill/>
          </a:ln>
        </p:spPr>
      </p:pic>
      <p:sp>
        <p:nvSpPr>
          <p:cNvPr id="73" name="Заголовок 1"/>
          <p:cNvSpPr/>
          <p:nvPr/>
        </p:nvSpPr>
        <p:spPr>
          <a:xfrm>
            <a:off x="468360" y="4365720"/>
            <a:ext cx="84247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b0f0"/>
                </a:solidFill>
                <a:uFillTx/>
                <a:latin typeface="Calibri"/>
              </a:rPr>
              <a:t>Задан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f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f0"/>
                </a:solidFill>
                <a:latin typeface="Calibri"/>
              </a:rPr>
              <a:t>Обозначь орфограмму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f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f0"/>
                </a:solidFill>
                <a:latin typeface="Calibri"/>
              </a:rPr>
              <a:t>Составь 4 словосочетан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Образуй от существительных имена прилагательны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:\4 класс\УРОКИ\РУС ЯЗ\гласные в корнях\31.jpg"/>
          <p:cNvPicPr/>
          <p:nvPr/>
        </p:nvPicPr>
        <p:blipFill>
          <a:blip r:embed="rId1"/>
          <a:stretch/>
        </p:blipFill>
        <p:spPr>
          <a:xfrm>
            <a:off x="468360" y="2205000"/>
            <a:ext cx="822960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Запиши по образц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Ж</a:t>
            </a:r>
            <a:r>
              <a:rPr b="1" lang="ru-RU" sz="8000" spc="-1" strike="noStrike" u="sng">
                <a:solidFill>
                  <a:srgbClr val="ffffff"/>
                </a:solidFill>
                <a:uFillTx/>
                <a:latin typeface="Calibri"/>
              </a:rPr>
              <a:t>е</a:t>
            </a: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л</a:t>
            </a:r>
            <a:r>
              <a:rPr b="1" lang="ru-RU" sz="8000" spc="-1" strike="noStrike" u="sng">
                <a:solidFill>
                  <a:srgbClr val="ffffff"/>
                </a:solidFill>
                <a:uFillTx/>
                <a:latin typeface="Calibri"/>
              </a:rPr>
              <a:t>е</a:t>
            </a: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зо</a:t>
            </a:r>
            <a:r>
              <a:rPr b="0" lang="ru-RU" sz="8000" spc="-1" strike="noStrike" baseline="30000">
                <a:solidFill>
                  <a:srgbClr val="ffff00"/>
                </a:solidFill>
                <a:latin typeface="Calibri"/>
              </a:rPr>
              <a:t>1,2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Calibri"/>
              </a:rPr>
              <a:t>Лексическое значение слова? Однокоренные слова? Фразеологизм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Calibri"/>
              </a:rPr>
              <a:t>Задание на выбор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eeece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ece1"/>
                </a:solidFill>
                <a:latin typeface="Calibri"/>
              </a:rPr>
              <a:t>Составь два словосочет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eeece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ece1"/>
                </a:solidFill>
                <a:latin typeface="Calibri"/>
              </a:rPr>
              <a:t>Составь предлож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Calibri"/>
              </a:rPr>
              <a:t>Вставь пропущенные буквы. </a:t>
            </a:r>
            <a:br>
              <a:rPr sz="4000"/>
            </a:br>
            <a:r>
              <a:rPr b="1" lang="ru-RU" sz="4000" spc="-1" strike="noStrike">
                <a:solidFill>
                  <a:srgbClr val="ffc000"/>
                </a:solidFill>
                <a:latin typeface="Calibri"/>
              </a:rPr>
              <a:t>При необходимости пользуйся словарём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F:\4 класс\УРОКИ\РУС ЯЗ\гласные в корнях\2.jpg"/>
          <p:cNvPicPr/>
          <p:nvPr/>
        </p:nvPicPr>
        <p:blipFill>
          <a:blip r:embed="rId1"/>
          <a:stretch/>
        </p:blipFill>
        <p:spPr>
          <a:xfrm>
            <a:off x="395280" y="2924280"/>
            <a:ext cx="8589960" cy="16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Users\Еленга\Desktop\методички\Чистописание 4 класс Палова\98771262_large_0010.jpg"/>
          <p:cNvPicPr/>
          <p:nvPr/>
        </p:nvPicPr>
        <p:blipFill>
          <a:blip r:embed="rId1"/>
          <a:srcRect l="5620" t="64060" r="5620" b="8902"/>
          <a:stretch/>
        </p:blipFill>
        <p:spPr>
          <a:xfrm>
            <a:off x="324000" y="476280"/>
            <a:ext cx="8686800" cy="3744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C:\Users\Еленга\Desktop\методички\Чистописание 4 класс Палова\98771263_large_0011.jpg"/>
          <p:cNvPicPr/>
          <p:nvPr/>
        </p:nvPicPr>
        <p:blipFill>
          <a:blip r:embed="rId2"/>
          <a:srcRect l="5620" t="4066" r="5620" b="78120"/>
          <a:stretch/>
        </p:blipFill>
        <p:spPr>
          <a:xfrm>
            <a:off x="468360" y="4292640"/>
            <a:ext cx="8136000" cy="231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Рефлекс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1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Сегодня на уроке я вспомнил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1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Calibri"/>
              </a:rPr>
              <a:t>2. Сегодня на уроке я узнал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 октябр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11280" y="2781360"/>
            <a:ext cx="7632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ная работ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Тем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Правописание гласных и согласных в значимых частях слова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000"/>
                </a:solidFill>
                <a:latin typeface="Calibri"/>
              </a:rPr>
              <a:t>Сравни слов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Д..лёкий – бли..кий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Поз..ний – ран..ий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Calibri"/>
              </a:rPr>
              <a:t>Работа с учебник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Упражнение 97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35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Calibri"/>
              </a:rPr>
              <a:t>Лексическое значение слова? </a:t>
            </a:r>
            <a:br>
              <a:rPr sz="3200"/>
            </a:br>
            <a:r>
              <a:rPr b="0" lang="ru-RU" sz="3200" spc="-1" strike="noStrike">
                <a:solidFill>
                  <a:srgbClr val="00b0f0"/>
                </a:solidFill>
                <a:latin typeface="Calibri"/>
              </a:rPr>
              <a:t>Однокоренные слова? </a:t>
            </a:r>
            <a:br>
              <a:rPr sz="3200"/>
            </a:br>
            <a:r>
              <a:rPr b="0" lang="ru-RU" sz="3200" spc="-1" strike="noStrike">
                <a:solidFill>
                  <a:srgbClr val="00b0f0"/>
                </a:solidFill>
                <a:latin typeface="Calibri"/>
              </a:rPr>
              <a:t>Задание на выбор:</a:t>
            </a:r>
            <a:br>
              <a:rPr sz="3200"/>
            </a:br>
            <a:r>
              <a:rPr b="0" lang="ru-RU" sz="3200" spc="-1" strike="noStrike">
                <a:solidFill>
                  <a:srgbClr val="eeece1"/>
                </a:solidFill>
                <a:latin typeface="Calibri"/>
              </a:rPr>
              <a:t>Составь два словосочетания.</a:t>
            </a:r>
            <a:br>
              <a:rPr sz="3200"/>
            </a:br>
            <a:r>
              <a:rPr b="0" lang="ru-RU" sz="3200" spc="-1" strike="noStrike">
                <a:solidFill>
                  <a:srgbClr val="eeece1"/>
                </a:solidFill>
                <a:latin typeface="Calibri"/>
              </a:rPr>
              <a:t>Составь предлож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H:\4 класс\УРОКИ\РУС ЯЗ\гласные в корнях\333.jpg"/>
          <p:cNvPicPr/>
          <p:nvPr/>
        </p:nvPicPr>
        <p:blipFill>
          <a:blip r:embed="rId1"/>
          <a:stretch/>
        </p:blipFill>
        <p:spPr>
          <a:xfrm>
            <a:off x="468360" y="1916280"/>
            <a:ext cx="8229600" cy="850680"/>
          </a:xfrm>
          <a:prstGeom prst="rect">
            <a:avLst/>
          </a:prstGeom>
          <a:ln w="0">
            <a:noFill/>
          </a:ln>
        </p:spPr>
      </p:pic>
      <p:sp>
        <p:nvSpPr>
          <p:cNvPr id="92" name="Заголовок 1"/>
          <p:cNvSpPr/>
          <p:nvPr/>
        </p:nvSpPr>
        <p:spPr>
          <a:xfrm>
            <a:off x="669960" y="76500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Словарные сл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Развитие ре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С, осенние, берёз, тихо, листья, падаю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Лесную, ярко, поляну, лучи, солнца, осветил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Рефлекс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1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Сегодня на уроке я вспомнил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1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Calibri"/>
              </a:rPr>
              <a:t>2. Сегодня на уроке я узнал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Какое предложение соответствует  схем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000"/>
                </a:solidFill>
                <a:latin typeface="Calibri"/>
              </a:rPr>
              <a:t>{ </a:t>
            </a:r>
            <a:r>
              <a:rPr b="1" lang="ru-RU" sz="8800" spc="-1" strike="noStrike">
                <a:solidFill>
                  <a:srgbClr val="ffc000"/>
                </a:solidFill>
                <a:latin typeface="Calibri"/>
              </a:rPr>
              <a:t>-=</a:t>
            </a:r>
            <a:r>
              <a:rPr b="1" lang="en-US" sz="8800" spc="-1" strike="noStrike">
                <a:solidFill>
                  <a:srgbClr val="ffc000"/>
                </a:solidFill>
                <a:latin typeface="Calibri"/>
              </a:rPr>
              <a:t>}, </a:t>
            </a:r>
            <a:r>
              <a:rPr b="1" lang="ru-RU" sz="8800" spc="-1" strike="noStrike">
                <a:solidFill>
                  <a:srgbClr val="ffc000"/>
                </a:solidFill>
                <a:latin typeface="Calibri"/>
              </a:rPr>
              <a:t>то </a:t>
            </a:r>
            <a:r>
              <a:rPr b="1" lang="en-US" sz="8800" spc="-1" strike="noStrike">
                <a:solidFill>
                  <a:srgbClr val="ffc000"/>
                </a:solidFill>
                <a:latin typeface="Calibri"/>
              </a:rPr>
              <a:t>{ - = }</a:t>
            </a:r>
            <a:r>
              <a:rPr b="1" lang="ru-RU" sz="8800" spc="-1" strike="noStrike">
                <a:solidFill>
                  <a:srgbClr val="ffc000"/>
                </a:solidFill>
                <a:latin typeface="Calibri"/>
              </a:rPr>
              <a:t>.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Тем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Правописание гласных и согласных в значимых частых слова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Работа с учебник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Стр. 56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Вставь пропущенные букв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F:\4 класс\УРОКИ\РУС ЯЗ\гласные в корнях\1.jpg"/>
          <p:cNvPicPr/>
          <p:nvPr/>
        </p:nvPicPr>
        <p:blipFill>
          <a:blip r:embed="rId1"/>
          <a:stretch/>
        </p:blipFill>
        <p:spPr>
          <a:xfrm>
            <a:off x="457200" y="2489040"/>
            <a:ext cx="8229600" cy="27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Работа с учебник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Упражнение 9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Calibri"/>
              </a:rPr>
              <a:t>Вставь пропущенные буквы. </a:t>
            </a:r>
            <a:br>
              <a:rPr sz="4000"/>
            </a:br>
            <a:r>
              <a:rPr b="1" lang="ru-RU" sz="4000" spc="-1" strike="noStrike">
                <a:solidFill>
                  <a:srgbClr val="ffc000"/>
                </a:solidFill>
                <a:latin typeface="Calibri"/>
              </a:rPr>
              <a:t>При необходимости пользуйся словарём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F:\4 класс\УРОКИ\РУС ЯЗ\гласные в корнях\2.jpg"/>
          <p:cNvPicPr/>
          <p:nvPr/>
        </p:nvPicPr>
        <p:blipFill>
          <a:blip r:embed="rId1"/>
          <a:stretch/>
        </p:blipFill>
        <p:spPr>
          <a:xfrm>
            <a:off x="395280" y="2924280"/>
            <a:ext cx="8589960" cy="16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Запиши по образц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Ж</a:t>
            </a:r>
            <a:r>
              <a:rPr b="1" lang="ru-RU" sz="8000" spc="-1" strike="noStrike" u="sng">
                <a:solidFill>
                  <a:srgbClr val="ffffff"/>
                </a:solidFill>
                <a:uFillTx/>
                <a:latin typeface="Calibri"/>
              </a:rPr>
              <a:t>е</a:t>
            </a: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л</a:t>
            </a:r>
            <a:r>
              <a:rPr b="1" lang="ru-RU" sz="8000" spc="-1" strike="noStrike" u="sng">
                <a:solidFill>
                  <a:srgbClr val="ffffff"/>
                </a:solidFill>
                <a:uFillTx/>
                <a:latin typeface="Calibri"/>
              </a:rPr>
              <a:t>е</a:t>
            </a: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зо</a:t>
            </a:r>
            <a:r>
              <a:rPr b="0" lang="ru-RU" sz="8000" spc="-1" strike="noStrike" baseline="30000">
                <a:solidFill>
                  <a:srgbClr val="ffff00"/>
                </a:solidFill>
                <a:latin typeface="Calibri"/>
              </a:rPr>
              <a:t>1,2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Calibri"/>
              </a:rPr>
              <a:t>Лексическое значение слова? Однокоренные слова? Фразеологизм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Calibri"/>
              </a:rPr>
              <a:t>Задание на выбор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eeece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ece1"/>
                </a:solidFill>
                <a:latin typeface="Calibri"/>
              </a:rPr>
              <a:t>Составь два словосочет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eeece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ece1"/>
                </a:solidFill>
                <a:latin typeface="Calibri"/>
              </a:rPr>
              <a:t>Составь предлож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18:27:45Z</dcterms:created>
  <dc:creator>ViTark</dc:creator>
  <dc:description/>
  <dc:language>en-US</dc:language>
  <cp:lastModifiedBy>СОШ№7</cp:lastModifiedBy>
  <dcterms:modified xsi:type="dcterms:W3CDTF">2022-10-10T10:22:14Z</dcterms:modified>
  <cp:revision>120</cp:revision>
  <dc:subject/>
  <dc:title>Заголовок слайда</dc:title>
</cp:coreProperties>
</file>