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314-DDCC-41E1-A9F2-839EA757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8AE-9417-465D-A674-DDC8E21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873-3571-46DE-880C-29BC6AA0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2C4-4F97-49F4-8D3F-2063337E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ACC-9BBE-4947-88D5-338929E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398-8200-46DF-95F4-4795289F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6FD-1E96-4A5B-834C-774D9C21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BF9-9E14-4558-8834-5899A896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58D-2006-4F07-8B58-379E151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A91-85F6-4E7A-A025-461AB35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1F7-CB0D-470B-8BC2-596FCB9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D0D-87C4-42B4-AB88-05F9E88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CD3-EA71-4308-9E6D-191609FD2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 колхозных полях работают тракторы, сеялки, комбайн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1.Вставь знаки препи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оставь схему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авописание согласных в значимых частях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Цели </a:t>
            </a:r>
            <a:r>
              <a:rPr b="1" i="1" lang="ru-RU" sz="6000" spc="-1" strike="noStrike">
                <a:solidFill>
                  <a:srgbClr val="ffc000"/>
                </a:solidFill>
                <a:latin typeface="Calibri"/>
              </a:rPr>
              <a:t>уро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 уроке я повторю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Упражнение 94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:\4 класс\УРОКИ\РУС ЯЗ\гласные в корнях\3.jpg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28051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468360" y="4365720"/>
            <a:ext cx="842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Обозначь орфограм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Составь 4 словосочет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Образуй от существительных имена прилага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:\4 класс\УРОКИ\РУС ЯЗ\гласные в корнях\31.jpg"/>
          <p:cNvPicPr/>
          <p:nvPr/>
        </p:nvPicPr>
        <p:blipFill>
          <a:blip r:embed="rId1"/>
          <a:stretch/>
        </p:blipFill>
        <p:spPr>
          <a:xfrm>
            <a:off x="468360" y="2205000"/>
            <a:ext cx="8229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га\Desktop\методички\Чистописание 4 класс Палова\98771262_large_0010.jpg"/>
          <p:cNvPicPr/>
          <p:nvPr/>
        </p:nvPicPr>
        <p:blipFill>
          <a:blip r:embed="rId1"/>
          <a:srcRect l="5620" t="64060" r="5620" b="8902"/>
          <a:stretch/>
        </p:blipFill>
        <p:spPr>
          <a:xfrm>
            <a:off x="324000" y="476280"/>
            <a:ext cx="8686800" cy="374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Еленга\Desktop\методички\Чистописание 4 класс Палова\98771263_large_0011.jpg"/>
          <p:cNvPicPr/>
          <p:nvPr/>
        </p:nvPicPr>
        <p:blipFill>
          <a:blip r:embed="rId2"/>
          <a:srcRect l="5620" t="4066" r="5620" b="78120"/>
          <a:stretch/>
        </p:blipFill>
        <p:spPr>
          <a:xfrm>
            <a:off x="468360" y="4292640"/>
            <a:ext cx="8136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я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Сравни сл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..лёкий – бли..к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оз..ний – ран..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7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Однокоренны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:\4 класс\УРОКИ\РУС ЯЗ\гласные в корнях\333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8506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69960" y="765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, осенние, берёз, тихо, листья, п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есную, ярко, поляну, лучи, солнца, освет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кое предложение соответствует  схе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-=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},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то 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- = }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ы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Стр. 5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4 класс\УРОКИ\РУС ЯЗ\гласные в корнях\1.jpg"/>
          <p:cNvPicPr/>
          <p:nvPr/>
        </p:nvPicPr>
        <p:blipFill>
          <a:blip r:embed="rId1"/>
          <a:stretch/>
        </p:blipFill>
        <p:spPr>
          <a:xfrm>
            <a:off x="457200" y="2489040"/>
            <a:ext cx="82296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СОШ№7</cp:lastModifiedBy>
  <dcterms:modified xsi:type="dcterms:W3CDTF">2022-10-10T10:22:14Z</dcterms:modified>
  <cp:revision>120</cp:revision>
  <dc:subject/>
  <dc:title>Заголовок слайда</dc:title>
</cp:coreProperties>
</file>