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067-6DD5-4B05-B01A-5A0BE80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4A1-8A60-4AB1-A253-642134C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83D-6C0B-4334-B113-162B96C7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C71-28E5-4764-83B8-9C0A5D9E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866-91A0-4DA7-8F78-3C57D86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88A-FE8B-424D-8C71-82AB460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CAC-927A-4DA0-BEDE-1F53366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9642-1030-4F9A-A978-B5C195BE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998-9F84-406B-AC6F-160AF808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6143-1068-406A-B21B-7E4906B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3B9D-C23C-4DE0-84A2-65E34B7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BEA-1E61-4A94-AACA-0FF97F8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E7DC-F489-4EDB-A4CE-C50646D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3AA-EAF1-4001-87FC-E47BAB2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872-61BB-4F1E-B81F-92EF1A7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E80D-A8B0-4BEC-A752-8C6F5689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D043-1F0C-4ABB-8349-8E09959C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630-5636-4603-A1B9-E72CE937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425-8F7A-4BCE-8ECC-F725FDC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DF5-A052-46D6-B521-48EEFC8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9F5-BF40-4840-9E55-96D5F503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AC9-A775-4421-A5E7-593DBFA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BAD-AC09-495F-8B64-1685C6D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A3A-C21D-4D56-BA9E-29CBE45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0B4-38B6-477E-AA1C-60C738141D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B92-630E-45BB-9FA0-DE0E060F74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pochtimes.ru/conte" TargetMode="External"/><Relationship Id="rId2" Type="http://schemas.openxmlformats.org/officeDocument/2006/relationships/hyperlink" Target="http://linwworld.ru/index.php?id=chem-luchshe-zanimatsya-chtobyi-pohudet-skakalka" TargetMode="External"/><Relationship Id="rId3" Type="http://schemas.openxmlformats.org/officeDocument/2006/relationships/hyperlink" Target="http://linwworld.ru/index.php?id=chem-luchshe-zanimatsya-chtobyi-pohudet-skakalka" TargetMode="External"/><Relationship Id="rId4" Type="http://schemas.openxmlformats.org/officeDocument/2006/relationships/hyperlink" Target="http://linwworld.ru/index.php?id=chem-luchshe-zanimatsya-chtobyi-pohudet-skakalka" TargetMode="External"/><Relationship Id="rId5" Type="http://schemas.openxmlformats.org/officeDocument/2006/relationships/hyperlink" Target="http://linwworld.ru/index.php?id=chem-luchshe-zanimatsya-chtobyi-pohudet-skakalka" TargetMode="External"/><Relationship Id="rId6" Type="http://schemas.openxmlformats.org/officeDocument/2006/relationships/hyperlink" Target="http://linwworld.ru/index.php?id=chem-luchshe-zanimatsya-chtobyi-pohudet-skakalka" TargetMode="External"/><Relationship Id="rId7" Type="http://schemas.openxmlformats.org/officeDocument/2006/relationships/hyperlink" Target="http://linwworld.ru/index.php?id=chem-luchshe-zanimatsya-chtobyi-pohudet-skakalka" TargetMode="External"/><Relationship Id="rId8" Type="http://schemas.openxmlformats.org/officeDocument/2006/relationships/hyperlink" Target="http://lopatin.academic.ru/118335/&#1087;&#1088;&#1099;&#1075;&#1072;&#1083;&#1082;&#1080;" TargetMode="External"/><Relationship Id="rId9" Type="http://schemas.openxmlformats.org/officeDocument/2006/relationships/hyperlink" Target="http://lopatin.academic.ru/118335/&#1087;&#1088;&#1099;&#1075;&#1072;&#1083;&#1082;&#1080;" TargetMode="External"/><Relationship Id="rId10" Type="http://schemas.openxmlformats.org/officeDocument/2006/relationships/hyperlink" Target="http://lopatin.academic.ru/118335/&#1087;&#1088;&#1099;&#1075;&#1072;&#1083;&#1082;&#1080;" TargetMode="External"/><Relationship Id="rId11" Type="http://schemas.openxmlformats.org/officeDocument/2006/relationships/hyperlink" Target="http://lopatin.academic.ru/118335/&#1087;&#1088;&#1099;&#1075;&#1072;&#1083;&#1082;&#1080;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22860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скипинг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349440" cy="43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86200" y="3811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вченко Лидия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й 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7560" y="336600"/>
            <a:ext cx="53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Коршуно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жнеилимского района Иркут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Коршун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1120" y="338040"/>
            <a:ext cx="403848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какалка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53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меня в руках скакал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 скакалку очень жал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на крутила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ла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гралась, утомилас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 мне в руки попросила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ернулась в них колеч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конечка, до конеч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лежит и отдыха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ихонечку вздых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день рабоч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она устанет очень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ей крут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ться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такая кан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 скакалкой каждый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. Щу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743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о-методический журнал «Физическая культура в школе» - №1,2006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epochtimes.ru/co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anana-taksa.ru/gr8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linwworld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index.ph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?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lopatin.academic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118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tticus-flinch.livejour 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много истори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“skipping” происходит от английского “скип” - прыгать, подпрыгив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ипинг –это прыжки через скакалку, усложнённые в трюковой фор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м новомодным словом названа самая что ни на есть наша, до боли знакомая, скакалк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358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3040" y="1371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кты спор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ША и Европе скипинг приобрел популярность и развивается как вид спорта с 80-х годов уже прошлого века. (с 1980го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ые федерации созданы более чем в 30 странах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ссии же распространение скипинга началось во времена Агнии Барто (в 50-е годы – с 1950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ятся чемпионаты мира по скипингу. (рекорд мира принадлежит мужчине - 318 прыжков за 60 секун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ы, прыжк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упражнения со скакал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колыхнулись дружно челки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ыгают девчо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чки прыгают и до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длинные шнуро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любят все подру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 прыгучие игрушк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скакал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кая вообще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польз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от прыганья на скакалк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ыжки на скакалке 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бкость 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анку, чувство равновесия и координацию движ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пражнения со скакалкой позволяют эффективно прорабатывать икры, плечи, мышцы рук и брюшного пресса, что, естественно, улучшает фигуру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носливос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укрепляют сердечно-сосудистую и дыхательную системы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 отличный способ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худе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ведь прыгая, можно сжигать до 1000 ккал в час. Вообще, что касается сжигания калорий, занятия со скакалкой превосходят велосипед, теннис и плавание, а по степени эффективности в целях похудания сравнимы только с бего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7622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такое скакал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стейшая тренировка, доступная каждому в любом месте и в любое врем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а удобная и забавная штука, – недорогой портативный тренаж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ыжки «Скипинг» доступен каждому, вне зависимости от материального положения, возраста, веса и рос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3664080"/>
            <a:ext cx="3505320" cy="319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79800" cy="34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71800" y="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8006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безопасности перед занятием «Скипингом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началом занятий посоветуйтесь с врачом, если у вас есть проблемы с межпозвоночными хрящами или суставами, то прыжки на скакалке вам противопоказа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сь, что шнур скакалки не будет задевать окружающие предметы, особенно это касается люстры, если вы собрались прыгать до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занятий ноги должны быть вместе, спина прямая, локти прижаты к тел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ащать скакалку следует кистями ру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заниматься скипингом желательно хотя бы 10 мину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3680" y="27432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бования к инвентарю, форм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калка должна подходить вам по росту. Проверить можно так: наступив на середину скакалки, ручки подымите вверх. Если скакалка подходящая, то ручки должны находиться на уровне гру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ежда должна быть максимально удобной и в то же время достаточно облегающей, чтобы не путаться при занятиях в скака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вь лучше выбрать на резиновой подошве, чтобы не было скользк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8T15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