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7.jpeg" ContentType="image/jpeg"/>
  <Override PartName="/ppt/media/image1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F465-0092-4396-9255-B0F51BEB9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F4DC-C8E9-4668-ADED-09B42D53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9192-9E15-4CA4-9A8C-4363345DE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A6F3-FE16-4FDA-B859-8FC08AA72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38BD-349D-4A72-9DD5-EED6FFB52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3B1B-E42D-4D38-AB3C-4AFE43B0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618C-7AB2-40CD-A6E0-D3BD85E2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D9AD-40EC-40D7-BDE5-E6B4D7B6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856D-42CA-43D7-B650-7C8614AB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F314-B733-4362-A9D9-ED3DC406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D9F0-3EE3-45D4-873B-74B39968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02D0-94C9-4B40-B691-9B0622F4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0A66-2FA3-4140-9D6B-AD9F257A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1CBD-E7FA-48C2-A47E-F4A8032E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C59E-52C3-4495-98E7-6797DC28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D8F2-1C29-4054-90BE-3D62C1854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4FB2-0599-4A07-AA48-D3C2D615C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5485-8745-4583-A103-A5D3D1E0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A294-E31E-4AA3-8441-A789152C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BFD5-5820-4B97-83F9-70687198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48DB-847D-43DE-B54F-B1EB8E66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1A7F-4FBD-40AD-AFF8-91BE2C8E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D819-FBFE-44E8-A531-30EA7FF7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61D2-DA44-438E-B048-D891807C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0000"/>
            </a:gs>
            <a:gs pos="100000">
              <a:srgbClr val="ba83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CC4A-32D4-43B2-BD5F-D711B4AD3BD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0000"/>
            </a:gs>
            <a:gs pos="100000">
              <a:srgbClr val="ba83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3A36-C650-4E1A-A52C-F3E1E7D7650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pochtimes.ru/conte" TargetMode="External"/><Relationship Id="rId2" Type="http://schemas.openxmlformats.org/officeDocument/2006/relationships/hyperlink" Target="http://linwworld.ru/index.php?id=chem-luchshe-zanimatsya-chtobyi-pohudet-skakalka" TargetMode="External"/><Relationship Id="rId3" Type="http://schemas.openxmlformats.org/officeDocument/2006/relationships/hyperlink" Target="http://linwworld.ru/index.php?id=chem-luchshe-zanimatsya-chtobyi-pohudet-skakalka" TargetMode="External"/><Relationship Id="rId4" Type="http://schemas.openxmlformats.org/officeDocument/2006/relationships/hyperlink" Target="http://linwworld.ru/index.php?id=chem-luchshe-zanimatsya-chtobyi-pohudet-skakalka" TargetMode="External"/><Relationship Id="rId5" Type="http://schemas.openxmlformats.org/officeDocument/2006/relationships/hyperlink" Target="http://linwworld.ru/index.php?id=chem-luchshe-zanimatsya-chtobyi-pohudet-skakalka" TargetMode="External"/><Relationship Id="rId6" Type="http://schemas.openxmlformats.org/officeDocument/2006/relationships/hyperlink" Target="http://linwworld.ru/index.php?id=chem-luchshe-zanimatsya-chtobyi-pohudet-skakalka" TargetMode="External"/><Relationship Id="rId7" Type="http://schemas.openxmlformats.org/officeDocument/2006/relationships/hyperlink" Target="http://linwworld.ru/index.php?id=chem-luchshe-zanimatsya-chtobyi-pohudet-skakalka" TargetMode="External"/><Relationship Id="rId8" Type="http://schemas.openxmlformats.org/officeDocument/2006/relationships/hyperlink" Target="http://lopatin.academic.ru/118335/&#1087;&#1088;&#1099;&#1075;&#1072;&#1083;&#1082;&#1080;" TargetMode="External"/><Relationship Id="rId9" Type="http://schemas.openxmlformats.org/officeDocument/2006/relationships/hyperlink" Target="http://lopatin.academic.ru/118335/&#1087;&#1088;&#1099;&#1075;&#1072;&#1083;&#1082;&#1080;" TargetMode="External"/><Relationship Id="rId10" Type="http://schemas.openxmlformats.org/officeDocument/2006/relationships/hyperlink" Target="http://lopatin.academic.ru/118335/&#1087;&#1088;&#1099;&#1075;&#1072;&#1083;&#1082;&#1080;" TargetMode="External"/><Relationship Id="rId11" Type="http://schemas.openxmlformats.org/officeDocument/2006/relationships/hyperlink" Target="http://lopatin.academic.ru/118335/&#1087;&#1088;&#1099;&#1075;&#1072;&#1083;&#1082;&#1080;" TargetMode="External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0000"/>
            </a:gs>
            <a:gs pos="100000">
              <a:srgbClr val="ba83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05320" y="228600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Что такое скипинг 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3349440" cy="4333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86200" y="381132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ил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равченко Лидия Иван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 физической культур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вой  квалификационной катег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07560" y="336600"/>
            <a:ext cx="53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КОУ «Коршуновская СОШ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ижнеилимского района Иркутской обла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.Коршуно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0000"/>
            </a:gs>
            <a:gs pos="100000">
              <a:srgbClr val="ba83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91120" y="338040"/>
            <a:ext cx="403848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«Скакалка»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95320" y="1219320"/>
            <a:ext cx="38862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 меня в руках скакал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не скакалку очень жалк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Целый день она крутилас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Целый день о землю билас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игралась, утомилась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 мне в руки попросилась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свернулась в них колечко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 конечка, до конеч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т лежит и отдыхае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тихонечку вздыхае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то, мол, завтра день рабочи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она устанет очень…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то, мол, завтра ей крутитьс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Целый день о землю биться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такая каните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 скакалкой каждый ден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. Щум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2743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0000"/>
            </a:gs>
            <a:gs pos="100000">
              <a:srgbClr val="ba83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писок литератур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бно-методический журнал «Физическая культура в школе» - №1,2006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тернет ресурс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epochtimes.ru/co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banana-taksa.ru/gr80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http</a:t>
            </a: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://</a:t>
            </a: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linwworld.ru</a:t>
            </a: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/</a:t>
            </a: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index.php</a:t>
            </a: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?…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http</a:t>
            </a: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://</a:t>
            </a: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10"/>
              </a:rPr>
              <a:t>lopatin.academic.ru</a:t>
            </a: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11"/>
              </a:rPr>
              <a:t>/118…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atticus-flinch.livejour  и д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0000"/>
            </a:gs>
            <a:gs pos="100000">
              <a:srgbClr val="ba83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емного истории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звание “skipping” происходит от английского “скип” - прыгать, подпрыгиват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кипинг –это прыжки через скакалку, усложнённые в трюковой форм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им новомодным словом названа самая что ни на есть наша, до боли знакомая, скакалка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14600" y="4419720"/>
            <a:ext cx="35812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0000"/>
            </a:gs>
            <a:gs pos="100000">
              <a:srgbClr val="ba83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43040" y="137124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Факты спорт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США и Европе скипинг приобрел популярность и развивается как вид спорта с 80-х годов уже прошлого века. (с 1980год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ортивные федерации созданы более чем в 30 странах мир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оссии же распространение скипинга началось во времена Агнии Барто (в 50-е годы – с 1950г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одятся чемпионаты мира по скипингу. (рекорд мира принадлежит мужчине - 318 прыжков за 60 секунд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0988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0000"/>
            </a:gs>
            <a:gs pos="100000">
              <a:srgbClr val="ba83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Игры, прыжки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упражнения со скакалко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колыхнулись дружно челки 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прыгают девчон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нучки прыгают и доч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рез длинные шнуроч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чень любят все подруж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 прыгучие игрушки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 скакалк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715000" y="2133720"/>
            <a:ext cx="3008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0000"/>
            </a:gs>
            <a:gs pos="100000">
              <a:srgbClr val="ba83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24080" y="228600"/>
            <a:ext cx="5562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Какая вообще 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польза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 от прыганья на скакалке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рыжки на скакалке развивают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гибкость 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санку, чувство равновесия и координацию движени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упражнения со скакалкой позволяют эффективно прорабатывать икры, плечи, мышцы рук и брюшного пресса, что, естественно, улучшает фигуру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развивают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выносливость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укрепляют сердечно-сосудистую и дыхательную системы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это отличный способ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похудеть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ведь прыгая, можно сжигать до 1000 ккал в час. Вообще, что касается сжигания калорий, занятия со скакалкой превосходят велосипед, теннис и плавание, а по степени эффективности в целях похудания сравнимы только с бегом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276228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0000"/>
            </a:gs>
            <a:gs pos="100000">
              <a:srgbClr val="ba83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Что такое скакал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о простейшая тренировка, доступная каждому в любом месте и в любое врем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а удобная и забавная штука, – недорогой портативный тренаже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о прыжки «Скипинг» доступен каждому, вне зависимости от материального положения, возраста, веса и рост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0000"/>
            </a:gs>
            <a:gs pos="100000">
              <a:srgbClr val="ba83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867280" y="0"/>
            <a:ext cx="3276720" cy="2857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28600" y="3664080"/>
            <a:ext cx="3505320" cy="3193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79800" cy="3495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2971800" y="0"/>
            <a:ext cx="2343240" cy="3124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4800600" y="36576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0000"/>
            </a:gs>
            <a:gs pos="100000">
              <a:srgbClr val="ba83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равила безопасности перед занятием «Скипингом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д началом занятий посоветуйтесь с врачом, если у вас есть проблемы с межпозвоночными хрящами или суставами, то прыжки на скакалке вам противопоказан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бедитесь, что шнур скакалки не будет задевать окружающие предметы, особенно это касается люстры, если вы собрались прыгать дом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 время занятий ноги должны быть вместе, спина прямая, локти прижаты к телу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ращать скакалку следует кистями рук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день заниматься скипингом желательно хотя бы 10 минут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0000"/>
            </a:gs>
            <a:gs pos="100000">
              <a:srgbClr val="ba83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93680" y="274320"/>
            <a:ext cx="579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Требования к инвентарю, форм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359080"/>
            <a:ext cx="822960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какалка должна подходить вам по росту. Проверить можно так: наступив на середину скакалки, ручки подымите вверх. Если скакалка подходящая, то ручки должны находиться на уровне груд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дежда должна быть максимально удобной и в то же время достаточно облегающей, чтобы не путаться при занятиях в скакал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увь лучше выбрать на резиновой подошве, чтобы не было скользк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304812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1-28T15:04:5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