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7.jpeg" ContentType="image/jpeg"/>
  <Override PartName="/ppt/media/image1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92D4-D846-4C46-960A-38B6B7FA1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F519-8AB0-4E57-90FA-A2C1A9B9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4167-7FFA-45D3-98B0-CC818860D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82E6-839B-4B67-B429-C3180A703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F2FD-621D-4329-B785-A3320366E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FDE7-3BE7-4920-84FD-BCBBBD58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2E8E-058A-4194-A5FA-D65ABAF2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A83FB-3727-4098-9A7F-02E4895E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C06F6-E513-4EDB-958F-7569CBC9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2934-6A9F-4FE2-BBDC-489C38CA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485F-EF72-4C00-8078-A12E2756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88E1-5151-45A2-A1FC-0EDE4594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23DC-2A6F-46AB-9E87-3D0B9E64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C78FA-5379-4DB2-886B-C5E0F68A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199E-08CF-4E5C-95A1-3D0D2373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EFAA-8823-4102-9918-3676678C1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767F-32FF-4D18-B107-DAA50A6BC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3C4B-6ED1-4F55-B866-34ED218F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5013-09C2-482E-8A0B-B39B42BD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5F3B-940A-4B80-B2A5-78A95884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C576-3DD5-480D-9E71-66F82A0E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5FBC-7689-45C2-897E-80AF8610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1474-71B2-40A7-9EEF-A8B7852C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E264-37C6-486E-81B4-D4A1B522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0000"/>
            </a:gs>
            <a:gs pos="100000">
              <a:srgbClr val="ba83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EEAA-533C-4631-A9C3-2F1F20DDE2A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0000"/>
            </a:gs>
            <a:gs pos="100000">
              <a:srgbClr val="ba83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CC6F-D259-4291-9652-6C49A9B75E9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pochtimes.ru/conte" TargetMode="External"/><Relationship Id="rId2" Type="http://schemas.openxmlformats.org/officeDocument/2006/relationships/hyperlink" Target="http://linwworld.ru/index.php?id=chem-luchshe-zanimatsya-chtobyi-pohudet-skakalka" TargetMode="External"/><Relationship Id="rId3" Type="http://schemas.openxmlformats.org/officeDocument/2006/relationships/hyperlink" Target="http://linwworld.ru/index.php?id=chem-luchshe-zanimatsya-chtobyi-pohudet-skakalka" TargetMode="External"/><Relationship Id="rId4" Type="http://schemas.openxmlformats.org/officeDocument/2006/relationships/hyperlink" Target="http://linwworld.ru/index.php?id=chem-luchshe-zanimatsya-chtobyi-pohudet-skakalka" TargetMode="External"/><Relationship Id="rId5" Type="http://schemas.openxmlformats.org/officeDocument/2006/relationships/hyperlink" Target="http://linwworld.ru/index.php?id=chem-luchshe-zanimatsya-chtobyi-pohudet-skakalka" TargetMode="External"/><Relationship Id="rId6" Type="http://schemas.openxmlformats.org/officeDocument/2006/relationships/hyperlink" Target="http://linwworld.ru/index.php?id=chem-luchshe-zanimatsya-chtobyi-pohudet-skakalka" TargetMode="External"/><Relationship Id="rId7" Type="http://schemas.openxmlformats.org/officeDocument/2006/relationships/hyperlink" Target="http://linwworld.ru/index.php?id=chem-luchshe-zanimatsya-chtobyi-pohudet-skakalka" TargetMode="External"/><Relationship Id="rId8" Type="http://schemas.openxmlformats.org/officeDocument/2006/relationships/hyperlink" Target="http://lopatin.academic.ru/118335/&#1087;&#1088;&#1099;&#1075;&#1072;&#1083;&#1082;&#1080;" TargetMode="External"/><Relationship Id="rId9" Type="http://schemas.openxmlformats.org/officeDocument/2006/relationships/hyperlink" Target="http://lopatin.academic.ru/118335/&#1087;&#1088;&#1099;&#1075;&#1072;&#1083;&#1082;&#1080;" TargetMode="External"/><Relationship Id="rId10" Type="http://schemas.openxmlformats.org/officeDocument/2006/relationships/hyperlink" Target="http://lopatin.academic.ru/118335/&#1087;&#1088;&#1099;&#1075;&#1072;&#1083;&#1082;&#1080;" TargetMode="External"/><Relationship Id="rId11" Type="http://schemas.openxmlformats.org/officeDocument/2006/relationships/hyperlink" Target="http://lopatin.academic.ru/118335/&#1087;&#1088;&#1099;&#1075;&#1072;&#1083;&#1082;&#1080;" TargetMode="External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0000"/>
            </a:gs>
            <a:gs pos="100000">
              <a:srgbClr val="ba83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05320" y="228600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Что такое скипинг 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3349440" cy="4333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86200" y="381132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полнил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равченко Лидия Иван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итель физической культур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вой  квалификационной катег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07560" y="336600"/>
            <a:ext cx="53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КОУ «Коршуновская СОШ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ижнеилимского района Иркутской облас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.Коршунов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0000"/>
            </a:gs>
            <a:gs pos="100000">
              <a:srgbClr val="ba83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191120" y="338040"/>
            <a:ext cx="403848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«Скакалка»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95320" y="1219320"/>
            <a:ext cx="38862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 меня в руках скакал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не скакалку очень жалк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Целый день она крутилась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Целый день о землю билас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игралась, утомилась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 мне в руки попросилась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свернулась в них колечко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т конечка, до конеч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т лежит и отдыхае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тихонечку вздыхае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то, мол, завтра день рабочи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она устанет очень…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то, мол, завтра ей крутиться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Целый день о землю биться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такая канител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 скакалкой каждый ден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. Щум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2743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0000"/>
            </a:gs>
            <a:gs pos="100000">
              <a:srgbClr val="ba83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писок литератур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ебно-методический журнал «Физическая культура в школе» - №1,2006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тернет ресурс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epochtimes.ru/co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ttp://banana-taksa.ru/gr80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http</a:t>
            </a:r>
            <a:r>
              <a:rPr b="0" lang="ru-RU" sz="2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://</a:t>
            </a:r>
            <a:r>
              <a:rPr b="0" lang="ru-RU" sz="28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linwworld.ru</a:t>
            </a:r>
            <a:r>
              <a:rPr b="0" lang="ru-RU" sz="28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/</a:t>
            </a:r>
            <a:r>
              <a:rPr b="0" lang="ru-RU" sz="28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index.php</a:t>
            </a:r>
            <a:r>
              <a:rPr b="0" lang="ru-RU" sz="28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?…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http</a:t>
            </a:r>
            <a:r>
              <a:rPr b="0" lang="ru-RU" sz="2800" spc="-1" strike="noStrike" u="sng">
                <a:solidFill>
                  <a:srgbClr val="ffcc66"/>
                </a:solidFill>
                <a:uFillTx/>
                <a:latin typeface="Tahoma"/>
                <a:hlinkClick r:id="rId9"/>
              </a:rPr>
              <a:t>://</a:t>
            </a:r>
            <a:r>
              <a:rPr b="0" lang="ru-RU" sz="2800" spc="-1" strike="noStrike" u="sng">
                <a:solidFill>
                  <a:srgbClr val="ffcc66"/>
                </a:solidFill>
                <a:uFillTx/>
                <a:latin typeface="Tahoma"/>
                <a:hlinkClick r:id="rId10"/>
              </a:rPr>
              <a:t>lopatin.academic.ru</a:t>
            </a:r>
            <a:r>
              <a:rPr b="0" lang="ru-RU" sz="2800" spc="-1" strike="noStrike" u="sng">
                <a:solidFill>
                  <a:srgbClr val="ffcc66"/>
                </a:solidFill>
                <a:uFillTx/>
                <a:latin typeface="Tahoma"/>
                <a:hlinkClick r:id="rId11"/>
              </a:rPr>
              <a:t>/118…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ttp://atticus-flinch.livejour  и д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0000"/>
            </a:gs>
            <a:gs pos="100000">
              <a:srgbClr val="ba83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емного истории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звание “skipping” происходит от английского “скип” - прыгать, подпрыгиват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кипинг –это прыжки через скакалку, усложнённые в трюковой форм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им новомодным словом названа самая что ни на есть наша, до боли знакомая, скакалка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14600" y="4419720"/>
            <a:ext cx="35812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0000"/>
            </a:gs>
            <a:gs pos="100000">
              <a:srgbClr val="ba83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43040" y="137124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Факты спорт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США и Европе скипинг приобрел популярность и развивается как вид спорта с 80-х годов уже прошлого века. (с 1980год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портивные федерации созданы более чем в 30 странах мир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России же распространение скипинга началось во времена Агнии Барто (в 50-е годы – с 1950г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водятся чемпионаты мира по скипингу. (рекорд мира принадлежит мужчине - 318 прыжков за 60 секунд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0988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0000"/>
            </a:gs>
            <a:gs pos="100000">
              <a:srgbClr val="ba83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Игры, прыжки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упражнения со скакалко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колыхнулись дружно челки 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прыгают девчон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нучки прыгают и доч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рез длинные шнуроч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чень любят все подруж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 прыгучие игрушки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 скакалк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715000" y="2133720"/>
            <a:ext cx="3008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0000"/>
            </a:gs>
            <a:gs pos="100000">
              <a:srgbClr val="ba83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24080" y="228600"/>
            <a:ext cx="5562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Какая вообще 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польза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 от прыганья на скакалке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рыжки на скакалке развивают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гибкость ,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санку, чувство равновесия и координацию движени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упражнения со скакалкой позволяют эффективно прорабатывать икры, плечи, мышцы рук и брюшного пресса, что, естественно, улучшает фигуру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развивают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выносливость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укрепляют сердечно-сосудистую и дыхательную системы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это отличный способ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похудеть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ведь прыгая, можно сжигать до 1000 ккал в час. Вообще, что касается сжигания калорий, занятия со скакалкой превосходят велосипед, теннис и плавание, а по степени эффективности в целях похудания сравнимы только с бегом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276228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0000"/>
            </a:gs>
            <a:gs pos="100000">
              <a:srgbClr val="ba83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Что такое скакалк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то простейшая тренировка, доступная каждому в любом месте и в любое врем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та удобная и забавная штука, – недорогой портативный тренаже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то прыжки «Скипинг» доступен каждому, вне зависимости от материального положения, возраста, веса и рост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0000"/>
            </a:gs>
            <a:gs pos="100000">
              <a:srgbClr val="ba83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867280" y="0"/>
            <a:ext cx="3276720" cy="2857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28600" y="3664080"/>
            <a:ext cx="3505320" cy="3193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79800" cy="3495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2971800" y="0"/>
            <a:ext cx="2343240" cy="3124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4800600" y="36576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0000"/>
            </a:gs>
            <a:gs pos="100000">
              <a:srgbClr val="ba83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равила безопасности перед занятием «Скипингом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д началом занятий посоветуйтесь с врачом, если у вас есть проблемы с межпозвоночными хрящами или суставами, то прыжки на скакалке вам противопоказан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бедитесь, что шнур скакалки не будет задевать окружающие предметы, особенно это касается люстры, если вы собрались прыгать дом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 время занятий ноги должны быть вместе, спина прямая, локти прижаты к телу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ращать скакалку следует кистями рук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день заниматься скипингом желательно хотя бы 10 минут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0000"/>
            </a:gs>
            <a:gs pos="100000">
              <a:srgbClr val="ba83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93680" y="274320"/>
            <a:ext cx="579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Требования к инвентарю, форм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359080"/>
            <a:ext cx="822960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какалка должна подходить вам по росту. Проверить можно так: наступив на середину скакалки, ручки подымите вверх. Если скакалка подходящая, то ручки должны находиться на уровне груд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дежда должна быть максимально удобной и в то же время достаточно облегающей, чтобы не путаться при занятиях в скакалк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увь лучше выбрать на резиновой подошве, чтобы не было скользк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304812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1-28T15:04:5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