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55B-A74C-4303-B207-872289A1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099-47AC-406D-91C2-AD7E1FA0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DCF-36CC-4744-BF9F-1CF5D0E0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340-2F21-4718-A036-00DC418F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BF8E-C0D6-446D-B925-023DB202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78D3-BE6F-43C0-B650-38177702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9CD0-D427-438A-B80B-F588155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F56F-BEDC-4EA8-9829-93C3D1E8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4D37-2D32-485D-9E49-20EDACB1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EC27-7832-466C-A24D-6D540917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57C4-FEA5-492F-973C-1AEC990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5D7-4AF2-4E63-8B59-DFEB3B78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AF5-D262-46C9-8905-7F430B1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759-7C03-4337-B63B-BCEDCA6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683-B3C5-4974-A9FA-A41F5DA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3340-AED9-45A1-A99A-CA36EE38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5069-21FE-4294-8D5F-F06592F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CB-7265-40AF-B1F9-3AE6AD25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BA8-47A9-42B7-B8C4-D991D66F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A88-9FA5-4E31-8773-B1F9CBE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0E4-B7FA-4627-876D-ED97A4A9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CCD-BE74-45FA-8874-3C8A7AC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462-5565-413B-9AA9-08B56FC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257-3913-4C32-8A91-C51F78E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141-1969-4C1B-AFD2-1C13896BBF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3F72-4E69-430F-89B3-E147AFE478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Чтобы путь был счастливы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520" y="6324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Составила: учитель начальных классов, Догадина Татьяна Серге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806f8e677f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реходите улицу только на зеленый свет светофора и никогда не ходить на красны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6" descr="image01317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йте только на посадочных площадках, на тротуаре или обочине  когда ожидаете транспорт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6" descr="51aaac9adf24d14b340124ed952fb56b03dd7bb1_650"/>
          <p:cNvPicPr/>
          <p:nvPr/>
        </p:nvPicPr>
        <p:blipFill>
          <a:blip r:embed="rId1"/>
          <a:srcRect l="0" t="5654" r="0" b="0"/>
          <a:stretch/>
        </p:blipFill>
        <p:spPr>
          <a:xfrm>
            <a:off x="990720" y="137160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Рассмотрим несколько знаков для водит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Picture 6" descr="27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Уступи дорогу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видишь этот знак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й, что он не просто так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ы не было проблем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и дорогу всем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6" descr="3b2295e5-1a69-4a80-ace0-2b1e6806d4f4"/>
          <p:cNvPicPr/>
          <p:nvPr/>
        </p:nvPicPr>
        <p:blipFill>
          <a:blip r:embed="rId1"/>
          <a:stretch/>
        </p:blipFill>
        <p:spPr>
          <a:xfrm>
            <a:off x="1905120" y="2362320"/>
            <a:ext cx="569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т знак ну очень строги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Коль стоит он на дорог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он нам: "Друзь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здить здесь совсем нельзя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6" descr="03eb891353b091cfe4c4b4fb941fa879"/>
          <p:cNvPicPr/>
          <p:nvPr/>
        </p:nvPicPr>
        <p:blipFill>
          <a:blip r:embed="rId1"/>
          <a:stretch/>
        </p:blipFill>
        <p:spPr>
          <a:xfrm>
            <a:off x="2514600" y="251460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Въезд запрещен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водителей стращает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ъезд машинам запрещает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пытайтесь сгоряча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хать мимо кирпича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6" descr="49cfb9753ce0c9bde03ce049c19ae612"/>
          <p:cNvPicPr/>
          <p:nvPr/>
        </p:nvPicPr>
        <p:blipFill>
          <a:blip r:embed="rId1"/>
          <a:stretch/>
        </p:blipFill>
        <p:spPr>
          <a:xfrm>
            <a:off x="2438280" y="2209680"/>
            <a:ext cx="4372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Место для разворот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этом месте круглый год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овершают разворот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6" descr="TS6b3b1"/>
          <p:cNvPicPr/>
          <p:nvPr/>
        </p:nvPicPr>
        <p:blipFill>
          <a:blip r:embed="rId1"/>
          <a:stretch/>
        </p:blipFill>
        <p:spPr>
          <a:xfrm>
            <a:off x="2286000" y="1752480"/>
            <a:ext cx="4543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Пешеходный переход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аземный переход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Ходит целый день народ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ы, водитель, не грус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а пропусти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6" descr="5"/>
          <p:cNvPicPr/>
          <p:nvPr/>
        </p:nvPicPr>
        <p:blipFill>
          <a:blip r:embed="rId1"/>
          <a:stretch/>
        </p:blipFill>
        <p:spPr>
          <a:xfrm>
            <a:off x="2590920" y="236232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вижение пешеходов запрещено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дождь и в ясную погоду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десь не ходят пешеходы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Говорит им знак одн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"Вам ходить запрещено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Picture 6" descr="big_88550"/>
          <p:cNvPicPr/>
          <p:nvPr/>
        </p:nvPicPr>
        <p:blipFill>
          <a:blip r:embed="rId1"/>
          <a:stretch/>
        </p:blipFill>
        <p:spPr>
          <a:xfrm>
            <a:off x="251460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Дети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осреди дороги дети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за них в ответе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тоб не плакал их родитель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Будь внимательней, водитель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1" name="Picture 6" descr="0f4e580d5241e134c30ed8e8761e5c06"/>
          <p:cNvPicPr/>
          <p:nvPr/>
        </p:nvPicPr>
        <p:blipFill>
          <a:blip r:embed="rId1"/>
          <a:stretch/>
        </p:blipFill>
        <p:spPr>
          <a:xfrm>
            <a:off x="2514600" y="2743200"/>
            <a:ext cx="423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свет зажегся красный,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чит, двигаться опасно.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вет зеленый говорит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«Проходите, путь открыт!»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елтый свет — предупрежденье: 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Жди сигнала для движень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Picture 6" descr="4"/>
          <p:cNvPicPr/>
          <p:nvPr/>
        </p:nvPicPr>
        <p:blipFill>
          <a:blip r:embed="rId1"/>
          <a:stretch/>
        </p:blipFill>
        <p:spPr>
          <a:xfrm>
            <a:off x="1447920" y="2971800"/>
            <a:ext cx="6381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Больниц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нужно вам лечиться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 подскажет, где больница.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то серьезных докторов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ам вам скажут: "Будь здоров!"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Picture 6" descr="TS7b2"/>
          <p:cNvPicPr/>
          <p:nvPr/>
        </p:nvPicPr>
        <p:blipFill>
          <a:blip r:embed="rId1"/>
          <a:stretch/>
        </p:blipFill>
        <p:spPr>
          <a:xfrm>
            <a:off x="3048120" y="2209680"/>
            <a:ext cx="2906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Знак "Главная дорога"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от он знак, каких немного: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о главная дорога!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Если едешь ты по 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сех становишься главней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И тебе, как будто Богу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Уступают все дорогу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Picture 6" descr="3044fbd967eb12bf7777d17611529475"/>
          <p:cNvPicPr/>
          <p:nvPr/>
        </p:nvPicPr>
        <p:blipFill>
          <a:blip r:embed="rId1"/>
          <a:stretch/>
        </p:blipFill>
        <p:spPr>
          <a:xfrm>
            <a:off x="2743200" y="289548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Запомните!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ый цвет – прохода нет 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Picture 8" descr="traffic-light2_medium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ы всегда идем вперед только там, где переход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Picture 5" descr="Pesh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е бежим вперед так скоро, что не видим светофор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1" name="Picture 6" descr="09"/>
          <p:cNvPicPr/>
          <p:nvPr/>
        </p:nvPicPr>
        <p:blipFill>
          <a:blip r:embed="rId1"/>
          <a:srcRect l="0" t="0" r="0" b="7223"/>
          <a:stretch/>
        </p:blipFill>
        <p:spPr>
          <a:xfrm>
            <a:off x="838080" y="990720"/>
            <a:ext cx="769644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144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На круглых знаках красный цвет означа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«здесь запрет»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6" descr="3"/>
          <p:cNvPicPr/>
          <p:nvPr/>
        </p:nvPicPr>
        <p:blipFill>
          <a:blip r:embed="rId1"/>
          <a:srcRect l="858" t="3142" r="858" b="3142"/>
          <a:stretch/>
        </p:blipFill>
        <p:spPr>
          <a:xfrm>
            <a:off x="1676520" y="121932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Даже если вы спешите, то перед транспортом стоите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10" descr="svetofor3-2kol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идет вперед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Только там, где переход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летит вперед так скоро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Что не видит светофора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, идя домой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Держит путь по мостовой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красный свет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Это значит – хода нет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то из вас в трамвае тесном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Уступает взрослым место?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Знает кто, что свет зеленый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значает: «Путь свободен»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Comic Sans MS"/>
              </a:rPr>
              <a:t>Это я, это я, это все мои друзья</a:t>
            </a: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Picture 6" descr="getImage?photoId=347275376298&amp;photoType=0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Когда вы станете знатоком ПДД, 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ваш путь будет счастливым</a:t>
            </a: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Picture 5" descr="znaki2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ешеходы должны двигаться по тротуарам или пешеходным дорожкам, а при их отсутствии — по обочинам... 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6" descr="rebenok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Picture 8" descr="12075479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и движении по краю проезжей части пешеходы должны идти навстречу движению транспортных средств.... 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3749aaa8ee129d7e919bddcc7e09cd36_XL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 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6" descr="%D0%94%D0%B2%D0%BE%D0%B9%D0%BD%D0%BE%D0%B9-%D1%81%D0%B2%D0%B5%D1%82%D0%BE%D1%84%D0%BE%D1%80-1353598088_54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амое опасное место для пешеходов – перекресток. Пересекать проезжую часть пешеходы должны по пешеходным переходам, в том числе по надземным или подземным, а при их отсутствии – на перекрестках по линии тротуара или обочин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6" descr="24700000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ежде чем перейти улицу, следует убедиться в безопасности посмотреть, нет ли поблизости движущегося транспорта. Если проезжая часть улицы свободна,</a:t>
            </a: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ожно переходить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6" descr="19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Переходя дорогу на зеленый сигнал светофора, смотри внимательно: все ли машины остановились, не движется ли спецтранспорт.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ашины специального назначения могут двигаться даже на зеленый свет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9" descr="thumb1024x768w_54314"/>
          <p:cNvPicPr/>
          <p:nvPr/>
        </p:nvPicPr>
        <p:blipFill>
          <a:blip r:embed="rId1"/>
          <a:srcRect l="0" t="0" r="0" b="9548"/>
          <a:stretch/>
        </p:blipFill>
        <p:spPr>
          <a:xfrm>
            <a:off x="380880" y="1905120"/>
            <a:ext cx="85726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587_x_large_origin_copyright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17T14:43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