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BBF6-3256-42EC-AD08-11478C8F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BA35-A407-46AB-9073-08793574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8BA1-85CE-445B-BDEB-23216073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22EE-AFA3-4873-BE43-5EC082FE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463C-DF4D-4CAA-A0EE-771085CE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4EB9-F375-4F21-86DB-8675E4FF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11C9-DBEC-4F1D-90E1-E5944EE7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24F0-CBD3-47E8-96F1-6837BC1A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35B1-0EEE-4D55-8FD4-0F37582B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8EE6-D41B-49A4-8FB7-DC326339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5E28-4934-44E2-A552-66BB9D05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6278-87BD-4B99-BA1D-5A6DBF6A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746D-D7AA-4E8F-81DD-535FC424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AB4A-6EA1-4615-9706-9F3F587F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7DF0-808A-405F-8229-BB9F3A70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3F9A-6F08-4B45-AFF4-F2D9CC5A9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FDED-8D87-4AA3-981B-FE282942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3E26-6A91-4697-8DDB-790B9F6D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743A-AE8E-442D-A0BD-978C2116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5874-7445-41E2-9A55-7E5BF4B1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7398-A402-4BD8-9AE2-1AF423E8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C39D-B039-439D-ACCB-A49D3456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20F8-8BB4-4165-A75F-87CEDFB2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5795-0A7C-4DFB-854F-B68F1D9A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D568-78E1-4BE6-B050-09FB3584B45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0421-5236-4102-AC21-51EAC65A778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Чтобы путь был счастливым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533520" y="63244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Comic Sans MS"/>
              </a:rPr>
              <a:t>Составила: учитель начальных классов, Догадина Татьяна Серге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Picture 5" descr="806f8e677f"/>
          <p:cNvPicPr/>
          <p:nvPr/>
        </p:nvPicPr>
        <p:blipFill>
          <a:blip r:embed="rId1"/>
          <a:stretch/>
        </p:blipFill>
        <p:spPr>
          <a:xfrm>
            <a:off x="609480" y="1066680"/>
            <a:ext cx="777240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Переходите улицу только на зеленый свет светофора и никогда не ходить на красный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3" name="Picture 6" descr="image01317"/>
          <p:cNvPicPr/>
          <p:nvPr/>
        </p:nvPicPr>
        <p:blipFill>
          <a:blip r:embed="rId1"/>
          <a:stretch/>
        </p:blipFill>
        <p:spPr>
          <a:xfrm>
            <a:off x="685800" y="1295280"/>
            <a:ext cx="792468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Стойте только на посадочных площадках, на тротуаре или обочине  когда ожидаете транспорт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5" name="Picture 6" descr="51aaac9adf24d14b340124ed952fb56b03dd7bb1_650"/>
          <p:cNvPicPr/>
          <p:nvPr/>
        </p:nvPicPr>
        <p:blipFill>
          <a:blip r:embed="rId1"/>
          <a:srcRect l="0" t="5654" r="0" b="0"/>
          <a:stretch/>
        </p:blipFill>
        <p:spPr>
          <a:xfrm>
            <a:off x="990720" y="1371600"/>
            <a:ext cx="731520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Рассмотрим несколько знаков для водителе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7" name="Picture 6" descr="27"/>
          <p:cNvPicPr/>
          <p:nvPr/>
        </p:nvPicPr>
        <p:blipFill>
          <a:blip r:embed="rId1"/>
          <a:stretch/>
        </p:blipFill>
        <p:spPr>
          <a:xfrm>
            <a:off x="762120" y="914400"/>
            <a:ext cx="777240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Знак "Уступи дорогу"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Если видишь этот знак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Знай, что он не просто так.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Чтобы не было проблем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Уступи дорогу всем!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9" name="Picture 6" descr="3b2295e5-1a69-4a80-ace0-2b1e6806d4f4"/>
          <p:cNvPicPr/>
          <p:nvPr/>
        </p:nvPicPr>
        <p:blipFill>
          <a:blip r:embed="rId1"/>
          <a:stretch/>
        </p:blipFill>
        <p:spPr>
          <a:xfrm>
            <a:off x="1905120" y="2362320"/>
            <a:ext cx="56959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Знак "Движение запрещено"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Этот знак ну очень строгий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Коль стоит он на дороге.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Говорит он нам: "Друзья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Ездить здесь совсем нельзя!"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1" name="Picture 6" descr="03eb891353b091cfe4c4b4fb941fa879"/>
          <p:cNvPicPr/>
          <p:nvPr/>
        </p:nvPicPr>
        <p:blipFill>
          <a:blip r:embed="rId1"/>
          <a:stretch/>
        </p:blipFill>
        <p:spPr>
          <a:xfrm>
            <a:off x="2514600" y="2514600"/>
            <a:ext cx="41054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Знак "Въезд запрещен"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Знак водителей стращает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Въезд машинам запрещает!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Не пытайтесь сгоряча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Ехать мимо кирпича!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3" name="Picture 6" descr="49cfb9753ce0c9bde03ce049c19ae612"/>
          <p:cNvPicPr/>
          <p:nvPr/>
        </p:nvPicPr>
        <p:blipFill>
          <a:blip r:embed="rId1"/>
          <a:stretch/>
        </p:blipFill>
        <p:spPr>
          <a:xfrm>
            <a:off x="2438280" y="2209680"/>
            <a:ext cx="437220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Знак "Место для разворота"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В этом месте круглый год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Совершают разворот!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5" name="Picture 6" descr="TS6b3b1"/>
          <p:cNvPicPr/>
          <p:nvPr/>
        </p:nvPicPr>
        <p:blipFill>
          <a:blip r:embed="rId1"/>
          <a:stretch/>
        </p:blipFill>
        <p:spPr>
          <a:xfrm>
            <a:off x="2286000" y="1752480"/>
            <a:ext cx="45435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Знак "Пешеходный переход"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Здесь наземный переход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Ходит целый день народ.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Ты, водитель, не грусти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Пешехода пропусти!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7" name="Picture 6" descr="5"/>
          <p:cNvPicPr/>
          <p:nvPr/>
        </p:nvPicPr>
        <p:blipFill>
          <a:blip r:embed="rId1"/>
          <a:stretch/>
        </p:blipFill>
        <p:spPr>
          <a:xfrm>
            <a:off x="2590920" y="2362320"/>
            <a:ext cx="3873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Знак "Движение пешеходов запрещено"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В дождь и в ясную погоду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Здесь не ходят пешеходы.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Говорит им знак одно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"Вам ходить запрещено!"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9" name="Picture 6" descr="big_88550"/>
          <p:cNvPicPr/>
          <p:nvPr/>
        </p:nvPicPr>
        <p:blipFill>
          <a:blip r:embed="rId1"/>
          <a:stretch/>
        </p:blipFill>
        <p:spPr>
          <a:xfrm>
            <a:off x="2514600" y="2438280"/>
            <a:ext cx="39243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Знак "Дети"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Посреди дороги дети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Мы всегда за них в ответе.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Чтоб не плакал их родитель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Будь внимательней, водитель!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1" name="Picture 6" descr="0f4e580d5241e134c30ed8e8761e5c06"/>
          <p:cNvPicPr/>
          <p:nvPr/>
        </p:nvPicPr>
        <p:blipFill>
          <a:blip r:embed="rId1"/>
          <a:stretch/>
        </p:blipFill>
        <p:spPr>
          <a:xfrm>
            <a:off x="2514600" y="2743200"/>
            <a:ext cx="42386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Если свет зажегся красный, 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Значит, двигаться опасно. 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Свет зеленый говорит: 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«Проходите, путь открыт!» 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Желтый свет — предупрежденье: 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Жди сигнала для движенья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8" name="Picture 6" descr="4"/>
          <p:cNvPicPr/>
          <p:nvPr/>
        </p:nvPicPr>
        <p:blipFill>
          <a:blip r:embed="rId1"/>
          <a:stretch/>
        </p:blipFill>
        <p:spPr>
          <a:xfrm>
            <a:off x="1447920" y="2971800"/>
            <a:ext cx="63817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Знак "Больница"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Если нужно вам лечиться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Знак подскажет, где больница.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Сто серьезных докторов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Там вам скажут: "Будь здоров!"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3" name="Picture 6" descr="TS7b2"/>
          <p:cNvPicPr/>
          <p:nvPr/>
        </p:nvPicPr>
        <p:blipFill>
          <a:blip r:embed="rId1"/>
          <a:stretch/>
        </p:blipFill>
        <p:spPr>
          <a:xfrm>
            <a:off x="3048120" y="2209680"/>
            <a:ext cx="29066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Знак "Главная дорога"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Вот он знак, каких немного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Это главная дорога!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Если едешь ты по ней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Всех становишься главней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И тебе, как будто Богу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Уступают все дорогу!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5" name="Picture 6" descr="3044fbd967eb12bf7777d17611529475"/>
          <p:cNvPicPr/>
          <p:nvPr/>
        </p:nvPicPr>
        <p:blipFill>
          <a:blip r:embed="rId1"/>
          <a:stretch/>
        </p:blipFill>
        <p:spPr>
          <a:xfrm>
            <a:off x="2743200" y="2895480"/>
            <a:ext cx="3672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Запомните!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Красный цвет – прохода нет !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7" name="Picture 8" descr="traffic-light2_medium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Мы всегда идем вперед только там, где переход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9" name="Picture 5" descr="Pesh"/>
          <p:cNvPicPr/>
          <p:nvPr/>
        </p:nvPicPr>
        <p:blipFill>
          <a:blip r:embed="rId1"/>
          <a:stretch/>
        </p:blipFill>
        <p:spPr>
          <a:xfrm>
            <a:off x="838080" y="1371600"/>
            <a:ext cx="739152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Не бежим вперед так скоро, что не видим светофора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1" name="Picture 6" descr="09"/>
          <p:cNvPicPr/>
          <p:nvPr/>
        </p:nvPicPr>
        <p:blipFill>
          <a:blip r:embed="rId1"/>
          <a:srcRect l="0" t="0" r="0" b="7223"/>
          <a:stretch/>
        </p:blipFill>
        <p:spPr>
          <a:xfrm>
            <a:off x="838080" y="990720"/>
            <a:ext cx="769644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91440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На круглых знаках красный цвет означает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 «здесь запрет»!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3" name="Picture 6" descr="3"/>
          <p:cNvPicPr/>
          <p:nvPr/>
        </p:nvPicPr>
        <p:blipFill>
          <a:blip r:embed="rId1"/>
          <a:srcRect l="858" t="3142" r="858" b="3142"/>
          <a:stretch/>
        </p:blipFill>
        <p:spPr>
          <a:xfrm>
            <a:off x="1676520" y="1219320"/>
            <a:ext cx="57150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Даже если вы спешите, то перед транспортом стоите!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5" name="Picture 10" descr="svetofor3-2kol"/>
          <p:cNvPicPr/>
          <p:nvPr/>
        </p:nvPicPr>
        <p:blipFill>
          <a:blip r:embed="rId1"/>
          <a:stretch/>
        </p:blipFill>
        <p:spPr>
          <a:xfrm>
            <a:off x="685800" y="1219320"/>
            <a:ext cx="784872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Кто из вас идет вперед,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Только там, где переход?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Кто летит вперед так скоро,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Что не видит светофора?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Кто из вас, идя домой,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Держит путь по мостовой?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Знает кто, что красный свет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Это значит – хода нет?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Кто из вас в трамвае тесном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Уступает взрослым место?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Знает кто, что свет зеленый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Означает: «Путь свободен»?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Comic Sans MS"/>
              </a:rPr>
              <a:t>Это я, это я, это все мои друзья</a:t>
            </a:r>
            <a:r>
              <a:rPr b="0" lang="ru-RU" sz="4400" spc="-1" strike="noStrike">
                <a:solidFill>
                  <a:srgbClr val="ffff66"/>
                </a:solidFill>
                <a:latin typeface="Tahoma"/>
              </a:rPr>
              <a:t> 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8" name="Picture 6" descr="getImage?photoId=347275376298&amp;photoType=0"/>
          <p:cNvPicPr/>
          <p:nvPr/>
        </p:nvPicPr>
        <p:blipFill>
          <a:blip r:embed="rId1"/>
          <a:stretch/>
        </p:blipFill>
        <p:spPr>
          <a:xfrm>
            <a:off x="914400" y="114300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omic Sans MS"/>
              </a:rPr>
              <a:t>Когда вы станете знатоком ПДД, </a:t>
            </a:r>
            <a:br>
              <a:rPr sz="2800"/>
            </a:br>
            <a:r>
              <a:rPr b="1" lang="ru-RU" sz="2800" spc="-1" strike="noStrike">
                <a:solidFill>
                  <a:srgbClr val="ffff66"/>
                </a:solidFill>
                <a:latin typeface="Comic Sans MS"/>
              </a:rPr>
              <a:t>ваш путь будет счастливым</a:t>
            </a: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 !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0" name="Picture 5" descr="znaki2"/>
          <p:cNvPicPr/>
          <p:nvPr/>
        </p:nvPicPr>
        <p:blipFill>
          <a:blip r:embed="rId1"/>
          <a:stretch/>
        </p:blipFill>
        <p:spPr>
          <a:xfrm>
            <a:off x="1295280" y="15238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Пешеходы должны двигаться по тротуарам или пешеходным дорожкам, а при их отсутствии — по обочинам... 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0" name="Picture 6" descr="rebenok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2" name="Picture 8" descr="12075479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При движении по краю проезжей части пешеходы должны идти навстречу движению транспортных средств.... 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6" descr="3749aaa8ee129d7e919bddcc7e09cd36_XL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В местах, где движение регулируется, пешеходы должны руководствоваться сигналами регулировщика или пешеходного светофора, а при его отсутствии — транспортного светофора.... 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Picture 6" descr="%D0%94%D0%B2%D0%BE%D0%B9%D0%BD%D0%BE%D0%B9-%D1%81%D0%B2%D0%B5%D1%82%D0%BE%D1%84%D0%BE%D1%80-1353598088_54"/>
          <p:cNvPicPr/>
          <p:nvPr/>
        </p:nvPicPr>
        <p:blipFill>
          <a:blip r:embed="rId1"/>
          <a:stretch/>
        </p:blipFill>
        <p:spPr>
          <a:xfrm>
            <a:off x="685800" y="1752480"/>
            <a:ext cx="754380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Самое опасное место для пешеходов – перекресток. Пересекать проезжую часть пешеходы должны по пешеходным переходам, в том числе по надземным или подземным, а при их отсутствии – на перекрестках по линии тротуара или обочин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Picture 6" descr="24700000"/>
          <p:cNvPicPr/>
          <p:nvPr/>
        </p:nvPicPr>
        <p:blipFill>
          <a:blip r:embed="rId1"/>
          <a:stretch/>
        </p:blipFill>
        <p:spPr>
          <a:xfrm>
            <a:off x="990720" y="2133720"/>
            <a:ext cx="72388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Прежде чем перейти улицу, следует убедиться в безопасности посмотреть, нет ли поблизости движущегося транспорта. Если проезжая часть улицы свободна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можно переходить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Picture 6" descr="19"/>
          <p:cNvPicPr/>
          <p:nvPr/>
        </p:nvPicPr>
        <p:blipFill>
          <a:blip r:embed="rId1"/>
          <a:stretch/>
        </p:blipFill>
        <p:spPr>
          <a:xfrm>
            <a:off x="1219320" y="2057400"/>
            <a:ext cx="67816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Comic Sans MS"/>
              </a:rPr>
              <a:t>Переходя дорогу на зеленый сигнал светофора, смотри внимательно: все ли машины остановились, не движется ли спецтранспорт.</a:t>
            </a: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Машины специального назначения могут двигаться даже на зеленый свет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0" name="Picture 9" descr="thumb1024x768w_54314"/>
          <p:cNvPicPr/>
          <p:nvPr/>
        </p:nvPicPr>
        <p:blipFill>
          <a:blip r:embed="rId1"/>
          <a:srcRect l="0" t="0" r="0" b="9548"/>
          <a:stretch/>
        </p:blipFill>
        <p:spPr>
          <a:xfrm>
            <a:off x="380880" y="1905120"/>
            <a:ext cx="857268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587_x_large_origin_copyright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60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2-11-17T14:43:3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