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C814-A10E-4763-A41C-5888163B5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3551-4B5E-4FF1-9346-712941EAA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635-48EF-4270-A1CF-1CFAAFEA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401-652F-4DB0-98CF-C32B7B4E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B76-11DB-4BD7-8EFB-1204CF46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4B7-EC64-46AF-81C0-646AA021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A0D-B7C3-4BF4-A4A0-ABBF876C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D64-D2FC-4C0D-88C3-C37A0844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059-4B8D-4EF7-8ACA-9C7F5516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BAB-1FAE-4FC7-9906-FEB32DB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AE0-7A9B-4797-82CC-E783BDFF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4D0-D1B8-4B31-A810-B973C01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D05-2E52-4D34-948B-1F9E760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E12-64F8-40AF-9C99-94490E1A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D63-EBB4-4E86-AA05-CCF1A80CB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Урок русского языка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             во 2 классе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     по теме «Слово. Слог. Ударение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43160" y="4005360"/>
            <a:ext cx="542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ила: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Саваслейск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гадина Татьяна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1.jpeg"/>
          <p:cNvPicPr/>
          <p:nvPr/>
        </p:nvPicPr>
        <p:blipFill>
          <a:blip r:embed="rId1"/>
          <a:stretch/>
        </p:blipFill>
        <p:spPr>
          <a:xfrm>
            <a:off x="500040" y="3571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0437be161916.gif"/>
          <p:cNvPicPr/>
          <p:nvPr/>
        </p:nvPicPr>
        <p:blipFill>
          <a:blip r:embed="rId2"/>
          <a:stretch/>
        </p:blipFill>
        <p:spPr>
          <a:xfrm>
            <a:off x="928800" y="3857760"/>
            <a:ext cx="142848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Поменяйте местами строчки так, чтобы получилось правильное стихотворени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680" y="1785960"/>
            <a:ext cx="81867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Осторожно ветер из калитки выше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немного ветками черёмух, Полетел куда-то вперегонку с пы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журил за что-то воробьёв знаком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в окошко, пробежал по кры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И, расправив бодро молодые крыл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Проверим: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Осторожно ветер из калитки выше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в окошко, пробежал по кры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немного ветками черёму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журил за что-то воробьёв знаком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И, расправив бодро молодые крыл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летел куда-то вперегонку с пы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зорной ветер весело играет листь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7" descr="images3333.jpeg"/>
          <p:cNvPicPr/>
          <p:nvPr/>
        </p:nvPicPr>
        <p:blipFill>
          <a:blip r:embed="rId1"/>
          <a:stretch/>
        </p:blipFill>
        <p:spPr>
          <a:xfrm>
            <a:off x="2071800" y="2000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9680" y="1599840"/>
            <a:ext cx="81867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Я берёзу качн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Я тебя подтолкн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Налечу, засвищ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Даже шапку утащ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Левая круглая скобка 3"/>
          <p:cNvSpPr/>
          <p:nvPr/>
        </p:nvSpPr>
        <p:spPr>
          <a:xfrm>
            <a:off x="2714760" y="571680"/>
            <a:ext cx="117360" cy="71424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714240"/>
              <a:gd name="textAreaBottom" fmla="*/ 7095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8"/>
                  <a:pt x="0" y="296"/>
                </a:cubicBezTo>
                <a:lnTo>
                  <a:pt x="0" y="21304"/>
                </a:lnTo>
                <a:cubicBezTo>
                  <a:pt x="0" y="21452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Левая круглая скобка 5"/>
          <p:cNvSpPr/>
          <p:nvPr/>
        </p:nvSpPr>
        <p:spPr>
          <a:xfrm flipH="1">
            <a:off x="5714280" y="571680"/>
            <a:ext cx="142920" cy="71424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714240"/>
              <a:gd name="textAreaBottom" fmla="*/ 70848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7"/>
          <p:cNvSpPr/>
          <p:nvPr/>
        </p:nvSpPr>
        <p:spPr>
          <a:xfrm>
            <a:off x="3000240" y="928800"/>
            <a:ext cx="2714760" cy="144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 flipH="1">
            <a:off x="4284720" y="571680"/>
            <a:ext cx="1440" cy="64260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0"/>
          <p:cNvSpPr/>
          <p:nvPr/>
        </p:nvSpPr>
        <p:spPr>
          <a:xfrm flipH="1" flipV="1">
            <a:off x="3714840" y="999360"/>
            <a:ext cx="712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 flipH="1" flipV="1">
            <a:off x="4857840" y="999360"/>
            <a:ext cx="712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>
            <a:off x="3857400" y="285840"/>
            <a:ext cx="214200" cy="28584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1143000" y="5715000"/>
            <a:ext cx="36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c02c8"/>
                </a:solidFill>
                <a:uFillTx/>
                <a:latin typeface="Calibri"/>
              </a:rPr>
              <a:t>Домашнее задание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4000680" y="10440"/>
            <a:ext cx="557208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Сочинить сказку «Путешествие вете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3" descr="images789.jpeg"/>
          <p:cNvPicPr/>
          <p:nvPr/>
        </p:nvPicPr>
        <p:blipFill>
          <a:blip r:embed="rId1"/>
          <a:stretch/>
        </p:blipFill>
        <p:spPr>
          <a:xfrm>
            <a:off x="6072120" y="2022480"/>
            <a:ext cx="2344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Акция «Чистое слово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111708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02c8"/>
                </a:solidFill>
                <a:latin typeface="Arial"/>
                <a:ea typeface="Calibri"/>
              </a:rPr>
              <a:t>     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Слова умеют плакать и смея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Приказывать, молить и закли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И, словно, сердце, кровью облива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И равнодушно холодом дыш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018.gif"/>
          <p:cNvPicPr/>
          <p:nvPr/>
        </p:nvPicPr>
        <p:blipFill>
          <a:blip r:embed="rId1"/>
          <a:stretch/>
        </p:blipFill>
        <p:spPr>
          <a:xfrm>
            <a:off x="1643040" y="450072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мишка.gif"/>
          <p:cNvPicPr/>
          <p:nvPr/>
        </p:nvPicPr>
        <p:blipFill>
          <a:blip r:embed="rId2"/>
          <a:stretch/>
        </p:blipFill>
        <p:spPr>
          <a:xfrm>
            <a:off x="5572080" y="4214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исьмо по памя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емало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тречается зл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 любой человечьей судьб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А скажут лишь доброе сл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 легче на сердце теб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risunoksolnyishko.gif"/>
          <p:cNvPicPr/>
          <p:nvPr/>
        </p:nvPicPr>
        <p:blipFill>
          <a:blip r:embed="rId1"/>
          <a:stretch/>
        </p:blipFill>
        <p:spPr>
          <a:xfrm>
            <a:off x="6715080" y="928800"/>
            <a:ext cx="2086200" cy="1761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56.gif"/>
          <p:cNvPicPr/>
          <p:nvPr/>
        </p:nvPicPr>
        <p:blipFill>
          <a:blip r:embed="rId2"/>
          <a:stretch/>
        </p:blipFill>
        <p:spPr>
          <a:xfrm>
            <a:off x="6429240" y="3857760"/>
            <a:ext cx="1285920" cy="2041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flower.jpg"/>
          <p:cNvPicPr/>
          <p:nvPr/>
        </p:nvPicPr>
        <p:blipFill>
          <a:blip r:embed="rId3"/>
          <a:stretch/>
        </p:blipFill>
        <p:spPr>
          <a:xfrm>
            <a:off x="1285920" y="5000760"/>
            <a:ext cx="1434960" cy="126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Что означает сло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ловарь Ожегов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ВЕТЕР – это поток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Большой энциклопедический словарь (БЭС): </a:t>
            </a: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ВЕТЕР – движение воздуха относительно земной поверхности, характеризующееся силой и скор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 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ЕТЕР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ЭТЭР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Левая круглая скобка 3"/>
          <p:cNvSpPr/>
          <p:nvPr/>
        </p:nvSpPr>
        <p:spPr>
          <a:xfrm>
            <a:off x="2000160" y="4572000"/>
            <a:ext cx="214560" cy="85716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857160"/>
              <a:gd name="textAreaBottom" fmla="*/ 84852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5"/>
                  <a:pt x="0" y="450"/>
                </a:cubicBezTo>
                <a:lnTo>
                  <a:pt x="0" y="21150"/>
                </a:lnTo>
                <a:cubicBezTo>
                  <a:pt x="0" y="2137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круглая скобка 4"/>
          <p:cNvSpPr/>
          <p:nvPr/>
        </p:nvSpPr>
        <p:spPr>
          <a:xfrm flipH="1">
            <a:off x="3214080" y="4572000"/>
            <a:ext cx="285480" cy="85716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857160"/>
              <a:gd name="textAreaBottom" fmla="*/ 84528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00"/>
                  <a:pt x="0" y="600"/>
                </a:cubicBezTo>
                <a:lnTo>
                  <a:pt x="0" y="21000"/>
                </a:lnTo>
                <a:cubicBezTo>
                  <a:pt x="0" y="213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j0354499.gif"/>
          <p:cNvPicPr/>
          <p:nvPr/>
        </p:nvPicPr>
        <p:blipFill>
          <a:blip r:embed="rId1"/>
          <a:stretch/>
        </p:blipFill>
        <p:spPr>
          <a:xfrm>
            <a:off x="5500800" y="4500720"/>
            <a:ext cx="1928880" cy="147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Машина Машина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images44jpeg.jpeg"/>
          <p:cNvPicPr/>
          <p:nvPr/>
        </p:nvPicPr>
        <p:blipFill>
          <a:blip r:embed="rId1"/>
          <a:stretch/>
        </p:blipFill>
        <p:spPr>
          <a:xfrm>
            <a:off x="5000760" y="2286000"/>
            <a:ext cx="282888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images99.jpeg"/>
          <p:cNvPicPr/>
          <p:nvPr/>
        </p:nvPicPr>
        <p:blipFill>
          <a:blip r:embed="rId2"/>
          <a:stretch/>
        </p:blipFill>
        <p:spPr>
          <a:xfrm>
            <a:off x="1643040" y="2143080"/>
            <a:ext cx="1633680" cy="3021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428840" y="5715000"/>
            <a:ext cx="61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Поставьте ударение и прочит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Цве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оч</a:t>
            </a:r>
            <a:r>
              <a:rPr b="0" lang="ru-RU" sz="4400" spc="-1" strike="noStrike">
                <a:solidFill>
                  <a:srgbClr val="2c02c8"/>
                </a:solidFill>
                <a:latin typeface="Calibri"/>
              </a:rPr>
              <a:t>ный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ма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а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images.jpeg"/>
          <p:cNvPicPr/>
          <p:nvPr/>
        </p:nvPicPr>
        <p:blipFill>
          <a:blip r:embed="rId1"/>
          <a:stretch/>
        </p:blipFill>
        <p:spPr>
          <a:xfrm>
            <a:off x="857160" y="1285920"/>
            <a:ext cx="151920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images65.jpeg"/>
          <p:cNvPicPr/>
          <p:nvPr/>
        </p:nvPicPr>
        <p:blipFill>
          <a:blip r:embed="rId2"/>
          <a:stretch/>
        </p:blipFill>
        <p:spPr>
          <a:xfrm>
            <a:off x="714240" y="4714920"/>
            <a:ext cx="1785960" cy="1373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default.jpeg"/>
          <p:cNvPicPr/>
          <p:nvPr/>
        </p:nvPicPr>
        <p:blipFill>
          <a:blip r:embed="rId3"/>
          <a:stretch/>
        </p:blipFill>
        <p:spPr>
          <a:xfrm>
            <a:off x="3357720" y="1357200"/>
            <a:ext cx="1357200" cy="1181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images.98jpeg.jpeg"/>
          <p:cNvPicPr/>
          <p:nvPr/>
        </p:nvPicPr>
        <p:blipFill>
          <a:blip r:embed="rId4"/>
          <a:stretch/>
        </p:blipFill>
        <p:spPr>
          <a:xfrm>
            <a:off x="3357720" y="30002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default3.jpeg"/>
          <p:cNvPicPr/>
          <p:nvPr/>
        </p:nvPicPr>
        <p:blipFill>
          <a:blip r:embed="rId5"/>
          <a:stretch/>
        </p:blipFill>
        <p:spPr>
          <a:xfrm>
            <a:off x="6072120" y="13572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default1.jpeg"/>
          <p:cNvPicPr/>
          <p:nvPr/>
        </p:nvPicPr>
        <p:blipFill>
          <a:blip r:embed="rId6"/>
          <a:stretch/>
        </p:blipFill>
        <p:spPr>
          <a:xfrm>
            <a:off x="3357720" y="4643280"/>
            <a:ext cx="1328760" cy="1581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images7.jpeg"/>
          <p:cNvPicPr/>
          <p:nvPr/>
        </p:nvPicPr>
        <p:blipFill>
          <a:blip r:embed="rId7"/>
          <a:stretch/>
        </p:blipFill>
        <p:spPr>
          <a:xfrm>
            <a:off x="6215040" y="3000240"/>
            <a:ext cx="1665360" cy="12556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1" descr="images.8jpeg.jpeg"/>
          <p:cNvPicPr/>
          <p:nvPr/>
        </p:nvPicPr>
        <p:blipFill>
          <a:blip r:embed="rId8"/>
          <a:stretch/>
        </p:blipFill>
        <p:spPr>
          <a:xfrm>
            <a:off x="6215040" y="471492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" descr="images9.jpeg"/>
          <p:cNvPicPr/>
          <p:nvPr/>
        </p:nvPicPr>
        <p:blipFill>
          <a:blip r:embed="rId9"/>
          <a:stretch/>
        </p:blipFill>
        <p:spPr>
          <a:xfrm>
            <a:off x="928800" y="2928960"/>
            <a:ext cx="1333440" cy="1276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3"/>
          <p:cNvSpPr/>
          <p:nvPr/>
        </p:nvSpPr>
        <p:spPr>
          <a:xfrm>
            <a:off x="1143000" y="25718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3357720" y="257184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6357960" y="26431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АСИЛ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785880" y="4286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ДУВАН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500280" y="428616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6572160" y="42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071720" y="6143760"/>
            <a:ext cx="10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3357720" y="6215040"/>
            <a:ext cx="14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АНД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500880" y="614376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тавьте слова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УХУ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ОРОТ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П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02c8"/>
                </a:solidFill>
                <a:latin typeface="Calibri"/>
              </a:rPr>
              <a:t>Мы сегодня ели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омар подлетел к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6c48"/>
                </a:solidFill>
                <a:latin typeface="Calibri"/>
              </a:rPr>
              <a:t>Собака сидит у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У рубахи был выши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02c8"/>
                </a:solidFill>
                <a:latin typeface="Calibri"/>
              </a:rPr>
              <a:t>Дети….….моло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..…бревно ровно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лов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ВЕТЕР                  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РИЩЕ                     ВЕТРЕ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вер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ВЕТЕР                  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РИЩЕ                     ВЕТРЕ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уга 3"/>
          <p:cNvSpPr/>
          <p:nvPr/>
        </p:nvSpPr>
        <p:spPr>
          <a:xfrm flipV="1" rot="16556400">
            <a:off x="1909080" y="17931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2" h="1042988">
                <a:moveTo>
                  <a:pt x="403800" y="47520"/>
                </a:moveTo>
                <a:lnTo>
                  <a:pt x="403800" y="47519"/>
                </a:lnTo>
                <a:arcTo wR="284956" hR="521494" stAng="-4555433" swAng="9544467"/>
                <a:lnTo>
                  <a:pt x="284956" y="521494"/>
                </a:lnTo>
                <a:close/>
              </a:path>
              <a:path fill="none" w="569912" h="1042988">
                <a:moveTo>
                  <a:pt x="403800" y="47520"/>
                </a:moveTo>
                <a:lnTo>
                  <a:pt x="403800" y="47519"/>
                </a:lnTo>
                <a:arcTo wR="284956" hR="521494" stAng="-4555433" swAng="9544467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928960" y="2286000"/>
            <a:ext cx="5713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уга 5"/>
          <p:cNvSpPr/>
          <p:nvPr/>
        </p:nvSpPr>
        <p:spPr>
          <a:xfrm flipV="1" rot="16556400">
            <a:off x="6134760" y="1943640"/>
            <a:ext cx="539640" cy="1043280"/>
          </a:xfrm>
          <a:custGeom>
            <a:avLst/>
            <a:gdLst>
              <a:gd name="textAreaLeft" fmla="*/ 330840 w 539640"/>
              <a:gd name="textAreaRight" fmla="*/ 540000 w 539640"/>
              <a:gd name="textAreaTop" fmla="*/ 52200 h 1043280"/>
              <a:gd name="textAreaBottom" fmla="*/ 1029960 h 1043280"/>
            </a:gdLst>
            <a:ahLst/>
            <a:rect l="textAreaLeft" t="textAreaTop" r="textAreaRight" b="textAreaBottom"/>
            <a:pathLst>
              <a:path stroke="0" w="539750" h="1042988">
                <a:moveTo>
                  <a:pt x="387549" y="52185"/>
                </a:moveTo>
                <a:lnTo>
                  <a:pt x="387549" y="52185"/>
                </a:lnTo>
                <a:arcTo wR="269875" hR="521494" stAng="-4555435" swAng="9544473"/>
                <a:lnTo>
                  <a:pt x="269875" y="521494"/>
                </a:lnTo>
                <a:close/>
              </a:path>
              <a:path fill="none" w="539750" h="1042988">
                <a:moveTo>
                  <a:pt x="387549" y="52185"/>
                </a:moveTo>
                <a:lnTo>
                  <a:pt x="387549" y="52185"/>
                </a:lnTo>
                <a:arcTo wR="269875" hR="521494" stAng="-4555435" swAng="9544473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уга 6"/>
          <p:cNvSpPr/>
          <p:nvPr/>
        </p:nvSpPr>
        <p:spPr>
          <a:xfrm flipV="1" rot="16556400">
            <a:off x="1405800" y="37443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3" h="1042987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  <a:lnTo>
                  <a:pt x="284957" y="521494"/>
                </a:lnTo>
                <a:close/>
              </a:path>
              <a:path fill="none" w="569913" h="1042987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уга 7"/>
          <p:cNvSpPr/>
          <p:nvPr/>
        </p:nvSpPr>
        <p:spPr>
          <a:xfrm flipV="1" rot="16556400">
            <a:off x="5477760" y="37443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3" h="1042988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  <a:lnTo>
                  <a:pt x="284957" y="521494"/>
                </a:lnTo>
                <a:close/>
              </a:path>
              <a:path fill="none" w="569913" h="1042988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9"/>
          <p:cNvSpPr/>
          <p:nvPr/>
        </p:nvSpPr>
        <p:spPr>
          <a:xfrm flipV="1">
            <a:off x="6929280" y="2000160"/>
            <a:ext cx="2858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1"/>
          <p:cNvSpPr/>
          <p:nvPr/>
        </p:nvSpPr>
        <p:spPr>
          <a:xfrm>
            <a:off x="7215120" y="2000160"/>
            <a:ext cx="28584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3"/>
          <p:cNvSpPr/>
          <p:nvPr/>
        </p:nvSpPr>
        <p:spPr>
          <a:xfrm flipV="1">
            <a:off x="2286000" y="3929040"/>
            <a:ext cx="2858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4"/>
          <p:cNvSpPr/>
          <p:nvPr/>
        </p:nvSpPr>
        <p:spPr>
          <a:xfrm flipV="1">
            <a:off x="6357240" y="3857760"/>
            <a:ext cx="21420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>
            <a:off x="6572160" y="3857760"/>
            <a:ext cx="21456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7"/>
          <p:cNvSpPr/>
          <p:nvPr/>
        </p:nvSpPr>
        <p:spPr>
          <a:xfrm>
            <a:off x="2571840" y="3929040"/>
            <a:ext cx="28584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7643880" y="2286000"/>
            <a:ext cx="5713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>
            <a:off x="2928960" y="4143240"/>
            <a:ext cx="35712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2"/>
          <p:cNvSpPr/>
          <p:nvPr/>
        </p:nvSpPr>
        <p:spPr>
          <a:xfrm flipH="1">
            <a:off x="3285720" y="4143240"/>
            <a:ext cx="1800" cy="57168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6"/>
          <p:cNvSpPr/>
          <p:nvPr/>
        </p:nvSpPr>
        <p:spPr>
          <a:xfrm>
            <a:off x="2928960" y="4714920"/>
            <a:ext cx="3571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7"/>
          <p:cNvSpPr/>
          <p:nvPr/>
        </p:nvSpPr>
        <p:spPr>
          <a:xfrm>
            <a:off x="6786720" y="4071960"/>
            <a:ext cx="7142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2"/>
          <p:cNvSpPr/>
          <p:nvPr/>
        </p:nvSpPr>
        <p:spPr>
          <a:xfrm>
            <a:off x="6786720" y="4714920"/>
            <a:ext cx="7142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6"/>
          <p:cNvSpPr/>
          <p:nvPr/>
        </p:nvSpPr>
        <p:spPr>
          <a:xfrm flipV="1">
            <a:off x="2928960" y="4143240"/>
            <a:ext cx="0" cy="573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0"/>
          <p:cNvSpPr/>
          <p:nvPr/>
        </p:nvSpPr>
        <p:spPr>
          <a:xfrm flipV="1">
            <a:off x="6786720" y="4071960"/>
            <a:ext cx="1440" cy="6429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5"/>
          <p:cNvSpPr/>
          <p:nvPr/>
        </p:nvSpPr>
        <p:spPr>
          <a:xfrm flipV="1">
            <a:off x="7500960" y="4073400"/>
            <a:ext cx="1440" cy="6429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8:19:23Z</dcterms:created>
  <dc:creator>Admin</dc:creator>
  <dc:description/>
  <dc:language>en-US</dc:language>
  <cp:lastModifiedBy>User</cp:lastModifiedBy>
  <dcterms:modified xsi:type="dcterms:W3CDTF">2022-11-17T14:33:37Z</dcterms:modified>
  <cp:revision>17</cp:revision>
  <dc:subject/>
  <dc:title>Урок русского языка              во 2 классе       по теме «Слово. Слог. Ударение.» </dc:title>
</cp:coreProperties>
</file>