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6CD5-3456-4BE7-8AB5-DEDC806400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A5E-9F45-4C3B-9557-24D959CC1C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960-A260-4B2A-B08E-8D7CB17F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544-CF29-45CB-BDF4-D6CA26C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089-7A08-4567-9C10-C2F2EA72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565-9308-467B-A24B-EAADA843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69F-C450-49D9-8DB4-0ADB87F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325-1A4B-47B7-8552-EC2D392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574-4AE1-42B9-9A71-408C4D40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6FF-F4E7-49AC-9C4F-DD67151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F6B-098E-41CF-BA17-8CBD6771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7F2-FB36-4344-8EF0-2B5E02DA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61D-26E8-4ECB-8F2B-F2B6185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362-EC3C-4D22-ACA4-641CD71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8B76-0A00-4227-AFA0-353DAD1ED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Урок русского языка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        во 2 классе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     по теме «Слово. Слог. Ударение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43160" y="4005360"/>
            <a:ext cx="542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ила: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Саваслейск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гадина Татьяна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1.jpeg"/>
          <p:cNvPicPr/>
          <p:nvPr/>
        </p:nvPicPr>
        <p:blipFill>
          <a:blip r:embed="rId1"/>
          <a:stretch/>
        </p:blipFill>
        <p:spPr>
          <a:xfrm>
            <a:off x="500040" y="3571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0437be161916.gif"/>
          <p:cNvPicPr/>
          <p:nvPr/>
        </p:nvPicPr>
        <p:blipFill>
          <a:blip r:embed="rId2"/>
          <a:stretch/>
        </p:blipFill>
        <p:spPr>
          <a:xfrm>
            <a:off x="928800" y="3857760"/>
            <a:ext cx="142848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Поменяйте местами строчки так, чтобы получилось правильное стихотворени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1785960"/>
            <a:ext cx="81867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 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Проверим: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Осторожно ветер из калитки выше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в окошко, пробежал по кры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стучал немного ветками черёму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журил за что-то воробьёв знаком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И, расправив бодро молодые крыл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Полетел куда-то вперегонку с пы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зорной ветер весело играет листь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images3333.jpeg"/>
          <p:cNvPicPr/>
          <p:nvPr/>
        </p:nvPicPr>
        <p:blipFill>
          <a:blip r:embed="rId1"/>
          <a:stretch/>
        </p:blipFill>
        <p:spPr>
          <a:xfrm>
            <a:off x="2071800" y="2000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9680" y="1599840"/>
            <a:ext cx="81867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берёзу кач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Я тебя подтолкн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Налечу, засвищ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2c02c8"/>
                </a:solidFill>
                <a:latin typeface="Calibri"/>
              </a:rPr>
              <a:t>Даже шапку утащ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Левая круглая скобка 3"/>
          <p:cNvSpPr/>
          <p:nvPr/>
        </p:nvSpPr>
        <p:spPr>
          <a:xfrm>
            <a:off x="2714760" y="571680"/>
            <a:ext cx="117360" cy="71424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714240"/>
              <a:gd name="textAreaBottom" fmla="*/ 7095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8"/>
                  <a:pt x="0" y="296"/>
                </a:cubicBezTo>
                <a:lnTo>
                  <a:pt x="0" y="21304"/>
                </a:lnTo>
                <a:cubicBezTo>
                  <a:pt x="0" y="21452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Левая круглая скобка 5"/>
          <p:cNvSpPr/>
          <p:nvPr/>
        </p:nvSpPr>
        <p:spPr>
          <a:xfrm flipH="1">
            <a:off x="5714280" y="571680"/>
            <a:ext cx="142920" cy="71424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714240"/>
              <a:gd name="textAreaBottom" fmla="*/ 70848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"/>
          <p:cNvSpPr/>
          <p:nvPr/>
        </p:nvSpPr>
        <p:spPr>
          <a:xfrm>
            <a:off x="3000240" y="928800"/>
            <a:ext cx="2714760" cy="14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 flipH="1">
            <a:off x="4284720" y="571680"/>
            <a:ext cx="1440" cy="64260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0"/>
          <p:cNvSpPr/>
          <p:nvPr/>
        </p:nvSpPr>
        <p:spPr>
          <a:xfrm flipH="1" flipV="1">
            <a:off x="3714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 flipH="1" flipV="1">
            <a:off x="4857840" y="999360"/>
            <a:ext cx="712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2"/>
          <p:cNvSpPr/>
          <p:nvPr/>
        </p:nvSpPr>
        <p:spPr>
          <a:xfrm flipH="1">
            <a:off x="3857400" y="285840"/>
            <a:ext cx="214200" cy="285840"/>
          </a:xfrm>
          <a:prstGeom prst="line">
            <a:avLst/>
          </a:prstGeom>
          <a:ln w="50760">
            <a:solidFill>
              <a:srgbClr val="2c0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1143000" y="5715000"/>
            <a:ext cx="36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c02c8"/>
                </a:solidFill>
                <a:uFillTx/>
                <a:latin typeface="Calibri"/>
              </a:rPr>
              <a:t>Домашнее задание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4000680" y="10440"/>
            <a:ext cx="557208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Сочинить сказку «Путешествие вете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3" descr="images789.jpeg"/>
          <p:cNvPicPr/>
          <p:nvPr/>
        </p:nvPicPr>
        <p:blipFill>
          <a:blip r:embed="rId1"/>
          <a:stretch/>
        </p:blipFill>
        <p:spPr>
          <a:xfrm>
            <a:off x="6072120" y="2022480"/>
            <a:ext cx="234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кция «Чистое слово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111708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02c8"/>
                </a:solidFill>
                <a:latin typeface="Arial"/>
                <a:ea typeface="Calibri"/>
              </a:rPr>
              <a:t>     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Слова умеют плакать и сме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Приказывать, молить и закли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, словно, сердце, кровью облив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   </a:t>
            </a:r>
            <a:r>
              <a:rPr b="0" lang="ru-RU" sz="3600" spc="-1" strike="noStrike">
                <a:solidFill>
                  <a:srgbClr val="2c02c8"/>
                </a:solidFill>
                <a:latin typeface="Arial"/>
                <a:ea typeface="Calibri"/>
              </a:rPr>
              <a:t>И равнодушно холодом дыш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018.gif"/>
          <p:cNvPicPr/>
          <p:nvPr/>
        </p:nvPicPr>
        <p:blipFill>
          <a:blip r:embed="rId1"/>
          <a:stretch/>
        </p:blipFill>
        <p:spPr>
          <a:xfrm>
            <a:off x="1643040" y="450072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мишка.gif"/>
          <p:cNvPicPr/>
          <p:nvPr/>
        </p:nvPicPr>
        <p:blipFill>
          <a:blip r:embed="rId2"/>
          <a:stretch/>
        </p:blipFill>
        <p:spPr>
          <a:xfrm>
            <a:off x="5572080" y="4214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исьмо по памя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мало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речается зл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 любой человечьей судьб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А скажут лишь доброе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 легче на сердце теб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risunoksolnyishko.gif"/>
          <p:cNvPicPr/>
          <p:nvPr/>
        </p:nvPicPr>
        <p:blipFill>
          <a:blip r:embed="rId1"/>
          <a:stretch/>
        </p:blipFill>
        <p:spPr>
          <a:xfrm>
            <a:off x="6715080" y="928800"/>
            <a:ext cx="2086200" cy="1761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56.gif"/>
          <p:cNvPicPr/>
          <p:nvPr/>
        </p:nvPicPr>
        <p:blipFill>
          <a:blip r:embed="rId2"/>
          <a:stretch/>
        </p:blipFill>
        <p:spPr>
          <a:xfrm>
            <a:off x="6429240" y="3857760"/>
            <a:ext cx="1285920" cy="2041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flower.jpg"/>
          <p:cNvPicPr/>
          <p:nvPr/>
        </p:nvPicPr>
        <p:blipFill>
          <a:blip r:embed="rId3"/>
          <a:stretch/>
        </p:blipFill>
        <p:spPr>
          <a:xfrm>
            <a:off x="1285920" y="5000760"/>
            <a:ext cx="1434960" cy="126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Что означает сло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ловарь Ожегов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это поток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Большой энциклопедический словарь (БЭС): </a:t>
            </a: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ВЕТЕР – движение воздуха относительно земной поверхности, характеризующееся силой и скор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 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ЕТЕР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ЭТЭР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Левая круглая скобка 3"/>
          <p:cNvSpPr/>
          <p:nvPr/>
        </p:nvSpPr>
        <p:spPr>
          <a:xfrm>
            <a:off x="2000160" y="4572000"/>
            <a:ext cx="214560" cy="85716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857160"/>
              <a:gd name="textAreaBottom" fmla="*/ 84852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круглая скобка 4"/>
          <p:cNvSpPr/>
          <p:nvPr/>
        </p:nvSpPr>
        <p:spPr>
          <a:xfrm flipH="1">
            <a:off x="3214080" y="4572000"/>
            <a:ext cx="285480" cy="857160"/>
          </a:xfrm>
          <a:custGeom>
            <a:avLst/>
            <a:gdLst>
              <a:gd name="textAreaLeft" fmla="*/ 83880 w 285480"/>
              <a:gd name="textAreaRight" fmla="*/ 285840 w 285480"/>
              <a:gd name="textAreaTop" fmla="*/ 11880 h 857160"/>
              <a:gd name="textAreaBottom" fmla="*/ 8452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0"/>
                  <a:pt x="0" y="600"/>
                </a:cubicBezTo>
                <a:lnTo>
                  <a:pt x="0" y="21000"/>
                </a:lnTo>
                <a:cubicBezTo>
                  <a:pt x="0" y="213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j0354499.gif"/>
          <p:cNvPicPr/>
          <p:nvPr/>
        </p:nvPicPr>
        <p:blipFill>
          <a:blip r:embed="rId1"/>
          <a:stretch/>
        </p:blipFill>
        <p:spPr>
          <a:xfrm>
            <a:off x="5500800" y="4500720"/>
            <a:ext cx="1928880" cy="147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Машина Машина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images44jpeg.jpeg"/>
          <p:cNvPicPr/>
          <p:nvPr/>
        </p:nvPicPr>
        <p:blipFill>
          <a:blip r:embed="rId1"/>
          <a:stretch/>
        </p:blipFill>
        <p:spPr>
          <a:xfrm>
            <a:off x="5000760" y="2286000"/>
            <a:ext cx="282888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images99.jpeg"/>
          <p:cNvPicPr/>
          <p:nvPr/>
        </p:nvPicPr>
        <p:blipFill>
          <a:blip r:embed="rId2"/>
          <a:stretch/>
        </p:blipFill>
        <p:spPr>
          <a:xfrm>
            <a:off x="1643040" y="2143080"/>
            <a:ext cx="1633680" cy="3021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428840" y="5715000"/>
            <a:ext cx="61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02c8"/>
                </a:solidFill>
                <a:latin typeface="Calibri"/>
              </a:rPr>
              <a:t>Поставьте ударение и прочит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Цве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оч</a:t>
            </a:r>
            <a:r>
              <a:rPr b="0" lang="ru-RU" sz="4400" spc="-1" strike="noStrike">
                <a:solidFill>
                  <a:srgbClr val="2c02c8"/>
                </a:solidFill>
                <a:latin typeface="Calibri"/>
              </a:rPr>
              <a:t>ный 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ма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га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images.jpeg"/>
          <p:cNvPicPr/>
          <p:nvPr/>
        </p:nvPicPr>
        <p:blipFill>
          <a:blip r:embed="rId1"/>
          <a:stretch/>
        </p:blipFill>
        <p:spPr>
          <a:xfrm>
            <a:off x="857160" y="1285920"/>
            <a:ext cx="151920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images65.jpeg"/>
          <p:cNvPicPr/>
          <p:nvPr/>
        </p:nvPicPr>
        <p:blipFill>
          <a:blip r:embed="rId2"/>
          <a:stretch/>
        </p:blipFill>
        <p:spPr>
          <a:xfrm>
            <a:off x="714240" y="4714920"/>
            <a:ext cx="1785960" cy="1373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default.jpeg"/>
          <p:cNvPicPr/>
          <p:nvPr/>
        </p:nvPicPr>
        <p:blipFill>
          <a:blip r:embed="rId3"/>
          <a:stretch/>
        </p:blipFill>
        <p:spPr>
          <a:xfrm>
            <a:off x="3357720" y="1357200"/>
            <a:ext cx="1357200" cy="1181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images.98jpeg.jpeg"/>
          <p:cNvPicPr/>
          <p:nvPr/>
        </p:nvPicPr>
        <p:blipFill>
          <a:blip r:embed="rId4"/>
          <a:stretch/>
        </p:blipFill>
        <p:spPr>
          <a:xfrm>
            <a:off x="3357720" y="30002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default3.jpeg"/>
          <p:cNvPicPr/>
          <p:nvPr/>
        </p:nvPicPr>
        <p:blipFill>
          <a:blip r:embed="rId5"/>
          <a:stretch/>
        </p:blipFill>
        <p:spPr>
          <a:xfrm>
            <a:off x="6072120" y="13572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default1.jpeg"/>
          <p:cNvPicPr/>
          <p:nvPr/>
        </p:nvPicPr>
        <p:blipFill>
          <a:blip r:embed="rId6"/>
          <a:stretch/>
        </p:blipFill>
        <p:spPr>
          <a:xfrm>
            <a:off x="3357720" y="4643280"/>
            <a:ext cx="1328760" cy="1581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s7.jpeg"/>
          <p:cNvPicPr/>
          <p:nvPr/>
        </p:nvPicPr>
        <p:blipFill>
          <a:blip r:embed="rId7"/>
          <a:stretch/>
        </p:blipFill>
        <p:spPr>
          <a:xfrm>
            <a:off x="6215040" y="3000240"/>
            <a:ext cx="1665360" cy="1255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1" descr="images.8jpeg.jpeg"/>
          <p:cNvPicPr/>
          <p:nvPr/>
        </p:nvPicPr>
        <p:blipFill>
          <a:blip r:embed="rId8"/>
          <a:stretch/>
        </p:blipFill>
        <p:spPr>
          <a:xfrm>
            <a:off x="6215040" y="471492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images9.jpeg"/>
          <p:cNvPicPr/>
          <p:nvPr/>
        </p:nvPicPr>
        <p:blipFill>
          <a:blip r:embed="rId9"/>
          <a:stretch/>
        </p:blipFill>
        <p:spPr>
          <a:xfrm>
            <a:off x="928800" y="2928960"/>
            <a:ext cx="1333440" cy="1276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1143000" y="257184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3357720" y="257184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6357960" y="26431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АСИ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785880" y="4286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ДУВАН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500280" y="42861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6572160" y="42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071720" y="6143760"/>
            <a:ext cx="10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3357720" y="6215040"/>
            <a:ext cx="14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АНД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500880" y="614376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ставьте слова: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УХУ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ОРОТ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П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Мы сегодня ели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омар подлетел к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6c48"/>
                </a:solidFill>
                <a:latin typeface="Calibri"/>
              </a:rPr>
              <a:t>Собака сидит у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У рубахи был выши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02c8"/>
                </a:solidFill>
                <a:latin typeface="Calibri"/>
              </a:rPr>
              <a:t>Дети….….моло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..…бревно ровно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лов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вер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2c02c8"/>
                </a:solidFill>
                <a:latin typeface="Calibri"/>
              </a:rPr>
              <a:t>ВЕТЕР                  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02c8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2c02c8"/>
                </a:solidFill>
                <a:latin typeface="Calibri"/>
              </a:rPr>
              <a:t>ВЕТРИЩЕ                     ВЕТРЕ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2c0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уга 3"/>
          <p:cNvSpPr/>
          <p:nvPr/>
        </p:nvSpPr>
        <p:spPr>
          <a:xfrm flipV="1" rot="16556400">
            <a:off x="1909080" y="17931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  <a:lnTo>
                  <a:pt x="284956" y="521494"/>
                </a:lnTo>
                <a:close/>
              </a:path>
              <a:path fill="none" w="569912" h="1042988">
                <a:moveTo>
                  <a:pt x="403800" y="47520"/>
                </a:moveTo>
                <a:lnTo>
                  <a:pt x="403800" y="47519"/>
                </a:lnTo>
                <a:arcTo wR="284956" hR="521494" stAng="-4555433" swAng="9544467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92896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уга 5"/>
          <p:cNvSpPr/>
          <p:nvPr/>
        </p:nvSpPr>
        <p:spPr>
          <a:xfrm flipV="1" rot="16556400">
            <a:off x="6134760" y="1943640"/>
            <a:ext cx="539640" cy="1043280"/>
          </a:xfrm>
          <a:custGeom>
            <a:avLst/>
            <a:gdLst>
              <a:gd name="textAreaLeft" fmla="*/ 330840 w 539640"/>
              <a:gd name="textAreaRight" fmla="*/ 540000 w 539640"/>
              <a:gd name="textAreaTop" fmla="*/ 52200 h 1043280"/>
              <a:gd name="textAreaBottom" fmla="*/ 1029960 h 1043280"/>
            </a:gdLst>
            <a:ahLst/>
            <a:rect l="textAreaLeft" t="textAreaTop" r="textAreaRight" b="textAreaBottom"/>
            <a:pathLst>
              <a:path stroke="0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  <a:lnTo>
                  <a:pt x="269875" y="521494"/>
                </a:lnTo>
                <a:close/>
              </a:path>
              <a:path fill="none" w="539750" h="1042988">
                <a:moveTo>
                  <a:pt x="387549" y="52185"/>
                </a:moveTo>
                <a:lnTo>
                  <a:pt x="387549" y="52185"/>
                </a:lnTo>
                <a:arcTo wR="269875" hR="521494" stAng="-4555435" swAng="9544473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уга 6"/>
          <p:cNvSpPr/>
          <p:nvPr/>
        </p:nvSpPr>
        <p:spPr>
          <a:xfrm flipV="1" rot="16556400">
            <a:off x="140580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7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уга 7"/>
          <p:cNvSpPr/>
          <p:nvPr/>
        </p:nvSpPr>
        <p:spPr>
          <a:xfrm flipV="1" rot="16556400">
            <a:off x="5477760" y="3744360"/>
            <a:ext cx="570240" cy="1042920"/>
          </a:xfrm>
          <a:custGeom>
            <a:avLst/>
            <a:gdLst>
              <a:gd name="textAreaLeft" fmla="*/ 346320 w 570240"/>
              <a:gd name="textAreaRight" fmla="*/ 570600 w 570240"/>
              <a:gd name="textAreaTop" fmla="*/ 47160 h 1042920"/>
              <a:gd name="textAreaBottom" fmla="*/ 1030680 h 1042920"/>
            </a:gdLst>
            <a:ahLst/>
            <a:rect l="textAreaLeft" t="textAreaTop" r="textAreaRight" b="textAreaBottom"/>
            <a:pathLst>
              <a:path stroke="0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  <a:lnTo>
                  <a:pt x="284957" y="521494"/>
                </a:lnTo>
                <a:close/>
              </a:path>
              <a:path fill="none" w="569913" h="1042988">
                <a:moveTo>
                  <a:pt x="403801" y="47519"/>
                </a:moveTo>
                <a:lnTo>
                  <a:pt x="403801" y="47519"/>
                </a:lnTo>
                <a:arcTo wR="284957" hR="521494" stAng="-4555435" swAng="9544469"/>
              </a:path>
            </a:pathLst>
          </a:cu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9"/>
          <p:cNvSpPr/>
          <p:nvPr/>
        </p:nvSpPr>
        <p:spPr>
          <a:xfrm flipV="1">
            <a:off x="6929280" y="200016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>
            <a:off x="7215120" y="200016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3"/>
          <p:cNvSpPr/>
          <p:nvPr/>
        </p:nvSpPr>
        <p:spPr>
          <a:xfrm flipV="1">
            <a:off x="2286000" y="3929040"/>
            <a:ext cx="2858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 flipV="1">
            <a:off x="6357240" y="3857760"/>
            <a:ext cx="21420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>
            <a:off x="6572160" y="3857760"/>
            <a:ext cx="21456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7"/>
          <p:cNvSpPr/>
          <p:nvPr/>
        </p:nvSpPr>
        <p:spPr>
          <a:xfrm>
            <a:off x="2571840" y="3929040"/>
            <a:ext cx="285840" cy="357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7643880" y="2286000"/>
            <a:ext cx="5713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2928960" y="4143240"/>
            <a:ext cx="35712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3285720" y="4143240"/>
            <a:ext cx="1800" cy="57168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6"/>
          <p:cNvSpPr/>
          <p:nvPr/>
        </p:nvSpPr>
        <p:spPr>
          <a:xfrm>
            <a:off x="2928960" y="4714920"/>
            <a:ext cx="3571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7"/>
          <p:cNvSpPr/>
          <p:nvPr/>
        </p:nvSpPr>
        <p:spPr>
          <a:xfrm>
            <a:off x="6786720" y="407196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2"/>
          <p:cNvSpPr/>
          <p:nvPr/>
        </p:nvSpPr>
        <p:spPr>
          <a:xfrm>
            <a:off x="6786720" y="4714920"/>
            <a:ext cx="7142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6"/>
          <p:cNvSpPr/>
          <p:nvPr/>
        </p:nvSpPr>
        <p:spPr>
          <a:xfrm flipV="1">
            <a:off x="2928960" y="4143240"/>
            <a:ext cx="0" cy="5731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0"/>
          <p:cNvSpPr/>
          <p:nvPr/>
        </p:nvSpPr>
        <p:spPr>
          <a:xfrm flipV="1">
            <a:off x="6786720" y="407196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5"/>
          <p:cNvSpPr/>
          <p:nvPr/>
        </p:nvSpPr>
        <p:spPr>
          <a:xfrm flipV="1">
            <a:off x="7500960" y="4073400"/>
            <a:ext cx="1440" cy="6429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8:19:23Z</dcterms:created>
  <dc:creator>Admin</dc:creator>
  <dc:description/>
  <dc:language>en-US</dc:language>
  <cp:lastModifiedBy>User</cp:lastModifiedBy>
  <dcterms:modified xsi:type="dcterms:W3CDTF">2022-11-17T14:33:37Z</dcterms:modified>
  <cp:revision>17</cp:revision>
  <dc:subject/>
  <dc:title>Урок русского языка              во 2 классе       по теме «Слово. Слог. Ударение.» </dc:title>
</cp:coreProperties>
</file>