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F08-A799-4B04-BD9F-0618AC28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2EC-4FAC-4BBD-A20D-7DA30EAB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744-491B-43F0-AB05-E5A43628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D95-F663-4944-9E45-F1442178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165F-CB40-453D-BEAA-F3C79014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243D-849D-4950-9757-F970CA9D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695C-D92E-41FF-B06B-E0F8DEDB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F2EC-EE92-4B24-B8C7-417C5842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BD7F-1F43-4F2D-881C-A209353B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CFD5-7FE1-43A4-8493-A2ABAD36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6590-0E05-4B28-9745-87D15C8B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0DF-5B94-48DA-8B3D-967FFE11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7D4F-86E0-4CA8-B0DC-F1B34D95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913E-84BA-405D-9BD9-9B197014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55A3-0903-45AC-892D-4043FC0F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DEC7-32D1-47AA-82DF-86F281C4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ED0B-9279-4CE4-9CFA-B57667AD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DEF6-4B3B-4131-B10B-39B1629A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965-DD17-4A85-B02E-08BD810A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E37-2E19-46D9-9275-B418FDEA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03D-4686-4CAA-A681-557CB5E2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3D0-CC38-41C7-9944-8581AF11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3BF-78CD-4597-8FF4-4268EEDB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245-EC10-4C7B-B41D-3ACC2DB2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Детская фоторам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3FF5-2B78-4885-9DEE-EBCE238E48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1895-B2A7-4051-9555-71CFFF050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img1.liveinternet.ru/images/attach/c/1/55/701/55701714_ppppp_ppppppp.gif"/>
          <p:cNvPicPr/>
          <p:nvPr/>
        </p:nvPicPr>
        <p:blipFill>
          <a:blip r:embed="rId2"/>
          <a:stretch/>
        </p:blipFill>
        <p:spPr>
          <a:xfrm>
            <a:off x="-152280" y="5238720"/>
            <a:ext cx="1981080" cy="161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http://img-fotki.yandex.ru/get/5110/104166334.d6/0_7ec9e_3612b2c3_S.jpg"/>
          <p:cNvPicPr/>
          <p:nvPr/>
        </p:nvPicPr>
        <p:blipFill>
          <a:blip r:embed="rId3"/>
          <a:stretch/>
        </p:blipFill>
        <p:spPr>
          <a:xfrm>
            <a:off x="7715160" y="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77DE-588C-4463-A453-F0EEF9CED9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652F-7327-41FE-B257-665ED261E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Calibri"/>
              </a:rPr>
              <a:t>Цветок из салфето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2"/>
          <p:cNvSpPr/>
          <p:nvPr/>
        </p:nvSpPr>
        <p:spPr>
          <a:xfrm>
            <a:off x="1295280" y="6356520"/>
            <a:ext cx="693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огадина Татьяна Сергеевна, учитель начальных классов, МБОУ Саваслейск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делай надрезы глубиной примерно 10 мм через равные промежут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stranamasterov.ru/files/imagecache/orig_with_logo2/images/techno/paper/PICT9793.jpg"/>
          <p:cNvPicPr/>
          <p:nvPr/>
        </p:nvPicPr>
        <p:blipFill>
          <a:blip r:embed="rId1"/>
          <a:stretch/>
        </p:blipFill>
        <p:spPr>
          <a:xfrm>
            <a:off x="2819520" y="2590920"/>
            <a:ext cx="4044960" cy="373356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3"/>
          <p:cNvSpPr/>
          <p:nvPr/>
        </p:nvSpPr>
        <p:spPr>
          <a:xfrm>
            <a:off x="1752480" y="635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ними верхний тонкий сл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stranamasterov.ru/files/imagecache/orig_with_logo2/images/techno/paper/PICT9794.jpg"/>
          <p:cNvPicPr/>
          <p:nvPr/>
        </p:nvPicPr>
        <p:blipFill>
          <a:blip r:embed="rId1"/>
          <a:stretch/>
        </p:blipFill>
        <p:spPr>
          <a:xfrm>
            <a:off x="2362320" y="2057400"/>
            <a:ext cx="4495680" cy="42670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3"/>
          <p:cNvSpPr/>
          <p:nvPr/>
        </p:nvSpPr>
        <p:spPr>
          <a:xfrm>
            <a:off x="1905120" y="6356520"/>
            <a:ext cx="5790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жми его пальцами вокруг цент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stranamasterov.ru/files/imagecache/orig_with_logo2/images/techno/paper/PICT9795.jpg"/>
          <p:cNvPicPr/>
          <p:nvPr/>
        </p:nvPicPr>
        <p:blipFill>
          <a:blip r:embed="rId1"/>
          <a:stretch/>
        </p:blipFill>
        <p:spPr>
          <a:xfrm>
            <a:off x="2666880" y="2057400"/>
            <a:ext cx="4038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нимай следующие слои и также сжимай их пальц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stranamasterov.ru/files/imagecache/orig_with_logo2/images/techno/paper/PICT9796.jpg"/>
          <p:cNvPicPr/>
          <p:nvPr/>
        </p:nvPicPr>
        <p:blipFill>
          <a:blip r:embed="rId1"/>
          <a:stretch/>
        </p:blipFill>
        <p:spPr>
          <a:xfrm>
            <a:off x="2743200" y="2362320"/>
            <a:ext cx="396252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3"/>
          <p:cNvSpPr/>
          <p:nvPr/>
        </p:nvSpPr>
        <p:spPr>
          <a:xfrm>
            <a:off x="1752480" y="6356520"/>
            <a:ext cx="601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153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ними все слои друг за другом. Можно поднимать по 2—3 слоя одновремен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stranamasterov.ru/files/imagecache/orig_with_logo2/images/techno/paper/PICT9798.jpg"/>
          <p:cNvPicPr/>
          <p:nvPr/>
        </p:nvPicPr>
        <p:blipFill>
          <a:blip r:embed="rId1"/>
          <a:stretch/>
        </p:blipFill>
        <p:spPr>
          <a:xfrm>
            <a:off x="2743200" y="274320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3"/>
          <p:cNvSpPr/>
          <p:nvPr/>
        </p:nvSpPr>
        <p:spPr>
          <a:xfrm>
            <a:off x="1600200" y="6356520"/>
            <a:ext cx="609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лучился пышный цвет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stranamasterov.ru/files/imagecache/orig_with_logo2/images/techno/paper/PICT9803.jpg"/>
          <p:cNvPicPr/>
          <p:nvPr/>
        </p:nvPicPr>
        <p:blipFill>
          <a:blip r:embed="rId1"/>
          <a:stretch/>
        </p:blipFill>
        <p:spPr>
          <a:xfrm>
            <a:off x="2514600" y="2362320"/>
            <a:ext cx="4038480" cy="350496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3"/>
          <p:cNvSpPr/>
          <p:nvPr/>
        </p:nvSpPr>
        <p:spPr>
          <a:xfrm>
            <a:off x="1905120" y="6356520"/>
            <a:ext cx="61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бы сделать листочки для одуванчика, возьми полоски бумаги размером 3,5—4 см на 8—12 см и сложи пополам. Отрежь угол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ttp://stranamasterov.ru/files/imagecache/orig_with_logo2/images/techno/paper/PICT9821.jpg"/>
          <p:cNvPicPr/>
          <p:nvPr/>
        </p:nvPicPr>
        <p:blipFill>
          <a:blip r:embed="rId1"/>
          <a:stretch/>
        </p:blipFill>
        <p:spPr>
          <a:xfrm>
            <a:off x="3352680" y="3124080"/>
            <a:ext cx="2286000" cy="327672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3"/>
          <p:cNvSpPr/>
          <p:nvPr/>
        </p:nvSpPr>
        <p:spPr>
          <a:xfrm>
            <a:off x="1828800" y="6356520"/>
            <a:ext cx="640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резай зубчики по частям. Сначала делай надрез перпендикулярно линии сгиба, затем надрез наискосок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http://stranamasterov.ru/files/imagecache/orig_with_logo2/images/techno/paper/PICT9823.jpg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3504960"/>
          </a:xfrm>
          <a:prstGeom prst="rect">
            <a:avLst/>
          </a:prstGeom>
          <a:ln w="0">
            <a:noFill/>
          </a:ln>
        </p:spPr>
      </p:pic>
      <p:sp>
        <p:nvSpPr>
          <p:cNvPr id="134" name="Нижний колонтитул 3"/>
          <p:cNvSpPr/>
          <p:nvPr/>
        </p:nvSpPr>
        <p:spPr>
          <a:xfrm>
            <a:off x="1752480" y="6356520"/>
            <a:ext cx="61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ерни листок и немного выгни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го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режи несколько листочков разного размера и разных оттенков. Приклеивай к основе только нижнюю часть листа. Для стебля сверни трубочку из полоски тонкой бума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http://stranamasterov.ru/files/imagecache/orig_with_logo2/images/techno/paper/PICT9824.jpg"/>
          <p:cNvPicPr/>
          <p:nvPr/>
        </p:nvPicPr>
        <p:blipFill>
          <a:blip r:embed="rId1"/>
          <a:stretch/>
        </p:blipFill>
        <p:spPr>
          <a:xfrm>
            <a:off x="3048120" y="2895480"/>
            <a:ext cx="2590560" cy="327672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3"/>
          <p:cNvSpPr/>
          <p:nvPr/>
        </p:nvSpPr>
        <p:spPr>
          <a:xfrm>
            <a:off x="1828800" y="6356520"/>
            <a:ext cx="601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8991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маленьких цветочков возьми также два слоя: розовый от цветной салфетки и белый. (Обычно в цветных салфетках внутренние слои белого цвета). Сложи каждый слой вчетверо, затем ещё раз вчетверо. Наложи слои друг на друга. Сделай степлером четыре скреп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http://stranamasterov.ru/files/imagecache/orig_with_logo2/images/techno/paper/PICT9804.jpg"/>
          <p:cNvPicPr/>
          <p:nvPr/>
        </p:nvPicPr>
        <p:blipFill>
          <a:blip r:embed="rId1"/>
          <a:stretch/>
        </p:blipFill>
        <p:spPr>
          <a:xfrm>
            <a:off x="3200400" y="3276720"/>
            <a:ext cx="3429000" cy="3200400"/>
          </a:xfrm>
          <a:prstGeom prst="rect">
            <a:avLst/>
          </a:prstGeom>
          <a:ln w="0">
            <a:noFill/>
          </a:ln>
        </p:spPr>
      </p:pic>
      <p:sp>
        <p:nvSpPr>
          <p:cNvPr id="140" name="Нижний колонтитул 3"/>
          <p:cNvSpPr/>
          <p:nvPr/>
        </p:nvSpPr>
        <p:spPr>
          <a:xfrm>
            <a:off x="1828800" y="6356520"/>
            <a:ext cx="586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alibri"/>
              </a:rPr>
              <a:t>Для работы понадобятся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Цветные столовые салфетк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Цветная бумаг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Степлер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Кле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Ножницы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 Мастер-класс Моделирование: Цветы из салфеток Бумага, Салфетки 8 марта"/>
          <p:cNvPicPr/>
          <p:nvPr/>
        </p:nvPicPr>
        <p:blipFill>
          <a:blip r:embed="rId1"/>
          <a:stretch/>
        </p:blipFill>
        <p:spPr>
          <a:xfrm>
            <a:off x="3886200" y="2362320"/>
            <a:ext cx="4952880" cy="434340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3"/>
          <p:cNvSpPr/>
          <p:nvPr/>
        </p:nvSpPr>
        <p:spPr>
          <a:xfrm>
            <a:off x="1752480" y="6356520"/>
            <a:ext cx="61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8991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режь на четыре части по указанным линиям. Вырежи цветок. Можно обвести по шаблон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http://stranamasterov.ru/files/imagecache/orig_with_logo2/images/techno/paper/PICT9805.jpg"/>
          <p:cNvPicPr/>
          <p:nvPr/>
        </p:nvPicPr>
        <p:blipFill>
          <a:blip r:embed="rId1"/>
          <a:stretch/>
        </p:blipFill>
        <p:spPr>
          <a:xfrm>
            <a:off x="2209680" y="25909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4"/>
          <p:cNvSpPr/>
          <p:nvPr/>
        </p:nvSpPr>
        <p:spPr>
          <a:xfrm>
            <a:off x="1828800" y="6356520"/>
            <a:ext cx="586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ними и сожми плотно верхний слой, чтобы скрыть скрепк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http://stranamasterov.ru/files/imagecache/orig_with_logo2/images/techno/paper/PICT9806.jpg"/>
          <p:cNvPicPr/>
          <p:nvPr/>
        </p:nvPicPr>
        <p:blipFill>
          <a:blip r:embed="rId1"/>
          <a:stretch/>
        </p:blipFill>
        <p:spPr>
          <a:xfrm>
            <a:off x="2362320" y="2362320"/>
            <a:ext cx="4228920" cy="388440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4"/>
          <p:cNvSpPr/>
          <p:nvPr/>
        </p:nvSpPr>
        <p:spPr>
          <a:xfrm>
            <a:off x="1828800" y="6356520"/>
            <a:ext cx="624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нимай по очереди все слои. В конце немного сожми весь цвето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http://stranamasterov.ru/files/imagecache/orig_with_logo2/images/techno/paper/PICT9808.jpg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396252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1905120" y="6356520"/>
            <a:ext cx="609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перь расправляй цветок, придавая ему желаемую пышность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http://stranamasterov.ru/files/imagecache/orig_with_logo2/images/techno/paper/PICT9810.jpg"/>
          <p:cNvPicPr/>
          <p:nvPr/>
        </p:nvPicPr>
        <p:blipFill>
          <a:blip r:embed="rId1"/>
          <a:stretch/>
        </p:blipFill>
        <p:spPr>
          <a:xfrm>
            <a:off x="2286000" y="2590920"/>
            <a:ext cx="4495680" cy="365760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1828800" y="6356520"/>
            <a:ext cx="624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режи полосу гофрированной бумаги 7×18 см для стебельк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делай такие надрез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http://stranamasterov.ru/files/imagecache/orig_with_logo2/images/techno/PICT4712.jpg"/>
          <p:cNvPicPr/>
          <p:nvPr/>
        </p:nvPicPr>
        <p:blipFill>
          <a:blip r:embed="rId1"/>
          <a:stretch/>
        </p:blipFill>
        <p:spPr>
          <a:xfrm>
            <a:off x="2209680" y="2743200"/>
            <a:ext cx="4419720" cy="327672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4"/>
          <p:cNvSpPr/>
          <p:nvPr/>
        </p:nvSpPr>
        <p:spPr>
          <a:xfrm>
            <a:off x="19810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ожи пополам самую узкую полоску и скрути её в жгути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http://stranamasterov.ru/files/imagecache/orig_with_logo2/images/techno/PICT4716.jpg"/>
          <p:cNvPicPr/>
          <p:nvPr/>
        </p:nvPicPr>
        <p:blipFill>
          <a:blip r:embed="rId1"/>
          <a:stretch/>
        </p:blipFill>
        <p:spPr>
          <a:xfrm>
            <a:off x="1981080" y="2362320"/>
            <a:ext cx="518184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Нижний колонтитул 4"/>
          <p:cNvSpPr/>
          <p:nvPr/>
        </p:nvSpPr>
        <p:spPr>
          <a:xfrm>
            <a:off x="1905120" y="6356520"/>
            <a:ext cx="624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рути так же вторую полоск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http://stranamasterov.ru/files/imagecache/orig_with_logo2/images/techno/PICT4719.jpg"/>
          <p:cNvPicPr/>
          <p:nvPr/>
        </p:nvPicPr>
        <p:blipFill>
          <a:blip r:embed="rId1"/>
          <a:stretch/>
        </p:blipFill>
        <p:spPr>
          <a:xfrm>
            <a:off x="2362320" y="2057400"/>
            <a:ext cx="4724280" cy="358128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4"/>
          <p:cNvSpPr/>
          <p:nvPr/>
        </p:nvSpPr>
        <p:spPr>
          <a:xfrm>
            <a:off x="1981080" y="6356520"/>
            <a:ext cx="6324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ожи и закрути оставшуюся часть полос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stranamasterov.ru/files/imagecache/orig_with_logo2/images/techno/PICT4720.jpg"/>
          <p:cNvPicPr/>
          <p:nvPr/>
        </p:nvPicPr>
        <p:blipFill>
          <a:blip r:embed="rId1"/>
          <a:stretch/>
        </p:blipFill>
        <p:spPr>
          <a:xfrm>
            <a:off x="2286000" y="205740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4"/>
          <p:cNvSpPr/>
          <p:nvPr/>
        </p:nvSpPr>
        <p:spPr>
          <a:xfrm>
            <a:off x="1828800" y="6356520"/>
            <a:ext cx="601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делай то же самое со второй половиной полос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ttp://stranamasterov.ru/files/imagecache/orig_with_logo2/images/techno/PICT4723.jpg"/>
          <p:cNvPicPr/>
          <p:nvPr/>
        </p:nvPicPr>
        <p:blipFill>
          <a:blip r:embed="rId1"/>
          <a:stretch/>
        </p:blipFill>
        <p:spPr>
          <a:xfrm>
            <a:off x="2209680" y="2133720"/>
            <a:ext cx="4953240" cy="388620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4"/>
          <p:cNvSpPr/>
          <p:nvPr/>
        </p:nvSpPr>
        <p:spPr>
          <a:xfrm>
            <a:off x="1828800" y="6356520"/>
            <a:ext cx="624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534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ерни в трубочку оставшуюся широкую часть и скрути её в плотный жгу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stranamasterov.ru/files/imagecache/orig_with_logo2/images/techno/PICT4724.jpg"/>
          <p:cNvPicPr/>
          <p:nvPr/>
        </p:nvPicPr>
        <p:blipFill>
          <a:blip r:embed="rId1"/>
          <a:stretch/>
        </p:blipFill>
        <p:spPr>
          <a:xfrm>
            <a:off x="2362320" y="2743200"/>
            <a:ext cx="4419360" cy="3505320"/>
          </a:xfrm>
          <a:prstGeom prst="rect">
            <a:avLst/>
          </a:prstGeom>
          <a:ln w="0">
            <a:noFill/>
          </a:ln>
        </p:spPr>
      </p:pic>
      <p:sp>
        <p:nvSpPr>
          <p:cNvPr id="170" name="Нижний колонтитул 4"/>
          <p:cNvSpPr/>
          <p:nvPr/>
        </p:nvSpPr>
        <p:spPr>
          <a:xfrm>
            <a:off x="1905120" y="6356520"/>
            <a:ext cx="61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зьми столовую салфетку, состоящую из трёх слоёв. Раздели все сло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stranamasterov.ru/files/imagecache/orig_with_logo2/images/techno/paper/PICT9785.jpg"/>
          <p:cNvPicPr/>
          <p:nvPr/>
        </p:nvPicPr>
        <p:blipFill>
          <a:blip r:embed="rId1"/>
          <a:stretch/>
        </p:blipFill>
        <p:spPr>
          <a:xfrm>
            <a:off x="2514600" y="2819520"/>
            <a:ext cx="3886200" cy="358128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3"/>
          <p:cNvSpPr/>
          <p:nvPr/>
        </p:nvSpPr>
        <p:spPr>
          <a:xfrm>
            <a:off x="1752480" y="6356520"/>
            <a:ext cx="640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много подрежь два конца. Веточка гото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http://stranamasterov.ru/files/imagecache/orig_with_logo2/images/techno/PICT4725.jpg"/>
          <p:cNvPicPr/>
          <p:nvPr/>
        </p:nvPicPr>
        <p:blipFill>
          <a:blip r:embed="rId1"/>
          <a:stretch/>
        </p:blipFill>
        <p:spPr>
          <a:xfrm>
            <a:off x="2362320" y="236232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4"/>
          <p:cNvSpPr/>
          <p:nvPr/>
        </p:nvSpPr>
        <p:spPr>
          <a:xfrm>
            <a:off x="1828800" y="6356520"/>
            <a:ext cx="61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зьми два тонких слоя и сложи каждый вчетвер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stranamasterov.ru/files/imagecache/orig_with_logo2/images/techno/paper/PICT9786.jpg"/>
          <p:cNvPicPr/>
          <p:nvPr/>
        </p:nvPicPr>
        <p:blipFill>
          <a:blip r:embed="rId1"/>
          <a:stretch/>
        </p:blipFill>
        <p:spPr>
          <a:xfrm>
            <a:off x="2743200" y="2590920"/>
            <a:ext cx="4191120" cy="373356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3"/>
          <p:cNvSpPr/>
          <p:nvPr/>
        </p:nvSpPr>
        <p:spPr>
          <a:xfrm>
            <a:off x="1676520" y="6356520"/>
            <a:ext cx="662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жи каждый слой ещё раз вчетвер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stranamasterov.ru/files/imagecache/orig_with_logo2/images/techno/paper/PICT9789.jpg"/>
          <p:cNvPicPr/>
          <p:nvPr/>
        </p:nvPicPr>
        <p:blipFill>
          <a:blip r:embed="rId1"/>
          <a:stretch/>
        </p:blipFill>
        <p:spPr>
          <a:xfrm>
            <a:off x="2438280" y="2514600"/>
            <a:ext cx="4496040" cy="350532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3"/>
          <p:cNvSpPr/>
          <p:nvPr/>
        </p:nvSpPr>
        <p:spPr>
          <a:xfrm>
            <a:off x="1828800" y="6356520"/>
            <a:ext cx="6324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ложи слои друг на друг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stranamasterov.ru/files/imagecache/orig_with_logo2/images/techno/paper/PICT9788.jpg"/>
          <p:cNvPicPr/>
          <p:nvPr/>
        </p:nvPicPr>
        <p:blipFill>
          <a:blip r:embed="rId1"/>
          <a:stretch/>
        </p:blipFill>
        <p:spPr>
          <a:xfrm>
            <a:off x="2743200" y="2590920"/>
            <a:ext cx="3581280" cy="312408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3"/>
          <p:cNvSpPr/>
          <p:nvPr/>
        </p:nvSpPr>
        <p:spPr>
          <a:xfrm>
            <a:off x="1676520" y="6356520"/>
            <a:ext cx="6324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едини все слои, пробив их степлер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stranamasterov.ru/files/imagecache/orig_with_logo2/images/techno/paper/PICT9790.jpg"/>
          <p:cNvPicPr/>
          <p:nvPr/>
        </p:nvPicPr>
        <p:blipFill>
          <a:blip r:embed="rId1"/>
          <a:stretch/>
        </p:blipFill>
        <p:spPr>
          <a:xfrm>
            <a:off x="2819520" y="2590920"/>
            <a:ext cx="4114800" cy="358128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3"/>
          <p:cNvSpPr/>
          <p:nvPr/>
        </p:nvSpPr>
        <p:spPr>
          <a:xfrm>
            <a:off x="17524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бей для прочности ещё раз, расположив скрепки крест-накрес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stranamasterov.ru/files/imagecache/orig_with_logo2/images/techno/paper/PICT9791.jpg"/>
          <p:cNvPicPr/>
          <p:nvPr/>
        </p:nvPicPr>
        <p:blipFill>
          <a:blip r:embed="rId1"/>
          <a:stretch/>
        </p:blipFill>
        <p:spPr>
          <a:xfrm>
            <a:off x="2743200" y="2590920"/>
            <a:ext cx="3733920" cy="358128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3"/>
          <p:cNvSpPr/>
          <p:nvPr/>
        </p:nvSpPr>
        <p:spPr>
          <a:xfrm>
            <a:off x="1828800" y="6356520"/>
            <a:ext cx="624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режи кру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stranamasterov.ru/files/imagecache/orig_with_logo2/images/techno/paper/PICT9792.jpg"/>
          <p:cNvPicPr/>
          <p:nvPr/>
        </p:nvPicPr>
        <p:blipFill>
          <a:blip r:embed="rId1"/>
          <a:stretch/>
        </p:blipFill>
        <p:spPr>
          <a:xfrm>
            <a:off x="2514600" y="2209680"/>
            <a:ext cx="403848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3"/>
          <p:cNvSpPr/>
          <p:nvPr/>
        </p:nvSpPr>
        <p:spPr>
          <a:xfrm>
            <a:off x="1828800" y="6356520"/>
            <a:ext cx="6324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леонора Анатольевна, учитель начальных классов МКОУ СОШ № 256 ЗАТО г.Фокино Примор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07:03:22Z</dcterms:created>
  <dc:creator>User</dc:creator>
  <dc:description/>
  <dc:language>en-US</dc:language>
  <cp:lastModifiedBy>User</cp:lastModifiedBy>
  <dcterms:modified xsi:type="dcterms:W3CDTF">2022-11-17T14:46:34Z</dcterms:modified>
  <cp:revision>12</cp:revision>
  <dc:subject/>
  <dc:title>Слайд 1</dc:title>
</cp:coreProperties>
</file>