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83D-D0AC-4E40-8DA4-9AA7A1AE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02C-E751-454A-90C0-312F617A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242-7725-4102-89CA-E1B67C1C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1F9-08B2-41E7-B517-201887D0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13A5-3289-4E49-A493-ECB03A74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309C-5640-48F6-8438-93E6873A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3288-7AF7-4F2E-AC16-1EB7D263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3677-9DF8-4855-A824-FF612A3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5DB9-F0D9-4D42-A55F-1F545A61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545C-C330-48A1-B71C-FAA950DF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0236-1049-4AB7-A701-666B0706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25D-1EB2-4381-853B-85E3DE72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D8CE-9576-4C7A-BD6F-8EBFCF61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0B52-F129-4BA9-B468-206495BB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58FA-1D63-4A7F-BEC8-A7BDF91D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8459-C0B9-465E-B6C9-3C54D596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2DCA-F9B2-44A1-BEBF-B4514748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D45-ED7F-412A-A1E1-42FA358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5E0-FBEB-47E4-A4A3-9DA7D969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F53-1881-4DA0-B3DD-D0A68301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3E4-E371-426E-BE3A-CD1A1523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A66-2E32-4EBF-8CE7-BBC9E7E9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0B5-1BE1-4794-8C60-D13FE47B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86A-D1CF-4544-B29C-848CD52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Детская фоторам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71A0-B0BE-44A2-BECD-0037E1116E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287A-0004-47F0-9FF3-EB99871CE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mg1.liveinternet.ru/images/attach/c/1/55/701/55701714_ppppp_ppppppp.gif"/>
          <p:cNvPicPr/>
          <p:nvPr/>
        </p:nvPicPr>
        <p:blipFill>
          <a:blip r:embed="rId2"/>
          <a:stretch/>
        </p:blipFill>
        <p:spPr>
          <a:xfrm>
            <a:off x="-152280" y="5238720"/>
            <a:ext cx="1981080" cy="161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img-fotki.yandex.ru/get/5110/104166334.d6/0_7ec9e_3612b2c3_S.jpg"/>
          <p:cNvPicPr/>
          <p:nvPr/>
        </p:nvPicPr>
        <p:blipFill>
          <a:blip r:embed="rId3"/>
          <a:stretch/>
        </p:blipFill>
        <p:spPr>
          <a:xfrm>
            <a:off x="771516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EB97-6AC2-42C6-9AB6-87A323F5A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07AB-3FD7-4324-89E8-18655F088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Цветок из салфето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2"/>
          <p:cNvSpPr/>
          <p:nvPr/>
        </p:nvSpPr>
        <p:spPr>
          <a:xfrm>
            <a:off x="1295280" y="635652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гадина Татьяна Сергеевна, учитель начальных классов, МБОУ Саваслейск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 надрезы глубиной примерно 10 мм через равные промежу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stranamasterov.ru/files/imagecache/orig_with_logo2/images/techno/paper/PICT9793.jpg"/>
          <p:cNvPicPr/>
          <p:nvPr/>
        </p:nvPicPr>
        <p:blipFill>
          <a:blip r:embed="rId1"/>
          <a:stretch/>
        </p:blipFill>
        <p:spPr>
          <a:xfrm>
            <a:off x="2819520" y="2590920"/>
            <a:ext cx="4044960" cy="373356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1752480" y="635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ними верхний тонкий сл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stranamasterov.ru/files/imagecache/orig_with_logo2/images/techno/paper/PICT9794.jpg"/>
          <p:cNvPicPr/>
          <p:nvPr/>
        </p:nvPicPr>
        <p:blipFill>
          <a:blip r:embed="rId1"/>
          <a:stretch/>
        </p:blipFill>
        <p:spPr>
          <a:xfrm>
            <a:off x="2362320" y="2057400"/>
            <a:ext cx="449568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1905120" y="6356520"/>
            <a:ext cx="579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жми его пальцами вокруг цент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stranamasterov.ru/files/imagecache/orig_with_logo2/images/techno/paper/PICT9795.jpg"/>
          <p:cNvPicPr/>
          <p:nvPr/>
        </p:nvPicPr>
        <p:blipFill>
          <a:blip r:embed="rId1"/>
          <a:stretch/>
        </p:blipFill>
        <p:spPr>
          <a:xfrm>
            <a:off x="2666880" y="2057400"/>
            <a:ext cx="4038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нимай следующие слои и также сжимай их пальц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stranamasterov.ru/files/imagecache/orig_with_logo2/images/techno/paper/PICT9796.jpg"/>
          <p:cNvPicPr/>
          <p:nvPr/>
        </p:nvPicPr>
        <p:blipFill>
          <a:blip r:embed="rId1"/>
          <a:stretch/>
        </p:blipFill>
        <p:spPr>
          <a:xfrm>
            <a:off x="2743200" y="2362320"/>
            <a:ext cx="396252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3"/>
          <p:cNvSpPr/>
          <p:nvPr/>
        </p:nvSpPr>
        <p:spPr>
          <a:xfrm>
            <a:off x="175248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15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ними все слои друг за другом. Можно поднимать по 2—3 слоя одновремен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stranamasterov.ru/files/imagecache/orig_with_logo2/images/techno/paper/PICT9798.jpg"/>
          <p:cNvPicPr/>
          <p:nvPr/>
        </p:nvPicPr>
        <p:blipFill>
          <a:blip r:embed="rId1"/>
          <a:stretch/>
        </p:blipFill>
        <p:spPr>
          <a:xfrm>
            <a:off x="2743200" y="27432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1600200" y="6356520"/>
            <a:ext cx="609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учился пышный цвет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stranamasterov.ru/files/imagecache/orig_with_logo2/images/techno/paper/PICT9803.jpg"/>
          <p:cNvPicPr/>
          <p:nvPr/>
        </p:nvPicPr>
        <p:blipFill>
          <a:blip r:embed="rId1"/>
          <a:stretch/>
        </p:blipFill>
        <p:spPr>
          <a:xfrm>
            <a:off x="2514600" y="2362320"/>
            <a:ext cx="4038480" cy="350496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190512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бы сделать листочки для одуванчика, возьми полоски бумаги размером 3,5—4 см на 8—12 см и сложи пополам. Отрежь угол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stranamasterov.ru/files/imagecache/orig_with_logo2/images/techno/paper/PICT9821.jpg"/>
          <p:cNvPicPr/>
          <p:nvPr/>
        </p:nvPicPr>
        <p:blipFill>
          <a:blip r:embed="rId1"/>
          <a:stretch/>
        </p:blipFill>
        <p:spPr>
          <a:xfrm>
            <a:off x="3352680" y="31240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3"/>
          <p:cNvSpPr/>
          <p:nvPr/>
        </p:nvSpPr>
        <p:spPr>
          <a:xfrm>
            <a:off x="1828800" y="6356520"/>
            <a:ext cx="640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резай зубчики по частям. Сначала делай надрез перпендикулярно линии сгиба, затем надрез наискосо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stranamasterov.ru/files/imagecache/orig_with_logo2/images/techno/paper/PICT9823.jpg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350496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3"/>
          <p:cNvSpPr/>
          <p:nvPr/>
        </p:nvSpPr>
        <p:spPr>
          <a:xfrm>
            <a:off x="175248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ерни листок и немного выгни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режи несколько листочков разного размера и разных оттенков. Приклеивай к основе только нижнюю часть листа. Для стебля сверни трубочку из полоски тонкой бума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http://stranamasterov.ru/files/imagecache/orig_with_logo2/images/techno/paper/PICT9824.jpg"/>
          <p:cNvPicPr/>
          <p:nvPr/>
        </p:nvPicPr>
        <p:blipFill>
          <a:blip r:embed="rId1"/>
          <a:stretch/>
        </p:blipFill>
        <p:spPr>
          <a:xfrm>
            <a:off x="3048120" y="2895480"/>
            <a:ext cx="2590560" cy="3276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3"/>
          <p:cNvSpPr/>
          <p:nvPr/>
        </p:nvSpPr>
        <p:spPr>
          <a:xfrm>
            <a:off x="182880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маленьких цветочков возьми также два слоя: розовый от цветной салфетки и белый. (Обычно в цветных салфетках внутренние слои белого цвета). Сложи каждый слой вчетверо, затем ещё раз вчетверо. Наложи слои друг на друга. Сделай степлером четыре скреп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stranamasterov.ru/files/imagecache/orig_with_logo2/images/techno/paper/PICT9804.jpg"/>
          <p:cNvPicPr/>
          <p:nvPr/>
        </p:nvPicPr>
        <p:blipFill>
          <a:blip r:embed="rId1"/>
          <a:stretch/>
        </p:blipFill>
        <p:spPr>
          <a:xfrm>
            <a:off x="3200400" y="327672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3"/>
          <p:cNvSpPr/>
          <p:nvPr/>
        </p:nvSpPr>
        <p:spPr>
          <a:xfrm>
            <a:off x="1828800" y="6356520"/>
            <a:ext cx="586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Для работы понадобятся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Цветные столовые салфетк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Цветная бумаг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Степлер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ле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Ножниц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 Мастер-класс Моделирование: Цветы из салфеток Бумага, Салфетки 8 марта"/>
          <p:cNvPicPr/>
          <p:nvPr/>
        </p:nvPicPr>
        <p:blipFill>
          <a:blip r:embed="rId1"/>
          <a:stretch/>
        </p:blipFill>
        <p:spPr>
          <a:xfrm>
            <a:off x="3886200" y="2362320"/>
            <a:ext cx="495288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3"/>
          <p:cNvSpPr/>
          <p:nvPr/>
        </p:nvSpPr>
        <p:spPr>
          <a:xfrm>
            <a:off x="175248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991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режь на четыре части по указанным линиям. Вырежи цветок. Можно обвести по шаблон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http://stranamasterov.ru/files/imagecache/orig_with_logo2/images/techno/paper/PICT9805.jpg"/>
          <p:cNvPicPr/>
          <p:nvPr/>
        </p:nvPicPr>
        <p:blipFill>
          <a:blip r:embed="rId1"/>
          <a:stretch/>
        </p:blipFill>
        <p:spPr>
          <a:xfrm>
            <a:off x="2209680" y="25909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4"/>
          <p:cNvSpPr/>
          <p:nvPr/>
        </p:nvSpPr>
        <p:spPr>
          <a:xfrm>
            <a:off x="1828800" y="6356520"/>
            <a:ext cx="586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ними и сожми плотно верхний слой, чтобы скрыть скреп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http://stranamasterov.ru/files/imagecache/orig_with_logo2/images/techno/paper/PICT9806.jpg"/>
          <p:cNvPicPr/>
          <p:nvPr/>
        </p:nvPicPr>
        <p:blipFill>
          <a:blip r:embed="rId1"/>
          <a:stretch/>
        </p:blipFill>
        <p:spPr>
          <a:xfrm>
            <a:off x="2362320" y="2362320"/>
            <a:ext cx="4228920" cy="38844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4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нимай по очереди все слои. В конце немного сожми весь цвет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http://stranamasterov.ru/files/imagecache/orig_with_logo2/images/techno/paper/PICT9808.jpg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1905120" y="6356520"/>
            <a:ext cx="609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перь расправляй цветок, придавая ему желаемую пышность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stranamasterov.ru/files/imagecache/orig_with_logo2/images/techno/paper/PICT9810.jpg"/>
          <p:cNvPicPr/>
          <p:nvPr/>
        </p:nvPicPr>
        <p:blipFill>
          <a:blip r:embed="rId1"/>
          <a:stretch/>
        </p:blipFill>
        <p:spPr>
          <a:xfrm>
            <a:off x="2286000" y="259092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режи полосу гофрированной бумаги 7×18 см для стебельк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 такие надре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http://stranamasterov.ru/files/imagecache/orig_with_logo2/images/techno/PICT4712.jpg"/>
          <p:cNvPicPr/>
          <p:nvPr/>
        </p:nvPicPr>
        <p:blipFill>
          <a:blip r:embed="rId1"/>
          <a:stretch/>
        </p:blipFill>
        <p:spPr>
          <a:xfrm>
            <a:off x="2209680" y="2743200"/>
            <a:ext cx="4419720" cy="32767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4"/>
          <p:cNvSpPr/>
          <p:nvPr/>
        </p:nvSpPr>
        <p:spPr>
          <a:xfrm>
            <a:off x="19810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и пополам самую узкую полоску и скрути её в жгут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ttp://stranamasterov.ru/files/imagecache/orig_with_logo2/images/techno/PICT4716.jpg"/>
          <p:cNvPicPr/>
          <p:nvPr/>
        </p:nvPicPr>
        <p:blipFill>
          <a:blip r:embed="rId1"/>
          <a:stretch/>
        </p:blipFill>
        <p:spPr>
          <a:xfrm>
            <a:off x="1981080" y="2362320"/>
            <a:ext cx="518184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4"/>
          <p:cNvSpPr/>
          <p:nvPr/>
        </p:nvSpPr>
        <p:spPr>
          <a:xfrm>
            <a:off x="1905120" y="6356520"/>
            <a:ext cx="624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рути так же вторую полос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stranamasterov.ru/files/imagecache/orig_with_logo2/images/techno/PICT4719.jpg"/>
          <p:cNvPicPr/>
          <p:nvPr/>
        </p:nvPicPr>
        <p:blipFill>
          <a:blip r:embed="rId1"/>
          <a:stretch/>
        </p:blipFill>
        <p:spPr>
          <a:xfrm>
            <a:off x="2362320" y="2057400"/>
            <a:ext cx="4724280" cy="35812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1981080" y="6356520"/>
            <a:ext cx="6324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и и закрути оставшуюся часть поло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stranamasterov.ru/files/imagecache/orig_with_logo2/images/techno/PICT4720.jpg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182880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 то же самое со второй половиной поло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stranamasterov.ru/files/imagecache/orig_with_logo2/images/techno/PICT4723.jpg"/>
          <p:cNvPicPr/>
          <p:nvPr/>
        </p:nvPicPr>
        <p:blipFill>
          <a:blip r:embed="rId1"/>
          <a:stretch/>
        </p:blipFill>
        <p:spPr>
          <a:xfrm>
            <a:off x="2209680" y="213372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534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ерни в трубочку оставшуюся широкую часть и скрути её в плотный жгу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stranamasterov.ru/files/imagecache/orig_with_logo2/images/techno/PICT4724.jpg"/>
          <p:cNvPicPr/>
          <p:nvPr/>
        </p:nvPicPr>
        <p:blipFill>
          <a:blip r:embed="rId1"/>
          <a:stretch/>
        </p:blipFill>
        <p:spPr>
          <a:xfrm>
            <a:off x="2362320" y="2743200"/>
            <a:ext cx="4419360" cy="350532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4"/>
          <p:cNvSpPr/>
          <p:nvPr/>
        </p:nvSpPr>
        <p:spPr>
          <a:xfrm>
            <a:off x="190512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ьми столовую салфетку, состоящую из трёх слоёв. Раздели все сло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stranamasterov.ru/files/imagecache/orig_with_logo2/images/techno/paper/PICT9785.jpg"/>
          <p:cNvPicPr/>
          <p:nvPr/>
        </p:nvPicPr>
        <p:blipFill>
          <a:blip r:embed="rId1"/>
          <a:stretch/>
        </p:blipFill>
        <p:spPr>
          <a:xfrm>
            <a:off x="2514600" y="281952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3"/>
          <p:cNvSpPr/>
          <p:nvPr/>
        </p:nvSpPr>
        <p:spPr>
          <a:xfrm>
            <a:off x="1752480" y="6356520"/>
            <a:ext cx="640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много подрежь два конца. Веточка гот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http://stranamasterov.ru/files/imagecache/orig_with_logo2/images/techno/PICT4725.jpg"/>
          <p:cNvPicPr/>
          <p:nvPr/>
        </p:nvPicPr>
        <p:blipFill>
          <a:blip r:embed="rId1"/>
          <a:stretch/>
        </p:blipFill>
        <p:spPr>
          <a:xfrm>
            <a:off x="2362320" y="236232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182880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зьми два тонких слоя и сложи каждый вчетвер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tranamasterov.ru/files/imagecache/orig_with_logo2/images/techno/paper/PICT9786.jpg"/>
          <p:cNvPicPr/>
          <p:nvPr/>
        </p:nvPicPr>
        <p:blipFill>
          <a:blip r:embed="rId1"/>
          <a:stretch/>
        </p:blipFill>
        <p:spPr>
          <a:xfrm>
            <a:off x="2743200" y="2590920"/>
            <a:ext cx="4191120" cy="373356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3"/>
          <p:cNvSpPr/>
          <p:nvPr/>
        </p:nvSpPr>
        <p:spPr>
          <a:xfrm>
            <a:off x="1676520" y="6356520"/>
            <a:ext cx="662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жи каждый слой ещё раз вчетвер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stranamasterov.ru/files/imagecache/orig_with_logo2/images/techno/paper/PICT9789.jpg"/>
          <p:cNvPicPr/>
          <p:nvPr/>
        </p:nvPicPr>
        <p:blipFill>
          <a:blip r:embed="rId1"/>
          <a:stretch/>
        </p:blipFill>
        <p:spPr>
          <a:xfrm>
            <a:off x="2438280" y="2514600"/>
            <a:ext cx="4496040" cy="350532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3"/>
          <p:cNvSpPr/>
          <p:nvPr/>
        </p:nvSpPr>
        <p:spPr>
          <a:xfrm>
            <a:off x="1828800" y="6356520"/>
            <a:ext cx="6324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ложи слои друг на дру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stranamasterov.ru/files/imagecache/orig_with_logo2/images/techno/paper/PICT9788.jpg"/>
          <p:cNvPicPr/>
          <p:nvPr/>
        </p:nvPicPr>
        <p:blipFill>
          <a:blip r:embed="rId1"/>
          <a:stretch/>
        </p:blipFill>
        <p:spPr>
          <a:xfrm>
            <a:off x="2743200" y="259092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3"/>
          <p:cNvSpPr/>
          <p:nvPr/>
        </p:nvSpPr>
        <p:spPr>
          <a:xfrm>
            <a:off x="1676520" y="6356520"/>
            <a:ext cx="6324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едини все слои, пробив их степлер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stranamasterov.ru/files/imagecache/orig_with_logo2/images/techno/paper/PICT9790.jpg"/>
          <p:cNvPicPr/>
          <p:nvPr/>
        </p:nvPicPr>
        <p:blipFill>
          <a:blip r:embed="rId1"/>
          <a:stretch/>
        </p:blipFill>
        <p:spPr>
          <a:xfrm>
            <a:off x="2819520" y="259092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3"/>
          <p:cNvSpPr/>
          <p:nvPr/>
        </p:nvSpPr>
        <p:spPr>
          <a:xfrm>
            <a:off x="17524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бей для прочности ещё раз, расположив скрепки крест-накрес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stranamasterov.ru/files/imagecache/orig_with_logo2/images/techno/paper/PICT9791.jpg"/>
          <p:cNvPicPr/>
          <p:nvPr/>
        </p:nvPicPr>
        <p:blipFill>
          <a:blip r:embed="rId1"/>
          <a:stretch/>
        </p:blipFill>
        <p:spPr>
          <a:xfrm>
            <a:off x="2743200" y="2590920"/>
            <a:ext cx="3733920" cy="358128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3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режи кру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stranamasterov.ru/files/imagecache/orig_with_logo2/images/techno/paper/PICT9792.jpg"/>
          <p:cNvPicPr/>
          <p:nvPr/>
        </p:nvPicPr>
        <p:blipFill>
          <a:blip r:embed="rId1"/>
          <a:stretch/>
        </p:blipFill>
        <p:spPr>
          <a:xfrm>
            <a:off x="2514600" y="22096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3"/>
          <p:cNvSpPr/>
          <p:nvPr/>
        </p:nvSpPr>
        <p:spPr>
          <a:xfrm>
            <a:off x="1828800" y="6356520"/>
            <a:ext cx="6324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07:03:22Z</dcterms:created>
  <dc:creator>User</dc:creator>
  <dc:description/>
  <dc:language>en-US</dc:language>
  <cp:lastModifiedBy>User</cp:lastModifiedBy>
  <dcterms:modified xsi:type="dcterms:W3CDTF">2022-11-17T14:46:34Z</dcterms:modified>
  <cp:revision>12</cp:revision>
  <dc:subject/>
  <dc:title>Слайд 1</dc:title>
</cp:coreProperties>
</file>