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355-11EF-4D54-8F5A-4DE17629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7F4-11C8-434A-8E0B-11E2CF8A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DFA-C8E0-4190-9CD1-E2252217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9FE-FBB0-4F0E-80EB-6B427EF4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0FD3-2D8D-4740-B006-A5D8618C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1454-78F2-471E-AA1D-E892175C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9E54-9C81-4118-8AEB-EBB8AC24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3C11-9646-44FC-B17B-B0DD87BB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BCAB-A303-408E-B3DC-443C9B4A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DC9D-6840-4712-B329-6C1C51C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74C-8F47-4FF5-A2C0-1A50D12C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327-381D-40B1-A112-7E0906A0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11F7-AAE2-420A-9B3B-3686F78D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DAF2-55A7-40CF-9616-FDA781D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C09E-0F67-4EC0-A7AC-E955AD31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6C96-59F7-4D50-B585-6C311988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2B82-9F59-4574-8808-93E69503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F98-28D5-4D7B-8A84-0EDAEEE2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45B-6155-4308-9B7B-0B6ACE37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7DF-DB8E-42CD-A4E1-01765BF1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F9A-E816-4F50-8E4B-6BB8B8E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0AA-72F5-42DF-8D54-1400C637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17A-3572-4669-9333-1F04B4D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7FB-0712-4514-8C98-7CFB7C5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60D7-2E77-4D22-A876-B1D04F6EA1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C32B-2CA6-4F22-B6C5-21AC72DEA6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77760" y="836640"/>
            <a:ext cx="9037800" cy="56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0.12.2022  </a:t>
            </a: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лассная работа</a:t>
            </a: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"Площади фигур" </a:t>
            </a: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234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c0039"/>
                </a:solidFill>
                <a:uFillTx/>
                <a:latin typeface="Monotype Corsiva"/>
              </a:rPr>
              <a:t>Мотивация</a:t>
            </a:r>
            <a:br>
              <a:rPr sz="3600"/>
            </a:br>
            <a:r>
              <a:rPr b="0" lang="ru-RU" sz="3600" spc="-1" strike="noStrike">
                <a:solidFill>
                  <a:srgbClr val="e4005c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484360" y="1557360"/>
            <a:ext cx="66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колько следует купить квадратной кафельной плитки со стороной 30см, чтобы покрыть стену прямоугольной формы  длиной 2м и высотой 2,5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1074600" y="1219320"/>
            <a:ext cx="169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1074600" y="1219320"/>
            <a:ext cx="169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074600" y="1219320"/>
            <a:ext cx="169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320760"/>
          <a:ext cx="8642160" cy="6335640"/>
        </p:xfrm>
        <a:graphic>
          <a:graphicData uri="http://schemas.openxmlformats.org/drawingml/2006/table">
            <a:tbl>
              <a:tblPr/>
              <a:tblGrid>
                <a:gridCol w="2736720"/>
                <a:gridCol w="3168720"/>
                <a:gridCol w="2736720"/>
              </a:tblGrid>
              <a:tr h="14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Название простых фигу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Формулы для вычисления площад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простых фигу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36c03"/>
                          </a:solidFill>
                          <a:latin typeface="Times New Roman"/>
                          <a:ea typeface="Times New Roman"/>
                        </a:rPr>
                        <a:t>Простые фигуры планиметр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2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ямоугольни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3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апец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   Параллелограм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   Прямоугольный треугольни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Times New Roman"/>
                        <a:buAutoNum type="arabicPeriod" startAt="6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извольный треугольни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   Ром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79"/>
          <p:cNvSpPr/>
          <p:nvPr/>
        </p:nvSpPr>
        <p:spPr>
          <a:xfrm>
            <a:off x="6659640" y="1916280"/>
            <a:ext cx="72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0"/>
          <p:cNvSpPr/>
          <p:nvPr/>
        </p:nvSpPr>
        <p:spPr>
          <a:xfrm>
            <a:off x="6516720" y="5013360"/>
            <a:ext cx="1150920" cy="787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1"/>
          <p:cNvSpPr/>
          <p:nvPr/>
        </p:nvSpPr>
        <p:spPr>
          <a:xfrm rot="10800000">
            <a:off x="7524720" y="3573360"/>
            <a:ext cx="1224000" cy="555840"/>
          </a:xfrm>
          <a:prstGeom prst="parallelogram">
            <a:avLst>
              <a:gd name="adj" fmla="val 5505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2"/>
          <p:cNvSpPr/>
          <p:nvPr/>
        </p:nvSpPr>
        <p:spPr>
          <a:xfrm>
            <a:off x="7667640" y="242100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3"/>
          <p:cNvSpPr/>
          <p:nvPr/>
        </p:nvSpPr>
        <p:spPr>
          <a:xfrm>
            <a:off x="7308720" y="4149720"/>
            <a:ext cx="863640" cy="809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4"/>
          <p:cNvSpPr/>
          <p:nvPr/>
        </p:nvSpPr>
        <p:spPr>
          <a:xfrm>
            <a:off x="7885080" y="5229360"/>
            <a:ext cx="790560" cy="1358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5"/>
          <p:cNvSpPr/>
          <p:nvPr/>
        </p:nvSpPr>
        <p:spPr>
          <a:xfrm rot="10800000">
            <a:off x="6372000" y="2997360"/>
            <a:ext cx="1152360" cy="604800"/>
          </a:xfrm>
          <a:custGeom>
            <a:avLst/>
            <a:gdLst>
              <a:gd name="textAreaLeft" fmla="*/ 240120 w 1152360"/>
              <a:gd name="textAreaRight" fmla="*/ 912240 w 1152360"/>
              <a:gd name="textAreaTop" fmla="*/ 126000 h 604800"/>
              <a:gd name="textAreaBottom" fmla="*/ 478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7"/>
          <p:cNvSpPr/>
          <p:nvPr/>
        </p:nvSpPr>
        <p:spPr>
          <a:xfrm>
            <a:off x="7000920" y="5753160"/>
            <a:ext cx="153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31"/>
              <p:cNvSpPr txBox="1"/>
              <p:nvPr/>
            </p:nvSpPr>
            <p:spPr>
              <a:xfrm>
                <a:off x="3780000" y="4149720"/>
                <a:ext cx="1144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5"/>
              <p:cNvSpPr txBox="1"/>
              <p:nvPr/>
            </p:nvSpPr>
            <p:spPr>
              <a:xfrm>
                <a:off x="3635280" y="2997360"/>
                <a:ext cx="13874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117"/>
          <p:cNvSpPr/>
          <p:nvPr/>
        </p:nvSpPr>
        <p:spPr>
          <a:xfrm>
            <a:off x="3995640" y="19162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= a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4"/>
          <p:cNvSpPr/>
          <p:nvPr/>
        </p:nvSpPr>
        <p:spPr>
          <a:xfrm>
            <a:off x="3995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39"/>
              <p:cNvSpPr txBox="1"/>
              <p:nvPr/>
            </p:nvSpPr>
            <p:spPr>
              <a:xfrm>
                <a:off x="3059280" y="5805360"/>
                <a:ext cx="12268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41"/>
              <p:cNvSpPr txBox="1"/>
              <p:nvPr/>
            </p:nvSpPr>
            <p:spPr>
              <a:xfrm>
                <a:off x="3780000" y="5013360"/>
                <a:ext cx="1149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142"/>
          <p:cNvSpPr/>
          <p:nvPr/>
        </p:nvSpPr>
        <p:spPr>
          <a:xfrm>
            <a:off x="397512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3"/>
          <p:cNvSpPr/>
          <p:nvPr/>
        </p:nvSpPr>
        <p:spPr>
          <a:xfrm>
            <a:off x="3996360" y="3716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9"/>
          <p:cNvSpPr/>
          <p:nvPr/>
        </p:nvSpPr>
        <p:spPr>
          <a:xfrm>
            <a:off x="4933080" y="6021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340720" y="26028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шение задач с помощью конструкто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11640" y="981000"/>
            <a:ext cx="44038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 равнобедренный прямоугольный треугольник, катет которого равен 4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рои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Квадр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6227640" y="2349360"/>
                <a:ext cx="18036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6227640" y="2997360"/>
                <a:ext cx="2087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мб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6659640" y="3573360"/>
                <a:ext cx="1960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Text Box 10"/>
          <p:cNvSpPr/>
          <p:nvPr/>
        </p:nvSpPr>
        <p:spPr>
          <a:xfrm>
            <a:off x="4285800" y="314172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Ромб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211640" y="3716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рямоугольник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213800" y="42926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Квадр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213800" y="486900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Трапецию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6012000" y="4149720"/>
                <a:ext cx="170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3"/>
              <p:cNvSpPr txBox="1"/>
              <p:nvPr/>
            </p:nvSpPr>
            <p:spPr>
              <a:xfrm>
                <a:off x="6156360" y="4724280"/>
                <a:ext cx="180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AutoShape 24"/>
          <p:cNvSpPr/>
          <p:nvPr/>
        </p:nvSpPr>
        <p:spPr>
          <a:xfrm rot="10800000">
            <a:off x="7308720" y="5661000"/>
            <a:ext cx="914400" cy="9144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 rot="16200000">
            <a:off x="7308720" y="4724280"/>
            <a:ext cx="914400" cy="914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 rot="10800000">
            <a:off x="2771640" y="3068640"/>
            <a:ext cx="914400" cy="914400"/>
          </a:xfrm>
          <a:prstGeom prst="rtTriangl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2771640" y="306864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9"/>
          <p:cNvSpPr/>
          <p:nvPr/>
        </p:nvSpPr>
        <p:spPr>
          <a:xfrm>
            <a:off x="8229600" y="4724280"/>
            <a:ext cx="914400" cy="9144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 rot="5400000">
            <a:off x="8229600" y="5661000"/>
            <a:ext cx="914400" cy="914400"/>
          </a:xfrm>
          <a:prstGeom prst="rtTriangle">
            <a:avLst/>
          </a:prstGeom>
          <a:solidFill>
            <a:srgbClr val="c36c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6443640" y="5589720"/>
            <a:ext cx="914400" cy="914400"/>
          </a:xfrm>
          <a:prstGeom prst="rtTriangl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2"/>
          <p:cNvSpPr/>
          <p:nvPr/>
        </p:nvSpPr>
        <p:spPr>
          <a:xfrm rot="10800000">
            <a:off x="2340000" y="5589720"/>
            <a:ext cx="914400" cy="9144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3"/>
          <p:cNvSpPr/>
          <p:nvPr/>
        </p:nvSpPr>
        <p:spPr>
          <a:xfrm>
            <a:off x="3276720" y="558972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3276720" y="4653000"/>
            <a:ext cx="914400" cy="914400"/>
          </a:xfrm>
          <a:prstGeom prst="rtTriangl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6"/>
          <p:cNvSpPr/>
          <p:nvPr/>
        </p:nvSpPr>
        <p:spPr>
          <a:xfrm rot="16200000">
            <a:off x="2340000" y="4653000"/>
            <a:ext cx="914400" cy="914400"/>
          </a:xfrm>
          <a:prstGeom prst="rtTriangle">
            <a:avLst/>
          </a:prstGeom>
          <a:solidFill>
            <a:srgbClr val="c36c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7"/>
          <p:cNvSpPr/>
          <p:nvPr/>
        </p:nvSpPr>
        <p:spPr>
          <a:xfrm rot="10800000">
            <a:off x="3276720" y="5589720"/>
            <a:ext cx="914400" cy="9144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8"/>
          <p:cNvSpPr/>
          <p:nvPr/>
        </p:nvSpPr>
        <p:spPr>
          <a:xfrm rot="16200000">
            <a:off x="4572000" y="5589720"/>
            <a:ext cx="914400" cy="914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9"/>
          <p:cNvSpPr/>
          <p:nvPr/>
        </p:nvSpPr>
        <p:spPr>
          <a:xfrm>
            <a:off x="2340000" y="5589720"/>
            <a:ext cx="914400" cy="914400"/>
          </a:xfrm>
          <a:prstGeom prst="rtTriangl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0"/>
          <p:cNvSpPr/>
          <p:nvPr/>
        </p:nvSpPr>
        <p:spPr>
          <a:xfrm rot="5400000">
            <a:off x="2340000" y="4653000"/>
            <a:ext cx="914400" cy="9144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1"/>
          <p:cNvSpPr/>
          <p:nvPr/>
        </p:nvSpPr>
        <p:spPr>
          <a:xfrm rot="10800000">
            <a:off x="3276720" y="4653000"/>
            <a:ext cx="914400" cy="914400"/>
          </a:xfrm>
          <a:prstGeom prst="rtTriangl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2"/>
          <p:cNvSpPr/>
          <p:nvPr/>
        </p:nvSpPr>
        <p:spPr>
          <a:xfrm>
            <a:off x="5508720" y="5589720"/>
            <a:ext cx="914400" cy="9144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3"/>
          <p:cNvSpPr/>
          <p:nvPr/>
        </p:nvSpPr>
        <p:spPr>
          <a:xfrm rot="10800000">
            <a:off x="5508720" y="558972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900000" y="392040"/>
            <a:ext cx="5905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Задача: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В четырёхугольнике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ABC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углы при вершинах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– 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прямые,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AB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BC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а высота </a:t>
            </a:r>
            <a:r>
              <a:rPr b="1" lang="en-US" sz="2200" spc="-1" strike="noStrike">
                <a:solidFill>
                  <a:srgbClr val="e4005c"/>
                </a:solidFill>
                <a:latin typeface="Arial"/>
              </a:rPr>
              <a:t>BH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равна 2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                </a:t>
            </a:r>
            <a:r>
              <a:rPr b="1" lang="ru-RU" sz="2200" spc="-1" strike="noStrike">
                <a:solidFill>
                  <a:srgbClr val="e4005c"/>
                </a:solidFill>
                <a:latin typeface="Arial"/>
              </a:rPr>
              <a:t>Найдите его площадь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6084720" y="189000"/>
            <a:ext cx="3059280" cy="2808000"/>
            <a:chOff x="6084720" y="189000"/>
            <a:chExt cx="3059280" cy="2808000"/>
          </a:xfrm>
        </p:grpSpPr>
        <p:pic>
          <p:nvPicPr>
            <p:cNvPr id="142" name="Picture 6" descr=""/>
            <p:cNvPicPr/>
            <p:nvPr/>
          </p:nvPicPr>
          <p:blipFill>
            <a:blip r:embed="rId1"/>
            <a:stretch/>
          </p:blipFill>
          <p:spPr>
            <a:xfrm>
              <a:off x="6084720" y="189000"/>
              <a:ext cx="3059280" cy="28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7"/>
            <p:cNvSpPr/>
            <p:nvPr/>
          </p:nvSpPr>
          <p:spPr>
            <a:xfrm>
              <a:off x="7535520" y="2630160"/>
              <a:ext cx="966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5869080" y="3500280"/>
            <a:ext cx="3274920" cy="2808000"/>
            <a:chOff x="5869080" y="3500280"/>
            <a:chExt cx="3274920" cy="2808000"/>
          </a:xfrm>
        </p:grpSpPr>
        <p:pic>
          <p:nvPicPr>
            <p:cNvPr id="145" name="Picture 9" descr=""/>
            <p:cNvPicPr/>
            <p:nvPr/>
          </p:nvPicPr>
          <p:blipFill>
            <a:blip r:embed="rId2"/>
            <a:stretch/>
          </p:blipFill>
          <p:spPr>
            <a:xfrm>
              <a:off x="5869080" y="3500280"/>
              <a:ext cx="3274920" cy="262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0"/>
            <p:cNvSpPr/>
            <p:nvPr/>
          </p:nvSpPr>
          <p:spPr>
            <a:xfrm>
              <a:off x="7217280" y="5907240"/>
              <a:ext cx="11559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ис.6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283"/>
          <p:cNvSpPr/>
          <p:nvPr/>
        </p:nvSpPr>
        <p:spPr>
          <a:xfrm>
            <a:off x="4444920" y="303120"/>
            <a:ext cx="4699080" cy="70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зменится площадь квадрата, если его сторону увеличить в 5 раз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личится в 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Увеличится в 20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величится в 2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ь этого равностороннего треугольника равна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8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трапеция. Равные площади имеют треугольники ……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нной фигуры, принимая площадь клетки за 1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17,5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20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25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82"/>
          <p:cNvSpPr/>
          <p:nvPr/>
        </p:nvSpPr>
        <p:spPr>
          <a:xfrm>
            <a:off x="0" y="333360"/>
            <a:ext cx="4444920" cy="70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ак изменится площадь квадрата, если его сторону уменьшить в 5 раз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Уменьшится в 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Уменьшится в 20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меньшится в 25 ра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ь этого треугольник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вна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5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14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13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араллелограмм. Равны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и имеют треугольники…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ВОС и В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нной фигуры, принимая площадь клетки за 1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&gt; S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21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7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24 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81"/>
          <p:cNvSpPr/>
          <p:nvPr/>
        </p:nvSpPr>
        <p:spPr>
          <a:xfrm>
            <a:off x="4444920" y="0"/>
            <a:ext cx="4699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№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80"/>
          <p:cNvSpPr/>
          <p:nvPr/>
        </p:nvSpPr>
        <p:spPr>
          <a:xfrm>
            <a:off x="0" y="0"/>
            <a:ext cx="444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№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288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89"/>
          <p:cNvSpPr/>
          <p:nvPr/>
        </p:nvSpPr>
        <p:spPr>
          <a:xfrm>
            <a:off x="0" y="303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92"/>
          <p:cNvSpPr/>
          <p:nvPr/>
        </p:nvSpPr>
        <p:spPr>
          <a:xfrm>
            <a:off x="0" y="731664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293"/>
          <p:cNvSpPr/>
          <p:nvPr/>
        </p:nvSpPr>
        <p:spPr>
          <a:xfrm>
            <a:off x="0" y="30240"/>
            <a:ext cx="0" cy="731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94"/>
          <p:cNvSpPr/>
          <p:nvPr/>
        </p:nvSpPr>
        <p:spPr>
          <a:xfrm>
            <a:off x="4444920" y="0"/>
            <a:ext cx="0" cy="731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95"/>
          <p:cNvSpPr/>
          <p:nvPr/>
        </p:nvSpPr>
        <p:spPr>
          <a:xfrm>
            <a:off x="9144000" y="0"/>
            <a:ext cx="0" cy="731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26" descr=""/>
          <p:cNvPicPr/>
          <p:nvPr/>
        </p:nvPicPr>
        <p:blipFill>
          <a:blip r:embed="rId1"/>
          <a:srcRect l="0" t="0" r="22225" b="18158"/>
          <a:stretch/>
        </p:blipFill>
        <p:spPr>
          <a:xfrm>
            <a:off x="2627280" y="3860640"/>
            <a:ext cx="1600200" cy="839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28" descr=""/>
          <p:cNvPicPr/>
          <p:nvPr/>
        </p:nvPicPr>
        <p:blipFill>
          <a:blip r:embed="rId2"/>
          <a:stretch/>
        </p:blipFill>
        <p:spPr>
          <a:xfrm>
            <a:off x="7596360" y="3573360"/>
            <a:ext cx="1293480" cy="100656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2330"/>
          <p:cNvGrpSpPr/>
          <p:nvPr/>
        </p:nvGrpSpPr>
        <p:grpSpPr>
          <a:xfrm>
            <a:off x="7380360" y="2276640"/>
            <a:ext cx="1584360" cy="722160"/>
            <a:chOff x="7380360" y="2276640"/>
            <a:chExt cx="1584360" cy="722160"/>
          </a:xfrm>
        </p:grpSpPr>
        <p:sp>
          <p:nvSpPr>
            <p:cNvPr id="160" name="AutoShape 2331"/>
            <p:cNvSpPr/>
            <p:nvPr/>
          </p:nvSpPr>
          <p:spPr>
            <a:xfrm>
              <a:off x="7380360" y="2276640"/>
              <a:ext cx="1291320" cy="70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332"/>
            <p:cNvSpPr/>
            <p:nvPr/>
          </p:nvSpPr>
          <p:spPr>
            <a:xfrm>
              <a:off x="8024400" y="2317320"/>
              <a:ext cx="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333"/>
            <p:cNvSpPr/>
            <p:nvPr/>
          </p:nvSpPr>
          <p:spPr>
            <a:xfrm>
              <a:off x="8028720" y="2812320"/>
              <a:ext cx="25704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34"/>
            <p:cNvSpPr/>
            <p:nvPr/>
          </p:nvSpPr>
          <p:spPr>
            <a:xfrm>
              <a:off x="7585560" y="2510640"/>
              <a:ext cx="774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335"/>
            <p:cNvSpPr/>
            <p:nvPr/>
          </p:nvSpPr>
          <p:spPr>
            <a:xfrm>
              <a:off x="8189640" y="2289240"/>
              <a:ext cx="775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166"/>
          <p:cNvSpPr/>
          <p:nvPr/>
        </p:nvSpPr>
        <p:spPr>
          <a:xfrm>
            <a:off x="3568680" y="1359000"/>
            <a:ext cx="15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881"/>
          <p:cNvGrpSpPr/>
          <p:nvPr/>
        </p:nvGrpSpPr>
        <p:grpSpPr>
          <a:xfrm>
            <a:off x="3276720" y="2060640"/>
            <a:ext cx="782640" cy="1173240"/>
            <a:chOff x="3276720" y="2060640"/>
            <a:chExt cx="782640" cy="1173240"/>
          </a:xfrm>
        </p:grpSpPr>
        <p:sp>
          <p:nvSpPr>
            <p:cNvPr id="167" name="AutoShape 4882"/>
            <p:cNvSpPr/>
            <p:nvPr/>
          </p:nvSpPr>
          <p:spPr>
            <a:xfrm>
              <a:off x="3276720" y="2060640"/>
              <a:ext cx="78264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883"/>
            <p:cNvSpPr/>
            <p:nvPr/>
          </p:nvSpPr>
          <p:spPr>
            <a:xfrm>
              <a:off x="3668400" y="2060640"/>
              <a:ext cx="390960" cy="782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884"/>
            <p:cNvSpPr/>
            <p:nvPr/>
          </p:nvSpPr>
          <p:spPr>
            <a:xfrm>
              <a:off x="3276720" y="2321280"/>
              <a:ext cx="26100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885"/>
            <p:cNvSpPr/>
            <p:nvPr/>
          </p:nvSpPr>
          <p:spPr>
            <a:xfrm>
              <a:off x="3668400" y="2973240"/>
              <a:ext cx="26064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Object 4897"/>
              <p:cNvSpPr txBox="1"/>
              <p:nvPr/>
            </p:nvSpPr>
            <p:spPr>
              <a:xfrm>
                <a:off x="5018040" y="2262240"/>
                <a:ext cx="433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903"/>
              <p:cNvSpPr txBox="1"/>
              <p:nvPr/>
            </p:nvSpPr>
            <p:spPr>
              <a:xfrm>
                <a:off x="608040" y="2610000"/>
                <a:ext cx="433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906"/>
              <p:cNvSpPr txBox="1"/>
              <p:nvPr/>
            </p:nvSpPr>
            <p:spPr>
              <a:xfrm>
                <a:off x="666720" y="2895480"/>
                <a:ext cx="433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907"/>
              <p:cNvSpPr txBox="1"/>
              <p:nvPr/>
            </p:nvSpPr>
            <p:spPr>
              <a:xfrm>
                <a:off x="4898880" y="2557440"/>
                <a:ext cx="433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908"/>
              <p:cNvSpPr txBox="1"/>
              <p:nvPr/>
            </p:nvSpPr>
            <p:spPr>
              <a:xfrm>
                <a:off x="612720" y="2317680"/>
                <a:ext cx="433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909"/>
              <p:cNvSpPr txBox="1"/>
              <p:nvPr/>
            </p:nvSpPr>
            <p:spPr>
              <a:xfrm>
                <a:off x="4924440" y="2843280"/>
                <a:ext cx="433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1962000" y="5294160"/>
          <a:ext cx="1787760" cy="1462320"/>
        </p:xfrm>
        <a:graphic>
          <a:graphicData uri="http://schemas.openxmlformats.org/drawingml/2006/table">
            <a:tbl>
              <a:tblPr/>
              <a:tblGrid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</a:tbl>
          </a:graphicData>
        </a:graphic>
      </p:graphicFrame>
      <p:grpSp>
        <p:nvGrpSpPr>
          <p:cNvPr id="178" name="Group 1024"/>
          <p:cNvGrpSpPr/>
          <p:nvPr/>
        </p:nvGrpSpPr>
        <p:grpSpPr>
          <a:xfrm>
            <a:off x="2003400" y="5427720"/>
            <a:ext cx="1377720" cy="649080"/>
            <a:chOff x="2003400" y="5427720"/>
            <a:chExt cx="1377720" cy="649080"/>
          </a:xfrm>
        </p:grpSpPr>
        <p:sp>
          <p:nvSpPr>
            <p:cNvPr id="179" name="Line 1028"/>
            <p:cNvSpPr/>
            <p:nvPr/>
          </p:nvSpPr>
          <p:spPr>
            <a:xfrm>
              <a:off x="2460240" y="5456160"/>
              <a:ext cx="79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27"/>
            <p:cNvSpPr/>
            <p:nvPr/>
          </p:nvSpPr>
          <p:spPr>
            <a:xfrm>
              <a:off x="2003400" y="6056640"/>
              <a:ext cx="13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26"/>
            <p:cNvSpPr/>
            <p:nvPr/>
          </p:nvSpPr>
          <p:spPr>
            <a:xfrm>
              <a:off x="3225240" y="5427720"/>
              <a:ext cx="155880" cy="64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25"/>
            <p:cNvSpPr/>
            <p:nvPr/>
          </p:nvSpPr>
          <p:spPr>
            <a:xfrm flipH="1">
              <a:off x="2022120" y="5465520"/>
              <a:ext cx="456840" cy="57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6721560" y="5276880"/>
          <a:ext cx="1787400" cy="1463760"/>
        </p:xfrm>
        <a:graphic>
          <a:graphicData uri="http://schemas.openxmlformats.org/drawingml/2006/table">
            <a:tbl>
              <a:tblPr/>
              <a:tblGrid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  <a:gridCol w="1735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efe"/>
                    </a:solidFill>
                  </a:tcPr>
                </a:tc>
              </a:tr>
            </a:tbl>
          </a:graphicData>
        </a:graphic>
      </p:graphicFrame>
      <p:grpSp>
        <p:nvGrpSpPr>
          <p:cNvPr id="184" name="Group 1042"/>
          <p:cNvGrpSpPr/>
          <p:nvPr/>
        </p:nvGrpSpPr>
        <p:grpSpPr>
          <a:xfrm>
            <a:off x="6665760" y="5410080"/>
            <a:ext cx="1162080" cy="798480"/>
            <a:chOff x="6665760" y="5410080"/>
            <a:chExt cx="1162080" cy="798480"/>
          </a:xfrm>
        </p:grpSpPr>
        <p:sp>
          <p:nvSpPr>
            <p:cNvPr id="185" name="Line 1046"/>
            <p:cNvSpPr/>
            <p:nvPr/>
          </p:nvSpPr>
          <p:spPr>
            <a:xfrm>
              <a:off x="7132320" y="5427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45"/>
            <p:cNvSpPr/>
            <p:nvPr/>
          </p:nvSpPr>
          <p:spPr>
            <a:xfrm>
              <a:off x="6684840" y="61894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44"/>
            <p:cNvSpPr/>
            <p:nvPr/>
          </p:nvSpPr>
          <p:spPr>
            <a:xfrm flipH="1">
              <a:off x="7370640" y="5417640"/>
              <a:ext cx="457200" cy="7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43"/>
            <p:cNvSpPr/>
            <p:nvPr/>
          </p:nvSpPr>
          <p:spPr>
            <a:xfrm flipH="1">
              <a:off x="6665760" y="5410080"/>
              <a:ext cx="457200" cy="7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438280" y="2286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верка в парах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нт 1:          Вариант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                          1.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Б                           2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3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4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437920" y="228600"/>
            <a:ext cx="6597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217b"/>
                </a:solidFill>
                <a:latin typeface="Arial"/>
              </a:rPr>
              <a:t>«Знания по геометрии или умение пользоваться формулами необходимы каждом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217b"/>
                </a:solidFill>
                <a:latin typeface="Arial"/>
              </a:rPr>
              <a:t>                    </a:t>
            </a:r>
            <a:r>
              <a:rPr b="1" i="1" lang="ru-RU" sz="3200" spc="-1" strike="noStrike">
                <a:solidFill>
                  <a:srgbClr val="ff217b"/>
                </a:solidFill>
                <a:latin typeface="Arial"/>
              </a:rPr>
              <a:t>А.Н. Колмог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438280" y="2286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Творческое домашнее 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дсчитать, какая сумма денег необходима для ремонта комнаты (данные для расчетов взять в магазине, Интернете, спросить у родителей и т.д.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идумать и нарисовать в тетради свой рисунок мозаики для стеклянной дв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читать количество необходим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41:46Z</dcterms:created>
  <dc:creator>Admin</dc:creator>
  <dc:description/>
  <dc:language>en-US</dc:language>
  <cp:lastModifiedBy>Elena</cp:lastModifiedBy>
  <dcterms:modified xsi:type="dcterms:W3CDTF">2022-12-19T16:23:13Z</dcterms:modified>
  <cp:revision>11</cp:revision>
  <dc:subject/>
  <dc:title>Слайд 1</dc:title>
</cp:coreProperties>
</file>