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B13-DBD6-4D0F-A207-1092F569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6FF-1B7E-4EFC-941A-4151DAA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259-2DDF-4365-906E-BB9C8901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DAA-B4C5-41C2-B019-D1249115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613D-5C24-47C5-92CE-D277C462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67C3-E57B-464A-9D68-5B06B4A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1717-58F0-4814-8B2C-A46880EC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B4FD-A68A-4C8D-9BE8-522A190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32B1-3357-4C36-BDEB-EF1FDAD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B5A1-E06A-4504-A6F6-7D8568E3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A0E4-8191-4DF7-BBE8-73098EE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721-4A71-46CF-81E6-28FF8E9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C38A-3368-4BCF-A9B3-D32F95A2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5DB6-938F-456A-9680-EAA8FC74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A32F-83D6-442B-980F-284CC2E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1511-C109-4AA4-9316-258C4D81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669-D0E5-4CA8-BDC4-4D839FBF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BAB-5D04-426B-8BBA-CAF4B09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136-E031-4B1E-AE7D-C5B7A707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2CA-F942-46B2-9182-2F6C197B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7DC-8F66-4641-9ABE-8EFB0735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A7F-EC89-48C7-8082-75FED72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CDB-E8D7-40F7-8DB3-BCD7623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16F-AC36-4C48-848A-B4384C2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A09-B003-40D0-925B-8ADFD9934D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45FA-D023-45F5-97AE-C3E94C7B1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41/4125/412567/image2605.gif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orks.tarefer.ru/10/100266/pics/image004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ealth.mail.ru/pic/rls/30/P1_05_11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D:\&#1044;&#1054;&#1050;&#1048;\&#1050;&#1086;&#1085;&#1089;&#1087;&#1077;&#1082;&#1090;&#1099;\&#1041;&#1048;&#1054;&#1051;&#1054;&#1043;&#1048;&#1071;\&#1055;&#1088;&#1077;&#1079;&#1077;&#1085;&#1090;&#1072;&#1094;&#1080;&#1080;\23 &#1057;&#1086;&#1089;&#1090;&#1072;&#1074; &#1080; &#1089;&#1090;&#1088;&#1086;&#1077;&#1085;&#1080;&#1077; &#1082;&#1086;&#1089;&#1090;&#1080;\&#1056;&#1086;&#1089;&#1090; &#1082;&#1086;&#1089;&#1090;&#1077;&#1081;.mp4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троение, состав и соединение к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68212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0920" y="9360"/>
            <a:ext cx="871704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rcRect l="18098" t="27041" r="35634" b="30705"/>
          <a:stretch/>
        </p:blipFill>
        <p:spPr>
          <a:xfrm>
            <a:off x="-17640" y="333360"/>
            <a:ext cx="90410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Заголовок 1"/>
          <p:cNvSpPr/>
          <p:nvPr/>
        </p:nvSpPr>
        <p:spPr>
          <a:xfrm>
            <a:off x="250920" y="2852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ть как орган имеет общий план 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ее строение кости (форма, структура и характер развития) позволяет отнести ее к определенному тип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L02_p04_p03"/>
          <p:cNvPicPr/>
          <p:nvPr/>
        </p:nvPicPr>
        <p:blipFill>
          <a:blip r:embed="rId1"/>
          <a:stretch/>
        </p:blipFill>
        <p:spPr>
          <a:xfrm>
            <a:off x="611280" y="1844640"/>
            <a:ext cx="4537080" cy="325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564000" cy="5877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03280" y="5157720"/>
            <a:ext cx="3097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чат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кост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08000" y="115920"/>
            <a:ext cx="8928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, состоящий из костной ткани, хрящевой ткани, кровеносных сосудов и нервов и выполняющий функцию о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имический состав к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5" descr=""/>
          <p:cNvPicPr/>
          <p:nvPr/>
        </p:nvPicPr>
        <p:blipFill>
          <a:blip r:embed="rId1"/>
          <a:stretch/>
        </p:blipFill>
        <p:spPr>
          <a:xfrm>
            <a:off x="-55440" y="1212840"/>
            <a:ext cx="4572000" cy="16956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2"/>
          <a:stretch/>
        </p:blipFill>
        <p:spPr>
          <a:xfrm>
            <a:off x="4827600" y="1212840"/>
            <a:ext cx="403524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TextBox 7"/>
          <p:cNvGrpSpPr/>
          <p:nvPr/>
        </p:nvGrpSpPr>
        <p:grpSpPr>
          <a:xfrm>
            <a:off x="128520" y="3322800"/>
            <a:ext cx="3449880" cy="1938240"/>
            <a:chOff x="128520" y="3322800"/>
            <a:chExt cx="3449880" cy="1938240"/>
          </a:xfrm>
        </p:grpSpPr>
        <p:pic>
          <p:nvPicPr>
            <p:cNvPr id="92" name="TextBox 7" descr=""/>
            <p:cNvPicPr/>
            <p:nvPr/>
          </p:nvPicPr>
          <p:blipFill>
            <a:blip r:embed="rId3"/>
            <a:stretch/>
          </p:blipFill>
          <p:spPr>
            <a:xfrm>
              <a:off x="128520" y="3322800"/>
              <a:ext cx="34498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0920" y="3429000"/>
              <a:ext cx="3097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Соли кальция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фосфор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TextBox 8"/>
          <p:cNvGrpSpPr/>
          <p:nvPr/>
        </p:nvGrpSpPr>
        <p:grpSpPr>
          <a:xfrm>
            <a:off x="5595840" y="3322800"/>
            <a:ext cx="3462480" cy="1938240"/>
            <a:chOff x="5595840" y="3322800"/>
            <a:chExt cx="3462480" cy="1938240"/>
          </a:xfrm>
        </p:grpSpPr>
        <p:pic>
          <p:nvPicPr>
            <p:cNvPr id="95" name="TextBox 8" descr=""/>
            <p:cNvPicPr/>
            <p:nvPr/>
          </p:nvPicPr>
          <p:blipFill>
            <a:blip r:embed="rId4"/>
            <a:stretch/>
          </p:blipFill>
          <p:spPr>
            <a:xfrm>
              <a:off x="5595840" y="3322800"/>
              <a:ext cx="34624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51640" y="3429000"/>
              <a:ext cx="3352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Бел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Жи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Угле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Стрелка вниз 9"/>
          <p:cNvSpPr/>
          <p:nvPr/>
        </p:nvSpPr>
        <p:spPr>
          <a:xfrm rot="1991400">
            <a:off x="2252160" y="904680"/>
            <a:ext cx="381240" cy="436320"/>
          </a:xfrm>
          <a:prstGeom prst="down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10"/>
          <p:cNvSpPr/>
          <p:nvPr/>
        </p:nvSpPr>
        <p:spPr>
          <a:xfrm rot="19446600">
            <a:off x="6040440" y="904680"/>
            <a:ext cx="379440" cy="46332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11"/>
          <p:cNvSpPr/>
          <p:nvPr/>
        </p:nvSpPr>
        <p:spPr>
          <a:xfrm>
            <a:off x="1619280" y="2708280"/>
            <a:ext cx="380880" cy="6476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12"/>
          <p:cNvSpPr/>
          <p:nvPr/>
        </p:nvSpPr>
        <p:spPr>
          <a:xfrm>
            <a:off x="7236000" y="2708280"/>
            <a:ext cx="380880" cy="6476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TextBox 13"/>
          <p:cNvGrpSpPr/>
          <p:nvPr/>
        </p:nvGrpSpPr>
        <p:grpSpPr>
          <a:xfrm>
            <a:off x="195120" y="5516640"/>
            <a:ext cx="3206880" cy="750960"/>
            <a:chOff x="195120" y="5516640"/>
            <a:chExt cx="3206880" cy="750960"/>
          </a:xfrm>
        </p:grpSpPr>
        <p:pic>
          <p:nvPicPr>
            <p:cNvPr id="102" name="TextBox 13" descr=""/>
            <p:cNvPicPr/>
            <p:nvPr/>
          </p:nvPicPr>
          <p:blipFill>
            <a:blip r:embed="rId5"/>
            <a:stretch/>
          </p:blipFill>
          <p:spPr>
            <a:xfrm>
              <a:off x="195120" y="5516640"/>
              <a:ext cx="3206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0920" y="558972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Arial"/>
                </a:rPr>
                <a:t>Твер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xtBox 14"/>
          <p:cNvGrpSpPr/>
          <p:nvPr/>
        </p:nvGrpSpPr>
        <p:grpSpPr>
          <a:xfrm>
            <a:off x="6029280" y="5516640"/>
            <a:ext cx="3059280" cy="1116000"/>
            <a:chOff x="6029280" y="5516640"/>
            <a:chExt cx="3059280" cy="1116000"/>
          </a:xfrm>
        </p:grpSpPr>
        <p:pic>
          <p:nvPicPr>
            <p:cNvPr id="105" name="TextBox 14" descr=""/>
            <p:cNvPicPr/>
            <p:nvPr/>
          </p:nvPicPr>
          <p:blipFill>
            <a:blip r:embed="rId6"/>
            <a:stretch/>
          </p:blipFill>
          <p:spPr>
            <a:xfrm>
              <a:off x="6029280" y="5516640"/>
              <a:ext cx="3059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084720" y="5589720"/>
              <a:ext cx="29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Arial"/>
                </a:rPr>
                <a:t>Эластичность, упруг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Стрелка вниз 15"/>
          <p:cNvSpPr/>
          <p:nvPr/>
        </p:nvSpPr>
        <p:spPr>
          <a:xfrm>
            <a:off x="1547640" y="5084640"/>
            <a:ext cx="381240" cy="432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6"/>
          <p:cNvSpPr/>
          <p:nvPr/>
        </p:nvSpPr>
        <p:spPr>
          <a:xfrm>
            <a:off x="7308720" y="5084640"/>
            <a:ext cx="381240" cy="432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декальцинированная кость"/>
          <p:cNvPicPr/>
          <p:nvPr/>
        </p:nvPicPr>
        <p:blipFill>
          <a:blip r:embed="rId7"/>
          <a:stretch/>
        </p:blipFill>
        <p:spPr>
          <a:xfrm>
            <a:off x="2124000" y="2708280"/>
            <a:ext cx="50706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Картинка 32 из 231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4048200" cy="27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артинка 16 из 23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628640"/>
            <a:ext cx="337824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ый прямоугольник 5"/>
          <p:cNvSpPr/>
          <p:nvPr/>
        </p:nvSpPr>
        <p:spPr>
          <a:xfrm>
            <a:off x="395280" y="189000"/>
            <a:ext cx="38894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ое вещество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4716360" y="189000"/>
            <a:ext cx="3888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бчатое вещество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79280" y="4508640"/>
            <a:ext cx="4105440" cy="18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еет пластинчатое строение, напоминающее систему вставленных друг в друга цилиндр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788000" y="4508640"/>
            <a:ext cx="4105080" cy="18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ано очень тонкими костными перекладинами, ориентированными параллельно линиям основных напря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кроскопическое строение 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а 206 из 58088">
            <a:hlinkClick r:id="rId1"/>
          </p:cNvPr>
          <p:cNvPicPr/>
          <p:nvPr/>
        </p:nvPicPr>
        <p:blipFill>
          <a:blip r:embed="rId2"/>
          <a:srcRect l="0" t="0" r="58074" b="0"/>
          <a:stretch/>
        </p:blipFill>
        <p:spPr>
          <a:xfrm>
            <a:off x="4500720" y="1773360"/>
            <a:ext cx="1871640" cy="4419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250920" y="1844640"/>
            <a:ext cx="2665440" cy="79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ка трубчат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250920" y="285264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50920" y="3789360"/>
            <a:ext cx="2665440" cy="71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актное ве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250920" y="566100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250920" y="472428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ны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9"/>
          <p:cNvSpPr/>
          <p:nvPr/>
        </p:nvSpPr>
        <p:spPr>
          <a:xfrm>
            <a:off x="3059280" y="2060640"/>
            <a:ext cx="2808000" cy="1443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10"/>
          <p:cNvSpPr/>
          <p:nvPr/>
        </p:nvSpPr>
        <p:spPr>
          <a:xfrm rot="20860800">
            <a:off x="3051000" y="3000240"/>
            <a:ext cx="2227320" cy="1461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1"/>
          <p:cNvSpPr/>
          <p:nvPr/>
        </p:nvSpPr>
        <p:spPr>
          <a:xfrm rot="20071200">
            <a:off x="2908440" y="3576600"/>
            <a:ext cx="2770200" cy="168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2"/>
          <p:cNvSpPr/>
          <p:nvPr/>
        </p:nvSpPr>
        <p:spPr>
          <a:xfrm rot="19949400">
            <a:off x="2901600" y="4355640"/>
            <a:ext cx="2496960" cy="1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3"/>
          <p:cNvSpPr/>
          <p:nvPr/>
        </p:nvSpPr>
        <p:spPr>
          <a:xfrm rot="19901400">
            <a:off x="2869920" y="5338440"/>
            <a:ext cx="2563560" cy="155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ост кост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844280"/>
            <a:ext cx="8712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ли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 счет деления хрящевой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олщи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 счет деления клеток надкост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фильм 4">
            <a:hlinkClick r:id="rId1"/>
          </p:cNvPr>
          <p:cNvSpPr/>
          <p:nvPr/>
        </p:nvSpPr>
        <p:spPr>
          <a:xfrm>
            <a:off x="7885080" y="609300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7301"/>
                </a:moveTo>
                <a:lnTo>
                  <a:pt x="19116" y="7301"/>
                </a:lnTo>
                <a:lnTo>
                  <a:pt x="19499" y="7667"/>
                </a:lnTo>
                <a:lnTo>
                  <a:pt x="28708" y="7667"/>
                </a:lnTo>
                <a:lnTo>
                  <a:pt x="29265" y="8224"/>
                </a:lnTo>
                <a:lnTo>
                  <a:pt x="29265" y="8772"/>
                </a:lnTo>
                <a:lnTo>
                  <a:pt x="31110" y="8772"/>
                </a:lnTo>
                <a:lnTo>
                  <a:pt x="31476" y="8224"/>
                </a:lnTo>
                <a:lnTo>
                  <a:pt x="32215" y="8224"/>
                </a:lnTo>
                <a:lnTo>
                  <a:pt x="32215" y="13376"/>
                </a:lnTo>
                <a:lnTo>
                  <a:pt x="31476" y="13376"/>
                </a:lnTo>
                <a:lnTo>
                  <a:pt x="31110" y="12828"/>
                </a:lnTo>
                <a:lnTo>
                  <a:pt x="29265" y="12828"/>
                </a:lnTo>
                <a:lnTo>
                  <a:pt x="29265" y="14107"/>
                </a:lnTo>
                <a:lnTo>
                  <a:pt x="19682" y="14107"/>
                </a:lnTo>
                <a:lnTo>
                  <a:pt x="19682" y="9877"/>
                </a:lnTo>
                <a:lnTo>
                  <a:pt x="19499" y="9877"/>
                </a:lnTo>
                <a:lnTo>
                  <a:pt x="19116" y="10243"/>
                </a:lnTo>
                <a:lnTo>
                  <a:pt x="18203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3"/>
          <p:cNvSpPr/>
          <p:nvPr/>
        </p:nvSpPr>
        <p:spPr>
          <a:xfrm>
            <a:off x="1042920" y="2708280"/>
            <a:ext cx="2665440" cy="86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сти кисти и ст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5219640" y="2708280"/>
            <a:ext cx="26654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лечевая, локтевая, берцо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5"/>
          <p:cNvCxnSpPr/>
          <p:nvPr/>
        </p:nvCxnSpPr>
        <p:spPr>
          <a:xfrm flipH="1">
            <a:off x="2986920" y="2059560"/>
            <a:ext cx="1513800" cy="57708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cxnSp>
        <p:nvCxnSpPr>
          <p:cNvPr id="134" name="Прямая со стрелкой 6"/>
          <p:cNvCxnSpPr/>
          <p:nvPr/>
        </p:nvCxnSpPr>
        <p:spPr>
          <a:xfrm>
            <a:off x="4500360" y="2060280"/>
            <a:ext cx="1656360" cy="57708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7"/>
          <p:cNvSpPr/>
          <p:nvPr/>
        </p:nvSpPr>
        <p:spPr>
          <a:xfrm flipH="1">
            <a:off x="4427280" y="1413000"/>
            <a:ext cx="73080" cy="2952720"/>
          </a:xfrm>
          <a:prstGeom prst="line">
            <a:avLst/>
          </a:prstGeom>
          <a:ln w="3816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8"/>
          <p:cNvCxnSpPr/>
          <p:nvPr/>
        </p:nvCxnSpPr>
        <p:spPr>
          <a:xfrm flipH="1">
            <a:off x="2916000" y="4364640"/>
            <a:ext cx="1512000" cy="71964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4427280" y="4365360"/>
            <a:ext cx="1657800" cy="64836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0"/>
          <p:cNvSpPr/>
          <p:nvPr/>
        </p:nvSpPr>
        <p:spPr>
          <a:xfrm>
            <a:off x="1116000" y="5084640"/>
            <a:ext cx="287964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опатка, кости бедра, чере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1"/>
          <p:cNvSpPr/>
          <p:nvPr/>
        </p:nvSpPr>
        <p:spPr>
          <a:xfrm>
            <a:off x="5292720" y="5013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сти верхних, нижних конечн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2"/>
          <p:cNvSpPr/>
          <p:nvPr/>
        </p:nvSpPr>
        <p:spPr>
          <a:xfrm>
            <a:off x="2411280" y="476280"/>
            <a:ext cx="417672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2771640" y="1628640"/>
            <a:ext cx="360072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д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2771640" y="3933720"/>
            <a:ext cx="3600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о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9"/>
          <p:cNvSpPr/>
          <p:nvPr/>
        </p:nvSpPr>
        <p:spPr>
          <a:xfrm>
            <a:off x="1979640" y="401760"/>
            <a:ext cx="5114880" cy="71892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ы соединения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141800" y="1049400"/>
            <a:ext cx="0" cy="107928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1836720" y="2128680"/>
            <a:ext cx="5111640" cy="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948360" y="212868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1836720" y="212868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684360" y="2852640"/>
            <a:ext cx="223200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132000" y="2849400"/>
            <a:ext cx="237492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5653080" y="2849400"/>
            <a:ext cx="237492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4068720" y="3352680"/>
            <a:ext cx="0" cy="57780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>
            <a:off x="3421080" y="3929040"/>
            <a:ext cx="1295280" cy="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3421080" y="3929040"/>
            <a:ext cx="0" cy="43200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4716360" y="3929040"/>
            <a:ext cx="0" cy="43200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1474920" y="4361040"/>
            <a:ext cx="21621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2268360" y="522612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1476360" y="43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3780000" y="436104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3851280" y="4365720"/>
            <a:ext cx="1725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вон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6084720" y="3713040"/>
            <a:ext cx="23050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6084720" y="5297400"/>
            <a:ext cx="230364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84720" y="5945040"/>
            <a:ext cx="2303640" cy="50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7021440" y="421812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7091280" y="5802480"/>
            <a:ext cx="0" cy="215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5942160" y="37861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з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9"/>
          <p:cNvSpPr/>
          <p:nvPr/>
        </p:nvSpPr>
        <p:spPr>
          <a:xfrm>
            <a:off x="6443640" y="5373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6084720" y="6093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еностоп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7021440" y="33526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4"/>
          <p:cNvSpPr/>
          <p:nvPr/>
        </p:nvSpPr>
        <p:spPr>
          <a:xfrm>
            <a:off x="6084720" y="4505400"/>
            <a:ext cx="230364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5"/>
          <p:cNvSpPr/>
          <p:nvPr/>
        </p:nvSpPr>
        <p:spPr>
          <a:xfrm>
            <a:off x="608472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еч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9"/>
          <p:cNvSpPr/>
          <p:nvPr/>
        </p:nvSpPr>
        <p:spPr>
          <a:xfrm>
            <a:off x="4141800" y="20574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>
            <a:off x="7021440" y="5081760"/>
            <a:ext cx="0" cy="215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6950160" y="220176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1836720" y="220176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1"/>
          <p:cNvSpPr/>
          <p:nvPr/>
        </p:nvSpPr>
        <p:spPr>
          <a:xfrm>
            <a:off x="7021440" y="34257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4141800" y="213048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7021440" y="4289400"/>
            <a:ext cx="0" cy="28728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6950160" y="2273400"/>
            <a:ext cx="0" cy="5745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1836720" y="2273400"/>
            <a:ext cx="0" cy="5745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1"/>
          <p:cNvSpPr/>
          <p:nvPr/>
        </p:nvSpPr>
        <p:spPr>
          <a:xfrm>
            <a:off x="7021440" y="3497400"/>
            <a:ext cx="0" cy="3603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9"/>
          <p:cNvSpPr/>
          <p:nvPr/>
        </p:nvSpPr>
        <p:spPr>
          <a:xfrm>
            <a:off x="4141800" y="2201760"/>
            <a:ext cx="0" cy="863640"/>
          </a:xfrm>
          <a:prstGeom prst="line">
            <a:avLst/>
          </a:prstGeom>
          <a:ln w="5724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468360" y="3789360"/>
            <a:ext cx="23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сти черепа и т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1835280" y="3357720"/>
            <a:ext cx="0" cy="431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соединения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Рисунок4"/>
          <p:cNvPicPr/>
          <p:nvPr/>
        </p:nvPicPr>
        <p:blipFill>
          <a:blip r:embed="rId1"/>
          <a:stretch/>
        </p:blipFill>
        <p:spPr>
          <a:xfrm>
            <a:off x="108000" y="115920"/>
            <a:ext cx="889164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2-11-17T16:00:08Z</dcterms:modified>
  <cp:revision>904</cp:revision>
  <dc:subject/>
  <dc:title>Diapositiva 1</dc:title>
</cp:coreProperties>
</file>