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950-BD1A-479B-B8BE-D37E49DD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3D8-9055-409D-8E05-8FEBCA93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992-1C24-4F60-AC34-0DC58E65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CE0-75FD-43DB-9F88-A1DAB213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006B-1DC6-40BB-904B-F77295B0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D2AE-1B15-475C-ADFA-392287EB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C009-90D3-4A83-9C18-4995475F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90F5-65A0-40C4-AFF7-D47A9487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25A2-BB33-4C1C-A822-E34CED42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98BE-6E40-4BB0-813B-5E399D28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99DE-A2A7-47CE-8021-BFEC97CF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28E-1A1C-4FC9-A82E-1C86C38A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81DA-04CD-47EE-9F1E-8112E8DA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5B2B-AF6C-448E-B142-6E34457B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389A-67DB-4FC4-86B9-B33C5AAD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971C-7A33-43D0-8601-12A91E5E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55D2-010C-4004-BD2F-C17F0155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7D888-E26B-4728-9BFB-54C9E907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DAC2C-8943-4B7E-B305-A93B1D0A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16548-FBE4-45C7-B9BF-98CBC15F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355C-F60B-4283-9EAA-EBDEEF20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0B574-B921-47B2-B74D-28F0CB24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B8E-74C6-451D-9BA8-CF7F4A1A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4FB2-F649-4EEC-9054-3A23D7D0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4180-4A67-4CA0-9C63-438D9867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CF20E-DA44-469A-A814-2A573384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B2DC-0A4D-4BE5-976F-31DD4D78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ED587-B34B-480D-B49C-5741F8A9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517F-1DB5-4A67-98DA-D40F868A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100F-8B9F-41D9-8D0D-F0612F5B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42F52-50B7-4317-BF97-5F610E08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97C63-C2FB-4EAB-94AB-F5710875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F2EBC-4236-4CC3-8F53-CA9F4897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767-5961-480D-8417-09295878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CBECD-2D9F-4BC7-8CC9-BD749F4E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AF98B-E9DC-4686-95BC-634B7D18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C6041-1710-4B86-9DA0-1ACFB6BC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AB81C-F3E8-49A8-9514-DBF20346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A5B29-9022-46CF-A699-AEE5581B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AF461-980B-4432-95DB-C4B4AF79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C36FD-70A1-476F-9538-FB11951E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AF305-4D54-484A-9843-40DBF543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0D748-D55F-453E-A2D9-7A847D40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38ECA-AFFC-4B4A-9D80-CF332138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296-7AE7-4B6C-983E-BFA831D4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BF9F0-7FEE-43B3-97F1-1EE8DB25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9C55F-B93F-4D41-A7EE-7CD23547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51835-98FC-43F3-AC83-A6B8B034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D6FD4-56D6-4C3C-BC10-5BD5B336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8150A-5025-4F60-939A-9A5ADC61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E5DB6-25A4-4131-B967-17C77E64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ADD34-0043-4E20-8408-52F41928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56CF6-01AA-48A3-AAB9-4ACE97ED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22463-35AD-442D-A631-A6AF5038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0183B-0691-4941-8E81-E3850D54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650-1BEA-4F24-8CE5-04E8B8D6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6C6A4-11AD-4FD4-940C-41F91A87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45C-ACB6-44F3-9F9A-7CBB7B2F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868-14F7-4122-AE1F-3653C7F7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F84-FA9D-4094-AF49-300BE275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2B5F-8DC7-4D3A-837A-D7AFD0688C3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B24C-5457-4287-96B7-BE2B784E17C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A5BB-1047-4F90-BFA4-DF3752793A8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8572-1D27-40A9-8BDB-7769C40F79E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B770-2BD8-448B-A9AC-98F4419E407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1;&#1089;&#1089;&#1082;&#1080;&#1077;_&#1089;&#1082;&#1072;&#1079;&#1082;&#1080;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73;&#1072;-&#1071;&#1075;&#1072;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2;&#1083;&#1080;&#1074;" TargetMode="External"/><Relationship Id="rId2" Type="http://schemas.openxmlformats.org/officeDocument/2006/relationships/hyperlink" Target="http://ru.wikipedia.org/wiki/&#1041;&#1091;&#1093;&#1090;&#1072;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26596055_1212756189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2"/>
          <a:stretch/>
        </p:blipFill>
        <p:spPr>
          <a:xfrm>
            <a:off x="-201600" y="4406760"/>
            <a:ext cx="96868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-8280"/>
            <a:ext cx="83739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ткуда взялся дуб?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4" name="Объект 6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932200" cy="4525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3419280" y="691920"/>
            <a:ext cx="554508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«И там я был, и мед я пил; У моря видел дуб зеленый…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утешествуя по Приднепровско-Азовской степи во время южной ссылки, Пушкин мог от старожил услышать легенду о знаменитом Запорожском дубе, который рос на острове Хортиц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Объект 4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55450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052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Герои. Кот Баюн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8" name="Объект 4" descr=""/>
          <p:cNvPicPr/>
          <p:nvPr/>
        </p:nvPicPr>
        <p:blipFill>
          <a:blip r:embed="rId1"/>
          <a:stretch/>
        </p:blipFill>
        <p:spPr>
          <a:xfrm>
            <a:off x="0" y="206064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780000" y="764640"/>
            <a:ext cx="536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т Баюн — персонаж русских волшебных сказок, огромный кот-людоед, обладающий волшебным голосом. Он заговаривает и усыпляет своими сказками подошедших путнико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о тот, кто сможет словить Кота, найдёт спасение от всех болезней и недугов — сказки Баюна целебн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Кот Баюн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62064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амо по себе слово баюн означает «говорун, рассказчик, краснобай», от глагола баять — «рассказывать, говорить» (ср. также глаголы баюкать, убаюкивать в значении «усыплять»). В сказках говорится о том, что Баюн сидит на высоком, обычно железном столбе. Обитает Кот за тридевять земель в тридесятом царстве или в безжизненном мёртвом лесу, где нет ни птиц, ни зверей. В одной из сказок он проживал у Бабы-Яг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т Баюн наделен голосом, который слышно за семь верст, как замурлыкает, так напустит заколдованный сон, который и не отличишь от смерти. В сказках главному действующему персонажу дают задание изловить Кота, как правило, такие задания давали с целью сгубить доброго молодца. Встреча с этим сказочным чудовищем грозила неминуемой смертью. Чтобы захватить волшебного Кота, герой надевает железный колпак и железные рукавиц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Объект 3" descr=""/>
          <p:cNvPicPr/>
          <p:nvPr/>
        </p:nvPicPr>
        <p:blipFill>
          <a:blip r:embed="rId1"/>
          <a:stretch/>
        </p:blipFill>
        <p:spPr>
          <a:xfrm>
            <a:off x="1187280" y="0"/>
            <a:ext cx="619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1116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 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«Пойди туда, не знаю куда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764640"/>
            <a:ext cx="9252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… пришел Андрей-стрелок в тридесятое царство. За три версты стал его одолевать сон. Надевает Андрей на голову три колпака железных, руку за руку закидывает, ногу за ногу волочит — идёт, а где и катком катится. Кое-как выдержал дремоту и очутился у высокого столб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от Баюн увидел Андрея, заворчал, зауркал да со столба прыг ему на голову — один колпак разбил и другой разбил, взялся было за третий. Тут Андрей-стрелок ухватил кота клещами, сволок наземь и давай оглаживать прутьями. Наперво сёк железным прутом; изломал железный, принялся угощать медным — и этот изломал и принялся бить оловянным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0" y="115560"/>
            <a:ext cx="903600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ловянный прут гнется, не ломится, вокруг хребта обвивается. Андрей бьёт, а кот Баюн начал сказки рассказывать: про попов, про дьяков, про поповых дочерей. Андрей его не слушает, знай охаживает прутом. Невмоготу стало коту, видит, что заговорить нельзя, он и взмолился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кинь меня, добрый человек! Что надо, всё тебе сделаю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 пойдёшь со мной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уда хочешь пойду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ндрей пошел в обратный путь и кота за собой повёл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518040" y="571680"/>
            <a:ext cx="809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усалка — мифологическое и фольклорное суще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еимущественно женского пола, связанное с водоё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2" descr="tmpgxVu5I_html_58ff031d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395280" y="189000"/>
            <a:ext cx="8161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Ле́ший — хозяин леса. Частый персонаж </a:t>
            </a:r>
            <a:r>
              <a:rPr b="0" lang="ru-RU" sz="20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русских сказок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ругие названия: лесовик, лесник, лешак, лесной дядя, лисун (полисун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икий мужичок и даже лес. Место жительства духа — глухая лесная чащоб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о иногда и пусты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2" descr="1334740879_leshiy.jpg"/>
          <p:cNvPicPr/>
          <p:nvPr/>
        </p:nvPicPr>
        <p:blipFill>
          <a:blip r:embed="rId2"/>
          <a:stretch/>
        </p:blipFill>
        <p:spPr>
          <a:xfrm>
            <a:off x="2987640" y="1989000"/>
            <a:ext cx="58579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611280" y="260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збу́шка на ку́рьих но́жках — жилище персонажа русских сказок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Бабы-Яги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 — стояла на двух огромных куриных ногах, которые поворачив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збушку по первому требованию доброго молодца («Избушка, избуш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вернись ко мне передом, к лесу — задом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1" descr=""/>
          <p:cNvPicPr/>
          <p:nvPr/>
        </p:nvPicPr>
        <p:blipFill>
          <a:blip r:embed="rId2"/>
          <a:stretch/>
        </p:blipFill>
        <p:spPr>
          <a:xfrm>
            <a:off x="2050920" y="1641600"/>
            <a:ext cx="6788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1255898505_verkhovikh-dub.jpg"/>
          <p:cNvPicPr/>
          <p:nvPr/>
        </p:nvPicPr>
        <p:blipFill>
          <a:blip r:embed="rId1"/>
          <a:stretch/>
        </p:blipFill>
        <p:spPr>
          <a:xfrm>
            <a:off x="785880" y="2142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1810440" y="6000840"/>
            <a:ext cx="57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эма «Руслан и Людмила» была написана в 1820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1" descr="c1906b87f851.jpg"/>
          <p:cNvPicPr/>
          <p:nvPr/>
        </p:nvPicPr>
        <p:blipFill>
          <a:blip r:embed="rId1"/>
          <a:stretch/>
        </p:blipFill>
        <p:spPr>
          <a:xfrm>
            <a:off x="357120" y="571680"/>
            <a:ext cx="835812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2" descr="1246282696_0041.jpg"/>
          <p:cNvPicPr/>
          <p:nvPr/>
        </p:nvPicPr>
        <p:blipFill>
          <a:blip r:embed="rId1"/>
          <a:stretch/>
        </p:blipFill>
        <p:spPr>
          <a:xfrm>
            <a:off x="714240" y="142920"/>
            <a:ext cx="76438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спомним сказку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5" name="Объект 3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40402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57975728_3645225172.jpg"/>
          <p:cNvPicPr/>
          <p:nvPr/>
        </p:nvPicPr>
        <p:blipFill>
          <a:blip r:embed="rId1"/>
          <a:stretch/>
        </p:blipFill>
        <p:spPr>
          <a:xfrm>
            <a:off x="428760" y="285840"/>
            <a:ext cx="3871800" cy="607212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" descr="Tam-tsar-Kashhey-nad-zlatom-chahnet.jpg"/>
          <p:cNvPicPr/>
          <p:nvPr/>
        </p:nvPicPr>
        <p:blipFill>
          <a:blip r:embed="rId2"/>
          <a:stretch/>
        </p:blipFill>
        <p:spPr>
          <a:xfrm>
            <a:off x="4429080" y="285840"/>
            <a:ext cx="4254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Объясните лексическое знач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267920"/>
            <a:ext cx="82184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Мимоходом – по пути, проходя мимо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ленять – ловить, лишать свободы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50560" y="47592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В основе сказочного, волшебного мира Лукоморья – необычное и забавное, страшное и чудесное, печальное и смешное, вымыслы и небылицы в сочетании с обыденным и привычным.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В этом мире герои народных сказок живут привычной для них сказочной жизнью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Выпишите из текста эпитеты и определите, с какой целью их использовал  автор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24000" y="189000"/>
            <a:ext cx="8496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Пушкин  использует в поэме старославянские по происхождению слова, например: златая, брег, чреда, злато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Каким словам в современном русском языке они соответствуют?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бъясните значения родственных слов. Найдите в них общий корень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79280" y="1341360"/>
            <a:ext cx="896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Злато, позолота, позлащённый, золотить, золотой;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Брег, побережье, прибрежный.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Чем объясняется, что в некоторых строках появляются устаревшие слова, не употребляющиеся в обычной речи: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Дол, брег, чредой? Какой становится нарисованная поэтом картина? 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Как относится автор к изображённому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акое значение приобретает восклицание: «Там русский дух…там Русью пахнет!»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акой смысл приобретают финальные строчки пролога?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2" descr="f_4c6e37c91b75a.jpg"/>
          <p:cNvPicPr/>
          <p:nvPr/>
        </p:nvPicPr>
        <p:blipFill>
          <a:blip r:embed="rId1"/>
          <a:stretch/>
        </p:blipFill>
        <p:spPr>
          <a:xfrm>
            <a:off x="179280" y="27000"/>
            <a:ext cx="88567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23640" y="333360"/>
            <a:ext cx="82753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егодня на уроке я узнал(а)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Было трудно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У меня получилось 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Особенно понравилось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Нужно выучить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1341000"/>
            <a:ext cx="82915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дготовить сообщения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 ряд – «историка» – «Значение Бородинского сражения в Отечественной войне 1812 года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 ряд – «искусствоведа» – «Бородинское сражение и его герои в изобразительном искусстве (слайдовая презентация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 ряд – «литературоведа» – «Прототипы героев стихотворения М.Ю. Лермонтова «Бородино»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пасибо за внимание! 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Рисунок 2" descr="d183-d0bbd183d0bad0bed0bcd0bed180d18cd18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3" descr="skaz15.jpg"/>
          <p:cNvPicPr/>
          <p:nvPr/>
        </p:nvPicPr>
        <p:blipFill>
          <a:blip r:embed="rId1"/>
          <a:stretch/>
        </p:blipFill>
        <p:spPr>
          <a:xfrm>
            <a:off x="108000" y="115920"/>
            <a:ext cx="8712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ролог к поэме «Руслан и Людмила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лог – это вступительная часть литературного или музыкального произвед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лог  к поэме был написан ко второму изданию, которое было опубликовано через 8 лет после первого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745920" y="642960"/>
            <a:ext cx="81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Лукомо́рье — морской 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залив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, 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бухта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, изгиб морского бер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2" descr="123822454749cdcea346ab5-2.jpg"/>
          <p:cNvPicPr/>
          <p:nvPr/>
        </p:nvPicPr>
        <p:blipFill>
          <a:blip r:embed="rId3"/>
          <a:stretch/>
        </p:blipFill>
        <p:spPr>
          <a:xfrm>
            <a:off x="1143000" y="1285920"/>
            <a:ext cx="6993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ткуда появилось Лукоморье у Пушкина?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з сказок няни Арины Родионовн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Лукоморье есть в «Слове о полку Игореве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 Лукоморье в «Слове» сказано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А Кобяка изъ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луку моря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т желъзных великыхъ плъковъ половецкыхъ яко вихръ, выторже: и падеся Кобякъ въ градѣ Киевѣ, в гридницѣ Святъславли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летописи сообщалось, что русские постоянно сталкивались с кочевниками в южной степи: «юкоже преже в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луцѣ морА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быю хусА с ними крѣпко»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50560" y="333000"/>
            <a:ext cx="8713800" cy="62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mbria"/>
              </a:rPr>
              <a:t>Обитателями Лукоморья по летописям были половцы, с которыми киевские князья постоянно враждовали. Лукоморьем же называлась территория Северного Приазовья. </a:t>
            </a: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mbria"/>
              </a:rPr>
              <a:t>Лукоморьем (которое воспел Пушкин) называлась излучина между нижним течением Днепра и Азовским морем. </a:t>
            </a: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2" name="Объект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5332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fee</dc:creator>
  <dc:description/>
  <dc:language>en-US</dc:language>
  <cp:lastModifiedBy>Lafee</cp:lastModifiedBy>
  <dcterms:modified xsi:type="dcterms:W3CDTF">2022-11-17T16:20:25Z</dcterms:modified>
  <cp:revision>50</cp:revision>
  <dc:subject/>
  <dc:title>Слайд 1</dc:title>
</cp:coreProperties>
</file>