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F97-5552-4589-B182-4C9B1072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BED-D3DB-4115-9C22-24F68542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BD4-0955-4A46-A06D-9C6A1D51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C6F-5EC9-40C2-A0FF-31B3545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5DB-EFAF-41AE-8541-D0B8D744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38F9-3306-4D3F-BCEA-2E2637E9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0FE-14FD-4E61-83B2-02F41DE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0BB8-2DD8-4716-A030-C30674DD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70A-09AD-4E3A-B60D-E147179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5BF6-0A12-4FC7-9EE6-E77E37BE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6307-4388-41E7-8C6A-B5478B1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C33-7E2C-425D-99E2-9E3FEC8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0B0-9152-4864-A92A-6B19817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2150-BB35-43C6-A914-F4CDD70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E1F1-6D50-4335-9F75-A057A18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EDB6-22AB-4C49-BC6D-83183BD7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6E3-13BD-467A-8814-87B34EB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DFE5-078F-47AD-A055-5727897F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077F-15A8-4AE5-BBCC-31B521E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AA5B-C8B9-4DA9-8ACA-D526648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5BCD-ED8C-4F38-8D33-0229C69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CBCF-4A59-41B0-826D-F4A2EE1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32B-61C7-49D4-98F6-AF4241B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E762-1B2D-438C-B609-C05FA6AC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C5B8-1B0E-4D5A-A9C3-EECFF63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A2C3-AA11-4375-A00E-E1B45DD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3126-EF60-4330-8319-EF1AD51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B2A2-EB06-4654-A0FA-5858E46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7759-5EB6-4B89-AA4C-CCF8731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0D3D-A800-4F3E-B997-1D67714A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96B3-AB6C-4C5F-B538-7DEA9334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3AD8-1803-4B4D-8DF0-DADFE15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DD597-5EAF-4549-9BB7-DA1ADFB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CD2-0BBB-4793-8AFB-7EFAAB2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C801-6C5F-478F-BFF2-F789590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C5B8-EA69-4A3B-9620-12BA763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280D-BE5F-4267-B4B6-F5789EA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54D2-30B6-4ADB-AFEC-4135C67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62B7-C8F9-4E4D-B4F5-F12C3FD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D3DF-20A0-4EF7-88AA-7438A61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3A6A-16F0-49B8-BAAF-C6B6DD8D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6CA2-E7F5-4254-A6A9-2B4B03C0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BFB1-6F7E-46B1-9CB9-3652ACE3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F1CE-9216-4C9E-8E04-58F0A7D8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964-AD19-4F68-AC59-1E8C45C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8712-FA15-4DA5-A1ED-4FC2AC4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ADAC-E80E-4DDC-8B14-84D1F09A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3C63-37D5-4DD3-8B55-517C795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D3E0-138B-4A85-8CAD-15CD209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7EBA0-DB1B-47EA-895E-24914DB8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EDC1-A1C1-49A6-BE94-362B526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2009-FE81-4E88-A127-BE73745A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A3F5-9CC7-4802-85E3-F7D91B3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B466-AB04-4192-95F4-041F0B3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C2C3-E2BD-4E70-95B3-621A72D9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934-635B-4616-BEBD-88CD779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3BE2-233D-4177-84EC-0DE90277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325-D791-4BEC-A7CD-35649BF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128-816F-4362-9280-31ABE08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617-3BCE-4E2A-9431-1BB3C97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311B-85E7-4369-A928-D5CD0E0CE7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41D-4616-46BA-9211-6BC7C37E04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D146-DCA1-4DA5-87AA-04014E8D35F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823D-50C2-4384-AB06-6BE19C456B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F375-8C38-409F-9E15-44AB2928EE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_&#1089;&#1082;&#1072;&#1079;&#1082;&#1080;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73;&#1072;-&#1071;&#1075;&#1072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3;&#1080;&#1074;" TargetMode="External"/><Relationship Id="rId2" Type="http://schemas.openxmlformats.org/officeDocument/2006/relationships/hyperlink" Target="http://ru.wikipedia.org/wiki/&#1041;&#1091;&#1093;&#1090;&#1072;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26596055_1212756189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-201600" y="4406760"/>
            <a:ext cx="968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-8280"/>
            <a:ext cx="8373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взялся дуб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9322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419280" y="691920"/>
            <a:ext cx="554508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И там я был, и мед я пил; У моря видел дуб зеленый…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утешествуя по Приднепровско-Азовской степи во время южной ссылки, Пушкин мог от старожил услышать легенду о знаменитом Запорожском дубе, который рос на острове Хортиц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Объект 4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545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052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Герои. Кот Баюн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Объект 4" descr=""/>
          <p:cNvPicPr/>
          <p:nvPr/>
        </p:nvPicPr>
        <p:blipFill>
          <a:blip r:embed="rId1"/>
          <a:stretch/>
        </p:blipFill>
        <p:spPr>
          <a:xfrm>
            <a:off x="0" y="206064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780000" y="764640"/>
            <a:ext cx="536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т Баюн — персонаж русских волшебных сказок, огромный кот-людоед, обладающий волшебным голосом. Он заговаривает и усыпляет своими сказками подошедших пут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о тот, кто сможет словить Кота, найдёт спасение от всех болезней и недугов — сказки Баюна целеб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от Баюн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о по себе слово баюн означает «говорун, рассказчик, краснобай», от глагола баять — «рассказывать, говорить» (ср. также глаголы баюкать, убаюкивать в значении «усыплять»). В сказках говорится о том, что Баюн сидит на высоком, обычно железном столбе. Обитает Кот за тридевять земель в тридесятом царстве или в безжизненном мёртвом лесу, где нет ни птиц, ни зверей. В одной из сказок он проживал у Бабы-Яг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т Баюн наделен голосом, который слышно за семь верст, как замурлыкает, так напустит заколдованный сон, который и не отличишь от смерти. В сказках главному действующему персонажу дают задание изловить Кота, как правило, такие задания давали с целью сгубить доброго молодца. Встреча с этим сказочным чудовищем грозила неминуемой смертью. Чтобы захватить волшебного Кота, герой надевает железный колпак и железные рукавиц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111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«Пойди туда, не знаю куд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764640"/>
            <a:ext cx="9252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… пришел Андрей-стрелок в тридесятое царство. За три версты стал его одолевать сон. Надевает Андрей на голову три колпака железных, руку за руку закидывает, ногу за ногу волочит — идёт, а где и катком катится. Кое-как выдержал дремоту и очутился у высокого столб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т Баюн увидел Андрея, заворчал, зауркал да со столба прыг ему на голову — один колпак разбил и другой разбил, взялся было за третий. Тут Андрей-стрелок ухватил кота клещами, сволок наземь и давай оглаживать прутьями. Наперво сёк железным прутом; изломал железный, принялся угощать медным — и этот изломал и принялся бить оловянны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115560"/>
            <a:ext cx="9036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ловянный прут гнется, не ломится, вокруг хребта обвивается. Андрей бьёт, а кот Баюн начал сказки рассказывать: про попов, про дьяков, про поповых дочерей. Андрей его не слушает, знай охаживает прутом. Невмоготу стало коту, видит, что заговорить нельзя, он и взмолилс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кинь меня, добрый человек! Что надо, всё тебе сдела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 пойдёшь со мной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да хочешь пойду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ндрей пошел в обратный путь и кота за собой повёл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518040" y="571680"/>
            <a:ext cx="80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усалка — мифологическое и фольклорное с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имущественно женского пола, связанное с водоё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tmpgxVu5I_html_58ff031d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95280" y="189000"/>
            <a:ext cx="816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е́ший — хозяин леса. Частый персонаж 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усских сказок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ругие названия: лесовик, лесник, лешак, лесной дядя, лисун (полисун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икий мужичок и даже лес. Место жительства духа — глухая лесная чащо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о иногда и пус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1334740879_leshiy.jpg"/>
          <p:cNvPicPr/>
          <p:nvPr/>
        </p:nvPicPr>
        <p:blipFill>
          <a:blip r:embed="rId2"/>
          <a:stretch/>
        </p:blipFill>
        <p:spPr>
          <a:xfrm>
            <a:off x="2987640" y="1989000"/>
            <a:ext cx="5857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611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́шка на ку́рьих но́жках — жилище персонажа русских сказок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абы-Яги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— стояла на двух огромных куриных ногах, которые поворачи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збушку по первому требованию доброго молодца («Избушка, избу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вернись ко мне передом, к лесу — задом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2"/>
          <a:stretch/>
        </p:blipFill>
        <p:spPr>
          <a:xfrm>
            <a:off x="2050920" y="1641600"/>
            <a:ext cx="678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1255898505_verkhovikh-dub.jpg"/>
          <p:cNvPicPr/>
          <p:nvPr/>
        </p:nvPicPr>
        <p:blipFill>
          <a:blip r:embed="rId1"/>
          <a:stretch/>
        </p:blipFill>
        <p:spPr>
          <a:xfrm>
            <a:off x="785880" y="2142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10440" y="600084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эма «Руслан и Людмила» была написана в 182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c1906b87f851.jpg"/>
          <p:cNvPicPr/>
          <p:nvPr/>
        </p:nvPicPr>
        <p:blipFill>
          <a:blip r:embed="rId1"/>
          <a:stretch/>
        </p:blipFill>
        <p:spPr>
          <a:xfrm>
            <a:off x="357120" y="571680"/>
            <a:ext cx="83581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" descr="1246282696_0041.jpg"/>
          <p:cNvPicPr/>
          <p:nvPr/>
        </p:nvPicPr>
        <p:blipFill>
          <a:blip r:embed="rId1"/>
          <a:stretch/>
        </p:blipFill>
        <p:spPr>
          <a:xfrm>
            <a:off x="714240" y="142920"/>
            <a:ext cx="76438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спомним сказк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040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57975728_3645225172.jpg"/>
          <p:cNvPicPr/>
          <p:nvPr/>
        </p:nvPicPr>
        <p:blipFill>
          <a:blip r:embed="rId1"/>
          <a:stretch/>
        </p:blipFill>
        <p:spPr>
          <a:xfrm>
            <a:off x="428760" y="285840"/>
            <a:ext cx="3871800" cy="60721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Tam-tsar-Kashhey-nad-zlatom-chahnet.jpg"/>
          <p:cNvPicPr/>
          <p:nvPr/>
        </p:nvPicPr>
        <p:blipFill>
          <a:blip r:embed="rId2"/>
          <a:stretch/>
        </p:blipFill>
        <p:spPr>
          <a:xfrm>
            <a:off x="4429080" y="285840"/>
            <a:ext cx="4254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бъясните лексическое зна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26792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имоходом – по пути, проходя мимо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ленять – ловить, лишать свобод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560" y="47592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основе сказочного, волшебного мира Лукоморья – необычное и забавное, страшное и чудесное, печальное и смешное, вымыслы и небылицы в сочетании с обыденным и привычным.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этом мире герои народных сказок живут привычной для них сказочной жизнью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Выпишите из текста эпитеты и определите, с какой целью их использовал  автор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ушкин  использует в поэме старославянские по происхождению слова, например: златая, брег, чреда, злато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Каким словам в современном русском языке они соответствуют?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бъясните значения родственных слов. Найдите в них общий корень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341360"/>
            <a:ext cx="89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Злато, позолота, позлащённый, золотить, золотой;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Брег, побережье, прибрежный.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Чем объясняется, что в некоторых строках появляются устаревшие слова, не употребляющиеся в обычной речи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Дол, брег, чредой? Какой становится нарисованная поэтом картина?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 относится автор к изображённому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е значение приобретает восклицание: «Там русский дух…там Русью пахнет!»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ой смысл приобретают финальные строчки пролога?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2" descr="f_4c6e37c91b75a.jpg"/>
          <p:cNvPicPr/>
          <p:nvPr/>
        </p:nvPicPr>
        <p:blipFill>
          <a:blip r:embed="rId1"/>
          <a:stretch/>
        </p:blipFill>
        <p:spPr>
          <a:xfrm>
            <a:off x="179280" y="27000"/>
            <a:ext cx="88567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3640" y="333360"/>
            <a:ext cx="82753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егодня на уроке я узнал(а)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У меня получилось 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обенно понравилос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Нужно выучить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341000"/>
            <a:ext cx="8291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дготовить сообщен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ряд – «историка» – «Значение Бородинского сражения в Отечественной войне 1812 года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 ряд – «искусствоведа» – «Бородинское сражение и его герои в изобразительном искусстве (слайдовая презентация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 ряд – «литературоведа» – «Прототипы героев стихотворения М.Ю. Лермонтова «Бородино»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2" descr="d183-d0bbd183d0bad0bed0bcd0bed180d18cd18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skaz15.jpg"/>
          <p:cNvPicPr/>
          <p:nvPr/>
        </p:nvPicPr>
        <p:blipFill>
          <a:blip r:embed="rId1"/>
          <a:stretch/>
        </p:blipFill>
        <p:spPr>
          <a:xfrm>
            <a:off x="108000" y="115920"/>
            <a:ext cx="8712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ролог к поэме «Руслан и Людмил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– это вступительная часть литературного или музыкального произвед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лог  к поэме был написан ко второму изданию, которое было опубликовано через 8 лет после первого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45920" y="64296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укомо́рье — морской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алив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 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бухт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 изгиб морского бер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123822454749cdcea346ab5-2.jpg"/>
          <p:cNvPicPr/>
          <p:nvPr/>
        </p:nvPicPr>
        <p:blipFill>
          <a:blip r:embed="rId3"/>
          <a:stretch/>
        </p:blipFill>
        <p:spPr>
          <a:xfrm>
            <a:off x="1143000" y="1285920"/>
            <a:ext cx="6993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ткуда появилось Лукоморье у Пушкина?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з сказок няни Арины Родионовн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укоморье есть в «Слове о полку Игореве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Лукоморье в «Слове» сказано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А Кобяка изъ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уку моря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 желъзных великыхъ плъковъ половецкыхъ яко вихръ, выторже: и падеся Кобякъ въ градѣ Киевѣ, в гридницѣ Святъславли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летописи сообщалось, что русские постоянно сталкивались с кочевниками в южной степи: «юкоже преже в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уцѣ мор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быю хусА с ними крѣпко»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50560" y="333000"/>
            <a:ext cx="87138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Обитателями Лукоморья по летописям были половцы, с которыми киевские князья постоянно враждовали. Лукоморьем же называлась территория Северного Приазовья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Лукоморьем (которое воспел Пушкин) называлась излучина между нижним течением Днепра и Азовским морем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Объект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533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fee</dc:creator>
  <dc:description/>
  <dc:language>en-US</dc:language>
  <cp:lastModifiedBy>Lafee</cp:lastModifiedBy>
  <dcterms:modified xsi:type="dcterms:W3CDTF">2022-11-17T16:20:25Z</dcterms:modified>
  <cp:revision>50</cp:revision>
  <dc:subject/>
  <dc:title>Слайд 1</dc:title>
</cp:coreProperties>
</file>