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016-9123-431E-B279-F40E8E3F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AD1-9970-4522-88F1-03A25823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4BD-9F27-440C-83D7-012D6FFE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D78-9E99-41CB-B77C-2ED0B40B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7976-DFA3-452B-84B3-3D7BB15C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014B-A5B4-462D-9C70-B1F1FB24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18ED-3628-4E2E-B4FC-18BFD803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A530-FABF-4EE3-B9DC-B0396BD3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70A6-C424-4BDD-A7DC-098371E3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929C-35F4-48BA-9F5A-555331B4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F6AB-EB30-4C54-8099-87D56FD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89C-8B83-4F9F-AC61-29F47D24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0E12-0AD9-43AF-9860-EEEB804D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04F9-DC63-41ED-BF44-6C969E19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45AB-5CE8-461E-AC6E-0098A828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59FE-29BD-4BBD-9658-B4A57BFB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94E9-C1B0-4CE0-932D-C2342140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3FD3-3DB1-41E9-9E3B-8B81CEAD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1FE9-8290-4410-BA15-ECE4AA88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24BE-424D-49E9-B488-4F4B8B45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27CD4-4CC1-4137-BF26-63B6FE16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1380-C6CC-4B13-A00B-EDE91966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C63-2152-401F-9CD4-CA554E07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DDF6-0960-4553-BD6C-991AAEE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3FF9-F1F0-4715-8B98-0F832033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F44D-55A5-4FB0-82F9-4C2D5850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B207-E079-4836-9A98-97C4FBCD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E30E-1EF0-459A-8217-28B06895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9966-72D4-453F-94C0-A1E297ED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905FD-BFA7-426D-B554-C58A197A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7FC2-39E6-4AF5-8CFD-2BFF7A3C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4B08-1BEF-4673-9ACC-5E76550C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8014-05FF-425A-B1B9-4F698241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4B7-D6D8-4025-BA84-4EB33CB3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E0CC-B875-4144-B06C-230C2B14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596A7-7726-4C61-A376-E314CA17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116A-FE8C-4E92-9D40-6FFCC109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D6E9-380A-4AE7-B5EC-D41A730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F37E8-1339-4EB6-A9D2-AC8BCF8C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1543-F9C7-43A2-AEED-D75F33B2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F5D70-4497-4931-96CB-D3BAE63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6C0B-B01E-44A5-AF15-319EB629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C054-2846-49B2-B07D-430443E2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5D8D-0F0E-4FE5-8176-2675B5DC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807-1DAA-4679-A453-F5CB0048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C9641-A744-4978-848D-5099435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720B-9600-462E-908F-1CAF3132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F1E1-82A3-4C55-8E61-0D0AC78E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969CF-FBAF-490F-B7C1-299E51D4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E98E8-E490-42A0-A1A0-9468C163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6A05-AFA0-4C9E-8C5A-81E63433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93A87-4259-43C4-9FA6-569FD474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6007A-4CDF-4FA3-ABCE-93402B8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62C24-9B9C-4004-971B-2D2DE828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3C4DF-D099-4762-847C-917A3108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BED-7AB7-4D2B-B69A-25EF543D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5E76C-E0DB-4E9A-9A35-36153544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647-FB81-4901-BA9A-C066C9C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425-3352-4BA4-9A83-E1BEA155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E02-D200-45B1-AA36-82EA47F0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A1FA-268F-4DC3-A8F8-9ED86A0DE65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AB40-0FC7-4DB7-A2FE-E88C68D8C62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61F9-7673-4996-932A-C54F643570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138E-3F8B-49D8-9319-DF32B1904AC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1A07-5470-46EC-8DB4-682906AD68E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1;&#1089;&#1089;&#1082;&#1080;&#1077;_&#1089;&#1082;&#1072;&#1079;&#1082;&#1080;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73;&#1072;-&#1071;&#1075;&#1072;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3;&#1080;&#1074;" TargetMode="External"/><Relationship Id="rId2" Type="http://schemas.openxmlformats.org/officeDocument/2006/relationships/hyperlink" Target="http://ru.wikipedia.org/wiki/&#1041;&#1091;&#1093;&#1090;&#1072;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26596055_1212756189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-201600" y="4406760"/>
            <a:ext cx="96868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-8280"/>
            <a:ext cx="83739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ткуда взялся дуб?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Объект 6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93220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3419280" y="691920"/>
            <a:ext cx="554508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И там я был, и мед я пил; У моря видел дуб зеленый…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утешествуя по Приднепровско-Азовской степи во время южной ссылки, Пушкин мог от старожил услышать легенду о знаменитом Запорожском дубе, который рос на острове Хортиц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Объект 4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545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052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Герои. Кот Баюн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8" name="Объект 4" descr=""/>
          <p:cNvPicPr/>
          <p:nvPr/>
        </p:nvPicPr>
        <p:blipFill>
          <a:blip r:embed="rId1"/>
          <a:stretch/>
        </p:blipFill>
        <p:spPr>
          <a:xfrm>
            <a:off x="0" y="206064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780000" y="764640"/>
            <a:ext cx="536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т Баюн — персонаж русских волшебных сказок, огромный кот-людоед, обладающий волшебным голосом. Он заговаривает и усыпляет своими сказками подошедших путник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о тот, кто сможет словить Кота, найдёт спасение от всех болезней и недугов — сказки Баюна целебн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от Баюн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62064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амо по себе слово баюн означает «говорун, рассказчик, краснобай», от глагола баять — «рассказывать, говорить» (ср. также глаголы баюкать, убаюкивать в значении «усыплять»). В сказках говорится о том, что Баюн сидит на высоком, обычно железном столбе. Обитает Кот за тридевять земель в тридесятом царстве или в безжизненном мёртвом лесу, где нет ни птиц, ни зверей. В одной из сказок он проживал у Бабы-Яг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т Баюн наделен голосом, который слышно за семь верст, как замурлыкает, так напустит заколдованный сон, который и не отличишь от смерти. В сказках главному действующему персонажу дают задание изловить Кота, как правило, такие задания давали с целью сгубить доброго молодца. Встреча с этим сказочным чудовищем грозила неминуемой смертью. Чтобы захватить волшебного Кота, герой надевает железный колпак и железные рукавиц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1187280" y="0"/>
            <a:ext cx="61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1116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«Пойди туда, не знаю куд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764640"/>
            <a:ext cx="9252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… пришел Андрей-стрелок в тридесятое царство. За три версты стал его одолевать сон. Надевает Андрей на голову три колпака железных, руку за руку закидывает, ногу за ногу волочит — идёт, а где и катком катится. Кое-как выдержал дремоту и очутился у высокого столб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т Баюн увидел Андрея, заворчал, зауркал да со столба прыг ему на голову — один колпак разбил и другой разбил, взялся было за третий. Тут Андрей-стрелок ухватил кота клещами, сволок наземь и давай оглаживать прутьями. Наперво сёк железным прутом; изломал железный, принялся угощать медным — и этот изломал и принялся бить оловянны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115560"/>
            <a:ext cx="90360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ловянный прут гнется, не ломится, вокруг хребта обвивается. Андрей бьёт, а кот Баюн начал сказки рассказывать: про попов, про дьяков, про поповых дочерей. Андрей его не слушает, знай охаживает прутом. Невмоготу стало коту, видит, что заговорить нельзя, он и взмолилс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кинь меня, добрый человек! Что надо, всё тебе сдела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 пойдёшь со мной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уда хочешь пойду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ндрей пошел в обратный путь и кота за собой повёл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518040" y="571680"/>
            <a:ext cx="809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усалка — мифологическое и фольклорное сущ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имущественно женского пола, связанное с водоё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" descr="tmpgxVu5I_html_58ff031d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395280" y="189000"/>
            <a:ext cx="8161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Ле́ший — хозяин леса. Частый персонаж 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русских сказок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ругие названия: лесовик, лесник, лешак, лесной дядя, лисун (полисун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икий мужичок и даже лес. Место жительства духа — глухая лесная чащоб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о иногда и пусты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" descr="1334740879_leshiy.jpg"/>
          <p:cNvPicPr/>
          <p:nvPr/>
        </p:nvPicPr>
        <p:blipFill>
          <a:blip r:embed="rId2"/>
          <a:stretch/>
        </p:blipFill>
        <p:spPr>
          <a:xfrm>
            <a:off x="2987640" y="1989000"/>
            <a:ext cx="58579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611280" y="26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збу́шка на ку́рьих но́жках — жилище персонажа русских сказок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Бабы-Яги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 — стояла на двух огромных куриных ногах, которые поворачи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збушку по первому требованию доброго молодца («Избушка, избуш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вернись ко мне передом, к лесу — задом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1" descr=""/>
          <p:cNvPicPr/>
          <p:nvPr/>
        </p:nvPicPr>
        <p:blipFill>
          <a:blip r:embed="rId2"/>
          <a:stretch/>
        </p:blipFill>
        <p:spPr>
          <a:xfrm>
            <a:off x="2050920" y="1641600"/>
            <a:ext cx="678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1255898505_verkhovikh-dub.jpg"/>
          <p:cNvPicPr/>
          <p:nvPr/>
        </p:nvPicPr>
        <p:blipFill>
          <a:blip r:embed="rId1"/>
          <a:stretch/>
        </p:blipFill>
        <p:spPr>
          <a:xfrm>
            <a:off x="785880" y="2142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810440" y="6000840"/>
            <a:ext cx="57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эма «Руслан и Людмила» была написана в 182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c1906b87f851.jpg"/>
          <p:cNvPicPr/>
          <p:nvPr/>
        </p:nvPicPr>
        <p:blipFill>
          <a:blip r:embed="rId1"/>
          <a:stretch/>
        </p:blipFill>
        <p:spPr>
          <a:xfrm>
            <a:off x="357120" y="571680"/>
            <a:ext cx="83581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2" descr="1246282696_0041.jpg"/>
          <p:cNvPicPr/>
          <p:nvPr/>
        </p:nvPicPr>
        <p:blipFill>
          <a:blip r:embed="rId1"/>
          <a:stretch/>
        </p:blipFill>
        <p:spPr>
          <a:xfrm>
            <a:off x="714240" y="142920"/>
            <a:ext cx="76438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спомним сказку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5" name="Объект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0402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57975728_3645225172.jpg"/>
          <p:cNvPicPr/>
          <p:nvPr/>
        </p:nvPicPr>
        <p:blipFill>
          <a:blip r:embed="rId1"/>
          <a:stretch/>
        </p:blipFill>
        <p:spPr>
          <a:xfrm>
            <a:off x="428760" y="285840"/>
            <a:ext cx="3871800" cy="60721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" descr="Tam-tsar-Kashhey-nad-zlatom-chahnet.jpg"/>
          <p:cNvPicPr/>
          <p:nvPr/>
        </p:nvPicPr>
        <p:blipFill>
          <a:blip r:embed="rId2"/>
          <a:stretch/>
        </p:blipFill>
        <p:spPr>
          <a:xfrm>
            <a:off x="4429080" y="285840"/>
            <a:ext cx="4254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бъясните лексическое знач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267920"/>
            <a:ext cx="8218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Мимоходом – по пути, проходя мимо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ленять – ловить, лишать свобод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0560" y="47592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 основе сказочного, волшебного мира Лукоморья – необычное и забавное, страшное и чудесное, печальное и смешное, вымыслы и небылицы в сочетании с обыденным и привычным.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 этом мире герои народных сказок живут привычной для них сказочной жизнью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Выпишите из текста эпитеты и определите, с какой целью их использовал  автор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24000" y="189000"/>
            <a:ext cx="8496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Пушкин  использует в поэме старославянские по происхождению слова, например: златая, брег, чреда, злато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Каким словам в современном русском языке они соответствуют?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бъясните значения родственных слов. Найдите в них общий корень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9280" y="1341360"/>
            <a:ext cx="896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Злато, позолота, позлащённый, золотить, золотой;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Брег, побережье, прибрежный.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Чем объясняется, что в некоторых строках появляются устаревшие слова, не употребляющиеся в обычной речи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Дол, брег, чредой? Какой становится нарисованная поэтом картина?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 относится автор к изображённому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акое значение приобретает восклицание: «Там русский дух…там Русью пахнет!»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акой смысл приобретают финальные строчки пролога?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2" descr="f_4c6e37c91b75a.jpg"/>
          <p:cNvPicPr/>
          <p:nvPr/>
        </p:nvPicPr>
        <p:blipFill>
          <a:blip r:embed="rId1"/>
          <a:stretch/>
        </p:blipFill>
        <p:spPr>
          <a:xfrm>
            <a:off x="179280" y="27000"/>
            <a:ext cx="88567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3640" y="333360"/>
            <a:ext cx="82753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егодня на уроке я узнал(а)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Было трудно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У меня получилось 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Особенно понравилось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Нужно выучить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1341000"/>
            <a:ext cx="82915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дготовить сообщен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 ряд – «историка» – «Значение Бородинского сражения в Отечественной войне 1812 года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 ряд – «искусствоведа» – «Бородинское сражение и его герои в изобразительном искусстве (слайдовая презентация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 ряд – «литературоведа» – «Прототипы героев стихотворения М.Ю. Лермонтова «Бородино»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2" descr="d183-d0bbd183d0bad0bed0bcd0bed180d18cd18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skaz15.jpg"/>
          <p:cNvPicPr/>
          <p:nvPr/>
        </p:nvPicPr>
        <p:blipFill>
          <a:blip r:embed="rId1"/>
          <a:stretch/>
        </p:blipFill>
        <p:spPr>
          <a:xfrm>
            <a:off x="108000" y="115920"/>
            <a:ext cx="8712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ролог к поэме «Руслан и Людмил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лог – это вступительная часть литературного или музыкального произвед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лог  к поэме был написан ко второму изданию, которое было опубликовано через 8 лет после первого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745920" y="642960"/>
            <a:ext cx="81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укомо́рье — морской 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залив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 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бухт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 изгиб морского бер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2" descr="123822454749cdcea346ab5-2.jpg"/>
          <p:cNvPicPr/>
          <p:nvPr/>
        </p:nvPicPr>
        <p:blipFill>
          <a:blip r:embed="rId3"/>
          <a:stretch/>
        </p:blipFill>
        <p:spPr>
          <a:xfrm>
            <a:off x="1143000" y="1285920"/>
            <a:ext cx="6993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ткуда появилось Лукоморье у Пушкина?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з сказок няни Арины Родионовн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укоморье есть в «Слове о полку Игореве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 Лукоморье в «Слове» сказано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А Кобяка изъ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луку моря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т желъзных великыхъ плъковъ половецкыхъ яко вихръ, выторже: и падеся Кобякъ въ градѣ Киевѣ, в гридницѣ Святъславли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летописи сообщалось, что русские постоянно сталкивались с кочевниками в южной степи: «юкоже преже в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уцѣ мор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быю хусА с ними крѣпко»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50560" y="333000"/>
            <a:ext cx="87138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Обитателями Лукоморья по летописям были половцы, с которыми киевские князья постоянно враждовали. Лукоморьем же называлась территория Северного Приазовья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Лукоморьем (которое воспел Пушкин) называлась излучина между нижним течением Днепра и Азовским морем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Объект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533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fee</dc:creator>
  <dc:description/>
  <dc:language>en-US</dc:language>
  <cp:lastModifiedBy>Lafee</cp:lastModifiedBy>
  <dcterms:modified xsi:type="dcterms:W3CDTF">2022-11-17T16:20:25Z</dcterms:modified>
  <cp:revision>50</cp:revision>
  <dc:subject/>
  <dc:title>Слайд 1</dc:title>
</cp:coreProperties>
</file>