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D976D-595A-46A4-A33B-1824582B64D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F650B-CE11-46A7-9080-069CB66FD8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A210-B8CA-4EB1-9211-EC222AAA8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4F99-96FF-4A93-9B73-80EE4A1DE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49CE-FD27-4479-8ED8-208D1F0CA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289A-D28C-4DBD-B647-1E36425EF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5A680-8040-47D5-9DAE-C4277481A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3E540-8B79-4373-858B-4DD587F09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84B21-FAA0-408D-9C69-39307B0DD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36250-41AC-470F-8CDF-72DC66BF5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2C003-50E8-4353-95F9-80670B447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A2DA7-7308-4B40-99E8-CA418DD45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6EC5C-5FB4-44E2-963B-ECCBFC16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3520-0DCE-4C57-AA2D-1B4B29777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D2125-6C27-4903-831F-1182A2B4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40E11-8209-4809-9534-F63D63A5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2E955-1B3B-42CB-8818-479AECA61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AB61E-6CBF-48A7-A8B0-91237666D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F545A-13ED-4142-8D8F-09357FC3E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F563-4C33-429F-B428-92B9D2D93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4D58-B1C8-4218-BD9F-5789EDB81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B2AD-B198-427C-89B5-4D53797FF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E600-E5D9-4ADA-85AC-D01CD9824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CFAC-4C0F-4155-81D1-8A895A8A0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80BA-7EF3-48ED-BC61-F9A36411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79E2-0AA7-473C-AF80-CBF7C1D6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0D7FF-09F8-4FBA-A158-52B87E55EB5F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Рогалева Ирина Евгеньевн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30847-089D-4502-B2A6-74D698A591A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34231-7EB7-4386-AE32-654E254173DB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Рогалева Ирина Евгеньевн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D2917-F0CD-497C-9E98-77911E20D66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38476-87EF-465E-9849-D4FC127268B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560" y="2438280"/>
            <a:ext cx="8458200" cy="185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чинение по картине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.П.Крымова «Зимний вечер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447920" y="50288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ок русского языка в 6 клас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72710-A683-446E-8057-27DA8C6DC09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5345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ние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ишите картину Н. П. Крымова «Зимний вечер», опираясь на рабочие материалы и составленный план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Зимний вечер"/>
          <p:cNvPicPr/>
          <p:nvPr/>
        </p:nvPicPr>
        <p:blipFill>
          <a:blip r:embed="rId1"/>
          <a:stretch/>
        </p:blipFill>
        <p:spPr>
          <a:xfrm>
            <a:off x="304920" y="1295280"/>
            <a:ext cx="868500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BA526-B952-47CA-950C-96E2FCEEA2D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Источники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дякова Л.А. Сочинение по картине в 6-м классе: Метод.пособие/Л.А. Ходякова, Е.В. Кабанова; Под ред. проф.Л.А. Ходяковой. – М.: ООО «Издательство Астрель»: ООО «издательство АСТ», 2004. (Библиотека учителя русского язык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krimov.ru/ (Биография и картины Н.П. Крымов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ru.wikipedia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78.140.134.99/d/5919b42a381a71234a137ddb68d7/AstafevRasskazy.rar?e=1359564418&amp;s=51200&amp;p=VFMDQlpjFBJ4CltxHll1XA%3D%3D&amp;uuid=72575.703a1a51b014f8849659dc84bffa&amp;pin=1137709let&amp;ext=&amp;ip=178.64.161.69&amp;st=7o-9VVvltbgLldRh33U6YA (Аудиокнига В.Астафьева «Рассказы», читает С.Репи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2D36D-50B3-4B3C-B53B-B20A93F43BE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Николай Петрович Крымов </a:t>
            </a:r>
            <a:br>
              <a:rPr sz="3400"/>
            </a:b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(1884 — 1958 г.г.)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410080" y="1752120"/>
            <a:ext cx="3733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лся в Москве в потомственн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ье художников.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удожника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и его прадед, отец, бра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ьчик с детства рос в мир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усств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ец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иколая Петровича бы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м учителем, сумевши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расно подготовить его в школ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описи, ваяния и зодчества,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уд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ымов поступил в 1904 год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онность Н. П. Крымова 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йзажу определилась 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ношеских лет.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страстно люби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у. В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е его творчеств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жало живое восприятие мир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ымов по-новому увидел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ердил красоту природы, показа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у в тесной связи 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к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9" descr="Автопортрет 1908г"/>
          <p:cNvPicPr/>
          <p:nvPr/>
        </p:nvPicPr>
        <p:blipFill>
          <a:blip r:embed="rId1"/>
          <a:stretch/>
        </p:blipFill>
        <p:spPr>
          <a:xfrm>
            <a:off x="609480" y="1447920"/>
            <a:ext cx="4724640" cy="47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4D429-F014-41E4-BBED-C4D90E69A58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943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. П. Крымов (в центре) среди студентов Московского областного художественного училища памяти 1905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9" descr="Н"/>
          <p:cNvPicPr/>
          <p:nvPr/>
        </p:nvPicPr>
        <p:blipFill>
          <a:blip r:embed="rId1"/>
          <a:stretch/>
        </p:blipFill>
        <p:spPr>
          <a:xfrm>
            <a:off x="609480" y="228600"/>
            <a:ext cx="7959960" cy="57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Номер слайда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885AE-A766-4642-B002-3864E51AC49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. П. Крымов вошел в историю искусства как певец русской природы, среди которой мы живем и трудим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648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ейзажах Крымо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щущается глубок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бовь к русск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роде, к Родин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бовь, которую о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ет передать на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рител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его солнечных картина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омко звучит радост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тверждение жизни, красо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шей великой Родин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частья жить на нашей земл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8" descr="Утро 1914г"/>
          <p:cNvPicPr/>
          <p:nvPr/>
        </p:nvPicPr>
        <p:blipFill>
          <a:blip r:embed="rId1"/>
          <a:stretch/>
        </p:blipFill>
        <p:spPr>
          <a:xfrm>
            <a:off x="3368520" y="762120"/>
            <a:ext cx="5775480" cy="3232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Осень 1918 г"/>
          <p:cNvPicPr/>
          <p:nvPr/>
        </p:nvPicPr>
        <p:blipFill>
          <a:blip r:embed="rId2"/>
          <a:stretch/>
        </p:blipFill>
        <p:spPr>
          <a:xfrm>
            <a:off x="5562720" y="3971880"/>
            <a:ext cx="358128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Дата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8811D-1B0F-4B0C-B209-D8ABA9170E76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Номер слайда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D049A-1D7A-4FAC-8E7F-6C5CA3DA229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льшое место в творчестве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.П.Крымова занимает изображение зим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105160" y="18284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енно в зимних пейзажах 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обой силой проявилос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ение Н. П. Крымо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ечатлевать в живопис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отнах поэзию будн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коем и тишиной веет о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ирной, неторопливой жиз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ловеческие фигурк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вляясь неотъемлемой часть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роды, помогают боле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убокому раскрытию е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ояния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9" descr="krimov19"/>
          <p:cNvPicPr/>
          <p:nvPr/>
        </p:nvPicPr>
        <p:blipFill>
          <a:blip r:embed="rId1"/>
          <a:stretch/>
        </p:blipFill>
        <p:spPr>
          <a:xfrm>
            <a:off x="0" y="990720"/>
            <a:ext cx="4853160" cy="25146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krimov7"/>
          <p:cNvPicPr/>
          <p:nvPr/>
        </p:nvPicPr>
        <p:blipFill>
          <a:blip r:embed="rId2"/>
          <a:stretch/>
        </p:blipFill>
        <p:spPr>
          <a:xfrm>
            <a:off x="533520" y="3657600"/>
            <a:ext cx="42670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26D22-64BE-48BF-8743-288FF6EAD93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866920"/>
            <a:ext cx="82296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«Зимний вечер», 1919 г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Зимний вечер"/>
          <p:cNvPicPr/>
          <p:nvPr/>
        </p:nvPicPr>
        <p:blipFill>
          <a:blip r:embed="rId1"/>
          <a:stretch/>
        </p:blipFill>
        <p:spPr>
          <a:xfrm>
            <a:off x="0" y="0"/>
            <a:ext cx="9144000" cy="570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FDB5F-4586-4567-AC0D-D8EA1388C10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Arial"/>
              </a:rPr>
              <a:t>Составление рабочих материалов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е настроение создается у вас, когда вы смотрите на картину Крымова «Зимний вечер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далось ли художнику передать красоту зимнего вечер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с первого взгляда привлекает в картин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признаки наступающего вечера вы видите на картине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м изобразил художник небо в предвечерний час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ми изобразил художник деревь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чем особенности построения картины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цвета использовал художник для описания зимнего вечер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чувствуете вы и о чем думаете, когда смотрите на этот пейзаж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921DB-0EEE-45ED-B297-A5BA5BACB91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План сочинения-описания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. П. Крымов — замечательный русский худож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Зима в изображении художника Н. П. Крым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знаки наступления зимнего вечер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тени,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снег,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небо, возду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собенности композиции пейзаж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Цвета, используемые художником дл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ния зимнего вече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Какие чувства и мысли вызывает эта картин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10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" dur="1000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8F103-3A6F-4906-B08E-7417708652B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Arial"/>
              </a:rPr>
              <a:t>Систематизация материал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9154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пределите данный материал по смысловым группам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тишина сельской жизни; предвечерний час; лучи заходящего солнц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адужные краски цвета неба и снега; уютный вечер в деревне; поко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умиротворенно; на переднем плане густая тень от холма; сади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олнце и отражает длинные предвечерние тени на снегу; длинн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тень от протоптанной тропинки, от фигур людей; небо темнеет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но зеленовато-серое; цвет снега синеватый с фиолетовы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ттенком; впечатление движения; тропинки тянутся по диагонали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верх; в центре высокие деревья, колокольня; лошади, везущие воз 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еном; люди, идущие по тропинке; надвигающаяся тен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холод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цвета: серовато-голубой, лиловый цвет снега, зеленовато-сер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цвет неба; ощущение морозного вечера; теплые цвета: желтовато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оричневые стены домов и сараев, желтоватый отблеск окон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ыжевато-коричневые деревья, розоватый оттенок неба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иятно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покойное, умиротворенное, хорошее, приподнятое, прекрасно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ветлое настроение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cer</cp:lastModifiedBy>
  <dcterms:modified xsi:type="dcterms:W3CDTF">2023-02-01T10:08:08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