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9B89-DCFB-4DFF-B122-92464BA934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42BF-FBD7-423B-818C-36B4FA3279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429-E699-498E-BBD0-13A18F92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A16-AFF3-4C88-9947-EEF38849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161-6377-42A3-9E7E-A5BD6360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A2DE-0092-408C-92DD-8DA2D6DD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226A-79CA-4B8B-9A2B-D9578119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B493-CC54-4E5E-93A2-671D3DAE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338B-DC9E-4C23-A591-B9FBD0BD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1955-CA4F-4041-8B8F-86FD5367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9F45-978F-4AA9-961C-147BF3EB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9BBB-1910-4AFB-906B-0A302AEF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3816-BF61-41D4-859B-5FE701EE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B2B7-A974-4C91-9508-CA13BE8D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123D-2C96-45C8-8C2A-497BF0AA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6D5A-8AD0-497C-B8B3-6B9598F4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D236-000A-4334-9CC5-8AAE74B4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2445-CB99-4639-B8A1-A7E29E40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3B89-8854-4C6F-8477-3B88C597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EE4A-67E4-4F8D-AC8A-56111ACB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2F40-9522-4225-B21A-6FB83DE3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F0D9-F1B3-45C7-9DF9-2E5707D8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3D5-D21A-4D8F-A055-6CCB8061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D3C2-1B35-4A06-8FC0-9964A976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29E7-3F29-4FB2-9924-7C70F02D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B72-E494-48B6-9E96-A869BD53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9808-8AF9-4C09-93E6-16C2C94972B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огалева Ирина Евгенье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02C7-A19F-44FB-BC78-4BD5569AD4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E3A2-6A66-4CF3-B678-5CD9EFFB156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огалева Ирина Евгенье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088C-871F-49F0-9328-A5C51ABA40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FA72-A3EF-40DB-84EF-60993BA144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2438280"/>
            <a:ext cx="8458200" cy="18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 по картине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П.Крымова «Зимний вечер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4792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русского языка в 6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4CF8-ACA4-4617-9E49-3113F909EAF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картину Н. П. Крымова «Зимний вечер», опираясь на рабочие материалы и составленный план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Зимний вечер"/>
          <p:cNvPicPr/>
          <p:nvPr/>
        </p:nvPicPr>
        <p:blipFill>
          <a:blip r:embed="rId1"/>
          <a:stretch/>
        </p:blipFill>
        <p:spPr>
          <a:xfrm>
            <a:off x="304920" y="1295280"/>
            <a:ext cx="86850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557B-A13D-4C24-90AF-41EF2BA59FD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якова Л.А. Сочинение по картине в 6-м классе: Метод.пособие/Л.А. Ходякова, Е.В. Кабанова; Под ред. проф.Л.А. Ходяковой. – М.: ООО «Издательство Астрель»: ООО «издательство АСТ», 2004. (Библиотека учителя русского язы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krimov.ru/ (Биография и картины Н.П. Крым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ru.wikipedi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78.140.134.99/d/5919b42a381a71234a137ddb68d7/AstafevRasskazy.rar?e=1359564418&amp;s=51200&amp;p=VFMDQlpjFBJ4CltxHll1XA%3D%3D&amp;uuid=72575.703a1a51b014f8849659dc84bffa&amp;pin=1137709let&amp;ext=&amp;ip=178.64.161.69&amp;st=7o-9VVvltbgLldRh33U6YA (Аудиокнига В.Астафьева «Рассказы», читает С.Реп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A1D2-E346-4D7F-BFB9-6CF1D855E3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иколай Петрович Крымов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(1884 — 1958 г.г.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410080" y="1752120"/>
            <a:ext cx="3733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Москве в потомстве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е художников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ни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его прадед, отец, бра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 с детства рос в мир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ц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иколая Петровича бы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 учителем, сумевш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расно подготовить его в школ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писи, ваяния и зодчества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у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мов поступил в 1904 г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ность Н. П. Крымова 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йзажу определилась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ошеских лет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трастно люби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у. 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е его творче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ло живое восприятие ми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мов по-новому увидел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дил красоту природы, показа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у в тесной связи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Автопортрет 1908г"/>
          <p:cNvPicPr/>
          <p:nvPr/>
        </p:nvPicPr>
        <p:blipFill>
          <a:blip r:embed="rId1"/>
          <a:stretch/>
        </p:blipFill>
        <p:spPr>
          <a:xfrm>
            <a:off x="609480" y="1447920"/>
            <a:ext cx="472464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7B70-DCB5-432B-B4FF-D6119EA9DB8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943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 П. Крымов (в центре) среди студентов Московского областного художественного училища памяти 190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Н"/>
          <p:cNvPicPr/>
          <p:nvPr/>
        </p:nvPicPr>
        <p:blipFill>
          <a:blip r:embed="rId1"/>
          <a:stretch/>
        </p:blipFill>
        <p:spPr>
          <a:xfrm>
            <a:off x="609480" y="228600"/>
            <a:ext cx="79599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9077-1D11-4BF9-A274-2A3AC241719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. П. Крымов вошел в историю искусства как певец русской природы, среди которой мы живем и трудим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йзажах Крым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щущается глубо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 к рус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е, к Роди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, которую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ет передать н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рит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его солнечных карти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омко звучит радост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верждение жизни, крас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ей великой Роди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астья жить на нашей зем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Утро 1914г"/>
          <p:cNvPicPr/>
          <p:nvPr/>
        </p:nvPicPr>
        <p:blipFill>
          <a:blip r:embed="rId1"/>
          <a:stretch/>
        </p:blipFill>
        <p:spPr>
          <a:xfrm>
            <a:off x="3368520" y="762120"/>
            <a:ext cx="5775480" cy="3232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Осень 1918 г"/>
          <p:cNvPicPr/>
          <p:nvPr/>
        </p:nvPicPr>
        <p:blipFill>
          <a:blip r:embed="rId2"/>
          <a:stretch/>
        </p:blipFill>
        <p:spPr>
          <a:xfrm>
            <a:off x="5562720" y="3971880"/>
            <a:ext cx="35812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419E-A221-4F2C-88F1-EF3A95F80F28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4CA7-9FD5-4D69-AD35-A7A94D532F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е место в творчеств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.П.Крымова занимает изображение зи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05160" y="18284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нно в зимних пейзажах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ой силой проявило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Н. П. Крым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ечатлевать в живопис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тнах поэзию буд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оем и тишиной веет 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ной, неторопливо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ческие фигур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ясь неотъемлемой част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роды, помогают бол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бокому раскрытию 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н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krimov19"/>
          <p:cNvPicPr/>
          <p:nvPr/>
        </p:nvPicPr>
        <p:blipFill>
          <a:blip r:embed="rId1"/>
          <a:stretch/>
        </p:blipFill>
        <p:spPr>
          <a:xfrm>
            <a:off x="0" y="990720"/>
            <a:ext cx="4853160" cy="2514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krimov7"/>
          <p:cNvPicPr/>
          <p:nvPr/>
        </p:nvPicPr>
        <p:blipFill>
          <a:blip r:embed="rId2"/>
          <a:stretch/>
        </p:blipFill>
        <p:spPr>
          <a:xfrm>
            <a:off x="533520" y="3657600"/>
            <a:ext cx="42670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8B6D-5996-4BFC-B022-2414C891043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8669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«Зимний вечер», 1919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Зимний вечер"/>
          <p:cNvPicPr/>
          <p:nvPr/>
        </p:nvPicPr>
        <p:blipFill>
          <a:blip r:embed="rId1"/>
          <a:stretch/>
        </p:blipFill>
        <p:spPr>
          <a:xfrm>
            <a:off x="0" y="0"/>
            <a:ext cx="9144000" cy="57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0A8C-ED44-4164-A842-790FD981C50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Составление рабочих материал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настроение создается у вас, когда вы смотрите на картину Крымова «Зимний вечер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ось ли художнику передать красоту зимнего веч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с первого взгляда привлекает в карти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ризнаки наступающего вечера вы видите на картине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изобразил художник небо в предвечерний ча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и изобразил художник деревь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особенности построения картин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цвета использовал художник для описания зимнего вечер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чувствуете вы и о чем думаете, когда смотрите на этот пейзаж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B13D-3DAD-4694-BBAF-E5BE113431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План сочинения-описания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П. Крымов — замечательный русский худо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Зима в изображении художника Н. П. Крым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наступления зимнего вечер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тени,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нег,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ебо, возд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обенности композиции пейзаж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Цвета, используемые художником дл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я зимнего веч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ие чувства и мысли вызывает эта карт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7B67-ECC1-4669-9DEC-5E074D55854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Систематизация материал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ите данный материал по смысловым группам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ишина сельской жизни; предвечерний час; лучи заходящего солнц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дужные краски цвета неба и снега; уютный вечер в деревне; пок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миротворенно; на переднем плане густая тень от холма; сади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лнце и отражает длинные предвечерние тени на снегу; длин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ень от протоптанной тропинки, от фигур людей; небо темне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но зеленовато-серое; цвет снега синеватый с фиолетов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тенком; впечатление движения; тропинки тянутся по диагонал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верх; в центре высокие деревья, колокольня; лошади, везущие воз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ном; люди, идущие по тропинке; надвигающаяся тен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олод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цвета: серовато-голубой, лиловый цвет снега, зеленовато-сер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цвет неба; ощущение морозного вечера; теплые цвета: желтоват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ичневые стены домов и сараев, желтоватый отблеск око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ыжевато-коричневые деревья, розоватый оттенок неба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ятн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покойное, умиротворенное, хорошее, приподнятое, прекрасн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ветлое настро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er</cp:lastModifiedBy>
  <dcterms:modified xsi:type="dcterms:W3CDTF">2023-02-01T10:08:08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