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736E-AB4D-4E90-9E22-8ECBBF53B2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BFCD-F140-47B3-9DA1-A0781C1366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51FF-2E7D-4507-B4C4-C1114EA9B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6461-4DAD-433B-B90F-0B5E7EB5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D570-8DDE-41E1-8A49-4B79C13AC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4F4D-FEED-4E49-A447-4F610D03F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6F0A-5344-48AB-8D4B-6E2C4F03B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F499-8B6F-4BF5-83FA-7265E028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D58F-D586-45E2-BE21-5F174F09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1D47-1637-462F-A471-D2F669B6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F9CD-0DCD-49DF-8149-F0298969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0F13-7F27-431D-A212-44748880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AFD3-662F-471E-8A36-D28A8347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E398-ED03-4989-A3F7-A720E9FA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F1FC-B135-4024-8E25-90D4CBC2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8955-495F-474C-9EA9-DBA71E33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6FC8-81EB-4760-8ABB-99344417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BAF9-9246-4513-9F89-700D5B8A9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EFE5-39BA-4245-9C5C-E280E32CF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FA0A-C6EA-4441-99A7-71419C39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17DB-A672-4578-AE15-B4691491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D3CC-B486-49AB-B752-9CAD5EB3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CF03-D5EC-48FF-A1FC-DCBDF30E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9E19-865E-4C7F-995A-2B54E89A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2B10-4BD3-4246-B292-A1091B04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D84C-0786-401C-A602-2A917A19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5C3A-896B-45E8-B475-B3039C3BCC90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Рогалева Ирина Евгенье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EFF3-C8B3-4E80-9987-CBCB4219383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C206-CBDC-477B-A478-BE368AFF25A8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Рогалева Ирина Евгенье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1B4C-4BB1-4C85-AB06-71A9C19E9BE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870A-1AB7-4F13-BFFB-D29BF447EE4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2438280"/>
            <a:ext cx="8458200" cy="185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инение по картине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П.Крымова «Зимний вечер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47920" y="5028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русского языка в 6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6486-8FFF-4093-85D0-A6053CEBC92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шите картину Н. П. Крымова «Зимний вечер», опираясь на рабочие материалы и составленный план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Зимний вечер"/>
          <p:cNvPicPr/>
          <p:nvPr/>
        </p:nvPicPr>
        <p:blipFill>
          <a:blip r:embed="rId1"/>
          <a:stretch/>
        </p:blipFill>
        <p:spPr>
          <a:xfrm>
            <a:off x="304920" y="1295280"/>
            <a:ext cx="868500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FBA6-4801-4EBF-A3AF-72B02CD2E42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дякова Л.А. Сочинение по картине в 6-м классе: Метод.пособие/Л.А. Ходякова, Е.В. Кабанова; Под ред. проф.Л.А. Ходяковой. – М.: ООО «Издательство Астрель»: ООО «издательство АСТ», 2004. (Библиотека учителя русского язы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krimov.ru/ (Биография и картины Н.П. Крымо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ru.wikipedia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78.140.134.99/d/5919b42a381a71234a137ddb68d7/AstafevRasskazy.rar?e=1359564418&amp;s=51200&amp;p=VFMDQlpjFBJ4CltxHll1XA%3D%3D&amp;uuid=72575.703a1a51b014f8849659dc84bffa&amp;pin=1137709let&amp;ext=&amp;ip=178.64.161.69&amp;st=7o-9VVvltbgLldRh33U6YA (Аудиокнига В.Астафьева «Рассказы», читает С.Реп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DDE4-1C5A-45A1-BB0A-157F17AE1B8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иколай Петрович Крымов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(1884 — 1958 г.г.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410080" y="1752120"/>
            <a:ext cx="3733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в Москве в потомствен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е художников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ник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и его прадед, отец, бра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к с детства рос в мир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ец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иколая Петровича бы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 учителем, сумевши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расно подготовить его в школ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писи, ваяния и зодчества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у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ымов поступил в 1904 г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ность Н. П. Крымова 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йзажу определилась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ношеских лет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страстно люби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у. В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е его творчест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ало живое восприятие мир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ымов по-новому увидел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дил красоту природы, показа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у в тесной связи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Автопортрет 1908г"/>
          <p:cNvPicPr/>
          <p:nvPr/>
        </p:nvPicPr>
        <p:blipFill>
          <a:blip r:embed="rId1"/>
          <a:stretch/>
        </p:blipFill>
        <p:spPr>
          <a:xfrm>
            <a:off x="609480" y="1447920"/>
            <a:ext cx="472464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164F-03EB-4A4E-BC68-E8E93DD9813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943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. П. Крымов (в центре) среди студентов Московского областного художественного училища памяти 1905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Н"/>
          <p:cNvPicPr/>
          <p:nvPr/>
        </p:nvPicPr>
        <p:blipFill>
          <a:blip r:embed="rId1"/>
          <a:stretch/>
        </p:blipFill>
        <p:spPr>
          <a:xfrm>
            <a:off x="609480" y="228600"/>
            <a:ext cx="795996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ECA0-C0DF-467A-A825-B6C1073071E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. П. Крымов вошел в историю искусства как певец русской природы, среди которой мы живем и трудим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648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йзажах Крым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щущается глубо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вь к русс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е, к Родин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вь, которую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ет передать на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рител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его солнечных картин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омко звучит радост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верждение жизни, крас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шей великой Родин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астья жить на нашей зем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Утро 1914г"/>
          <p:cNvPicPr/>
          <p:nvPr/>
        </p:nvPicPr>
        <p:blipFill>
          <a:blip r:embed="rId1"/>
          <a:stretch/>
        </p:blipFill>
        <p:spPr>
          <a:xfrm>
            <a:off x="3368520" y="762120"/>
            <a:ext cx="5775480" cy="3232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Осень 1918 г"/>
          <p:cNvPicPr/>
          <p:nvPr/>
        </p:nvPicPr>
        <p:blipFill>
          <a:blip r:embed="rId2"/>
          <a:stretch/>
        </p:blipFill>
        <p:spPr>
          <a:xfrm>
            <a:off x="5562720" y="3971880"/>
            <a:ext cx="358128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Дата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388C-2445-489D-913B-6D2DE01708A1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311C-7619-4826-A820-1445E613306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ое место в творчестве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.П.Крымова занимает изображение зи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05160" y="18284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нно в зимних пейзажах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ой силой проявилос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 Н. П. Крым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ечатлевать в живопис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отнах поэзию будн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оем и тишиной веет о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рной, неторопливой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ческие фигур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вляясь неотъемлемой част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роды, помогают бол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убокому раскрытию 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ояния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krimov19"/>
          <p:cNvPicPr/>
          <p:nvPr/>
        </p:nvPicPr>
        <p:blipFill>
          <a:blip r:embed="rId1"/>
          <a:stretch/>
        </p:blipFill>
        <p:spPr>
          <a:xfrm>
            <a:off x="0" y="990720"/>
            <a:ext cx="4853160" cy="2514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krimov7"/>
          <p:cNvPicPr/>
          <p:nvPr/>
        </p:nvPicPr>
        <p:blipFill>
          <a:blip r:embed="rId2"/>
          <a:stretch/>
        </p:blipFill>
        <p:spPr>
          <a:xfrm>
            <a:off x="533520" y="3657600"/>
            <a:ext cx="42670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130A-865B-4455-BD56-2B58D6F0C08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86692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«Зимний вечер», 1919 г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Зимний вечер"/>
          <p:cNvPicPr/>
          <p:nvPr/>
        </p:nvPicPr>
        <p:blipFill>
          <a:blip r:embed="rId1"/>
          <a:stretch/>
        </p:blipFill>
        <p:spPr>
          <a:xfrm>
            <a:off x="0" y="0"/>
            <a:ext cx="9144000" cy="570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0153-8410-44D4-AA8F-B60DE28FC85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Составление рабочих материало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е настроение создается у вас, когда вы смотрите на картину Крымова «Зимний вечер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алось ли художнику передать красоту зимнего веч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с первого взгляда привлекает в картин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признаки наступающего вечера вы видите на картине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м изобразил художник небо в предвечерний час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ми изобразил художник деревь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ем особенности построения картин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цвета использовал художник для описания зимнего вечер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чувствуете вы и о чем думаете, когда смотрите на этот пейзаж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E97A-6D3D-4E2A-B524-11B1C4A8DB5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План сочинения-описания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 П. Крымов — замечательный русский худож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Зима в изображении художника Н. П. Крым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ки наступления зимнего вечер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тени,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снег,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небо, возду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собенности композиции пейзаж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Цвета, используемые художником дл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я зимнего веч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акие чувства и мысли вызывает эта карти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489D-A427-4353-BBC1-FC3B767F9FE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Систематизация материал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ределите данный материал по смысловым группам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ишина сельской жизни; предвечерний час; лучи заходящего солнц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дужные краски цвета неба и снега; уютный вечер в деревне; пок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миротворенно; на переднем плане густая тень от холма; сади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лнце и отражает длинные предвечерние тени на снегу; длин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ень от протоптанной тропинки, от фигур людей; небо темнее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но зеленовато-серое; цвет снега синеватый с фиолетов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тенком; впечатление движения; тропинки тянутся по диагонали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верх; в центре высокие деревья, колокольня; лошади, везущие воз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еном; люди, идущие по тропинке; надвигающаяся тен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холод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цвета: серовато-голубой, лиловый цвет снега, зеленовато-сер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цвет неба; ощущение морозного вечера; теплые цвета: желтоват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ричневые стены домов и сараев, желтоватый отблеск око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ыжевато-коричневые деревья, розоватый оттенок неба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ятно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покойное, умиротворенное, хорошее, приподнятое, прекрасно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ветлое настроени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cer</cp:lastModifiedBy>
  <dcterms:modified xsi:type="dcterms:W3CDTF">2023-02-01T10:08:08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