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CBB-9652-4894-9B63-DF164BB2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D58-4F40-422E-9035-EF53BAD9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CF4-4E1B-497C-BB03-173692C9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B49-89A6-405E-96CC-413DC489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6AE-2D83-4636-8BE3-44113711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9AF1-01FA-4326-AFDC-1D062968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108-4826-404D-9C91-E2136572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838-4F90-43E1-9EBA-1C4643EA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5A3-804D-49E2-A69D-50B3D797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335-DA8A-4EF9-A69C-77AA5310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AB8-74C9-4B1B-8DF4-97F51A91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974-A67E-4F09-B266-8C159EB7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9175"/>
            </a:gs>
            <a:gs pos="100000">
              <a:srgbClr val="dddd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FEE0-EEAE-497A-BE6E-859A516B1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{FF9E46AD-451C-4B8F-BD71-9B821AA36379}"/>
          <p:cNvPicPr/>
          <p:nvPr/>
        </p:nvPicPr>
        <p:blipFill>
          <a:blip r:embed="rId1"/>
          <a:stretch/>
        </p:blipFill>
        <p:spPr>
          <a:xfrm>
            <a:off x="2050920" y="1628640"/>
            <a:ext cx="4249800" cy="42339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763640" y="33336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знь и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.Н.Толстого(1828-19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55640" y="549360"/>
            <a:ext cx="424836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ой излагает своё понимание христианского вероучения. В частности, он писал, что смысл истинного христианства восходит к Нагорной проповеди, и её главной заповеди «непротивление злу насилие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ю бессмертия следует понимать как вечную признательность живых за оказанные им благоде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ство Божие на земле заключается в «мире всех людей между соб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tolstoy"/>
          <p:cNvPicPr/>
          <p:nvPr/>
        </p:nvPicPr>
        <p:blipFill>
          <a:blip r:embed="rId1"/>
          <a:stretch/>
        </p:blipFill>
        <p:spPr>
          <a:xfrm>
            <a:off x="324000" y="260280"/>
            <a:ext cx="37954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Толстой за плугорм"/>
          <p:cNvPicPr/>
          <p:nvPr/>
        </p:nvPicPr>
        <p:blipFill>
          <a:blip r:embed="rId1"/>
          <a:stretch/>
        </p:blipFill>
        <p:spPr>
          <a:xfrm>
            <a:off x="4284720" y="1773360"/>
            <a:ext cx="4572000" cy="3224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tolstoy"/>
          <p:cNvPicPr/>
          <p:nvPr/>
        </p:nvPicPr>
        <p:blipFill>
          <a:blip r:embed="rId2"/>
          <a:stretch/>
        </p:blipFill>
        <p:spPr>
          <a:xfrm>
            <a:off x="179280" y="907920"/>
            <a:ext cx="38736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{14E02EF6-5C57-46E0-8F48-90A993E8679D}"/>
          <p:cNvPicPr/>
          <p:nvPr/>
        </p:nvPicPr>
        <p:blipFill>
          <a:blip r:embed="rId1"/>
          <a:stretch/>
        </p:blipFill>
        <p:spPr>
          <a:xfrm>
            <a:off x="611280" y="333360"/>
            <a:ext cx="3625920" cy="5622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900000" y="623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 188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427280" y="2276640"/>
            <a:ext cx="44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езкие высказывания прот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ициального правосл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тейший синод в 1901 году отлуч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ого от церкв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ная деятельнос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80-19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шет для «Игнатов и их детей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вествовании появляется экспрессия вместо прежнего пространного повеств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скрес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Хаджи-Мура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осле б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емейная жиз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62 году женился на дочери московского врача Софье Андреевне Берс. Переехали в Ясную Поля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13 детей осталось 7. Две утраты - сына Ванечки (1895) и дочери Маши (19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я сложны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80813221948a33167ec111"/>
          <p:cNvPicPr/>
          <p:nvPr/>
        </p:nvPicPr>
        <p:blipFill>
          <a:blip r:embed="rId1"/>
          <a:srcRect l="0" t="0" r="0" b="7653"/>
          <a:stretch/>
        </p:blipFill>
        <p:spPr>
          <a:xfrm>
            <a:off x="755640" y="1628640"/>
            <a:ext cx="28576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{AAEC4B2C-3945-44E8-9C65-250BBAA40E2F}"/>
          <p:cNvPicPr/>
          <p:nvPr/>
        </p:nvPicPr>
        <p:blipFill>
          <a:blip r:embed="rId1"/>
          <a:stretch/>
        </p:blipFill>
        <p:spPr>
          <a:xfrm>
            <a:off x="611280" y="115920"/>
            <a:ext cx="7993080" cy="57434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664200" y="589752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я Толстого: Михаил, Лев Николаевич, Ванечка, Лев, Александ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, Татьяна, Софья Андреевна, Мария. Фото 1892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следний пу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очь с 27 на 28 октября 82-летний Толстой ушёл из до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правился на ю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ути он заболе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шёл на станции Астапово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ноября 1910 года умер от воспаления лёг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РОДОСЛОВ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ки принадлежали к старинному дворянскому 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прадед – Пётр Андреевич Толстой – при Петр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 пожалован поместьями, при Петр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казался в опале и закончил жизнь в Соловецком монасты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д – Илья Андреевич, служил офицером  в Преображенском полку. После женитьбы на дочери военного министра вышел в отставку, затем переехал в Казань, где служил губернатором до самой смер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{5AC884B5-A5DE-4304-9C93-B46F1BEE452C}"/>
          <p:cNvPicPr/>
          <p:nvPr/>
        </p:nvPicPr>
        <p:blipFill>
          <a:blip r:embed="rId1"/>
          <a:stretch/>
        </p:blipFill>
        <p:spPr>
          <a:xfrm>
            <a:off x="971640" y="476280"/>
            <a:ext cx="6978600" cy="4213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685080" y="5013360"/>
            <a:ext cx="765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лся Лев Николаевич Толстой 28 января в имении Ясная Поля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мье было пятеро детей: Николай, Сергей, Дмитрий, Лев и М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дение дочери стоило Марии Николаевне 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ёве в то время было два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м занималась тётя Татьяна Александровна Ерголь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чё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мерти отца, бабушки и тёти детей увезли в Казань под опеку Пелагеи Ильиничны Юшк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4 – поступление в университет (1 год учится на отделении восточных языков, два года на юридическом факультете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7 -  бросает  университет. Но стал одним из самых образованных людей сво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images"/>
          <p:cNvPicPr/>
          <p:nvPr/>
        </p:nvPicPr>
        <p:blipFill>
          <a:blip r:embed="rId1"/>
          <a:stretch/>
        </p:blipFill>
        <p:spPr>
          <a:xfrm>
            <a:off x="1619280" y="1268280"/>
            <a:ext cx="5832360" cy="3667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28640" y="5249880"/>
            <a:ext cx="67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занский университет тог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 года искан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ется хозяйственной деятельностью в Ясной Поля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аждается светской жизн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авал экзамен на степень кандидата права в Петербур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ил в канцелярии Тульского депутатского собр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{82B45C3D-047C-4CBE-9EE0-E1F2F69F49AC}"/>
          <p:cNvPicPr/>
          <p:nvPr/>
        </p:nvPicPr>
        <p:blipFill>
          <a:blip r:embed="rId1"/>
          <a:stretch/>
        </p:blipFill>
        <p:spPr>
          <a:xfrm>
            <a:off x="179280" y="981000"/>
            <a:ext cx="4481640" cy="5162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828720" y="630864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ой Л.Н. 184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енная служ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51 – вместе с братом Николаем уехал на Кавказ в действующую арм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с началом русско-турецкой войны (1853-1856) переводится в Дунайскую армию. Защищал Севастополь. Домой вернулся в 1855 году с орденом Св. Анны «За храбрость» и медалью «За защиту Севастопол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{A7D55A7E-D2F9-4CA7-9E75-BE6455D03F28}"/>
          <p:cNvPicPr/>
          <p:nvPr/>
        </p:nvPicPr>
        <p:blipFill>
          <a:blip r:embed="rId1"/>
          <a:stretch/>
        </p:blipFill>
        <p:spPr>
          <a:xfrm>
            <a:off x="590400" y="1600200"/>
            <a:ext cx="3772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тературная деятельность 1 половины 50-х г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авказе написал повесть «Детство», которую отправил в «Современни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55 год расска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евастополь в декабре месяц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вастополь в ма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вастополь в августе 1855 г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{E950667F-785E-4276-877E-08CA55A67AC6}"/>
          <p:cNvPicPr/>
          <p:nvPr/>
        </p:nvPicPr>
        <p:blipFill>
          <a:blip r:embed="rId1"/>
          <a:stretch/>
        </p:blipFill>
        <p:spPr>
          <a:xfrm>
            <a:off x="468360" y="1628640"/>
            <a:ext cx="4038480" cy="3672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1045440" y="566100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ой в «Современни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 половина 1850-х г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улся с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унулся в литературную жизнь Петербур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57, 1860-1861  гг. – совершает заграничные путеше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ховные иск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8:43:10Z</dcterms:created>
  <dc:creator>User</dc:creator>
  <dc:description/>
  <dc:language>en-US</dc:language>
  <cp:lastModifiedBy>RePack by SPecialiST</cp:lastModifiedBy>
  <dcterms:modified xsi:type="dcterms:W3CDTF">2016-02-19T19:02:45Z</dcterms:modified>
  <cp:revision>9</cp:revision>
  <dc:subject/>
  <dc:title>Слайд 1</dc:title>
</cp:coreProperties>
</file>