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B39-6817-476E-B709-0B45B112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227-8D8A-494A-BE10-CEBEB34C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30D-D5FC-49D3-BCCB-D4A7A900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BDD-0769-4731-B102-08314256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C97F-91C4-49F4-B142-262999F0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1C2D-E39A-4BEC-A289-313DF604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A94E-5789-4FFC-9F53-BB5FA97F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927C-465F-4312-BE14-05E61DEF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B007-A1C6-4508-A5D0-C73C56BC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BC41-8A2E-41AE-B4CC-23482D53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A57A-8568-4C0E-B89A-40A03261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3C9-93A8-4B09-B7CE-9BB567EC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6685-26B4-4BC2-B765-A873294F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69C6-1B28-4496-A3D3-CB168DE4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69FF-5AFD-4955-AF93-94CF465F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7ECF-F7A0-4AD5-9871-3859BEDD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37DE-3F87-463E-B2B1-37D300C3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34F-1513-4C43-BD82-1D80C716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95E-BCBD-486B-B20E-3575B2A0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3DB-17B7-4BF9-9207-82C3A343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C69-A58E-48B1-95C5-41A53293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D70-B002-4913-8B0A-8D0908E9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8B4-4E11-4DD9-89FE-930B94FD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D87-2AF2-41C2-92E2-FA7F70BE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3057-DB9A-4212-9D92-DBFA2D3D55B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1F51-A8A2-436C-A08D-14AD27DFB96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  <a:ea typeface="Calibri"/>
              </a:rPr>
              <a:t>Полный дифференциал функции двух и более переменных. Решение задач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1"/>
              <p:cNvSpPr txBox="1"/>
              <p:nvPr/>
            </p:nvSpPr>
            <p:spPr>
              <a:xfrm>
                <a:off x="8467560" y="6313320"/>
                <a:ext cx="2080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8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7"/>
              <p:cNvSpPr txBox="1"/>
              <p:nvPr/>
            </p:nvSpPr>
            <p:spPr>
              <a:xfrm>
                <a:off x="7099200" y="3886200"/>
                <a:ext cx="1481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1"/>
              <p:cNvSpPr txBox="1"/>
              <p:nvPr/>
            </p:nvSpPr>
            <p:spPr>
              <a:xfrm>
                <a:off x="8407440" y="6313320"/>
                <a:ext cx="331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7"/>
              <p:cNvSpPr txBox="1"/>
              <p:nvPr/>
            </p:nvSpPr>
            <p:spPr>
              <a:xfrm>
                <a:off x="7099200" y="3886200"/>
                <a:ext cx="1481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8"/>
              <p:cNvSpPr txBox="1"/>
              <p:nvPr/>
            </p:nvSpPr>
            <p:spPr>
              <a:xfrm>
                <a:off x="304920" y="5079960"/>
                <a:ext cx="2209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1"/>
              <p:cNvSpPr txBox="1"/>
              <p:nvPr/>
            </p:nvSpPr>
            <p:spPr>
              <a:xfrm>
                <a:off x="8416800" y="6324480"/>
                <a:ext cx="3128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3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8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1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7099200" y="3886200"/>
                <a:ext cx="1481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3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8"/>
              <p:cNvSpPr txBox="1"/>
              <p:nvPr/>
            </p:nvSpPr>
            <p:spPr>
              <a:xfrm>
                <a:off x="304920" y="5079960"/>
                <a:ext cx="2209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9"/>
              <p:cNvSpPr txBox="1"/>
              <p:nvPr/>
            </p:nvSpPr>
            <p:spPr>
              <a:xfrm>
                <a:off x="2438280" y="5105520"/>
                <a:ext cx="162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10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8407440" y="6324480"/>
                <a:ext cx="331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1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2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2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7"/>
              <p:cNvSpPr txBox="1"/>
              <p:nvPr/>
            </p:nvSpPr>
            <p:spPr>
              <a:xfrm>
                <a:off x="7099200" y="3886200"/>
                <a:ext cx="1481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1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304920" y="5079960"/>
                <a:ext cx="2209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9"/>
              <p:cNvSpPr txBox="1"/>
              <p:nvPr/>
            </p:nvSpPr>
            <p:spPr>
              <a:xfrm>
                <a:off x="2438280" y="5105520"/>
                <a:ext cx="162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10"/>
              <p:cNvSpPr txBox="1"/>
              <p:nvPr/>
            </p:nvSpPr>
            <p:spPr>
              <a:xfrm>
                <a:off x="4038480" y="5105520"/>
                <a:ext cx="26528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у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1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1"/>
              <p:cNvSpPr txBox="1"/>
              <p:nvPr/>
            </p:nvSpPr>
            <p:spPr>
              <a:xfrm>
                <a:off x="8407440" y="6313320"/>
                <a:ext cx="331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6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68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7"/>
              <p:cNvSpPr txBox="1"/>
              <p:nvPr/>
            </p:nvSpPr>
            <p:spPr>
              <a:xfrm>
                <a:off x="7099200" y="3886200"/>
                <a:ext cx="1481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0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8"/>
              <p:cNvSpPr txBox="1"/>
              <p:nvPr/>
            </p:nvSpPr>
            <p:spPr>
              <a:xfrm>
                <a:off x="304920" y="5079960"/>
                <a:ext cx="2209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9"/>
              <p:cNvSpPr txBox="1"/>
              <p:nvPr/>
            </p:nvSpPr>
            <p:spPr>
              <a:xfrm>
                <a:off x="2438280" y="5105520"/>
                <a:ext cx="162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10"/>
              <p:cNvSpPr txBox="1"/>
              <p:nvPr/>
            </p:nvSpPr>
            <p:spPr>
              <a:xfrm>
                <a:off x="4038480" y="5105520"/>
                <a:ext cx="26528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у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11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12"/>
              <p:cNvSpPr txBox="1"/>
              <p:nvPr/>
            </p:nvSpPr>
            <p:spPr>
              <a:xfrm>
                <a:off x="6629400" y="5105520"/>
                <a:ext cx="2019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⋅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Прямоугольник 2"/>
          <p:cNvSpPr/>
          <p:nvPr/>
        </p:nvSpPr>
        <p:spPr>
          <a:xfrm>
            <a:off x="352080" y="15228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11"/>
              <p:cNvSpPr txBox="1"/>
              <p:nvPr/>
            </p:nvSpPr>
            <p:spPr>
              <a:xfrm>
                <a:off x="8407440" y="6324480"/>
                <a:ext cx="331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5562720" y="6858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7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4"/>
              <p:cNvSpPr txBox="1"/>
              <p:nvPr/>
            </p:nvSpPr>
            <p:spPr>
              <a:xfrm>
                <a:off x="380880" y="1752480"/>
                <a:ext cx="2252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7"/>
              <p:cNvSpPr txBox="1"/>
              <p:nvPr/>
            </p:nvSpPr>
            <p:spPr>
              <a:xfrm>
                <a:off x="2666880" y="1905120"/>
                <a:ext cx="1481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8"/>
              <p:cNvSpPr txBox="1"/>
              <p:nvPr/>
            </p:nvSpPr>
            <p:spPr>
              <a:xfrm>
                <a:off x="228600" y="2946240"/>
                <a:ext cx="220968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12"/>
              <p:cNvSpPr txBox="1"/>
              <p:nvPr/>
            </p:nvSpPr>
            <p:spPr>
              <a:xfrm>
                <a:off x="2514600" y="3124080"/>
                <a:ext cx="2019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⋅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16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2"/>
          <p:cNvSpPr/>
          <p:nvPr/>
        </p:nvSpPr>
        <p:spPr>
          <a:xfrm>
            <a:off x="352080" y="15228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11"/>
              <p:cNvSpPr txBox="1"/>
              <p:nvPr/>
            </p:nvSpPr>
            <p:spPr>
              <a:xfrm>
                <a:off x="8407440" y="6313320"/>
                <a:ext cx="331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5562720" y="6858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2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4"/>
              <p:cNvSpPr txBox="1"/>
              <p:nvPr/>
            </p:nvSpPr>
            <p:spPr>
              <a:xfrm>
                <a:off x="380880" y="1752480"/>
                <a:ext cx="2252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5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6"/>
              <p:cNvSpPr txBox="1"/>
              <p:nvPr/>
            </p:nvSpPr>
            <p:spPr>
              <a:xfrm>
                <a:off x="2666880" y="1905120"/>
                <a:ext cx="1481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1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7"/>
              <p:cNvSpPr txBox="1"/>
              <p:nvPr/>
            </p:nvSpPr>
            <p:spPr>
              <a:xfrm>
                <a:off x="228600" y="2946240"/>
                <a:ext cx="220968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8"/>
              <p:cNvSpPr txBox="1"/>
              <p:nvPr/>
            </p:nvSpPr>
            <p:spPr>
              <a:xfrm>
                <a:off x="2514600" y="3124080"/>
                <a:ext cx="2019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⋅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9"/>
              <p:cNvSpPr txBox="1"/>
              <p:nvPr/>
            </p:nvSpPr>
            <p:spPr>
              <a:xfrm>
                <a:off x="1676520" y="4419720"/>
                <a:ext cx="55767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⋅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Rectangle 16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ИССЛЕДОВАНИЕ ФУНКЦИИ МНОГИХ ПЕРЕМЕННЫХ НА ЭКСТРЕМУ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80520" y="45684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ункция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имеет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максимум (минимум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 точке М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если существует окрестность этой точки, такая, что для всех точек М(х;у), принадлежащих этой окрестности и области определения функции, значение функции в точке М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больше (меньше), чем ее значение в любой другой точке М(х;у) из этой окрестности, т.е. выполняется условие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 (соответствен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ксимум или минимум функции называется ее экстремумом. Точка М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, в которой функция имеет экстремум,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точкой экстремум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Необходимые условия существования экстремум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точкаМ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  является точкой экстремум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, то в этой точке частные производные первого порядка равны нулю. Т.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е точки называются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критическими (стационарными) точками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всякая критическая (стационарная) точка является точкой экстремум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590920" y="3733920"/>
            <a:ext cx="3997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https://scask.ru/archive/arch.php?path=../htm/stu.sernam/book_msh/files.book&amp;file=msh_229.files/image4.gif"/>
          <p:cNvPicPr/>
          <p:nvPr/>
        </p:nvPicPr>
        <p:blipFill>
          <a:blip r:embed="rId1"/>
          <a:stretch/>
        </p:blipFill>
        <p:spPr>
          <a:xfrm>
            <a:off x="380880" y="385920"/>
            <a:ext cx="7239240" cy="64720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0" y="1447920"/>
            <a:ext cx="9144000" cy="3581280"/>
          </a:xfrm>
          <a:prstGeom prst="rect">
            <a:avLst/>
          </a:prstGeom>
          <a:gradFill rotWithShape="0">
            <a:gsLst>
              <a:gs pos="0">
                <a:srgbClr val="ff9090"/>
              </a:gs>
              <a:gs pos="100000">
                <a:srgbClr val="ffe0e0"/>
              </a:gs>
            </a:gsLst>
            <a:lin ang="16200000"/>
          </a:gradFill>
          <a:ln w="9360">
            <a:solidFill>
              <a:srgbClr val="cc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еометрическим смысл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полного дифференциала функции двух переменных f(x, y) в точке (х0, у0) является приращение аппликаты (координаты z) касательной плоскости к поверхности при переходе от точки (х0, у0) к точке (х0+Dх, у0+Dу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Как видно, геометрический смысл полного дифференциала функции двух переменных является пространственным аналогом геометрического смысла дифференциала функции одной перемен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остаточные условия существования экстремум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усть функция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 дважды непрерывно дифференцируема в окрестности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критической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точки М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.    Введем обозначен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76435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-360" y="16761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 составим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дискриминант(определитель)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огда точка  М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вляется точкой минимума, если в этой точке 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0, ∆&gt;0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вляется точкой максимума, если в этой точке 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lt;0, ∆&gt;0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 является точкой экстремума, если в этой точке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∆&lt;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1" name="Picture 1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027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ть на экстремум функцию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= х</a:t>
            </a:r>
            <a:r>
              <a:rPr b="0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+ ху +у</a:t>
            </a:r>
            <a:r>
              <a:rPr b="0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3х – 6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1"/>
              <p:cNvSpPr txBox="1"/>
              <p:nvPr/>
            </p:nvSpPr>
            <p:spPr>
              <a:xfrm>
                <a:off x="8458200" y="632448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Рисунок 9" descr="http://www.mathprofi.ru/f/chastnye_proizvodnye_primery_clip_image126.gif"/>
          <p:cNvPicPr/>
          <p:nvPr/>
        </p:nvPicPr>
        <p:blipFill>
          <a:blip r:embed="rId1"/>
          <a:stretch/>
        </p:blipFill>
        <p:spPr>
          <a:xfrm>
            <a:off x="2819520" y="3809880"/>
            <a:ext cx="32763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2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0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1"/>
              <p:cNvSpPr txBox="1"/>
              <p:nvPr/>
            </p:nvSpPr>
            <p:spPr>
              <a:xfrm>
                <a:off x="8458200" y="632448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467560" y="6313320"/>
                <a:ext cx="2080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1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1"/>
              <p:cNvSpPr txBox="1"/>
              <p:nvPr/>
            </p:nvSpPr>
            <p:spPr>
              <a:xfrm>
                <a:off x="8467560" y="6313320"/>
                <a:ext cx="2080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1020240" y="18288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11"/>
              <p:cNvSpPr txBox="1"/>
              <p:nvPr/>
            </p:nvSpPr>
            <p:spPr>
              <a:xfrm>
                <a:off x="8458200" y="6313320"/>
                <a:ext cx="2286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8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36232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апреля 20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Красноярс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1"/>
              <p:cNvSpPr txBox="1"/>
              <p:nvPr/>
            </p:nvSpPr>
            <p:spPr>
              <a:xfrm>
                <a:off x="8467560" y="6313320"/>
                <a:ext cx="2080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 VivoBook F540U</dc:creator>
  <dc:description/>
  <dc:language>en-US</dc:language>
  <cp:lastModifiedBy>User</cp:lastModifiedBy>
  <dcterms:modified xsi:type="dcterms:W3CDTF">2022-11-09T18:31:52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