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A4E-9B8F-4604-AC46-2954AE97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96A-A558-4CCD-A48D-FD0FD0B5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E6E-8C0B-4760-A9CF-62A083E6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6DC-4E98-48BC-9E1A-9AED4F7B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4FFD-5396-45AF-AE53-401F6BF2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1B69-852D-4690-90F5-FB06BD69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A8B-57C1-403B-A7B7-C97C473F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38B7-1C0F-4AA8-B4DD-E54505B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D322-3DB8-4BBE-968F-9886746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B5C2-F4B1-45CB-9C38-991E3CC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3D76-18FC-4FE4-94A9-A99A391B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112-6E0F-4BEC-8E62-F156E75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664D-E9D4-4A50-A4FA-E1D384E0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7EA1-D1F6-4EEE-B361-5C7285B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3DA9-D938-4122-96DB-B3F9F6C1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F3BA-4827-4C7A-9E0B-7C4E1B7C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FA56-3311-46AF-BBDE-A1D4ED01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B4E-F980-4D8B-AB16-BBBDAFCB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CE5-D4BE-4CC7-B47C-E700BEAB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451-369E-4D5E-B255-DBD6AC20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D35-8FD7-4812-BDE7-90145FBD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0C1-E513-4B2B-9351-72B339D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16A-EEAA-4A03-B1F8-5703E1C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C4A-665B-492A-9C83-A3693F97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2E3B-CAB0-445B-8965-6CAD4AEF04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7316-2EA1-4977-AA79-55A3CA1BDC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  <a:ea typeface="Calibri"/>
              </a:rPr>
              <a:t>Полный дифференциал функции двух и более переменных. Решение задач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1"/>
              <p:cNvSpPr txBox="1"/>
              <p:nvPr/>
            </p:nvSpPr>
            <p:spPr>
              <a:xfrm>
                <a:off x="8416800" y="6324480"/>
                <a:ext cx="3128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10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8407440" y="6324480"/>
                <a:ext cx="33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2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0"/>
              <p:cNvSpPr txBox="1"/>
              <p:nvPr/>
            </p:nvSpPr>
            <p:spPr>
              <a:xfrm>
                <a:off x="4038480" y="5105520"/>
                <a:ext cx="26528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у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1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4038480" y="5105520"/>
                <a:ext cx="26528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у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1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2"/>
              <p:cNvSpPr txBox="1"/>
              <p:nvPr/>
            </p:nvSpPr>
            <p:spPr>
              <a:xfrm>
                <a:off x="6629400" y="510552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2"/>
          <p:cNvSpPr/>
          <p:nvPr/>
        </p:nvSpPr>
        <p:spPr>
          <a:xfrm>
            <a:off x="352080" y="15228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1"/>
              <p:cNvSpPr txBox="1"/>
              <p:nvPr/>
            </p:nvSpPr>
            <p:spPr>
              <a:xfrm>
                <a:off x="8407440" y="6324480"/>
                <a:ext cx="33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5562720" y="6858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4"/>
              <p:cNvSpPr txBox="1"/>
              <p:nvPr/>
            </p:nvSpPr>
            <p:spPr>
              <a:xfrm>
                <a:off x="380880" y="1752480"/>
                <a:ext cx="2252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7"/>
              <p:cNvSpPr txBox="1"/>
              <p:nvPr/>
            </p:nvSpPr>
            <p:spPr>
              <a:xfrm>
                <a:off x="2666880" y="1905120"/>
                <a:ext cx="148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8"/>
              <p:cNvSpPr txBox="1"/>
              <p:nvPr/>
            </p:nvSpPr>
            <p:spPr>
              <a:xfrm>
                <a:off x="228600" y="2946240"/>
                <a:ext cx="220968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12"/>
              <p:cNvSpPr txBox="1"/>
              <p:nvPr/>
            </p:nvSpPr>
            <p:spPr>
              <a:xfrm>
                <a:off x="2514600" y="312408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2"/>
          <p:cNvSpPr/>
          <p:nvPr/>
        </p:nvSpPr>
        <p:spPr>
          <a:xfrm>
            <a:off x="352080" y="15228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5562720" y="6858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2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380880" y="1752480"/>
                <a:ext cx="2252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6"/>
              <p:cNvSpPr txBox="1"/>
              <p:nvPr/>
            </p:nvSpPr>
            <p:spPr>
              <a:xfrm>
                <a:off x="2666880" y="1905120"/>
                <a:ext cx="148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7"/>
              <p:cNvSpPr txBox="1"/>
              <p:nvPr/>
            </p:nvSpPr>
            <p:spPr>
              <a:xfrm>
                <a:off x="228600" y="2946240"/>
                <a:ext cx="220968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8"/>
              <p:cNvSpPr txBox="1"/>
              <p:nvPr/>
            </p:nvSpPr>
            <p:spPr>
              <a:xfrm>
                <a:off x="2514600" y="312408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9"/>
              <p:cNvSpPr txBox="1"/>
              <p:nvPr/>
            </p:nvSpPr>
            <p:spPr>
              <a:xfrm>
                <a:off x="1676520" y="4419720"/>
                <a:ext cx="5576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Rectangle 16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ИССЛЕДОВАНИЕ ФУНКЦИИ МНОГИХ ПЕРЕМЕННЫХ НА ЭКСТРЕМУ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0520" y="4568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имеет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максимум (минимум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точке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если существует окрестность этой точки, такая, что для всех точек М(х;у), принадлежащих этой окрестности и области определения функции, значение функции в точке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больше (меньше), чем ее значение в любой другой точке М(х;у) из этой окрестности, т.е. выполняется условие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 (соответствен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ксимум или минимум функции называется ее экстремумом. Точка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, в которой функция имеет экстремум,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очкой экстрему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Необходимые условия существования экстремум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точкаМ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 является точкой экстре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, то в этой точке частные производные первого порядка равны нулю. Т.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е точки 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ритическими (стационарными) точками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всякая критическая (стационарная) точка является точкой экстрему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90920" y="3733920"/>
            <a:ext cx="3997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s://scask.ru/archive/arch.php?path=../htm/stu.sernam/book_msh/files.book&amp;file=msh_229.files/image4.gif"/>
          <p:cNvPicPr/>
          <p:nvPr/>
        </p:nvPicPr>
        <p:blipFill>
          <a:blip r:embed="rId1"/>
          <a:stretch/>
        </p:blipFill>
        <p:spPr>
          <a:xfrm>
            <a:off x="380880" y="385920"/>
            <a:ext cx="7239240" cy="6472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0" y="1447920"/>
            <a:ext cx="9144000" cy="3581280"/>
          </a:xfrm>
          <a:prstGeom prst="rect">
            <a:avLst/>
          </a:prstGeom>
          <a:gradFill rotWithShape="0">
            <a:gsLst>
              <a:gs pos="0">
                <a:srgbClr val="ff9090"/>
              </a:gs>
              <a:gs pos="100000">
                <a:srgbClr val="ffe0e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еометрическим смысл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полного дифференциала функции двух переменных f(x, y) в точке (х0, у0) является приращение аппликаты (координаты z) касательной плоскости к поверхности при переходе от точки (х0, у0) к точке (х0+Dх, у0+Dу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Как видно, геометрический смысл полного дифференциала функции двух переменных является пространственным аналогом геометрического смысла дифференциала функции одной перемен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остаточные условия существования экстремум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усть функция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дважды непрерывно дифференцируема в окрестности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критической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точки М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.    Введем обозначен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643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-360" y="16761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составим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дискриминант(определитель)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гда точка  М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вляется точкой минимума, если в этой точке 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0, ∆&gt;0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вляется точкой максимума, если в этой точке 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lt;0, ∆&gt;0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 является точкой экстремума, если в этой точке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∆&lt;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1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027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ь на экстремум функцию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=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+ ху +у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3х – 6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1"/>
              <p:cNvSpPr txBox="1"/>
              <p:nvPr/>
            </p:nvSpPr>
            <p:spPr>
              <a:xfrm>
                <a:off x="8458200" y="632448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Рисунок 9" descr="http://www.mathprofi.ru/f/chastnye_proizvodnye_primery_clip_image126.gif"/>
          <p:cNvPicPr/>
          <p:nvPr/>
        </p:nvPicPr>
        <p:blipFill>
          <a:blip r:embed="rId1"/>
          <a:stretch/>
        </p:blipFill>
        <p:spPr>
          <a:xfrm>
            <a:off x="2819520" y="3809880"/>
            <a:ext cx="32763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2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0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1"/>
              <p:cNvSpPr txBox="1"/>
              <p:nvPr/>
            </p:nvSpPr>
            <p:spPr>
              <a:xfrm>
                <a:off x="8458200" y="632448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1020240" y="18288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8458200" y="6313320"/>
                <a:ext cx="2286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36232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апреля 20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 VivoBook F540U</dc:creator>
  <dc:description/>
  <dc:language>en-US</dc:language>
  <cp:lastModifiedBy>User</cp:lastModifiedBy>
  <dcterms:modified xsi:type="dcterms:W3CDTF">2022-11-09T18:31:52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