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B5B-D964-4546-8F0D-76D1AC08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BF3-B933-4A5E-B936-DE5973CA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477-9FC2-4325-9438-EE7F421D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B1A-A75F-4B1F-AA11-D79126FD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44C-C0DC-461E-86AF-113D3889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770F-33D6-43A2-89C3-89771D9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011F-235D-495E-8556-79E4C846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44E8-7428-4EC7-879D-FFA229B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B11C-C221-44AE-9797-FBF1A25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D11-0E92-4D7B-AA4C-06C077EE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FD0-17AF-4F60-96CD-C767D02E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9E7-AB38-4A55-8AD1-631FE3A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27F6-573F-40DF-9102-D17D43D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C18C-31BC-4C7D-9C39-899EE85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AB6A-D587-451B-88FC-1062B966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72CA-07FD-46CD-A9A4-C3BE660B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3DBA-EADE-4108-8C69-8E8F7E2E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C94-8F1B-4FAB-B7C0-16F4F17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1A4-C896-4A32-B6B0-33AF938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014-E798-440C-B7C0-773646C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9B6-5ADF-47B2-8832-55CCB54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9E9-1092-42A1-9386-AEBFEF2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2FE-8448-4AAB-85B5-1C9D7CF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D1F-B6F1-40C0-8183-5ABCE75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522-6642-4F08-851E-D1FDF1B048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C8F-73CE-4E4E-B52E-00B9BFFB57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лный дифференциал функции двух и более переменных. Решение задач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8416800" y="6324480"/>
                <a:ext cx="312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10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2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7099200" y="3886200"/>
                <a:ext cx="1481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304920" y="5079960"/>
                <a:ext cx="2209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438280" y="5105520"/>
                <a:ext cx="162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4038480" y="5105520"/>
                <a:ext cx="2652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1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2"/>
              <p:cNvSpPr txBox="1"/>
              <p:nvPr/>
            </p:nvSpPr>
            <p:spPr>
              <a:xfrm>
                <a:off x="6629400" y="510552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1"/>
              <p:cNvSpPr txBox="1"/>
              <p:nvPr/>
            </p:nvSpPr>
            <p:spPr>
              <a:xfrm>
                <a:off x="8407440" y="63244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8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2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2"/>
          <p:cNvSpPr/>
          <p:nvPr/>
        </p:nvSpPr>
        <p:spPr>
          <a:xfrm>
            <a:off x="352080" y="15228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11"/>
              <p:cNvSpPr txBox="1"/>
              <p:nvPr/>
            </p:nvSpPr>
            <p:spPr>
              <a:xfrm>
                <a:off x="8407440" y="6313320"/>
                <a:ext cx="331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5562720" y="6858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380880" y="1752480"/>
                <a:ext cx="2252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6"/>
              <p:cNvSpPr txBox="1"/>
              <p:nvPr/>
            </p:nvSpPr>
            <p:spPr>
              <a:xfrm>
                <a:off x="2666880" y="1905120"/>
                <a:ext cx="148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7"/>
              <p:cNvSpPr txBox="1"/>
              <p:nvPr/>
            </p:nvSpPr>
            <p:spPr>
              <a:xfrm>
                <a:off x="228600" y="2946240"/>
                <a:ext cx="220968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8"/>
              <p:cNvSpPr txBox="1"/>
              <p:nvPr/>
            </p:nvSpPr>
            <p:spPr>
              <a:xfrm>
                <a:off x="2514600" y="3124080"/>
                <a:ext cx="2019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9"/>
              <p:cNvSpPr txBox="1"/>
              <p:nvPr/>
            </p:nvSpPr>
            <p:spPr>
              <a:xfrm>
                <a:off x="1676520" y="4419720"/>
                <a:ext cx="5576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Rectangle 16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ССЛЕДОВАНИЕ ФУНКЦИИ МНОГИХ ПЕРЕМЕННЫХ НА ЭКСТРЕМУ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0520" y="4568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аксимум (минимум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если существует окрестность этой точки, такая, что для всех точек М(х;у), принадлежащих этой окрестности и области определения функции, значение функции в точке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больше (меньше), чем ее значение в любой другой точке М(х;у) из этой окрестности, т.е. выполняется услови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(соответствен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ксимум или минимум функции называется ее экстремумом. Точка 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, в которой функция имеет экстремум,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очкой экстрему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Необходим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точкаМ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 является точкой экстре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, то в этой точке частные производные первого порядка равны нулю. Т.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точки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ритическими (стационарными) точками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всякая критическая (стационарная) точка является точкой экстрему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90920" y="3733920"/>
            <a:ext cx="3997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s://scask.ru/archive/arch.php?path=../htm/stu.sernam/book_msh/files.book&amp;file=msh_229.files/image4.gif"/>
          <p:cNvPicPr/>
          <p:nvPr/>
        </p:nvPicPr>
        <p:blipFill>
          <a:blip r:embed="rId1"/>
          <a:stretch/>
        </p:blipFill>
        <p:spPr>
          <a:xfrm>
            <a:off x="380880" y="385920"/>
            <a:ext cx="7239240" cy="6472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0" y="1447920"/>
            <a:ext cx="9144000" cy="3581280"/>
          </a:xfrm>
          <a:prstGeom prst="rect">
            <a:avLst/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еометрическим смысл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полного дифференциала функции двух переменных f(x, y) в точке (х0, у0) является приращение аппликаты (координаты z) касательной плоскости к поверхности при переходе от точки (х0, у0) к точке (х0+Dх, у0+D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ак видно, геометрический смысл полного дифференциала функции двух переменных является пространственным аналогом геометрического смысла дифференциала функции одной переме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остаточные условия существования экстремум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усть функция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дважды непрерывно дифференцируема в окрестности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критической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точки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.    Введем обозначен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43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-360" y="16761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составим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дискриминант(определитель)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гда точка  М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х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у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ин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вляется точкой максимума, если в этой точке 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0, ∆&gt;0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 является точкой экстремума, если в этой точке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∆&lt;0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1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027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ь на экстремум функцию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=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+ ху +у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3х – 6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Рисунок 9" descr="http://www.mathprofi.ru/f/chastnye_proizvodnye_primery_clip_image126.gif"/>
          <p:cNvPicPr/>
          <p:nvPr/>
        </p:nvPicPr>
        <p:blipFill>
          <a:blip r:embed="rId1"/>
          <a:stretch/>
        </p:blipFill>
        <p:spPr>
          <a:xfrm>
            <a:off x="2819520" y="3809880"/>
            <a:ext cx="32763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2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0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8458200" y="6324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020240" y="18288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8458200" y="6313320"/>
                <a:ext cx="228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олный дифференциал функции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вух перем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961920" y="1828800"/>
            <a:ext cx="52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дифференциал функ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36232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апреля 20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8467560" y="6313320"/>
                <a:ext cx="208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570240" y="35053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144160" y="35056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йдем частные произв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3733920" y="2286000"/>
                <a:ext cx="1563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24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304920" y="3809880"/>
                <a:ext cx="225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27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2590920" y="3886200"/>
                <a:ext cx="1676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5689440" y="4216320"/>
                <a:ext cx="254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203720" y="3962520"/>
                <a:ext cx="2946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 VivoBook F540U</dc:creator>
  <dc:description/>
  <dc:language>en-US</dc:language>
  <cp:lastModifiedBy>User</cp:lastModifiedBy>
  <dcterms:modified xsi:type="dcterms:W3CDTF">2022-11-09T18:31:52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