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7C8-DF3E-492C-B3F9-44E947C3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F7F-EBBA-436B-9C90-00AC288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26E-46A9-4831-B50F-94DB87EC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6ED-3ED7-4BAC-9139-C131AE26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9283-732B-478C-B804-374A6DB1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6C59-EBCA-4F52-8CA7-8F92079B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EAE8-0DE8-41FF-B830-43CC1CDE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52CD-1A6F-41A1-9418-1E5A5420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73A6-52D5-4789-A37B-6FBD3AD7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87C7-9390-4CA8-81DC-787FFCB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8BE2-1610-4DB4-B565-E8CD1D8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2F1-C357-4BD9-A485-AF4C7BB5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440A-61A6-4AC6-9F7E-CE529B5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03F0-3F3A-4C22-AB8B-1A6C152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3BBE-13F7-4E39-8FB0-A3F0A8C1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1FDF-B9CA-498B-9F64-3AD9AB5D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0606-1182-44B1-BCBE-EE25A914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02E2C-2079-47BE-ABA8-143D58E8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815BD-2B4E-4209-AF69-9ECB2FC7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CDAE3-FD53-4437-B820-63227172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2A493-EE0A-42A1-8EEB-2D31EDA1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99E43-6295-4660-B4F9-F2BCAB5C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11C-57F5-460F-81CC-1920DBC5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373EC-B99D-495C-A675-5383BD5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210B0-6BCB-4439-99B7-7B4DC43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6DD1A-CC2E-4474-B146-B699E31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1FBDC-8652-4F31-8BC6-0095F6A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82A7A-A0F1-4B22-8B84-E3944695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EAD86-4947-4740-B096-D202517F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5628A-CCBD-4CCE-A07F-049B4B1B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668A-4252-4AE5-8643-3A559715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4D1E-D79F-477D-874F-18BFED5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28A8-033D-4719-818A-B2AA8D1E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419-7080-4083-9609-6426572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AC75-CBB4-4FDD-9FF8-636F654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D9F2-1C9D-49C3-B5F6-D11CDAED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2BB9-B75F-4DF6-B977-9E5F9CD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A24C-08B4-4605-A909-3E6B798E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7888-8966-479D-AFF4-945FA9B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E7653-DDD6-4DBE-81D5-B9DD8082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6E71F-23D5-4864-9F5C-87FBE17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8FD0-BF35-41C4-A0A1-D0A1DA2E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B713-FA11-4A38-82C6-A3E0196D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B3A46-321F-46C8-BEF8-3F972A4B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61D-9039-4145-A211-526C3EA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04FC6-551A-469F-9221-55CF4723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AC66F-0585-449B-BC97-442077BB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08030-6E61-4A35-8BE5-9C99BD04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D80C8-871E-4032-9972-233D260A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DC82E-FE7F-42E3-9073-194F459A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F58D0-CAFD-45CB-9669-5FC239D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AF1D8-6964-456D-BA05-69312F16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ED27D-2589-4EE2-98F0-D9B4DBC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FE17A-AC75-425D-8FC3-F9C97392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5E489-E933-4779-B169-E73FAC32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61A-80AA-419B-AF37-CB9FCFF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1F729-5A6D-4731-B6BF-F3D67C0B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13521-BB7C-4E83-9176-796AEC10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DE84C-A873-4F7B-B841-4E90C13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212C3-E062-4528-852C-BD3811D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3D63D-7317-463C-8E54-9A507A93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64B63-1AEB-4ACA-BC6C-832D45C3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A3D72-C10F-4C97-940E-7D0895B5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6A0A9-5DC7-4B52-8961-9D1D25D3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A7FF5-81ED-48EF-9DB6-B8E908CD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456D0-825E-4FFB-A397-89DD822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510-E9C8-4C10-80D2-2688236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E5C64-51CE-4B77-9379-0475B24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B9754-0EAB-4F2E-B3B5-3C92B52B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DC4D6-50F4-41FF-9EAA-A86B749B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818D5-88FD-45E0-83D7-E22B246D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900AE-E273-4D5B-A726-22FA8E9D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9611E-BA7B-4686-AC4D-007459A8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7490C-A6A9-49C7-887F-E0B8C2C6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3E2DA-587D-4684-8EB1-33894377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BAB6D-EEDD-4B50-84A1-3F6079DA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A330B-B402-482B-B6E4-BBD6D69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5FA-6630-465F-B38C-76031699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34970-B6C7-49F3-A31D-D7DE652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9EE45-E144-4844-882E-839A024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9587F-EAE0-4120-9311-EBC8835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FFE92-B03E-4038-A85F-B76EE727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9E345-1AAC-484F-8632-55A3D0BB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6A0-1D50-4BA0-8B79-91ECD5A2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A3D-7FB8-42BA-B0B6-6182A537AF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9AE3-90EE-4263-8979-9F648782C9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F3E-0F8B-4AAD-9C95-8B0AC8E9F7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53D6-3FF4-422B-90AC-D7A9395E24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9AC0-13FF-41E7-85D4-BE1FDA9608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9943-E90B-48CA-B3B7-06434C74E9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DA96-65B2-49F4-8E5E-F0C2758925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УЗЫКА РАЗНЫХ НАРОД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1640" y="43430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Выполнил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ученица 7 класса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Чикова Ан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Наставник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Давыдова Г.К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8.КИТАЙ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Users\Галина\Desktop\170620_p05_expats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-305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9.ШОТЛАНД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Галина\Desktop\depositphotos_107725728-stock-photo-scottish-bagpipe-orchestra-parade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76160" y="-381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0.РУС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Users\Галина\Desktop\AH5Q1693-1024x682.jpg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Users\Галина\Desktop\Marijj-EHl-foto-011.jpg"/>
          <p:cNvPicPr/>
          <p:nvPr/>
        </p:nvPicPr>
        <p:blipFill>
          <a:blip r:embed="rId2"/>
          <a:stretch/>
        </p:blipFill>
        <p:spPr>
          <a:xfrm>
            <a:off x="4038480" y="685800"/>
            <a:ext cx="5105520" cy="3171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C:\Users\Галина\Desktop\slovisha_fest.jpg"/>
          <p:cNvPicPr/>
          <p:nvPr/>
        </p:nvPicPr>
        <p:blipFill>
          <a:blip r:embed="rId3"/>
          <a:stretch/>
        </p:blipFill>
        <p:spPr>
          <a:xfrm>
            <a:off x="0" y="679320"/>
            <a:ext cx="4648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считаю, что у каждого народа достаточно своеобразная музыка и культура, но и по своему красива и гармонич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рослушивании различной музыки мы узнаём их традиции и обыча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альнейшем нам бы хотелось продолжить работу над своим проектом и изучить музыку других стра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ЧНИК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Музыка: учебник для учащихся 7кл. Общеобразоват.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.П.Сергеева, Е.Д.Критская.- М. : Просвещение,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Интернет-источник: 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www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me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u 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kipedi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rg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ДЕРЖ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Введение . Музыка народов мир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Цели и задач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Гипотез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ЪЕКТ ИССЛЕДОВАНИЯ И ЭТАПЫ ПРОЕК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ОСНОВАНИЕ И ПРОЕКТНЫЙ ПРОДУК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Список литературы и источни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659760" y="3199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 И 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160" y="13716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: ознакомить слушателей с произведениями разных стран, закрепить и обобщить знания детей о музыке этих стран и музыке своего народа, выявить уровень музыкальных знаний, развивать интеллект и находчивость, овладения прёмами слушания, пения во время работы над проектом. Развитие нравственности, формирование эстетического вку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: изучить дополнительную литературу по данной теме, познакомить с музыкой некоторых стран, про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2. ИСПАНСКОЕ ФЛАМЕНКО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C:\Users\Галина\Desktop\Spanish Classical.jpg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Users\Галина\Desktop\ERO_6626.jpg"/>
          <p:cNvPicPr/>
          <p:nvPr/>
        </p:nvPicPr>
        <p:blipFill>
          <a:blip r:embed="rId2"/>
          <a:stretch/>
        </p:blipFill>
        <p:spPr>
          <a:xfrm>
            <a:off x="0" y="1295280"/>
            <a:ext cx="4648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3. ГРЕЧЕ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C:\Users\Галина\Desktop\s1200.jpg"/>
          <p:cNvPicPr/>
          <p:nvPr/>
        </p:nvPicPr>
        <p:blipFill>
          <a:blip r:embed="rId1"/>
          <a:stretch/>
        </p:blipFill>
        <p:spPr>
          <a:xfrm>
            <a:off x="228600" y="1092240"/>
            <a:ext cx="85345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4.ЦЫГАН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Users\Галина\Desktop\unnamed.jpg"/>
          <p:cNvPicPr/>
          <p:nvPr/>
        </p:nvPicPr>
        <p:blipFill>
          <a:blip r:embed="rId1"/>
          <a:stretch/>
        </p:blipFill>
        <p:spPr>
          <a:xfrm>
            <a:off x="0" y="2514600"/>
            <a:ext cx="6019920" cy="434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Users\Галина\Desktop\e8acd73e6395bd0a7b448f85b4a1e1a4.jpg"/>
          <p:cNvPicPr/>
          <p:nvPr/>
        </p:nvPicPr>
        <p:blipFill>
          <a:blip r:embed="rId2"/>
          <a:stretch/>
        </p:blipFill>
        <p:spPr>
          <a:xfrm>
            <a:off x="4572000" y="1066680"/>
            <a:ext cx="45720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5.КУБИНСКАЯ САЛЬС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C:\Users\Галина\Desktop\s1200 (1).jpg"/>
          <p:cNvPicPr/>
          <p:nvPr/>
        </p:nvPicPr>
        <p:blipFill>
          <a:blip r:embed="rId1"/>
          <a:stretch/>
        </p:blipFill>
        <p:spPr>
          <a:xfrm>
            <a:off x="533520" y="1662120"/>
            <a:ext cx="69339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6. ЯПОН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4" descr="C:\Users\Галина\Desktop\Music_Japanese_women_with_the_tools_080618_.jpg"/>
          <p:cNvPicPr/>
          <p:nvPr/>
        </p:nvPicPr>
        <p:blipFill>
          <a:blip r:embed="rId1"/>
          <a:stretch/>
        </p:blipFill>
        <p:spPr>
          <a:xfrm>
            <a:off x="0" y="914400"/>
            <a:ext cx="6324480" cy="4648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C:\Users\Галина\Desktop\artworks-000032368962-ydx0vv-t500x500.jpg"/>
          <p:cNvPicPr/>
          <p:nvPr/>
        </p:nvPicPr>
        <p:blipFill>
          <a:blip r:embed="rId2"/>
          <a:stretch/>
        </p:blipFill>
        <p:spPr>
          <a:xfrm>
            <a:off x="5165640" y="2590920"/>
            <a:ext cx="397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7.ИНДИЙ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Users\Галина\Desktop\685458.jpg"/>
          <p:cNvPicPr/>
          <p:nvPr/>
        </p:nvPicPr>
        <p:blipFill>
          <a:blip r:embed="rId1"/>
          <a:stretch/>
        </p:blipFill>
        <p:spPr>
          <a:xfrm>
            <a:off x="304920" y="1168560"/>
            <a:ext cx="8534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9:50:31Z</dcterms:created>
  <dc:creator>1</dc:creator>
  <dc:description/>
  <dc:language>en-US</dc:language>
  <cp:lastModifiedBy>HP</cp:lastModifiedBy>
  <dcterms:modified xsi:type="dcterms:W3CDTF">2019-03-18T18:32:2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