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7238-77EB-4118-B45E-0586E3A6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572-F85C-46B1-B71E-B8106B70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B76-E9DC-4464-87D5-F44D5301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9FF-E26D-4EE0-9168-FE531C40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63B8-6989-4031-9CEF-6FCEA0C1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B456-8EE3-4D7A-AA0E-8B7F341E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50C7-8227-4A33-A8B5-DD2C2462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2873-C2C4-4C40-B950-FC01CBCD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14B5-12D1-4D26-913C-7778ED34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3432-15C0-4DFB-A853-16F65BF5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FB1A-5020-4302-99D1-56F4B2B9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DEF-18D4-42AD-8F26-5BEFCC0C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6D4A-71E0-4F88-A6D8-9A6523DF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B309-AD88-445B-A5C8-93673B49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8889-28D5-4AA1-8244-7C5FB1FA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E35D-F9C4-4FC7-9385-A591E957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F665-5E31-4370-B980-FC62263D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BA8F6-1569-401D-B5E0-FDBFEF6D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0D6A1-D2B0-42CC-BC6C-B8167047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FF4FC-DDEB-416E-93D0-F413E3CA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31B4C-65DE-411B-BA55-B85D6078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0F8F6-B179-4514-9614-7C3DDFAC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391-56E6-4B04-8F84-AAA3CDC7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76457-564C-4987-A798-EB963952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A088B-F37C-4FA1-808A-0A8766CD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6DA91-B0A4-4128-AB1B-A38622CF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DD33D-3B1A-4189-92A7-4F5338D7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C7C7CE-CCAF-4914-9506-9C080411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C729C-BB5F-4705-8EC6-E6E1B9B3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3E219-6121-4C3E-99E8-1852A72A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942A5-0F67-473D-A2C6-7B1A0F5A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8247F-11FA-4014-8C00-2A66BEDC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584DC-C37F-45DD-8B3C-A6F7D53E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BD5-0D6C-4F3E-BC96-6754B042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0D2BF-6D1F-4454-87F2-4B6876A2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82603-B141-4016-86E0-FB08B418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A2ED7-CEB7-45D6-B027-5AFB6E38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87F3F-82B0-4202-858F-7A08A2FF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71B28-959E-42C0-AFA5-F8537D6B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A5086-DEB5-41A0-A24F-99492647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6EC26-D1B6-4A69-BE62-47D88828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414ED-B908-43E0-83AA-73985D6A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CEA63-28D3-4230-8D00-C8304FA7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10B3F-FF49-41AD-94D7-FEE2BA51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E9AE-5B93-495F-9BE8-1670EFCE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1448CF-2F22-4501-B694-A0900EB6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B8B3D2-A200-4957-B581-95C18183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0A061D-5D67-4187-867C-6D5F2B3A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8755D4-51D8-4518-8A9A-CB95B846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498318-02CE-4C4D-80A3-2274EACC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4BB1B-B9DA-4601-8E69-22B3ABBC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84547-1391-4A88-8CA4-C6AFBE71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1E9181-9D5F-46BE-97CA-E5E57C95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4E8416-DCA8-4B4A-AF65-1DE1647B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145C56-13C8-4ABB-8ECF-3DC43F12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2F2-1126-40BF-BD9E-F829ACF1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1E5C30-2007-49BD-94D6-EA516A9F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27F80-6A39-4A3D-B81E-4C714277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AB50E9-EBD4-49C9-B4ED-93A0DFED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ACDDFB-20B8-4D33-9BA4-58EB10ED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08EA4D-71C6-41FE-AB91-B4EADC1F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64934E-57DE-474B-83BD-28363FEF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E1560B-73BC-4981-A907-0018E988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985960-761A-462F-9581-92C2CBA3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49E7E-B611-4BA3-BE04-33141F5D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811BC5-35C6-4A78-AB80-B1F68A16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B78-572D-4575-A9F3-AC2C1C46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62A630-8944-4030-9B1B-4C60A125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CA8A69-37B9-4DA5-9ABF-C5EB19C9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C2C268-ED2E-4993-8B13-46E78A52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ABE6A5-4538-4694-897E-914A3F9E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AA8F9F-9BDA-427F-A9B9-0C98E072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0ED37E-774F-4903-A12E-81865FE0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0D55F0-65F2-49A3-BD16-58FD6010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29C713-2B4C-408F-B851-BA50A2AD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D429FA-8E15-4838-A53B-1E7D5161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39747E-5F24-4DAE-9116-E8F8C31C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416-14AD-4B9B-AACB-87884AB3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B3B896-9925-48BF-B38E-80F44C07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09EB5-A584-4CE8-924D-FF5091DF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364720-8B90-424D-B460-CD5E067F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8864F3-ACA6-4382-A2CE-072B5B5C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7EE4C0-DE99-4FE8-B2BD-3EA02D87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A47-CA0D-4A90-8B25-6C382D22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B885-C228-40CB-8E4F-901EB64256E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DF19-C5B1-4A4B-BF5C-3D2D20D0D6E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4337-C045-4958-8720-E8D0EFA543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0C0A-E3A5-488E-A47A-9B4F5A829CD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2030-23F4-4D9E-A1E6-96032E926D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4B0E-63E5-47A9-A5EB-DD4018BA414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FCD3-CD0F-4D70-9326-F9FF45B5CFC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МУЗЫКА РАЗНЫХ НАРОДО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1640" y="43430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Выполнил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ученица 7 класса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Чикова Анн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Наставник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Давыдова Г.К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8.КИТАЙСКАЯ МУЗЫК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C:\Users\Галина\Desktop\170620_p05_expats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-305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9.ШОТЛАНДИЯ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2" descr="C:\Users\Галина\Desktop\depositphotos_107725728-stock-photo-scottish-bagpipe-orchestra-parade.jpg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76160" y="-381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10.РУССКАЯ МУЗЫК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2" descr="C:\Users\Галина\Desktop\AH5Q1693-1024x682.jpg"/>
          <p:cNvPicPr/>
          <p:nvPr/>
        </p:nvPicPr>
        <p:blipFill>
          <a:blip r:embed="rId1"/>
          <a:stretch/>
        </p:blipFill>
        <p:spPr>
          <a:xfrm>
            <a:off x="0" y="380988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C:\Users\Галина\Desktop\Marijj-EHl-foto-011.jpg"/>
          <p:cNvPicPr/>
          <p:nvPr/>
        </p:nvPicPr>
        <p:blipFill>
          <a:blip r:embed="rId2"/>
          <a:stretch/>
        </p:blipFill>
        <p:spPr>
          <a:xfrm>
            <a:off x="4038480" y="685800"/>
            <a:ext cx="5105520" cy="3171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C:\Users\Галина\Desktop\slovisha_fest.jpg"/>
          <p:cNvPicPr/>
          <p:nvPr/>
        </p:nvPicPr>
        <p:blipFill>
          <a:blip r:embed="rId3"/>
          <a:stretch/>
        </p:blipFill>
        <p:spPr>
          <a:xfrm>
            <a:off x="0" y="679320"/>
            <a:ext cx="46483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КЛЮЧ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 считаю, что у каждого народа достаточно своеобразная музыка и культура, но и по своему красива и гармоничн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рослушивании различной музыки мы узнаём их традиции и обыча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дальнейшем нам бы хотелось продолжить работу над своим проектом и изучить музыку других стран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СТОЧНИК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Музыка: учебник для учащихся 7кл. Общеобразоват. Учреждений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.П.Сергеева, Е.Д.Критская.- М. : Просвещение, 200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Интернет-источник: 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www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me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u 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kipedia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rg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ДЕРЖАНИ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Введение . Музыка народов мир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Цели и задач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.Гипотез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ЪЕКТ ИССЛЕДОВАНИЯ И ЭТАПЫ ПРОЕКТ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ОСНОВАНИЕ И ПРОЕКТНЫЙ ПРОДУКТ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. Список литературы и источник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659760" y="3199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ЕЛИ И ЗАДАЧ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3160" y="13716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ль: ознакомить слушателей с произведениями разных стран, закрепить и обобщить знания детей о музыке этих стран и музыке своего народа, выявить уровень музыкальных знаний, развивать интеллект и находчивость, овладения прёмами слушания, пения во время работы над проектом. Развитие нравственности, формирование эстетического вкус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и: изучить дополнительную литературу по данной теме, познакомить с музыкой некоторых стран, проанализировать полученную информа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2. ИСПАНСКОЕ ФЛАМЕНКО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5" descr="C:\Users\Галина\Desktop\Spanish Classical.jpg"/>
          <p:cNvPicPr/>
          <p:nvPr/>
        </p:nvPicPr>
        <p:blipFill>
          <a:blip r:embed="rId1"/>
          <a:stretch/>
        </p:blipFill>
        <p:spPr>
          <a:xfrm>
            <a:off x="4191120" y="1905120"/>
            <a:ext cx="4952880" cy="4952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C:\Users\Галина\Desktop\ERO_6626.jpg"/>
          <p:cNvPicPr/>
          <p:nvPr/>
        </p:nvPicPr>
        <p:blipFill>
          <a:blip r:embed="rId2"/>
          <a:stretch/>
        </p:blipFill>
        <p:spPr>
          <a:xfrm>
            <a:off x="0" y="1295280"/>
            <a:ext cx="4648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176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3. ГРЕЧЕСКАЯ МУЗЫКА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4" descr="C:\Users\Галина\Desktop\s1200.jpg"/>
          <p:cNvPicPr/>
          <p:nvPr/>
        </p:nvPicPr>
        <p:blipFill>
          <a:blip r:embed="rId1"/>
          <a:stretch/>
        </p:blipFill>
        <p:spPr>
          <a:xfrm>
            <a:off x="228600" y="1092240"/>
            <a:ext cx="85345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4.ЦЫГАНСКАЯ МУЗЫКА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4" descr="C:\Users\Галина\Desktop\unnamed.jpg"/>
          <p:cNvPicPr/>
          <p:nvPr/>
        </p:nvPicPr>
        <p:blipFill>
          <a:blip r:embed="rId1"/>
          <a:stretch/>
        </p:blipFill>
        <p:spPr>
          <a:xfrm>
            <a:off x="0" y="2514600"/>
            <a:ext cx="6019920" cy="4343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C:\Users\Галина\Desktop\e8acd73e6395bd0a7b448f85b4a1e1a4.jpg"/>
          <p:cNvPicPr/>
          <p:nvPr/>
        </p:nvPicPr>
        <p:blipFill>
          <a:blip r:embed="rId2"/>
          <a:stretch/>
        </p:blipFill>
        <p:spPr>
          <a:xfrm>
            <a:off x="4572000" y="1066680"/>
            <a:ext cx="457200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5.КУБИНСКАЯ САЛЬСА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4" descr="C:\Users\Галина\Desktop\s1200 (1).jpg"/>
          <p:cNvPicPr/>
          <p:nvPr/>
        </p:nvPicPr>
        <p:blipFill>
          <a:blip r:embed="rId1"/>
          <a:stretch/>
        </p:blipFill>
        <p:spPr>
          <a:xfrm>
            <a:off x="533520" y="1662120"/>
            <a:ext cx="693396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1896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6. ЯПОНСКАЯ МУЗЫКА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4" descr="C:\Users\Галина\Desktop\Music_Japanese_women_with_the_tools_080618_.jpg"/>
          <p:cNvPicPr/>
          <p:nvPr/>
        </p:nvPicPr>
        <p:blipFill>
          <a:blip r:embed="rId1"/>
          <a:stretch/>
        </p:blipFill>
        <p:spPr>
          <a:xfrm>
            <a:off x="0" y="914400"/>
            <a:ext cx="6324480" cy="46483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C:\Users\Галина\Desktop\artworks-000032368962-ydx0vv-t500x500.jpg"/>
          <p:cNvPicPr/>
          <p:nvPr/>
        </p:nvPicPr>
        <p:blipFill>
          <a:blip r:embed="rId2"/>
          <a:stretch/>
        </p:blipFill>
        <p:spPr>
          <a:xfrm>
            <a:off x="5165640" y="2590920"/>
            <a:ext cx="397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7.ИНДИЙСКАЯ МУЗЫК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C:\Users\Галина\Desktop\685458.jpg"/>
          <p:cNvPicPr/>
          <p:nvPr/>
        </p:nvPicPr>
        <p:blipFill>
          <a:blip r:embed="rId1"/>
          <a:stretch/>
        </p:blipFill>
        <p:spPr>
          <a:xfrm>
            <a:off x="304920" y="1168560"/>
            <a:ext cx="85341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1T09:50:31Z</dcterms:created>
  <dc:creator>1</dc:creator>
  <dc:description/>
  <dc:language>en-US</dc:language>
  <cp:lastModifiedBy>HP</cp:lastModifiedBy>
  <dcterms:modified xsi:type="dcterms:W3CDTF">2019-03-18T18:32:2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