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7148-4BE3-4B5B-8483-7FCAC0E3A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015A-DDAA-4B41-90B3-333877A91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2924-C8ED-439A-B5FB-4F76D73A7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C517-229F-4DE6-AE8F-73404006B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FB159-E3CE-47EB-9F68-2AC79A15D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D3F55-1869-459C-8652-C0A59CF68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03D38-F314-494B-9F26-E0FBF64F7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FBC09-817C-4AEE-8CE8-DE41F0F2D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7BF1B-676B-4FA1-B9F2-EDEDB77F3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63CAD-2947-4724-8CDB-961FAC5BF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8B799-37AB-4ED6-B4A1-BBF085180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84AB-E186-4AA0-A71E-20118C3EE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F3E53-653C-42A3-A7EB-1CC289CC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DC7A8-6132-4116-8BDC-59DE38D5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8DA3A-6DCE-46C0-AD89-18F78CDDC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7DB42-6247-425E-BBAF-28DA0ECB7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D3755-91F3-4E81-8588-DF3686AB7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41250D-4559-4AAA-A1DF-E8C5D34D0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AA3784-5FE6-4C90-9CD7-6E1158AB9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146DA0-CACF-4DF0-837A-43A7FA489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AAA52F-4BD5-4786-86F8-C531F2347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200ED6-A4A3-4F12-92D7-FD0FEB608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BE36-7BC9-4A02-A408-422AC61F9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21CFA2-5CCC-41D4-B094-FDF6C5FE8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902351-1223-4C06-9F0D-B848F10E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28D35E-B8B6-4E97-95D5-CFCB11FE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944B78-CAED-479A-97D6-8CF8CA6A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980DA9-CA36-4B3F-AE0A-BAA04CF45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59F919-D991-4D81-B2E9-95B6A428C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2001AE-C10C-4231-A435-7714FAC16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3F7E8-F2E7-44E3-9B47-12366C142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AAEA0-5B05-461E-821C-A489A4789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4188D-CD9A-47B5-B13B-FE01D16E6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FA54-BC3B-407C-93E9-A293A9C7E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C545C-FCC3-47D7-8AC5-8586AB4D3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49CA8-CD09-4AA9-B376-1A0CC8A10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1AEE2-F7E2-4D7B-ACBD-B919FBD1B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0EC6A-2AD2-478B-92E7-FA604F49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8935D-0856-4241-8181-81C16526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48696-AC87-4FC8-B303-85F76288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17EF1-43F7-42B3-BF66-787DB1963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DEAC2-676F-42B9-89C6-89B0DC67B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C82E8-0E66-4ED8-9336-B5E2A4F58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2DAA56-6C1A-4A2D-8416-B3329D9AA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82BE-7229-4EBD-81A7-B1B4144C1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A92E26-4F40-4F05-B695-FF3D4D416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E743E1-DB3F-487B-8578-4ABE078D0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81B19D-5449-4002-915D-F5622B518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A7E442-C73F-4256-86BE-A3298B24A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10D6E4-9755-4635-A4F9-37428051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0EFC57-BA0E-4815-9BF8-082F3118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D42A45-64E0-4876-8B8D-1B7DFB7B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327404-9131-4115-A3EA-ED33EEA1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0A76EA-9C80-4BFC-8A29-E5F7D181D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62F3F7-1940-46A8-A7A9-EC00FB2CD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DF1B-4487-446D-ADB0-8713E1053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6D3597-239B-4B6F-A53F-95199C7AE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A50CF6-8C9B-41D8-B6C3-7A8FAD339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BE0341-F837-4DD0-858D-CAD50DE55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47A4E0-14BD-4553-8FAF-BEB1F3E26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2AED7C-1F71-46FD-9398-76B0AF320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A66B49-2C61-448F-9983-666D945ED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43757F-7D6B-4EF8-BC82-4130473A6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2001DA-FED3-405F-BD69-546EF2A0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57B5B9-8C9A-452D-BF25-C1146D1C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2F1E61-652E-46D8-9E3D-08F2D766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89E1-6B90-4860-9B4A-7564D54A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85A2F8-3FA2-4AE4-946C-08D534B0C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130DB0-5601-4CD7-9516-406AB4978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63C53C-3EC1-4F8F-BD78-58F3504BE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CA607D-FB52-454C-9715-7EC4317DB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846E29-9AA1-497F-91D0-22CB5283A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85AFD4-785F-422A-981F-4F26161CD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A25110-9CBF-44DE-9E84-82B0E6BF9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9EC589-C448-4034-B53B-24FB3B53A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FA8E31-2346-4360-B3C8-FAB11FB60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7DEDDC-82D4-4C49-842B-D1FD942A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E907-B162-43F1-8C74-284E78AE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57924A-9A35-41E0-BBD2-E7F8A2EE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A1F584-7FEE-496C-BAC1-5B7C4091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04CD78-ABAE-4656-BBAB-FAEBB85C3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2EFBF8-4DCE-4D34-871C-28ADC27A8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0E782F-C042-48BD-866C-6AC491B77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6A7E-1B30-4D7C-9100-E15B726D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872AA-649F-4CB2-A3D7-AED60588155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36132-CAFA-4815-A38A-F21A0A1B00C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C4DC5-E015-4D84-923C-8170A7518ED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F52E6-14C8-4AAF-8EAB-E0A22671208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E0359-AE76-4E5B-BFBD-EFE991A352F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99283-4AFD-449E-835B-FE8D380B8C1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04C46-F0A2-4261-93BF-F340AF6325A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828440" y="68544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МУЗЫКА РАЗНЫХ НАРОДОВ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1640" y="43430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ru-RU" sz="1600" spc="-1" strike="noStrike">
                <a:solidFill>
                  <a:srgbClr val="575f6d"/>
                </a:solidFill>
                <a:latin typeface="Century Schoolbook"/>
              </a:rPr>
              <a:t>Выполнила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ru-RU" sz="1600" spc="-1" strike="noStrike">
                <a:solidFill>
                  <a:srgbClr val="575f6d"/>
                </a:solidFill>
                <a:latin typeface="Century Schoolbook"/>
              </a:rPr>
              <a:t>ученица 7 класса: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75f6d"/>
                </a:solidFill>
                <a:latin typeface="Century Schoolbook"/>
              </a:rPr>
              <a:t>Чикова Анна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75f6d"/>
                </a:solidFill>
                <a:latin typeface="Century Schoolbook"/>
              </a:rPr>
              <a:t>Наставник: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75f6d"/>
                </a:solidFill>
                <a:latin typeface="Century Schoolbook"/>
              </a:rPr>
              <a:t>Давыдова Г.К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18960" y="-152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8.КИТАЙСКАЯ МУЗЫКА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1" name="Picture 2" descr="C:\Users\Галина\Desktop\170620_p05_expats.jpg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-3052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9.ШОТЛАНДИЯ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4" name="Picture 2" descr="C:\Users\Галина\Desktop\depositphotos_107725728-stock-photo-scottish-bagpipe-orchestra-parade.jpg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676160" y="-381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10.РУССКАЯ МУЗЫКА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7" name="Picture 2" descr="C:\Users\Галина\Desktop\AH5Q1693-1024x682.jpg"/>
          <p:cNvPicPr/>
          <p:nvPr/>
        </p:nvPicPr>
        <p:blipFill>
          <a:blip r:embed="rId1"/>
          <a:stretch/>
        </p:blipFill>
        <p:spPr>
          <a:xfrm>
            <a:off x="0" y="3809880"/>
            <a:ext cx="9144000" cy="30481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3" descr="C:\Users\Галина\Desktop\Marijj-EHl-foto-011.jpg"/>
          <p:cNvPicPr/>
          <p:nvPr/>
        </p:nvPicPr>
        <p:blipFill>
          <a:blip r:embed="rId2"/>
          <a:stretch/>
        </p:blipFill>
        <p:spPr>
          <a:xfrm>
            <a:off x="4038480" y="685800"/>
            <a:ext cx="5105520" cy="31719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4" descr="C:\Users\Галина\Desktop\slovisha_fest.jpg"/>
          <p:cNvPicPr/>
          <p:nvPr/>
        </p:nvPicPr>
        <p:blipFill>
          <a:blip r:embed="rId3"/>
          <a:stretch/>
        </p:blipFill>
        <p:spPr>
          <a:xfrm>
            <a:off x="0" y="679320"/>
            <a:ext cx="4648320" cy="31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ЗАКЛЮЧЕНИЕ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Я считаю, что у каждого народа достаточно своеобразная музыка и культура, но и по своему красива и гармоничн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 прослушивании различной музыки мы узнаём их традиции и обыча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дальнейшем нам бы хотелось продолжить работу над своим проектом и изучить музыку других стран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ИСТОЧНИКИ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.Музыка: учебник для учащихся 7кл. Общеобразоват. Учреждений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/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.П.Сергеева, Е.Д.Критская.- М. : Просвещение, 2007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.Интернет-источник: 1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/www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dme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u 2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ikipedia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Org/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СОДЕРЖАНИЕ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1.Введение . Музыка народов мира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2.Цели и задач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3.Гипотеза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ОБЪЕКТ ИССЛЕДОВАНИЯ И ЭТАПЫ ПРОЕКТА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ОБОСНОВАНИЕ И ПРОЕКТНЫЙ ПРОДУКТ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4. Список литературы и источник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3659760" y="31996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ЦЕЛИ И ЗАДАЧИ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533160" y="13716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Цель: ознакомить слушателей с произведениями разных стран, закрепить и обобщить знания детей о музыке этих стран и музыке своего народа, выявить уровень музыкальных знаний, развивать интеллект и находчивость, овладения прёмами слушания, пения во время работы над проектом. Развитие нравственности, формирование эстетического вкус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дачи: изучить дополнительную литературу по данной теме, познакомить с музыкой некоторых стран, проанализировать полученную информацию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2. ИСПАНСКОЕ ФЛАМЕНКО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Picture 5" descr="C:\Users\Галина\Desktop\Spanish Classical.jpg"/>
          <p:cNvPicPr/>
          <p:nvPr/>
        </p:nvPicPr>
        <p:blipFill>
          <a:blip r:embed="rId1"/>
          <a:stretch/>
        </p:blipFill>
        <p:spPr>
          <a:xfrm>
            <a:off x="4191120" y="1905120"/>
            <a:ext cx="4952880" cy="49528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C:\Users\Галина\Desktop\ERO_6626.jpg"/>
          <p:cNvPicPr/>
          <p:nvPr/>
        </p:nvPicPr>
        <p:blipFill>
          <a:blip r:embed="rId2"/>
          <a:stretch/>
        </p:blipFill>
        <p:spPr>
          <a:xfrm>
            <a:off x="0" y="1295280"/>
            <a:ext cx="46483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61760" y="-152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3. ГРЕЧЕСКАЯ МУЗЫКА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4" name="Picture 4" descr="C:\Users\Галина\Desktop\s1200.jpg"/>
          <p:cNvPicPr/>
          <p:nvPr/>
        </p:nvPicPr>
        <p:blipFill>
          <a:blip r:embed="rId1"/>
          <a:stretch/>
        </p:blipFill>
        <p:spPr>
          <a:xfrm>
            <a:off x="228600" y="1092240"/>
            <a:ext cx="8534520" cy="57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4.ЦЫГАНСКАЯ МУЗЫКА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7" name="Picture 4" descr="C:\Users\Галина\Desktop\unnamed.jpg"/>
          <p:cNvPicPr/>
          <p:nvPr/>
        </p:nvPicPr>
        <p:blipFill>
          <a:blip r:embed="rId1"/>
          <a:stretch/>
        </p:blipFill>
        <p:spPr>
          <a:xfrm>
            <a:off x="0" y="2514600"/>
            <a:ext cx="6019920" cy="43434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5" descr="C:\Users\Галина\Desktop\e8acd73e6395bd0a7b448f85b4a1e1a4.jpg"/>
          <p:cNvPicPr/>
          <p:nvPr/>
        </p:nvPicPr>
        <p:blipFill>
          <a:blip r:embed="rId2"/>
          <a:stretch/>
        </p:blipFill>
        <p:spPr>
          <a:xfrm>
            <a:off x="4572000" y="1066680"/>
            <a:ext cx="4572000" cy="30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5.КУБИНСКАЯ САЛЬСА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1" name="Picture 4" descr="C:\Users\Галина\Desktop\s1200 (1).jpg"/>
          <p:cNvPicPr/>
          <p:nvPr/>
        </p:nvPicPr>
        <p:blipFill>
          <a:blip r:embed="rId1"/>
          <a:stretch/>
        </p:blipFill>
        <p:spPr>
          <a:xfrm>
            <a:off x="533520" y="1662120"/>
            <a:ext cx="693396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18960" y="-152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6. ЯПОНСКАЯ МУЗЫКА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4" name="Picture 4" descr="C:\Users\Галина\Desktop\Music_Japanese_women_with_the_tools_080618_.jpg"/>
          <p:cNvPicPr/>
          <p:nvPr/>
        </p:nvPicPr>
        <p:blipFill>
          <a:blip r:embed="rId1"/>
          <a:stretch/>
        </p:blipFill>
        <p:spPr>
          <a:xfrm>
            <a:off x="0" y="914400"/>
            <a:ext cx="6324480" cy="46483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5" descr="C:\Users\Галина\Desktop\artworks-000032368962-ydx0vv-t500x500.jpg"/>
          <p:cNvPicPr/>
          <p:nvPr/>
        </p:nvPicPr>
        <p:blipFill>
          <a:blip r:embed="rId2"/>
          <a:stretch/>
        </p:blipFill>
        <p:spPr>
          <a:xfrm>
            <a:off x="5165640" y="2590920"/>
            <a:ext cx="39783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7.ИНДИЙСКАЯ МУЗЫКА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8" name="Picture 2" descr="C:\Users\Галина\Desktop\685458.jpg"/>
          <p:cNvPicPr/>
          <p:nvPr/>
        </p:nvPicPr>
        <p:blipFill>
          <a:blip r:embed="rId1"/>
          <a:stretch/>
        </p:blipFill>
        <p:spPr>
          <a:xfrm>
            <a:off x="304920" y="1168560"/>
            <a:ext cx="853416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1T09:50:31Z</dcterms:created>
  <dc:creator>1</dc:creator>
  <dc:description/>
  <dc:language>en-US</dc:language>
  <cp:lastModifiedBy>HP</cp:lastModifiedBy>
  <dcterms:modified xsi:type="dcterms:W3CDTF">2019-03-18T18:32:22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