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4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26B-94EC-41DD-A04F-BEBF47E2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017-6CCF-4033-A767-C401EE38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79E-D9E6-49DA-99EE-F05B8F5D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666-D0D2-4A44-83B0-B85BCFEA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B404-4F71-4D00-9624-3D0EF2EE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598E-D10F-4315-AE92-CCCCFFF8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CE8C-F154-4F6A-83DB-C501A07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A16-AC81-47F1-8927-8A66A30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DA3B-4BBD-4784-ADE5-58D2A9D9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C29E-76B6-4ACB-B710-542FE48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59A1-F191-4B7C-8B4B-8C471E6E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3B2-7688-49CA-83CD-C397327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CD7E-79B0-4686-8B60-21A45BB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55AB-EB76-4E29-B562-4EA6ED5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04C9-85D7-4A32-867A-B92442D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EC25-11EB-4A81-9392-5055143D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634B-A052-4407-A747-E1EDD385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2FDE-FE40-44E2-84AE-69827B2A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40D4-548C-46C5-A74E-24F22B3F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93345-01CB-45A9-B002-FCF4E01C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2E07-CD6C-43DA-8B6E-E59BF9EF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4DBE-3791-4470-8767-78E5650B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6DE-ECC9-47D9-8F91-22CD895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7100-575E-452A-9F9F-AB52AA8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757D2-7DB3-46B6-BEE1-B8BCFE1D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C071-4458-4B82-B0CB-76E2BEBB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4996-F1CE-4C12-BBD0-F27EAD0E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FFA5-4F7E-489F-803F-8DF74F39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97ED-E78A-4EB7-B7EB-C97C9CEF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5019-2808-4B43-8414-724AB2C6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FBF0-BCD5-4C93-A40F-869C810A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6177-9BE3-45F6-835A-58AB3731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9393-810D-4EFB-BF77-3B61053F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40C-344E-4A41-B994-93518E15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2B11-0F19-4305-A897-C6B68E04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8EF1-31A3-4CFC-8D43-48902194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7E88-3323-40D0-9681-F1AB4F65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74D1A-0650-4C99-B4F7-45459893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5784-A49F-4A04-95B9-5F2ABA3D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4C45-88D9-4A7A-8BFF-069EA4D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22A47-7525-4F00-A460-7CE244D5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5F77-7000-4CED-8633-A399D9A1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9D49-BBA7-4D8C-8877-C9761BD8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9CF2-9D04-4041-91BE-7DA987B1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08C-4081-4DFA-AA84-FF56EA6B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8F2A-4123-453A-8B57-3CD99E7C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2393F-3FAB-45C1-AB89-A3A75BC6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CC339-351C-44AF-8F76-AAFA9EE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0663-B82F-49FC-9602-28EB10EA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BEA3-B71F-45AA-B7F5-0DAB096F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57D6D-643F-49CB-8488-C93593DA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1EFF-E0BF-4173-8B30-23387BD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BCCD-4110-48D4-BDD7-CB679EC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D445-2943-4D7C-B476-14862160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21A2-DBF1-4102-BF5F-C0BFDD74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770-8C68-4BDC-832D-CD5B6C7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3BE8-0356-4479-90A5-AC07066C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E968-5272-4BF9-A00E-E2D5F6A3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00FED-DFD0-4FFE-8DA6-A0B162E4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B0CA-732B-4BD8-BB28-A376CDF8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095E-F85E-48C4-9F1B-1AAB1F61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B1F7-29E4-446A-BD23-23490A7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7336E-4C88-454E-BF97-87CD21D9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8B355-8031-4E0B-8E7A-DFC89BF3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AC803-C2D0-4678-82BF-03591E9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E86AB-4C7C-4A86-945B-31962A6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DA3-702D-4B51-8E5E-765B6F82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A882-24B0-418D-9FFE-88CFFE6B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77103-B9DE-4A7B-9460-E2EDC372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4F5E-E998-4AC5-8A83-952DB068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06DBC-8B37-44D6-8C9C-E4925901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3C245-A5A9-4B53-8A70-265507DA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053D9-95A4-4BCB-B2C9-EB4311CA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15BF1-B192-48C6-A580-C065379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68327-25C8-4838-BC9C-E5D88026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88F24-C420-4620-9640-0132372A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D95BF-5773-470E-BBF2-3757931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2CC-C965-469F-9C32-EB64BF63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6F997-D403-452A-AB07-56DC9B8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1AE4B-8E41-48CD-8E2B-80421E1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562D8-A430-4615-8F7E-98F7DEFF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4B1B-A579-4210-8113-AD91316D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9A64C-5B8C-4396-AF9F-1F88BAB9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280-B15B-43BA-99A1-4A8FE6F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10E4-AEAB-4619-B719-42F438B4054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EEC7-3280-4CEF-A73D-AADDB9558D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4B3B-4383-4167-9C9D-3428ED66BB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4779-9A11-406C-AFB0-2E585534F39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6161-C106-4511-B701-4CF2AA340E8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E4C-6F99-47AB-84D0-EBE87A072F5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8A2-B97D-4149-B902-CC9EC29081A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https://i.gifer.com/RN61.gif"/>
          <p:cNvPicPr/>
          <p:nvPr/>
        </p:nvPicPr>
        <p:blipFill>
          <a:blip r:embed="rId1"/>
          <a:stretch/>
        </p:blipFill>
        <p:spPr>
          <a:xfrm>
            <a:off x="1403280" y="762120"/>
            <a:ext cx="6096240" cy="6095880"/>
          </a:xfrm>
          <a:prstGeom prst="rect">
            <a:avLst/>
          </a:prstGeom>
          <a:ln w="0">
            <a:noFill/>
          </a:ln>
        </p:spPr>
      </p:pic>
      <p:pic>
        <p:nvPicPr>
          <p:cNvPr id="304" name="TextBox 2" descr=""/>
          <p:cNvPicPr/>
          <p:nvPr/>
        </p:nvPicPr>
        <p:blipFill>
          <a:blip r:embed="rId2"/>
          <a:stretch/>
        </p:blipFill>
        <p:spPr>
          <a:xfrm>
            <a:off x="1542960" y="-182520"/>
            <a:ext cx="61326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1042920" y="3826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Вспомним понятия «Цилиндра», «Конуса» и «Сферы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"/>
          <p:cNvSpPr/>
          <p:nvPr/>
        </p:nvSpPr>
        <p:spPr>
          <a:xfrm>
            <a:off x="324000" y="1739880"/>
            <a:ext cx="856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ные фигуры вращения (еще говорят — «тела», подразумевая объемность фигуры), как правило, образованы вращением плоской фигуры вокруг какой-то линии (прямой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611280" y="1197000"/>
            <a:ext cx="821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Цилинд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это фигура, полученная от вращения прямоугольника вокруг одной из его сторон как оси; 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вращением прямоугольного треугольника вокруг его катета как оси, 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сфе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вращением полуокружности вокруг её диаметра как ос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https://im3-tub-ru.yandex.net/i?id=634e8c1432602302436584bc33d75894&amp;n=33&amp;h=215&amp;w=287"/>
          <p:cNvPicPr/>
          <p:nvPr/>
        </p:nvPicPr>
        <p:blipFill>
          <a:blip r:embed="rId1"/>
          <a:srcRect l="6558" t="22552" r="0" b="31411"/>
          <a:stretch/>
        </p:blipFill>
        <p:spPr>
          <a:xfrm>
            <a:off x="1111320" y="3776760"/>
            <a:ext cx="72151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-92160" y="689040"/>
            <a:ext cx="6651720" cy="5626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Боковая поверхность цилиндра"/>
          <p:cNvPicPr/>
          <p:nvPr/>
        </p:nvPicPr>
        <p:blipFill>
          <a:blip r:embed="rId2"/>
          <a:srcRect l="0" t="0" r="0" b="4339"/>
          <a:stretch/>
        </p:blipFill>
        <p:spPr>
          <a:xfrm>
            <a:off x="6300720" y="189000"/>
            <a:ext cx="266400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33440" y="109440"/>
            <a:ext cx="6095880" cy="6278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Формула площади боковой поверхности конуса"/>
          <p:cNvPicPr/>
          <p:nvPr/>
        </p:nvPicPr>
        <p:blipFill>
          <a:blip r:embed="rId2"/>
          <a:stretch/>
        </p:blipFill>
        <p:spPr>
          <a:xfrm>
            <a:off x="1332000" y="5211720"/>
            <a:ext cx="4349520" cy="1020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Площадь поверхности прямого, кругового конуса"/>
          <p:cNvPicPr/>
          <p:nvPr/>
        </p:nvPicPr>
        <p:blipFill>
          <a:blip r:embed="rId3"/>
          <a:stretch/>
        </p:blipFill>
        <p:spPr>
          <a:xfrm>
            <a:off x="6156360" y="2276640"/>
            <a:ext cx="2843280" cy="284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371520" y="536400"/>
            <a:ext cx="8778960" cy="3187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Найти площадь поверхности шара"/>
          <p:cNvPicPr/>
          <p:nvPr/>
        </p:nvPicPr>
        <p:blipFill>
          <a:blip r:embed="rId2"/>
          <a:stretch/>
        </p:blipFill>
        <p:spPr>
          <a:xfrm>
            <a:off x="-10800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Формула площади поверхности шара"/>
          <p:cNvPicPr/>
          <p:nvPr/>
        </p:nvPicPr>
        <p:blipFill>
          <a:blip r:embed="rId3"/>
          <a:stretch/>
        </p:blipFill>
        <p:spPr>
          <a:xfrm>
            <a:off x="3419640" y="3176640"/>
            <a:ext cx="4608360" cy="140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4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0760" cy="5176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569440" cy="6048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000000"/>
                </a:solidFill>
                <a:uFillTx/>
                <a:latin typeface="Corbel"/>
              </a:rPr>
              <a:t>Задания для первичного закрепления материала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1.Площадь боковой поверхности цилиндра равна 72Пи, а диаметр основания — 9. Найдите высоту цилиндр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2. Площадь основания конуса  36π см</a:t>
            </a:r>
            <a:r>
              <a:rPr b="1" i="1" lang="ru-RU" sz="33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 , а его образующая 10 см. </a:t>
            </a:r>
            <a:br>
              <a:rPr sz="3300"/>
            </a:b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Вычислить боковую поверхность конус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 </a:t>
            </a:r>
            <a:br>
              <a:rPr sz="3300"/>
            </a:b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3. Площадь большого круга шара равна 17. Найдите площадь поверхности шар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коло шара описан цилиндр, площадь поверхности которого равна 18. Найдите площадь поверхности шара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Рисунок 4" descr="Описание: MA.E10.B9.40/innerimg0.jpg"/>
          <p:cNvPicPr/>
          <p:nvPr/>
        </p:nvPicPr>
        <p:blipFill>
          <a:blip r:embed="rId2"/>
          <a:stretch/>
        </p:blipFill>
        <p:spPr>
          <a:xfrm>
            <a:off x="3419640" y="3716280"/>
            <a:ext cx="2232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AutoShape 2"/>
          <p:cNvSpPr/>
          <p:nvPr/>
        </p:nvSpPr>
        <p:spPr>
          <a:xfrm>
            <a:off x="233280" y="-304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40720" cy="374472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6"/>
          <p:cNvSpPr/>
          <p:nvPr/>
        </p:nvSpPr>
        <p:spPr>
          <a:xfrm>
            <a:off x="3132000" y="2852640"/>
            <a:ext cx="5688000" cy="259236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7"/>
          <p:cNvSpPr/>
          <p:nvPr/>
        </p:nvSpPr>
        <p:spPr>
          <a:xfrm>
            <a:off x="539640" y="4508640"/>
            <a:ext cx="4464000" cy="151272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500040" y="642960"/>
            <a:ext cx="814392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34a5a"/>
                </a:solidFill>
                <a:uFillTx/>
                <a:latin typeface="Arial Black"/>
              </a:rPr>
              <a:t>Цели урок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Вспомнить понятия цилиндра, конуса, сфер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Рассмотреть формулы площади боковой поверхности цилиндра, конуса, площади сферы.  Закрепить полученные знания при выполнении упражне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Развивать познавательный интерес учащихся, учить их видеть связь между математикой и окружающей жизнью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250920" y="43668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1030320" y="273672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цилиндр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252360" y="1764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468360" y="141300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линд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— это тело (объемная геометрическая фигура), полученное вращением прямоугольника вокруг одной из его сторон как ос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цилиндр"/>
          <p:cNvPicPr/>
          <p:nvPr/>
        </p:nvPicPr>
        <p:blipFill>
          <a:blip r:embed="rId1"/>
          <a:stretch/>
        </p:blipFill>
        <p:spPr>
          <a:xfrm>
            <a:off x="1763640" y="3348000"/>
            <a:ext cx="5889600" cy="247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250920" y="2142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539640" y="269064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конус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250920" y="2142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"/>
          <p:cNvSpPr/>
          <p:nvPr/>
        </p:nvSpPr>
        <p:spPr>
          <a:xfrm>
            <a:off x="885960" y="1989000"/>
            <a:ext cx="77752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прямой) — это тело (объемная геометрическая фигура), полученное вращением прямоугольного треугольника вокруг его катета как оси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конус"/>
          <p:cNvPicPr/>
          <p:nvPr/>
        </p:nvPicPr>
        <p:blipFill>
          <a:blip r:embed="rId1"/>
          <a:stretch/>
        </p:blipFill>
        <p:spPr>
          <a:xfrm>
            <a:off x="3792600" y="3862440"/>
            <a:ext cx="47736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574560" y="52056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900000" y="1413000"/>
            <a:ext cx="77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шар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395280" y="-17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395280" y="1552680"/>
            <a:ext cx="8424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— это тело (объемная геометрическая фигура), полученное вращением полукруга вокруг его диаметра как ос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шар"/>
          <p:cNvPicPr/>
          <p:nvPr/>
        </p:nvPicPr>
        <p:blipFill>
          <a:blip r:embed="rId1"/>
          <a:stretch/>
        </p:blipFill>
        <p:spPr>
          <a:xfrm>
            <a:off x="1927080" y="4365720"/>
            <a:ext cx="53625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00000" y="260280"/>
            <a:ext cx="8244000" cy="2198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лощадь боковой поверхности цилиндра и конуса.  Площадь сфе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s://dr282zn36sxxg.cloudfront.net/datastreams/f-d%3A717f3ec5785e6af260261c59cf5bfbffeab2507a75bbaf61b28dff12%2BIMAGE%2BIMAGE.1"/>
          <p:cNvPicPr/>
          <p:nvPr/>
        </p:nvPicPr>
        <p:blipFill>
          <a:blip r:embed="rId1"/>
          <a:srcRect l="6142" t="14055" r="5109" b="7638"/>
          <a:stretch/>
        </p:blipFill>
        <p:spPr>
          <a:xfrm>
            <a:off x="1258920" y="2411280"/>
            <a:ext cx="662472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9:55:57Z</dcterms:created>
  <dc:creator>Бритикова Лариса</dc:creator>
  <dc:description/>
  <dc:language>en-US</dc:language>
  <cp:lastModifiedBy>User</cp:lastModifiedBy>
  <dcterms:modified xsi:type="dcterms:W3CDTF">2022-11-02T16:19:47Z</dcterms:modified>
  <cp:revision>142</cp:revision>
  <dc:subject/>
  <dc:title>Тема 7. Объемы тел</dc:title>
</cp:coreProperties>
</file>