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4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F10-B411-4B23-8C51-644FACE1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F4B-D6FF-47C9-9501-FFB5A4C7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6B1-8500-42A2-8477-B10B77EB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002-C547-4621-A2F5-F344B4E7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42D4-81FF-4007-A62F-1C2CDCB6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CC49-7EFA-49D2-9E83-745509B2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7FCD-4D07-4DD4-A6EE-28A986C9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03C3-3FE5-4850-816A-0C5C32D4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7E74-5651-470E-8AB1-FF96BB9E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8105-5941-481A-BBFC-40248198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2E9A-C105-4ADB-8441-A5C82525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412-F5DF-4462-BF82-3625F3E6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2E49-1421-41C7-A4E3-150F1059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7614-F901-4F2D-95B6-99C9642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796F-4DB7-4AE5-B074-AE5445B6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B8FD-8FC8-4947-A8DF-EA451EC3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8E57-AC44-4E5D-A641-6C5E12B3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775A-719B-48D9-A916-64121C5D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D1B1-A539-429F-A7B9-FABC69D3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7770-CED0-43D6-BB4B-650A8215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AE35-A121-4179-9029-3E2EFD9F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3D6F-4027-456D-8EF6-DCD9C91F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14F-B293-4C5F-9D58-2A099A7A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F476-E816-4108-84BF-0B79BED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3563-5F96-495F-B2DC-C2C36FCE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1CA8-0823-49B3-BFA2-8F7FFF1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07C0-50B6-4447-875A-AFFE240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4FE6-1078-4839-9FAD-AB5883B8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7501-E6F3-41F2-85EC-1F4F2016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FB9F-0695-48C8-909B-6BB122BC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A8AF-112B-4E13-A6BF-B18C529A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C99E-970E-48D2-A095-AF44B4AE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FCDB-B8F0-4F49-AFAD-66D6C448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6B9-B0FE-49C8-8E66-C7F78CF0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DCB6D-46AE-4267-B40A-A7205ADD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D5E8-0643-43CE-8954-8E57AC09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91B6-5695-4084-A3DF-5A19D30D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F02B-618D-47F3-896F-67BACE26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396A5-0570-4B27-917B-9C6B1071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C4424-2A31-45D8-B8D2-7004442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D01F-6B57-4C95-A484-94F6B9C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98D4E-B4AE-4064-9B7C-E7941F9C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1921-FA8F-4E7F-B0EB-07FC162A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CD833-4DF0-41CE-ABAE-75C97B24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746-70CB-4709-AB49-CC2D946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521D-2B81-4D62-B8E2-ECFA4ECB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49B3-D9B0-467A-8A73-85BAE701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31802-41C4-4742-B3C8-D6FA3C55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58B8C-9D5D-45E4-9D07-5C821F9A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DDE4A-B220-4011-97F7-EEE0ABE7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A4C3-DB9C-41D3-9256-101469BD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CD02-2D76-4CD0-83B5-CC4EF32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46670-C5CE-4C50-98CD-3D79E149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051FD-8533-4B0C-8B14-2D47A881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49D7F-9E66-4001-88C0-0424F271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E74-C6A7-474F-95BE-009D15D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FD12-3660-4FA0-A62F-F4B5F186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347AB-C326-42FD-9E0E-FE95DA0C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0564-1ABF-4AF5-9FE5-8DB77709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41697-2054-4835-AC38-FF98930D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79511-A7CB-4462-9269-BFDFF60E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10EA3-490A-4F76-BA55-69F1A2FF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F63F-7113-46B9-B39F-A2800098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C67AB-5C78-4735-87CE-5E02BFE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F1ED-83C3-44A3-B2A0-B7F8A08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7FD40-CA50-4D79-8E7C-D51C51D0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BB4-E1A1-4903-9B06-1D9675C6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80D6-362D-4662-BCF9-82579949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C260-E8E8-44D1-8B6F-2EE0F0DC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0E740-AA7F-4FDD-A8C4-185D6C30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0DE7-8C2F-446C-BEBF-DF9EC288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0090C-E2A1-4B19-B5A4-E7170A54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424D-C47F-4A22-8765-2A746160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54CA7-30FB-4483-A5B3-BBBFA480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2D522-E235-4EDC-A5C8-4F575EA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90F17-B0C3-4CE0-99F7-9D6326B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20BF7-F696-41E4-A8EA-1D3D581B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80E-23EC-4314-8531-C221B8F1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DB9A7-0699-44F3-9673-625A2435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B5D8F-90C9-4774-B20D-4899320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5212-61AF-4146-8B3E-8187CDA8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3412-A941-451A-B361-E7A31729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6BA94-0D0B-4D5D-89C6-AFC81158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FA9-2D18-45CF-ADF8-823A2FEF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6C2A-D006-4F3D-8F64-87C3EB4FC95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79E8-F19E-4FAC-BC71-BBE8C36DF3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6A06-7617-4E24-A8D1-3D806FF766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4FBE-75E2-4558-9AFA-DF20FCF6925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120-38E8-47A8-8646-06D813DF0F0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0FEB-8026-4F29-A85D-A0C1F9AF0E4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BA97-D372-4469-9AF5-E85F3055DC5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5" descr="https://i.gifer.com/RN61.gif"/>
          <p:cNvPicPr/>
          <p:nvPr/>
        </p:nvPicPr>
        <p:blipFill>
          <a:blip r:embed="rId1"/>
          <a:stretch/>
        </p:blipFill>
        <p:spPr>
          <a:xfrm>
            <a:off x="1403280" y="762120"/>
            <a:ext cx="6096240" cy="6095880"/>
          </a:xfrm>
          <a:prstGeom prst="rect">
            <a:avLst/>
          </a:prstGeom>
          <a:ln w="0">
            <a:noFill/>
          </a:ln>
        </p:spPr>
      </p:pic>
      <p:pic>
        <p:nvPicPr>
          <p:cNvPr id="304" name="TextBox 2" descr=""/>
          <p:cNvPicPr/>
          <p:nvPr/>
        </p:nvPicPr>
        <p:blipFill>
          <a:blip r:embed="rId2"/>
          <a:stretch/>
        </p:blipFill>
        <p:spPr>
          <a:xfrm>
            <a:off x="1542960" y="-182520"/>
            <a:ext cx="613260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1042920" y="3826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Вспомним понятия «Цилиндра», «Конуса» и «Сферы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"/>
          <p:cNvSpPr/>
          <p:nvPr/>
        </p:nvSpPr>
        <p:spPr>
          <a:xfrm>
            <a:off x="324000" y="1739880"/>
            <a:ext cx="856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ные фигуры вращения (еще говорят — «тела», подразумевая объемность фигуры), как правило, образованы вращением плоской фигуры вокруг какой-то линии (прямой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611280" y="1197000"/>
            <a:ext cx="821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Цилинд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— это фигура, полученная от вращения прямоугольника вокруг одной из его сторон как оси; 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кону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— вращением прямоугольного треугольника вокруг его катета как оси, 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сфе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— вращением полуокружности вокруг её диаметра как ос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https://im3-tub-ru.yandex.net/i?id=634e8c1432602302436584bc33d75894&amp;n=33&amp;h=215&amp;w=287"/>
          <p:cNvPicPr/>
          <p:nvPr/>
        </p:nvPicPr>
        <p:blipFill>
          <a:blip r:embed="rId1"/>
          <a:srcRect l="6558" t="22552" r="0" b="31411"/>
          <a:stretch/>
        </p:blipFill>
        <p:spPr>
          <a:xfrm>
            <a:off x="1111320" y="3776760"/>
            <a:ext cx="72151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-92160" y="689040"/>
            <a:ext cx="6651720" cy="5626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Боковая поверхность цилиндра"/>
          <p:cNvPicPr/>
          <p:nvPr/>
        </p:nvPicPr>
        <p:blipFill>
          <a:blip r:embed="rId2"/>
          <a:srcRect l="0" t="0" r="0" b="4339"/>
          <a:stretch/>
        </p:blipFill>
        <p:spPr>
          <a:xfrm>
            <a:off x="6300720" y="189000"/>
            <a:ext cx="266400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33440" y="109440"/>
            <a:ext cx="6095880" cy="6278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Формула площади боковой поверхности конуса"/>
          <p:cNvPicPr/>
          <p:nvPr/>
        </p:nvPicPr>
        <p:blipFill>
          <a:blip r:embed="rId2"/>
          <a:stretch/>
        </p:blipFill>
        <p:spPr>
          <a:xfrm>
            <a:off x="1332000" y="5211720"/>
            <a:ext cx="4349520" cy="1020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Площадь поверхности прямого, кругового конуса"/>
          <p:cNvPicPr/>
          <p:nvPr/>
        </p:nvPicPr>
        <p:blipFill>
          <a:blip r:embed="rId3"/>
          <a:stretch/>
        </p:blipFill>
        <p:spPr>
          <a:xfrm>
            <a:off x="6156360" y="2276640"/>
            <a:ext cx="2843280" cy="284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371520" y="536400"/>
            <a:ext cx="8778960" cy="3187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Найти площадь поверхности шара"/>
          <p:cNvPicPr/>
          <p:nvPr/>
        </p:nvPicPr>
        <p:blipFill>
          <a:blip r:embed="rId2"/>
          <a:stretch/>
        </p:blipFill>
        <p:spPr>
          <a:xfrm>
            <a:off x="-10800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Формула площади поверхности шара"/>
          <p:cNvPicPr/>
          <p:nvPr/>
        </p:nvPicPr>
        <p:blipFill>
          <a:blip r:embed="rId3"/>
          <a:stretch/>
        </p:blipFill>
        <p:spPr>
          <a:xfrm>
            <a:off x="3419640" y="3176640"/>
            <a:ext cx="4608360" cy="140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4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0760" cy="5176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569440" cy="6048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000000"/>
                </a:solidFill>
                <a:uFillTx/>
                <a:latin typeface="Corbel"/>
              </a:rPr>
              <a:t>Задания для первичного закрепления материала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1.Площадь боковой поверхности цилиндра равна 72Пи, а диаметр основания — 9. Найдите высоту цилиндр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2. Площадь основания конуса  36π см</a:t>
            </a:r>
            <a:r>
              <a:rPr b="1" i="1" lang="ru-RU" sz="33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 , а его образующая 10 см. </a:t>
            </a:r>
            <a:br>
              <a:rPr sz="3300"/>
            </a:b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Вычислить боковую поверхность конус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 </a:t>
            </a:r>
            <a:br>
              <a:rPr sz="3300"/>
            </a:b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3. Площадь большого круга шара равна 17. Найдите площадь поверхности шар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коло шара описан цилиндр, площадь поверхности которого равна 18. Найдите площадь поверхности шара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Рисунок 4" descr="Описание: MA.E10.B9.40/innerimg0.jpg"/>
          <p:cNvPicPr/>
          <p:nvPr/>
        </p:nvPicPr>
        <p:blipFill>
          <a:blip r:embed="rId2"/>
          <a:stretch/>
        </p:blipFill>
        <p:spPr>
          <a:xfrm>
            <a:off x="3419640" y="3716280"/>
            <a:ext cx="2232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AutoShape 2"/>
          <p:cNvSpPr/>
          <p:nvPr/>
        </p:nvSpPr>
        <p:spPr>
          <a:xfrm>
            <a:off x="233280" y="-304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40720" cy="374472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6"/>
          <p:cNvSpPr/>
          <p:nvPr/>
        </p:nvSpPr>
        <p:spPr>
          <a:xfrm>
            <a:off x="3132000" y="2852640"/>
            <a:ext cx="5688000" cy="259236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7"/>
          <p:cNvSpPr/>
          <p:nvPr/>
        </p:nvSpPr>
        <p:spPr>
          <a:xfrm>
            <a:off x="539640" y="4508640"/>
            <a:ext cx="4464000" cy="151272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500040" y="642960"/>
            <a:ext cx="814392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34a5a"/>
                </a:solidFill>
                <a:uFillTx/>
                <a:latin typeface="Arial Black"/>
              </a:rPr>
              <a:t>Цели урок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4a5a"/>
                </a:solidFill>
                <a:latin typeface="Arial Black"/>
              </a:rPr>
              <a:t>Вспомнить понятия цилиндра, конуса, сфер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4a5a"/>
                </a:solidFill>
                <a:latin typeface="Arial Black"/>
              </a:rPr>
              <a:t>Рассмотреть формулы площади боковой поверхности цилиндра, конуса, площади сферы.  Закрепить полученные знания при выполнении упражнен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4a5a"/>
                </a:solidFill>
                <a:latin typeface="Arial Black"/>
              </a:rPr>
              <a:t>Развивать познавательный интерес учащихся, учить их видеть связь между математикой и окружающей жизнью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250920" y="43668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1030320" y="273672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пределение цилиндр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252360" y="1764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468360" y="141300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.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линд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— это тело (объемная геометрическая фигура), полученное вращением прямоугольника вокруг одной из его сторон как ос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цилиндр"/>
          <p:cNvPicPr/>
          <p:nvPr/>
        </p:nvPicPr>
        <p:blipFill>
          <a:blip r:embed="rId1"/>
          <a:stretch/>
        </p:blipFill>
        <p:spPr>
          <a:xfrm>
            <a:off x="1763640" y="3348000"/>
            <a:ext cx="5889600" cy="247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250920" y="21420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539640" y="269064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пределение конус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250920" y="2142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"/>
          <p:cNvSpPr/>
          <p:nvPr/>
        </p:nvSpPr>
        <p:spPr>
          <a:xfrm>
            <a:off x="885960" y="1989000"/>
            <a:ext cx="77752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.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прямой) — это тело (объемная геометрическая фигура), полученное вращением прямоугольного треугольника вокруг его катета как оси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конус"/>
          <p:cNvPicPr/>
          <p:nvPr/>
        </p:nvPicPr>
        <p:blipFill>
          <a:blip r:embed="rId1"/>
          <a:stretch/>
        </p:blipFill>
        <p:spPr>
          <a:xfrm>
            <a:off x="3792600" y="3862440"/>
            <a:ext cx="47736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574560" y="52056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900000" y="1413000"/>
            <a:ext cx="77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пределение шар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395280" y="-17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395280" y="1552680"/>
            <a:ext cx="8424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.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— это тело (объемная геометрическая фигура), полученное вращением полукруга вокруг его диаметра как ос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шар"/>
          <p:cNvPicPr/>
          <p:nvPr/>
        </p:nvPicPr>
        <p:blipFill>
          <a:blip r:embed="rId1"/>
          <a:stretch/>
        </p:blipFill>
        <p:spPr>
          <a:xfrm>
            <a:off x="1927080" y="4365720"/>
            <a:ext cx="53625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00000" y="260280"/>
            <a:ext cx="8244000" cy="2198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лощадь боковой поверхности цилиндра и конуса.  Площадь сфе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s://dr282zn36sxxg.cloudfront.net/datastreams/f-d%3A717f3ec5785e6af260261c59cf5bfbffeab2507a75bbaf61b28dff12%2BIMAGE%2BIMAGE.1"/>
          <p:cNvPicPr/>
          <p:nvPr/>
        </p:nvPicPr>
        <p:blipFill>
          <a:blip r:embed="rId1"/>
          <a:srcRect l="6142" t="14055" r="5109" b="7638"/>
          <a:stretch/>
        </p:blipFill>
        <p:spPr>
          <a:xfrm>
            <a:off x="1258920" y="2411280"/>
            <a:ext cx="6624720" cy="43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9:55:57Z</dcterms:created>
  <dc:creator>Бритикова Лариса</dc:creator>
  <dc:description/>
  <dc:language>en-US</dc:language>
  <cp:lastModifiedBy>User</cp:lastModifiedBy>
  <dcterms:modified xsi:type="dcterms:W3CDTF">2022-11-02T16:19:47Z</dcterms:modified>
  <cp:revision>142</cp:revision>
  <dc:subject/>
  <dc:title>Тема 7. Объемы тел</dc:title>
</cp:coreProperties>
</file>