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4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841-BDA4-4CE8-BD9A-12CBC7E3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AE4-7FF5-4BE4-A2DB-97F1A1F3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5D2-7FCA-4C31-B010-88A93E20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3E2-0034-44B1-911E-05D4AAFE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F115-77AC-44A2-9815-530763E5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2411-00A7-469A-80BD-EE6A4E47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07DD-D75A-4B32-88DC-9B01B395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33A7-9449-48EB-9D30-97FDBB20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A29D-2516-48FE-B45D-38CC72B9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7564-E17A-4EC1-B0D8-5F99E56A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4B1F-B312-44F7-89F7-61AA0962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240-C8F3-4B19-BD29-526B5409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1AD6-A0A0-46F0-B5A8-5502FB2A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1B6-4F34-48EE-B7E8-992AFD64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88CE-B1B9-4B29-B5BA-EFE504E0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9652-009C-48A2-A26C-6BABDE7E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2E04-9AD3-4EF4-A6FD-0D0CD19D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FE99-C7E1-42F2-B100-FAE37CC2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505E-0751-4F9D-908B-52CA7FEA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0EB6-D3A7-4E46-BD5E-ED331079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3AA1-7A4E-4D30-B112-CD143152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08E9-BBAA-45F5-8A25-F020192B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FF1-95EE-4770-82C6-1CCDE8D0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DDA9-9C83-4090-AEE3-4CB89509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A46E5-171B-4BF3-B558-75FA9A5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53AD-C692-4480-84A1-3E247512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ECF0-3852-45D3-9752-18CC7E36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BA46-5973-4C7C-9CCF-948D9BEA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73CB-57E3-4EB3-91BF-E8B854A9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2F16-C30A-4903-B195-93DE4AA8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BFF1-8775-470C-BEB3-9F9A5D90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3DC9A-CC7B-4AFF-B09B-06A56DD8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4C6FC-6680-4B62-B11F-BCBBCDA4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054-5980-4228-963A-4723DEE4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1D0A-E24C-4E8A-975C-668CC3AD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63809-641A-4390-8D6E-66BB4F88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AA4F2-0F7D-44BF-B2B4-A7999569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2F4F-D180-4C0F-918C-09D9BEB3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7D92-0BC7-4A52-89C1-90B1D4D3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F3ABD-A53A-4010-90C3-31FBD0F0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2420D-2CD4-4F1F-AE3C-9A91C4F4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2E1B2-4987-4B98-826E-78D11A60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DC2B-FFB2-424F-B78E-7327093F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9F5E-B887-45AC-92A1-B2D7A986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31E-D6DB-407B-9E22-5BA866B5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CFAB7-725B-471F-8E6D-5DE7BA24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24FCA-4B51-43DE-8934-BA41A656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24E24-33F6-4A87-AEFB-09A40FC6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CE49-DDA0-4B75-99AF-E4DF0545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3CE48-9AE5-4312-A692-FB930FF7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25B4-A961-45F2-8C6C-6CC286AF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3F29-68A2-4257-8FB2-4A5DEFD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D4993-C9E1-4A12-BD81-97911067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76AE-1B88-45EA-A6BB-B7C1D36F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D28CE-3848-41A1-A1F5-6AD318DC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24E-3D33-4955-A1DA-9FBEBA03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E6B66-D38D-4DCC-A8C5-B883B617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7FA04-33D1-4CAD-A85D-39673B94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451FE-9998-428E-998B-B07BC0C0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CFCE6-9C8F-432B-802E-52F09646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17BE7-A9DD-45CA-B331-6E5B3680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1ABC2-4026-4F8C-BB1B-FF0E6A22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01B19-BEE2-4BB4-B02E-EE24C4BA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64290-23C9-48A6-AE6F-4FB39FA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CA266-9798-499D-9470-241F6C5E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D2DCD-E652-478B-899C-889ABB2E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C23-B6EE-45F5-B8A9-1C56D375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7ABD6-6B44-4FBE-9FFA-FD1C1794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5F276-BC7A-4861-9EF1-267F6B10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9AEB7-38BB-444B-B358-DD92E966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C4961-5128-4D0D-BEB1-3E2E7A97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7A152-3FCE-4B73-A165-7E99A77D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7D6F5-8BBD-483C-837D-F3053531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E5F1-62EC-49B4-B271-F2BFC440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B5859-4A6E-47C8-81E5-B0FDD74C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B14FE-AB42-4AA3-8F50-6769FD13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1596-A752-45A9-BAB0-E8C4B7F6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EE3-B534-46BB-8286-3D9811C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0664F-3921-4DC2-91A8-22835A6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0516E-62E3-4049-895F-E1A9FB8A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A747C-744B-46EA-841E-40FB27F4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077B-6C11-4C33-9239-10F5E618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BBA52-0DA6-4CBF-AFE7-AB8EE4AD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F21-69AE-4A9B-9A8B-FE6CE000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458F-7D34-4AB6-96DB-428655A66D5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0FFA-D02C-4639-8BF3-3AD7F09389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C914-BD7C-4A01-A34B-60B8A5DE58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DE1C-CBB5-4F31-A022-0328F934A31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B621-67BF-46BD-A14B-FA3BE4C3502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49AD-5FEE-429D-A601-50EF7D6DDCB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87F9-FD71-439D-BC7D-A1EB182B613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5" descr="https://i.gifer.com/RN61.gif"/>
          <p:cNvPicPr/>
          <p:nvPr/>
        </p:nvPicPr>
        <p:blipFill>
          <a:blip r:embed="rId1"/>
          <a:stretch/>
        </p:blipFill>
        <p:spPr>
          <a:xfrm>
            <a:off x="1403280" y="762120"/>
            <a:ext cx="6096240" cy="6095880"/>
          </a:xfrm>
          <a:prstGeom prst="rect">
            <a:avLst/>
          </a:prstGeom>
          <a:ln w="0">
            <a:noFill/>
          </a:ln>
        </p:spPr>
      </p:pic>
      <p:pic>
        <p:nvPicPr>
          <p:cNvPr id="304" name="TextBox 2" descr=""/>
          <p:cNvPicPr/>
          <p:nvPr/>
        </p:nvPicPr>
        <p:blipFill>
          <a:blip r:embed="rId2"/>
          <a:stretch/>
        </p:blipFill>
        <p:spPr>
          <a:xfrm>
            <a:off x="1542960" y="-182520"/>
            <a:ext cx="613260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1042920" y="3826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Arial"/>
              </a:rPr>
              <a:t>Вспомним понятия «Цилиндра», «Конуса» и «Сферы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"/>
          <p:cNvSpPr/>
          <p:nvPr/>
        </p:nvSpPr>
        <p:spPr>
          <a:xfrm>
            <a:off x="324000" y="1739880"/>
            <a:ext cx="856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ные фигуры вращения (еще говорят — «тела», подразумевая объемность фигуры), как правило, образованы вращением плоской фигуры вокруг какой-то линии (прямой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611280" y="1197000"/>
            <a:ext cx="821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Цилинд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— это фигура, полученная от вращения прямоугольника вокруг одной из его сторон как оси; 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кону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— вращением прямоугольного треугольника вокруг его катета как оси, 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сфер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— вращением полуокружности вокруг её диаметра как ос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https://im3-tub-ru.yandex.net/i?id=634e8c1432602302436584bc33d75894&amp;n=33&amp;h=215&amp;w=287"/>
          <p:cNvPicPr/>
          <p:nvPr/>
        </p:nvPicPr>
        <p:blipFill>
          <a:blip r:embed="rId1"/>
          <a:srcRect l="6558" t="22552" r="0" b="31411"/>
          <a:stretch/>
        </p:blipFill>
        <p:spPr>
          <a:xfrm>
            <a:off x="1111320" y="3776760"/>
            <a:ext cx="72151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-92160" y="689040"/>
            <a:ext cx="6651720" cy="5626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Боковая поверхность цилиндра"/>
          <p:cNvPicPr/>
          <p:nvPr/>
        </p:nvPicPr>
        <p:blipFill>
          <a:blip r:embed="rId2"/>
          <a:srcRect l="0" t="0" r="0" b="4339"/>
          <a:stretch/>
        </p:blipFill>
        <p:spPr>
          <a:xfrm>
            <a:off x="6300720" y="189000"/>
            <a:ext cx="266400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33440" y="109440"/>
            <a:ext cx="6095880" cy="6278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Формула площади боковой поверхности конуса"/>
          <p:cNvPicPr/>
          <p:nvPr/>
        </p:nvPicPr>
        <p:blipFill>
          <a:blip r:embed="rId2"/>
          <a:stretch/>
        </p:blipFill>
        <p:spPr>
          <a:xfrm>
            <a:off x="1332000" y="5211720"/>
            <a:ext cx="4349520" cy="1020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Площадь поверхности прямого, кругового конуса"/>
          <p:cNvPicPr/>
          <p:nvPr/>
        </p:nvPicPr>
        <p:blipFill>
          <a:blip r:embed="rId3"/>
          <a:stretch/>
        </p:blipFill>
        <p:spPr>
          <a:xfrm>
            <a:off x="6156360" y="2276640"/>
            <a:ext cx="2843280" cy="284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371520" y="536400"/>
            <a:ext cx="8778960" cy="3187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Найти площадь поверхности шара"/>
          <p:cNvPicPr/>
          <p:nvPr/>
        </p:nvPicPr>
        <p:blipFill>
          <a:blip r:embed="rId2"/>
          <a:stretch/>
        </p:blipFill>
        <p:spPr>
          <a:xfrm>
            <a:off x="-10800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Формула площади поверхности шара"/>
          <p:cNvPicPr/>
          <p:nvPr/>
        </p:nvPicPr>
        <p:blipFill>
          <a:blip r:embed="rId3"/>
          <a:stretch/>
        </p:blipFill>
        <p:spPr>
          <a:xfrm>
            <a:off x="3419640" y="3176640"/>
            <a:ext cx="4608360" cy="140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4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0760" cy="5176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569440" cy="6048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000000"/>
                </a:solidFill>
                <a:uFillTx/>
                <a:latin typeface="Corbel"/>
              </a:rPr>
              <a:t>Задания для первичного закрепления материала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1.Площадь боковой поверхности цилиндра равна 72Пи, а диаметр основания — 9. Найдите высоту цилиндра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2. Площадь основания конуса  36π см</a:t>
            </a:r>
            <a:r>
              <a:rPr b="1" i="1" lang="ru-RU" sz="33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 , а его образующая 10 см. </a:t>
            </a:r>
            <a:br>
              <a:rPr sz="3300"/>
            </a:b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Вычислить боковую поверхность конуса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 </a:t>
            </a:r>
            <a:br>
              <a:rPr sz="3300"/>
            </a:br>
            <a:r>
              <a:rPr b="1" i="1" lang="ru-RU" sz="3300" spc="-1" strike="noStrike">
                <a:solidFill>
                  <a:srgbClr val="000000"/>
                </a:solidFill>
                <a:latin typeface="Corbel"/>
              </a:rPr>
              <a:t>3. Площадь большого круга шара равна 17. Найдите площадь поверхности шара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коло шара описан цилиндр, площадь поверхности которого равна 18. Найдите площадь поверхности шара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Рисунок 4" descr="Описание: MA.E10.B9.40/innerimg0.jpg"/>
          <p:cNvPicPr/>
          <p:nvPr/>
        </p:nvPicPr>
        <p:blipFill>
          <a:blip r:embed="rId2"/>
          <a:stretch/>
        </p:blipFill>
        <p:spPr>
          <a:xfrm>
            <a:off x="3419640" y="3716280"/>
            <a:ext cx="2232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AutoShape 2"/>
          <p:cNvSpPr/>
          <p:nvPr/>
        </p:nvSpPr>
        <p:spPr>
          <a:xfrm>
            <a:off x="233280" y="-304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40720" cy="374472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6"/>
          <p:cNvSpPr/>
          <p:nvPr/>
        </p:nvSpPr>
        <p:spPr>
          <a:xfrm>
            <a:off x="3132000" y="2852640"/>
            <a:ext cx="5688000" cy="259236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7"/>
          <p:cNvSpPr/>
          <p:nvPr/>
        </p:nvSpPr>
        <p:spPr>
          <a:xfrm>
            <a:off x="539640" y="4508640"/>
            <a:ext cx="4464000" cy="151272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500040" y="642960"/>
            <a:ext cx="814392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34a5a"/>
                </a:solidFill>
                <a:uFillTx/>
                <a:latin typeface="Arial Black"/>
              </a:rPr>
              <a:t>Цели урок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4a5a"/>
                </a:solidFill>
                <a:latin typeface="Arial Black"/>
              </a:rPr>
              <a:t>Вспомнить понятия цилиндра, конуса, сфер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4a5a"/>
                </a:solidFill>
                <a:latin typeface="Arial Black"/>
              </a:rPr>
              <a:t>Рассмотреть формулы площади боковой поверхности цилиндра, конуса, площади сферы.  Закрепить полученные знания при выполнении упражнен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4a5a"/>
                </a:solidFill>
                <a:latin typeface="Arial Black"/>
              </a:rPr>
              <a:t>Развивать познавательный интерес учащихся, учить их видеть связь между математикой и окружающей жизнью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34a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250920" y="43668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"/>
          <p:cNvSpPr/>
          <p:nvPr/>
        </p:nvSpPr>
        <p:spPr>
          <a:xfrm>
            <a:off x="1030320" y="273672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пределение цилиндр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252360" y="1764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468360" y="141300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.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линд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— это тело (объемная геометрическая фигура), полученное вращением прямоугольника вокруг одной из его сторон как ос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цилиндр"/>
          <p:cNvPicPr/>
          <p:nvPr/>
        </p:nvPicPr>
        <p:blipFill>
          <a:blip r:embed="rId1"/>
          <a:stretch/>
        </p:blipFill>
        <p:spPr>
          <a:xfrm>
            <a:off x="1763640" y="3348000"/>
            <a:ext cx="5889600" cy="247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250920" y="21420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539640" y="269064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пределение конус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250920" y="2142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"/>
          <p:cNvSpPr/>
          <p:nvPr/>
        </p:nvSpPr>
        <p:spPr>
          <a:xfrm>
            <a:off x="885960" y="1989000"/>
            <a:ext cx="77752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.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у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прямой) — это тело (объемная геометрическая фигура), полученное вращением прямоугольного треугольника вокруг его катета как оси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конус"/>
          <p:cNvPicPr/>
          <p:nvPr/>
        </p:nvPicPr>
        <p:blipFill>
          <a:blip r:embed="rId1"/>
          <a:stretch/>
        </p:blipFill>
        <p:spPr>
          <a:xfrm>
            <a:off x="3792600" y="3862440"/>
            <a:ext cx="47736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574560" y="52056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900000" y="1413000"/>
            <a:ext cx="77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пределение шар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395280" y="-17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434a5a"/>
                </a:solidFill>
                <a:uFillTx/>
                <a:latin typeface="Calibri"/>
              </a:rPr>
              <a:t>Фронтальный опро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395280" y="1552680"/>
            <a:ext cx="8424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.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— это тело (объемная геометрическая фигура), полученное вращением полукруга вокруг его диаметра как ос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шар"/>
          <p:cNvPicPr/>
          <p:nvPr/>
        </p:nvPicPr>
        <p:blipFill>
          <a:blip r:embed="rId1"/>
          <a:stretch/>
        </p:blipFill>
        <p:spPr>
          <a:xfrm>
            <a:off x="1927080" y="4365720"/>
            <a:ext cx="53625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00000" y="260280"/>
            <a:ext cx="8244000" cy="2198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лощадь боковой поверхности цилиндра и конуса.  Площадь сфер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s://dr282zn36sxxg.cloudfront.net/datastreams/f-d%3A717f3ec5785e6af260261c59cf5bfbffeab2507a75bbaf61b28dff12%2BIMAGE%2BIMAGE.1"/>
          <p:cNvPicPr/>
          <p:nvPr/>
        </p:nvPicPr>
        <p:blipFill>
          <a:blip r:embed="rId1"/>
          <a:srcRect l="6142" t="14055" r="5109" b="7638"/>
          <a:stretch/>
        </p:blipFill>
        <p:spPr>
          <a:xfrm>
            <a:off x="1258920" y="2411280"/>
            <a:ext cx="6624720" cy="43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9:55:57Z</dcterms:created>
  <dc:creator>Бритикова Лариса</dc:creator>
  <dc:description/>
  <dc:language>en-US</dc:language>
  <cp:lastModifiedBy>User</cp:lastModifiedBy>
  <dcterms:modified xsi:type="dcterms:W3CDTF">2022-11-02T16:19:47Z</dcterms:modified>
  <cp:revision>142</cp:revision>
  <dc:subject/>
  <dc:title>Тема 7. Объемы тел</dc:title>
</cp:coreProperties>
</file>