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6012-791A-4D35-9E97-404B94F51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201A-BDD2-439C-83CC-91C231D46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61BD-4240-4092-BF15-1DE031C9E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28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136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BF1A-49A3-4460-B0EA-A6EBAEFA5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02930-5960-48FD-9962-47ABF042C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AF22E-10EA-4E01-9FE3-6E8E6DE2B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E4FFF-6889-45A5-A952-D50A292E0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E3CAB-7C0B-4202-B46D-FDD4262B0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129FC-1873-4765-8128-52CC7A8F5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22FAB-88CB-45CE-B93B-B0CF09BE9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BB648-1514-456C-8A17-191B45CE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5A10-3CC8-4426-B0F9-995151D47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E005B-A555-4C67-878C-EF4EB84D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50715-46D4-40C7-B52E-0B793EC8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312A7-E882-40AB-86D8-0280DC123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FF3CF-F571-4477-89F2-38F9CA2E5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28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136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7668E-DBF9-4D65-BC53-8D943B6B8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A186-2403-45AA-91B5-B16D71908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F0F5-3A57-4D16-B6E7-DD55EDB0A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2FC2-2577-4814-A2B1-832F9D7A6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FC50-7C5C-4536-BC88-5B6B0524E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3381-91A7-44B3-8035-14779A8E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575B-F53B-4903-8F03-A5AFF98E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ED2D-D479-489E-936F-28AD86CE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0680" cy="1979640"/>
            <a:chOff x="0" y="0"/>
            <a:chExt cx="7240680" cy="197964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1520" cy="105408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0680" cy="190188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6417669-556E-4D01-9E19-441440023345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6760" cy="5942160"/>
            <a:chOff x="0" y="0"/>
            <a:chExt cx="8456760" cy="594216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2080" cy="365616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6760" cy="585468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AF196E5-5C08-476F-9929-15168A263ECA}" type="slidenum">
              <a:rPr b="0" lang="ru-RU" sz="12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spcBef>
                <a:spcPts val="700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hyperlink" Target="http://www.rusarchives.ru/pik/events/xvii/k343.jpg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468000" y="-8589240"/>
            <a:ext cx="77760" cy="1490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396360" y="5734080"/>
            <a:ext cx="6984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148360" y="4221000"/>
            <a:ext cx="3665520" cy="2467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50920" y="4005360"/>
            <a:ext cx="4286160" cy="26668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0" y="189000"/>
            <a:ext cx="4968720" cy="28512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56000" y="3211560"/>
            <a:ext cx="3699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СТАЛИН И ЕГО БЛИЖАЙШИЕ СОРАТНИКИ –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БЕРИЯ, МАЛЕНКОВ, ХРУЩЕВ, МОЛОТОВ.</a:t>
            </a:r>
            <a:r>
              <a:rPr b="1" lang="ru-RU" sz="1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64000" y="0"/>
            <a:ext cx="334836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Я пропал, как зверь, в загоне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Где-то люди, воля, свет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А за мною шум погони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Мне наружу хода нет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Темный лес и берег пруда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Ели сваленной бревно –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Путь отрезан отовсюду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Будь что будет, все равно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Что же сделал я за пакость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Я – убийца и злодей?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Я весь мир заставил плакать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Над судьбой страны мое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Но и так, почти у гроба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Верю я, придет пора –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илу подлости и злобы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Одолеет дух добр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Пастернак “Нобелевская премия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     </a:t>
            </a: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 </a:t>
            </a:r>
            <a:r>
              <a:rPr b="1" i="1" lang="ru-RU" sz="42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ые понятия тем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Реабилитация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сстановление в правах, восстановление доброго имен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Десталинизация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цесс “разоблачения культа личности Сталина”, имеющий большую историческую значимость и протекавший во второй половине 50-х годов прежде всего как процесс ликвидации наиболее негативных сторон тоталитарного режим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олюнтаризм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литика, не считающаяся с объективными законами, реальными условиями и возможностями. Произвольные политические решения, игнорирующие объективные законы, реальные условия и возможност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Диссиденты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ица, несогласные с господствующей идеологией и политикой властей, инакомыслящи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Научно-технический прогресс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спользование передовых достижений науки и техники, технологии в производстве с целью повышения эффективности и качества производственных процессов, лучшего удовлетворения потребности люд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Тема программы: СССР в 1953 – 1964 гг.: попытки реформирования общества.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Тема урока: Номенклатура и реформы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52388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79280" y="2205000"/>
            <a:ext cx="4608720" cy="34704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40720" y="5732640"/>
            <a:ext cx="368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Первый секретарь ЦК КПСС (1953 - 1964)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Председатель Совета Министров..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32360" y="2558880"/>
            <a:ext cx="4019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сли ошибки и недостатки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торые имели место в период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ульта личности Сталина не вскрыть и не осудить, значит одобрить, узаконить их на будущее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Н.С. Хруще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 u="sng">
                <a:solidFill>
                  <a:srgbClr val="ffff00"/>
                </a:solidFill>
                <a:uFillTx/>
                <a:latin typeface="Times New Roman"/>
              </a:rPr>
              <a:t>ВОПРОС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784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78440" indent="-4784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imes New Roman"/>
              <a:buAutoNum type="arabicPeriod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Вспомните, что такое «кризис верхов». Можно ли считать, что после смерти И. В. Сталина в СССР сложилась такая ситуация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78440" indent="-4784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 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Как вы думаете, насколько «наследники» Сталина были готовы возглавить государство? Насколько они были озабочены судьбой страны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78440" indent="-4784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imes New Roman"/>
              <a:buAutoNum type="arabicPeriod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Какие аргументы в борьбе за власть использовал Н. С. Хрущев? Как прореагировало общество на его доклад на XX съезде КПСС? Какие шаги были предприняты в этом направлении в дальнейшем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78440" indent="-4784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Расскажите о следующем витке борьбы за власть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433520" cy="14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Государственные символы СССР (1953-1964 гг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4280040" cy="42800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284720" y="2205000"/>
            <a:ext cx="4689360" cy="3386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25080" y="-7023600"/>
            <a:ext cx="93600" cy="238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325080" y="6308280"/>
            <a:ext cx="7128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195640" y="765000"/>
            <a:ext cx="4392360" cy="2664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979640" y="3573360"/>
            <a:ext cx="5076720" cy="3086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15880" y="264240"/>
            <a:ext cx="832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comic"/>
                <a:ea typeface="Times New Roman"/>
                <a:hlinkClick r:id="rId3"/>
              </a:rPr>
              <a:t>Н.С.Хрущов выступает на ХХ съезде. 14 февраля 1956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284640"/>
            <a:ext cx="914400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3628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 u="sng">
                <a:solidFill>
                  <a:srgbClr val="ffff00"/>
                </a:solidFill>
                <a:uFillTx/>
                <a:latin typeface="Times New Roman"/>
              </a:rPr>
              <a:t>ФИЛЬМ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2492280"/>
            <a:ext cx="2676600" cy="38102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843280" y="1700280"/>
            <a:ext cx="3019320" cy="4476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940360" y="2565360"/>
            <a:ext cx="3076560" cy="3809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17:48:01Z</dcterms:created>
  <dc:creator>Татьяна</dc:creator>
  <dc:description/>
  <dc:language>en-US</dc:language>
  <cp:lastModifiedBy>Татьяна</cp:lastModifiedBy>
  <dcterms:modified xsi:type="dcterms:W3CDTF">2010-03-10T10:46:40Z</dcterms:modified>
  <cp:revision>32</cp:revision>
  <dc:subject/>
  <dc:title>Слайд 1</dc:title>
</cp:coreProperties>
</file>