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0BAD-7AEA-43A4-A086-15410E97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A75-30A2-4292-9056-04C70E3D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010-9C5A-4CE9-85B5-969DB6EF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C41D-5EB0-42A3-84B5-6C699FA2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6FF3-C24D-4E31-B4B8-98C0DD1B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6C17-A49C-4590-89B6-079F0B62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7898-FAC7-4F2F-8984-AEBE026A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C52A-8394-4029-9844-31657D85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4B28-95E6-4366-A295-2EB8223D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8762-FBD0-4599-BC83-ED7FD105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1E90-6C49-480C-931F-6DE22422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D30-E684-4D0F-B992-6985D68B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3E0F-C6EA-4386-85D6-4C9610C5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1442-A825-42F9-9040-A4622763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1CB5-0892-47D3-BA08-089A3B90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6453-7BE3-446A-B94C-C4F565A9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5DF8-D85C-4FA2-BE96-6E323648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BB1-14E2-4E08-A4C0-9EE5AA0D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33A-9513-4762-9C0F-6D86D6B9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85B-C997-46D8-A33F-B1F216A0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E42-0E37-4E05-8600-15613FB8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CD6-4BA8-47CB-A829-C02CB06F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C1D-20CD-42C0-8DA7-3D9F53F3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69A-A96E-4205-96E5-83EF909F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0680" cy="1979640"/>
            <a:chOff x="0" y="0"/>
            <a:chExt cx="7240680" cy="197964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1520" cy="105408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973926-C835-4749-8BED-7D8A6D477D6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6760" cy="5942160"/>
            <a:chOff x="0" y="0"/>
            <a:chExt cx="8456760" cy="594216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2080" cy="36561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37BBB6A-FDA0-4400-AEF7-48F2A116B6B1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ww.rusarchives.ru/pik/events/xvii/k343.jpg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468000" y="-8589240"/>
            <a:ext cx="77760" cy="149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396360" y="573408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48360" y="4221000"/>
            <a:ext cx="366552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4286160" cy="2666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4968720" cy="2851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56000" y="3211560"/>
            <a:ext cx="369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СТАЛИН И ЕГО БЛИЖАЙШИЕ СОРАТНИКИ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ЕРИЯ, МАЛЕНКОВ, ХРУЩЕВ, МОЛОТОВ.</a:t>
            </a: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0"/>
            <a:ext cx="33483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Я пропал, как зверь, в загон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Где-то люди, воля, свет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 за мною шум погони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не наружу хода н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емный лес и берег пруд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Ели сваленной бревно –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уть отрезан отовсюду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удь что будет, все рав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Что же сделал я за пакост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Я – убийца и злодей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Я весь мир заставил плакат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д судьбой страны мо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о и так, почти у гроб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рю я, придет пора –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лу подлости и злобы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долеет дух доб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астернак “Нобелевская премия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     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1" i="1" lang="ru-RU" sz="4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понятия тем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еабилитация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становление в правах, восстановление доброго име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сталинизация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сс “разоблачения культа личности Сталина”, имеющий большую историческую значимость и протекавший во второй половине 50-х годов прежде всего как процесс ликвидации наиболее негативных сторон тоталитарного режи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люнтаризм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тика, не считающаяся с объективными законами, реальными условиями и возможностями. Произвольные политические решения, игнорирующие объективные законы, реальные условия и возмо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иссиденты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ца, несогласные с господствующей идеологией и политикой властей, инакомыслящ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учно-технический прогресс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передовых достижений науки и техники, технологии в производстве с целью повышения эффективности и качества производственных процессов, лучшего удовлетворения потребности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Тема программы: СССР в 1953 – 1964 гг.: попытки реформирования общества.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Тема урока: Номенклатура и реформы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238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608720" cy="3470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0720" y="5732640"/>
            <a:ext cx="36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ервый секретарь ЦК КПСС (1953 - 1964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едседатель Совета Министров.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558880"/>
            <a:ext cx="401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ошибки и недостатк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торые имели место в пери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льта личности Сталина не вскрыть и не осудить, значит одобрить, узаконить их на будущее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.С. Хрущ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ВОПРО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8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8440" indent="-478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спомните, что такое «кризис верхов». Можно ли считать, что после смерти И. В. Сталина в СССР сложилась такая ситуация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8440" indent="-478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ак вы думаете, насколько «наследники» Сталина были готовы возглавить государство? Насколько они были озабочены судьбой страны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8440" indent="-478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акие аргументы в борьбе за власть использовал Н. С. Хрущев? Как прореагировало общество на его доклад на XX съезде КПСС? Какие шаги были предприняты в этом направлении в дальнейшем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8440" indent="-478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Расскажите о следующем витке борьбы за власт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33520" cy="14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осударственные символы СССР (1953-1964 гг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280040" cy="4280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284720" y="2205000"/>
            <a:ext cx="4689360" cy="33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25080" y="-7023600"/>
            <a:ext cx="93600" cy="238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325080" y="6308280"/>
            <a:ext cx="71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95640" y="765000"/>
            <a:ext cx="4392360" cy="2664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979640" y="3573360"/>
            <a:ext cx="5076720" cy="308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15880" y="264240"/>
            <a:ext cx="832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comic"/>
                <a:ea typeface="Times New Roman"/>
                <a:hlinkClick r:id="rId3"/>
              </a:rPr>
              <a:t>Н.С.Хрущов выступает на ХХ съезде. 14 февраля 1956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84640"/>
            <a:ext cx="91440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362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ФИЛЬ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2676600" cy="3810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1700280"/>
            <a:ext cx="3019320" cy="4476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0360" y="2565360"/>
            <a:ext cx="307656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48:01Z</dcterms:created>
  <dc:creator>Татьяна</dc:creator>
  <dc:description/>
  <dc:language>en-US</dc:language>
  <cp:lastModifiedBy>Татьяна</cp:lastModifiedBy>
  <dcterms:modified xsi:type="dcterms:W3CDTF">2010-03-10T10:46:40Z</dcterms:modified>
  <cp:revision>32</cp:revision>
  <dc:subject/>
  <dc:title>Слайд 1</dc:title>
</cp:coreProperties>
</file>