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EA4-8A80-4CF4-924A-2D9A0121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4DD-0DD3-4E61-9CEE-98C07F6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862-5F91-4FA5-B558-D0AAB419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C17-221E-4630-BEC0-B0346DF4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68C-3541-47AA-959D-91B0B9CD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EB3-51AE-4448-B369-43E1A25D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581-B6AE-49E4-9C37-B1867E90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6E08-17C5-4DC8-B9ED-63512B2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1063-6130-480A-9B6C-06E5FA0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BDB-1E3A-45F8-A7D4-64ED853B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4C3E-A623-4F04-A802-CD3FE37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AE6-CF05-46FB-8E9F-EC87AFD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5EF-B684-4736-AADF-98EB7B3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33F-AF40-4A1F-A2C8-F40D8A8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7D09-8A6B-485B-9DB2-F4E95658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612-2D5D-42B3-9F10-BEC4C3B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FA34-535B-4422-9D7F-6734457A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DC5-E0EE-43CB-B38B-84F9D7D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5B4-DC1B-45E7-8D4A-EA463C6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448-D5BD-41C2-A42F-44340FFA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DAC-3481-416A-A7DF-A14FE07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A7B-FBFD-4E7A-A3C9-D19671A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EF6-2E35-4491-972A-D572C23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141-822C-4414-B4F4-AFB4383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E0FFD-4839-4DE5-97C0-1D612E3B82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3C9402-6804-42B7-9A39-90398BFD9EA4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rusarchives.ru/pik/events/xvii/k343.jp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468000" y="-8589240"/>
            <a:ext cx="77760" cy="14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360" y="573408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66552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28616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968720" cy="285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6000" y="3211560"/>
            <a:ext cx="36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ТАЛИН И ЕГО БЛИЖАЙШИЕ СОРАТНИК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ЕРИЯ, МАЛЕНКОВ, ХРУЩЕВ, МОЛОТОВ.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0"/>
            <a:ext cx="3348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пропал, как зверь, в загон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де-то люди, воля, св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 за мною шум погон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не наружу хода н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мный лес и берег пру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и сваленной бревно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ть отрезан отовсюд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ь что будет, все рав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же сделал я за пако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– убийца и злодей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весь мир заставил плак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д судьбой страны мо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о и так, почти у гроб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рю я, придет пора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лу подлости и злоб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долеет дух доб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астернак “Нобелевская премия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    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нятия т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абилитация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становление в правах, восстановление доброго име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сталинизация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“разоблачения культа личности Сталина”, имеющий большую историческую значимость и протекавший во второй половине 50-х годов прежде всего как процесс ликвидации наиболее негативных сторон тоталитарного реж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юнтаризм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тика, не считающаяся с объективными законами, реальными условиями и возможностями. Произвольные политические решения, игнорирующие объективные законы, реальные условия и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иссиденты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а, несогласные с господствующей идеологией и политикой властей, инакомыслящ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учно-технический прогресс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передовых достижений науки и техники, технологии в производстве с целью повышения эффективности и качества производственных процессов, лучшего удовлетворения потребности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программы: СССР в 1953 – 1964 гг.: попытки реформирования общества.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урока: Номенклатура и реформ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3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608720" cy="347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720" y="5732640"/>
            <a:ext cx="36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рвый секретарь ЦК КПСС (1953 - 1964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седатель Совета Министров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558880"/>
            <a:ext cx="401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ошибки и недостат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имели место в пери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ьта личности Сталина не вскрыть и не осудить, значит одобрить, узаконить их на будущее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.С. Хрущ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ВОПРО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8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спомните, что такое «кризис верхов». Можно ли считать, что после смерти И. В. Сталина в СССР сложилась такая ситуаци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 вы думаете, насколько «наследники» Сталина были готовы возглавить государство? Насколько они были озабочены судьбой стран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ие аргументы в борьбе за власть использовал Н. С. Хрущев? Как прореагировало общество на его доклад на XX съезде КПСС? Какие шаги были предприняты в этом направлении в дальнейшем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сскажите о следующем витке борьбы за вла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осударственные символы СССР (1953-1964 гг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80040" cy="428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68936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25080" y="-7023600"/>
            <a:ext cx="93600" cy="238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325080" y="6308280"/>
            <a:ext cx="71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39236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076720" cy="308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880" y="264240"/>
            <a:ext cx="832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omic"/>
                <a:ea typeface="Times New Roman"/>
                <a:hlinkClick r:id="rId3"/>
              </a:rPr>
              <a:t>Н.С.Хрущов выступает на ХХ съезде. 14 февраля 195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4640"/>
            <a:ext cx="9144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ФИЛЬ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676600" cy="381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3019320" cy="447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48:01Z</dcterms:created>
  <dc:creator>Татьяна</dc:creator>
  <dc:description/>
  <dc:language>en-US</dc:language>
  <cp:lastModifiedBy>Татьяна</cp:lastModifiedBy>
  <dcterms:modified xsi:type="dcterms:W3CDTF">2010-03-10T10:46:40Z</dcterms:modified>
  <cp:revision>32</cp:revision>
  <dc:subject/>
  <dc:title>Слайд 1</dc:title>
</cp:coreProperties>
</file>