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3EED-3770-4C9C-9843-B73E52EF3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9108-4154-4A3A-9034-414B78E4F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B584-F0A7-4105-ABCD-40A65C0FE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4703-AB83-4485-9EDE-CD8EBE45A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C641-2185-4848-A708-A997F9A79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F0B-95CA-49BA-8C9E-363672A1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B31-717D-409A-ACC6-7F3B75AA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37C-6447-4B3F-A829-022364FD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7DD-6A82-481B-81DB-AD620279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BB4-CB86-4F29-98B1-FD821E38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EA1-C12E-4F1A-9707-87EBBB4E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3B3-A756-4329-ACD4-E47893B3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C2F-DDA5-466E-B7BD-53302451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4DB-0283-48AB-842B-DA6C1480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8FF-5764-475C-966A-588D109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BE4-35C9-4D34-8372-D05B01E3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BAB-DC12-431E-8A37-B2531ADD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B25D-75EA-48A3-84D3-5BB1A3ED2D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6715080" y="3214800"/>
            <a:ext cx="2228760" cy="3390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428840" y="357120"/>
            <a:ext cx="69292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олгожданный дан звонок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чинается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 уроке нас ребя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Ждут затеи и задач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, шутки - всё для Ва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желаю Вам удачи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 работу, в добрый час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Восстанови текс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717560" y="1628640"/>
            <a:ext cx="6840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удава 5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ушей зайца 13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муравья 6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лето суслик съедает 6 … з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ва за один удой дает 4 … мо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чно мы должны ходить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жем рано разбудить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ить умеем, но не вас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биваем каждый час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омко, весело мы бьём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им –бом, бом, бим-бом, бим-бом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Ча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Две сестрицы друг за другом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Пробегают круг за кругом.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оротышка только раз,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Та, что выше, каждый ча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елки ча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357200" y="3286080"/>
            <a:ext cx="2229120" cy="3390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714840" y="1571760"/>
            <a:ext cx="521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Что летит быстрее мысли и не имеет ни начала, ни конца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mir-idey.org/upload/fullsize/16.jpg"/>
          <p:cNvPicPr/>
          <p:nvPr/>
        </p:nvPicPr>
        <p:blipFill>
          <a:blip r:embed="rId2"/>
          <a:stretch/>
        </p:blipFill>
        <p:spPr>
          <a:xfrm>
            <a:off x="1619280" y="40464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715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Arial"/>
              </a:rPr>
              <a:t>Тема урока: </a:t>
            </a:r>
            <a:br>
              <a:rPr sz="4800"/>
            </a:b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Arial"/>
              </a:rPr>
              <a:t>Час. Минут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63640" y="2204640"/>
            <a:ext cx="70437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ся с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знать о 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Научиться реша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Заголовок 1"/>
          <p:cNvSpPr/>
          <p:nvPr/>
        </p:nvSpPr>
        <p:spPr>
          <a:xfrm>
            <a:off x="1428840" y="18900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Солнеч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1547640" y="474012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простейший прибор измерения времени – солнечные часы – он был изобретен вавилонянами примерно 3,5 тысячи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www.top-sovet.ru/sites/default/files/solnechnye_chasy_01.png"/>
          <p:cNvPicPr/>
          <p:nvPr/>
        </p:nvPicPr>
        <p:blipFill>
          <a:blip r:embed="rId1"/>
          <a:stretch/>
        </p:blipFill>
        <p:spPr>
          <a:xfrm>
            <a:off x="2149560" y="1292400"/>
            <a:ext cx="5997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1"/>
          <p:cNvSpPr/>
          <p:nvPr/>
        </p:nvSpPr>
        <p:spPr>
          <a:xfrm>
            <a:off x="1428840" y="189000"/>
            <a:ext cx="487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Водя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1504800" y="4005360"/>
            <a:ext cx="7607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яду с солнечными часами уже во 2-м и 1-м тыс. до н.э. в Индии, Египте, Китае и Греции строились водяные часы, которые показывали время и днём, и ночью. В Вавилоне такие часы были в ходу еще 2050 лет тому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://900igr.net/data/predmety/CHasy-2.files/0031-066-Vodjanye-chasy.jpg"/>
          <p:cNvPicPr/>
          <p:nvPr/>
        </p:nvPicPr>
        <p:blipFill>
          <a:blip r:embed="rId1"/>
          <a:stretch/>
        </p:blipFill>
        <p:spPr>
          <a:xfrm>
            <a:off x="5940360" y="260280"/>
            <a:ext cx="2879640" cy="38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users.kpi.kharkov.ua/physics/watercl1.gif"/>
          <p:cNvPicPr/>
          <p:nvPr/>
        </p:nvPicPr>
        <p:blipFill>
          <a:blip r:embed="rId2"/>
          <a:stretch/>
        </p:blipFill>
        <p:spPr>
          <a:xfrm>
            <a:off x="1428840" y="1628640"/>
            <a:ext cx="2857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249120" y="884160"/>
            <a:ext cx="786456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52280" y="1036800"/>
            <a:ext cx="8815680" cy="583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BIRD45 G"/>
          <p:cNvPicPr/>
          <p:nvPr/>
        </p:nvPicPr>
        <p:blipFill>
          <a:blip r:embed="rId3"/>
          <a:stretch/>
        </p:blipFill>
        <p:spPr>
          <a:xfrm>
            <a:off x="2590920" y="4762440"/>
            <a:ext cx="1150920" cy="1038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renema.ru/Info/img/cvet_chas1.jpg"/>
          <p:cNvPicPr/>
          <p:nvPr/>
        </p:nvPicPr>
        <p:blipFill>
          <a:blip r:embed="rId4"/>
          <a:stretch/>
        </p:blipFill>
        <p:spPr>
          <a:xfrm>
            <a:off x="5148360" y="5373720"/>
            <a:ext cx="105408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863800" y="566568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т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257080" y="6040440"/>
            <a:ext cx="62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Водяные часы"/>
          <p:cNvPicPr/>
          <p:nvPr/>
        </p:nvPicPr>
        <p:blipFill>
          <a:blip r:embed="rId5"/>
          <a:stretch/>
        </p:blipFill>
        <p:spPr>
          <a:xfrm>
            <a:off x="6202440" y="2000160"/>
            <a:ext cx="646200" cy="714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6202080" y="278136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я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258920" y="982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весь период существования человеческой цивилизации  было изобретено множество различных ча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226836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716360" y="566568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061360" y="321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5878800" y="235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365400" y="2919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8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1428840" y="18900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Часы на Спасской баш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stabrovsky.ru/photography/2008/zakadrom0606/001.jpg"/>
          <p:cNvPicPr/>
          <p:nvPr/>
        </p:nvPicPr>
        <p:blipFill>
          <a:blip r:embed="rId1"/>
          <a:stretch/>
        </p:blipFill>
        <p:spPr>
          <a:xfrm>
            <a:off x="4284720" y="353520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progulkipomoskve.ru/foto1/dom/1/spasskaya-bashnya-moskovskogo-kremlya.jpg"/>
          <p:cNvPicPr/>
          <p:nvPr/>
        </p:nvPicPr>
        <p:blipFill>
          <a:blip r:embed="rId2"/>
          <a:stretch/>
        </p:blipFill>
        <p:spPr>
          <a:xfrm>
            <a:off x="1582560" y="1341360"/>
            <a:ext cx="3713400" cy="475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nikbaranov.ru/wp-content/uploads/2010/03/d0bad183d180d0b0d0bdd182d18b.jpg"/>
          <p:cNvPicPr/>
          <p:nvPr/>
        </p:nvPicPr>
        <p:blipFill>
          <a:blip r:embed="rId3"/>
          <a:stretch/>
        </p:blipFill>
        <p:spPr>
          <a:xfrm>
            <a:off x="6553080" y="1052640"/>
            <a:ext cx="14954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1428840" y="18900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Цветоч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s://prv1.lori-images.net/tsvetochnye-chasy-v-nizhnevartovske-0000994005-preview.jpg"/>
          <p:cNvPicPr/>
          <p:nvPr/>
        </p:nvPicPr>
        <p:blipFill>
          <a:blip r:embed="rId1"/>
          <a:stretch/>
        </p:blipFill>
        <p:spPr>
          <a:xfrm>
            <a:off x="1692360" y="1413000"/>
            <a:ext cx="68403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Сколько в году месяцев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 месяц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&amp;Pcy; &amp;iecy; &amp;scy; &amp;ocy; &amp;chcy; &amp;ncy; &amp;ycy; &amp;iecy; &amp;chcy; &amp;acy; &amp;scy; &amp;ycy;. &amp;Pcy;&amp;iecy;&amp;scy;&amp;ocy;&amp;chcy;&amp;ncy;&amp;ycy;&amp;iecy; &amp;chcy;&amp;acy;&amp;scy;&amp;ycy; - &amp;ocy;&amp;dcy;&amp;icy;&amp;ncy; &amp;icy;&amp;zcy;. &amp;scy;&amp;acy;&amp;mcy;&amp;ycy;&amp;khcy; &amp;dcy;&amp;rcy;&amp;iecy;&amp;vcy;&amp;ncy;&amp;icy;&amp;khcy; &amp;pcy;&amp;rcy;&amp;icy;&amp;bcy;&amp;ocy;&amp;rcy;&amp;ocy;&amp;vcy; &amp;dcy;&amp;lcy;&amp;yacy; &amp;ocy;&amp;pcy;&amp;rcy;&amp;iecy;&amp;dcy;&amp;iecy;&amp;lcy;&amp;iecy;&amp;ncy;&amp;icy;&amp;yacy; &amp;vcy;&amp;rcy;&amp;iecy;&amp;mcy;&amp;iecy;&amp;ncy;&amp;icy;. &amp;Ocy;&amp;ncy;&amp;icy; &amp;scy;&amp;ocy;&amp;scy;&amp;tcy;&amp;ocy;&amp;yacy;&amp;tcy; &amp;icy;&amp;zcy; &amp;dcy;&amp;vcy;&amp;ucy;&amp;khcy; &amp;gcy;&amp;rcy;&amp;ucy;&amp;shcy;&amp;iecy;&amp;vcy;&amp;icy;&amp;dcy;&amp;ncy;&amp;ycy;&amp;khcy; &amp;iecy;&amp;mcy;&amp;kcy;&amp;ocy;&amp;scy;&amp;tcy;&amp;iecy;&amp;jcy;, &amp;scy;&amp;ocy;&amp;iecy;&amp;dcy;&amp;icy;&amp;ncy;&amp;iecy;&amp;ncy;&amp;ncy;&amp;ycy;&amp;khcy; &amp;mcy;&amp;iecy;&amp;zhcy;&amp;dcy;&amp;ucy; &amp;scy;&amp;ocy;&amp;bcy;&amp;ocy;&amp;jcy;&amp;ucy;&amp;zcy;&amp;kcy;&amp;icy;&amp;mcy;&amp;icy; &amp;kcy;&amp;ocy;&amp;ncy;&amp;tscy;&amp;acy;&amp;mcy;&amp;i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1332000" y="981000"/>
            <a:ext cx="75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+51 =      37 - 30=    80-30=     8+7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-2 =       98+0=       36-5=       19-9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videoplayback" descr=""/>
          <p:cNvPicPr/>
          <p:nvPr/>
        </p:nvPicPr>
        <p:blipFill>
          <a:blip r:embed="rId1"/>
          <a:stretch/>
        </p:blipFill>
        <p:spPr>
          <a:xfrm>
            <a:off x="108000" y="98280"/>
            <a:ext cx="88567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_atomic_wall_clock2"/>
          <p:cNvPicPr/>
          <p:nvPr/>
        </p:nvPicPr>
        <p:blipFill>
          <a:blip r:embed="rId1"/>
          <a:stretch/>
        </p:blipFill>
        <p:spPr>
          <a:xfrm>
            <a:off x="2556000" y="2565360"/>
            <a:ext cx="3709800" cy="369720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V="1">
            <a:off x="5219640" y="2924280"/>
            <a:ext cx="237672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 flipH="1" flipV="1">
            <a:off x="1618920" y="2276640"/>
            <a:ext cx="2087640" cy="23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94560" y="170028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овая стр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711040" y="234936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нутная стр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1382760" y="17136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Times New Roman"/>
              </a:rPr>
              <a:t>Числа на часах называют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</a:rPr>
              <a:t>циферблат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ora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22" name="AutoShape 6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7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25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11"/>
          <p:cNvSpPr/>
          <p:nvPr/>
        </p:nvSpPr>
        <p:spPr>
          <a:xfrm>
            <a:off x="5029200" y="380880"/>
            <a:ext cx="380988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утная стрелка от цифры до цифры проходит                            за 5 мину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9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ora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5181480" y="304920"/>
            <a:ext cx="35053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утная стрелка делает полный обор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60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5764c113633d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3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33" name="AutoShape 4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5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6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36" name="AutoShape 7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8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0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ora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4876920" y="380880"/>
            <a:ext cx="396216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ая стрелка за                       60 минут проход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тояние от одной цифры до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3"/>
          <a:stretch/>
        </p:blipFill>
        <p:spPr>
          <a:xfrm>
            <a:off x="38098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"/>
          <p:cNvPicPr/>
          <p:nvPr/>
        </p:nvPicPr>
        <p:blipFill>
          <a:blip r:embed="rId4"/>
          <a:srcRect l="0" t="0" r="9059" b="0"/>
          <a:stretch/>
        </p:blipFill>
        <p:spPr>
          <a:xfrm>
            <a:off x="3429000" y="3960720"/>
            <a:ext cx="685800" cy="66672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6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45" name="AutoShape 7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8" descr=""/>
            <p:cNvPicPr/>
            <p:nvPr/>
          </p:nvPicPr>
          <p:blipFill>
            <a:blip r:embed="rId5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3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48" name="AutoShape 4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5" descr=""/>
            <p:cNvPicPr/>
            <p:nvPr/>
          </p:nvPicPr>
          <p:blipFill>
            <a:blip r:embed="rId6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ora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154" name="AutoShape 6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7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57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11"/>
          <p:cNvSpPr/>
          <p:nvPr/>
        </p:nvSpPr>
        <p:spPr>
          <a:xfrm>
            <a:off x="5334120" y="91440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 час = 60 м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mobatime.ru/images/stories/dials/zb210w.jpg"/>
          <p:cNvPicPr/>
          <p:nvPr/>
        </p:nvPicPr>
        <p:blipFill>
          <a:blip r:embed="rId1"/>
          <a:stretch/>
        </p:blipFill>
        <p:spPr>
          <a:xfrm>
            <a:off x="1857240" y="285840"/>
            <a:ext cx="5857920" cy="52149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2662560" y="5643720"/>
            <a:ext cx="42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час=60 м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71400" y="2130480"/>
            <a:ext cx="7429320" cy="21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 часа 10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 часов 25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9 часов 05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 часов 45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0 часов 20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 часа 55 мину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Назовите по порядк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92000" y="3573360"/>
            <a:ext cx="66675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нварь, февраль, март, апрель, май, июнь, июль, август, сентябрь, октябрь, ноябрь, декабр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785600" y="1785960"/>
            <a:ext cx="6900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Объект 3" descr="часы для детей"/>
          <p:cNvPicPr/>
          <p:nvPr/>
        </p:nvPicPr>
        <p:blipFill>
          <a:blip r:embed="rId1"/>
          <a:stretch/>
        </p:blipFill>
        <p:spPr>
          <a:xfrm>
            <a:off x="1835280" y="1428840"/>
            <a:ext cx="4752720" cy="4664160"/>
          </a:xfrm>
          <a:prstGeom prst="rect">
            <a:avLst/>
          </a:prstGeom>
          <a:ln w="0">
            <a:noFill/>
          </a:ln>
        </p:spPr>
      </p:pic>
      <p:sp>
        <p:nvSpPr>
          <p:cNvPr id="165" name="Овальная выноска 9"/>
          <p:cNvSpPr/>
          <p:nvPr/>
        </p:nvSpPr>
        <p:spPr>
          <a:xfrm>
            <a:off x="5143680" y="0"/>
            <a:ext cx="3633480" cy="141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Все на физминутку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zvuki-zvonok_budilnika.mp3" descr=""/>
          <p:cNvPicPr/>
          <p:nvPr/>
        </p:nvPicPr>
        <p:blipFill>
          <a:blip r:embed="rId2"/>
          <a:stretch/>
        </p:blipFill>
        <p:spPr>
          <a:xfrm>
            <a:off x="2357280" y="2428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090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85600" y="1785960"/>
            <a:ext cx="6900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Объект 3" descr="часы для детей"/>
          <p:cNvPicPr/>
          <p:nvPr/>
        </p:nvPicPr>
        <p:blipFill>
          <a:blip r:embed="rId1"/>
          <a:stretch/>
        </p:blipFill>
        <p:spPr>
          <a:xfrm>
            <a:off x="1835280" y="1428840"/>
            <a:ext cx="4752720" cy="4664160"/>
          </a:xfrm>
          <a:prstGeom prst="rect">
            <a:avLst/>
          </a:prstGeom>
          <a:ln w="0">
            <a:noFill/>
          </a:ln>
        </p:spPr>
      </p:pic>
      <p:sp>
        <p:nvSpPr>
          <p:cNvPr id="169" name="Овальная выноска 9"/>
          <p:cNvSpPr/>
          <p:nvPr/>
        </p:nvSpPr>
        <p:spPr>
          <a:xfrm>
            <a:off x="5143680" y="0"/>
            <a:ext cx="3633480" cy="141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C:\Users\DNS\Desktop\задание 2.jpg"/>
          <p:cNvPicPr/>
          <p:nvPr/>
        </p:nvPicPr>
        <p:blipFill>
          <a:blip r:embed="rId1"/>
          <a:stretch/>
        </p:blipFill>
        <p:spPr>
          <a:xfrm>
            <a:off x="1428840" y="142920"/>
            <a:ext cx="7572240" cy="414324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3" descr="5592baab70e01868945de62fe59a3d91.jpg"/>
          <p:cNvPicPr/>
          <p:nvPr/>
        </p:nvPicPr>
        <p:blipFill>
          <a:blip r:embed="rId2"/>
          <a:stretch/>
        </p:blipFill>
        <p:spPr>
          <a:xfrm>
            <a:off x="1428840" y="4286160"/>
            <a:ext cx="1785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C:\Users\DNS\Desktop\задание 3.jpg"/>
          <p:cNvPicPr/>
          <p:nvPr/>
        </p:nvPicPr>
        <p:blipFill>
          <a:blip r:embed="rId1"/>
          <a:stretch/>
        </p:blipFill>
        <p:spPr>
          <a:xfrm>
            <a:off x="1428840" y="214200"/>
            <a:ext cx="742932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" descr="часы для детей"/>
          <p:cNvPicPr/>
          <p:nvPr/>
        </p:nvPicPr>
        <p:blipFill>
          <a:blip r:embed="rId2"/>
          <a:stretch/>
        </p:blipFill>
        <p:spPr>
          <a:xfrm>
            <a:off x="1428840" y="3643200"/>
            <a:ext cx="3000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imes New Roman"/>
              </a:rPr>
              <a:t>Провер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71760" y="1428840"/>
            <a:ext cx="7115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30-10=20(мин.)-заняла вторая пар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30+20=50(мин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50 минут заняли обе парт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&amp;Vcy; &amp;dcy;&amp;rcy;&amp;iecy;&amp;vcy;&amp;ncy;&amp;iecy;&amp;mcy; &amp;Kcy;&amp;icy;&amp;tcy;&amp;acy;&amp;iecy; &amp;scy;&amp;ucy;&amp;shchcy;&amp;iecy;&amp;scy;&amp;tcy;&amp;vcy;&amp;ocy;&amp;vcy;&amp;acy;&amp;lcy;&amp;icy;, &amp;ncy;&amp;acy;&amp;pcy;&amp;rcy;&amp;icy;&amp;mcy;&amp;iecy;&amp;rcy; «&amp;chcy;&amp;acy;&amp;scy;&amp;ycy;», &amp;kcy;&amp;ocy;&amp;tcy;&amp;ocy;&amp;rcy;&amp;ycy;&amp;iecy; &amp;bcy;&amp;ycy;&amp;lcy;&amp;icy; &amp;scy;&amp;dcy;&amp;iecy;&amp;lcy;&amp;acy;&amp;ncy;&amp;ycy; &amp;icy;&amp;zcy; &amp;pcy;&amp;rcy;&amp;ocy;&amp;pcy;&amp;icy;&amp;tcy;&amp;acy;&amp;ncy;&amp;ncy;&amp;ycy;&amp;khcy; &amp;mcy;&amp;acy;&amp;scy;&amp;lcy;&amp;ocy;&amp;mcy; &amp;vcy;&amp;iecy;&amp;rcy;&amp;iecy;&amp;vcy;&amp;ocy;&amp;kcy;, &amp;ncy;&amp;acy; &amp;kcy;&amp;ocy;&amp;tcy;&amp;ocy;&amp;rcy;&amp;ycy;&amp;khcy; &amp;bcy;&amp;ycy;&amp;lcy;&amp;icy; &amp;zcy;&amp;acy;&amp;vcy;&amp;yacy;&amp;zcy;&amp;acy;&amp;ncy;&amp;ycy; &amp;ucy;&amp;zcy;&amp;lcy;&amp;ycy;. &amp;Tcy;&amp;acy;&amp;kcy;&amp;ocy;&amp;jcy; &amp;shcy;&amp;ncy;&amp;ucy;&amp;rcy;&amp;ocy;&amp;kcy; &amp;pcy;&amp;ocy;&amp;dcy;&amp;zhcy;&amp;icy;&amp;gcy;&amp;acy;&amp;lcy;&amp;icy;, &amp;kcy;&amp;acy;&amp;zhcy;&amp;dcy;&amp;ycy;&amp;jcy; &amp;rcy;&amp;acy;&amp;zcy;, &amp;kcy;&amp;ocy;&amp;gcy;&amp;dcy;&amp;acy; &amp;pcy;&amp;lcy;&amp;acy;&amp;mcy;&amp;yacy; &amp;dcy;&amp;ocy;&amp;scy;&amp;tcy;&amp;icy;&amp;gcy;&amp;acy;&amp;lcy;&amp;ocy; &amp;ucy;&amp;zcy;&amp;lcy;&amp;acy;, &amp;pcy;&amp;rcy;&amp;ocy;&amp;khcy;&amp;ocy;&amp;dcy;&amp;icy;&amp;lcy; &amp;ocy;&amp;pcy;&amp;rcy;&amp;iecy;&amp;dcy;&amp;iecy;&amp;lcy;&amp;iecy;&amp;ncy;&amp;ncy;&amp;ycy;&amp;jcy; &amp;ocy;&amp;tcy;&amp;rcy;&amp;iecy;&amp;zcy;&amp;ocy;&amp;kcy; &amp;vcy;&amp;rcy;&amp;iecy;&amp;mcy;&amp;iecy;&amp;ncy;&amp;icy;.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&amp;Vcy; &amp;ocy; &amp;dcy; &amp;yacy; &amp;ncy; &amp;ycy; &amp;iecy; &amp;chcy; &amp;acy; &amp;scy; &amp;ycy;. &amp;Ncy;&amp;acy;&amp;rcy;&amp;yacy;&amp;dcy;&amp;ucy; &amp;scy; &amp;scy;&amp;ocy;&amp;lcy;&amp;ncy;&amp;iecy;&amp;chcy;&amp;ncy;&amp;ycy;&amp;mcy;&amp;icy; &amp;chcy;&amp;acy;&amp;scy;&amp;acy;&amp;mcy;&amp;icy; &amp;ucy;&amp;zhcy;&amp;iecy; &amp;vcy;&amp;ocy; 2-&amp;mcy; &amp;icy; 1-&amp;mcy; &amp;tcy;&amp;ycy;&amp;scy;. &amp;dcy;&amp;ocy; &amp;ncy;. &amp;ecy;. &amp;vcy; &amp;Icy;&amp;ncy;&amp;dcy;&amp;icy;&amp;icy;, &amp;IEcy;&amp;gcy;&amp;icy;&amp;pcy;&amp;tcy;&amp;iecy;, &amp;Kcy;&amp;icy;&amp;tcy;&amp;acy;&amp;iecy; &amp;icy; &amp;Gcy;&amp;rcy;&amp;iecy;&amp;tscy;&amp;icy;&amp;icy; &amp;scy;&amp;tcy;&amp;rcy;&amp;ocy;&amp;icy;&amp;lcy;&amp;icy;&amp;scy;&amp;softcy; &amp;vcy;&amp;ocy;&amp;dcy;&amp;yacy;&amp;ncy;&amp;ycy;&amp;iecy; &amp;chcy;&amp;acy;&amp;scy;&amp;ycy;, &amp;kcy;&amp;ocy;&amp;tcy;&amp;ocy;&amp;rcy;&amp;ycy;&amp;iecy; &amp;pcy;&amp;ocy;&amp;kcy;&amp;acy;&amp;zcy;&amp;ycy;&amp;vcy;&amp;acy;&amp;lcy;&amp;icy; &amp;vcy;&amp;rcy;&amp;iecy;&amp;mcy;&amp;yacy; &amp;icy; &amp;dcy;&amp;ncy;&amp;iocy;&amp;mcy;, &amp;icy; &amp;ncy;&amp;ocy;&amp;chcy;&amp;softcy;&amp;yucy;. &amp;Vcy; &amp;Vcy;&amp;acy;&amp;vcy;&amp;icy;&amp;lcy;&amp;ocy;&amp;ncy;&amp;iecy; &amp;tcy;&amp;acy;&amp;kcy;&amp;icy;&amp;iecy; &amp;chcy;&amp;acy;&amp;scy;&amp;ycy; &amp;bcy;&amp;ycy;&amp;lcy;&amp;icy; &amp;vcy; &amp;khcy;&amp;ocy;&amp;dcy;&amp;ucy; &amp;iecy;&amp;shchcy;&amp;iecy; 2050 &amp;lcy;&amp;iecy;&amp;tcy; &amp;tcy;&amp;ocy;&amp;mcy;&amp;ucy; &amp;ncy;&amp;acy;&amp;zcy;&amp;acy;&amp;d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C:\Users\DNS\Desktop\дом задание.jpg"/>
          <p:cNvPicPr/>
          <p:nvPr/>
        </p:nvPicPr>
        <p:blipFill>
          <a:blip r:embed="rId1"/>
          <a:stretch/>
        </p:blipFill>
        <p:spPr>
          <a:xfrm>
            <a:off x="1428840" y="1500120"/>
            <a:ext cx="7429320" cy="17859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часы для детей"/>
          <p:cNvPicPr/>
          <p:nvPr/>
        </p:nvPicPr>
        <p:blipFill>
          <a:blip r:embed="rId2"/>
          <a:stretch/>
        </p:blipFill>
        <p:spPr>
          <a:xfrm>
            <a:off x="1428840" y="3429000"/>
            <a:ext cx="3000240" cy="32148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3" descr="5592baab70e01868945de62fe59a3d91.jpg"/>
          <p:cNvPicPr/>
          <p:nvPr/>
        </p:nvPicPr>
        <p:blipFill>
          <a:blip r:embed="rId3"/>
          <a:stretch/>
        </p:blipFill>
        <p:spPr>
          <a:xfrm>
            <a:off x="6143760" y="3429000"/>
            <a:ext cx="27860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428840" y="2857680"/>
            <a:ext cx="2786040" cy="38192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7" descr=""/>
          <p:cNvPicPr/>
          <p:nvPr/>
        </p:nvPicPr>
        <p:blipFill>
          <a:blip r:embed="rId2"/>
          <a:stretch/>
        </p:blipFill>
        <p:spPr>
          <a:xfrm>
            <a:off x="3902040" y="3176640"/>
            <a:ext cx="5297400" cy="2365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" descr="часы для детей"/>
          <p:cNvPicPr/>
          <p:nvPr/>
        </p:nvPicPr>
        <p:blipFill>
          <a:blip r:embed="rId3"/>
          <a:stretch/>
        </p:blipFill>
        <p:spPr>
          <a:xfrm>
            <a:off x="5500800" y="214200"/>
            <a:ext cx="3214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по счету месяц январ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по счету месяц март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е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по счету месяц октябр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сят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самый короткий месяц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277920" y="189000"/>
            <a:ext cx="87912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ина лепестка роз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м, а длина лепестка тюльпана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сколько см лепесток тюльпана длиннее лепестка роз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1"/>
          <a:stretch/>
        </p:blipFill>
        <p:spPr>
          <a:xfrm>
            <a:off x="4900680" y="3236760"/>
            <a:ext cx="4481280" cy="28292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987480" y="1066680"/>
            <a:ext cx="7796160" cy="23529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http://ua.cdnmob.org/pic/v2/gallery/preview/cvety-rasteniya-rozy-30222.jpg"/>
          <p:cNvPicPr/>
          <p:nvPr/>
        </p:nvPicPr>
        <p:blipFill>
          <a:blip r:embed="rId3"/>
          <a:stretch/>
        </p:blipFill>
        <p:spPr>
          <a:xfrm>
            <a:off x="324000" y="2997360"/>
            <a:ext cx="2303280" cy="2087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http://static.freepik.com/free-photo/dew-presents-pink-tulips-yellow-tulip_3306009.jpg"/>
          <p:cNvPicPr/>
          <p:nvPr/>
        </p:nvPicPr>
        <p:blipFill>
          <a:blip r:embed="rId4"/>
          <a:stretch/>
        </p:blipFill>
        <p:spPr>
          <a:xfrm>
            <a:off x="2268360" y="4581360"/>
            <a:ext cx="2573640" cy="17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1640" y="2130120"/>
            <a:ext cx="76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Сегодня 9 октября, вторник.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А у Маши день рождение через неделю.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Когда день рождение у Маш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+7=16 (октября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1:01:20Z</dcterms:created>
  <dc:creator>Admin</dc:creator>
  <dc:description/>
  <dc:language>en-US</dc:language>
  <cp:lastModifiedBy>Пользователь</cp:lastModifiedBy>
  <dcterms:modified xsi:type="dcterms:W3CDTF">2018-10-09T03:27:53Z</dcterms:modified>
  <cp:revision>86</cp:revision>
  <dc:subject/>
  <dc:title>Урок математики  по теме «Единицы времени. Час.Минута».</dc:title>
</cp:coreProperties>
</file>