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7.jpeg" ContentType="image/jpeg"/>
  <Override PartName="/ppt/media/image25.png" ContentType="image/png"/>
  <Override PartName="/ppt/media/image19.jpeg" ContentType="image/jpeg"/>
  <Override PartName="/ppt/media/image24.png" ContentType="image/png"/>
  <Override PartName="/ppt/media/image23.png" ContentType="image/png"/>
  <Override PartName="/ppt/media/image21.png" ContentType="image/png"/>
  <Override PartName="/ppt/media/image20.jpeg" ContentType="image/jpeg"/>
  <Override PartName="/ppt/media/image12.png" ContentType="image/png"/>
  <Override PartName="/ppt/media/image14.jpeg" ContentType="image/jpeg"/>
  <Override PartName="/ppt/media/image8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34.jpeg" ContentType="image/jpeg"/>
  <Override PartName="/ppt/media/image37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6.jpeg" ContentType="image/jpeg"/>
  <Override PartName="/ppt/media/image2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5D46-F1B0-445D-93B8-B289155880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60F3-17D8-4CBD-AE35-25B9C2E045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1F33-4098-4EAD-8EB7-EB9BCABD59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D6ED-A305-49C7-907E-3577AC3DF4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93C1-0955-418A-916D-8FFA83AE49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89EF-2922-4854-A0A7-C50BE44AB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DEC7-803C-40B1-A9F4-FB5CCAB6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FE66-CDC5-4AD1-8CC1-2233CA2D3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B649-BBD2-438B-8D2F-7FF98A09E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FAE7-030D-432E-8E50-54D215A5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7CA1-BD11-46F5-A2F7-8BBF40FD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37C8-14E3-452D-907C-B826160E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E2BF-B564-42E5-8AF0-4001BCFB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0D3B-A531-4553-A440-36CC6E7F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0ECB-E467-49F9-8A01-99F01F8B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7A9B-36E1-46F9-A972-F516D6D2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B248-B210-4E1C-BC67-0C870CEF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9E88-F75C-49A2-83B9-E058BE8013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0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7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3" descr="5592baab70e01868945de62fe59a3d91.jpg"/>
          <p:cNvPicPr/>
          <p:nvPr/>
        </p:nvPicPr>
        <p:blipFill>
          <a:blip r:embed="rId1"/>
          <a:stretch/>
        </p:blipFill>
        <p:spPr>
          <a:xfrm>
            <a:off x="6715080" y="3214800"/>
            <a:ext cx="2228760" cy="3390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428840" y="357120"/>
            <a:ext cx="692928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Долгожданный дан звонок -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ачинается урок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а уроке нас ребят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Ждут затеи и задачи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Игры, шутки - всё для Вас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ожелаю Вам удачи -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За работу, в добрый час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Times New Roman"/>
              </a:rPr>
              <a:t>Восстанови текс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1717560" y="1628640"/>
            <a:ext cx="68407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ина удава 5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ина ушей зайца 13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ина муравья 6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лето суслик съедает 6 … зер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рова за один удой дает 4 … мол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71400" y="2130120"/>
            <a:ext cx="7429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очно мы должны ходить,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жем рано разбудить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ить умеем, но не вас,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тбиваем каждый час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ромко, весело мы бьём: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им –бом, бом, бим-бом, бим-бом!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142880" y="5072040"/>
            <a:ext cx="407196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Ча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71400" y="2130120"/>
            <a:ext cx="7429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Две сестрицы друг за другом </a:t>
            </a:r>
            <a:br>
              <a:rPr sz="4400"/>
            </a:b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Пробегают круг за кругом.</a:t>
            </a:r>
            <a:br>
              <a:rPr sz="4400"/>
            </a:b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Коротышка только раз, </a:t>
            </a:r>
            <a:br>
              <a:rPr sz="4400"/>
            </a:b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Та, что выше, каждый час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142880" y="5072040"/>
            <a:ext cx="407196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трелки час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Содержимое 3" descr="5592baab70e01868945de62fe59a3d91.jpg"/>
          <p:cNvPicPr/>
          <p:nvPr/>
        </p:nvPicPr>
        <p:blipFill>
          <a:blip r:embed="rId1"/>
          <a:stretch/>
        </p:blipFill>
        <p:spPr>
          <a:xfrm>
            <a:off x="1357200" y="3286080"/>
            <a:ext cx="2229120" cy="339084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4"/>
          <p:cNvSpPr/>
          <p:nvPr/>
        </p:nvSpPr>
        <p:spPr>
          <a:xfrm>
            <a:off x="3714840" y="1571760"/>
            <a:ext cx="5214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Что летит быстрее мысли и не имеет ни начала, ни конца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http://www.mir-idey.org/upload/fullsize/16.jpg"/>
          <p:cNvPicPr/>
          <p:nvPr/>
        </p:nvPicPr>
        <p:blipFill>
          <a:blip r:embed="rId2"/>
          <a:stretch/>
        </p:blipFill>
        <p:spPr>
          <a:xfrm>
            <a:off x="1619280" y="404640"/>
            <a:ext cx="228600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71516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Arial"/>
              </a:rPr>
              <a:t>Тема урока: </a:t>
            </a:r>
            <a:br>
              <a:rPr sz="4800"/>
            </a:b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Arial"/>
              </a:rPr>
              <a:t>Час. Минута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763640" y="2204640"/>
            <a:ext cx="704376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Цель урока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ознакомиться с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Узнать о …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Научиться реша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Заголовок 1"/>
          <p:cNvSpPr/>
          <p:nvPr/>
        </p:nvSpPr>
        <p:spPr>
          <a:xfrm>
            <a:off x="1428840" y="189000"/>
            <a:ext cx="746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Times New Roman"/>
              </a:rPr>
              <a:t>Солнечные ча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"/>
          <p:cNvSpPr/>
          <p:nvPr/>
        </p:nvSpPr>
        <p:spPr>
          <a:xfrm>
            <a:off x="1547640" y="4740120"/>
            <a:ext cx="720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 простейший прибор измерения времени – солнечные часы – он был изобретен вавилонянами примерно 3,5 тысячи лет наз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http://www.top-sovet.ru/sites/default/files/solnechnye_chasy_01.png"/>
          <p:cNvPicPr/>
          <p:nvPr/>
        </p:nvPicPr>
        <p:blipFill>
          <a:blip r:embed="rId1"/>
          <a:stretch/>
        </p:blipFill>
        <p:spPr>
          <a:xfrm>
            <a:off x="2149560" y="1292400"/>
            <a:ext cx="599760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Заголовок 1"/>
          <p:cNvSpPr/>
          <p:nvPr/>
        </p:nvSpPr>
        <p:spPr>
          <a:xfrm>
            <a:off x="1428840" y="189000"/>
            <a:ext cx="487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Times New Roman"/>
              </a:rPr>
              <a:t>Водяные ча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"/>
          <p:cNvSpPr/>
          <p:nvPr/>
        </p:nvSpPr>
        <p:spPr>
          <a:xfrm>
            <a:off x="1504800" y="4005360"/>
            <a:ext cx="7607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яду с солнечными часами уже во 2-м и 1-м тыс. до н.э. в Индии, Египте, Китае и Греции строились водяные часы, которые показывали время и днём, и ночью. В Вавилоне такие часы были в ходу еще 2050 лет тому наз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http://900igr.net/data/predmety/CHasy-2.files/0031-066-Vodjanye-chasy.jpg"/>
          <p:cNvPicPr/>
          <p:nvPr/>
        </p:nvPicPr>
        <p:blipFill>
          <a:blip r:embed="rId1"/>
          <a:stretch/>
        </p:blipFill>
        <p:spPr>
          <a:xfrm>
            <a:off x="5940360" y="260280"/>
            <a:ext cx="2879640" cy="3816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http://users.kpi.kharkov.ua/physics/watercl1.gif"/>
          <p:cNvPicPr/>
          <p:nvPr/>
        </p:nvPicPr>
        <p:blipFill>
          <a:blip r:embed="rId2"/>
          <a:stretch/>
        </p:blipFill>
        <p:spPr>
          <a:xfrm>
            <a:off x="1428840" y="1628640"/>
            <a:ext cx="28573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249120" y="884160"/>
            <a:ext cx="7864560" cy="1828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152280" y="1036800"/>
            <a:ext cx="8815680" cy="5833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BIRD45 G"/>
          <p:cNvPicPr/>
          <p:nvPr/>
        </p:nvPicPr>
        <p:blipFill>
          <a:blip r:embed="rId3"/>
          <a:stretch/>
        </p:blipFill>
        <p:spPr>
          <a:xfrm>
            <a:off x="2590920" y="4762440"/>
            <a:ext cx="1150920" cy="1038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http://www.renema.ru/Info/img/cvet_chas1.jpg"/>
          <p:cNvPicPr/>
          <p:nvPr/>
        </p:nvPicPr>
        <p:blipFill>
          <a:blip r:embed="rId4"/>
          <a:stretch/>
        </p:blipFill>
        <p:spPr>
          <a:xfrm>
            <a:off x="5148360" y="5373720"/>
            <a:ext cx="1054080" cy="58428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2863800" y="5665680"/>
            <a:ext cx="60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ту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5257080" y="6040440"/>
            <a:ext cx="621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цве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Водяные часы"/>
          <p:cNvPicPr/>
          <p:nvPr/>
        </p:nvPicPr>
        <p:blipFill>
          <a:blip r:embed="rId5"/>
          <a:stretch/>
        </p:blipFill>
        <p:spPr>
          <a:xfrm>
            <a:off x="6202440" y="2000160"/>
            <a:ext cx="646200" cy="714600"/>
          </a:xfrm>
          <a:prstGeom prst="rect">
            <a:avLst/>
          </a:prstGeom>
          <a:ln w="0">
            <a:noFill/>
          </a:ln>
        </p:spPr>
      </p:pic>
      <p:sp>
        <p:nvSpPr>
          <p:cNvPr id="94" name="TextBox 9"/>
          <p:cNvSpPr/>
          <p:nvPr/>
        </p:nvSpPr>
        <p:spPr>
          <a:xfrm>
            <a:off x="6202080" y="2781360"/>
            <a:ext cx="79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я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1258920" y="98280"/>
            <a:ext cx="78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 весь период существования человеческой цивилизации  было изобретено множество различных час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2268360" y="5373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4716360" y="5665680"/>
            <a:ext cx="6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0"/>
          <p:cNvSpPr/>
          <p:nvPr/>
        </p:nvSpPr>
        <p:spPr>
          <a:xfrm>
            <a:off x="2061360" y="3213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2"/>
          <p:cNvSpPr/>
          <p:nvPr/>
        </p:nvSpPr>
        <p:spPr>
          <a:xfrm>
            <a:off x="5878800" y="2357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365400" y="29192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83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84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Заголовок 1"/>
          <p:cNvSpPr/>
          <p:nvPr/>
        </p:nvSpPr>
        <p:spPr>
          <a:xfrm>
            <a:off x="1428840" y="189000"/>
            <a:ext cx="746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Times New Roman"/>
              </a:rPr>
              <a:t>Часы на Спасской башн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http://stabrovsky.ru/photography/2008/zakadrom0606/001.jpg"/>
          <p:cNvPicPr/>
          <p:nvPr/>
        </p:nvPicPr>
        <p:blipFill>
          <a:blip r:embed="rId1"/>
          <a:stretch/>
        </p:blipFill>
        <p:spPr>
          <a:xfrm>
            <a:off x="4284720" y="3535200"/>
            <a:ext cx="4608360" cy="3071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http://progulkipomoskve.ru/foto1/dom/1/spasskaya-bashnya-moskovskogo-kremlya.jpg"/>
          <p:cNvPicPr/>
          <p:nvPr/>
        </p:nvPicPr>
        <p:blipFill>
          <a:blip r:embed="rId2"/>
          <a:stretch/>
        </p:blipFill>
        <p:spPr>
          <a:xfrm>
            <a:off x="1582560" y="1341360"/>
            <a:ext cx="3713400" cy="4751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http://nikbaranov.ru/wp-content/uploads/2010/03/d0bad183d180d0b0d0bdd182d18b.jpg"/>
          <p:cNvPicPr/>
          <p:nvPr/>
        </p:nvPicPr>
        <p:blipFill>
          <a:blip r:embed="rId3"/>
          <a:stretch/>
        </p:blipFill>
        <p:spPr>
          <a:xfrm>
            <a:off x="6553080" y="1052640"/>
            <a:ext cx="149544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Заголовок 1"/>
          <p:cNvSpPr/>
          <p:nvPr/>
        </p:nvSpPr>
        <p:spPr>
          <a:xfrm>
            <a:off x="1428840" y="189000"/>
            <a:ext cx="746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Times New Roman"/>
              </a:rPr>
              <a:t>Цветочные ча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s://prv1.lori-images.net/tsvetochnye-chasy-v-nizhnevartovske-0000994005-preview.jpg"/>
          <p:cNvPicPr/>
          <p:nvPr/>
        </p:nvPicPr>
        <p:blipFill>
          <a:blip r:embed="rId1"/>
          <a:stretch/>
        </p:blipFill>
        <p:spPr>
          <a:xfrm>
            <a:off x="1692360" y="1413000"/>
            <a:ext cx="684036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71400" y="2130120"/>
            <a:ext cx="7429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Сколько в году месяцев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42880" y="5072040"/>
            <a:ext cx="407196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2 месяце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25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&amp;Pcy; &amp;iecy; &amp;scy; &amp;ocy; &amp;chcy; &amp;ncy; &amp;ycy; &amp;iecy; &amp;chcy; &amp;acy; &amp;scy; &amp;ycy;. &amp;Pcy;&amp;iecy;&amp;scy;&amp;ocy;&amp;chcy;&amp;ncy;&amp;ycy;&amp;iecy; &amp;chcy;&amp;acy;&amp;scy;&amp;ycy; - &amp;ocy;&amp;dcy;&amp;icy;&amp;ncy; &amp;icy;&amp;zcy;. &amp;scy;&amp;acy;&amp;mcy;&amp;ycy;&amp;khcy; &amp;dcy;&amp;rcy;&amp;iecy;&amp;vcy;&amp;ncy;&amp;icy;&amp;khcy; &amp;pcy;&amp;rcy;&amp;icy;&amp;bcy;&amp;ocy;&amp;rcy;&amp;ocy;&amp;vcy; &amp;dcy;&amp;lcy;&amp;yacy; &amp;ocy;&amp;pcy;&amp;rcy;&amp;iecy;&amp;dcy;&amp;iecy;&amp;lcy;&amp;iecy;&amp;ncy;&amp;icy;&amp;yacy; &amp;vcy;&amp;rcy;&amp;iecy;&amp;mcy;&amp;iecy;&amp;ncy;&amp;icy;. &amp;Ocy;&amp;ncy;&amp;icy; &amp;scy;&amp;ocy;&amp;scy;&amp;tcy;&amp;ocy;&amp;yacy;&amp;tcy; &amp;icy;&amp;zcy; &amp;dcy;&amp;vcy;&amp;ucy;&amp;khcy; &amp;gcy;&amp;rcy;&amp;ucy;&amp;shcy;&amp;iecy;&amp;vcy;&amp;icy;&amp;dcy;&amp;ncy;&amp;ycy;&amp;khcy; &amp;iecy;&amp;mcy;&amp;kcy;&amp;ocy;&amp;scy;&amp;tcy;&amp;iecy;&amp;jcy;, &amp;scy;&amp;ocy;&amp;iecy;&amp;dcy;&amp;icy;&amp;ncy;&amp;iecy;&amp;ncy;&amp;ncy;&amp;ycy;&amp;khcy; &amp;mcy;&amp;iecy;&amp;zhcy;&amp;dcy;&amp;ucy; &amp;scy;&amp;ocy;&amp;bcy;&amp;ocy;&amp;jcy;&amp;ucy;&amp;zcy;&amp;kcy;&amp;icy;&amp;mcy;&amp;icy; &amp;kcy;&amp;ocy;&amp;ncy;&amp;tscy;&amp;acy;&amp;mcy;&amp;icy;."/>
          <p:cNvPicPr/>
          <p:nvPr/>
        </p:nvPicPr>
        <p:blipFill>
          <a:blip r:embed="rId1"/>
          <a:stretch/>
        </p:blipFill>
        <p:spPr>
          <a:xfrm>
            <a:off x="0" y="0"/>
            <a:ext cx="914400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2"/>
          <p:cNvSpPr/>
          <p:nvPr/>
        </p:nvSpPr>
        <p:spPr>
          <a:xfrm>
            <a:off x="1332000" y="981000"/>
            <a:ext cx="7561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+51 =      37 - 30=    80-30=     8+7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2-2 =       98+0=       36-5=       19-9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videoplayback" descr=""/>
          <p:cNvPicPr/>
          <p:nvPr/>
        </p:nvPicPr>
        <p:blipFill>
          <a:blip r:embed="rId1"/>
          <a:stretch/>
        </p:blipFill>
        <p:spPr>
          <a:xfrm>
            <a:off x="108000" y="98280"/>
            <a:ext cx="885672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3_atomic_wall_clock2"/>
          <p:cNvPicPr/>
          <p:nvPr/>
        </p:nvPicPr>
        <p:blipFill>
          <a:blip r:embed="rId1"/>
          <a:stretch/>
        </p:blipFill>
        <p:spPr>
          <a:xfrm>
            <a:off x="2556000" y="2565360"/>
            <a:ext cx="3709800" cy="3697200"/>
          </a:xfrm>
          <a:prstGeom prst="rect">
            <a:avLst/>
          </a:prstGeom>
          <a:ln w="0">
            <a:noFill/>
          </a:ln>
        </p:spPr>
      </p:pic>
      <p:sp>
        <p:nvSpPr>
          <p:cNvPr id="113" name="Line 7"/>
          <p:cNvSpPr/>
          <p:nvPr/>
        </p:nvSpPr>
        <p:spPr>
          <a:xfrm flipV="1">
            <a:off x="5219640" y="2924280"/>
            <a:ext cx="237672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9"/>
          <p:cNvSpPr/>
          <p:nvPr/>
        </p:nvSpPr>
        <p:spPr>
          <a:xfrm flipH="1" flipV="1">
            <a:off x="1618920" y="2276640"/>
            <a:ext cx="2087640" cy="23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394560" y="1700280"/>
            <a:ext cx="28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асовая стрел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5711040" y="2349360"/>
            <a:ext cx="320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инутная стрел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Заголовок 1"/>
          <p:cNvSpPr/>
          <p:nvPr/>
        </p:nvSpPr>
        <p:spPr>
          <a:xfrm>
            <a:off x="1382760" y="171360"/>
            <a:ext cx="746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Times New Roman"/>
              </a:rPr>
              <a:t>Числа на часах называют </a:t>
            </a:r>
            <a:r>
              <a:rPr b="1" lang="ru-RU" sz="3600" spc="-1" strike="noStrike">
                <a:solidFill>
                  <a:srgbClr val="222268"/>
                </a:solidFill>
                <a:latin typeface="Times New Roman"/>
              </a:rPr>
              <a:t>циферблат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5764c113633d"/>
          <p:cNvPicPr/>
          <p:nvPr/>
        </p:nvPicPr>
        <p:blipFill>
          <a:blip r:embed="rId1"/>
          <a:stretch/>
        </p:blipFill>
        <p:spPr>
          <a:xfrm>
            <a:off x="5638680" y="2590920"/>
            <a:ext cx="2826000" cy="3638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hora"/>
          <p:cNvPicPr/>
          <p:nvPr/>
        </p:nvPicPr>
        <p:blipFill>
          <a:blip r:embed="rId2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1334880" y="3158640"/>
            <a:ext cx="2414160" cy="748080"/>
            <a:chOff x="1334880" y="3158640"/>
            <a:chExt cx="2414160" cy="748080"/>
          </a:xfrm>
        </p:grpSpPr>
        <p:sp>
          <p:nvSpPr>
            <p:cNvPr id="122" name="AutoShape 6"/>
            <p:cNvSpPr/>
            <p:nvPr/>
          </p:nvSpPr>
          <p:spPr>
            <a:xfrm rot="21345000">
              <a:off x="1351800" y="335196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Picture 7" descr=""/>
            <p:cNvPicPr/>
            <p:nvPr/>
          </p:nvPicPr>
          <p:blipFill>
            <a:blip r:embed="rId3"/>
            <a:stretch/>
          </p:blipFill>
          <p:spPr>
            <a:xfrm rot="10729800">
              <a:off x="2452320" y="3171600"/>
              <a:ext cx="129060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Group 8"/>
          <p:cNvGrpSpPr/>
          <p:nvPr/>
        </p:nvGrpSpPr>
        <p:grpSpPr>
          <a:xfrm>
            <a:off x="2253240" y="1889640"/>
            <a:ext cx="644400" cy="3272760"/>
            <a:chOff x="2253240" y="1889640"/>
            <a:chExt cx="644400" cy="3272760"/>
          </a:xfrm>
        </p:grpSpPr>
        <p:sp>
          <p:nvSpPr>
            <p:cNvPr id="125" name="AutoShape 9"/>
            <p:cNvSpPr/>
            <p:nvPr/>
          </p:nvSpPr>
          <p:spPr>
            <a:xfrm rot="16158600">
              <a:off x="1688400" y="40176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Picture 10" descr=""/>
            <p:cNvPicPr/>
            <p:nvPr/>
          </p:nvPicPr>
          <p:blipFill>
            <a:blip r:embed="rId4"/>
            <a:stretch/>
          </p:blipFill>
          <p:spPr>
            <a:xfrm rot="5430000">
              <a:off x="1673280" y="248004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Text Box 11"/>
          <p:cNvSpPr/>
          <p:nvPr/>
        </p:nvSpPr>
        <p:spPr>
          <a:xfrm>
            <a:off x="5029200" y="380880"/>
            <a:ext cx="3809880" cy="228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нутная стрелка от цифры до цифры проходит                            за 5 мину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mph" presetID="8" repeatCount="1000">
                                  <p:stCondLst>
                                    <p:cond delay="1000"/>
                                  </p:stCondLst>
                                  <p:childTnLst>
                                    <p:animRot by="1800000">
                                      <p:cBhvr>
                                        <p:cTn id="96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1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hora"/>
          <p:cNvPicPr/>
          <p:nvPr/>
        </p:nvPicPr>
        <p:blipFill>
          <a:blip r:embed="rId1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0"/>
          <p:cNvSpPr/>
          <p:nvPr/>
        </p:nvSpPr>
        <p:spPr>
          <a:xfrm>
            <a:off x="5181480" y="304920"/>
            <a:ext cx="3505320" cy="265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нутная стрелка делает полный оборо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за 60 мину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2" descr="5764c113633d"/>
          <p:cNvPicPr/>
          <p:nvPr/>
        </p:nvPicPr>
        <p:blipFill>
          <a:blip r:embed="rId2"/>
          <a:stretch/>
        </p:blipFill>
        <p:spPr>
          <a:xfrm>
            <a:off x="5638680" y="2590920"/>
            <a:ext cx="2826000" cy="36385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3"/>
          <p:cNvGrpSpPr/>
          <p:nvPr/>
        </p:nvGrpSpPr>
        <p:grpSpPr>
          <a:xfrm>
            <a:off x="1334880" y="3158640"/>
            <a:ext cx="2414160" cy="748080"/>
            <a:chOff x="1334880" y="3158640"/>
            <a:chExt cx="2414160" cy="748080"/>
          </a:xfrm>
        </p:grpSpPr>
        <p:sp>
          <p:nvSpPr>
            <p:cNvPr id="133" name="AutoShape 4"/>
            <p:cNvSpPr/>
            <p:nvPr/>
          </p:nvSpPr>
          <p:spPr>
            <a:xfrm rot="21345000">
              <a:off x="1351800" y="335196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5" descr=""/>
            <p:cNvPicPr/>
            <p:nvPr/>
          </p:nvPicPr>
          <p:blipFill>
            <a:blip r:embed="rId3"/>
            <a:stretch/>
          </p:blipFill>
          <p:spPr>
            <a:xfrm rot="10729800">
              <a:off x="2452320" y="3171600"/>
              <a:ext cx="129060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" name="Group 6"/>
          <p:cNvGrpSpPr/>
          <p:nvPr/>
        </p:nvGrpSpPr>
        <p:grpSpPr>
          <a:xfrm>
            <a:off x="2253240" y="1889640"/>
            <a:ext cx="644400" cy="3272760"/>
            <a:chOff x="2253240" y="1889640"/>
            <a:chExt cx="644400" cy="3272760"/>
          </a:xfrm>
        </p:grpSpPr>
        <p:sp>
          <p:nvSpPr>
            <p:cNvPr id="136" name="AutoShape 7"/>
            <p:cNvSpPr/>
            <p:nvPr/>
          </p:nvSpPr>
          <p:spPr>
            <a:xfrm rot="16158600">
              <a:off x="1688400" y="40176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Picture 8" descr=""/>
            <p:cNvPicPr/>
            <p:nvPr/>
          </p:nvPicPr>
          <p:blipFill>
            <a:blip r:embed="rId4"/>
            <a:stretch/>
          </p:blipFill>
          <p:spPr>
            <a:xfrm rot="5430000">
              <a:off x="1673280" y="248004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mph" presetID="8" repeatCount="1000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02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800000">
                                      <p:cBhvr>
                                        <p:cTn id="104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1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2" descr="5764c113633d"/>
          <p:cNvPicPr/>
          <p:nvPr/>
        </p:nvPicPr>
        <p:blipFill>
          <a:blip r:embed="rId1"/>
          <a:stretch/>
        </p:blipFill>
        <p:spPr>
          <a:xfrm>
            <a:off x="5638680" y="2590920"/>
            <a:ext cx="2826000" cy="3638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hora"/>
          <p:cNvPicPr/>
          <p:nvPr/>
        </p:nvPicPr>
        <p:blipFill>
          <a:blip r:embed="rId2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9"/>
          <p:cNvSpPr/>
          <p:nvPr/>
        </p:nvSpPr>
        <p:spPr>
          <a:xfrm>
            <a:off x="4876920" y="380880"/>
            <a:ext cx="3962160" cy="228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овая стрелка за                       60 минут проходи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стояние от одной цифры до друг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5" descr=""/>
          <p:cNvPicPr/>
          <p:nvPr/>
        </p:nvPicPr>
        <p:blipFill>
          <a:blip r:embed="rId3"/>
          <a:stretch/>
        </p:blipFill>
        <p:spPr>
          <a:xfrm>
            <a:off x="38098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6" descr=""/>
          <p:cNvPicPr/>
          <p:nvPr/>
        </p:nvPicPr>
        <p:blipFill>
          <a:blip r:embed="rId4"/>
          <a:srcRect l="0" t="0" r="9059" b="0"/>
          <a:stretch/>
        </p:blipFill>
        <p:spPr>
          <a:xfrm>
            <a:off x="3429000" y="3960720"/>
            <a:ext cx="685800" cy="666720"/>
          </a:xfrm>
          <a:prstGeom prst="rect">
            <a:avLst/>
          </a:prstGeom>
          <a:ln w="0">
            <a:noFill/>
          </a:ln>
        </p:spPr>
      </p:pic>
      <p:grpSp>
        <p:nvGrpSpPr>
          <p:cNvPr id="144" name="Group 6"/>
          <p:cNvGrpSpPr/>
          <p:nvPr/>
        </p:nvGrpSpPr>
        <p:grpSpPr>
          <a:xfrm>
            <a:off x="2253240" y="1889640"/>
            <a:ext cx="644400" cy="3272760"/>
            <a:chOff x="2253240" y="1889640"/>
            <a:chExt cx="644400" cy="3272760"/>
          </a:xfrm>
        </p:grpSpPr>
        <p:sp>
          <p:nvSpPr>
            <p:cNvPr id="145" name="AutoShape 7"/>
            <p:cNvSpPr/>
            <p:nvPr/>
          </p:nvSpPr>
          <p:spPr>
            <a:xfrm rot="16158600">
              <a:off x="1688400" y="40176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Picture 8" descr=""/>
            <p:cNvPicPr/>
            <p:nvPr/>
          </p:nvPicPr>
          <p:blipFill>
            <a:blip r:embed="rId5"/>
            <a:stretch/>
          </p:blipFill>
          <p:spPr>
            <a:xfrm rot="5430000">
              <a:off x="1673280" y="248004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" name="Group 3"/>
          <p:cNvGrpSpPr/>
          <p:nvPr/>
        </p:nvGrpSpPr>
        <p:grpSpPr>
          <a:xfrm>
            <a:off x="1334880" y="3158640"/>
            <a:ext cx="2414160" cy="748080"/>
            <a:chOff x="1334880" y="3158640"/>
            <a:chExt cx="2414160" cy="748080"/>
          </a:xfrm>
        </p:grpSpPr>
        <p:sp>
          <p:nvSpPr>
            <p:cNvPr id="148" name="AutoShape 4"/>
            <p:cNvSpPr/>
            <p:nvPr/>
          </p:nvSpPr>
          <p:spPr>
            <a:xfrm rot="21345000">
              <a:off x="1351800" y="335196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Picture 5" descr=""/>
            <p:cNvPicPr/>
            <p:nvPr/>
          </p:nvPicPr>
          <p:blipFill>
            <a:blip r:embed="rId6"/>
            <a:stretch/>
          </p:blipFill>
          <p:spPr>
            <a:xfrm rot="10729800">
              <a:off x="2452320" y="3171600"/>
              <a:ext cx="1290600" cy="577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12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35" repeatCount="4000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35" repeatCount="4000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5764c113633d"/>
          <p:cNvPicPr/>
          <p:nvPr/>
        </p:nvPicPr>
        <p:blipFill>
          <a:blip r:embed="rId1"/>
          <a:stretch/>
        </p:blipFill>
        <p:spPr>
          <a:xfrm>
            <a:off x="5638680" y="2590920"/>
            <a:ext cx="2826000" cy="3638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hora"/>
          <p:cNvPicPr/>
          <p:nvPr/>
        </p:nvPicPr>
        <p:blipFill>
          <a:blip r:embed="rId2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5"/>
          <p:cNvGrpSpPr/>
          <p:nvPr/>
        </p:nvGrpSpPr>
        <p:grpSpPr>
          <a:xfrm>
            <a:off x="1682280" y="2228040"/>
            <a:ext cx="1715400" cy="2341440"/>
            <a:chOff x="1682280" y="2228040"/>
            <a:chExt cx="1715400" cy="2341440"/>
          </a:xfrm>
        </p:grpSpPr>
        <p:sp>
          <p:nvSpPr>
            <p:cNvPr id="154" name="AutoShape 6"/>
            <p:cNvSpPr/>
            <p:nvPr/>
          </p:nvSpPr>
          <p:spPr>
            <a:xfrm rot="7350000">
              <a:off x="2245320" y="262368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Picture 7" descr=""/>
            <p:cNvPicPr/>
            <p:nvPr/>
          </p:nvPicPr>
          <p:blipFill>
            <a:blip r:embed="rId3"/>
            <a:stretch/>
          </p:blipFill>
          <p:spPr>
            <a:xfrm rot="18334800">
              <a:off x="1647000" y="3587760"/>
              <a:ext cx="1290600" cy="57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" name="Group 8"/>
          <p:cNvGrpSpPr/>
          <p:nvPr/>
        </p:nvGrpSpPr>
        <p:grpSpPr>
          <a:xfrm>
            <a:off x="2253240" y="1889640"/>
            <a:ext cx="644400" cy="3272760"/>
            <a:chOff x="2253240" y="1889640"/>
            <a:chExt cx="644400" cy="3272760"/>
          </a:xfrm>
        </p:grpSpPr>
        <p:sp>
          <p:nvSpPr>
            <p:cNvPr id="157" name="AutoShape 9"/>
            <p:cNvSpPr/>
            <p:nvPr/>
          </p:nvSpPr>
          <p:spPr>
            <a:xfrm rot="16158600">
              <a:off x="1688400" y="40176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Picture 10" descr=""/>
            <p:cNvPicPr/>
            <p:nvPr/>
          </p:nvPicPr>
          <p:blipFill>
            <a:blip r:embed="rId4"/>
            <a:stretch/>
          </p:blipFill>
          <p:spPr>
            <a:xfrm rot="5430000">
              <a:off x="1673280" y="248004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Text Box 11"/>
          <p:cNvSpPr/>
          <p:nvPr/>
        </p:nvSpPr>
        <p:spPr>
          <a:xfrm>
            <a:off x="5334120" y="914400"/>
            <a:ext cx="33526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1 час = 60 ми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24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http://www.mobatime.ru/images/stories/dials/zb210w.jpg"/>
          <p:cNvPicPr/>
          <p:nvPr/>
        </p:nvPicPr>
        <p:blipFill>
          <a:blip r:embed="rId1"/>
          <a:stretch/>
        </p:blipFill>
        <p:spPr>
          <a:xfrm>
            <a:off x="1857240" y="285840"/>
            <a:ext cx="5857920" cy="5214960"/>
          </a:xfrm>
          <a:prstGeom prst="rect">
            <a:avLst/>
          </a:prstGeom>
          <a:ln w="0">
            <a:noFill/>
          </a:ln>
        </p:spPr>
      </p:pic>
      <p:sp>
        <p:nvSpPr>
          <p:cNvPr id="161" name="TextBox 4"/>
          <p:cNvSpPr/>
          <p:nvPr/>
        </p:nvSpPr>
        <p:spPr>
          <a:xfrm>
            <a:off x="2662560" y="5643720"/>
            <a:ext cx="423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1 час=60 мин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71400" y="2130480"/>
            <a:ext cx="7429320" cy="21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4 часа 10 минут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7 часов 25 минут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9 часов 05 минут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6 часов 45 минут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10 часов 20 минут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2 часа 55 мину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71400" y="2130120"/>
            <a:ext cx="7429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Назовите по порядку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692000" y="3573360"/>
            <a:ext cx="666756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Январь, февраль, март, апрель, май, июнь, июль, август, сентябрь, октябрь, ноябрь, декабр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785600" y="1785960"/>
            <a:ext cx="690084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Объект 3" descr="часы для детей"/>
          <p:cNvPicPr/>
          <p:nvPr/>
        </p:nvPicPr>
        <p:blipFill>
          <a:blip r:embed="rId1"/>
          <a:stretch/>
        </p:blipFill>
        <p:spPr>
          <a:xfrm>
            <a:off x="1835280" y="1428840"/>
            <a:ext cx="4752720" cy="4664160"/>
          </a:xfrm>
          <a:prstGeom prst="rect">
            <a:avLst/>
          </a:prstGeom>
          <a:ln w="0">
            <a:noFill/>
          </a:ln>
        </p:spPr>
      </p:pic>
      <p:sp>
        <p:nvSpPr>
          <p:cNvPr id="165" name="Овальная выноска 9"/>
          <p:cNvSpPr/>
          <p:nvPr/>
        </p:nvSpPr>
        <p:spPr>
          <a:xfrm>
            <a:off x="5143680" y="0"/>
            <a:ext cx="3633480" cy="1413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Все на физминутку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zvuki-zvonok_budilnika.mp3" descr=""/>
          <p:cNvPicPr/>
          <p:nvPr/>
        </p:nvPicPr>
        <p:blipFill>
          <a:blip r:embed="rId2"/>
          <a:stretch/>
        </p:blipFill>
        <p:spPr>
          <a:xfrm>
            <a:off x="2357280" y="2428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10903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785600" y="1785960"/>
            <a:ext cx="690084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Объект 3" descr="часы для детей"/>
          <p:cNvPicPr/>
          <p:nvPr/>
        </p:nvPicPr>
        <p:blipFill>
          <a:blip r:embed="rId1"/>
          <a:stretch/>
        </p:blipFill>
        <p:spPr>
          <a:xfrm>
            <a:off x="1835280" y="1428840"/>
            <a:ext cx="4752720" cy="4664160"/>
          </a:xfrm>
          <a:prstGeom prst="rect">
            <a:avLst/>
          </a:prstGeom>
          <a:ln w="0">
            <a:noFill/>
          </a:ln>
        </p:spPr>
      </p:pic>
      <p:sp>
        <p:nvSpPr>
          <p:cNvPr id="169" name="Овальная выноска 9"/>
          <p:cNvSpPr/>
          <p:nvPr/>
        </p:nvSpPr>
        <p:spPr>
          <a:xfrm>
            <a:off x="5143680" y="0"/>
            <a:ext cx="3633480" cy="1413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МОЛОДЦ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71400" y="2130120"/>
            <a:ext cx="7429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4" descr="C:\Users\DNS\Desktop\задание 2.jpg"/>
          <p:cNvPicPr/>
          <p:nvPr/>
        </p:nvPicPr>
        <p:blipFill>
          <a:blip r:embed="rId1"/>
          <a:stretch/>
        </p:blipFill>
        <p:spPr>
          <a:xfrm>
            <a:off x="1428840" y="142920"/>
            <a:ext cx="7572240" cy="4143240"/>
          </a:xfrm>
          <a:prstGeom prst="rect">
            <a:avLst/>
          </a:prstGeom>
          <a:ln w="0">
            <a:noFill/>
          </a:ln>
        </p:spPr>
      </p:pic>
      <p:pic>
        <p:nvPicPr>
          <p:cNvPr id="172" name="Содержимое 3" descr="5592baab70e01868945de62fe59a3d91.jpg"/>
          <p:cNvPicPr/>
          <p:nvPr/>
        </p:nvPicPr>
        <p:blipFill>
          <a:blip r:embed="rId2"/>
          <a:stretch/>
        </p:blipFill>
        <p:spPr>
          <a:xfrm>
            <a:off x="1428840" y="4286160"/>
            <a:ext cx="17859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71400" y="2130120"/>
            <a:ext cx="7429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4" descr="C:\Users\DNS\Desktop\задание 3.jpg"/>
          <p:cNvPicPr/>
          <p:nvPr/>
        </p:nvPicPr>
        <p:blipFill>
          <a:blip r:embed="rId1"/>
          <a:stretch/>
        </p:blipFill>
        <p:spPr>
          <a:xfrm>
            <a:off x="1428840" y="214200"/>
            <a:ext cx="7429320" cy="342900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1" descr="часы для детей"/>
          <p:cNvPicPr/>
          <p:nvPr/>
        </p:nvPicPr>
        <p:blipFill>
          <a:blip r:embed="rId2"/>
          <a:stretch/>
        </p:blipFill>
        <p:spPr>
          <a:xfrm>
            <a:off x="1428840" y="3643200"/>
            <a:ext cx="30002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Times New Roman"/>
              </a:rPr>
              <a:t>Провер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571760" y="1428840"/>
            <a:ext cx="71150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30-10=20(мин.)-заняла вторая пар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30+20=50(мин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вет: 50 минут заняли обе парт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25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2" descr="&amp;Vcy; &amp;dcy;&amp;rcy;&amp;iecy;&amp;vcy;&amp;ncy;&amp;iecy;&amp;mcy; &amp;Kcy;&amp;icy;&amp;tcy;&amp;acy;&amp;iecy; &amp;scy;&amp;ucy;&amp;shchcy;&amp;iecy;&amp;scy;&amp;tcy;&amp;vcy;&amp;ocy;&amp;vcy;&amp;acy;&amp;lcy;&amp;icy;, &amp;ncy;&amp;acy;&amp;pcy;&amp;rcy;&amp;icy;&amp;mcy;&amp;iecy;&amp;rcy; «&amp;chcy;&amp;acy;&amp;scy;&amp;ycy;», &amp;kcy;&amp;ocy;&amp;tcy;&amp;ocy;&amp;rcy;&amp;ycy;&amp;iecy; &amp;bcy;&amp;ycy;&amp;lcy;&amp;icy; &amp;scy;&amp;dcy;&amp;iecy;&amp;lcy;&amp;acy;&amp;ncy;&amp;ycy; &amp;icy;&amp;zcy; &amp;pcy;&amp;rcy;&amp;ocy;&amp;pcy;&amp;icy;&amp;tcy;&amp;acy;&amp;ncy;&amp;ncy;&amp;ycy;&amp;khcy; &amp;mcy;&amp;acy;&amp;scy;&amp;lcy;&amp;ocy;&amp;mcy; &amp;vcy;&amp;iecy;&amp;rcy;&amp;iecy;&amp;vcy;&amp;ocy;&amp;kcy;, &amp;ncy;&amp;acy; &amp;kcy;&amp;ocy;&amp;tcy;&amp;ocy;&amp;rcy;&amp;ycy;&amp;khcy; &amp;bcy;&amp;ycy;&amp;lcy;&amp;icy; &amp;zcy;&amp;acy;&amp;vcy;&amp;yacy;&amp;zcy;&amp;acy;&amp;ncy;&amp;ycy; &amp;ucy;&amp;zcy;&amp;lcy;&amp;ycy;. &amp;Tcy;&amp;acy;&amp;kcy;&amp;ocy;&amp;jcy; &amp;shcy;&amp;ncy;&amp;ucy;&amp;rcy;&amp;ocy;&amp;kcy; &amp;pcy;&amp;ocy;&amp;dcy;&amp;zhcy;&amp;icy;&amp;gcy;&amp;acy;&amp;lcy;&amp;icy;, &amp;kcy;&amp;acy;&amp;zhcy;&amp;dcy;&amp;ycy;&amp;jcy; &amp;rcy;&amp;acy;&amp;zcy;, &amp;kcy;&amp;ocy;&amp;gcy;&amp;dcy;&amp;acy; &amp;pcy;&amp;lcy;&amp;acy;&amp;mcy;&amp;yacy; &amp;dcy;&amp;ocy;&amp;scy;&amp;tcy;&amp;icy;&amp;gcy;&amp;acy;&amp;lcy;&amp;ocy; &amp;ucy;&amp;zcy;&amp;lcy;&amp;acy;, &amp;pcy;&amp;rcy;&amp;ocy;&amp;khcy;&amp;ocy;&amp;dcy;&amp;icy;&amp;lcy; &amp;ocy;&amp;pcy;&amp;rcy;&amp;iecy;&amp;dcy;&amp;iecy;&amp;lcy;&amp;iecy;&amp;ncy;&amp;ncy;&amp;ycy;&amp;jcy; &amp;ocy;&amp;tcy;&amp;rcy;&amp;iecy;&amp;zcy;&amp;ocy;&amp;kcy; &amp;vcy;&amp;rcy;&amp;iecy;&amp;mcy;&amp;iecy;&amp;ncy;&amp;icy;."/>
          <p:cNvPicPr/>
          <p:nvPr/>
        </p:nvPicPr>
        <p:blipFill>
          <a:blip r:embed="rId1"/>
          <a:stretch/>
        </p:blipFill>
        <p:spPr>
          <a:xfrm>
            <a:off x="142920" y="0"/>
            <a:ext cx="900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8229600" cy="3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2" descr="&amp;Vcy; &amp;ocy; &amp;dcy; &amp;yacy; &amp;ncy; &amp;ycy; &amp;iecy; &amp;chcy; &amp;acy; &amp;scy; &amp;ycy;. &amp;Ncy;&amp;acy;&amp;rcy;&amp;yacy;&amp;dcy;&amp;ucy; &amp;scy; &amp;scy;&amp;ocy;&amp;lcy;&amp;ncy;&amp;iecy;&amp;chcy;&amp;ncy;&amp;ycy;&amp;mcy;&amp;icy; &amp;chcy;&amp;acy;&amp;scy;&amp;acy;&amp;mcy;&amp;icy; &amp;ucy;&amp;zhcy;&amp;iecy; &amp;vcy;&amp;ocy; 2-&amp;mcy; &amp;icy; 1-&amp;mcy; &amp;tcy;&amp;ycy;&amp;scy;. &amp;dcy;&amp;ocy; &amp;ncy;. &amp;ecy;. &amp;vcy; &amp;Icy;&amp;ncy;&amp;dcy;&amp;icy;&amp;icy;, &amp;IEcy;&amp;gcy;&amp;icy;&amp;pcy;&amp;tcy;&amp;iecy;, &amp;Kcy;&amp;icy;&amp;tcy;&amp;acy;&amp;iecy; &amp;icy; &amp;Gcy;&amp;rcy;&amp;iecy;&amp;tscy;&amp;icy;&amp;icy; &amp;scy;&amp;tcy;&amp;rcy;&amp;ocy;&amp;icy;&amp;lcy;&amp;icy;&amp;scy;&amp;softcy; &amp;vcy;&amp;ocy;&amp;dcy;&amp;yacy;&amp;ncy;&amp;ycy;&amp;iecy; &amp;chcy;&amp;acy;&amp;scy;&amp;ycy;, &amp;kcy;&amp;ocy;&amp;tcy;&amp;ocy;&amp;rcy;&amp;ycy;&amp;iecy; &amp;pcy;&amp;ocy;&amp;kcy;&amp;acy;&amp;zcy;&amp;ycy;&amp;vcy;&amp;acy;&amp;lcy;&amp;icy; &amp;vcy;&amp;rcy;&amp;iecy;&amp;mcy;&amp;yacy; &amp;icy; &amp;dcy;&amp;ncy;&amp;iocy;&amp;mcy;, &amp;icy; &amp;ncy;&amp;ocy;&amp;chcy;&amp;softcy;&amp;yucy;. &amp;Vcy; &amp;Vcy;&amp;acy;&amp;vcy;&amp;icy;&amp;lcy;&amp;ocy;&amp;ncy;&amp;iecy; &amp;tcy;&amp;acy;&amp;kcy;&amp;icy;&amp;iecy; &amp;chcy;&amp;acy;&amp;scy;&amp;ycy; &amp;bcy;&amp;ycy;&amp;lcy;&amp;icy; &amp;vcy; &amp;khcy;&amp;ocy;&amp;dcy;&amp;ucy; &amp;iecy;&amp;shchcy;&amp;iecy; 2050 &amp;lcy;&amp;iecy;&amp;tcy; &amp;tcy;&amp;ocy;&amp;mcy;&amp;ucy; &amp;ncy;&amp;acy;&amp;zcy;&amp;acy;&amp;dcy;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907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Times New Roman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2" descr="C:\Users\DNS\Desktop\дом задание.jpg"/>
          <p:cNvPicPr/>
          <p:nvPr/>
        </p:nvPicPr>
        <p:blipFill>
          <a:blip r:embed="rId1"/>
          <a:stretch/>
        </p:blipFill>
        <p:spPr>
          <a:xfrm>
            <a:off x="1428840" y="1500120"/>
            <a:ext cx="7429320" cy="178596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1" descr="часы для детей"/>
          <p:cNvPicPr/>
          <p:nvPr/>
        </p:nvPicPr>
        <p:blipFill>
          <a:blip r:embed="rId2"/>
          <a:stretch/>
        </p:blipFill>
        <p:spPr>
          <a:xfrm>
            <a:off x="1428840" y="3429000"/>
            <a:ext cx="3000240" cy="3214800"/>
          </a:xfrm>
          <a:prstGeom prst="rect">
            <a:avLst/>
          </a:prstGeom>
          <a:ln w="0">
            <a:noFill/>
          </a:ln>
        </p:spPr>
      </p:pic>
      <p:pic>
        <p:nvPicPr>
          <p:cNvPr id="187" name="Содержимое 3" descr="5592baab70e01868945de62fe59a3d91.jpg"/>
          <p:cNvPicPr/>
          <p:nvPr/>
        </p:nvPicPr>
        <p:blipFill>
          <a:blip r:embed="rId3"/>
          <a:stretch/>
        </p:blipFill>
        <p:spPr>
          <a:xfrm>
            <a:off x="6143760" y="3429000"/>
            <a:ext cx="27860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Содержимое 3" descr="5592baab70e01868945de62fe59a3d91.jpg"/>
          <p:cNvPicPr/>
          <p:nvPr/>
        </p:nvPicPr>
        <p:blipFill>
          <a:blip r:embed="rId1"/>
          <a:stretch/>
        </p:blipFill>
        <p:spPr>
          <a:xfrm>
            <a:off x="1428840" y="2857680"/>
            <a:ext cx="2786040" cy="3819240"/>
          </a:xfrm>
          <a:prstGeom prst="rect">
            <a:avLst/>
          </a:prstGeom>
          <a:ln w="0">
            <a:noFill/>
          </a:ln>
        </p:spPr>
      </p:pic>
      <p:pic>
        <p:nvPicPr>
          <p:cNvPr id="189" name="Прямоугольник 7" descr=""/>
          <p:cNvPicPr/>
          <p:nvPr/>
        </p:nvPicPr>
        <p:blipFill>
          <a:blip r:embed="rId2"/>
          <a:stretch/>
        </p:blipFill>
        <p:spPr>
          <a:xfrm>
            <a:off x="3902040" y="3176640"/>
            <a:ext cx="5297400" cy="236520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1" descr="часы для детей"/>
          <p:cNvPicPr/>
          <p:nvPr/>
        </p:nvPicPr>
        <p:blipFill>
          <a:blip r:embed="rId3"/>
          <a:stretch/>
        </p:blipFill>
        <p:spPr>
          <a:xfrm>
            <a:off x="5500800" y="214200"/>
            <a:ext cx="32144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71400" y="2130120"/>
            <a:ext cx="7429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Какой по счету месяц январь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142880" y="5072040"/>
            <a:ext cx="407196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ервы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71400" y="2130120"/>
            <a:ext cx="7429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Какой по счету месяц март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142880" y="5072040"/>
            <a:ext cx="407196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рет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71400" y="2130120"/>
            <a:ext cx="7429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Какой по счету месяц октябрь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142880" y="5072040"/>
            <a:ext cx="407196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есяты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71400" y="2130120"/>
            <a:ext cx="7429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Какой самый короткий месяц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142880" y="5072040"/>
            <a:ext cx="407196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Феврал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3"/>
          <p:cNvSpPr/>
          <p:nvPr/>
        </p:nvSpPr>
        <p:spPr>
          <a:xfrm>
            <a:off x="277920" y="189000"/>
            <a:ext cx="87912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ина лепестка розы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м, а длина лепестка тюльпана-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сколько см лепесток тюльпана длиннее лепестка роз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Прямоугольник 4" descr=""/>
          <p:cNvPicPr/>
          <p:nvPr/>
        </p:nvPicPr>
        <p:blipFill>
          <a:blip r:embed="rId1"/>
          <a:stretch/>
        </p:blipFill>
        <p:spPr>
          <a:xfrm>
            <a:off x="4900680" y="3236760"/>
            <a:ext cx="4481280" cy="282924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5" descr=""/>
          <p:cNvPicPr/>
          <p:nvPr/>
        </p:nvPicPr>
        <p:blipFill>
          <a:blip r:embed="rId2"/>
          <a:stretch/>
        </p:blipFill>
        <p:spPr>
          <a:xfrm>
            <a:off x="987480" y="1066680"/>
            <a:ext cx="7796160" cy="235296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7" descr="http://ua.cdnmob.org/pic/v2/gallery/preview/cvety-rasteniya-rozy-30222.jpg"/>
          <p:cNvPicPr/>
          <p:nvPr/>
        </p:nvPicPr>
        <p:blipFill>
          <a:blip r:embed="rId3"/>
          <a:stretch/>
        </p:blipFill>
        <p:spPr>
          <a:xfrm>
            <a:off x="324000" y="2997360"/>
            <a:ext cx="2303280" cy="20872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8" descr="http://static.freepik.com/free-photo/dew-presents-pink-tulips-yellow-tulip_3306009.jpg"/>
          <p:cNvPicPr/>
          <p:nvPr/>
        </p:nvPicPr>
        <p:blipFill>
          <a:blip r:embed="rId4"/>
          <a:stretch/>
        </p:blipFill>
        <p:spPr>
          <a:xfrm>
            <a:off x="2268360" y="4581360"/>
            <a:ext cx="2573640" cy="178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31640" y="2130120"/>
            <a:ext cx="766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Сегодня 9 октября, вторник. </a:t>
            </a:r>
            <a:br>
              <a:rPr sz="4000"/>
            </a:b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А у Маши день рождение через неделю. </a:t>
            </a:r>
            <a:br>
              <a:rPr sz="4000"/>
            </a:b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Когда день рождение у Маши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142880" y="5072040"/>
            <a:ext cx="407196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9+7=16 (октября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11:01:20Z</dcterms:created>
  <dc:creator>Admin</dc:creator>
  <dc:description/>
  <dc:language>en-US</dc:language>
  <cp:lastModifiedBy>Пользователь</cp:lastModifiedBy>
  <dcterms:modified xsi:type="dcterms:W3CDTF">2018-10-09T03:27:53Z</dcterms:modified>
  <cp:revision>86</cp:revision>
  <dc:subject/>
  <dc:title>Урок математики  по теме «Единицы времени. Час.Минута».</dc:title>
</cp:coreProperties>
</file>