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51F-DF57-4C4C-8532-2E2BD6ED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7F9E-0F00-4632-A6A1-3FB46903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D16C-2411-4A99-BA1F-25A2252F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CBD-D5C8-48EB-BEE6-AEF9E034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396-FD39-4464-9356-B48BBE4A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5F4-EEC8-489D-BC27-BEA4CBE6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173A-D8AA-4736-8265-FD2EC629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387F-CF67-4121-B0E9-C61AD36B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9360-841D-4303-B815-78171738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2D6F-2D6F-4356-8BB5-EEAA7B71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1001-8AAD-44CB-9E00-82294F80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2648-80BA-4185-9806-706D8CE1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2E6A-08A8-4F09-A332-0FCB0D95A6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1197000"/>
            <a:ext cx="72709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ое, оптическое восприятие фор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5724360" y="549360"/>
            <a:ext cx="2951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5508720" y="4653000"/>
            <a:ext cx="32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ь: Гусаркова Т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3340440" y="602136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итогорск, 2022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57120" y="652680"/>
            <a:ext cx="864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великие фигуры воспринимаются разными. Свечение белых фигур на черном фоне раздвигает зрительно их границы, и они кажутся заметно крупнее, чем точно такие же черные на белом фо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143160" y="3143160"/>
            <a:ext cx="2722680" cy="12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42960" y="100260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ые линии, образующие квадрат, зрительно удлиняют его в высоту, вертикальные – расширяю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3143160" y="3357720"/>
            <a:ext cx="24242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85840" y="1000080"/>
            <a:ext cx="871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ое поле, ограниченное горизонтальными линиями, расширяется, а вертикальными – удлиня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286080" y="3143160"/>
            <a:ext cx="221472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14240" y="865080"/>
            <a:ext cx="885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, образованная квадратами, дает иллюзию дополнительных квадратиков в углах. При наборе кругами иллюзия пропад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3286080" y="3143160"/>
            <a:ext cx="25002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84297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ое, оптическое восприятие фор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285840" y="10717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ешении композиции на плоскости необходимо учитывать и использовать оптические иллюзии восприятия самой плоскости, а также точки, линии или пятна на н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85840" y="2864160"/>
            <a:ext cx="8715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и точный квадрат кажется ниже по высоте, а следовательно, оптический квадрат должен быть слегка вытянут в высоту. Глаз склонен к преувеличению всего горизонтального и более слабому восприятию вертикальн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3429000" y="5357880"/>
            <a:ext cx="2162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14200" y="312120"/>
            <a:ext cx="8715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геометрически точном разделении формы на две равные части нижняя часть кажется меньше, поэтому необходима оптическая корректировка членения. Глаз переоценивает верхнюю и недооценивает нижнюю часть плоскости, поэтому любую фигуру, для того чтобы она казалась расположенной в центре плоскости, следует немного сместить ввер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214800" y="3929040"/>
            <a:ext cx="27144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428760" y="1015920"/>
            <a:ext cx="89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ая линия кажется толще, чем такая же вертикальн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990880" y="2803680"/>
            <a:ext cx="286704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42920" y="5025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 на плоскости при уменьшении воспринимается как точка. Причем на черном фоне квадрат прочитывается дольше, нежели на бел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786040" y="2500200"/>
            <a:ext cx="3429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71680" y="128556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и точный круг кажется вытянутым в шир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571920" y="3071880"/>
            <a:ext cx="18478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500040" y="785880"/>
            <a:ext cx="814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 тот же круг выглядит по-разному в зависимости от его расположения на плоскости. Вверху – легким, парящим; внизу – тяжелым, грузным. Причем на черном фоне это свойство выражается активн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143080" y="3786120"/>
            <a:ext cx="47451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8352000" cy="50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28760" y="107928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, обращенный вершиной вверх, выглядит устойчивым, а в перевернутом виде форма неустойчи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071880" y="3143160"/>
            <a:ext cx="30718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53964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500040" y="859680"/>
            <a:ext cx="90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ик, лежащий горизонтально, выглядит прочным и тяжелым, стоящий – более легким и подвижн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071880" y="3143160"/>
            <a:ext cx="264312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21:10:59Z</dcterms:created>
  <dc:creator>User</dc:creator>
  <dc:description/>
  <dc:language>en-US</dc:language>
  <cp:lastModifiedBy>Пользователь Windows</cp:lastModifiedBy>
  <dcterms:modified xsi:type="dcterms:W3CDTF">2022-11-17T17:18:28Z</dcterms:modified>
  <cp:revision>86</cp:revision>
  <dc:subject/>
  <dc:title>Презентация PowerPoint</dc:title>
</cp:coreProperties>
</file>