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2F4-E0D3-464E-AEE8-056A8DFC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DFF-40BD-4576-A9DF-F4704769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522-E4A5-4129-8A98-248F94B1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B72-50B3-4C4F-9BF3-2A889352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00B-7C34-4F5C-BB3D-26ADBB0C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0B9-0764-4EB7-BCF5-282ECC3F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C18-B1C6-4E6A-A848-7AAAFB78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F1A-2165-45D8-B3FC-3A7605F7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2C3-7E39-4CD8-8D5B-612CCEEE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56D-E10E-4D65-90D0-7331D77B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314-F314-4D3E-B900-079B26F2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34F-2962-424D-A434-BC91D239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762C-106C-413C-9790-CE6A293F59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2709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ое, оптическое восприятие фор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5724360" y="549360"/>
            <a:ext cx="2951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5508720" y="4653000"/>
            <a:ext cx="32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 Гусаркова Т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3340440" y="602136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огорск, 2022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57120" y="65268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великие фигуры воспринимаются разными. Свечение белых фигур на черном фоне раздвигает зрительно их границы, и они кажутся заметно крупнее, чем точно такие же черные на белом фо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143160" y="3143160"/>
            <a:ext cx="272268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42960" y="100260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е линии, образующие квадрат, зрительно удлиняют его в высоту, вертикальные – расширя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143160" y="3357720"/>
            <a:ext cx="24242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85840" y="1000080"/>
            <a:ext cx="871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е поле, ограниченное горизонтальными линиями, расширяется, а вертикальными – удлиня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286080" y="3143160"/>
            <a:ext cx="221472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14240" y="865080"/>
            <a:ext cx="885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, образованная квадратами, дает иллюзию дополнительных квадратиков в углах. При наборе кругами иллюзия пропад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286080" y="3143160"/>
            <a:ext cx="25002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4297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ое, оптическое восприятие фор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85840" y="1071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шении композиции на плоскости необходимо учитывать и использовать оптические иллюзии восприятия самой плоскости, а также точки, линии или пятна на н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85840" y="2864160"/>
            <a:ext cx="8715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 точный квадрат кажется ниже по высоте, а следовательно, оптический квадрат должен быть слегка вытянут в высоту. Глаз склонен к преувеличению всего горизонтального и более слабому восприятию вертикаль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3429000" y="5357880"/>
            <a:ext cx="2162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14200" y="312120"/>
            <a:ext cx="871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еометрически точном разделении формы на две равные части нижняя часть кажется меньше, поэтому необходима оптическая корректировка членения. Глаз переоценивает верхнюю и недооценивает нижнюю часть плоскости, поэтому любую фигуру, для того чтобы она казалась расположенной в центре плоскости, следует немного сместить ввер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214800" y="3929040"/>
            <a:ext cx="27144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28760" y="1015920"/>
            <a:ext cx="89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ая линия кажется толще, чем такая же вертикальн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990880" y="2803680"/>
            <a:ext cx="286704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42920" y="5025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 на плоскости при уменьшении воспринимается как точка. Причем на черном фоне квадрат прочитывается дольше, нежели на бе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786040" y="2500200"/>
            <a:ext cx="3429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71680" y="128556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 точный круг кажется вытянутым в шир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571920" y="3071880"/>
            <a:ext cx="18478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500040" y="785880"/>
            <a:ext cx="814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 тот же круг выглядит по-разному в зависимости от его расположения на плоскости. Вверху – легким, парящим; внизу – тяжелым, грузным. Причем на черном фоне это свойство выражается активн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143080" y="3786120"/>
            <a:ext cx="47451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35200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28760" y="107928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, обращенный вершиной вверх, выглядит устойчивым, а в перевернутом виде форма неустойчи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071880" y="3143160"/>
            <a:ext cx="30718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500040" y="85968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, лежащий горизонтально, выглядит прочным и тяжелым, стоящий – более легким и подвиж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071880" y="3143160"/>
            <a:ext cx="26431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21:10:59Z</dcterms:created>
  <dc:creator>User</dc:creator>
  <dc:description/>
  <dc:language>en-US</dc:language>
  <cp:lastModifiedBy>Пользователь Windows</cp:lastModifiedBy>
  <dcterms:modified xsi:type="dcterms:W3CDTF">2022-11-17T17:18:28Z</dcterms:modified>
  <cp:revision>86</cp:revision>
  <dc:subject/>
  <dc:title>Презентация PowerPoint</dc:title>
</cp:coreProperties>
</file>