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1E3-5BC5-4FE6-8349-0B4D113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1F1-C027-4442-ABFB-986893F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2F3-0DEC-4328-8735-95E27D12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837-5E31-43AB-B37D-E220AAF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D7F-01A0-4068-A135-222CFBD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C4F-318C-45F5-8C74-0B3EDB92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BCE-84A6-46D7-8B00-C300FED0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EEC-DA1C-44CC-A3F2-7688F8B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7F9-F29D-4B14-A031-74C4FD38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5BE-DAB0-4677-90FC-EE05FA2B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C2A-AEF6-4CB5-B900-C4B1856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A95-AABB-4337-ABCB-1B47CFE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2A6-BD94-497A-BE08-00E5445CA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09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724360" y="549360"/>
            <a:ext cx="295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508720" y="4653000"/>
            <a:ext cx="32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Гусаркова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3340440" y="6021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огорск, 202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7120" y="6526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ликие фигуры воспринимаются разными. Свечение белых фигур на черном фоне раздвигает зрительно их границы, и они кажутся заметно крупнее, чем точно такие же черные на белом фо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143160" y="3143160"/>
            <a:ext cx="272268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42960" y="10026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е линии, образующие квадрат, зрительно удлиняют его в высоту, вертикальные – расширя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43160" y="3357720"/>
            <a:ext cx="2424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85840" y="10000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поле, ограниченное горизонтальными линиями, расширяется, а вертикальными – удлин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2147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14240" y="865080"/>
            <a:ext cx="88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, образованная квадратами, дает иллюзию дополнительных квадратиков в углах. При наборе кругами иллюзия пропа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5002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429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85840" y="1071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шении композиции на плоскости необходимо учитывать и использовать оптические иллюзии восприятия самой плоскости, а также точки, линии или пятна на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85840" y="2864160"/>
            <a:ext cx="8715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вадрат кажется ниже по высоте, а следовательно, оптический квадрат должен быть слегка вытянут в высоту. Глаз склонен к преувеличению всего горизонтального и более слабому восприятию вертика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429000" y="5357880"/>
            <a:ext cx="2162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14200" y="31212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еометрически точном разделении формы на две равные части нижняя часть кажется меньше, поэтому необходима оптическая корректировка членения. Глаз переоценивает верхнюю и недооценивает нижнюю часть плоскости, поэтому любую фигуру, для того чтобы она казалась расположенной в центре плоскости, следует немного сместить ввер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2714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8760" y="1015920"/>
            <a:ext cx="89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ая линия кажется толще, чем такая же вертика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90880" y="2803680"/>
            <a:ext cx="28670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2920" y="502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на плоскости при уменьшении воспринимается как точка. Причем на черном фоне квадрат прочитывается дольше, нежели на б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786040" y="2500200"/>
            <a:ext cx="3429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71680" y="128556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руг кажется вытянутым в шир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571920" y="3071880"/>
            <a:ext cx="18478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00040" y="7858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 тот же круг выглядит по-разному в зависимости от его расположения на плоскости. Вверху – легким, парящим; внизу – тяжелым, грузным. Причем на черном фоне это свойство выражается актив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43080" y="3786120"/>
            <a:ext cx="4745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3520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28760" y="107928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, обращенный вершиной вверх, выглядит устойчивым, а в перевернутом виде форма неустойчи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3071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00040" y="85968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, лежащий горизонтально, выглядит прочным и тяжелым, стоящий – более легким и подвиж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26431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10:59Z</dcterms:created>
  <dc:creator>User</dc:creator>
  <dc:description/>
  <dc:language>en-US</dc:language>
  <cp:lastModifiedBy>Пользователь Windows</cp:lastModifiedBy>
  <dcterms:modified xsi:type="dcterms:W3CDTF">2022-11-17T17:18:28Z</dcterms:modified>
  <cp:revision>86</cp:revision>
  <dc:subject/>
  <dc:title>Презентация PowerPoint</dc:title>
</cp:coreProperties>
</file>