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7F5-2DE6-4AF2-84F6-B62E1778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B52-F64C-426C-AD89-1D8055BE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B13-9B6F-4CD2-955F-DBC128CD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621-3B3E-4A52-89F5-6C8CA273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735A-C813-4A6F-892C-9F3F7B1A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D7EF-D1D9-48AC-9A40-DFADFAC6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C5A7-CCC1-4874-8507-214B4FC7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F856-CB83-4F49-B7B7-93F323E2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1FFE-C3D0-4B29-B5FD-F79ED10F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F1A3-521D-478A-A807-89AB5CF9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E0A9-5518-4C49-8381-FA6FDEE2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194-7FDB-4274-8185-ADB9034A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5E59-8431-4E48-8454-F7A31FA0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BBB1-0E7D-4E5B-BB03-1CCDC821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8367-2AA3-4F41-85D6-EE546705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114A-746F-408A-8D8E-6D934942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D772-AAA5-4138-AC17-431DC112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F94-90A4-4B83-B1E7-6424E415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7CA-5AA8-4BB7-A07C-5FA3D99A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1DE-74AA-4B69-95D6-8A69B91B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E74-A740-41AA-8387-6DB0243F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9E2-E2BD-4A2E-8D33-E1A49723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883-B46E-48AA-BA69-396BDD95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668-36BC-4B8D-9CE9-C0CBBE24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1725480" y="412920"/>
            <a:ext cx="9929880" cy="5665680"/>
          </a:xfrm>
          <a:prstGeom prst="rect">
            <a:avLst/>
          </a:prstGeom>
          <a:solidFill>
            <a:srgbClr val="ffffff">
              <a:alpha val="1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Рисунок 11" descr="0_7ac9d_96b9e003_orig.gif"/>
          <p:cNvPicPr/>
          <p:nvPr/>
        </p:nvPicPr>
        <p:blipFill>
          <a:blip r:embed="rId3"/>
          <a:stretch/>
        </p:blipFill>
        <p:spPr>
          <a:xfrm>
            <a:off x="353880" y="285840"/>
            <a:ext cx="11454120" cy="62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CAF7-159A-4145-8134-2CF8CE4B15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378E-F8C8-4107-BBE5-D3966DC0E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12" descr="i.jpg"/>
          <p:cNvPicPr/>
          <p:nvPr/>
        </p:nvPicPr>
        <p:blipFill>
          <a:blip r:embed="rId4"/>
          <a:stretch/>
        </p:blipFill>
        <p:spPr>
          <a:xfrm>
            <a:off x="463680" y="412920"/>
            <a:ext cx="1224000" cy="591012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sp>
        <p:nvSpPr>
          <p:cNvPr id="6" name="Прямоугольник 16"/>
          <p:cNvSpPr/>
          <p:nvPr/>
        </p:nvSpPr>
        <p:spPr>
          <a:xfrm>
            <a:off x="1700280" y="385920"/>
            <a:ext cx="9967680" cy="5667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Рисунок 17" descr="hello_html_5495c1c7.png"/>
          <p:cNvPicPr/>
          <p:nvPr/>
        </p:nvPicPr>
        <p:blipFill>
          <a:blip r:embed="rId5"/>
          <a:stretch/>
        </p:blipFill>
        <p:spPr>
          <a:xfrm>
            <a:off x="7932600" y="3811680"/>
            <a:ext cx="3713400" cy="2271600"/>
          </a:xfrm>
          <a:prstGeom prst="rect">
            <a:avLst/>
          </a:prstGeom>
          <a:ln w="0">
            <a:noFill/>
          </a:ln>
        </p:spPr>
      </p:pic>
      <p:sp>
        <p:nvSpPr>
          <p:cNvPr id="8" name="Прямоугольник 9"/>
          <p:cNvSpPr/>
          <p:nvPr/>
        </p:nvSpPr>
        <p:spPr>
          <a:xfrm>
            <a:off x="10130760" y="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Monotype Corsiva"/>
              </a:rPr>
              <a:t>Панова В.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1725480" y="412920"/>
            <a:ext cx="9929880" cy="5665680"/>
          </a:xfrm>
          <a:prstGeom prst="rect">
            <a:avLst/>
          </a:prstGeom>
          <a:solidFill>
            <a:srgbClr val="ffffff">
              <a:alpha val="1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1" descr="0_7ac9d_96b9e003_orig.gif"/>
          <p:cNvPicPr/>
          <p:nvPr/>
        </p:nvPicPr>
        <p:blipFill>
          <a:blip r:embed="rId3"/>
          <a:stretch/>
        </p:blipFill>
        <p:spPr>
          <a:xfrm>
            <a:off x="353880" y="285840"/>
            <a:ext cx="11454120" cy="62118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i.jpg"/>
          <p:cNvPicPr/>
          <p:nvPr/>
        </p:nvPicPr>
        <p:blipFill>
          <a:blip r:embed="rId4"/>
          <a:stretch/>
        </p:blipFill>
        <p:spPr>
          <a:xfrm>
            <a:off x="463680" y="412920"/>
            <a:ext cx="1224000" cy="591012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sp>
        <p:nvSpPr>
          <p:cNvPr id="48" name="Прямоугольник 16"/>
          <p:cNvSpPr/>
          <p:nvPr/>
        </p:nvSpPr>
        <p:spPr>
          <a:xfrm>
            <a:off x="1700280" y="385920"/>
            <a:ext cx="9967680" cy="5667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7" descr="hello_html_5495c1c7.png"/>
          <p:cNvPicPr/>
          <p:nvPr/>
        </p:nvPicPr>
        <p:blipFill>
          <a:blip r:embed="rId5"/>
          <a:stretch/>
        </p:blipFill>
        <p:spPr>
          <a:xfrm>
            <a:off x="7932600" y="3811680"/>
            <a:ext cx="3713400" cy="227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9"/>
          <p:cNvSpPr/>
          <p:nvPr/>
        </p:nvSpPr>
        <p:spPr>
          <a:xfrm>
            <a:off x="10130760" y="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Monotype Corsiva"/>
              </a:rPr>
              <a:t>Панова В.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Прямоугольник 10" descr=""/>
          <p:cNvPicPr/>
          <p:nvPr/>
        </p:nvPicPr>
        <p:blipFill>
          <a:blip r:embed="rId6"/>
          <a:stretch/>
        </p:blipFill>
        <p:spPr>
          <a:xfrm>
            <a:off x="762120" y="298440"/>
            <a:ext cx="11064600" cy="3693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D07C-2B18-4986-80EB-B25E82DA70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636D-0C4E-4863-A62B-537265C0E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103480" y="4476600"/>
            <a:ext cx="6095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рок русского языка в 4 –в кла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Зиганшина Ясмина Фуат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читель начальных классов I категор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1"/>
          <a:stretch/>
        </p:blipFill>
        <p:spPr>
          <a:xfrm>
            <a:off x="1925640" y="1146240"/>
            <a:ext cx="8510760" cy="3187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790640" y="458640"/>
            <a:ext cx="94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МБОУ «Средняя общеобразовательная школа № 19 г.Йошкар-Ол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одержимое 2"/>
          <p:cNvSpPr/>
          <p:nvPr/>
        </p:nvSpPr>
        <p:spPr>
          <a:xfrm>
            <a:off x="1690560" y="12096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Раз – подняться, потя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Два – согнуться, разог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Три – в ладоши три хлоп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Головою три кив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На четыре – руки ши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Пять – руками помах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Шесть – на место сесть оп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590840" y="311040"/>
            <a:ext cx="11204280" cy="133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schasty.ru/wp-content/uploads/2016/08/jizicheskie-uprazheniy-dly-doshkolnikov.png"/>
          <p:cNvPicPr/>
          <p:nvPr/>
        </p:nvPicPr>
        <p:blipFill>
          <a:blip r:embed="rId2"/>
          <a:stretch/>
        </p:blipFill>
        <p:spPr>
          <a:xfrm>
            <a:off x="7524720" y="1000080"/>
            <a:ext cx="4095720" cy="227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img1.liveinternet.ru/images/attach/c/11/116/418/116418315_18.png"/>
          <p:cNvPicPr/>
          <p:nvPr/>
        </p:nvPicPr>
        <p:blipFill>
          <a:blip r:embed="rId3"/>
          <a:stretch/>
        </p:blipFill>
        <p:spPr>
          <a:xfrm>
            <a:off x="6240600" y="2625840"/>
            <a:ext cx="2228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3713400" y="690480"/>
            <a:ext cx="49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2897280" y="196200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пр.295 с.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878120" y="1874880"/>
            <a:ext cx="232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стр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яжёл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ер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кус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289400" y="709560"/>
            <a:ext cx="39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Письмо по памя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5462640" y="1874880"/>
            <a:ext cx="233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о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ага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вари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ирп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ор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Гимнастика для глаз - Упражнения для глаз.mp4" descr=""/>
          <p:cNvPicPr/>
          <p:nvPr/>
        </p:nvPicPr>
        <p:blipFill>
          <a:blip r:embed="rId1"/>
          <a:stretch/>
        </p:blipFill>
        <p:spPr>
          <a:xfrm>
            <a:off x="1779480" y="482760"/>
            <a:ext cx="98586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289400" y="173160"/>
            <a:ext cx="39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«Каждому своё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1819440" y="898560"/>
            <a:ext cx="9699480" cy="128736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1 уровень.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Вставь пропущенные оконч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нежн___ покрова, смешно___ клоуна, из бел____ снега, из парн___ молока, из соснов____ б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1819440" y="2295360"/>
            <a:ext cx="9699480" cy="1928880"/>
          </a:xfrm>
          <a:prstGeom prst="rect">
            <a:avLst/>
          </a:prstGeom>
          <a:solidFill>
            <a:srgbClr val="7030a0">
              <a:alpha val="42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2 уровень             Напиши существительные и прилагательные в родительном падеж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опушке (зимний лес), на улицах (маленький город), приготовил для (любимой мамы), вышел из (тёплый д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1819440" y="4322880"/>
            <a:ext cx="9699480" cy="1998720"/>
          </a:xfrm>
          <a:prstGeom prst="rect">
            <a:avLst/>
          </a:prstGeom>
          <a:solidFill>
            <a:srgbClr val="0070c0">
              <a:alpha val="9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йди ошибки в написании окончаний имён прилагательных, спиши словосочетания, исправив ошиб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коло старая дерева, из спелое яблока, белой снега, около большими дома, без тёплые вареж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5"/>
          <p:cNvSpPr/>
          <p:nvPr/>
        </p:nvSpPr>
        <p:spPr>
          <a:xfrm>
            <a:off x="6620040" y="2365200"/>
            <a:ext cx="606240" cy="365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3179880" y="2922480"/>
            <a:ext cx="606240" cy="365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6989760" y="2949480"/>
            <a:ext cx="606600" cy="365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3263760" y="3495600"/>
            <a:ext cx="604800" cy="36504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2060640" y="1676520"/>
            <a:ext cx="793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Дорогой друг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Я желаю тебе плодотворного труд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хорошего настроения, крепкого здоров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большого счастья, удач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4590000" y="571680"/>
            <a:ext cx="27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3471120" y="681120"/>
            <a:ext cx="48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063880" y="189216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чебник : упр.298, с.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622520" y="1630440"/>
            <a:ext cx="9467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1779480" y="1206360"/>
            <a:ext cx="765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ец: Аромат -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аромат свежего хле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учи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етка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рыша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ыжи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такан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ладь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лова для справок: огромный дуб, маленький мальчик, яркое солнце, горячее молоко, соседний дом, лесное озер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3732120" y="45072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«Игра в снеж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2222640" y="1447920"/>
            <a:ext cx="670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Monotype Corsiva"/>
              </a:rPr>
              <a:t>Ум и сердце в работу влож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Monotype Corsiva"/>
              </a:rPr>
              <a:t>Каждой минутой в труде дорож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4030560" y="519120"/>
            <a:ext cx="37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ДЕВИЗ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635400" y="3211560"/>
            <a:ext cx="115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Monotype Corsiva"/>
              </a:rPr>
              <a:t>внимательные, активные и стар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3970080" y="174600"/>
            <a:ext cx="45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728720" y="1085760"/>
            <a:ext cx="9880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.        Что обозначает имя прилагательно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предмет   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  с) признак предмета   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 в) действие предм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.        На какой вопрос отвечает имя прилагательно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) кто? что?  л) что делает? что сделает?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 к) какой? какая? как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3.        Как определить род прилагательног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) по вопросу  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л) по существительному, которое с ним связа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4.        Какие окончания имеют прилагательные среднего род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–ая, -яя 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о) –ое, -ее 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 и) –ый, -ий, -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5.        Каким членом предложения чаще всего является прилагательное в предложен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) главным      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 н) второстепен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6.       Какое прилагательное является антонимом к слову " неряшливый"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вежливый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е) аккуратный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    о) хлопотлив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7.        С чем связано прилагательное в предложен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н) с существительным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    т) с глаголом           с) с нареч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8.        Укажите слово, от которого образовалось прилагательное "водный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проводка  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и) вод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   е) увод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9.        Прилагательное э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) часть слова           и) член предложения      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 е) часть ре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2313000" y="178596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елеет парус одинок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тумане моря голуб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ищет он в стране далеко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кинул он в краю родно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. Ю. Лермо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313000" y="177336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елеет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парус одинок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тумане моря голуб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ищет он в стране далеко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кинул он в краю родно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. Ю. Лермо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313000" y="178596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безлюдный прост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белевших пол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мотрит весело ле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-под черных кудр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. С. Никити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313000" y="178596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безлюдный прост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белевших пол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мотрит весело ле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-под черных кудр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. С. Никити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2305080" y="164628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ромыслом серп двурог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лавно по небу скользи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ам, за рощей, по дорог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дается звон копы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. А. Есен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2305080" y="164628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ромыслом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серп двурог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лавно по небу скользи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ам, за рощей, по дорог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дается звон копы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. А. Есен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2305080" y="1646280"/>
            <a:ext cx="6095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 горы бежит поток проворны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лесу не молкнет птичий га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гам лесной, и шум нагорный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се вторит весело гром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. И. Тютче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305080" y="1638360"/>
            <a:ext cx="6095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 горы бежит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поток проворный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лесу не молкнет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птичий гам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гам лесной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и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шум нагорный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се вторит весело гром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. И. Тютче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4199040" y="5146560"/>
            <a:ext cx="527040" cy="3477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4432320" y="4286160"/>
            <a:ext cx="527040" cy="3477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2182680" y="1298520"/>
            <a:ext cx="889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660"/>
                </a:solidFill>
                <a:latin typeface="Monotype Corsiva"/>
              </a:rPr>
              <a:t>«С русским языком можно творить чудеса»</a:t>
            </a:r>
            <a:r>
              <a:rPr b="1" lang="ru-RU" sz="3600" spc="-1" strike="noStrike">
                <a:solidFill>
                  <a:srgbClr val="00266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660"/>
                </a:solidFill>
                <a:latin typeface="Monotype Corsiva"/>
              </a:rPr>
              <a:t>Константин Паустов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1978200" y="444600"/>
            <a:ext cx="839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Самоопределение к деятель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812960" y="230184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в любом кусочке хлеб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ы почувствуешь всегд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еплоту родно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 неб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ивкус добро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 труда.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. Кожев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2440080" y="217656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М.р.,ед.ч., П.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3394080" y="376236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Ср.р.,ед.ч., Р.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3244680" y="4602240"/>
            <a:ext cx="19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М.р.,ед.ч., Р.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868400" y="909720"/>
            <a:ext cx="934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Monotype Corsiva"/>
              </a:rPr>
              <a:t>Родительный падеж имён прилагательных мужского и среднего 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103480" y="2341440"/>
            <a:ext cx="839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.р.                                       -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.п      как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.р.                                       -е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18:42:46Z</dcterms:created>
  <dc:creator>Valya</dc:creator>
  <dc:description/>
  <dc:language>en-US</dc:language>
  <cp:lastModifiedBy>RusLan</cp:lastModifiedBy>
  <dcterms:modified xsi:type="dcterms:W3CDTF">2018-01-30T08:16:56Z</dcterms:modified>
  <cp:revision>23</cp:revision>
  <dc:subject/>
  <dc:title>Презентация PowerPoint</dc:title>
</cp:coreProperties>
</file>