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6EC-A676-46C9-A9C9-AD981DD9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7EA-EEBA-41E1-9B6A-CA7F3EC9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32D-DCDE-4185-9E50-CF627F8E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B8C-DE43-40A2-96C5-A4781C99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0CE-EA0A-4AE2-ABEA-9C5C6D33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0DCF-38EC-4F15-AB0B-E2CD2E7D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1340-69E8-4749-9F4D-B1E50E02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B825-F59B-44A3-9682-459FDCE0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04BE-FFBA-4FE5-85E4-7444E329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8BF4-340E-4E66-9411-48C6027F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FE69-F8FD-4B7A-B4F9-1ED7EFA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737-6150-4B25-989E-0C89FAD7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88C1-16A4-4250-B2C5-C5B5295A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E47A-6649-49B3-87FD-910E2B8C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BBF7-2972-402D-B30A-DA3DA838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950D-3A98-4EE1-A2EA-FD9C890F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0283-7473-4150-8594-265A93B3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909-61F4-4BA1-B174-1C16E748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24C-34F2-46E9-99A7-81310485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436-8765-4560-BCFC-D91F270A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D78-6A94-47C6-9CF9-2B8DCB0F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5EF-62A0-4322-A284-8E4D4240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16E-2AA1-464A-8237-B19BEFD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0B1-0E68-4157-B2EF-A575DD2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1725480" y="412920"/>
            <a:ext cx="9929880" cy="5665680"/>
          </a:xfrm>
          <a:prstGeom prst="rect">
            <a:avLst/>
          </a:prstGeom>
          <a:solidFill>
            <a:srgbClr val="ffffff">
              <a:alpha val="1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Рисунок 11" descr="0_7ac9d_96b9e003_orig.gif"/>
          <p:cNvPicPr/>
          <p:nvPr/>
        </p:nvPicPr>
        <p:blipFill>
          <a:blip r:embed="rId3"/>
          <a:stretch/>
        </p:blipFill>
        <p:spPr>
          <a:xfrm>
            <a:off x="353880" y="285840"/>
            <a:ext cx="11454120" cy="62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03D6-1B91-4821-95D3-234A45FC4D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C96A-BF66-4B23-8C84-49D033807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12" descr="i.jpg"/>
          <p:cNvPicPr/>
          <p:nvPr/>
        </p:nvPicPr>
        <p:blipFill>
          <a:blip r:embed="rId4"/>
          <a:stretch/>
        </p:blipFill>
        <p:spPr>
          <a:xfrm>
            <a:off x="463680" y="412920"/>
            <a:ext cx="1224000" cy="591012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6" name="Прямоугольник 16"/>
          <p:cNvSpPr/>
          <p:nvPr/>
        </p:nvSpPr>
        <p:spPr>
          <a:xfrm>
            <a:off x="1700280" y="385920"/>
            <a:ext cx="9967680" cy="5667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Рисунок 17" descr="hello_html_5495c1c7.png"/>
          <p:cNvPicPr/>
          <p:nvPr/>
        </p:nvPicPr>
        <p:blipFill>
          <a:blip r:embed="rId5"/>
          <a:stretch/>
        </p:blipFill>
        <p:spPr>
          <a:xfrm>
            <a:off x="7932600" y="3811680"/>
            <a:ext cx="3713400" cy="2271600"/>
          </a:xfrm>
          <a:prstGeom prst="rect">
            <a:avLst/>
          </a:prstGeom>
          <a:ln w="0">
            <a:noFill/>
          </a:ln>
        </p:spPr>
      </p:pic>
      <p:sp>
        <p:nvSpPr>
          <p:cNvPr id="8" name="Прямоугольник 9"/>
          <p:cNvSpPr/>
          <p:nvPr/>
        </p:nvSpPr>
        <p:spPr>
          <a:xfrm>
            <a:off x="10130760" y="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Monotype Corsiva"/>
              </a:rPr>
              <a:t>Панова В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1725480" y="412920"/>
            <a:ext cx="9929880" cy="5665680"/>
          </a:xfrm>
          <a:prstGeom prst="rect">
            <a:avLst/>
          </a:prstGeom>
          <a:solidFill>
            <a:srgbClr val="ffffff">
              <a:alpha val="19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1" descr="0_7ac9d_96b9e003_orig.gif"/>
          <p:cNvPicPr/>
          <p:nvPr/>
        </p:nvPicPr>
        <p:blipFill>
          <a:blip r:embed="rId3"/>
          <a:stretch/>
        </p:blipFill>
        <p:spPr>
          <a:xfrm>
            <a:off x="353880" y="285840"/>
            <a:ext cx="11454120" cy="6211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i.jpg"/>
          <p:cNvPicPr/>
          <p:nvPr/>
        </p:nvPicPr>
        <p:blipFill>
          <a:blip r:embed="rId4"/>
          <a:stretch/>
        </p:blipFill>
        <p:spPr>
          <a:xfrm>
            <a:off x="463680" y="412920"/>
            <a:ext cx="1224000" cy="591012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48" name="Прямоугольник 16"/>
          <p:cNvSpPr/>
          <p:nvPr/>
        </p:nvSpPr>
        <p:spPr>
          <a:xfrm>
            <a:off x="1700280" y="385920"/>
            <a:ext cx="9967680" cy="5667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7" descr="hello_html_5495c1c7.png"/>
          <p:cNvPicPr/>
          <p:nvPr/>
        </p:nvPicPr>
        <p:blipFill>
          <a:blip r:embed="rId5"/>
          <a:stretch/>
        </p:blipFill>
        <p:spPr>
          <a:xfrm>
            <a:off x="7932600" y="3811680"/>
            <a:ext cx="3713400" cy="227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10130760" y="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3864"/>
                </a:solidFill>
                <a:latin typeface="Monotype Corsiva"/>
              </a:rPr>
              <a:t>Панова В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Прямоугольник 10" descr=""/>
          <p:cNvPicPr/>
          <p:nvPr/>
        </p:nvPicPr>
        <p:blipFill>
          <a:blip r:embed="rId6"/>
          <a:stretch/>
        </p:blipFill>
        <p:spPr>
          <a:xfrm>
            <a:off x="762120" y="298440"/>
            <a:ext cx="11064600" cy="3693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50CE-12D5-4192-92CB-C363DF3A77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1055-D45B-4720-9F6C-1EAD7ED0D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103480" y="4476600"/>
            <a:ext cx="6095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рок русского языка в 4 –в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Зиганшина Ясмина Фуат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читель начальных классов I категор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1925640" y="1146240"/>
            <a:ext cx="8510760" cy="3187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790640" y="458640"/>
            <a:ext cx="94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e79"/>
                </a:solidFill>
                <a:latin typeface="Monotype Corsiva"/>
                <a:ea typeface="Tahoma"/>
              </a:rPr>
              <a:t>МБОУ «Средняя общеобразовательная школа № 19 г.Йошкар-Ол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одержимое 2"/>
          <p:cNvSpPr/>
          <p:nvPr/>
        </p:nvSpPr>
        <p:spPr>
          <a:xfrm>
            <a:off x="1690560" y="12096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Раз – подняться, потя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Два – согнуться, разогнуть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Три – в ладоши три хлоп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Головою три кив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Пять – руками помах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b14"/>
                </a:solidFill>
                <a:latin typeface="Calibri"/>
              </a:rPr>
              <a:t>Шесть – на место сесть оп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590840" y="311040"/>
            <a:ext cx="11204280" cy="133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schasty.ru/wp-content/uploads/2016/08/jizicheskie-uprazheniy-dly-doshkolnikov.png"/>
          <p:cNvPicPr/>
          <p:nvPr/>
        </p:nvPicPr>
        <p:blipFill>
          <a:blip r:embed="rId2"/>
          <a:stretch/>
        </p:blipFill>
        <p:spPr>
          <a:xfrm>
            <a:off x="7524720" y="1000080"/>
            <a:ext cx="4095720" cy="227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img1.liveinternet.ru/images/attach/c/11/116/418/116418315_18.png"/>
          <p:cNvPicPr/>
          <p:nvPr/>
        </p:nvPicPr>
        <p:blipFill>
          <a:blip r:embed="rId3"/>
          <a:stretch/>
        </p:blipFill>
        <p:spPr>
          <a:xfrm>
            <a:off x="6240600" y="2625840"/>
            <a:ext cx="2228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713400" y="690480"/>
            <a:ext cx="49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2897280" y="196200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f50"/>
                </a:solidFill>
                <a:latin typeface="Monotype Corsiva"/>
                <a:ea typeface="Times New Roman"/>
              </a:rPr>
              <a:t>Упр.295 с.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878120" y="1874880"/>
            <a:ext cx="232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стр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яжёл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ер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кус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289400" y="709560"/>
            <a:ext cx="39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Письмо по памя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5462640" y="1874880"/>
            <a:ext cx="233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о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ага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вари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ирп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ор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Гимнастика для глаз - Упражнения для глаз.mp4" descr=""/>
          <p:cNvPicPr/>
          <p:nvPr/>
        </p:nvPicPr>
        <p:blipFill>
          <a:blip r:embed="rId1"/>
          <a:stretch/>
        </p:blipFill>
        <p:spPr>
          <a:xfrm>
            <a:off x="1779480" y="482760"/>
            <a:ext cx="98586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289400" y="173160"/>
            <a:ext cx="39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«Каждому своё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819440" y="898560"/>
            <a:ext cx="9699480" cy="128736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1 уровень.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Вставь пропущенные оконч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нежн___ покрова, смешно___ клоуна, из бел____ снега, из парн___ молока, из соснов____ б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819440" y="2295360"/>
            <a:ext cx="9699480" cy="1928880"/>
          </a:xfrm>
          <a:prstGeom prst="rect">
            <a:avLst/>
          </a:prstGeom>
          <a:solidFill>
            <a:srgbClr val="7030a0">
              <a:alpha val="42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2 уровень             Напиши существительные и прилагательные в родительном падеж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опушке (зимний лес), на улицах (маленький город), приготовил для (любимой мамы), вышел из (тёплый д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1819440" y="4322880"/>
            <a:ext cx="9699480" cy="1998720"/>
          </a:xfrm>
          <a:prstGeom prst="rect">
            <a:avLst/>
          </a:prstGeom>
          <a:solidFill>
            <a:srgbClr val="0070c0">
              <a:alpha val="9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йди ошибки в написании окончаний имён прилагательных, спиши словосочетания, исправив оши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коло старая дерева, из спелое яблока, белой снега, около большими дома, без тёплые вареж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6620040" y="2365200"/>
            <a:ext cx="60624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3179880" y="2922480"/>
            <a:ext cx="60624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6989760" y="2949480"/>
            <a:ext cx="606600" cy="365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3263760" y="3495600"/>
            <a:ext cx="604800" cy="36504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060640" y="1676520"/>
            <a:ext cx="793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Дорогой друг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Я желаю тебе плодотворного труд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хорошего настроения, крепкого здоров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большого счастья, удач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4590000" y="571680"/>
            <a:ext cx="27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471120" y="681120"/>
            <a:ext cx="48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063880" y="189216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чебник : упр.298, с.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622520" y="1630440"/>
            <a:ext cx="9467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779480" y="1206360"/>
            <a:ext cx="765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ец: Аромат -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ромат свежего хле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учи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етка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рыша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ыжи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такан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ладь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лова для справок: огромный дуб, маленький мальчик, яркое солнце, горячее молоко, соседний дом, лесное озер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3732120" y="45072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«Игра в снеж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2222640" y="1447920"/>
            <a:ext cx="670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Monotype Corsiva"/>
              </a:rPr>
              <a:t>Ум и сердце в работу влож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Monotype Corsiva"/>
              </a:rPr>
              <a:t>Каждой минутой в труде дорож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030560" y="519120"/>
            <a:ext cx="37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ДЕВИЗ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635400" y="3211560"/>
            <a:ext cx="115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Monotype Corsiva"/>
              </a:rPr>
              <a:t>внимательные, активные и стар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3970080" y="174600"/>
            <a:ext cx="45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728720" y="1085760"/>
            <a:ext cx="9880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.        Что обозначает имя прилагательно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предмет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  с) признак предмета   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 в) действие предм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.        На какой вопрос отвечает имя прилагательно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) кто? что?  л) что делает? что сделает?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к) какой? какая? как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.        Как определить род прилагательног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) по вопросу 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л) по существительному, которое с ним связа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4.        Какие окончания имеют прилагательные среднего ро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–ая, -яя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о) –ое, -ее 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 и) –ый, -ий, -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5.        Каким членом предложения чаще всего является прилагательное в предложен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) главным   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н) второстепен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6.       Какое прилагательное является антонимом к слову " неряшливый"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вежливый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е) аккуратный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  о) хлопотли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7.        С чем связано прилагательное в предложен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н) с существительным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  т) с глаголом           с) с нареч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8.        Укажите слово, от которого образовалось прилагательное "водный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) проводка        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) вод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        е) ув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9.        Прилагательное э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) часть слова           и) член предложения         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е) часть ре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313000" y="178596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елеет парус одинок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тумане моря голуб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ищет он в стране далеко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кинул он в краю родн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. Ю. Лермо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13000" y="177336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елее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арус одинок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тумане моря голуб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ищет он в стране далеко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 кинул он в краю родно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. Ю. Лермо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313000" y="178596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безлюдный прос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белевших пол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мотрит весело л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-под черных кудр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. С. Никити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313000" y="178596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безлюдный прос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белевших пол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мотрит весело л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-под черных кудр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. С. Никити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2305080" y="164628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ромыслом серп двурог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авно по небу скользи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м, за рощей, по дорог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дается звон копы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. А. Есе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2305080" y="164628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ромыслом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серп двурог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авно по небу скользи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м, за рощей, по дорог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дается звон копы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. А. Есе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3728880" y="8701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</a:rPr>
              <a:t>Выборочное письм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2305080" y="1646280"/>
            <a:ext cx="609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 горы бежит поток проворн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лесу не молкнет птичий г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гам лесной, и шум нагорный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се вторит весело гром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. И. Тютче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305080" y="1638360"/>
            <a:ext cx="609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 горы бежи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оток проворный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лесу не молкнет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тичий гам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гам лесной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и </a:t>
            </a: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шум нагорный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се вторит весело гром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. И. Тютче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4199040" y="5146560"/>
            <a:ext cx="527040" cy="3477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4432320" y="4286160"/>
            <a:ext cx="527040" cy="347760"/>
          </a:xfrm>
          <a:prstGeom prst="rect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2182680" y="1298520"/>
            <a:ext cx="889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2660"/>
                </a:solidFill>
                <a:latin typeface="Monotype Corsiva"/>
              </a:rPr>
              <a:t>«С русским языком можно творить чудеса»</a:t>
            </a:r>
            <a:r>
              <a:rPr b="1" lang="ru-RU" sz="3600" spc="-1" strike="noStrike">
                <a:solidFill>
                  <a:srgbClr val="00266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660"/>
                </a:solidFill>
                <a:latin typeface="Monotype Corsiva"/>
              </a:rPr>
              <a:t>Константин Паустов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1978200" y="44460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Самоопределение к деятель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812960" y="23018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в любом кусочке хлеб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ы почувствуешь всег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еплоту родно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 неб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вкус добро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 труда.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. Кожев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2440080" y="217656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М.р.,ед.ч., П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3394080" y="376236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Ср.р.,ед.ч., Р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3244680" y="460224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Monotype Corsiva"/>
                <a:ea typeface="Times New Roman"/>
              </a:rPr>
              <a:t>М.р.,ед.ч., Р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868400" y="909720"/>
            <a:ext cx="934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Monotype Corsiva"/>
              </a:rPr>
              <a:t>Родительный падеж имён прилагательных мужского и среднего 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103480" y="2341440"/>
            <a:ext cx="839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.р.                                       -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.п      как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.р.                                       -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8:42:46Z</dcterms:created>
  <dc:creator>Valya</dc:creator>
  <dc:description/>
  <dc:language>en-US</dc:language>
  <cp:lastModifiedBy>RusLan</cp:lastModifiedBy>
  <dcterms:modified xsi:type="dcterms:W3CDTF">2018-01-30T08:16:56Z</dcterms:modified>
  <cp:revision>23</cp:revision>
  <dc:subject/>
  <dc:title>Презентация PowerPoint</dc:title>
</cp:coreProperties>
</file>