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881-F3C1-48AC-9038-C149F1A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1A3-E02A-410E-9D12-719A89B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318-4F26-4095-830F-CD0A2732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A13-E7ED-4445-83A9-A421D864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D005-4945-4F22-98B9-09755ABB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D07-BF67-45B7-840A-6695114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80CD-ED3A-4FEC-92F1-0F71228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754-9E45-48DF-899D-E0C5B809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20B-471D-4646-86C7-24E164C7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9A3A-EDA0-4DC9-AA51-50C05CC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198-02F8-4497-952F-D35D4274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B6D-BA80-4A46-B5E9-F8EAB86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78C3-5AF2-4547-B6AC-974E61A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97AF-8383-477E-AABE-0997612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804-36E6-439D-9128-77E16C2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4A49-83FF-46B7-84C7-F837A218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2C71-B1FC-4766-A9B9-3B9187F9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CA6-63B9-48BA-9F9D-C4CBCC6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207-6CA3-48D9-B544-B122719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9F0-81A8-442B-B9D5-C0D60A5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6CA-B50F-4AF2-A6A8-5651DB6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3E2-E93A-4562-9D5C-AE7727C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963-77A1-4FE7-9B87-4E08E33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E74-43BD-4D9D-AE1D-A7259DB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5CC-62BC-41FB-B607-E274A9ECFC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67C-AA7E-462C-8C73-F248F5F47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6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8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48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10" descr=""/>
          <p:cNvPicPr/>
          <p:nvPr/>
        </p:nvPicPr>
        <p:blipFill>
          <a:blip r:embed="rId6"/>
          <a:stretch/>
        </p:blipFill>
        <p:spPr>
          <a:xfrm>
            <a:off x="762120" y="298440"/>
            <a:ext cx="11064600" cy="3693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9C61-FE03-41F3-8B0B-AF45DF821E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09E-1BE6-4BF0-9387-5C1649231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103480" y="447660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рок русского языка в 4 –в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иганшина Ясмина Фуа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читель начальных классов I катего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1146240"/>
            <a:ext cx="8510760" cy="3187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790640" y="458640"/>
            <a:ext cx="94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одержимое 2"/>
          <p:cNvSpPr/>
          <p:nvPr/>
        </p:nvSpPr>
        <p:spPr>
          <a:xfrm>
            <a:off x="1690560" y="12096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590840" y="311040"/>
            <a:ext cx="11204280" cy="133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schasty.ru/wp-content/uploads/2016/08/jizicheskie-uprazheniy-dly-doshkolnikov.png"/>
          <p:cNvPicPr/>
          <p:nvPr/>
        </p:nvPicPr>
        <p:blipFill>
          <a:blip r:embed="rId2"/>
          <a:stretch/>
        </p:blipFill>
        <p:spPr>
          <a:xfrm>
            <a:off x="7524720" y="1000080"/>
            <a:ext cx="4095720" cy="227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img1.liveinternet.ru/images/attach/c/11/116/418/116418315_18.png"/>
          <p:cNvPicPr/>
          <p:nvPr/>
        </p:nvPicPr>
        <p:blipFill>
          <a:blip r:embed="rId3"/>
          <a:stretch/>
        </p:blipFill>
        <p:spPr>
          <a:xfrm>
            <a:off x="6240600" y="2625840"/>
            <a:ext cx="2228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713400" y="69048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897280" y="196200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95 с.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878120" y="1874880"/>
            <a:ext cx="232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стр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яжё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р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ку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289400" y="7095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Письмо по памя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462640" y="1874880"/>
            <a:ext cx="23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о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ага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вари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ирп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ор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Гимнастика для глаз - Упражнения для глаз.mp4" descr=""/>
          <p:cNvPicPr/>
          <p:nvPr/>
        </p:nvPicPr>
        <p:blipFill>
          <a:blip r:embed="rId1"/>
          <a:stretch/>
        </p:blipFill>
        <p:spPr>
          <a:xfrm>
            <a:off x="1779480" y="482760"/>
            <a:ext cx="9858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289400" y="1731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Каждому своё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819440" y="898560"/>
            <a:ext cx="9699480" cy="128736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1 уровень.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Вставь пропущенные оконч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нежн___ покрова, смешно___ клоуна, из бел____ снега, из парн___ молока, из соснов____ б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819440" y="2295360"/>
            <a:ext cx="9699480" cy="1928880"/>
          </a:xfrm>
          <a:prstGeom prst="rect">
            <a:avLst/>
          </a:prstGeom>
          <a:solidFill>
            <a:srgbClr val="7030a0">
              <a:alpha val="42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2 уровень             Напиши существительные и прилагательные в род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опушке (зимний лес), на улицах (маленький город), приготовил для (любимой мамы), вышел из (тёплый д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819440" y="4322880"/>
            <a:ext cx="9699480" cy="1998720"/>
          </a:xfrm>
          <a:prstGeom prst="rect">
            <a:avLst/>
          </a:prstGeom>
          <a:solidFill>
            <a:srgbClr val="0070c0">
              <a:alpha val="9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йди ошибки в написании окончаний имён прилагательных, спиши словосочетания, исправив оши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коло старая дерева, из спелое яблока, белой снега, около большими дома, без тёплые варе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6620040" y="236520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179880" y="292248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6989760" y="2949480"/>
            <a:ext cx="60660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3263760" y="3495600"/>
            <a:ext cx="604800" cy="36504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060640" y="1676520"/>
            <a:ext cx="793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Дорогой дру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Я желаю тебе плодотворного тру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хорошего настроения, крепкого здоров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большого счастья, 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4590000" y="571680"/>
            <a:ext cx="27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471120" y="681120"/>
            <a:ext cx="48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063880" y="189216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ебник : упр.298, с.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622520" y="1630440"/>
            <a:ext cx="946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779480" y="1206360"/>
            <a:ext cx="765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ец: Аромат -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ромат свежего хле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уч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етка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рыша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ыж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акан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ладь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лова для справок: огромный дуб, маленький мальчик, яркое солнце, горячее молоко, соседний дом, лесное озер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732120" y="4507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Игра в снеж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222640" y="1447920"/>
            <a:ext cx="670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Ум и сердце в работу влож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Каждой минутой в труде дорож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030560" y="51912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35400" y="3211560"/>
            <a:ext cx="115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внимательные, активные и стар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3970080" y="174600"/>
            <a:ext cx="45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728720" y="1085760"/>
            <a:ext cx="9880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        Что обозна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едмет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  с) признак предмета  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 в) действие предм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        На какой вопрос отве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кто? что?  л) что делает? что сделает?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к) какой? какая? как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        Как определить род прилагательн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) по вопросу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л) по существительному, которое с ним связа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        Какие окончания имеют прилагательные среднего р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–ая, -яя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) –ое, -ее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 и) –ый, -ий, -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        Каким членом предложения чаще всего является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главным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н) второстепен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       Какое прилагательное является антонимом к слову " неряшливый"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вежливый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е) аккуратны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о) хлопотл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7.        С чем связано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) с существительным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т) с глаголом           с) с нареч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8.        Укажите слово, от которого образовалось прилагательное "водный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оводка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) вод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 е) ув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9.        Прилагательное э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) часть слова           и) член предложения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е) часть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313000" y="17859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13000" y="17733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05080" y="164628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поток проворн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птичий г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гам лесной, и 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305080" y="163836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оток проворны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тичий гам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гам лесно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4199040" y="51465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4432320" y="42861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2182680" y="1298520"/>
            <a:ext cx="88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660"/>
                </a:solidFill>
                <a:latin typeface="Monotype Corsiva"/>
              </a:rPr>
              <a:t>«С русским языком можно творить чудеса»</a:t>
            </a:r>
            <a:r>
              <a:rPr b="1" lang="ru-RU" sz="3600" spc="-1" strike="noStrike">
                <a:solidFill>
                  <a:srgbClr val="00266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660"/>
                </a:solidFill>
                <a:latin typeface="Monotype Corsiva"/>
              </a:rPr>
              <a:t>Константин Пауст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1978200" y="4446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амоопределение к 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812960" y="23018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в любом кусочке хлеб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ы почувствуешь всег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еплоту родн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неб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вкус добр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труда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. Кожев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2440080" y="21765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П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394080" y="37623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р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3244680" y="460224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868400" y="909720"/>
            <a:ext cx="934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Родительный падеж имён прилагательных 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103480" y="2341440"/>
            <a:ext cx="839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.р.                                       -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.п      ка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.р.                                       -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8:42:46Z</dcterms:created>
  <dc:creator>Valya</dc:creator>
  <dc:description/>
  <dc:language>en-US</dc:language>
  <cp:lastModifiedBy>RusLan</cp:lastModifiedBy>
  <dcterms:modified xsi:type="dcterms:W3CDTF">2018-01-30T08:16:56Z</dcterms:modified>
  <cp:revision>23</cp:revision>
  <dc:subject/>
  <dc:title>Презентация PowerPoint</dc:title>
</cp:coreProperties>
</file>