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5DF-4A15-4456-A304-4F1CC3CE95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5C3-C7A7-4DF5-AA9C-5A9BE13AA34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2F7-6E1D-4FFE-AC84-E19E06C2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C98-84BB-4DBC-A4EE-50EBFCF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829-7706-4C2F-8A3B-671CF4BB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BB0-9F36-4064-900C-E25E8ECE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B4A-E1B8-4198-A207-D78C515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90F-87E8-4820-8278-8AEDF2C0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FC5-437D-45F2-ADE5-E2AC4D8B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048-8AF4-48FA-ACD3-A74F0718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48B-C11A-4CDC-BCAD-18E8E8C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14E-6067-4B4D-B611-AEE96F4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A6B-926F-4E02-AE9D-47C0936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2C6-6AF8-4B52-A48B-51680C1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3F8-515A-4B40-86E7-3F80E4DAE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128600" y="4923000"/>
            <a:ext cx="66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Урок русского языка в 4 –в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Зиганшина Ясмина Фуат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учитель начальных классов I катег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249200" y="1492200"/>
            <a:ext cx="664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f50"/>
                </a:solidFill>
                <a:latin typeface="Monotype Corsiva"/>
              </a:rPr>
              <a:t>Правописание безударных падежных окончаний имен прилагательны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f50"/>
                </a:solidFill>
                <a:latin typeface="Monotype Corsiva"/>
              </a:rPr>
              <a:t>мужского и среднего 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52600" y="22716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МБОУ «Средняя общеобразовательная школа № 19 г.Йошкар-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3419640" y="30492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3419640" y="10666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 285 с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9"/>
          <p:cNvSpPr/>
          <p:nvPr/>
        </p:nvSpPr>
        <p:spPr>
          <a:xfrm>
            <a:off x="2724120" y="3083040"/>
            <a:ext cx="423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Гимнастика для глаз - Упражнения для глаз.mp4" descr=""/>
          <p:cNvPicPr/>
          <p:nvPr/>
        </p:nvPicPr>
        <p:blipFill>
          <a:blip r:embed="rId2"/>
          <a:stretch/>
        </p:blipFill>
        <p:spPr>
          <a:xfrm>
            <a:off x="399960" y="299880"/>
            <a:ext cx="81853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400480" y="115884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Алгорит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57360" y="20368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Найти  в предложении существительное, к которому относится прилагательное, определить род и паде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Вспомнить окончание прилагательного в этом пад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Сравнить окончание прилагательного и окончание вопроса, на который оно отвеч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Users\Bulat\Desktop\konstrukt_uroka_po_litieraturnomu_chtieniiu_na_tiemu_v_a_osieieva_volshiebnoie_s_2.jpeg"/>
          <p:cNvPicPr/>
          <p:nvPr/>
        </p:nvPicPr>
        <p:blipFill>
          <a:blip r:embed="rId2"/>
          <a:stretch/>
        </p:blipFill>
        <p:spPr>
          <a:xfrm>
            <a:off x="3886200" y="1239840"/>
            <a:ext cx="3838680" cy="1305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4059360" y="264780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весёлое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  <a:ea typeface="Times New Roman"/>
              </a:rPr>
              <a:t>спокойное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груст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-976320" y="3679200"/>
            <a:ext cx="1030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пробуйте выразить свои чувства, используя сл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меня было важным и интересны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 этому вопросу я получил разъяснени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не было труд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меня было недостаточ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вои знания я могу применить в жизни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3419640" y="162864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чебник : упр.286, с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900000" y="2403360"/>
            <a:ext cx="782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f5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781200" y="484200"/>
            <a:ext cx="771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Упражнение «Подбери прилагательны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.ему брату, из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его молока, в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 доме, …ым цветом, до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го берега, над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ым зайцем, по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у платью, от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го дождя, пр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 морозе, 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у фла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787920" y="1263600"/>
            <a:ext cx="4440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Думать – интенс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Работать – опера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Если спорить – дока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Всем - обя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030560" y="409680"/>
            <a:ext cx="37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ЕВИЗ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dszaliv.tar.obr55.ru/files/2017/02/1.jpg"/>
          <p:cNvPicPr/>
          <p:nvPr/>
        </p:nvPicPr>
        <p:blipFill>
          <a:blip r:embed="rId2"/>
          <a:stretch/>
        </p:blipFill>
        <p:spPr>
          <a:xfrm>
            <a:off x="268200" y="3591000"/>
            <a:ext cx="2681280" cy="2790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1" descr="C:\Users\Bulat\Desktop\konstrukt_uroka_po_litieraturnomu_chtieniiu_na_tiemu_v_a_osieieva_volshiebnoie_s_2.jpeg"/>
          <p:cNvPicPr/>
          <p:nvPr/>
        </p:nvPicPr>
        <p:blipFill>
          <a:blip r:embed="rId3"/>
          <a:stretch/>
        </p:blipFill>
        <p:spPr>
          <a:xfrm>
            <a:off x="4000680" y="4268880"/>
            <a:ext cx="383832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4021200" y="558180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весёлое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  <a:ea typeface="Times New Roman"/>
              </a:rPr>
              <a:t>спокойное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груст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ri_belyh_konya_-_Tri_belyh_konya.mp3" descr=""/>
          <p:cNvPicPr/>
          <p:nvPr/>
        </p:nvPicPr>
        <p:blipFill>
          <a:blip r:embed="rId4"/>
          <a:stretch/>
        </p:blipFill>
        <p:spPr>
          <a:xfrm>
            <a:off x="8039160" y="6076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78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playcast.ru/uploads/2016/01/23/16940230.png"/>
          <p:cNvPicPr/>
          <p:nvPr/>
        </p:nvPicPr>
        <p:blipFill>
          <a:blip r:embed="rId2"/>
          <a:stretch/>
        </p:blipFill>
        <p:spPr>
          <a:xfrm>
            <a:off x="209520" y="190440"/>
            <a:ext cx="8715240" cy="66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787920" y="1263600"/>
            <a:ext cx="4440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Кто, угадай-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Седая хозяй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Тряхнёт перин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Над миром пушинк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029120" y="399960"/>
            <a:ext cx="44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s://img-fotki.yandex.ru/get/67184/193359099.c1/0_13138b_3145412_orig"/>
          <p:cNvPicPr/>
          <p:nvPr/>
        </p:nvPicPr>
        <p:blipFill>
          <a:blip r:embed="rId3"/>
          <a:stretch/>
        </p:blipFill>
        <p:spPr>
          <a:xfrm>
            <a:off x="291960" y="5043600"/>
            <a:ext cx="3495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3797280" y="409680"/>
            <a:ext cx="42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429080" y="4113360"/>
            <a:ext cx="3625920" cy="2678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3514680" y="1309680"/>
            <a:ext cx="5276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Что такое имя прилага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Как могут изменяться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Для чего используют в речи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400560" y="40968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Самоопределение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еятель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457440" y="2552760"/>
            <a:ext cx="5276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На холмист… поле траву замело сыпуч… снегом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515280" y="2276640"/>
            <a:ext cx="84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4317840" y="2249640"/>
            <a:ext cx="84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6939000" y="3343320"/>
            <a:ext cx="84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35680" y="3343320"/>
            <a:ext cx="84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5248440" y="22766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5695920" y="326700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517680" y="1646280"/>
            <a:ext cx="8108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038240" y="719280"/>
            <a:ext cx="68295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золотого                спел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большому              сказочн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морское                 сер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сухим                     заботлив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(о) родном              (о) майс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414520" y="3762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2414520" y="11145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428920" y="17096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1857240" y="23940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2724120" y="30830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5415120" y="37620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5391000" y="11145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078520" y="177336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5630760" y="24573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5945040" y="30798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1038240" y="4367160"/>
            <a:ext cx="750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Безударные падежные окончания имен прилагательных пишутся так  же, как и ударные, кроме прилагательных мужского рода  в именительном падеж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2"/>
          <p:cNvSpPr/>
          <p:nvPr/>
        </p:nvSpPr>
        <p:spPr>
          <a:xfrm>
            <a:off x="395280" y="120960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Шесть – на место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171360" y="262080"/>
            <a:ext cx="8454960" cy="174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schasty.ru/wp-content/uploads/2016/08/jizicheskie-uprazheniy-dly-doshkolnikov.png"/>
          <p:cNvPicPr/>
          <p:nvPr/>
        </p:nvPicPr>
        <p:blipFill>
          <a:blip r:embed="rId3"/>
          <a:stretch/>
        </p:blipFill>
        <p:spPr>
          <a:xfrm>
            <a:off x="5643720" y="1000080"/>
            <a:ext cx="3071520" cy="227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img1.liveinternet.ru/images/attach/c/11/116/418/116418315_18.png"/>
          <p:cNvPicPr/>
          <p:nvPr/>
        </p:nvPicPr>
        <p:blipFill>
          <a:blip r:embed="rId4"/>
          <a:stretch/>
        </p:blipFill>
        <p:spPr>
          <a:xfrm>
            <a:off x="6286680" y="3500280"/>
            <a:ext cx="1671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9"/>
          <p:cNvSpPr/>
          <p:nvPr/>
        </p:nvSpPr>
        <p:spPr>
          <a:xfrm>
            <a:off x="2724120" y="3083040"/>
            <a:ext cx="423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7"/>
          <p:cNvSpPr/>
          <p:nvPr/>
        </p:nvSpPr>
        <p:spPr>
          <a:xfrm>
            <a:off x="3400560" y="4096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3400560" y="17524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284 с.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s://ds02.infourok.ru/uploads/ex/09d1/0002b568-200d9c8a/hello_html_246cd72c.gif"/>
          <p:cNvPicPr/>
          <p:nvPr/>
        </p:nvPicPr>
        <p:blipFill>
          <a:blip r:embed="rId2"/>
          <a:stretch/>
        </p:blipFill>
        <p:spPr>
          <a:xfrm>
            <a:off x="5415120" y="3767040"/>
            <a:ext cx="3020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Bulat</cp:lastModifiedBy>
  <dcterms:modified xsi:type="dcterms:W3CDTF">2022-11-17T17:34:14Z</dcterms:modified>
  <cp:revision>49</cp:revision>
  <dc:subject/>
  <dc:title>Презентация PowerPoint</dc:title>
</cp:coreProperties>
</file>