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848-A1C4-4CB0-BCAD-68C0FD399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C6F5-DE87-486F-B4EE-8867C3E923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9B8-0AF6-4E2F-902F-98853DF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4C9-AF65-47FF-8749-8270DF35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6CF-929D-4A17-BEAE-51CE200B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FE7-20B3-4ECC-8897-571ADBE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9B9-E533-49C9-B626-9574783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0A6-56A8-4633-AABE-CDC74E8C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E9E-94E0-4646-9043-CF6CB35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390-9B8F-4AB2-86EA-93CBCD58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67C-FEF1-4535-89E9-356234DD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82E-7622-45EC-879C-1ADCF70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9A3-ABE1-4033-B3FB-C46E446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D0C-827C-4A7A-B35D-B3558D8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E2D-D900-4549-93D8-47D03C3C6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128600" y="4923000"/>
            <a:ext cx="66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рок русского языка в 4 –в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Зиганшина Ясмина Фуат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читель начальных классов I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249200" y="1492200"/>
            <a:ext cx="664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Правописание безударных падежных окончаний имен прилагатель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52600" y="22716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3419640" y="30492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3419640" y="1066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 285 с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Гимнастика для глаз - Упражнения для глаз.mp4" descr=""/>
          <p:cNvPicPr/>
          <p:nvPr/>
        </p:nvPicPr>
        <p:blipFill>
          <a:blip r:embed="rId2"/>
          <a:stretch/>
        </p:blipFill>
        <p:spPr>
          <a:xfrm>
            <a:off x="399960" y="299880"/>
            <a:ext cx="81853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00480" y="115884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Алгорит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57360" y="20368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Найти  в предложении существительное, к которому относится прилагательное, определить род и паде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Вспомнить окончание прилагательного в этом пад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Сравнить окончание прилагательного и окончание вопроса, на который оно отвеч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Bulat\Desktop\konstrukt_uroka_po_litieraturnomu_chtieniiu_na_tiemu_v_a_osieieva_volshiebnoie_s_2.jpeg"/>
          <p:cNvPicPr/>
          <p:nvPr/>
        </p:nvPicPr>
        <p:blipFill>
          <a:blip r:embed="rId2"/>
          <a:stretch/>
        </p:blipFill>
        <p:spPr>
          <a:xfrm>
            <a:off x="3886200" y="1239840"/>
            <a:ext cx="3838680" cy="1305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4059360" y="2647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-976320" y="3679200"/>
            <a:ext cx="1030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пробуйте выразить свои чувства, используя сл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важным и интересны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 этому вопросу я получил разъяснени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не было труд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недостаточ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вои знания я могу применить в жизни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3419640" y="162864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чебник : упр.286, с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900000" y="2403360"/>
            <a:ext cx="782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f5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781200" y="484200"/>
            <a:ext cx="771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Упражнение «Подбери прилагательны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.ему брату, из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его молока, в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доме, …ым цветом, д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берега, над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ым зайцем, п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платью, от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дождя, пр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морозе, 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фла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787920" y="1263600"/>
            <a:ext cx="4440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Думать – интенс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Работать – опера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Если спорить – дока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Всем - обя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30560" y="40968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dszaliv.tar.obr55.ru/files/2017/02/1.jpg"/>
          <p:cNvPicPr/>
          <p:nvPr/>
        </p:nvPicPr>
        <p:blipFill>
          <a:blip r:embed="rId2"/>
          <a:stretch/>
        </p:blipFill>
        <p:spPr>
          <a:xfrm>
            <a:off x="268200" y="3591000"/>
            <a:ext cx="2681280" cy="2790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1" descr="C:\Users\Bulat\Desktop\konstrukt_uroka_po_litieraturnomu_chtieniiu_na_tiemu_v_a_osieieva_volshiebnoie_s_2.jpeg"/>
          <p:cNvPicPr/>
          <p:nvPr/>
        </p:nvPicPr>
        <p:blipFill>
          <a:blip r:embed="rId3"/>
          <a:stretch/>
        </p:blipFill>
        <p:spPr>
          <a:xfrm>
            <a:off x="4000680" y="4268880"/>
            <a:ext cx="383832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4021200" y="5581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ri_belyh_konya_-_Tri_belyh_konya.mp3" descr=""/>
          <p:cNvPicPr/>
          <p:nvPr/>
        </p:nvPicPr>
        <p:blipFill>
          <a:blip r:embed="rId4"/>
          <a:stretch/>
        </p:blipFill>
        <p:spPr>
          <a:xfrm>
            <a:off x="8039160" y="6076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78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laycast.ru/uploads/2016/01/23/16940230.png"/>
          <p:cNvPicPr/>
          <p:nvPr/>
        </p:nvPicPr>
        <p:blipFill>
          <a:blip r:embed="rId2"/>
          <a:stretch/>
        </p:blipFill>
        <p:spPr>
          <a:xfrm>
            <a:off x="209520" y="190440"/>
            <a:ext cx="8715240" cy="66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787920" y="1263600"/>
            <a:ext cx="4440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Кто, угадай-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Седая хозяй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Тряхнёт перин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Над миром пушин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029120" y="39996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s://img-fotki.yandex.ru/get/67184/193359099.c1/0_13138b_3145412_orig"/>
          <p:cNvPicPr/>
          <p:nvPr/>
        </p:nvPicPr>
        <p:blipFill>
          <a:blip r:embed="rId3"/>
          <a:stretch/>
        </p:blipFill>
        <p:spPr>
          <a:xfrm>
            <a:off x="291960" y="5043600"/>
            <a:ext cx="3495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3797280" y="409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429080" y="4113360"/>
            <a:ext cx="3625920" cy="2678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514680" y="1309680"/>
            <a:ext cx="5276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Что такое имя прилага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Как могут изменяться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Для чего используют в речи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400560" y="40968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определение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457440" y="2552760"/>
            <a:ext cx="5276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На холмист… поле траву замело сыпуч… снего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515280" y="227664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4317840" y="224964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6939000" y="334332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35680" y="334332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5248440" y="2276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695920" y="32670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517680" y="1646280"/>
            <a:ext cx="8108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038240" y="719280"/>
            <a:ext cx="6829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золотого                спел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большому              сказочн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морское                 сер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сухим                     заботлив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(о) родном              (о) майс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414520" y="3762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41452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428920" y="1709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857240" y="23940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2724120" y="30830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415120" y="3762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39100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078520" y="177336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630760" y="24573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5945040" y="30798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1038240" y="4367160"/>
            <a:ext cx="750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Безударные падежные окончания имен прилагательных пишутся так  же, как и ударные, кроме прилагательных мужского рода  в имен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2"/>
          <p:cNvSpPr/>
          <p:nvPr/>
        </p:nvSpPr>
        <p:spPr>
          <a:xfrm>
            <a:off x="395280" y="120960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8454960" cy="174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schasty.ru/wp-content/uploads/2016/08/jizicheskie-uprazheniy-dly-doshkolnikov.png"/>
          <p:cNvPicPr/>
          <p:nvPr/>
        </p:nvPicPr>
        <p:blipFill>
          <a:blip r:embed="rId3"/>
          <a:stretch/>
        </p:blipFill>
        <p:spPr>
          <a:xfrm>
            <a:off x="5643720" y="1000080"/>
            <a:ext cx="3071520" cy="227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g1.liveinternet.ru/images/attach/c/11/116/418/116418315_18.png"/>
          <p:cNvPicPr/>
          <p:nvPr/>
        </p:nvPicPr>
        <p:blipFill>
          <a:blip r:embed="rId4"/>
          <a:stretch/>
        </p:blipFill>
        <p:spPr>
          <a:xfrm>
            <a:off x="6286680" y="3500280"/>
            <a:ext cx="1671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3400560" y="409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3400560" y="17524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84 с.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s://ds02.infourok.ru/uploads/ex/09d1/0002b568-200d9c8a/hello_html_246cd72c.gif"/>
          <p:cNvPicPr/>
          <p:nvPr/>
        </p:nvPicPr>
        <p:blipFill>
          <a:blip r:embed="rId2"/>
          <a:stretch/>
        </p:blipFill>
        <p:spPr>
          <a:xfrm>
            <a:off x="5415120" y="3767040"/>
            <a:ext cx="3020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Bulat</cp:lastModifiedBy>
  <dcterms:modified xsi:type="dcterms:W3CDTF">2022-11-17T17:34:14Z</dcterms:modified>
  <cp:revision>49</cp:revision>
  <dc:subject/>
  <dc:title>Презентация PowerPoint</dc:title>
</cp:coreProperties>
</file>