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drumroll.wav" ContentType="audio/x-wav"/>
  <Override PartName="/ppt/media/image26.jpeg" ContentType="image/jpeg"/>
  <Override PartName="/ppt/media/image4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23.jpeg" ContentType="image/jpeg"/>
  <Override PartName="/ppt/media/image49.png" ContentType="image/png"/>
  <Override PartName="/ppt/media/image3.jpeg" ContentType="image/jpeg"/>
  <Override PartName="/ppt/media/image25.jpeg" ContentType="image/jpeg"/>
  <Override PartName="/ppt/media/image10.jpeg" ContentType="image/jpeg"/>
  <Override PartName="/ppt/media/image28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19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EBDA-C308-4AD8-9B1D-73D40D7B6A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B37-835C-459F-835E-5AE5AE7C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3DC-6804-446D-B0FE-6FCB8018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690-404B-4C14-BD50-B5286058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958-E58F-4D6A-8FEC-F491AE12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3A61-394B-41EF-BD13-1017EFBE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041F-2186-4BAD-A0DC-EBE184FC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FDAD-A2A7-461F-A79D-FCC4655D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CA6A-B2FB-4326-82AD-19A8CA36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6A08-9A42-4C72-9740-E67B9A8F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0BA5-B601-4441-8052-6BC73770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DF30-0E7C-4F6B-9DBC-EE34759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EBA-79F7-4030-9DE3-4AA2B9D5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D6C0-6252-48E8-B58B-0CA871F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B56F-817A-4FDD-B83D-A1BFCA4C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7B46-5CC5-43CD-B452-C5EE1564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2400-CB68-4D38-B277-650471D6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F89-3D48-45CF-B34F-33906764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4D0B-9B56-4418-8BFA-DD7D0F13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32E82-E812-467B-B745-CBFCAFF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9D87-F3B0-4BAB-9652-FB572995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2222-1BB5-460D-A0FE-3796F958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7098C-CFD7-4E94-95B7-9059FF5F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50B-5BCE-4C22-8117-312A1BE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06BF-CA66-4F28-BAEC-B8B207A3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C9A5-3750-41BD-A154-D23874E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937C-56F9-4C1F-A915-220B54CE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43DF-F2F0-4D9A-BED0-DC445293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49C6-B30E-47F1-9BE4-BDAD1382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B687-62DD-4107-B335-1B7D6845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AB8B4-C2B2-4782-9E16-695B2785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F149-E748-442D-A434-C384D94A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74E63-9324-459F-B6D6-50798FF0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96139-D10C-4B79-8B2E-6C9B3B1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399-23E2-4724-8D55-B83CFCDB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5495-E5B2-4DAB-BE2F-C5E9B182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4EC0-FCFF-408B-87D6-F8A3E3DF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FEA2-9AD8-45D1-933C-A9670DBE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CD4B-A2A6-4075-8248-F087999B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B19D-78E9-4341-A7DB-7963093B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245F-2CD5-44CD-8148-12A0DFCF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1027-5538-466E-86FE-C337D603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F3EE-8AC5-4FF2-A372-3A1CE1F5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743F-8720-4900-8764-90044B42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DEB-240C-4508-99BC-9A15ACE2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A52-7F9A-4ECB-A19A-229B9F26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6E7-6EF0-45AB-88C8-AF910BB4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12E-953B-4D12-A05E-9F53624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27E-1A55-499A-89B2-0A4DA49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F568-A703-4FCE-BCB3-43E1016455D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6C4E-861C-4CD7-AD0B-F2ABE4F308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815F-EA10-40F0-9D68-DFCBAE3A385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10BD-14A7-4F4E-A661-3EBCA8B2AC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ED85-2E71-4507-85AC-0FB18D6B1C9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BFEB-D640-4A8E-A9DD-94900E23AE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33F2-CC98-474D-BA40-7CC7DD585C7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апрыкина Т.В. МБОУ СШ №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F898-BA4C-4C5B-B391-4F242EE4DC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" Target="slide3.xml"/><Relationship Id="rId5" Type="http://schemas.openxmlformats.org/officeDocument/2006/relationships/image" Target="../media/image20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google.ru/url?sa=i&amp;rct=j&amp;q=&amp;esrc=s&amp;source=images&amp;cd=&amp;cad=rja&amp;uact=8&amp;ved=0ahUKEwj9gsOl7_7RAhUHDSwKHUeYCIQQjRwIBw&amp;url=http%3A%2F%2Fxn----8sbiecm6bhdx8i.xn--p1ai%2Fnode%2F1038&amp;psig=AFQjCNH2OBO3edNd7wmxwYvY9hGBH6Gpxg&amp;ust=1486587270733039" TargetMode="External"/><Relationship Id="rId2" Type="http://schemas.openxmlformats.org/officeDocument/2006/relationships/hyperlink" Target="https://www.google.ru/url?sa=i&amp;rct=j&amp;q=&amp;esrc=s&amp;source=images&amp;cd=&amp;cad=rja&amp;uact=8&amp;ved=0ahUKEwj9gsOl7_7RAhUHDSwKHUeYCIQQjRwIBw&amp;url=http%3A%2F%2Fxn----8sbiecm6bhdx8i.xn--p1ai%2Fnode%2F1038&amp;psig=AFQjCNH2OBO3edNd7wmxwYvY9hGBH6Gpxg&amp;ust=1486587270733039" TargetMode="External"/><Relationship Id="rId3" Type="http://schemas.openxmlformats.org/officeDocument/2006/relationships/image" Target="../media/image22.png"/><Relationship Id="rId4" Type="http://schemas.openxmlformats.org/officeDocument/2006/relationships/slide" Target="slide3.xml"/><Relationship Id="rId5" Type="http://schemas.openxmlformats.org/officeDocument/2006/relationships/image" Target="../media/image1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3.xml"/><Relationship Id="rId3" Type="http://schemas.openxmlformats.org/officeDocument/2006/relationships/image" Target="../media/image2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.xml"/><Relationship Id="rId3" Type="http://schemas.openxmlformats.org/officeDocument/2006/relationships/image" Target="../media/image29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9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3.xml"/><Relationship Id="rId3" Type="http://schemas.openxmlformats.org/officeDocument/2006/relationships/image" Target="../media/image3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3.xml"/><Relationship Id="rId3" Type="http://schemas.openxmlformats.org/officeDocument/2006/relationships/image" Target="../media/image3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3.xml"/><Relationship Id="rId3" Type="http://schemas.openxmlformats.org/officeDocument/2006/relationships/image" Target="../media/image3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3.xml"/><Relationship Id="rId3" Type="http://schemas.openxmlformats.org/officeDocument/2006/relationships/image" Target="../media/image40.png"/><Relationship Id="rId4" Type="http://schemas.openxmlformats.org/officeDocument/2006/relationships/slide" Target="slide3.xml"/><Relationship Id="rId5" Type="http://schemas.openxmlformats.org/officeDocument/2006/relationships/image" Target="../media/image4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9.xml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42.png"/><Relationship Id="rId3" Type="http://schemas.openxmlformats.org/officeDocument/2006/relationships/slide" Target="slide32.xml"/><Relationship Id="rId4" Type="http://schemas.openxmlformats.org/officeDocument/2006/relationships/image" Target="../media/image42.png"/><Relationship Id="rId5" Type="http://schemas.openxmlformats.org/officeDocument/2006/relationships/slide" Target="slide33.xml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66a28"/>
                </a:solidFill>
                <a:latin typeface="Georgia"/>
              </a:rPr>
              <a:t>Своя иг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56000" y="2204640"/>
            <a:ext cx="619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нимательная биолог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ля учащихся 5-6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3276720" y="4365720"/>
            <a:ext cx="53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читель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ГОБУ  СШ  пгт Подосино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охина Елен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http://4.bp.blogspot.com/-rHjfpfYFAco/UJ87ec_i2UI/AAAAAAAAAaQ/3pnmMGx8Sb4/s1600/%D1%81%D0%BE%D0%B2%D0%B02.png"/>
          <p:cNvPicPr/>
          <p:nvPr/>
        </p:nvPicPr>
        <p:blipFill>
          <a:blip r:embed="rId1"/>
          <a:stretch/>
        </p:blipFill>
        <p:spPr>
          <a:xfrm>
            <a:off x="10117080" y="4270320"/>
            <a:ext cx="1903320" cy="25876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915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акое слово объединяет следующие прилагательные: лестничная, шахматная, грудная, растительная, нервная, мышечная, птичья, зверина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3699000" y="44370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44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46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50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одним словом: растения, грибы, животные и бактер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3414240" y="429264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Ц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53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55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50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одним словом  плесень, сыроежку, дрожж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3630600" y="580536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5" descr="5.jpg"/>
          <p:cNvPicPr/>
          <p:nvPr/>
        </p:nvPicPr>
        <p:blipFill>
          <a:blip r:embed="rId1"/>
          <a:stretch/>
        </p:blipFill>
        <p:spPr>
          <a:xfrm>
            <a:off x="6156360" y="3716280"/>
            <a:ext cx="2655720" cy="18367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7" descr="plesen2.jpg"/>
          <p:cNvPicPr/>
          <p:nvPr/>
        </p:nvPicPr>
        <p:blipFill>
          <a:blip r:embed="rId2"/>
          <a:stretch/>
        </p:blipFill>
        <p:spPr>
          <a:xfrm>
            <a:off x="395280" y="3716280"/>
            <a:ext cx="2592360" cy="1824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8" descr="syroezhka-4.jpg"/>
          <p:cNvPicPr/>
          <p:nvPr/>
        </p:nvPicPr>
        <p:blipFill>
          <a:blip r:embed="rId3"/>
          <a:stretch/>
        </p:blipFill>
        <p:spPr>
          <a:xfrm>
            <a:off x="3348000" y="37162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9" descr="зеленый-лист-1529358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29520" y="5516640"/>
            <a:ext cx="1670040" cy="10126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9" descr="2222.jpg"/>
          <p:cNvPicPr/>
          <p:nvPr/>
        </p:nvPicPr>
        <p:blipFill>
          <a:blip r:embed="rId6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65" name="Блок-схема: решение 14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67" name="Блок-схема: решение 16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Блок-схема: решение 17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50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зовите одним словом хлоропласты, хромопласты, лейкоплас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4356720" y="39337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ЛАСТ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5" descr="50.jpg"/>
          <p:cNvPicPr/>
          <p:nvPr/>
        </p:nvPicPr>
        <p:blipFill>
          <a:blip r:embed="rId1"/>
          <a:stretch/>
        </p:blipFill>
        <p:spPr>
          <a:xfrm>
            <a:off x="1258920" y="2852640"/>
            <a:ext cx="2976480" cy="37054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7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7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50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ая птица самая маленькая на свет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354480" y="558972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ОЛИБ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1"/>
          </p:cNvPr>
          <p:cNvSpPr/>
          <p:nvPr/>
        </p:nvSpPr>
        <p:spPr>
          <a:xfrm>
            <a:off x="54000" y="-944640"/>
            <a:ext cx="30481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>
            <a:hlinkClick r:id="rId2"/>
          </p:cNvPr>
          <p:cNvSpPr/>
          <p:nvPr/>
        </p:nvSpPr>
        <p:spPr>
          <a:xfrm>
            <a:off x="54000" y="-944640"/>
            <a:ext cx="30481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8" descr="untitled.png"/>
          <p:cNvPicPr/>
          <p:nvPr/>
        </p:nvPicPr>
        <p:blipFill>
          <a:blip r:embed="rId3"/>
          <a:stretch/>
        </p:blipFill>
        <p:spPr>
          <a:xfrm>
            <a:off x="2411280" y="2924280"/>
            <a:ext cx="4002120" cy="25812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зеленый-лист-1529358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2222.jpg"/>
          <p:cNvPicPr/>
          <p:nvPr/>
        </p:nvPicPr>
        <p:blipFill>
          <a:blip r:embed="rId6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87" name="Блок-схема: решение 14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89" name="Блок-схема: решение 16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Блок-схема: решение 17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5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амое быстрое животное суши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2690640" y="5805360"/>
            <a:ext cx="42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ЕПАРД, 110 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5" descr="1456411981_aziatskiy-gepard-interesnye-fakty-foto-i-kratkoe-opisanie.jpg"/>
          <p:cNvPicPr/>
          <p:nvPr/>
        </p:nvPicPr>
        <p:blipFill>
          <a:blip r:embed="rId1"/>
          <a:stretch/>
        </p:blipFill>
        <p:spPr>
          <a:xfrm>
            <a:off x="2411280" y="3068640"/>
            <a:ext cx="4645080" cy="232236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8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97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99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50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ая нить в природе самая тонка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3564720" y="57326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АУ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5" descr="1404288722_k-chemu-prisnilas-pautina.jpg"/>
          <p:cNvPicPr/>
          <p:nvPr/>
        </p:nvPicPr>
        <p:blipFill>
          <a:blip r:embed="rId1"/>
          <a:stretch/>
        </p:blipFill>
        <p:spPr>
          <a:xfrm>
            <a:off x="2771640" y="3068640"/>
            <a:ext cx="3602160" cy="270504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97520" y="5297400"/>
            <a:ext cx="203544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0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09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50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ой паук самый большой на Земле?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2779560" y="580536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АУК-ПТИЦЕ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5" descr="Мексиканский-паук-птицеед-на-ладони.jpg"/>
          <p:cNvPicPr/>
          <p:nvPr/>
        </p:nvPicPr>
        <p:blipFill>
          <a:blip r:embed="rId1"/>
          <a:stretch/>
        </p:blipFill>
        <p:spPr>
          <a:xfrm>
            <a:off x="2843280" y="3141720"/>
            <a:ext cx="3424320" cy="26971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4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1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19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50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– самое…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амая большая змея на Земл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2433960" y="5805360"/>
            <a:ext cx="46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НАКОНДА, ДО 9 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5" descr="anaconda17.jpg"/>
          <p:cNvPicPr/>
          <p:nvPr/>
        </p:nvPicPr>
        <p:blipFill>
          <a:blip r:embed="rId1"/>
          <a:stretch/>
        </p:blipFill>
        <p:spPr>
          <a:xfrm>
            <a:off x="2195640" y="3141720"/>
            <a:ext cx="4860720" cy="27352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56440" y="5510160"/>
            <a:ext cx="1743120" cy="10191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27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29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9" dur="50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 этого вида приматов хвост за ненадобностью отпа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3489480" y="4437000"/>
            <a:ext cx="23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36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38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50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Если сравнить лису с автомобилем, то какая часть тела выполняет функцию руля, т.е. помогает быстро поменять направление движ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773160" y="443700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В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45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47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50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611280" y="1700280"/>
            <a:ext cx="77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рупная ночная  хищная птица с мягким рыхлым оперением и приметными перьевыми ушками на голове. Гнезда не строят. Яйца откладывают в ямки на  земле, в нишах скал, птенцы появляются 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2"/>
          <p:cNvGrpSpPr/>
          <p:nvPr/>
        </p:nvGrpSpPr>
        <p:grpSpPr>
          <a:xfrm>
            <a:off x="2195640" y="3284640"/>
            <a:ext cx="4897440" cy="3305880"/>
            <a:chOff x="2195640" y="3284640"/>
            <a:chExt cx="4897440" cy="3305880"/>
          </a:xfrm>
        </p:grpSpPr>
        <p:sp>
          <p:nvSpPr>
            <p:cNvPr id="352" name="TextBox 12"/>
            <p:cNvSpPr/>
            <p:nvPr/>
          </p:nvSpPr>
          <p:spPr>
            <a:xfrm>
              <a:off x="3840120" y="6069960"/>
              <a:ext cx="16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mic Sans MS"/>
                </a:rPr>
                <a:t>ФИЛ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Picture 2" descr="http://novoeplamya.org/wp-content/uploads/2015/03/filin.jpg"/>
            <p:cNvPicPr/>
            <p:nvPr/>
          </p:nvPicPr>
          <p:blipFill>
            <a:blip r:embed="rId1"/>
            <a:stretch/>
          </p:blipFill>
          <p:spPr>
            <a:xfrm>
              <a:off x="2195640" y="3284640"/>
              <a:ext cx="4897440" cy="289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4" name="Рисунок 8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56440" y="5473800"/>
            <a:ext cx="1743120" cy="10555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56" name="Блок-схема: решение 14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58" name="Блок-схема: решение 16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Блок-схема: решение 17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50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Эти странные нелетающие птицы из Новой Зеландии живут в норах под землей и лишь по ночам выбираются из них. Название этих птиц созвучно с названием тропического фрук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3426840" y="53006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И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0" descr="kiwi_4.jpg"/>
          <p:cNvPicPr/>
          <p:nvPr/>
        </p:nvPicPr>
        <p:blipFill>
          <a:blip r:embed="rId4"/>
          <a:stretch/>
        </p:blipFill>
        <p:spPr>
          <a:xfrm>
            <a:off x="804960" y="4653000"/>
            <a:ext cx="2536560" cy="172872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1" descr="456727.jpg"/>
          <p:cNvPicPr/>
          <p:nvPr/>
        </p:nvPicPr>
        <p:blipFill>
          <a:blip r:embed="rId5"/>
          <a:stretch/>
        </p:blipFill>
        <p:spPr>
          <a:xfrm>
            <a:off x="4788000" y="4653000"/>
            <a:ext cx="2252520" cy="1728720"/>
          </a:xfrm>
          <a:prstGeom prst="rect">
            <a:avLst/>
          </a:prstGeom>
          <a:ln w="0">
            <a:noFill/>
          </a:ln>
        </p:spPr>
      </p:pic>
      <p:sp>
        <p:nvSpPr>
          <p:cNvPr id="367" name="Блок-схема: решение 12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69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50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живот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Эти удивительные животные подкладывают свои яйца в гнезда других птиц. А когда из яйца появляется птенец, он выкидывает из гнезда яйца других птиц и их птенц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4427640" y="537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5" descr="зеленый-лист-1529358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9" descr="2222.jpg"/>
          <p:cNvPicPr/>
          <p:nvPr/>
        </p:nvPicPr>
        <p:blipFill>
          <a:blip r:embed="rId3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0" descr="Coucou_gris_juv_VIGN_5BB_20072008_-_Ouessant.jpg"/>
          <p:cNvPicPr/>
          <p:nvPr/>
        </p:nvPicPr>
        <p:blipFill>
          <a:blip r:embed="rId4"/>
          <a:stretch/>
        </p:blipFill>
        <p:spPr>
          <a:xfrm>
            <a:off x="2411280" y="4797360"/>
            <a:ext cx="1995480" cy="1575000"/>
          </a:xfrm>
          <a:prstGeom prst="rect">
            <a:avLst/>
          </a:prstGeom>
          <a:ln w="0">
            <a:noFill/>
          </a:ln>
        </p:spPr>
      </p:pic>
      <p:sp>
        <p:nvSpPr>
          <p:cNvPr id="377" name="Блок-схема: решение 13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79" name="Блок-схема: решение 15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Блок-схема: решение 16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9" dur="50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акое растение носит название                  глаза птиц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6"/>
          <p:cNvSpPr/>
          <p:nvPr/>
        </p:nvSpPr>
        <p:spPr>
          <a:xfrm>
            <a:off x="2556000" y="5877000"/>
            <a:ext cx="41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РОНИЙ ГЛ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5" descr="0_a7f86_7940bfd1_orig.jpg"/>
          <p:cNvPicPr/>
          <p:nvPr/>
        </p:nvPicPr>
        <p:blipFill>
          <a:blip r:embed="rId1"/>
          <a:stretch/>
        </p:blipFill>
        <p:spPr>
          <a:xfrm>
            <a:off x="2268360" y="2852640"/>
            <a:ext cx="4427640" cy="29527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87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89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45" dur="50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оугольник 1"/>
          <p:cNvSpPr/>
          <p:nvPr/>
        </p:nvSpPr>
        <p:spPr>
          <a:xfrm>
            <a:off x="395280" y="21366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ндейцы называют это растение «след белого человека». Его семена цепляются за обувь, за колёса машин, за лапы животных и разносятся везде, где живёт человек. В трудную минуту растение придёт на помощь человеку. О каком растении идё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3" descr="properties-plantain1.jpg"/>
          <p:cNvPicPr/>
          <p:nvPr/>
        </p:nvPicPr>
        <p:blipFill>
          <a:blip r:embed="rId1"/>
          <a:stretch/>
        </p:blipFill>
        <p:spPr>
          <a:xfrm>
            <a:off x="1763640" y="4292640"/>
            <a:ext cx="2625840" cy="18972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4714200" y="4797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ОРО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5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9880" y="5735520"/>
            <a:ext cx="1309680" cy="79380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39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399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50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395280" y="21366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Где-то, в чаще дремучей, за оградой колючей, у заветного местечка есть волшебная аптечка. Там красные таблетки развешаны на ветк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овите это популярное рас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3506040" y="59500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ШИП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4" descr="shipovnik-dlya-pohudeniya-1.jpg"/>
          <p:cNvPicPr/>
          <p:nvPr/>
        </p:nvPicPr>
        <p:blipFill>
          <a:blip r:embed="rId1"/>
          <a:stretch/>
        </p:blipFill>
        <p:spPr>
          <a:xfrm>
            <a:off x="2627280" y="3933720"/>
            <a:ext cx="3867120" cy="194328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5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9880" y="5735520"/>
            <a:ext cx="1309680" cy="7938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407" name="Блок-схема: решение 10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409" name="Блок-схема: решение 12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Блок-схема: решение 13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7" dur="50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 каком растении говор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Эй, брат комарик, береги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куст ее ты не садись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дется с жизнью распрощать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 сядешь — вновь уж не подняться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Группа 7"/>
          <p:cNvGrpSpPr/>
          <p:nvPr/>
        </p:nvGrpSpPr>
        <p:grpSpPr>
          <a:xfrm>
            <a:off x="1969200" y="3789360"/>
            <a:ext cx="5081760" cy="2841120"/>
            <a:chOff x="1969200" y="3789360"/>
            <a:chExt cx="5081760" cy="2841120"/>
          </a:xfrm>
        </p:grpSpPr>
        <p:sp>
          <p:nvSpPr>
            <p:cNvPr id="414" name="TextBox 8"/>
            <p:cNvSpPr/>
            <p:nvPr/>
          </p:nvSpPr>
          <p:spPr>
            <a:xfrm>
              <a:off x="1969200" y="6109920"/>
              <a:ext cx="508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РОСЯНКА КРУГЛОЛИСТ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2" descr="http://dic.academic.ru/pictures/wiki/files/68/Drosera-rotundifolia.jpg"/>
            <p:cNvPicPr/>
            <p:nvPr/>
          </p:nvPicPr>
          <p:blipFill>
            <a:blip r:embed="rId1"/>
            <a:stretch/>
          </p:blipFill>
          <p:spPr>
            <a:xfrm>
              <a:off x="2370960" y="3789360"/>
              <a:ext cx="4151880" cy="24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6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16800" y="5688000"/>
            <a:ext cx="1382760" cy="8413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418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420" name="Блок-схема: решение 15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Блок-схема: решение 16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2" dur="50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е растени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5153760" y="530064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Е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324000" y="1844640"/>
            <a:ext cx="849600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ногие народы, живущие на территории России, почитали это дерево, как священное. По якутским поверьям, на ветках этого дерева живет Хозяйка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А вот что поется в русской песне об этом дереве: «Первое дело – мир освещать, второе дело – скрип утешать, третье дело – больных исцелять, четвертое дело – чистоту соблюдать». Что это за дерев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5" descr="beryozovaya_opushka_0.jpg"/>
          <p:cNvPicPr/>
          <p:nvPr/>
        </p:nvPicPr>
        <p:blipFill>
          <a:blip r:embed="rId1"/>
          <a:stretch/>
        </p:blipFill>
        <p:spPr>
          <a:xfrm>
            <a:off x="2411280" y="4724280"/>
            <a:ext cx="2333880" cy="17510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08760" y="5864400"/>
            <a:ext cx="1090800" cy="664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6" descr="зеленый-лист-1529358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08760" y="5797440"/>
            <a:ext cx="1090800" cy="66996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9" descr="2222.jpg"/>
          <p:cNvPicPr/>
          <p:nvPr/>
        </p:nvPicPr>
        <p:blipFill>
          <a:blip r:embed="rId6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429" name="Блок-схема: решение 12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431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8" dur="50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627280"/>
                <a:gridCol w="1297080"/>
                <a:gridCol w="1295280"/>
                <a:gridCol w="1216080"/>
                <a:gridCol w="1270080"/>
                <a:gridCol w="1438200"/>
              </a:tblGrid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дивительны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Биологические дисципл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Биология одним сло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амое-самое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дивительные жив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d26900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pic>
        <p:nvPicPr>
          <p:cNvPr id="177" name="Рисунок 4" descr="listik.png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8459640" y="6453360"/>
            <a:ext cx="684360" cy="48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ология в вопрос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59280" y="1557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Ф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Содержимое 2"/>
          <p:cNvSpPr/>
          <p:nvPr/>
        </p:nvSpPr>
        <p:spPr>
          <a:xfrm>
            <a:off x="3059280" y="3213000"/>
            <a:ext cx="5832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РЕВО-ГИГ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одержимое 2"/>
          <p:cNvSpPr/>
          <p:nvPr/>
        </p:nvSpPr>
        <p:spPr>
          <a:xfrm>
            <a:off x="3059280" y="2349360"/>
            <a:ext cx="590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одержимое 2"/>
          <p:cNvSpPr/>
          <p:nvPr/>
        </p:nvSpPr>
        <p:spPr>
          <a:xfrm>
            <a:off x="3059280" y="4076640"/>
            <a:ext cx="583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7" descr="listik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63640" y="1557360"/>
            <a:ext cx="1152720" cy="71928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10" descr="listik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63640" y="2349360"/>
            <a:ext cx="1152720" cy="71928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11" descr="listik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63640" y="321300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12" descr="listik.png"/>
          <p:cNvPicPr/>
          <p:nvPr/>
        </p:nvPicPr>
        <p:blipFill>
          <a:blip r:embed="rId7"/>
          <a:stretch/>
        </p:blipFill>
        <p:spPr>
          <a:xfrm>
            <a:off x="1763640" y="407664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12" descr="listik.png"/>
          <p:cNvPicPr/>
          <p:nvPr/>
        </p:nvPicPr>
        <p:blipFill>
          <a:blip r:embed="rId8"/>
          <a:stretch/>
        </p:blipFill>
        <p:spPr>
          <a:xfrm>
            <a:off x="1763640" y="4869000"/>
            <a:ext cx="1152720" cy="720720"/>
          </a:xfrm>
          <a:prstGeom prst="rect">
            <a:avLst/>
          </a:prstGeom>
          <a:ln w="0">
            <a:noFill/>
          </a:ln>
        </p:spPr>
      </p:pic>
      <p:sp>
        <p:nvSpPr>
          <p:cNvPr id="444" name="Содержимое 2"/>
          <p:cNvSpPr/>
          <p:nvPr/>
        </p:nvSpPr>
        <p:spPr>
          <a:xfrm>
            <a:off x="3059280" y="4941720"/>
            <a:ext cx="583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ЛЕКОПИТ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14"/>
          <p:cNvSpPr/>
          <p:nvPr/>
        </p:nvSpPr>
        <p:spPr>
          <a:xfrm>
            <a:off x="3109320" y="5732640"/>
            <a:ext cx="38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ТАК ЗЛА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12" descr="listik.png"/>
          <p:cNvPicPr/>
          <p:nvPr/>
        </p:nvPicPr>
        <p:blipFill>
          <a:blip r:embed="rId9"/>
          <a:stretch/>
        </p:blipFill>
        <p:spPr>
          <a:xfrm>
            <a:off x="1763640" y="5732640"/>
            <a:ext cx="1152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но древнегреческому мифу, бог света и искусств Аполлон полюбил прекрасную нимфу Дафну. Но она в страхе стремилась скрыться от него. Когда же у нее не осталось сил бежать, она превратилась в прекрасное дерево. Опечаленный Аполлон воскликнул: “Пусть венок из твоей зелени украшает мою голову, пусть никогда не вянут твои листья. Стой вечно зеленым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ление какого растения объясняла эта леген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Рисунок 6" descr="зеленый-лист-15293585.jpg"/>
          <p:cNvPicPr/>
          <p:nvPr/>
        </p:nvPicPr>
        <p:blipFill>
          <a:blip r:embed="rId1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684360" y="6021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АК ПОЯВИЛ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АВР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ЛАГОР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гласно русской пословице, голову нужно держать в холо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где, согласно этой же пословицы, нужно держать ноги и живо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РЖИ ГОЛОВУ В ХОЛОДЕ, ЖИВОТ В ГОЛОДЕ, А НОГИ В ТЕПЛЕ. Именно тогда ты сможешь быстро принимать решения и трезво мыслить, быстро двигаться, и точно не заработаешь простуду, если ноги содержишь в тепл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Рисунок 4" descr="зеленый-лист-15293585.jpg"/>
          <p:cNvPicPr/>
          <p:nvPr/>
        </p:nvPicPr>
        <p:blipFill>
          <a:blip r:embed="rId1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ЕВО-ГИГ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5280" y="1557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вечнозеленые хвойные деревья растут в Кордильерах. Их высота до 100 м, а ширина до 10 м. Они живут по несколько тысяч лет. Шишка бывает размером с большую тыкв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овите это удивительное дере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3348000" y="479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КВ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Рисунок 4" descr="032.jpg"/>
          <p:cNvPicPr/>
          <p:nvPr/>
        </p:nvPicPr>
        <p:blipFill>
          <a:blip r:embed="rId1"/>
          <a:stretch/>
        </p:blipFill>
        <p:spPr>
          <a:xfrm>
            <a:off x="2484360" y="4076640"/>
            <a:ext cx="1676520" cy="249408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6" descr="зеленый-лист-15293585.jpg"/>
          <p:cNvPicPr/>
          <p:nvPr/>
        </p:nvPicPr>
        <p:blipFill>
          <a:blip r:embed="rId2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фамилию ученого, изучавшего под микроскопом срез коры пробкового дуба, и пришедшего к выводу, что пробка состоит из множества маленьких полостей, которые он назвал клет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3"/>
          <p:cNvSpPr/>
          <p:nvPr/>
        </p:nvSpPr>
        <p:spPr>
          <a:xfrm>
            <a:off x="4932360" y="4581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ОБЕРТ Г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Рисунок 5" descr="зеленый-лист-15293585.jpg"/>
          <p:cNvPicPr/>
          <p:nvPr/>
        </p:nvPicPr>
        <p:blipFill>
          <a:blip r:embed="rId1"/>
          <a:stretch/>
        </p:blipFill>
        <p:spPr>
          <a:xfrm>
            <a:off x="7375680" y="396720"/>
            <a:ext cx="1304640" cy="79884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6" descr="robert_hooke.jpg"/>
          <p:cNvPicPr/>
          <p:nvPr/>
        </p:nvPicPr>
        <p:blipFill>
          <a:blip r:embed="rId2"/>
          <a:stretch/>
        </p:blipFill>
        <p:spPr>
          <a:xfrm>
            <a:off x="2340000" y="4149720"/>
            <a:ext cx="2090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5280" y="15570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животные – единственные млекопитающие способные летать. Их тело покрыто шерстью, а кожная перепонка крыльев гладкая. Назовите этих живот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3" descr="зеленый-лист-15293585.jpg"/>
          <p:cNvPicPr/>
          <p:nvPr/>
        </p:nvPicPr>
        <p:blipFill>
          <a:blip r:embed="rId1"/>
          <a:stretch/>
        </p:blipFill>
        <p:spPr>
          <a:xfrm>
            <a:off x="7497720" y="755640"/>
            <a:ext cx="1347840" cy="1609560"/>
          </a:xfrm>
          <a:prstGeom prst="rect">
            <a:avLst/>
          </a:prstGeom>
          <a:ln w="0">
            <a:noFill/>
          </a:ln>
        </p:spPr>
      </p:pic>
      <p:sp>
        <p:nvSpPr>
          <p:cNvPr id="467" name="TextBox 4"/>
          <p:cNvSpPr/>
          <p:nvPr/>
        </p:nvSpPr>
        <p:spPr>
          <a:xfrm>
            <a:off x="4664160" y="465300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ТУЧИЕ МЫШ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ЛИ КРЫЛ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Рисунок 6" descr="krylan.jpg"/>
          <p:cNvPicPr/>
          <p:nvPr/>
        </p:nvPicPr>
        <p:blipFill>
          <a:blip r:embed="rId2"/>
          <a:stretch/>
        </p:blipFill>
        <p:spPr>
          <a:xfrm>
            <a:off x="826920" y="4005360"/>
            <a:ext cx="3565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Т ТАК ЗЛА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24000" y="1413000"/>
            <a:ext cx="8496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а удивительная трава является самым высоким злаком. Её прочные  одревесневшие стебли, как и у всех злаков, полые внутри. По скорости роста – растение является чемпионом. Его стебли увеличиваются в длину не по дням, а по часа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это рас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1979640" y="5300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МБ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Рисунок 4" descr="11111.jpg"/>
          <p:cNvPicPr/>
          <p:nvPr/>
        </p:nvPicPr>
        <p:blipFill>
          <a:blip r:embed="rId1"/>
          <a:stretch/>
        </p:blipFill>
        <p:spPr>
          <a:xfrm>
            <a:off x="4500720" y="4869000"/>
            <a:ext cx="3004920" cy="169524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5" descr="зеленый-лист-15293585.jpg"/>
          <p:cNvPicPr/>
          <p:nvPr/>
        </p:nvPicPr>
        <p:blipFill>
          <a:blip r:embed="rId2"/>
          <a:stretch/>
        </p:blipFill>
        <p:spPr>
          <a:xfrm>
            <a:off x="7424640" y="396720"/>
            <a:ext cx="13478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 МОЛОДЦ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Рисунок 3" descr="зеленый-лист-15293585.jpg"/>
          <p:cNvPicPr/>
          <p:nvPr/>
        </p:nvPicPr>
        <p:blipFill>
          <a:blip r:embed="rId1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СПАСИБО ЗА ИГРУ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2" dur="2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6a2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2"/>
          <p:cNvSpPr/>
          <p:nvPr/>
        </p:nvSpPr>
        <p:spPr>
          <a:xfrm>
            <a:off x="395280" y="981000"/>
            <a:ext cx="84247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ttps://ru.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ikipedia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ttp://www.liveinternet.ru/users/lokosa/post36723936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ttp://www.bamboopro.ru/p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втор шаблона: Ранько Елена Алексее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diza-74.ucoz.ru/blog/klipart_vesennjaja_zelen_spring_verdure/2013-03-05-472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ипарт «Весенняя зел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allday2.com/index.php?newsid=34848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липарт «Свежесть зелен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Удивительные раст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/ И.В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ави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- Москва: Росмэн, 2015. - 47с: фотоил. - (Детская энциклопедия)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родовед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ешак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А.А., Сонин Н.И. 6-е изд., стер. - М.: 2011. — 176 с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Биология 5 клас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Бактерии, грибы, растения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асечн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.В. - Издательство: Дрофа;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Рисунок 3" descr="зеленый-лист-15293585.jpg"/>
          <p:cNvPicPr/>
          <p:nvPr/>
        </p:nvPicPr>
        <p:blipFill>
          <a:blip r:embed="rId1"/>
          <a:stretch/>
        </p:blipFill>
        <p:spPr>
          <a:xfrm>
            <a:off x="7662960" y="5778360"/>
            <a:ext cx="123660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азовите биологическую науку занимающуюся изучением живот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141720" y="551664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О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6" descr="1.png"/>
          <p:cNvPicPr/>
          <p:nvPr/>
        </p:nvPicPr>
        <p:blipFill>
          <a:blip r:embed="rId1"/>
          <a:stretch/>
        </p:blipFill>
        <p:spPr>
          <a:xfrm>
            <a:off x="3203640" y="3429000"/>
            <a:ext cx="2495520" cy="18381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43720" y="5645160"/>
            <a:ext cx="1455840" cy="8841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184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186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50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22050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науку изучающую рас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351960" y="566100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БОТА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5" descr="лекарственные-растения-леса.jpg"/>
          <p:cNvPicPr/>
          <p:nvPr/>
        </p:nvPicPr>
        <p:blipFill>
          <a:blip r:embed="rId1"/>
          <a:stretch/>
        </p:blipFill>
        <p:spPr>
          <a:xfrm>
            <a:off x="3059280" y="2924280"/>
            <a:ext cx="3209760" cy="24080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194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196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5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ак называется наука изучающая отношения организмов между собой и окружающей сред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3286080" y="587700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5" descr="Vozduh.jpg"/>
          <p:cNvPicPr/>
          <p:nvPr/>
        </p:nvPicPr>
        <p:blipFill>
          <a:blip r:embed="rId1"/>
          <a:stretch/>
        </p:blipFill>
        <p:spPr>
          <a:xfrm>
            <a:off x="2916360" y="3789360"/>
            <a:ext cx="3429000" cy="22003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depositphotos_30983941-stock-illustration-tree-of-life-for-green.jpg"/>
          <p:cNvPicPr/>
          <p:nvPr/>
        </p:nvPicPr>
        <p:blipFill>
          <a:blip r:embed="rId2"/>
          <a:stretch/>
        </p:blipFill>
        <p:spPr>
          <a:xfrm>
            <a:off x="7667640" y="907920"/>
            <a:ext cx="936720" cy="11239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зеленый-лист-15293585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2222.jpg"/>
          <p:cNvPicPr/>
          <p:nvPr/>
        </p:nvPicPr>
        <p:blipFill>
          <a:blip r:embed="rId5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05" name="Блок-схема: решение 12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07" name="Блок-схема: решение 14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Блок-схема: решение 15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0560" y="1844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азовите биологическую науку, которая изучает строение и жизнедеятельность клет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134520" y="587700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ЦИТ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5" descr="Bior10_5_1.jpg"/>
          <p:cNvPicPr/>
          <p:nvPr/>
        </p:nvPicPr>
        <p:blipFill>
          <a:blip r:embed="rId1"/>
          <a:stretch/>
        </p:blipFill>
        <p:spPr>
          <a:xfrm>
            <a:off x="3059280" y="2924280"/>
            <a:ext cx="292716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1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1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 дисциплины </a:t>
            </a:r>
            <a:br>
              <a:rPr sz="42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зовите науку которая изучает пт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2778480" y="558972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РНИТ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5" descr="1.jpg"/>
          <p:cNvPicPr/>
          <p:nvPr/>
        </p:nvPicPr>
        <p:blipFill>
          <a:blip r:embed="rId1"/>
          <a:stretch/>
        </p:blipFill>
        <p:spPr>
          <a:xfrm>
            <a:off x="3419640" y="2852640"/>
            <a:ext cx="2496960" cy="24307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2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2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50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одним словом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ак можно назвать одним словом пруд, озеро, море и океа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3347280" y="573264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ОДО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5" descr="Озеро_Шайтан.jpg"/>
          <p:cNvPicPr/>
          <p:nvPr/>
        </p:nvPicPr>
        <p:blipFill>
          <a:blip r:embed="rId1"/>
          <a:stretch/>
        </p:blipFill>
        <p:spPr>
          <a:xfrm>
            <a:off x="2268360" y="3429000"/>
            <a:ext cx="4427640" cy="2058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зеленый-лист-1529358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4480" y="5297400"/>
            <a:ext cx="2035080" cy="12319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2222.jpg"/>
          <p:cNvPicPr/>
          <p:nvPr/>
        </p:nvPicPr>
        <p:blipFill>
          <a:blip r:embed="rId4"/>
          <a:stretch/>
        </p:blipFill>
        <p:spPr>
          <a:xfrm>
            <a:off x="324000" y="333360"/>
            <a:ext cx="1317600" cy="1316160"/>
          </a:xfrm>
          <a:prstGeom prst="rect">
            <a:avLst/>
          </a:prstGeom>
          <a:ln w="0">
            <a:noFill/>
          </a:ln>
        </p:spPr>
      </p:pic>
      <p:sp>
        <p:nvSpPr>
          <p:cNvPr id="235" name="Блок-схема: решение 11"/>
          <p:cNvSpPr/>
          <p:nvPr/>
        </p:nvSpPr>
        <p:spPr>
          <a:xfrm>
            <a:off x="900000" y="476280"/>
            <a:ext cx="117720" cy="504720"/>
          </a:xfrm>
          <a:prstGeom prst="flowChartDecision">
            <a:avLst/>
          </a:prstGeom>
          <a:solidFill>
            <a:srgbClr val="ff66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Группа 10"/>
          <p:cNvGrpSpPr/>
          <p:nvPr/>
        </p:nvGrpSpPr>
        <p:grpSpPr>
          <a:xfrm>
            <a:off x="900000" y="333360"/>
            <a:ext cx="142920" cy="1295280"/>
            <a:chOff x="900000" y="333360"/>
            <a:chExt cx="142920" cy="1295280"/>
          </a:xfrm>
        </p:grpSpPr>
        <p:sp>
          <p:nvSpPr>
            <p:cNvPr id="237" name="Блок-схема: решение 13"/>
            <p:cNvSpPr/>
            <p:nvPr/>
          </p:nvSpPr>
          <p:spPr>
            <a:xfrm>
              <a:off x="900000" y="333360"/>
              <a:ext cx="142920" cy="718920"/>
            </a:xfrm>
            <a:prstGeom prst="flowChartDecision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Блок-схема: решение 14"/>
            <p:cNvSpPr/>
            <p:nvPr/>
          </p:nvSpPr>
          <p:spPr>
            <a:xfrm>
              <a:off x="900000" y="909720"/>
              <a:ext cx="142920" cy="718920"/>
            </a:xfrm>
            <a:prstGeom prst="flowChartDecision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50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админ</cp:lastModifiedBy>
  <dcterms:modified xsi:type="dcterms:W3CDTF">2022-11-16T20:11:49Z</dcterms:modified>
  <cp:revision>33</cp:revision>
  <dc:subject/>
  <dc:title>Слайд 1</dc:title>
</cp:coreProperties>
</file>