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drumroll.wav" ContentType="audio/x-wav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23.jpeg" ContentType="image/jpeg"/>
  <Override PartName="/ppt/media/image49.png" ContentType="image/png"/>
  <Override PartName="/ppt/media/image3.jpeg" ContentType="image/jpeg"/>
  <Override PartName="/ppt/media/image25.jpeg" ContentType="image/jpeg"/>
  <Override PartName="/ppt/media/image10.jpeg" ContentType="image/jpeg"/>
  <Override PartName="/ppt/media/image28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19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33CF-82B7-4960-A317-00358A5C92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41A-7326-491C-9CB6-16008243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72B-94FB-42BC-B6DF-DA398C8C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6FF-EDBA-4193-AAF4-779B91DB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486-01FC-4407-A8D9-5A2B2CFB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6FB0-896D-4CFD-8550-C37279AE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EFC2-97FC-463F-B1A6-2504C92C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F90-D1A4-4A38-9986-5AB29B99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0638-4E13-4A30-8EEE-7F5BE97D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563D-7DA9-4B10-ABC9-AB1AB92D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DB4B-6388-4E56-98C4-43CBD57B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EE3E-D5DF-418B-ADB3-1353576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8E0-91B5-41AE-BE3C-B842F9A2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826F-2B57-482F-A81D-DADF3B7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A38C-0C2F-4BEB-9745-2B4EDB1A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13B3-C4B5-4502-99B9-4C9EF95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6853-0A5D-4963-BD9E-FF7A8A9F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4A73-AB77-4CCE-A290-8A0EC692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00A8-FE78-4B83-94DD-E6DDF29E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9371-51FD-4592-B34E-8EFBDD08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AF76-EB25-4545-91CF-868FE65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964C-7455-4803-9FA8-EF2000CA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1A49-D422-4F4E-BC2B-42B09E5F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EC2-01A5-4342-A220-2B948254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C6FA-C819-40AD-943A-6503701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FAE0-2EA3-45FF-B8E6-D5F98D8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4E05-3CF3-4E7F-B6C2-3C1F739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C887-13F4-40F1-88C2-0E5D9D8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D4D7-8CE9-43D4-A6BD-74E594C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4938-99E7-473D-8262-E698E627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7B81-5B7D-477B-BB24-74854EBB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D183-307B-4FA3-9116-CE4A6FBF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A4AC-2A69-40C3-AC41-B009441F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767C-353D-4BF0-AB76-6BA3496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02F-AB86-4FF1-93A6-60A1F1F9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AFAD-7961-4E87-8198-3783E1BA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EECC-BAB2-48E1-B43C-15DC391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F1EA-42EA-40A7-970A-B4937764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8048-F55F-4BEE-A7E1-FA92EAD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B8BC-9133-47C5-95CC-A1E7ABE9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C5E2-817C-4644-AC5F-186D861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BDC7-EACB-411D-AC3A-79ED7654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C5D8-76A6-4E0D-AC2C-B8B8EDA2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D56F-35FA-481C-9C88-54BD7FD1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7FF-7D59-4E33-8652-D388E4A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B7F-3DE2-4D74-A299-CB729590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FC4-1320-4174-B102-68400DB2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6D6-16CC-43BA-BD6D-C0696E45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229-900B-42C7-B226-6A709F1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DE48-1D94-45D2-AE1D-1921B8F3293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143E-60B3-4B65-8257-1DAD17F95E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511-E8C2-4852-BA4F-04C41E36A9B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18AC-D4DC-449D-B127-388A42915B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441C-C557-4297-8C25-234FDCBA305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4F9D-2F1F-4580-B02A-1FCFA25EE8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38EB-ED06-4005-8C9C-4744E28DCD7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D909-5CA6-4D21-982B-21055D7DD5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" Target="slide3.xml"/><Relationship Id="rId5" Type="http://schemas.openxmlformats.org/officeDocument/2006/relationships/image" Target="../media/image20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oogle.ru/url?sa=i&amp;rct=j&amp;q=&amp;esrc=s&amp;source=images&amp;cd=&amp;cad=rja&amp;uact=8&amp;ved=0ahUKEwj9gsOl7_7RAhUHDSwKHUeYCIQQjRwIBw&amp;url=http%3A%2F%2Fxn----8sbiecm6bhdx8i.xn--p1ai%2Fnode%2F1038&amp;psig=AFQjCNH2OBO3edNd7wmxwYvY9hGBH6Gpxg&amp;ust=1486587270733039" TargetMode="External"/><Relationship Id="rId2" Type="http://schemas.openxmlformats.org/officeDocument/2006/relationships/hyperlink" Target="https://www.google.ru/url?sa=i&amp;rct=j&amp;q=&amp;esrc=s&amp;source=images&amp;cd=&amp;cad=rja&amp;uact=8&amp;ved=0ahUKEwj9gsOl7_7RAhUHDSwKHUeYCIQQjRwIBw&amp;url=http%3A%2F%2Fxn----8sbiecm6bhdx8i.xn--p1ai%2Fnode%2F1038&amp;psig=AFQjCNH2OBO3edNd7wmxwYvY9hGBH6Gpxg&amp;ust=1486587270733039" TargetMode="External"/><Relationship Id="rId3" Type="http://schemas.openxmlformats.org/officeDocument/2006/relationships/image" Target="../media/image22.png"/><Relationship Id="rId4" Type="http://schemas.openxmlformats.org/officeDocument/2006/relationships/slide" Target="slide3.xml"/><Relationship Id="rId5" Type="http://schemas.openxmlformats.org/officeDocument/2006/relationships/image" Target="../media/image1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.xml"/><Relationship Id="rId3" Type="http://schemas.openxmlformats.org/officeDocument/2006/relationships/image" Target="../media/image2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.xml"/><Relationship Id="rId3" Type="http://schemas.openxmlformats.org/officeDocument/2006/relationships/image" Target="../media/image29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3.xml"/><Relationship Id="rId3" Type="http://schemas.openxmlformats.org/officeDocument/2006/relationships/image" Target="../media/image3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3.xml"/><Relationship Id="rId3" Type="http://schemas.openxmlformats.org/officeDocument/2006/relationships/image" Target="../media/image3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3.xml"/><Relationship Id="rId3" Type="http://schemas.openxmlformats.org/officeDocument/2006/relationships/image" Target="../media/image3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3.xml"/><Relationship Id="rId3" Type="http://schemas.openxmlformats.org/officeDocument/2006/relationships/image" Target="../media/image40.png"/><Relationship Id="rId4" Type="http://schemas.openxmlformats.org/officeDocument/2006/relationships/slide" Target="slide3.xml"/><Relationship Id="rId5" Type="http://schemas.openxmlformats.org/officeDocument/2006/relationships/image" Target="../media/image4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9.xml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2.png"/><Relationship Id="rId3" Type="http://schemas.openxmlformats.org/officeDocument/2006/relationships/slide" Target="slide32.xml"/><Relationship Id="rId4" Type="http://schemas.openxmlformats.org/officeDocument/2006/relationships/image" Target="../media/image42.png"/><Relationship Id="rId5" Type="http://schemas.openxmlformats.org/officeDocument/2006/relationships/slide" Target="slide33.xml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66a28"/>
                </a:solidFill>
                <a:latin typeface="Georgia"/>
              </a:rPr>
              <a:t>Своя иг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56000" y="2204640"/>
            <a:ext cx="619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нимательная биолог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ля учащихся 5-6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276720" y="4365720"/>
            <a:ext cx="53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ГОБУ  СШ  пгт Подосин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охина Елен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http://4.bp.blogspot.com/-rHjfpfYFAco/UJ87ec_i2UI/AAAAAAAAAaQ/3pnmMGx8Sb4/s1600/%D1%81%D0%BE%D0%B2%D0%B02.png"/>
          <p:cNvPicPr/>
          <p:nvPr/>
        </p:nvPicPr>
        <p:blipFill>
          <a:blip r:embed="rId1"/>
          <a:stretch/>
        </p:blipFill>
        <p:spPr>
          <a:xfrm>
            <a:off x="10117080" y="4270320"/>
            <a:ext cx="1903320" cy="25876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915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ое слово объединяет следующие прилагательные: лестничная, шахматная, грудная, растительная, нервная, мышечная, птичья, зверина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3699000" y="44370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44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46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одним словом: растения, грибы, животные и бактер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3414240" y="429264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53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55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50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одним словом  плесень, сыроежку, дрожж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3630600" y="580536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5" descr="5.jpg"/>
          <p:cNvPicPr/>
          <p:nvPr/>
        </p:nvPicPr>
        <p:blipFill>
          <a:blip r:embed="rId1"/>
          <a:stretch/>
        </p:blipFill>
        <p:spPr>
          <a:xfrm>
            <a:off x="6156360" y="3716280"/>
            <a:ext cx="2655720" cy="1836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plesen2.jpg"/>
          <p:cNvPicPr/>
          <p:nvPr/>
        </p:nvPicPr>
        <p:blipFill>
          <a:blip r:embed="rId2"/>
          <a:stretch/>
        </p:blipFill>
        <p:spPr>
          <a:xfrm>
            <a:off x="395280" y="3716280"/>
            <a:ext cx="2592360" cy="1824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8" descr="syroezhka-4.jpg"/>
          <p:cNvPicPr/>
          <p:nvPr/>
        </p:nvPicPr>
        <p:blipFill>
          <a:blip r:embed="rId3"/>
          <a:stretch/>
        </p:blipFill>
        <p:spPr>
          <a:xfrm>
            <a:off x="3348000" y="3716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9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29520" y="5516640"/>
            <a:ext cx="1670040" cy="10126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67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зовите одним словом хлоропласты, хромопласты, лейкоплас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4356720" y="39337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ЛАСТ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5" descr="50.jpg"/>
          <p:cNvPicPr/>
          <p:nvPr/>
        </p:nvPicPr>
        <p:blipFill>
          <a:blip r:embed="rId1"/>
          <a:stretch/>
        </p:blipFill>
        <p:spPr>
          <a:xfrm>
            <a:off x="1258920" y="2852640"/>
            <a:ext cx="2976480" cy="37054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7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7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50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ая птица самая маленькая на свет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354480" y="558972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ОЛИБ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1"/>
          </p:cNvPr>
          <p:cNvSpPr/>
          <p:nvPr/>
        </p:nvSpPr>
        <p:spPr>
          <a:xfrm>
            <a:off x="54000" y="-944640"/>
            <a:ext cx="30481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>
            <a:hlinkClick r:id="rId2"/>
          </p:cNvPr>
          <p:cNvSpPr/>
          <p:nvPr/>
        </p:nvSpPr>
        <p:spPr>
          <a:xfrm>
            <a:off x="54000" y="-944640"/>
            <a:ext cx="30481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8" descr="untitled.png"/>
          <p:cNvPicPr/>
          <p:nvPr/>
        </p:nvPicPr>
        <p:blipFill>
          <a:blip r:embed="rId3"/>
          <a:stretch/>
        </p:blipFill>
        <p:spPr>
          <a:xfrm>
            <a:off x="2411280" y="2924280"/>
            <a:ext cx="4002120" cy="25812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87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89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5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амое быстрое животное суш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2690640" y="5805360"/>
            <a:ext cx="42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ЕПАРД, 110 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5" descr="1456411981_aziatskiy-gepard-interesnye-fakty-foto-i-kratkoe-opisanie.jpg"/>
          <p:cNvPicPr/>
          <p:nvPr/>
        </p:nvPicPr>
        <p:blipFill>
          <a:blip r:embed="rId1"/>
          <a:stretch/>
        </p:blipFill>
        <p:spPr>
          <a:xfrm>
            <a:off x="2411280" y="3068640"/>
            <a:ext cx="4645080" cy="23223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9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9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50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ая нить в природе самая тонка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3564720" y="57326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У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5" descr="1404288722_k-chemu-prisnilas-pautina.jpg"/>
          <p:cNvPicPr/>
          <p:nvPr/>
        </p:nvPicPr>
        <p:blipFill>
          <a:blip r:embed="rId1"/>
          <a:stretch/>
        </p:blipFill>
        <p:spPr>
          <a:xfrm>
            <a:off x="2771640" y="3068640"/>
            <a:ext cx="3602160" cy="27050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97520" y="5297400"/>
            <a:ext cx="203544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0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09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50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ой паук самый большой на Земле?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2779560" y="580536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УК-ПТИЦЕ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5" descr="Мексиканский-паук-птицеед-на-ладони.jpg"/>
          <p:cNvPicPr/>
          <p:nvPr/>
        </p:nvPicPr>
        <p:blipFill>
          <a:blip r:embed="rId1"/>
          <a:stretch/>
        </p:blipFill>
        <p:spPr>
          <a:xfrm>
            <a:off x="2843280" y="3141720"/>
            <a:ext cx="3424320" cy="26971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4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1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1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амая большая змея на Земл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2433960" y="5805360"/>
            <a:ext cx="46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НАКОНДА, ДО 9 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5" descr="anaconda17.jpg"/>
          <p:cNvPicPr/>
          <p:nvPr/>
        </p:nvPicPr>
        <p:blipFill>
          <a:blip r:embed="rId1"/>
          <a:stretch/>
        </p:blipFill>
        <p:spPr>
          <a:xfrm>
            <a:off x="2195640" y="3141720"/>
            <a:ext cx="4860720" cy="27352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56440" y="5510160"/>
            <a:ext cx="1743120" cy="10191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2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2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50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 этого вида приматов хвост за ненадобностью отпа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3489480" y="4437000"/>
            <a:ext cx="23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36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38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50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Если сравнить лису с автомобилем, то какая часть тела выполняет функцию руля, т.е. помогает быстро поменять направление движ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773160" y="443700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47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50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611280" y="170028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рупная ночная  хищная птица с мягким рыхлым оперением и приметными перьевыми ушками на голове. Гнезда не строят. Яйца откладывают в ямки на  земле, в нишах скал, птенцы появляются 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2"/>
          <p:cNvGrpSpPr/>
          <p:nvPr/>
        </p:nvGrpSpPr>
        <p:grpSpPr>
          <a:xfrm>
            <a:off x="2195640" y="3284640"/>
            <a:ext cx="4897440" cy="3305880"/>
            <a:chOff x="2195640" y="3284640"/>
            <a:chExt cx="4897440" cy="3305880"/>
          </a:xfrm>
        </p:grpSpPr>
        <p:sp>
          <p:nvSpPr>
            <p:cNvPr id="352" name="TextBox 12"/>
            <p:cNvSpPr/>
            <p:nvPr/>
          </p:nvSpPr>
          <p:spPr>
            <a:xfrm>
              <a:off x="3840120" y="6069960"/>
              <a:ext cx="16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mic Sans MS"/>
                </a:rPr>
                <a:t>ФИЛ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Picture 2" descr="http://novoeplamya.org/wp-content/uploads/2015/03/filin.jpg"/>
            <p:cNvPicPr/>
            <p:nvPr/>
          </p:nvPicPr>
          <p:blipFill>
            <a:blip r:embed="rId1"/>
            <a:stretch/>
          </p:blipFill>
          <p:spPr>
            <a:xfrm>
              <a:off x="2195640" y="3284640"/>
              <a:ext cx="4897440" cy="289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Рисунок 8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56440" y="5473800"/>
            <a:ext cx="1743120" cy="10555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56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58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50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Эти странные нелетающие птицы из Новой Зеландии живут в норах под землей и лишь по ночам выбираются из них. Название этих птиц созвучно с названием тропического фрук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3426840" y="53006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И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0" descr="kiwi_4.jpg"/>
          <p:cNvPicPr/>
          <p:nvPr/>
        </p:nvPicPr>
        <p:blipFill>
          <a:blip r:embed="rId4"/>
          <a:stretch/>
        </p:blipFill>
        <p:spPr>
          <a:xfrm>
            <a:off x="804960" y="4653000"/>
            <a:ext cx="2536560" cy="172872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456727.jpg"/>
          <p:cNvPicPr/>
          <p:nvPr/>
        </p:nvPicPr>
        <p:blipFill>
          <a:blip r:embed="rId5"/>
          <a:stretch/>
        </p:blipFill>
        <p:spPr>
          <a:xfrm>
            <a:off x="4788000" y="4653000"/>
            <a:ext cx="2252520" cy="1728720"/>
          </a:xfrm>
          <a:prstGeom prst="rect">
            <a:avLst/>
          </a:prstGeom>
          <a:ln w="0">
            <a:noFill/>
          </a:ln>
        </p:spPr>
      </p:pic>
      <p:sp>
        <p:nvSpPr>
          <p:cNvPr id="367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69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50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Эти удивительные животные подкладывают свои яйца в гнезда других птиц. А когда из яйца появляется птенец, он выкидывает из гнезда яйца других птиц и их птенц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4427640" y="537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0" descr="Coucou_gris_juv_VIGN_5BB_20072008_-_Ouessant.jpg"/>
          <p:cNvPicPr/>
          <p:nvPr/>
        </p:nvPicPr>
        <p:blipFill>
          <a:blip r:embed="rId4"/>
          <a:stretch/>
        </p:blipFill>
        <p:spPr>
          <a:xfrm>
            <a:off x="2411280" y="4797360"/>
            <a:ext cx="1995480" cy="1575000"/>
          </a:xfrm>
          <a:prstGeom prst="rect">
            <a:avLst/>
          </a:prstGeom>
          <a:ln w="0">
            <a:noFill/>
          </a:ln>
        </p:spPr>
      </p:pic>
      <p:sp>
        <p:nvSpPr>
          <p:cNvPr id="377" name="Блок-схема: решение 13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79" name="Блок-схема: решение 15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Блок-схема: решение 16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9" dur="50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ое растение носит название                  глаза птиц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2556000" y="587700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РОНИЙ ГЛ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5" descr="0_a7f86_7940bfd1_orig.jpg"/>
          <p:cNvPicPr/>
          <p:nvPr/>
        </p:nvPicPr>
        <p:blipFill>
          <a:blip r:embed="rId1"/>
          <a:stretch/>
        </p:blipFill>
        <p:spPr>
          <a:xfrm>
            <a:off x="2268360" y="2852640"/>
            <a:ext cx="4427640" cy="29527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8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8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5" dur="50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1"/>
          <p:cNvSpPr/>
          <p:nvPr/>
        </p:nvSpPr>
        <p:spPr>
          <a:xfrm>
            <a:off x="395280" y="21366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ндейцы называют это растение «след белого человека». Его семена цепляются за обувь, за колёса машин, за лапы животных и разносятся везде, где живёт человек. В трудную минуту растение придёт на помощь человеку. О каком растении идё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3" descr="properties-plantain1.jpg"/>
          <p:cNvPicPr/>
          <p:nvPr/>
        </p:nvPicPr>
        <p:blipFill>
          <a:blip r:embed="rId1"/>
          <a:stretch/>
        </p:blipFill>
        <p:spPr>
          <a:xfrm>
            <a:off x="1763640" y="4292640"/>
            <a:ext cx="2625840" cy="18972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4714200" y="4797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9880" y="5735520"/>
            <a:ext cx="1309680" cy="79380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9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9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50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395280" y="21366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Где-то, в чаще дремучей, за оградой колючей, у заветного местечка есть волшебная аптечка. Там красные таблетки развешаны на ветк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овите это популярное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3506040" y="59500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4" descr="shipovnik-dlya-pohudeniya-1.jpg"/>
          <p:cNvPicPr/>
          <p:nvPr/>
        </p:nvPicPr>
        <p:blipFill>
          <a:blip r:embed="rId1"/>
          <a:stretch/>
        </p:blipFill>
        <p:spPr>
          <a:xfrm>
            <a:off x="2627280" y="3933720"/>
            <a:ext cx="3867120" cy="19432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9880" y="5735520"/>
            <a:ext cx="1309680" cy="7938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0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0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50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 каком растении говор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Эй, брат комарик, береги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куст ее ты не садись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дется с жизнью распроща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 сядешь — вновь уж не подняться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Группа 7"/>
          <p:cNvGrpSpPr/>
          <p:nvPr/>
        </p:nvGrpSpPr>
        <p:grpSpPr>
          <a:xfrm>
            <a:off x="1969200" y="3789360"/>
            <a:ext cx="5081760" cy="2841120"/>
            <a:chOff x="1969200" y="3789360"/>
            <a:chExt cx="5081760" cy="2841120"/>
          </a:xfrm>
        </p:grpSpPr>
        <p:sp>
          <p:nvSpPr>
            <p:cNvPr id="414" name="TextBox 8"/>
            <p:cNvSpPr/>
            <p:nvPr/>
          </p:nvSpPr>
          <p:spPr>
            <a:xfrm>
              <a:off x="1969200" y="6109920"/>
              <a:ext cx="508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РОСЯНКА КРУГЛОЛИСТ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2" descr="http://dic.academic.ru/pictures/wiki/files/68/Drosera-rotundifolia.jpg"/>
            <p:cNvPicPr/>
            <p:nvPr/>
          </p:nvPicPr>
          <p:blipFill>
            <a:blip r:embed="rId1"/>
            <a:stretch/>
          </p:blipFill>
          <p:spPr>
            <a:xfrm>
              <a:off x="2370960" y="3789360"/>
              <a:ext cx="4151880" cy="24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6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688000"/>
            <a:ext cx="1382760" cy="8413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18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20" name="Блок-схема: решение 15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Блок-схема: решение 16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50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5153760" y="53006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324000" y="1844640"/>
            <a:ext cx="84960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ногие народы, живущие на территории России, почитали это дерево, как священное. По якутским поверьям, на ветках этого дерева живет Хозяйка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А вот что поется в русской песне об этом дереве: «Первое дело – мир освещать, второе дело – скрип утешать, третье дело – больных исцелять, четвертое дело – чистоту соблюдать». Что это за дерев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5" descr="beryozovaya_opushka_0.jpg"/>
          <p:cNvPicPr/>
          <p:nvPr/>
        </p:nvPicPr>
        <p:blipFill>
          <a:blip r:embed="rId1"/>
          <a:stretch/>
        </p:blipFill>
        <p:spPr>
          <a:xfrm>
            <a:off x="2411280" y="4724280"/>
            <a:ext cx="2333880" cy="17510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08760" y="5864400"/>
            <a:ext cx="1090800" cy="664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6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08760" y="5797440"/>
            <a:ext cx="1090800" cy="6699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29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31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8" dur="50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627280"/>
                <a:gridCol w="1297080"/>
                <a:gridCol w="1295280"/>
                <a:gridCol w="1216080"/>
                <a:gridCol w="1270080"/>
                <a:gridCol w="1438200"/>
              </a:tblGrid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дивитель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иологические дисцип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иология одним сло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амое-самое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дивительные жив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pic>
        <p:nvPicPr>
          <p:cNvPr id="177" name="Рисунок 4" descr="listik.png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8459640" y="6453360"/>
            <a:ext cx="684360" cy="48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ология в вопрос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59280" y="1557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Ф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Содержимое 2"/>
          <p:cNvSpPr/>
          <p:nvPr/>
        </p:nvSpPr>
        <p:spPr>
          <a:xfrm>
            <a:off x="3059280" y="3213000"/>
            <a:ext cx="5832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РЕВО-ГИГ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одержимое 2"/>
          <p:cNvSpPr/>
          <p:nvPr/>
        </p:nvSpPr>
        <p:spPr>
          <a:xfrm>
            <a:off x="3059280" y="2349360"/>
            <a:ext cx="590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одержимое 2"/>
          <p:cNvSpPr/>
          <p:nvPr/>
        </p:nvSpPr>
        <p:spPr>
          <a:xfrm>
            <a:off x="3059280" y="4076640"/>
            <a:ext cx="583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7" descr="listik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63640" y="1557360"/>
            <a:ext cx="1152720" cy="71928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10" descr="listik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63640" y="2349360"/>
            <a:ext cx="1152720" cy="71928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1" descr="listik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63640" y="321300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12" descr="listik.png"/>
          <p:cNvPicPr/>
          <p:nvPr/>
        </p:nvPicPr>
        <p:blipFill>
          <a:blip r:embed="rId7"/>
          <a:stretch/>
        </p:blipFill>
        <p:spPr>
          <a:xfrm>
            <a:off x="1763640" y="407664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12" descr="listik.png"/>
          <p:cNvPicPr/>
          <p:nvPr/>
        </p:nvPicPr>
        <p:blipFill>
          <a:blip r:embed="rId8"/>
          <a:stretch/>
        </p:blipFill>
        <p:spPr>
          <a:xfrm>
            <a:off x="1763640" y="4869000"/>
            <a:ext cx="1152720" cy="720720"/>
          </a:xfrm>
          <a:prstGeom prst="rect">
            <a:avLst/>
          </a:prstGeom>
          <a:ln w="0">
            <a:noFill/>
          </a:ln>
        </p:spPr>
      </p:pic>
      <p:sp>
        <p:nvSpPr>
          <p:cNvPr id="444" name="Содержимое 2"/>
          <p:cNvSpPr/>
          <p:nvPr/>
        </p:nvSpPr>
        <p:spPr>
          <a:xfrm>
            <a:off x="3059280" y="4941720"/>
            <a:ext cx="583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ЛЕКОПИТ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14"/>
          <p:cNvSpPr/>
          <p:nvPr/>
        </p:nvSpPr>
        <p:spPr>
          <a:xfrm>
            <a:off x="3109320" y="5732640"/>
            <a:ext cx="38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ТАК ЗЛА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12" descr="listik.png"/>
          <p:cNvPicPr/>
          <p:nvPr/>
        </p:nvPicPr>
        <p:blipFill>
          <a:blip r:embed="rId9"/>
          <a:stretch/>
        </p:blipFill>
        <p:spPr>
          <a:xfrm>
            <a:off x="1763640" y="5732640"/>
            <a:ext cx="1152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но древнегреческому мифу, бог света и искусств Аполлон полюбил прекрасную нимфу Дафну. Но она в страхе стремилась скрыться от него. Когда же у нее не осталось сил бежать, она превратилась в прекрасное дерево. Опечаленный Аполлон воскликнул: “Пусть венок из твоей зелени украшает мою голову, пусть никогда не вянут твои листья. Стой вечно зеленым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ление какого растения объясняла эта леген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Рисунок 6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684360" y="6021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АК ПОЯВ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АВР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ЛАГОР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гласно русской пословице, голову нужно держать в холо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где, согласно этой же пословицы, нужно держать ноги и живо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РЖИ ГОЛОВУ В ХОЛОДЕ, ЖИВОТ В ГОЛОДЕ, А НОГИ В ТЕПЛЕ. Именно тогда ты сможешь быстро принимать решения и трезво мыслить, быстро двигаться, и точно не заработаешь простуду, если ноги содержишь в тепл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Рисунок 4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ЕВО-ГИГ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528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вечнозеленые хвойные деревья растут в Кордильерах. Их высота до 100 м, а ширина до 10 м. Они живут по несколько тысяч лет. Шишка бывает размером с большую тыкв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овите это удивительное дере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3348000" y="47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КВ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Рисунок 4" descr="032.jpg"/>
          <p:cNvPicPr/>
          <p:nvPr/>
        </p:nvPicPr>
        <p:blipFill>
          <a:blip r:embed="rId1"/>
          <a:stretch/>
        </p:blipFill>
        <p:spPr>
          <a:xfrm>
            <a:off x="2484360" y="4076640"/>
            <a:ext cx="1676520" cy="249408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6" descr="зеленый-лист-15293585.jpg"/>
          <p:cNvPicPr/>
          <p:nvPr/>
        </p:nvPicPr>
        <p:blipFill>
          <a:blip r:embed="rId2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фамилию ученого, изучавшего под микроскопом срез коры пробкового дуба, и пришедшего к выводу, что пробка состоит из множества маленьких полостей, которые он назвал клет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3"/>
          <p:cNvSpPr/>
          <p:nvPr/>
        </p:nvSpPr>
        <p:spPr>
          <a:xfrm>
            <a:off x="4932360" y="4581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БЕРТ Г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5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6" descr="robert_hooke.jpg"/>
          <p:cNvPicPr/>
          <p:nvPr/>
        </p:nvPicPr>
        <p:blipFill>
          <a:blip r:embed="rId2"/>
          <a:stretch/>
        </p:blipFill>
        <p:spPr>
          <a:xfrm>
            <a:off x="2340000" y="4149720"/>
            <a:ext cx="2090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5280" y="15570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животные – единственные млекопитающие способные летать. Их тело покрыто шерстью, а кожная перепонка крыльев гладкая. Назовите этих живот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7497720" y="755640"/>
            <a:ext cx="1347840" cy="1609560"/>
          </a:xfrm>
          <a:prstGeom prst="rect">
            <a:avLst/>
          </a:prstGeom>
          <a:ln w="0">
            <a:noFill/>
          </a:ln>
        </p:spPr>
      </p:pic>
      <p:sp>
        <p:nvSpPr>
          <p:cNvPr id="467" name="TextBox 4"/>
          <p:cNvSpPr/>
          <p:nvPr/>
        </p:nvSpPr>
        <p:spPr>
          <a:xfrm>
            <a:off x="4664160" y="4653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ТУЧИЕ МЫШ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ЛИ КРЫЛ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Рисунок 6" descr="krylan.jpg"/>
          <p:cNvPicPr/>
          <p:nvPr/>
        </p:nvPicPr>
        <p:blipFill>
          <a:blip r:embed="rId2"/>
          <a:stretch/>
        </p:blipFill>
        <p:spPr>
          <a:xfrm>
            <a:off x="826920" y="4005360"/>
            <a:ext cx="356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Т ТАК ЗЛА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24000" y="1413000"/>
            <a:ext cx="8496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а удивительная трава является самым высоким злаком. Её прочные  одревесневшие стебли, как и у всех злаков, полые внутри. По скорости роста – растение является чемпионом. Его стебли увеличиваются в длину не по дням, а по часа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это рас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1979640" y="5300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МБ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Рисунок 4" descr="11111.jpg"/>
          <p:cNvPicPr/>
          <p:nvPr/>
        </p:nvPicPr>
        <p:blipFill>
          <a:blip r:embed="rId1"/>
          <a:stretch/>
        </p:blipFill>
        <p:spPr>
          <a:xfrm>
            <a:off x="4500720" y="4869000"/>
            <a:ext cx="3004920" cy="16952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5" descr="зеленый-лист-15293585.jpg"/>
          <p:cNvPicPr/>
          <p:nvPr/>
        </p:nvPicPr>
        <p:blipFill>
          <a:blip r:embed="rId2"/>
          <a:stretch/>
        </p:blipFill>
        <p:spPr>
          <a:xfrm>
            <a:off x="7424640" y="396720"/>
            <a:ext cx="13478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 МОЛОДЦ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СПАСИБО ЗА ИГРУ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6a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2"/>
          <p:cNvSpPr/>
          <p:nvPr/>
        </p:nvSpPr>
        <p:spPr>
          <a:xfrm>
            <a:off x="395280" y="981000"/>
            <a:ext cx="84247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ttps://ru.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kipedi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ttp://www.liveinternet.ru/users/lokosa/post36723936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ttp://www.bamboopro.ru/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втор шаблона: Ранько Елена Алексее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diza-74.ucoz.ru/blog/klipart_vesennjaja_zelen_spring_verdure/2013-03-05-472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ипарт «Весенняя зел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allday2.com/index.php?newsid=34848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ипарт «Свежесть зелен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дивительные раст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И.В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ави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- Москва: Росмэн, 2015. - 47с: фотоил. - (Детская энциклопедия)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родовед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еша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А.А., Сонин Н.И. 6-е изд., стер. - М.: 2011. — 176 с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Биология 5 кла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Бактерии, грибы, растения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асечн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.В. - Издательство: Дрофа;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7662960" y="5778360"/>
            <a:ext cx="123660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зовите биологическую науку занимающуюся изучением живот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141720" y="551664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О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6" descr="1.png"/>
          <p:cNvPicPr/>
          <p:nvPr/>
        </p:nvPicPr>
        <p:blipFill>
          <a:blip r:embed="rId1"/>
          <a:stretch/>
        </p:blipFill>
        <p:spPr>
          <a:xfrm>
            <a:off x="3203640" y="3429000"/>
            <a:ext cx="2495520" cy="1838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43720" y="5645160"/>
            <a:ext cx="1455840" cy="8841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184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186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2205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науку изучающую рас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351960" y="56610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ОТА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лекарственные-растения-леса.jpg"/>
          <p:cNvPicPr/>
          <p:nvPr/>
        </p:nvPicPr>
        <p:blipFill>
          <a:blip r:embed="rId1"/>
          <a:stretch/>
        </p:blipFill>
        <p:spPr>
          <a:xfrm>
            <a:off x="3059280" y="2924280"/>
            <a:ext cx="3209760" cy="24080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194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196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5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 называется наука изучающая отношения организмов между собой и окружающей сред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286080" y="58770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Vozduh.jpg"/>
          <p:cNvPicPr/>
          <p:nvPr/>
        </p:nvPicPr>
        <p:blipFill>
          <a:blip r:embed="rId1"/>
          <a:stretch/>
        </p:blipFill>
        <p:spPr>
          <a:xfrm>
            <a:off x="2916360" y="3789360"/>
            <a:ext cx="3429000" cy="22003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depositphotos_30983941-stock-illustration-tree-of-life-for-green.jpg"/>
          <p:cNvPicPr/>
          <p:nvPr/>
        </p:nvPicPr>
        <p:blipFill>
          <a:blip r:embed="rId2"/>
          <a:stretch/>
        </p:blipFill>
        <p:spPr>
          <a:xfrm>
            <a:off x="7667640" y="907920"/>
            <a:ext cx="936720" cy="11239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зеленый-лист-15293585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2222.jpg"/>
          <p:cNvPicPr/>
          <p:nvPr/>
        </p:nvPicPr>
        <p:blipFill>
          <a:blip r:embed="rId5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05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07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560" y="1844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зовите биологическую науку, которая изучает строение и жизнедеятельность кле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134520" y="587700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ИТ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5" descr="Bior10_5_1.jpg"/>
          <p:cNvPicPr/>
          <p:nvPr/>
        </p:nvPicPr>
        <p:blipFill>
          <a:blip r:embed="rId1"/>
          <a:stretch/>
        </p:blipFill>
        <p:spPr>
          <a:xfrm>
            <a:off x="3059280" y="2924280"/>
            <a:ext cx="292716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1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1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науку которая изучает пт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2778480" y="558972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РНИТ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5" descr="1.jpg"/>
          <p:cNvPicPr/>
          <p:nvPr/>
        </p:nvPicPr>
        <p:blipFill>
          <a:blip r:embed="rId1"/>
          <a:stretch/>
        </p:blipFill>
        <p:spPr>
          <a:xfrm>
            <a:off x="3419640" y="2852640"/>
            <a:ext cx="2496960" cy="24307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2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2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50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 можно назвать одним словом пруд, озеро, море и океа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347280" y="573264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ДО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5" descr="Озеро_Шайтан.jpg"/>
          <p:cNvPicPr/>
          <p:nvPr/>
        </p:nvPicPr>
        <p:blipFill>
          <a:blip r:embed="rId1"/>
          <a:stretch/>
        </p:blipFill>
        <p:spPr>
          <a:xfrm>
            <a:off x="2268360" y="3429000"/>
            <a:ext cx="442764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3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3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0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админ</cp:lastModifiedBy>
  <dcterms:modified xsi:type="dcterms:W3CDTF">2022-11-16T20:11:49Z</dcterms:modified>
  <cp:revision>33</cp:revision>
  <dc:subject/>
  <dc:title>Слайд 1</dc:title>
</cp:coreProperties>
</file>