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drumroll.wav" ContentType="audio/x-wav"/>
  <Override PartName="/ppt/media/image26.jpeg" ContentType="image/jpeg"/>
  <Override PartName="/ppt/media/image4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23.jpeg" ContentType="image/jpeg"/>
  <Override PartName="/ppt/media/image49.png" ContentType="image/png"/>
  <Override PartName="/ppt/media/image3.jpeg" ContentType="image/jpeg"/>
  <Override PartName="/ppt/media/image25.jpeg" ContentType="image/jpeg"/>
  <Override PartName="/ppt/media/image10.jpeg" ContentType="image/jpeg"/>
  <Override PartName="/ppt/media/image28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44.jpeg" ContentType="image/jpeg"/>
  <Override PartName="/ppt/media/image45.jpeg" ContentType="image/jpeg"/>
  <Override PartName="/ppt/media/image46.png" ContentType="image/png"/>
  <Override PartName="/ppt/media/image19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2161-C2CE-4AC4-BD62-95D190D761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691-1E2C-44F5-8560-11C82BC7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D7E-F4B0-4C62-86AF-7860D0F9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197-D177-495E-A836-3DC412D1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562-2301-4E96-9EB7-83333053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4D7A-6193-4072-9CF5-CE9BF64B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5D0-2D89-4232-8AA5-539B4074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C5FA-DEC2-4DD0-9DB6-913251C2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F8A4-CEDB-416E-ADA3-BC0E2501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9F85-D393-4731-BFC1-8B599D13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15A3-4A19-4456-8EF6-2C7E8A41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17D2-CEAF-44FE-B57C-15969E1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7E3-7826-48A0-A453-46BF540A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54A8-6E9C-46AB-983B-8773F860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B0B3-1278-433B-A0DA-A1BF0C50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D16D-FDBC-4C0C-BEDE-419687AC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7DDC-A7B9-4218-ACDA-454E2BD0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3E43-8CD8-40A5-BD8E-E9F192DE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817C3-C1FC-43FF-8F7E-832581EE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B1C3-DE4D-4FF2-97E9-F2547756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4ED8-F151-4F29-8A50-25E958E3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3338-D76D-44EA-800B-58DE7D4F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E67B-9BC1-43F0-9C7F-C362E94F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D96-EEC8-4B63-8973-FCDA6A76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32BC-2371-4BB3-B2C8-1C89DB0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05F5-097B-490A-BC4A-AFC0DFF2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F08E5-B9A3-46E5-A4CA-1F042A82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0111-957D-46DC-B6BF-89D26BE8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7987-5CDA-489F-AD4F-989517E6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370F0-C246-4E93-B3F1-5078DDF6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3237-6B66-41D0-8CBB-F62A9F0D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06A0B-744C-422D-AED1-A67AB039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829AE-DCE3-460D-A946-0D5A755E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EEC9-5263-4ECF-8A53-79CFF5C7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DEE-5D2B-405D-9E50-45898A20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24900-03CC-4CE7-9B8E-D1211F30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24EA-5C26-47B8-AB2A-9A9ED279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2592-7EB6-47EE-B5EB-4FC26BB3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AB066-1BB4-484F-89CF-31473E64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87F96-215A-4E25-877F-8FE97041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56F1-8945-4F0A-94F9-AF3D103A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4B0B-D307-495A-BB93-20621B4F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3775-5B03-42CE-A808-16AAABE3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B45D-1D65-4D84-A464-7095CD30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52B-3A99-42F3-A8EF-477C0035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985-BBB8-46EB-9B8C-4A921858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558-9131-429F-8CCB-B25052ED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91D-FDF7-4986-A12B-5EF6B3FA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1B2-91DE-4B4D-8D7C-132ACD1E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C1E3-FC0E-4761-B37D-EA4A7196AE2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969D-D9BC-4217-8152-CDAF8A0BBE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2444-17AF-41A3-8EE5-815EDA0092C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7259-2675-4DB5-9196-508BC4B84A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6D25-CB18-43B7-B679-27962E89569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ECA8-8DDF-43D3-8B8A-A242BB4B0D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5ED3-92E9-4A97-8909-30B287D2846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A95E-26F1-489E-AEF1-1D75FEBE2A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" Target="slide3.xml"/><Relationship Id="rId5" Type="http://schemas.openxmlformats.org/officeDocument/2006/relationships/image" Target="../media/image20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google.ru/url?sa=i&amp;rct=j&amp;q=&amp;esrc=s&amp;source=images&amp;cd=&amp;cad=rja&amp;uact=8&amp;ved=0ahUKEwj9gsOl7_7RAhUHDSwKHUeYCIQQjRwIBw&amp;url=http%3A%2F%2Fxn----8sbiecm6bhdx8i.xn--p1ai%2Fnode%2F1038&amp;psig=AFQjCNH2OBO3edNd7wmxwYvY9hGBH6Gpxg&amp;ust=1486587270733039" TargetMode="External"/><Relationship Id="rId2" Type="http://schemas.openxmlformats.org/officeDocument/2006/relationships/hyperlink" Target="https://www.google.ru/url?sa=i&amp;rct=j&amp;q=&amp;esrc=s&amp;source=images&amp;cd=&amp;cad=rja&amp;uact=8&amp;ved=0ahUKEwj9gsOl7_7RAhUHDSwKHUeYCIQQjRwIBw&amp;url=http%3A%2F%2Fxn----8sbiecm6bhdx8i.xn--p1ai%2Fnode%2F1038&amp;psig=AFQjCNH2OBO3edNd7wmxwYvY9hGBH6Gpxg&amp;ust=1486587270733039" TargetMode="External"/><Relationship Id="rId3" Type="http://schemas.openxmlformats.org/officeDocument/2006/relationships/image" Target="../media/image22.png"/><Relationship Id="rId4" Type="http://schemas.openxmlformats.org/officeDocument/2006/relationships/slide" Target="slide3.xml"/><Relationship Id="rId5" Type="http://schemas.openxmlformats.org/officeDocument/2006/relationships/image" Target="../media/image11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3.xml"/><Relationship Id="rId3" Type="http://schemas.openxmlformats.org/officeDocument/2006/relationships/image" Target="../media/image2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3.xml"/><Relationship Id="rId3" Type="http://schemas.openxmlformats.org/officeDocument/2006/relationships/image" Target="../media/image29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3.xml"/><Relationship Id="rId3" Type="http://schemas.openxmlformats.org/officeDocument/2006/relationships/image" Target="../media/image3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3.xml"/><Relationship Id="rId3" Type="http://schemas.openxmlformats.org/officeDocument/2006/relationships/image" Target="../media/image3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3.xml"/><Relationship Id="rId3" Type="http://schemas.openxmlformats.org/officeDocument/2006/relationships/image" Target="../media/image3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3.xml"/><Relationship Id="rId3" Type="http://schemas.openxmlformats.org/officeDocument/2006/relationships/image" Target="../media/image40.png"/><Relationship Id="rId4" Type="http://schemas.openxmlformats.org/officeDocument/2006/relationships/slide" Target="slide3.xml"/><Relationship Id="rId5" Type="http://schemas.openxmlformats.org/officeDocument/2006/relationships/image" Target="../media/image41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9.xml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42.png"/><Relationship Id="rId3" Type="http://schemas.openxmlformats.org/officeDocument/2006/relationships/slide" Target="slide32.xml"/><Relationship Id="rId4" Type="http://schemas.openxmlformats.org/officeDocument/2006/relationships/image" Target="../media/image42.png"/><Relationship Id="rId5" Type="http://schemas.openxmlformats.org/officeDocument/2006/relationships/slide" Target="slide33.xml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3.xml"/><Relationship Id="rId4" Type="http://schemas.openxmlformats.org/officeDocument/2006/relationships/image" Target="../media/image11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66a28"/>
                </a:solidFill>
                <a:latin typeface="Georgia"/>
              </a:rPr>
              <a:t>Своя иг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56000" y="2204640"/>
            <a:ext cx="619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нимательная биолог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ля учащихся 5-6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3276720" y="4365720"/>
            <a:ext cx="53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учитель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ГОБУ  СШ  пгт Подосинов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охина Елена 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http://4.bp.blogspot.com/-rHjfpfYFAco/UJ87ec_i2UI/AAAAAAAAAaQ/3pnmMGx8Sb4/s1600/%D1%81%D0%BE%D0%B2%D0%B02.png"/>
          <p:cNvPicPr/>
          <p:nvPr/>
        </p:nvPicPr>
        <p:blipFill>
          <a:blip r:embed="rId1"/>
          <a:stretch/>
        </p:blipFill>
        <p:spPr>
          <a:xfrm>
            <a:off x="10117080" y="4270320"/>
            <a:ext cx="1903320" cy="25876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915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акое слово объединяет следующие прилагательные: лестничная, шахматная, грудная, растительная, нервная, мышечная, птичья, зверина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3699000" y="443700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44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46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50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одним словом: растения, грибы, животные и бактер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3414240" y="429264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Ц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53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55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50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одним словом  плесень, сыроежку, дрожж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3630600" y="580536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РИ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5" descr="5.jpg"/>
          <p:cNvPicPr/>
          <p:nvPr/>
        </p:nvPicPr>
        <p:blipFill>
          <a:blip r:embed="rId1"/>
          <a:stretch/>
        </p:blipFill>
        <p:spPr>
          <a:xfrm>
            <a:off x="6156360" y="3716280"/>
            <a:ext cx="2655720" cy="18367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7" descr="plesen2.jpg"/>
          <p:cNvPicPr/>
          <p:nvPr/>
        </p:nvPicPr>
        <p:blipFill>
          <a:blip r:embed="rId2"/>
          <a:stretch/>
        </p:blipFill>
        <p:spPr>
          <a:xfrm>
            <a:off x="395280" y="3716280"/>
            <a:ext cx="2592360" cy="1824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8" descr="syroezhka-4.jpg"/>
          <p:cNvPicPr/>
          <p:nvPr/>
        </p:nvPicPr>
        <p:blipFill>
          <a:blip r:embed="rId3"/>
          <a:stretch/>
        </p:blipFill>
        <p:spPr>
          <a:xfrm>
            <a:off x="3348000" y="37162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9" descr="зеленый-лист-15293585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29520" y="5516640"/>
            <a:ext cx="1670040" cy="10126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9" descr="2222.jpg"/>
          <p:cNvPicPr/>
          <p:nvPr/>
        </p:nvPicPr>
        <p:blipFill>
          <a:blip r:embed="rId6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65" name="Блок-схема: решение 14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67" name="Блок-схема: решение 16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Блок-схема: решение 17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" dur="50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зовите одним словом хлоропласты, хромопласты, лейкоплас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4356720" y="39337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ЛАСТ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5" descr="50.jpg"/>
          <p:cNvPicPr/>
          <p:nvPr/>
        </p:nvPicPr>
        <p:blipFill>
          <a:blip r:embed="rId1"/>
          <a:stretch/>
        </p:blipFill>
        <p:spPr>
          <a:xfrm>
            <a:off x="1258920" y="2852640"/>
            <a:ext cx="2976480" cy="37054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7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7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50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ая птица самая маленькая на свет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354480" y="558972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ОЛИБ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1"/>
          </p:cNvPr>
          <p:cNvSpPr/>
          <p:nvPr/>
        </p:nvSpPr>
        <p:spPr>
          <a:xfrm>
            <a:off x="54000" y="-944640"/>
            <a:ext cx="30481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>
            <a:hlinkClick r:id="rId2"/>
          </p:cNvPr>
          <p:cNvSpPr/>
          <p:nvPr/>
        </p:nvSpPr>
        <p:spPr>
          <a:xfrm>
            <a:off x="54000" y="-944640"/>
            <a:ext cx="30481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8" descr="untitled.png"/>
          <p:cNvPicPr/>
          <p:nvPr/>
        </p:nvPicPr>
        <p:blipFill>
          <a:blip r:embed="rId3"/>
          <a:stretch/>
        </p:blipFill>
        <p:spPr>
          <a:xfrm>
            <a:off x="2411280" y="2924280"/>
            <a:ext cx="4002120" cy="25812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зеленый-лист-15293585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2222.jpg"/>
          <p:cNvPicPr/>
          <p:nvPr/>
        </p:nvPicPr>
        <p:blipFill>
          <a:blip r:embed="rId6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87" name="Блок-схема: решение 14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89" name="Блок-схема: решение 16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Блок-схема: решение 17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5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амое быстрое животное суши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2690640" y="5805360"/>
            <a:ext cx="42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ЕПАРД, 110 КМ/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5" descr="1456411981_aziatskiy-gepard-interesnye-fakty-foto-i-kratkoe-opisanie.jpg"/>
          <p:cNvPicPr/>
          <p:nvPr/>
        </p:nvPicPr>
        <p:blipFill>
          <a:blip r:embed="rId1"/>
          <a:stretch/>
        </p:blipFill>
        <p:spPr>
          <a:xfrm>
            <a:off x="2411280" y="3068640"/>
            <a:ext cx="4645080" cy="232236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8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97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99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50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ая нить в природе самая тонкая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3564720" y="57326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АУ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5" descr="1404288722_k-chemu-prisnilas-pautina.jpg"/>
          <p:cNvPicPr/>
          <p:nvPr/>
        </p:nvPicPr>
        <p:blipFill>
          <a:blip r:embed="rId1"/>
          <a:stretch/>
        </p:blipFill>
        <p:spPr>
          <a:xfrm>
            <a:off x="2771640" y="3068640"/>
            <a:ext cx="3602160" cy="270504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97520" y="5297400"/>
            <a:ext cx="2035440" cy="12319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0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09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50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ой паук самый большой на Земле?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2779560" y="580536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АУК-ПТИЦЕ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5" descr="Мексиканский-паук-птицеед-на-ладони.jpg"/>
          <p:cNvPicPr/>
          <p:nvPr/>
        </p:nvPicPr>
        <p:blipFill>
          <a:blip r:embed="rId1"/>
          <a:stretch/>
        </p:blipFill>
        <p:spPr>
          <a:xfrm>
            <a:off x="2843280" y="3141720"/>
            <a:ext cx="3424320" cy="26971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4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1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19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50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амая большая змея на Земл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2433960" y="5805360"/>
            <a:ext cx="46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НАКОНДА, ДО 9 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5" descr="anaconda17.jpg"/>
          <p:cNvPicPr/>
          <p:nvPr/>
        </p:nvPicPr>
        <p:blipFill>
          <a:blip r:embed="rId1"/>
          <a:stretch/>
        </p:blipFill>
        <p:spPr>
          <a:xfrm>
            <a:off x="2195640" y="3141720"/>
            <a:ext cx="4860720" cy="27352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56440" y="5510160"/>
            <a:ext cx="1743120" cy="10191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27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29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9" dur="50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 этого вида приматов хвост за ненадобностью отпа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3489480" y="4437000"/>
            <a:ext cx="23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36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38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50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рау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Если сравнить лису с автомобилем, то какая часть тела выполняет функцию руля, т.е. помогает быстро поменять направление движе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773160" y="443700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В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45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47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50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611280" y="1700280"/>
            <a:ext cx="77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рупная ночная  хищная птица с мягким рыхлым оперением и приметными перьевыми ушками на голове. Гнезда не строят. Яйца откладывают в ямки на  земле, в нишах скал, птенцы появляются 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2"/>
          <p:cNvGrpSpPr/>
          <p:nvPr/>
        </p:nvGrpSpPr>
        <p:grpSpPr>
          <a:xfrm>
            <a:off x="2195640" y="3284640"/>
            <a:ext cx="4897440" cy="3305880"/>
            <a:chOff x="2195640" y="3284640"/>
            <a:chExt cx="4897440" cy="3305880"/>
          </a:xfrm>
        </p:grpSpPr>
        <p:sp>
          <p:nvSpPr>
            <p:cNvPr id="352" name="TextBox 12"/>
            <p:cNvSpPr/>
            <p:nvPr/>
          </p:nvSpPr>
          <p:spPr>
            <a:xfrm>
              <a:off x="3840120" y="6069960"/>
              <a:ext cx="16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mic Sans MS"/>
                </a:rPr>
                <a:t>ФИЛ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Picture 2" descr="http://novoeplamya.org/wp-content/uploads/2015/03/filin.jpg"/>
            <p:cNvPicPr/>
            <p:nvPr/>
          </p:nvPicPr>
          <p:blipFill>
            <a:blip r:embed="rId1"/>
            <a:stretch/>
          </p:blipFill>
          <p:spPr>
            <a:xfrm>
              <a:off x="2195640" y="3284640"/>
              <a:ext cx="4897440" cy="289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4" name="Рисунок 8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56440" y="5473800"/>
            <a:ext cx="1743120" cy="10555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56" name="Блок-схема: решение 14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58" name="Блок-схема: решение 16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Блок-схема: решение 17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50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Эти странные нелетающие птицы из Новой Зеландии живут в норах под землей и лишь по ночам выбираются из них. Название этих птиц созвучно с названием тропического фрук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3426840" y="530064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И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0" descr="kiwi_4.jpg"/>
          <p:cNvPicPr/>
          <p:nvPr/>
        </p:nvPicPr>
        <p:blipFill>
          <a:blip r:embed="rId4"/>
          <a:stretch/>
        </p:blipFill>
        <p:spPr>
          <a:xfrm>
            <a:off x="804960" y="4653000"/>
            <a:ext cx="2536560" cy="172872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1" descr="456727.jpg"/>
          <p:cNvPicPr/>
          <p:nvPr/>
        </p:nvPicPr>
        <p:blipFill>
          <a:blip r:embed="rId5"/>
          <a:stretch/>
        </p:blipFill>
        <p:spPr>
          <a:xfrm>
            <a:off x="4788000" y="4653000"/>
            <a:ext cx="2252520" cy="1728720"/>
          </a:xfrm>
          <a:prstGeom prst="rect">
            <a:avLst/>
          </a:prstGeom>
          <a:ln w="0">
            <a:noFill/>
          </a:ln>
        </p:spPr>
      </p:pic>
      <p:sp>
        <p:nvSpPr>
          <p:cNvPr id="367" name="Блок-схема: решение 12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69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3" dur="50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Эти удивительные животные подкладывают свои яйца в гнезда других птиц. А когда из яйца появляется птенец, он выкидывает из гнезда яйца других птиц и их птенц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4427640" y="537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0" descr="Coucou_gris_juv_VIGN_5BB_20072008_-_Ouessant.jpg"/>
          <p:cNvPicPr/>
          <p:nvPr/>
        </p:nvPicPr>
        <p:blipFill>
          <a:blip r:embed="rId4"/>
          <a:stretch/>
        </p:blipFill>
        <p:spPr>
          <a:xfrm>
            <a:off x="2411280" y="4797360"/>
            <a:ext cx="1995480" cy="1575000"/>
          </a:xfrm>
          <a:prstGeom prst="rect">
            <a:avLst/>
          </a:prstGeom>
          <a:ln w="0">
            <a:noFill/>
          </a:ln>
        </p:spPr>
      </p:pic>
      <p:sp>
        <p:nvSpPr>
          <p:cNvPr id="377" name="Блок-схема: решение 13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79" name="Блок-схема: решение 15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Блок-схема: решение 16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9" dur="50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ое растение носит название                  глаза птицы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6"/>
          <p:cNvSpPr/>
          <p:nvPr/>
        </p:nvSpPr>
        <p:spPr>
          <a:xfrm>
            <a:off x="2556000" y="5877000"/>
            <a:ext cx="41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РОНИЙ ГЛ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5" descr="0_a7f86_7940bfd1_orig.jpg"/>
          <p:cNvPicPr/>
          <p:nvPr/>
        </p:nvPicPr>
        <p:blipFill>
          <a:blip r:embed="rId1"/>
          <a:stretch/>
        </p:blipFill>
        <p:spPr>
          <a:xfrm>
            <a:off x="2268360" y="2852640"/>
            <a:ext cx="4427640" cy="29527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87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89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45" dur="50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рямоугольник 1"/>
          <p:cNvSpPr/>
          <p:nvPr/>
        </p:nvSpPr>
        <p:spPr>
          <a:xfrm>
            <a:off x="395280" y="21366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ндейцы называют это растение «след белого человека». Его семена цепляются за обувь, за колёса машин, за лапы животных и разносятся везде, где живёт человек. В трудную минуту растение придёт на помощь человеку. О каком растении идё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3" descr="properties-plantain1.jpg"/>
          <p:cNvPicPr/>
          <p:nvPr/>
        </p:nvPicPr>
        <p:blipFill>
          <a:blip r:embed="rId1"/>
          <a:stretch/>
        </p:blipFill>
        <p:spPr>
          <a:xfrm>
            <a:off x="1763640" y="4292640"/>
            <a:ext cx="2625840" cy="18972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4714200" y="4797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ОРО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Рисунок 5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9880" y="5735520"/>
            <a:ext cx="1309680" cy="79380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9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99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50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395280" y="21366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Где-то, в чаще дремучей, за оградой колючей, у заветного местечка есть волшебная аптечка. Там красные таблетки развешаны на ветк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овите это популярное рас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3506040" y="59500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ШИП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4" descr="shipovnik-dlya-pohudeniya-1.jpg"/>
          <p:cNvPicPr/>
          <p:nvPr/>
        </p:nvPicPr>
        <p:blipFill>
          <a:blip r:embed="rId1"/>
          <a:stretch/>
        </p:blipFill>
        <p:spPr>
          <a:xfrm>
            <a:off x="2627280" y="3933720"/>
            <a:ext cx="3867120" cy="194328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5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9880" y="5735520"/>
            <a:ext cx="1309680" cy="7938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40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409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7" dur="50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 каком растении говоря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Эй, брат комарик, береги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куст ее ты не садись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дется с жизнью распрощать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 сядешь — вновь уж не подняться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Группа 7"/>
          <p:cNvGrpSpPr/>
          <p:nvPr/>
        </p:nvGrpSpPr>
        <p:grpSpPr>
          <a:xfrm>
            <a:off x="1969200" y="3789360"/>
            <a:ext cx="5081760" cy="2841120"/>
            <a:chOff x="1969200" y="3789360"/>
            <a:chExt cx="5081760" cy="2841120"/>
          </a:xfrm>
        </p:grpSpPr>
        <p:sp>
          <p:nvSpPr>
            <p:cNvPr id="414" name="TextBox 8"/>
            <p:cNvSpPr/>
            <p:nvPr/>
          </p:nvSpPr>
          <p:spPr>
            <a:xfrm>
              <a:off x="1969200" y="6109920"/>
              <a:ext cx="508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РОСЯНКА КРУГЛОЛИСТ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Picture 2" descr="http://dic.academic.ru/pictures/wiki/files/68/Drosera-rotundifolia.jpg"/>
            <p:cNvPicPr/>
            <p:nvPr/>
          </p:nvPicPr>
          <p:blipFill>
            <a:blip r:embed="rId1"/>
            <a:stretch/>
          </p:blipFill>
          <p:spPr>
            <a:xfrm>
              <a:off x="2370960" y="3789360"/>
              <a:ext cx="4151880" cy="24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6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688000"/>
            <a:ext cx="1382760" cy="8413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418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420" name="Блок-схема: решение 15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Блок-схема: решение 16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0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2" dur="50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5153760" y="530064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ЕР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324000" y="1844640"/>
            <a:ext cx="849600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ногие народы, живущие на территории России, почитали это дерево, как священное. По якутским поверьям, на ветках этого дерева живет Хозяйка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А вот что поется в русской песне об этом дереве: «Первое дело – мир освещать, второе дело – скрип утешать, третье дело – больных исцелять, четвертое дело – чистоту соблюдать». Что это за дерев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Рисунок 5" descr="beryozovaya_opushka_0.jpg"/>
          <p:cNvPicPr/>
          <p:nvPr/>
        </p:nvPicPr>
        <p:blipFill>
          <a:blip r:embed="rId1"/>
          <a:stretch/>
        </p:blipFill>
        <p:spPr>
          <a:xfrm>
            <a:off x="2411280" y="4724280"/>
            <a:ext cx="2333880" cy="17510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08760" y="5864400"/>
            <a:ext cx="1090800" cy="6649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6" descr="зеленый-лист-15293585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08760" y="5797440"/>
            <a:ext cx="1090800" cy="66996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9" descr="2222.jpg"/>
          <p:cNvPicPr/>
          <p:nvPr/>
        </p:nvPicPr>
        <p:blipFill>
          <a:blip r:embed="rId6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429" name="Блок-схема: решение 12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431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8" dur="50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рау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627280"/>
                <a:gridCol w="1297080"/>
                <a:gridCol w="1295280"/>
                <a:gridCol w="1216080"/>
                <a:gridCol w="1270080"/>
                <a:gridCol w="1438200"/>
              </a:tblGrid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дивительные рас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Биологические дисципл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Биология одним сло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амое-самое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дивительные живо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pic>
        <p:nvPicPr>
          <p:cNvPr id="177" name="Рисунок 4" descr="listik.png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8459640" y="6453360"/>
            <a:ext cx="684360" cy="48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ология в вопрос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59280" y="1557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Ф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Содержимое 2"/>
          <p:cNvSpPr/>
          <p:nvPr/>
        </p:nvSpPr>
        <p:spPr>
          <a:xfrm>
            <a:off x="3059280" y="3213000"/>
            <a:ext cx="5832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РЕВО-ГИГ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одержимое 2"/>
          <p:cNvSpPr/>
          <p:nvPr/>
        </p:nvSpPr>
        <p:spPr>
          <a:xfrm>
            <a:off x="3059280" y="2349360"/>
            <a:ext cx="590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О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одержимое 2"/>
          <p:cNvSpPr/>
          <p:nvPr/>
        </p:nvSpPr>
        <p:spPr>
          <a:xfrm>
            <a:off x="3059280" y="4076640"/>
            <a:ext cx="583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7" descr="listik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63640" y="1557360"/>
            <a:ext cx="1152720" cy="71928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10" descr="listik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63640" y="2349360"/>
            <a:ext cx="1152720" cy="71928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11" descr="listik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63640" y="3213000"/>
            <a:ext cx="1152720" cy="72072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12" descr="listik.png"/>
          <p:cNvPicPr/>
          <p:nvPr/>
        </p:nvPicPr>
        <p:blipFill>
          <a:blip r:embed="rId7"/>
          <a:stretch/>
        </p:blipFill>
        <p:spPr>
          <a:xfrm>
            <a:off x="1763640" y="4076640"/>
            <a:ext cx="1152720" cy="72072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12" descr="listik.png"/>
          <p:cNvPicPr/>
          <p:nvPr/>
        </p:nvPicPr>
        <p:blipFill>
          <a:blip r:embed="rId8"/>
          <a:stretch/>
        </p:blipFill>
        <p:spPr>
          <a:xfrm>
            <a:off x="1763640" y="4869000"/>
            <a:ext cx="1152720" cy="720720"/>
          </a:xfrm>
          <a:prstGeom prst="rect">
            <a:avLst/>
          </a:prstGeom>
          <a:ln w="0">
            <a:noFill/>
          </a:ln>
        </p:spPr>
      </p:pic>
      <p:sp>
        <p:nvSpPr>
          <p:cNvPr id="444" name="Содержимое 2"/>
          <p:cNvSpPr/>
          <p:nvPr/>
        </p:nvSpPr>
        <p:spPr>
          <a:xfrm>
            <a:off x="3059280" y="4941720"/>
            <a:ext cx="583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ЛЕКОПИТ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14"/>
          <p:cNvSpPr/>
          <p:nvPr/>
        </p:nvSpPr>
        <p:spPr>
          <a:xfrm>
            <a:off x="3109320" y="5732640"/>
            <a:ext cx="38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ТАК ЗЛА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12" descr="listik.png"/>
          <p:cNvPicPr/>
          <p:nvPr/>
        </p:nvPicPr>
        <p:blipFill>
          <a:blip r:embed="rId9"/>
          <a:stretch/>
        </p:blipFill>
        <p:spPr>
          <a:xfrm>
            <a:off x="1763640" y="5732640"/>
            <a:ext cx="1152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но древнегреческому мифу, бог света и искусств Аполлон полюбил прекрасную нимфу Дафну. Но она в страхе стремилась скрыться от него. Когда же у нее не осталось сил бежать, она превратилась в прекрасное дерево. Опечаленный Аполлон воскликнул: “Пусть венок из твоей зелени украшает мою голову, пусть никогда не вянут твои листья. Стой вечно зеленым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явление какого растения объясняла эта легенд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Рисунок 6" descr="зеленый-лист-15293585.jpg"/>
          <p:cNvPicPr/>
          <p:nvPr/>
        </p:nvPicPr>
        <p:blipFill>
          <a:blip r:embed="rId1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4"/>
          <p:cNvSpPr/>
          <p:nvPr/>
        </p:nvSpPr>
        <p:spPr>
          <a:xfrm>
            <a:off x="684360" y="6021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АК ПОЯВИЛ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АВР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ЛАГОР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гласно русской пословице, голову нужно держать в холод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где, согласно этой же пословицы, нужно держать ноги и живо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РЖИ ГОЛОВУ В ХОЛОДЕ, ЖИВОТ В ГОЛОДЕ, А НОГИ В ТЕПЛЕ. Именно тогда ты сможешь быстро принимать решения и трезво мыслить, быстро двигаться, и точно не заработаешь простуду, если ноги содержишь в тепл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Рисунок 4" descr="зеленый-лист-15293585.jpg"/>
          <p:cNvPicPr/>
          <p:nvPr/>
        </p:nvPicPr>
        <p:blipFill>
          <a:blip r:embed="rId1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РЕВО-ГИГ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95280" y="1557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вечнозеленые хвойные деревья растут в Кордильерах. Их высота до 100 м, а ширина до 10 м. Они живут по несколько тысяч лет. Шишка бывает размером с большую тыкв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овите это удивительное дере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3348000" y="479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КВ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Рисунок 4" descr="032.jpg"/>
          <p:cNvPicPr/>
          <p:nvPr/>
        </p:nvPicPr>
        <p:blipFill>
          <a:blip r:embed="rId1"/>
          <a:stretch/>
        </p:blipFill>
        <p:spPr>
          <a:xfrm>
            <a:off x="2484360" y="4076640"/>
            <a:ext cx="1676520" cy="249408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6" descr="зеленый-лист-15293585.jpg"/>
          <p:cNvPicPr/>
          <p:nvPr/>
        </p:nvPicPr>
        <p:blipFill>
          <a:blip r:embed="rId2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фамилию ученого, изучавшего под микроскопом срез коры пробкового дуба, и пришедшего к выводу, что пробка состоит из множества маленьких полостей, которые он назвал клет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Box 3"/>
          <p:cNvSpPr/>
          <p:nvPr/>
        </p:nvSpPr>
        <p:spPr>
          <a:xfrm>
            <a:off x="4932360" y="4581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ОБЕРТ Г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Рисунок 5" descr="зеленый-лист-15293585.jpg"/>
          <p:cNvPicPr/>
          <p:nvPr/>
        </p:nvPicPr>
        <p:blipFill>
          <a:blip r:embed="rId1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6" descr="robert_hooke.jpg"/>
          <p:cNvPicPr/>
          <p:nvPr/>
        </p:nvPicPr>
        <p:blipFill>
          <a:blip r:embed="rId2"/>
          <a:stretch/>
        </p:blipFill>
        <p:spPr>
          <a:xfrm>
            <a:off x="2340000" y="4149720"/>
            <a:ext cx="2090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5280" y="15570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животные – единственные млекопитающие способные летать. Их тело покрыто шерстью, а кожная перепонка крыльев гладкая. Назовите этих живот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Рисунок 3" descr="зеленый-лист-15293585.jpg"/>
          <p:cNvPicPr/>
          <p:nvPr/>
        </p:nvPicPr>
        <p:blipFill>
          <a:blip r:embed="rId1"/>
          <a:stretch/>
        </p:blipFill>
        <p:spPr>
          <a:xfrm>
            <a:off x="7497720" y="755640"/>
            <a:ext cx="1347840" cy="1609560"/>
          </a:xfrm>
          <a:prstGeom prst="rect">
            <a:avLst/>
          </a:prstGeom>
          <a:ln w="0">
            <a:noFill/>
          </a:ln>
        </p:spPr>
      </p:pic>
      <p:sp>
        <p:nvSpPr>
          <p:cNvPr id="467" name="TextBox 4"/>
          <p:cNvSpPr/>
          <p:nvPr/>
        </p:nvSpPr>
        <p:spPr>
          <a:xfrm>
            <a:off x="4664160" y="465300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ТУЧИЕ МЫШ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ЛИ КРЫЛ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Рисунок 6" descr="krylan.jpg"/>
          <p:cNvPicPr/>
          <p:nvPr/>
        </p:nvPicPr>
        <p:blipFill>
          <a:blip r:embed="rId2"/>
          <a:stretch/>
        </p:blipFill>
        <p:spPr>
          <a:xfrm>
            <a:off x="826920" y="4005360"/>
            <a:ext cx="3565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Т ТАК ЗЛАК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24000" y="1413000"/>
            <a:ext cx="8496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а удивительная трава является самым высоким злаком. Её прочные  одревесневшие стебли, как и у всех злаков, полые внутри. По скорости роста – растение является чемпионом. Его стебли увеличиваются в длину не по дням, а по часа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это рас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3"/>
          <p:cNvSpPr/>
          <p:nvPr/>
        </p:nvSpPr>
        <p:spPr>
          <a:xfrm>
            <a:off x="1979640" y="5300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АМБ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Рисунок 4" descr="11111.jpg"/>
          <p:cNvPicPr/>
          <p:nvPr/>
        </p:nvPicPr>
        <p:blipFill>
          <a:blip r:embed="rId1"/>
          <a:stretch/>
        </p:blipFill>
        <p:spPr>
          <a:xfrm>
            <a:off x="4500720" y="4869000"/>
            <a:ext cx="3004920" cy="169524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5" descr="зеленый-лист-15293585.jpg"/>
          <p:cNvPicPr/>
          <p:nvPr/>
        </p:nvPicPr>
        <p:blipFill>
          <a:blip r:embed="rId2"/>
          <a:stretch/>
        </p:blipFill>
        <p:spPr>
          <a:xfrm>
            <a:off x="7424640" y="396720"/>
            <a:ext cx="13478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 МОЛОДЦ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Рисунок 3" descr="зеленый-лист-15293585.jpg"/>
          <p:cNvPicPr/>
          <p:nvPr/>
        </p:nvPicPr>
        <p:blipFill>
          <a:blip r:embed="rId1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СПАСИБО ЗА ИГРУ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2" dur="2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66a2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2"/>
          <p:cNvSpPr/>
          <p:nvPr/>
        </p:nvSpPr>
        <p:spPr>
          <a:xfrm>
            <a:off x="395280" y="981000"/>
            <a:ext cx="84247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ttps://ru.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kipedia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ttp://www.liveinternet.ru/users/lokosa/post36723936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ttp://www.bamboopro.ru/pl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втор шаблона: Ранько Елена Алексее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diza-74.ucoz.ru/blog/klipart_vesennjaja_zelen_spring_verdure/2013-03-05-472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ипарт «Весенняя зел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allday2.com/index.php?newsid=34848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ипарт «Свежесть зелен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Удивительные раст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 И.В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ави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- Москва: Росмэн, 2015. - 47с: фотоил. - (Детская энциклопедия)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родовед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ешак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А.А., Сонин Н.И. 6-е изд., стер. - М.: 2011. — 176 с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Биология 5 клас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Бактерии, грибы, растения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асечни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.В. - Издательство: Дрофа;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Рисунок 3" descr="зеленый-лист-15293585.jpg"/>
          <p:cNvPicPr/>
          <p:nvPr/>
        </p:nvPicPr>
        <p:blipFill>
          <a:blip r:embed="rId1"/>
          <a:stretch/>
        </p:blipFill>
        <p:spPr>
          <a:xfrm>
            <a:off x="7662960" y="5778360"/>
            <a:ext cx="123660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азовите биологическую науку занимающуюся изучением живот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3141720" y="5516640"/>
            <a:ext cx="27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О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6" descr="1.png"/>
          <p:cNvPicPr/>
          <p:nvPr/>
        </p:nvPicPr>
        <p:blipFill>
          <a:blip r:embed="rId1"/>
          <a:stretch/>
        </p:blipFill>
        <p:spPr>
          <a:xfrm>
            <a:off x="3203640" y="3429000"/>
            <a:ext cx="2495520" cy="18381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43720" y="5645160"/>
            <a:ext cx="1455840" cy="8841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184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186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50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22050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науку изучающую рас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351960" y="5661000"/>
            <a:ext cx="26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БОТА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5" descr="лекарственные-растения-леса.jpg"/>
          <p:cNvPicPr/>
          <p:nvPr/>
        </p:nvPicPr>
        <p:blipFill>
          <a:blip r:embed="rId1"/>
          <a:stretch/>
        </p:blipFill>
        <p:spPr>
          <a:xfrm>
            <a:off x="3059280" y="2924280"/>
            <a:ext cx="3209760" cy="24080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194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196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5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ак называется наука изучающая отношения организмов между собой и окружающей сред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3286080" y="587700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5" descr="Vozduh.jpg"/>
          <p:cNvPicPr/>
          <p:nvPr/>
        </p:nvPicPr>
        <p:blipFill>
          <a:blip r:embed="rId1"/>
          <a:stretch/>
        </p:blipFill>
        <p:spPr>
          <a:xfrm>
            <a:off x="2916360" y="3789360"/>
            <a:ext cx="3429000" cy="22003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6" descr="depositphotos_30983941-stock-illustration-tree-of-life-for-green.jpg"/>
          <p:cNvPicPr/>
          <p:nvPr/>
        </p:nvPicPr>
        <p:blipFill>
          <a:blip r:embed="rId2"/>
          <a:stretch/>
        </p:blipFill>
        <p:spPr>
          <a:xfrm>
            <a:off x="7667640" y="907920"/>
            <a:ext cx="936720" cy="11239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7" descr="зеленый-лист-15293585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2222.jpg"/>
          <p:cNvPicPr/>
          <p:nvPr/>
        </p:nvPicPr>
        <p:blipFill>
          <a:blip r:embed="rId5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05" name="Блок-схема: решение 12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07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0560" y="1844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азовите биологическую науку, которая изучает строение и жизнедеятельность клет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134520" y="587700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ЦИТ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5" descr="Bior10_5_1.jpg"/>
          <p:cNvPicPr/>
          <p:nvPr/>
        </p:nvPicPr>
        <p:blipFill>
          <a:blip r:embed="rId1"/>
          <a:stretch/>
        </p:blipFill>
        <p:spPr>
          <a:xfrm>
            <a:off x="3059280" y="2924280"/>
            <a:ext cx="2927160" cy="28083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1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1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науку которая изучает пт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2778480" y="5589720"/>
            <a:ext cx="36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РНИТ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5" descr="1.jpg"/>
          <p:cNvPicPr/>
          <p:nvPr/>
        </p:nvPicPr>
        <p:blipFill>
          <a:blip r:embed="rId1"/>
          <a:stretch/>
        </p:blipFill>
        <p:spPr>
          <a:xfrm>
            <a:off x="3419640" y="2852640"/>
            <a:ext cx="2496960" cy="24307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2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2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50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ак можно назвать одним словом пруд, озеро, море и океан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3347280" y="573264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ДО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5" descr="Озеро_Шайтан.jpg"/>
          <p:cNvPicPr/>
          <p:nvPr/>
        </p:nvPicPr>
        <p:blipFill>
          <a:blip r:embed="rId1"/>
          <a:stretch/>
        </p:blipFill>
        <p:spPr>
          <a:xfrm>
            <a:off x="2268360" y="3429000"/>
            <a:ext cx="4427640" cy="2058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3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3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50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08:38:35Z</dcterms:created>
  <dc:creator>Елена</dc:creator>
  <dc:description/>
  <dc:language>en-US</dc:language>
  <cp:lastModifiedBy>админ</cp:lastModifiedBy>
  <dcterms:modified xsi:type="dcterms:W3CDTF">2022-11-16T20:11:49Z</dcterms:modified>
  <cp:revision>33</cp:revision>
  <dc:subject/>
  <dc:title>Слайд 1</dc:title>
</cp:coreProperties>
</file>