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1.gif" ContentType="image/gi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24A-1CB3-4454-8954-CED9A1AE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E36-DE5E-4D86-A9C5-46D39BB9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16D-B9A3-4FF9-9EA4-56745C79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EA4-3BE9-49B5-9D6B-62070C2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6A2-E333-4123-B925-1903BEAE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B81-5F3F-4821-B1B2-3444FEDD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768-55CC-4E74-9312-78809F16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034-9B8B-43BD-A0E3-F5A69547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47C-0431-4EE7-8592-AD9B7E3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463-68A2-4DE8-8B13-DDF9A476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FE9-7A36-4DFE-9531-779D96E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5A5-C172-4200-AEC8-AC9B250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2406-B4CF-457A-BE4F-96484295A3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47600" y="920880"/>
            <a:ext cx="76456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611280" y="2565360"/>
            <a:ext cx="624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нового вы узнали о букв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это зву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:\Users\Helen\Desktop\схемы\схемы\2011-09-08_194010.jpg"/>
          <p:cNvPicPr/>
          <p:nvPr/>
        </p:nvPicPr>
        <p:blipFill>
          <a:blip r:embed="rId1"/>
          <a:stretch/>
        </p:blipFill>
        <p:spPr>
          <a:xfrm>
            <a:off x="4286160" y="285840"/>
            <a:ext cx="212724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Helen\Desktop\схемы\схемы\2011-09-08_193941.jpg"/>
          <p:cNvPicPr/>
          <p:nvPr/>
        </p:nvPicPr>
        <p:blipFill>
          <a:blip r:embed="rId2"/>
          <a:stretch/>
        </p:blipFill>
        <p:spPr>
          <a:xfrm>
            <a:off x="6643800" y="285840"/>
            <a:ext cx="220176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elen\Desktop\схемы\схемы\2011-09-08_193707.jpg"/>
          <p:cNvPicPr/>
          <p:nvPr/>
        </p:nvPicPr>
        <p:blipFill>
          <a:blip r:embed="rId3"/>
          <a:stretch/>
        </p:blipFill>
        <p:spPr>
          <a:xfrm>
            <a:off x="5500800" y="4429080"/>
            <a:ext cx="2906640" cy="14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Helen\Desktop\схемы\схемы\2011-09-08_193731.jpg"/>
          <p:cNvPicPr/>
          <p:nvPr/>
        </p:nvPicPr>
        <p:blipFill>
          <a:blip r:embed="rId4"/>
          <a:stretch/>
        </p:blipFill>
        <p:spPr>
          <a:xfrm>
            <a:off x="5500800" y="2714760"/>
            <a:ext cx="2808000" cy="142848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357120" y="0"/>
            <a:ext cx="178596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1928880" y="1214280"/>
            <a:ext cx="1143000" cy="17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5"/>
          <a:stretch/>
        </p:blipFill>
        <p:spPr>
          <a:xfrm>
            <a:off x="817560" y="4011480"/>
            <a:ext cx="4363920" cy="2382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32000" y="1341360"/>
          <a:ext cx="7127640" cy="3862440"/>
        </p:xfrm>
        <a:graphic>
          <a:graphicData uri="http://schemas.openxmlformats.org/drawingml/2006/table">
            <a:tbl>
              <a:tblPr/>
              <a:tblGrid>
                <a:gridCol w="3564000"/>
                <a:gridCol w="3563640"/>
              </a:tblGrid>
              <a:tr h="3311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о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у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ы – б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 – бе 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о – бе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у – бе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ы – бе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0" descr="http://www.miksike.net/documents/main/1klass/1bukvy/images/Image15.gif"/>
          <p:cNvPicPr/>
          <p:nvPr/>
        </p:nvPicPr>
        <p:blipFill>
          <a:blip r:embed="rId1"/>
          <a:stretch/>
        </p:blipFill>
        <p:spPr>
          <a:xfrm>
            <a:off x="5148360" y="472428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miksike.net/documents/main/1klass/1bukvy/images/Image13.gif"/>
          <p:cNvPicPr/>
          <p:nvPr/>
        </p:nvPicPr>
        <p:blipFill>
          <a:blip r:embed="rId2"/>
          <a:stretch/>
        </p:blipFill>
        <p:spPr>
          <a:xfrm>
            <a:off x="6732720" y="4724280"/>
            <a:ext cx="141912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miksike.net/documents/main/1klass/1bukvy/images/Image15.gif"/>
          <p:cNvPicPr/>
          <p:nvPr/>
        </p:nvPicPr>
        <p:blipFill>
          <a:blip r:embed="rId3"/>
          <a:stretch/>
        </p:blipFill>
        <p:spPr>
          <a:xfrm>
            <a:off x="1476360" y="4724280"/>
            <a:ext cx="144000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miksike.net/documents/main/1klass/1bukvy/images/Image13.gif"/>
          <p:cNvPicPr/>
          <p:nvPr/>
        </p:nvPicPr>
        <p:blipFill>
          <a:blip r:embed="rId4"/>
          <a:stretch/>
        </p:blipFill>
        <p:spPr>
          <a:xfrm>
            <a:off x="3124080" y="4724280"/>
            <a:ext cx="151452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68360" y="404640"/>
            <a:ext cx="8351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сабли      бант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уква       вер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ензин     бин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елка       б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исквит   бер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404640"/>
            <a:ext cx="9072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краб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коб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усы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усника   бус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ат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ов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ребро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л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Helen\Desktop\схемы\буквы\79606090.gif"/>
          <p:cNvPicPr/>
          <p:nvPr/>
        </p:nvPicPr>
        <p:blipFill>
          <a:blip r:embed="rId1"/>
          <a:stretch/>
        </p:blipFill>
        <p:spPr>
          <a:xfrm>
            <a:off x="684360" y="622440"/>
            <a:ext cx="8064360" cy="6073560"/>
          </a:xfrm>
          <a:prstGeom prst="rect">
            <a:avLst/>
          </a:prstGeom>
          <a:ln w="0">
            <a:noFill/>
          </a:ln>
        </p:spPr>
      </p:pic>
      <p:pic>
        <p:nvPicPr>
          <p:cNvPr id="57" name="Запи1383.WAV" descr=""/>
          <p:cNvPicPr/>
          <p:nvPr/>
        </p:nvPicPr>
        <p:blipFill>
          <a:blip r:embed="rId2"/>
          <a:stretch/>
        </p:blipFill>
        <p:spPr>
          <a:xfrm>
            <a:off x="8388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58000" y="189000"/>
            <a:ext cx="588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слова с твёрдым согласным звуком [б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4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405960" y="558972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тр. 9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9734" b="34832"/>
          <a:stretch/>
        </p:blipFill>
        <p:spPr>
          <a:xfrm>
            <a:off x="1476360" y="189000"/>
            <a:ext cx="6480360" cy="6369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28986" r="0" b="0"/>
          <a:stretch/>
        </p:blipFill>
        <p:spPr>
          <a:xfrm>
            <a:off x="1187280" y="0"/>
            <a:ext cx="7054920" cy="6858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9Z</dcterms:created>
  <dc:creator>Helen</dc:creator>
  <dc:description/>
  <dc:language>en-US</dc:language>
  <cp:lastModifiedBy>user</cp:lastModifiedBy>
  <dcterms:modified xsi:type="dcterms:W3CDTF">2022-11-17T18:45:03Z</dcterms:modified>
  <cp:revision>54</cp:revision>
  <dc:subject/>
  <dc:title>Слайд 1</dc:title>
</cp:coreProperties>
</file>