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1.gif" ContentType="image/gi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CA6-8C47-44DD-A1E7-B9A5F369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090-64C8-4B98-BA72-9ED797F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9CF-8A03-487F-975B-34480438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B35-7980-466A-8648-614F911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E60-3AB7-43B3-AF8C-381D92B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3F0-26FA-4E7F-BB47-92263144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BCB-70E4-43D6-818D-20647AA9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E20-121B-4277-B5CE-E178539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E47-4228-4EB1-8827-19A2C9A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782-8194-483E-8205-A49C677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E6B-33C3-48F3-A332-F9D3F142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CDB-6994-401D-A1DE-D81114F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B50-3499-4C69-ACBE-AEB7467BB3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047600" y="920880"/>
            <a:ext cx="7645680" cy="3541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611280" y="2565360"/>
            <a:ext cx="624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нового вы узнали о букв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ие это зву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:\Users\Helen\Desktop\схемы\схемы\2011-09-08_194010.jpg"/>
          <p:cNvPicPr/>
          <p:nvPr/>
        </p:nvPicPr>
        <p:blipFill>
          <a:blip r:embed="rId1"/>
          <a:stretch/>
        </p:blipFill>
        <p:spPr>
          <a:xfrm>
            <a:off x="4286160" y="285840"/>
            <a:ext cx="212724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Helen\Desktop\схемы\схемы\2011-09-08_193941.jpg"/>
          <p:cNvPicPr/>
          <p:nvPr/>
        </p:nvPicPr>
        <p:blipFill>
          <a:blip r:embed="rId2"/>
          <a:stretch/>
        </p:blipFill>
        <p:spPr>
          <a:xfrm>
            <a:off x="6643800" y="285840"/>
            <a:ext cx="22017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elen\Desktop\схемы\схемы\2011-09-08_193707.jpg"/>
          <p:cNvPicPr/>
          <p:nvPr/>
        </p:nvPicPr>
        <p:blipFill>
          <a:blip r:embed="rId3"/>
          <a:stretch/>
        </p:blipFill>
        <p:spPr>
          <a:xfrm>
            <a:off x="5500800" y="4429080"/>
            <a:ext cx="2906640" cy="14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Helen\Desktop\схемы\схемы\2011-09-08_193731.jpg"/>
          <p:cNvPicPr/>
          <p:nvPr/>
        </p:nvPicPr>
        <p:blipFill>
          <a:blip r:embed="rId4"/>
          <a:stretch/>
        </p:blipFill>
        <p:spPr>
          <a:xfrm>
            <a:off x="5500800" y="2714760"/>
            <a:ext cx="2808000" cy="142848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357120" y="0"/>
            <a:ext cx="178596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1928880" y="1214280"/>
            <a:ext cx="1143000" cy="17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5"/>
          <a:stretch/>
        </p:blipFill>
        <p:spPr>
          <a:xfrm>
            <a:off x="817560" y="4011480"/>
            <a:ext cx="4363920" cy="2382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32000" y="1341360"/>
          <a:ext cx="7127640" cy="3862440"/>
        </p:xfrm>
        <a:graphic>
          <a:graphicData uri="http://schemas.openxmlformats.org/drawingml/2006/table">
            <a:tbl>
              <a:tblPr/>
              <a:tblGrid>
                <a:gridCol w="3564000"/>
                <a:gridCol w="3563640"/>
              </a:tblGrid>
              <a:tr h="3311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и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 – бе 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о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у – бе</a:t>
                      </a:r>
                      <a:br>
                        <a:rPr sz="5400"/>
                      </a:b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бы – бе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0" descr="http://www.miksike.net/documents/main/1klass/1bukvy/images/Image15.gif"/>
          <p:cNvPicPr/>
          <p:nvPr/>
        </p:nvPicPr>
        <p:blipFill>
          <a:blip r:embed="rId1"/>
          <a:stretch/>
        </p:blipFill>
        <p:spPr>
          <a:xfrm>
            <a:off x="5148360" y="472428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miksike.net/documents/main/1klass/1bukvy/images/Image13.gif"/>
          <p:cNvPicPr/>
          <p:nvPr/>
        </p:nvPicPr>
        <p:blipFill>
          <a:blip r:embed="rId2"/>
          <a:stretch/>
        </p:blipFill>
        <p:spPr>
          <a:xfrm>
            <a:off x="6732720" y="4724280"/>
            <a:ext cx="141912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miksike.net/documents/main/1klass/1bukvy/images/Image15.gif"/>
          <p:cNvPicPr/>
          <p:nvPr/>
        </p:nvPicPr>
        <p:blipFill>
          <a:blip r:embed="rId3"/>
          <a:stretch/>
        </p:blipFill>
        <p:spPr>
          <a:xfrm>
            <a:off x="1476360" y="4724280"/>
            <a:ext cx="144000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miksike.net/documents/main/1klass/1bukvy/images/Image13.gif"/>
          <p:cNvPicPr/>
          <p:nvPr/>
        </p:nvPicPr>
        <p:blipFill>
          <a:blip r:embed="rId4"/>
          <a:stretch/>
        </p:blipFill>
        <p:spPr>
          <a:xfrm>
            <a:off x="3124080" y="4724280"/>
            <a:ext cx="151452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68360" y="404640"/>
            <a:ext cx="8351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сабли      бант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ква       вер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нзин     бин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елка       б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исквит   бер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04640"/>
            <a:ext cx="9072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раб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коб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усы 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   бус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ат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ро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ребро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бл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Helen\Desktop\схемы\буквы\79606090.gif"/>
          <p:cNvPicPr/>
          <p:nvPr/>
        </p:nvPicPr>
        <p:blipFill>
          <a:blip r:embed="rId1"/>
          <a:stretch/>
        </p:blipFill>
        <p:spPr>
          <a:xfrm>
            <a:off x="684360" y="622440"/>
            <a:ext cx="8064360" cy="6073560"/>
          </a:xfrm>
          <a:prstGeom prst="rect">
            <a:avLst/>
          </a:prstGeom>
          <a:ln w="0">
            <a:noFill/>
          </a:ln>
        </p:spPr>
      </p:pic>
      <p:pic>
        <p:nvPicPr>
          <p:cNvPr id="57" name="Запи1383.WAV" descr=""/>
          <p:cNvPicPr/>
          <p:nvPr/>
        </p:nvPicPr>
        <p:blipFill>
          <a:blip r:embed="rId2"/>
          <a:stretch/>
        </p:blipFill>
        <p:spPr>
          <a:xfrm>
            <a:off x="8388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58000" y="189000"/>
            <a:ext cx="588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слова с твёрдым согласным звуком [б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4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05960" y="558972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тр. 9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9734" b="34832"/>
          <a:stretch/>
        </p:blipFill>
        <p:spPr>
          <a:xfrm>
            <a:off x="1476360" y="189000"/>
            <a:ext cx="6480360" cy="6369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28986" r="0" b="0"/>
          <a:stretch/>
        </p:blipFill>
        <p:spPr>
          <a:xfrm>
            <a:off x="1187280" y="0"/>
            <a:ext cx="7054920" cy="6858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9Z</dcterms:created>
  <dc:creator>Helen</dc:creator>
  <dc:description/>
  <dc:language>en-US</dc:language>
  <cp:lastModifiedBy>user</cp:lastModifiedBy>
  <dcterms:modified xsi:type="dcterms:W3CDTF">2022-11-17T18:45:03Z</dcterms:modified>
  <cp:revision>54</cp:revision>
  <dc:subject/>
  <dc:title>Слайд 1</dc:title>
</cp:coreProperties>
</file>