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1.gif" ContentType="image/gif"/>
  <Override PartName="/ppt/media/image1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5FB-2550-4C0D-8DB3-B65FDE27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B3A-3E0F-4CF1-879D-01087B6E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ED7-B6E0-4C27-9280-70B35323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0EB-F233-4CF7-B0CD-CD14D7E2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EB4D-C183-4C8C-9161-346E9718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25B-ABAC-40B1-A556-B1186C9A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654E-1F78-4075-BB69-25D0872D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149-0B48-4B02-BBD9-0F6CEC1B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A4A7-A404-4F0D-8C86-D397CEC1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48C-07D4-41D1-BB07-9BEBA8B0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B65-EDEF-4EC3-90E3-9F38404B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96C-29CE-4AEF-A145-7F189FB7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BA37-7471-49F2-93D8-DD0437698DC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1047600" y="920880"/>
            <a:ext cx="7645680" cy="35416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611280" y="2565360"/>
            <a:ext cx="624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 нового вы узнали о букв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ие это зву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:\Users\Helen\Desktop\схемы\схемы\2011-09-08_194010.jpg"/>
          <p:cNvPicPr/>
          <p:nvPr/>
        </p:nvPicPr>
        <p:blipFill>
          <a:blip r:embed="rId1"/>
          <a:stretch/>
        </p:blipFill>
        <p:spPr>
          <a:xfrm>
            <a:off x="4286160" y="285840"/>
            <a:ext cx="2127240" cy="1900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Helen\Desktop\схемы\схемы\2011-09-08_193941.jpg"/>
          <p:cNvPicPr/>
          <p:nvPr/>
        </p:nvPicPr>
        <p:blipFill>
          <a:blip r:embed="rId2"/>
          <a:stretch/>
        </p:blipFill>
        <p:spPr>
          <a:xfrm>
            <a:off x="6643800" y="285840"/>
            <a:ext cx="2201760" cy="192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Helen\Desktop\схемы\схемы\2011-09-08_193707.jpg"/>
          <p:cNvPicPr/>
          <p:nvPr/>
        </p:nvPicPr>
        <p:blipFill>
          <a:blip r:embed="rId3"/>
          <a:stretch/>
        </p:blipFill>
        <p:spPr>
          <a:xfrm>
            <a:off x="5500800" y="4429080"/>
            <a:ext cx="2906640" cy="146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Helen\Desktop\схемы\схемы\2011-09-08_193731.jpg"/>
          <p:cNvPicPr/>
          <p:nvPr/>
        </p:nvPicPr>
        <p:blipFill>
          <a:blip r:embed="rId4"/>
          <a:stretch/>
        </p:blipFill>
        <p:spPr>
          <a:xfrm>
            <a:off x="5500800" y="2714760"/>
            <a:ext cx="2808000" cy="142848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357120" y="0"/>
            <a:ext cx="1785960" cy="35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1928880" y="1214280"/>
            <a:ext cx="1143000" cy="170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Прямоугольник 7" descr=""/>
          <p:cNvPicPr/>
          <p:nvPr/>
        </p:nvPicPr>
        <p:blipFill>
          <a:blip r:embed="rId5"/>
          <a:stretch/>
        </p:blipFill>
        <p:spPr>
          <a:xfrm>
            <a:off x="817560" y="4011480"/>
            <a:ext cx="4363920" cy="23828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332000" y="1341360"/>
          <a:ext cx="7127640" cy="3862440"/>
        </p:xfrm>
        <a:graphic>
          <a:graphicData uri="http://schemas.openxmlformats.org/drawingml/2006/table">
            <a:tbl>
              <a:tblPr/>
              <a:tblGrid>
                <a:gridCol w="3564000"/>
                <a:gridCol w="3563640"/>
              </a:tblGrid>
              <a:tr h="3311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 – би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о – би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у – би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ы – б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 – бе 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о – бе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у – бе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ы – бе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0" descr="http://www.miksike.net/documents/main/1klass/1bukvy/images/Image15.gif"/>
          <p:cNvPicPr/>
          <p:nvPr/>
        </p:nvPicPr>
        <p:blipFill>
          <a:blip r:embed="rId1"/>
          <a:stretch/>
        </p:blipFill>
        <p:spPr>
          <a:xfrm>
            <a:off x="5148360" y="4724280"/>
            <a:ext cx="143964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miksike.net/documents/main/1klass/1bukvy/images/Image13.gif"/>
          <p:cNvPicPr/>
          <p:nvPr/>
        </p:nvPicPr>
        <p:blipFill>
          <a:blip r:embed="rId2"/>
          <a:stretch/>
        </p:blipFill>
        <p:spPr>
          <a:xfrm>
            <a:off x="6732720" y="4724280"/>
            <a:ext cx="1419120" cy="676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miksike.net/documents/main/1klass/1bukvy/images/Image15.gif"/>
          <p:cNvPicPr/>
          <p:nvPr/>
        </p:nvPicPr>
        <p:blipFill>
          <a:blip r:embed="rId3"/>
          <a:stretch/>
        </p:blipFill>
        <p:spPr>
          <a:xfrm>
            <a:off x="1476360" y="4724280"/>
            <a:ext cx="144000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www.miksike.net/documents/main/1klass/1bukvy/images/Image13.gif"/>
          <p:cNvPicPr/>
          <p:nvPr/>
        </p:nvPicPr>
        <p:blipFill>
          <a:blip r:embed="rId4"/>
          <a:stretch/>
        </p:blipFill>
        <p:spPr>
          <a:xfrm>
            <a:off x="3124080" y="4724280"/>
            <a:ext cx="1514520" cy="720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468360" y="404640"/>
            <a:ext cx="83516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сабли      бант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уква       верб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ензин     бин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елка       б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исквит   бере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24000" y="404640"/>
            <a:ext cx="9072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краб       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коб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усы       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ол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русника   бус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рат      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ров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ребро    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лин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Helen\Desktop\схемы\буквы\79606090.gif"/>
          <p:cNvPicPr/>
          <p:nvPr/>
        </p:nvPicPr>
        <p:blipFill>
          <a:blip r:embed="rId1"/>
          <a:stretch/>
        </p:blipFill>
        <p:spPr>
          <a:xfrm>
            <a:off x="684360" y="622440"/>
            <a:ext cx="8064360" cy="6073560"/>
          </a:xfrm>
          <a:prstGeom prst="rect">
            <a:avLst/>
          </a:prstGeom>
          <a:ln w="0">
            <a:noFill/>
          </a:ln>
        </p:spPr>
      </p:pic>
      <p:pic>
        <p:nvPicPr>
          <p:cNvPr id="57" name="Запи1383.WAV" descr=""/>
          <p:cNvPicPr/>
          <p:nvPr/>
        </p:nvPicPr>
        <p:blipFill>
          <a:blip r:embed="rId2"/>
          <a:stretch/>
        </p:blipFill>
        <p:spPr>
          <a:xfrm>
            <a:off x="838836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58000" y="189000"/>
            <a:ext cx="588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вите слова с твёрдым согласным звуком [б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49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405960" y="5589720"/>
            <a:ext cx="24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тр. 9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0" t="0" r="9734" b="34832"/>
          <a:stretch/>
        </p:blipFill>
        <p:spPr>
          <a:xfrm>
            <a:off x="1476360" y="189000"/>
            <a:ext cx="6480360" cy="636912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0" t="28986" r="0" b="0"/>
          <a:stretch/>
        </p:blipFill>
        <p:spPr>
          <a:xfrm>
            <a:off x="1187280" y="0"/>
            <a:ext cx="7054920" cy="685800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9:59Z</dcterms:created>
  <dc:creator>Helen</dc:creator>
  <dc:description/>
  <dc:language>en-US</dc:language>
  <cp:lastModifiedBy>user</cp:lastModifiedBy>
  <dcterms:modified xsi:type="dcterms:W3CDTF">2022-11-17T18:45:03Z</dcterms:modified>
  <cp:revision>54</cp:revision>
  <dc:subject/>
  <dc:title>Слайд 1</dc:title>
</cp:coreProperties>
</file>