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FE4-5CE2-4FC8-9EE2-F39858B9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0FB-75CD-4A94-BE28-DB79C96B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A08-7CE4-4ED3-B3BD-514BA38C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F72-6B6D-4AA2-B9B4-02F28B6F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3D26-B817-4010-BF66-33DB9E58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345E-DFC1-480D-BE60-EB342FE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CD8-8E9D-42B5-A4C5-CF752FCA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AE0-BDCB-4BFA-9820-E6C3A197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BA7-0562-41EA-A988-C06A59C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470-202F-4C0F-9C52-F9C6D44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6A8-48EE-4220-8B12-A8677E3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18E-857C-4E7E-A5E9-8105A64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D4B3-F9F6-406B-95BD-64312B2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CFD-9184-4941-BCA5-5F133F5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1FE7-E83C-4121-90A5-D7A7547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325-9B06-49E0-826A-6CE62C26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D4DB-6531-4A02-94EA-8DF25CA3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B6E-C8D5-49E8-A56D-3FE1443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423-D17C-4BD7-ABA6-895AEF5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6CA-4EE3-44A3-B5DD-CF95E2D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FEC-B783-4193-A15B-13B1B26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8A1-7ED9-403B-B080-4C09A91B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C81-AA33-4555-8213-1C55D56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5B4-89A1-4E02-AC45-F83B254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EE8-461A-413D-990D-94D920CBFA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7B4-F9EB-4210-BBE2-563BD2491B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4800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Коррупция – социальное зло</a:t>
            </a:r>
            <a:br>
              <a:rPr sz="4400"/>
            </a:b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(Антикоррупционное  и правовое воспитание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441936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Автор: Саттыева Светлана Назифовна учительница МБОУ «Бакрчинская СОШ» Тетюшского муниципального района 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00"/>
                </a:solidFill>
                <a:latin typeface="Garamond"/>
              </a:rPr>
              <a:t>Специфические современные проблемы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.Низкая эффективность работы судебной систе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Неразвитость правового сознания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.Привычная ориентированность правоохранительных органов и их представителей на защиту исключительно «интересов государства» и «общественной собственност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. Традиция подчинения чиновников не закону, а инструкции и начальни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Формы проявления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Взяточничест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Из Гражданского  кодекса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РФ (извлечение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.575. Запрещение даре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Не допускается дарение, за исключением обычных подарков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оимость которых не превышает трех тысяч рубл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i="1" lang="en-US" sz="2400" spc="-1" strike="noStrike">
                <a:solidFill>
                  <a:srgbClr val="999900"/>
                </a:solidFill>
                <a:latin typeface="Garamond"/>
              </a:rPr>
              <a:t>Легализация (отмывание) денежных средств или иного имущества, приобретенных преступным путем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09960" y="1729800"/>
            <a:ext cx="4924080" cy="4016880"/>
            <a:chOff x="2109960" y="1729800"/>
            <a:chExt cx="4924080" cy="4016880"/>
          </a:xfrm>
        </p:grpSpPr>
        <p:sp>
          <p:nvSpPr>
            <p:cNvPr id="116" name="_s35849"/>
            <p:cNvSpPr/>
            <p:nvPr/>
          </p:nvSpPr>
          <p:spPr>
            <a:xfrm>
              <a:off x="2897280" y="172980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5854"/>
            <p:cNvSpPr/>
            <p:nvPr/>
          </p:nvSpPr>
          <p:spPr>
            <a:xfrm rot="5400000">
              <a:off x="3993120" y="206316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5850"/>
            <p:cNvSpPr/>
            <p:nvPr/>
          </p:nvSpPr>
          <p:spPr>
            <a:xfrm rot="10800000">
              <a:off x="2897280" y="301428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5852"/>
            <p:cNvSpPr/>
            <p:nvPr/>
          </p:nvSpPr>
          <p:spPr>
            <a:xfrm rot="16200000">
              <a:off x="2418480" y="206352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5847"/>
            <p:cNvSpPr/>
            <p:nvPr/>
          </p:nvSpPr>
          <p:spPr>
            <a:xfrm>
              <a:off x="5464080" y="198072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ведение «грязных» наличных дене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 легальный хозяйственный обор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5848"/>
            <p:cNvSpPr/>
            <p:nvPr/>
          </p:nvSpPr>
          <p:spPr>
            <a:xfrm>
              <a:off x="2419200" y="4466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ньги обретают легенд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исхождения и могу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нвестироваться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легальную экономи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35851"/>
            <p:cNvSpPr/>
            <p:nvPr/>
          </p:nvSpPr>
          <p:spPr>
            <a:xfrm>
              <a:off x="2417760" y="1982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цесс  легализации денег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обретенных незаконным путем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5853"/>
            <p:cNvSpPr/>
            <p:nvPr/>
          </p:nvSpPr>
          <p:spPr>
            <a:xfrm>
              <a:off x="5464080" y="446508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деление преступных доходов о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сточника их происхождения пут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ведения комплекса финансов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пер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3.Злоупотребление должностны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полномочия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       4.Незаконное участие в предприним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35480" y="2744640"/>
            <a:ext cx="44892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Законодательство о борьбе с коррупци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Национальный план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Госдумой 19.12.2008 г. принят, 22.12.2008г. Одобрен Советом Федерации, а 25.12.2008г. Подписан Президентом РФ Д.Медведевым Федеральный закон «О противодействии коррупци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Национальному плану противодействия коррупции приложен Перечень первоочередных проектов законодательных актов РФ, которые необходимо принять в связи с Национальным планом противодействия коррупции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. 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Общие меры борьбы с коррупцией по Федеральному закону «О противодействии коррупции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числу основных принципов противодействия коррупции законодатель отнес: признание, обеспечение и защиту основны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пра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 свобод. человека и гражданина; законность; публичность и открытость деятельности государственных органов и органов местного самоуправления; неотвратимость ответственности за совершение коррупционных правонарушений; комплексное использование по­литических, организационных, информационно-пропагандистских социально-экономических, правовых, специальных и иных мер. приоритетное применение мер по предупреждению коррупции; сотрудничество государства с институтами гражданского общества международными организациями и физическими лиц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профилактика коррупции» раскрывается в статье 6 Закона, через призму тех основных мер, путем применения которых она осуществляе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таковым относя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в обществе        нетерпимости к коррупционному поведен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тикоррупционная экспертиза            правовых актов и их проек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едъявление в установленном законом порядке квалифи­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ационных требований к гражданам, претендующим на замещение государственных или муниципальных должностей и должностей государственной или муниципальной службы, а также проверка 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ном порядке сведений, представляемых указанными граждан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ие в качестве основания для увольнения лиц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мещающего должность государственной или муниципальной службы, включенную в перечень, установленный нормативным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авовыми актами Российской Федерации, с замещаемой должности государственной или муниципальной службы или для применения в отношении его иных мер юридической ответственности, непредставления им сведений либо             представления заведомо недостоверных или неполных сведений о своих доходах, имуществе и обязательствах имущественного характера, а также представления заведомо ложных сведений о доходах, об имуществе и обязательствах имущественного характера своих супруги (супруга) и несовершеннолетних детей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295280"/>
            <a:ext cx="7313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недрение в практику кадровой работы федеральных органов государственной власти, органов государственной власт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убъектов Российской Федерации, органов местного самоуправления правила, в соответствии с которым длительное, безупречное и эффективное исполнение государственным или муниципальным служащим своих должностных обязанностей должно в обязательном порядке учитываться при назначении его на вышестоящую должность, присвоении ему воинского или специального звания, классного чина, дипломатического ранга или при его поощр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институтов общественного и парламентского контроля над соблюдением законодательства Российской Федераци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о противодействии корруп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218960"/>
            <a:ext cx="7313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качестве основных направлений деятельности государ­ственных органов по повышению эффективности противодействия коррупции статьей 7 Закона определен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ведение единой государственной политики в области противодействия кор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здание механизма взаимодействия правоохранительных и иных государственных органов с общественными и парламентскими комиссиями по вопросам противодействия коррупции, а также с гражданами и институтами гражданского обще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нятие законодательных, административных и иных мер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авленных на привлечение государственных и муниципальны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ужащих, а также граждан к более активному участию в противодействии коррупции, на формирование в обществе негативного отношения к коррупционному поведени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вершенствование системы и структуры государственных органов, создание механизмов общественного контроля над их деятельность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ведение антикоррупционных стандартов, то есть установление для соответствующей области деятельности единой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7560"/>
            <a:ext cx="7848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онятие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рупция (от латинского слов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uptio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означает подкуп ; подкупность и продажность общественных и политических деятелей,государственных чиновников и должностных лиц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9680" y="289080"/>
            <a:ext cx="772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истемы запретов, ограничений и дозволений, обеспечивающих предупреждение коррупции в данной обла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нификация прав и ограничений, запретов и обязанностей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становленных для государственных служащих, а также для лиц, замещающих государственные должности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доступа граждан к информации о деятельности федеральных органов государственной власти, органов государственной власти субъектов Российской Федерации и органо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стного самоуправ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независимости средств массовой информ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еукоснительное соблюдение принципов независимости судей и невмешательства в судебную деятель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организации деятельности правоохранительных и контролирующих органов по противодействию корруп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порядка прохождения государственной и муниципальной служб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120" y="348840"/>
            <a:ext cx="7721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ение добросовестности, открытости, здор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куренции и объективности при размещении заказов на поставку товаров, выполнение работ, оказание услуг для государственных или муниципальных нуж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ранение необоснованных запретов и ограничений, особенно в области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ершенствование порядка использования государ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енного и муниципального имущества, государственных и муниципальных ресурсов (в том числе при предоставлении государственной и муниципальной помощи), а также порядка передачи прав на использование такого имущества и его отчу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ышение уровня оплаты труда и социальной защищенности государственных и муниципальных служа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крепление международного сотрудничества и развити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ффективных форм сотрудничества с правоохранительными органами и со специальными службами, с подразделениями финансовой разведки и другими компетентными органами иностра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сударств и международными организациями в области противодействия коррупции и розыска, конфискации и репатриации имущества, полученного коррупционным путем и находящегося за рубежо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736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иление контроля решения вопросов, содержащихся •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ращениях граждан и юридических лиц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едача части функций государственных органов саморегулируемым организациям, а также иным негосударственным  организация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кращение численности государственных и муниципальных служащих с одновременным привлечением на государственную и муниципальную службу квалифицированных специалист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вышение ответственности федеральных органов гос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рственной власти, органов государственной власти субъект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ссийской Федерации, органов местного самоуправления и и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лжностных лиц за непринятие мер по устранению причин кор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птимизация и конкретизация полномочий государственных органов и их работников, которые должны быть отражены в административных и должностных регламент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8 апреля 2005 года утверждена Стратегия антикоррупционной политики. Цель этого документа - для органов власти и местного самоуправ­ления сделать антикоррупционную деятельность своей постоян­ной функцией и выполнять следующие задачи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отиводействовать условиям, порождающим коррупцию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вышать риск коррупционных действий и потерь от них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формировать антикоррупционное общественное созна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нижать неопределенность правовых установлений и огра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ичивать необоснованную свободу усмотрения правоприменител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действовать реализации прав граждан и организаций н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оступ к информации о фактах коррупции и коррупциогенных факторах, а также по их освещению в средствах массовой информац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держивать общественные объединения антикоррупцио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направлен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здавать стимулы к замещению должностей государстве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и муниципальной службы неподкупными лицам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3040" y="3078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9680" y="407880"/>
            <a:ext cx="7723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мая 2006 г. был принят Закон «О противодействии коррупции в Республике Татарстан». Закон стал первым в Приволжском округе. Затем в развитие положений Закона были изданы и другие акты нормативного характера (постановления и распоряжения, регламенты, стандарты, приказ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 закрепляет порядок осуществления мер по предупреждению коррупции в республике. Был создан специальный орган - отдел по реализации антикоррупционной политики Республики Татарстан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18 августа 2006 г. образован Республиканский совет по реализации антикоррупционной политики. Совет обеспечивает взаимодействие органов государственной власти с органами местного самоуправления и институтами гражданского общества в процессе реализации мер антикоррупционной политики, проводит открытые публичные обсуждения ее важных аспе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им же указом утвержден состав совета в количестве 25 человек. Из них 12 членов совета представляют предпринимательские круги, научную и студенческую общественность, организацию ветеранов (пенсионеров) и правозащитный центр. В нем образованы четыре комиссии: по антикоррупционной экспертизе, реализации ведомственных антикоррупционных программ, антикоррупционной пропаганде и образованию, антикоррупционному мониторингу. Возглавляет совет руководитель Аппарата Президента республ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иссии совет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ят анализ состояния коррупции и антикоррупцион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ют предварительную подготовку материалов 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смотрению советом и готовят проекты его реш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ют к участию в антикоррупционной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ственные объединения, объединения некоммерческих ор­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анизаций и граждан. Советом при необходимости создаются пос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янные и временные группы из специалистов и ученых разного профиля для углубленной проработки вопрос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43200" y="762120"/>
            <a:ext cx="53341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99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396072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большом месте сидеть, много надобно ума име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ласть подобна соли: её следует употреблять в мер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059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Используемая литерату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К.Ф.Амиров ,Д.К.Амирова Антикоррупционное и правовое воспитание,Магариф-Вакыт,Казань 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Р.Р.Замалетдинов,Е.М.Ибрагимова,Д.К.Амирова Формирование антикоррупционной культуры у учащихся,Магариф – Вакыт,Казань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Интернет ресурс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Федеральный закон РФ №273-ФЗ от 25.12.2008 «О противодействии коррупции» ст.1 (извлечение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-469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коррупци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а) злоупотребление служебным положением, дача взятки,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б)  совершение деяний, указанных в подпункте «а» настоящего пункта, от имени  или в интересах юридического лица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иды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в сфере государственного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арламентская корруп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на предприяти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я в сфере государственного управления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ествует возможность государственного служащего (чиновника) распоряжаться государственными ресурсами и принимать решения не в интересах государства и общества, а исходя из корыстных побужд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582720" cy="24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арламентская коррупц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купка голосов избирателей во время выборов также относится к корруп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збиратель получает деньги или иные блага, кандидат обретает властный ресурс. Нередко он использует этот ресурс по своему усмотрению и не всегда в пользу своего избира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430524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Коррупция на предприятия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ражается в том, что сотрудник коммерческой или общественной организации распоряжается не принадлежащими ему ресурсами и за счет этого незаконно обогащается. Естественно, чт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го действия нарушают интересы организации в пользу второй стороны, получающей от этого свои выг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-276840"/>
            <a:ext cx="8217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чины  и условия, порождающие коррупцию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х можно условно разделить 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общие и специфическ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К общим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(при переходном периоде от централизованной к рыночной экономике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нося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укоренность демократических политических тради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Слабость гражданского общества, отрыв общества от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Неэффективность институтов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Неразвитость и несовершенство законодатель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Трудности преодоления наследства тоталитарного пери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Экономический упадок и политическая нестабиль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10:17Z</dcterms:created>
  <dc:creator>User</dc:creator>
  <dc:description/>
  <dc:language>en-US</dc:language>
  <cp:lastModifiedBy>User</cp:lastModifiedBy>
  <dcterms:modified xsi:type="dcterms:W3CDTF">2012-11-26T19:44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