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C624-94B7-4FD1-BDEB-160C88E8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EC6-9A3C-4F96-BBDC-397680AC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196-E13B-4266-B834-5754C12D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024-BD7E-4DE5-9168-4738D2FB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389-0693-438D-A4CF-F3A1313B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11BE-AD4C-4C61-8585-9D76752B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B3EF-C3E1-46FF-A0B0-01E35B10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0FE3-D2D7-4BEF-8402-7A96B65E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00EE-21C5-46BA-8C10-097F5257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F80-BD14-48C5-A6F1-14881706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632-6708-4FD0-BD29-BBE77C2B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7291-3E68-4453-8D80-E422B492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61A0-515E-472D-AE01-310FDB40F1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463760" y="231840"/>
            <a:ext cx="6070680" cy="1931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image"/>
          <p:cNvPicPr/>
          <p:nvPr/>
        </p:nvPicPr>
        <p:blipFill>
          <a:blip r:embed="rId2"/>
          <a:stretch/>
        </p:blipFill>
        <p:spPr>
          <a:xfrm>
            <a:off x="2987640" y="2276640"/>
            <a:ext cx="28796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mage"/>
          <p:cNvPicPr/>
          <p:nvPr/>
        </p:nvPicPr>
        <p:blipFill>
          <a:blip r:embed="rId1"/>
          <a:stretch/>
        </p:blipFill>
        <p:spPr>
          <a:xfrm>
            <a:off x="544680" y="404640"/>
            <a:ext cx="8178480" cy="59040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79280" y="353880"/>
            <a:ext cx="8785440" cy="6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А ещё можно сделать какие-нибудь простые штампики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лас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image"/>
          <p:cNvPicPr/>
          <p:nvPr/>
        </p:nvPicPr>
        <p:blipFill>
          <a:blip r:embed="rId1"/>
          <a:stretch/>
        </p:blipFill>
        <p:spPr>
          <a:xfrm>
            <a:off x="684360" y="1413000"/>
            <a:ext cx="7172280" cy="47973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56320" y="190080"/>
            <a:ext cx="66546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И тогда на небе появятся стайки птиц, которые летят на юг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image"/>
          <p:cNvPicPr/>
          <p:nvPr/>
        </p:nvPicPr>
        <p:blipFill>
          <a:blip r:embed="rId1"/>
          <a:stretch/>
        </p:blipFill>
        <p:spPr>
          <a:xfrm>
            <a:off x="604800" y="765000"/>
            <a:ext cx="7975800" cy="55436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image"/>
          <p:cNvPicPr/>
          <p:nvPr/>
        </p:nvPicPr>
        <p:blipFill>
          <a:blip r:embed="rId1"/>
          <a:stretch/>
        </p:blipFill>
        <p:spPr>
          <a:xfrm>
            <a:off x="487440" y="404640"/>
            <a:ext cx="8235720" cy="56883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331560" y="191880"/>
            <a:ext cx="8504640" cy="6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Отпечатав листики,  можно сделать открытки или ещё что-нибудь.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вот если отпечатать большой лист, то из него получится настоящее дерево!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image"/>
          <p:cNvPicPr/>
          <p:nvPr/>
        </p:nvPicPr>
        <p:blipFill>
          <a:blip r:embed="rId1"/>
          <a:stretch/>
        </p:blipFill>
        <p:spPr>
          <a:xfrm>
            <a:off x="539640" y="1700280"/>
            <a:ext cx="82836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37320" y="266040"/>
            <a:ext cx="8561160" cy="12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Лучше  наносить краску  со стороны прожилок.</a:t>
            </a:r>
            <a:br>
              <a:rPr sz="2000"/>
            </a:b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Мы красили гуашью, но можно и акрилом и даже акварелькой.</a:t>
            </a:r>
            <a:br>
              <a:rPr sz="2000"/>
            </a:b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На один и тот же лист можно наносить каждый раз новые сочетания цве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тогда все отпечатки будут  разные и не похожие на предыдущие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image"/>
          <p:cNvPicPr/>
          <p:nvPr/>
        </p:nvPicPr>
        <p:blipFill>
          <a:blip r:embed="rId1"/>
          <a:stretch/>
        </p:blipFill>
        <p:spPr>
          <a:xfrm>
            <a:off x="2411280" y="1700280"/>
            <a:ext cx="325296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age"/>
          <p:cNvPicPr/>
          <p:nvPr/>
        </p:nvPicPr>
        <p:blipFill>
          <a:blip r:embed="rId1"/>
          <a:stretch/>
        </p:blipFill>
        <p:spPr>
          <a:xfrm>
            <a:off x="896760" y="476280"/>
            <a:ext cx="75391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187280" y="5589720"/>
            <a:ext cx="6913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урсы интернета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olshoyvopros.ru/questions/400218-kak-narisovat-osennij-pejzazh-karandashom-poetapn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abyblog.ru/user/SvetikL/29924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image"/>
          <p:cNvPicPr/>
          <p:nvPr/>
        </p:nvPicPr>
        <p:blipFill>
          <a:blip r:embed="rId1"/>
          <a:stretch/>
        </p:blipFill>
        <p:spPr>
          <a:xfrm>
            <a:off x="1116000" y="620640"/>
            <a:ext cx="6854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250920" y="260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того, что бы нарисовать осень надо выбрать пейзаж, за пример возьмем вот эт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текст при наведении"/>
          <p:cNvPicPr/>
          <p:nvPr/>
        </p:nvPicPr>
        <p:blipFill>
          <a:blip r:embed="rId1"/>
          <a:stretch/>
        </p:blipFill>
        <p:spPr>
          <a:xfrm>
            <a:off x="1305000" y="901800"/>
            <a:ext cx="6997680" cy="101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50920" y="333360"/>
            <a:ext cx="82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уем линию горизонта, перспективу и контур пейзаж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текст при наведении"/>
          <p:cNvPicPr/>
          <p:nvPr/>
        </p:nvPicPr>
        <p:blipFill>
          <a:blip r:embed="rId1"/>
          <a:stretch/>
        </p:blipFill>
        <p:spPr>
          <a:xfrm>
            <a:off x="900000" y="907920"/>
            <a:ext cx="7604280" cy="55054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79280" y="260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перь прорисовываем дерево и не забываем добавить опадающую листв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текст при наведении"/>
          <p:cNvPicPr/>
          <p:nvPr/>
        </p:nvPicPr>
        <p:blipFill>
          <a:blip r:embed="rId1"/>
          <a:stretch/>
        </p:blipFill>
        <p:spPr>
          <a:xfrm>
            <a:off x="684360" y="836640"/>
            <a:ext cx="7704000" cy="55926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79280" y="18900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трихуем всю картинку и не забываем выделить речку и ле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текст при наведении"/>
          <p:cNvPicPr/>
          <p:nvPr/>
        </p:nvPicPr>
        <p:blipFill>
          <a:blip r:embed="rId1"/>
          <a:stretch/>
        </p:blipFill>
        <p:spPr>
          <a:xfrm>
            <a:off x="826920" y="1052640"/>
            <a:ext cx="7452000" cy="53895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93320" y="189000"/>
            <a:ext cx="32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рисовываем небо и птич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текст при наведении"/>
          <p:cNvPicPr/>
          <p:nvPr/>
        </p:nvPicPr>
        <p:blipFill>
          <a:blip r:embed="rId1"/>
          <a:stretch/>
        </p:blipFill>
        <p:spPr>
          <a:xfrm>
            <a:off x="604800" y="836640"/>
            <a:ext cx="7693200" cy="56498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95280" y="561600"/>
            <a:ext cx="8280360" cy="6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Надо просто взять белый мелок  и провести им  по белой бумаге, и потом  закрасить лист при помощи губки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image"/>
          <p:cNvPicPr/>
          <p:nvPr/>
        </p:nvPicPr>
        <p:blipFill>
          <a:blip r:embed="rId1"/>
          <a:stretch/>
        </p:blipFill>
        <p:spPr>
          <a:xfrm>
            <a:off x="3059280" y="1413000"/>
            <a:ext cx="53719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403920" y="191880"/>
            <a:ext cx="8550360" cy="6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А можно листики просто обвести  белым мелком по белой же бумаге, ну и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соответственно, тоже закрасить, чтобы рисунок проявился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image"/>
          <p:cNvPicPr/>
          <p:nvPr/>
        </p:nvPicPr>
        <p:blipFill>
          <a:blip r:embed="rId1"/>
          <a:stretch/>
        </p:blipFill>
        <p:spPr>
          <a:xfrm>
            <a:off x="826920" y="1052640"/>
            <a:ext cx="75297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263520" y="266040"/>
            <a:ext cx="8551800" cy="12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Но осень, это не только жёлтые и оранжевые краски. Посмотрите на небо 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там тоже интересная палитра! Чтобы её использовать , стоит взять 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более плотной бумаги (для акварели, например) и намочить его мок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губкой. А потом смотреть, как  красиво растекается и смешиваются цвета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image"/>
          <p:cNvPicPr/>
          <p:nvPr/>
        </p:nvPicPr>
        <p:blipFill>
          <a:blip r:embed="rId1"/>
          <a:stretch/>
        </p:blipFill>
        <p:spPr>
          <a:xfrm>
            <a:off x="755640" y="1612800"/>
            <a:ext cx="6840720" cy="481032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17:51:33Z</dcterms:created>
  <dc:creator>Еленга Берюхова</dc:creator>
  <dc:description/>
  <dc:language>en-US</dc:language>
  <cp:lastModifiedBy>Dmitriy Gruzdev</cp:lastModifiedBy>
  <dcterms:modified xsi:type="dcterms:W3CDTF">2016-09-18T15:43:24Z</dcterms:modified>
  <cp:revision>5</cp:revision>
  <dc:subject/>
  <dc:title>Слайд 1</dc:title>
</cp:coreProperties>
</file>