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E85-84F8-48C1-9724-B6C312CF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437-FFAE-425D-A904-85599EC5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0DC-3346-420F-894F-1681894E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3AC-34E4-46CF-AFB6-9EEDF3B3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1CD-4425-47F1-BC53-3F286985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D5B-147C-4DCC-9E50-F7079435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9F3-0131-452D-B2AD-B19539B1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4EC-CB2E-4CAB-AB37-607AFE49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BAA-0425-491A-B98E-8A463E5B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1FC-0CB9-4BAE-A1F9-AF0E1D13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739-EB81-4287-BD4C-495B29D7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631-2061-4E29-A108-458DBFD6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0AD8-BB08-4BC2-A037-0E404E530B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463760" y="231840"/>
            <a:ext cx="6070680" cy="1931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image"/>
          <p:cNvPicPr/>
          <p:nvPr/>
        </p:nvPicPr>
        <p:blipFill>
          <a:blip r:embed="rId2"/>
          <a:stretch/>
        </p:blipFill>
        <p:spPr>
          <a:xfrm>
            <a:off x="2987640" y="2276640"/>
            <a:ext cx="2879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age"/>
          <p:cNvPicPr/>
          <p:nvPr/>
        </p:nvPicPr>
        <p:blipFill>
          <a:blip r:embed="rId1"/>
          <a:stretch/>
        </p:blipFill>
        <p:spPr>
          <a:xfrm>
            <a:off x="544680" y="404640"/>
            <a:ext cx="8178480" cy="59040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79280" y="353880"/>
            <a:ext cx="878544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А ещё можно сделать какие-нибудь простые штампики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лас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image"/>
          <p:cNvPicPr/>
          <p:nvPr/>
        </p:nvPicPr>
        <p:blipFill>
          <a:blip r:embed="rId1"/>
          <a:stretch/>
        </p:blipFill>
        <p:spPr>
          <a:xfrm>
            <a:off x="684360" y="1413000"/>
            <a:ext cx="7172280" cy="47973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56320" y="190080"/>
            <a:ext cx="6654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И тогда на небе появятся стайки птиц, которые летят на юг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image"/>
          <p:cNvPicPr/>
          <p:nvPr/>
        </p:nvPicPr>
        <p:blipFill>
          <a:blip r:embed="rId1"/>
          <a:stretch/>
        </p:blipFill>
        <p:spPr>
          <a:xfrm>
            <a:off x="604800" y="765000"/>
            <a:ext cx="7975800" cy="55436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image"/>
          <p:cNvPicPr/>
          <p:nvPr/>
        </p:nvPicPr>
        <p:blipFill>
          <a:blip r:embed="rId1"/>
          <a:stretch/>
        </p:blipFill>
        <p:spPr>
          <a:xfrm>
            <a:off x="487440" y="404640"/>
            <a:ext cx="8235720" cy="56883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331560" y="191880"/>
            <a:ext cx="850464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Отпечатав листики,  можно сделать открытки или ещё что-нибудь.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вот если отпечатать большой лист, то из него получится настоящее дерево!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image"/>
          <p:cNvPicPr/>
          <p:nvPr/>
        </p:nvPicPr>
        <p:blipFill>
          <a:blip r:embed="rId1"/>
          <a:stretch/>
        </p:blipFill>
        <p:spPr>
          <a:xfrm>
            <a:off x="539640" y="1700280"/>
            <a:ext cx="82836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37320" y="266040"/>
            <a:ext cx="8561160" cy="12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Лучше  наносить краску  со стороны прожилок.</a:t>
            </a:r>
            <a:br>
              <a:rPr sz="2000"/>
            </a:b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Мы красили гуашью, но можно и акрилом и даже акварелькой.</a:t>
            </a:r>
            <a:br>
              <a:rPr sz="2000"/>
            </a:b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На один и тот же лист можно наносить каждый раз новые сочетания цве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тогда все отпечатки будут  разные и не похожие на предыдущие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image"/>
          <p:cNvPicPr/>
          <p:nvPr/>
        </p:nvPicPr>
        <p:blipFill>
          <a:blip r:embed="rId1"/>
          <a:stretch/>
        </p:blipFill>
        <p:spPr>
          <a:xfrm>
            <a:off x="2411280" y="1700280"/>
            <a:ext cx="325296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age"/>
          <p:cNvPicPr/>
          <p:nvPr/>
        </p:nvPicPr>
        <p:blipFill>
          <a:blip r:embed="rId1"/>
          <a:stretch/>
        </p:blipFill>
        <p:spPr>
          <a:xfrm>
            <a:off x="896760" y="476280"/>
            <a:ext cx="75391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187280" y="5589720"/>
            <a:ext cx="6913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урсы интернета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olshoyvopros.ru/questions/400218-kak-narisovat-osennij-pejzazh-karandashom-poetapn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abyblog.ru/user/SvetikL/29924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image"/>
          <p:cNvPicPr/>
          <p:nvPr/>
        </p:nvPicPr>
        <p:blipFill>
          <a:blip r:embed="rId1"/>
          <a:stretch/>
        </p:blipFill>
        <p:spPr>
          <a:xfrm>
            <a:off x="1116000" y="620640"/>
            <a:ext cx="6854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50920" y="260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того, что бы нарисовать осень надо выбрать пейзаж, за пример возьмем вот эт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текст при наведении"/>
          <p:cNvPicPr/>
          <p:nvPr/>
        </p:nvPicPr>
        <p:blipFill>
          <a:blip r:embed="rId1"/>
          <a:stretch/>
        </p:blipFill>
        <p:spPr>
          <a:xfrm>
            <a:off x="1305000" y="901800"/>
            <a:ext cx="6997680" cy="101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50920" y="33336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уем линию горизонта, перспективу и контур пейзаж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текст при наведении"/>
          <p:cNvPicPr/>
          <p:nvPr/>
        </p:nvPicPr>
        <p:blipFill>
          <a:blip r:embed="rId1"/>
          <a:stretch/>
        </p:blipFill>
        <p:spPr>
          <a:xfrm>
            <a:off x="900000" y="907920"/>
            <a:ext cx="7604280" cy="55054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79280" y="260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перь прорисовываем дерево и не забываем добавить опадающую листв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текст при наведении"/>
          <p:cNvPicPr/>
          <p:nvPr/>
        </p:nvPicPr>
        <p:blipFill>
          <a:blip r:embed="rId1"/>
          <a:stretch/>
        </p:blipFill>
        <p:spPr>
          <a:xfrm>
            <a:off x="684360" y="836640"/>
            <a:ext cx="7704000" cy="55926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79280" y="18900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трихуем всю картинку и не забываем выделить речку и ле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текст при наведении"/>
          <p:cNvPicPr/>
          <p:nvPr/>
        </p:nvPicPr>
        <p:blipFill>
          <a:blip r:embed="rId1"/>
          <a:stretch/>
        </p:blipFill>
        <p:spPr>
          <a:xfrm>
            <a:off x="826920" y="1052640"/>
            <a:ext cx="7452000" cy="53895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93320" y="189000"/>
            <a:ext cx="32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рисовываем небо и птич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текст при наведении"/>
          <p:cNvPicPr/>
          <p:nvPr/>
        </p:nvPicPr>
        <p:blipFill>
          <a:blip r:embed="rId1"/>
          <a:stretch/>
        </p:blipFill>
        <p:spPr>
          <a:xfrm>
            <a:off x="604800" y="836640"/>
            <a:ext cx="7693200" cy="56498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95280" y="561600"/>
            <a:ext cx="828036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Надо просто взять белый мелок  и провести им  по белой бумаге, и потом  закрасить лист при помощи губки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image"/>
          <p:cNvPicPr/>
          <p:nvPr/>
        </p:nvPicPr>
        <p:blipFill>
          <a:blip r:embed="rId1"/>
          <a:stretch/>
        </p:blipFill>
        <p:spPr>
          <a:xfrm>
            <a:off x="3059280" y="1413000"/>
            <a:ext cx="53719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403920" y="191880"/>
            <a:ext cx="855036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А можно листики просто обвести  белым мелком по белой же бумаге, ну и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соответственно, тоже закрасить, чтобы рисунок проявился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image"/>
          <p:cNvPicPr/>
          <p:nvPr/>
        </p:nvPicPr>
        <p:blipFill>
          <a:blip r:embed="rId1"/>
          <a:stretch/>
        </p:blipFill>
        <p:spPr>
          <a:xfrm>
            <a:off x="826920" y="1052640"/>
            <a:ext cx="75297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63520" y="266040"/>
            <a:ext cx="8551800" cy="12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Но осень, это не только жёлтые и оранжевые краски. Посмотрите на небо 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там тоже интересная палитра! Чтобы её использовать , стоит взять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более плотной бумаги (для акварели, например) и намочить его мок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22222"/>
                </a:solidFill>
                <a:latin typeface="Calibri"/>
              </a:rPr>
              <a:t>губкой. А потом смотреть, как  красиво растекается и смешиваются цвета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image"/>
          <p:cNvPicPr/>
          <p:nvPr/>
        </p:nvPicPr>
        <p:blipFill>
          <a:blip r:embed="rId1"/>
          <a:stretch/>
        </p:blipFill>
        <p:spPr>
          <a:xfrm>
            <a:off x="755640" y="1612800"/>
            <a:ext cx="6840720" cy="481032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17:51:33Z</dcterms:created>
  <dc:creator>Еленга Берюхова</dc:creator>
  <dc:description/>
  <dc:language>en-US</dc:language>
  <cp:lastModifiedBy>Dmitriy Gruzdev</cp:lastModifiedBy>
  <dcterms:modified xsi:type="dcterms:W3CDTF">2016-09-18T15:43:24Z</dcterms:modified>
  <cp:revision>5</cp:revision>
  <dc:subject/>
  <dc:title>Слайд 1</dc:title>
</cp:coreProperties>
</file>