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EA3-C155-47EB-8BB3-0027D8EB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CA2-900A-4FD5-B24F-E05BC7F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F30-8086-4C6E-A33C-232E7D0C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AF8-5228-4456-B691-E9E40FA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7F5-D3DE-4309-A0C6-A1B5B7FC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B66-F029-43EB-95BE-9C02C4EE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B24-02BA-4763-9712-2D1327AB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D42-FA4B-4C33-A1A2-A44C5413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33F-4967-49EB-89B7-C6818BB6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251-39A6-4163-A26F-C6C30F0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269-74F2-40DA-9668-ADDA642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65C-4E84-4C43-8612-B9A7903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A04E-7A43-49DD-BD98-D0DAA066F1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463760" y="231840"/>
            <a:ext cx="6070680" cy="1931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image"/>
          <p:cNvPicPr/>
          <p:nvPr/>
        </p:nvPicPr>
        <p:blipFill>
          <a:blip r:embed="rId2"/>
          <a:stretch/>
        </p:blipFill>
        <p:spPr>
          <a:xfrm>
            <a:off x="2987640" y="2276640"/>
            <a:ext cx="2879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"/>
          <p:cNvPicPr/>
          <p:nvPr/>
        </p:nvPicPr>
        <p:blipFill>
          <a:blip r:embed="rId1"/>
          <a:stretch/>
        </p:blipFill>
        <p:spPr>
          <a:xfrm>
            <a:off x="544680" y="404640"/>
            <a:ext cx="8178480" cy="5904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79280" y="353880"/>
            <a:ext cx="878544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А ещё можно сделать какие-нибудь простые штампики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ла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mage"/>
          <p:cNvPicPr/>
          <p:nvPr/>
        </p:nvPicPr>
        <p:blipFill>
          <a:blip r:embed="rId1"/>
          <a:stretch/>
        </p:blipFill>
        <p:spPr>
          <a:xfrm>
            <a:off x="684360" y="1413000"/>
            <a:ext cx="7172280" cy="4797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56320" y="190080"/>
            <a:ext cx="6654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И тогда на небе появятся стайки птиц, которые летят на юг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mage"/>
          <p:cNvPicPr/>
          <p:nvPr/>
        </p:nvPicPr>
        <p:blipFill>
          <a:blip r:embed="rId1"/>
          <a:stretch/>
        </p:blipFill>
        <p:spPr>
          <a:xfrm>
            <a:off x="604800" y="765000"/>
            <a:ext cx="7975800" cy="5543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mage"/>
          <p:cNvPicPr/>
          <p:nvPr/>
        </p:nvPicPr>
        <p:blipFill>
          <a:blip r:embed="rId1"/>
          <a:stretch/>
        </p:blipFill>
        <p:spPr>
          <a:xfrm>
            <a:off x="487440" y="404640"/>
            <a:ext cx="8235720" cy="5688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31560" y="191880"/>
            <a:ext cx="850464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Отпечатав листики,  можно сделать открытки или ещё что-нибудь.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вот если отпечатать большой лист, то из него получится настоящее дерево!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image"/>
          <p:cNvPicPr/>
          <p:nvPr/>
        </p:nvPicPr>
        <p:blipFill>
          <a:blip r:embed="rId1"/>
          <a:stretch/>
        </p:blipFill>
        <p:spPr>
          <a:xfrm>
            <a:off x="539640" y="1700280"/>
            <a:ext cx="8283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37320" y="266040"/>
            <a:ext cx="856116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Лучше  наносить краску  со стороны прожилок.</a:t>
            </a:r>
            <a:br>
              <a:rPr sz="2000"/>
            </a:b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Мы красили гуашью, но можно и акрилом и даже акварелькой.</a:t>
            </a:r>
            <a:br>
              <a:rPr sz="2000"/>
            </a:b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а один и тот же лист можно наносить каждый раз новые сочетания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тогда все отпечатки будут  разные и не похожие на предыдущие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image"/>
          <p:cNvPicPr/>
          <p:nvPr/>
        </p:nvPicPr>
        <p:blipFill>
          <a:blip r:embed="rId1"/>
          <a:stretch/>
        </p:blipFill>
        <p:spPr>
          <a:xfrm>
            <a:off x="2411280" y="1700280"/>
            <a:ext cx="325296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age"/>
          <p:cNvPicPr/>
          <p:nvPr/>
        </p:nvPicPr>
        <p:blipFill>
          <a:blip r:embed="rId1"/>
          <a:stretch/>
        </p:blipFill>
        <p:spPr>
          <a:xfrm>
            <a:off x="896760" y="476280"/>
            <a:ext cx="7539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187280" y="5589720"/>
            <a:ext cx="691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 интернет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olshoyvopros.ru/questions/400218-kak-narisovat-osennij-pejzazh-karandashom-poetapn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abyblog.ru/user/SvetikL/2992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mage"/>
          <p:cNvPicPr/>
          <p:nvPr/>
        </p:nvPicPr>
        <p:blipFill>
          <a:blip r:embed="rId1"/>
          <a:stretch/>
        </p:blipFill>
        <p:spPr>
          <a:xfrm>
            <a:off x="1116000" y="620640"/>
            <a:ext cx="685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50920" y="26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того, что бы нарисовать осень надо выбрать пейзаж, за пример возьмем вот эт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1305000" y="901800"/>
            <a:ext cx="6997680" cy="101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50920" y="33336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уем линию горизонта, перспективу и контур пейзаж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900000" y="907920"/>
            <a:ext cx="7604280" cy="55054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260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ерь прорисовываем дерево и не забываем добавить опадающую лист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684360" y="836640"/>
            <a:ext cx="7704000" cy="55926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9280" y="1890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трихуем всю картинку и не забываем выделить речку и л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826920" y="1052640"/>
            <a:ext cx="7452000" cy="53895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93320" y="18900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исовываем небо и птич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604800" y="836640"/>
            <a:ext cx="7693200" cy="56498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561600"/>
            <a:ext cx="828036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адо просто взять белый мелок  и провести им  по белой бумаге, и потом  закрасить лист при помощи губки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image"/>
          <p:cNvPicPr/>
          <p:nvPr/>
        </p:nvPicPr>
        <p:blipFill>
          <a:blip r:embed="rId1"/>
          <a:stretch/>
        </p:blipFill>
        <p:spPr>
          <a:xfrm>
            <a:off x="3059280" y="1413000"/>
            <a:ext cx="53719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03920" y="191880"/>
            <a:ext cx="855036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А можно листики просто обвести  белым мелком по белой же бумаге, ну и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соответственно, тоже закрасить, чтобы рисунок проявился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age"/>
          <p:cNvPicPr/>
          <p:nvPr/>
        </p:nvPicPr>
        <p:blipFill>
          <a:blip r:embed="rId1"/>
          <a:stretch/>
        </p:blipFill>
        <p:spPr>
          <a:xfrm>
            <a:off x="826920" y="1052640"/>
            <a:ext cx="7529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63520" y="266040"/>
            <a:ext cx="855180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о осень, это не только жёлтые и оранжевые краски. Посмотрите на небо 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там тоже интересная палитра! Чтобы её использовать , стоит взять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более плотной бумаги (для акварели, например) и намочить его мок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губкой. А потом смотреть, как  красиво растекается и смешиваются цвет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image"/>
          <p:cNvPicPr/>
          <p:nvPr/>
        </p:nvPicPr>
        <p:blipFill>
          <a:blip r:embed="rId1"/>
          <a:stretch/>
        </p:blipFill>
        <p:spPr>
          <a:xfrm>
            <a:off x="755640" y="1612800"/>
            <a:ext cx="6840720" cy="481032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7:51:33Z</dcterms:created>
  <dc:creator>Еленга Берюхова</dc:creator>
  <dc:description/>
  <dc:language>en-US</dc:language>
  <cp:lastModifiedBy>Dmitriy Gruzdev</cp:lastModifiedBy>
  <dcterms:modified xsi:type="dcterms:W3CDTF">2016-09-18T15:43:24Z</dcterms:modified>
  <cp:revision>5</cp:revision>
  <dc:subject/>
  <dc:title>Слайд 1</dc:title>
</cp:coreProperties>
</file>