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591-CEA7-4A9C-A35F-5442AB3A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97B-75F1-43A2-831F-A15B89E3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51AE-6B66-4E6C-A033-0DF0FBCF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36C-581E-4049-89A3-45FD943A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7983-6A2E-4FE8-898E-D5C5B3DC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5EDC-CFA6-496E-ACA6-452B217A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198-4AC7-4E92-89D1-447C4941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D3C-FA04-4B32-94FE-E0CF4212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C3C-207A-4617-8995-0B1D0543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44E-EE1A-4B56-B895-E7F2B809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68D-0027-4C99-A62B-9F4163F7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DF2-5C8F-4FBB-86F2-22AB8ACC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8DF5-46F0-4E46-85C8-10305A4E9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244440" y="195120"/>
            <a:ext cx="8588520" cy="2286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сезоны-года.рф/sites/default/files/images/uchitelu/risunok_podsolnuh.jpg"/>
          <p:cNvPicPr/>
          <p:nvPr/>
        </p:nvPicPr>
        <p:blipFill>
          <a:blip r:embed="rId2"/>
          <a:stretch/>
        </p:blipFill>
        <p:spPr>
          <a:xfrm>
            <a:off x="1905120" y="1989000"/>
            <a:ext cx="4851360" cy="4319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395280" y="260280"/>
            <a:ext cx="849780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дсолнух - цветок, который растет на открытой поляне под солнцем, поэтому он и получил такое солнечное название. Нарисовать подсолнух карандашом совсем просто, если следовать несложным инструкциям на схеме-картин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сезоны-года.рф/sites/default/files/images/uchitelu/risunok_podsolnuh.jpg"/>
          <p:cNvPicPr/>
          <p:nvPr/>
        </p:nvPicPr>
        <p:blipFill>
          <a:blip r:embed="rId1"/>
          <a:stretch/>
        </p:blipFill>
        <p:spPr>
          <a:xfrm>
            <a:off x="1979640" y="2205000"/>
            <a:ext cx="4851360" cy="4319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сезоны-года.рф/sites/default/files/images/uchitelu/risunok_podsolnuh_1.jpg"/>
          <p:cNvPicPr/>
          <p:nvPr/>
        </p:nvPicPr>
        <p:blipFill>
          <a:blip r:embed="rId1"/>
          <a:stretch/>
        </p:blipFill>
        <p:spPr>
          <a:xfrm>
            <a:off x="250920" y="1989000"/>
            <a:ext cx="847404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611280" y="1890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Нарисуйте кружок-бутон, от него веточку-стебел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сезоны-года.рф/sites/default/files/images/uchitelu/risunok_podsolnuh_2.jpg"/>
          <p:cNvPicPr/>
          <p:nvPr/>
        </p:nvPicPr>
        <p:blipFill>
          <a:blip r:embed="rId1"/>
          <a:stretch/>
        </p:blipFill>
        <p:spPr>
          <a:xfrm>
            <a:off x="755640" y="476280"/>
            <a:ext cx="7162920" cy="60958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4734360" y="18900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Затем пририсуйте листо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468360" y="260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 Внимательно добавьте элементы к рисун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 Смотрите сколько птичек слетелось к нашему подсолнух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сезоны-года.рф/sites/default/files/images/uchitelu/risunok_podsolnuh_2.jpg"/>
          <p:cNvPicPr/>
          <p:nvPr/>
        </p:nvPicPr>
        <p:blipFill>
          <a:blip r:embed="rId1"/>
          <a:stretch/>
        </p:blipFill>
        <p:spPr>
          <a:xfrm>
            <a:off x="1258920" y="1341360"/>
            <a:ext cx="6049800" cy="5146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979640" y="3716280"/>
            <a:ext cx="5257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сурсы интернета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зоны-года.рф/рисунок%20подсолнух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>
            <a:off x="2451240" y="231840"/>
            <a:ext cx="3071520" cy="1773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2050920" y="5157720"/>
            <a:ext cx="52578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й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shkola-abv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9T07:44:28Z</dcterms:created>
  <dc:creator>Еленга Берюхова</dc:creator>
  <dc:description/>
  <dc:language>en-US</dc:language>
  <cp:lastModifiedBy>Борис</cp:lastModifiedBy>
  <dcterms:modified xsi:type="dcterms:W3CDTF">2014-03-30T04:46:45Z</dcterms:modified>
  <cp:revision>4</cp:revision>
  <dc:subject/>
  <dc:title>Слайд 1</dc:title>
</cp:coreProperties>
</file>