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FED-B904-4C11-ADED-8FA3BD49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333-66FE-4202-9DBF-4739DD80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828-5619-4CCA-8CEA-E60DE448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D15-4455-434D-A670-2B5EE4AC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175-92DD-4C6F-913A-61C0F84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16D-2F3C-4BBB-A954-CD1005FB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BC9-A5DD-4540-AD09-A7D55387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C71-8DE3-45A1-9B61-29B5177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754-71B9-4D36-B2FA-F0349801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323-C06E-469F-AEE7-A848718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07A-831E-4ABC-AC2B-136E71C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F98-8552-4D8A-8E5D-7A2FF3F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FD9-1164-42B3-920D-A30FBCEE1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5885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сезоны-года.рф/sites/default/files/images/uchitelu/risunok_podsolnuh.jpg"/>
          <p:cNvPicPr/>
          <p:nvPr/>
        </p:nvPicPr>
        <p:blipFill>
          <a:blip r:embed="rId2"/>
          <a:stretch/>
        </p:blipFill>
        <p:spPr>
          <a:xfrm>
            <a:off x="1905120" y="1989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5280" y="260280"/>
            <a:ext cx="8497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дсолнух - цветок, который растет на открытой поляне под солнцем, поэтому он и получил такое солнечное название. Нарисовать подсолнух карандашом совсем просто, если следовать несложным инструкциям на схеме-карт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сезоны-года.рф/sites/default/files/images/uchitelu/risunok_podsolnuh.jpg"/>
          <p:cNvPicPr/>
          <p:nvPr/>
        </p:nvPicPr>
        <p:blipFill>
          <a:blip r:embed="rId1"/>
          <a:stretch/>
        </p:blipFill>
        <p:spPr>
          <a:xfrm>
            <a:off x="1979640" y="2205000"/>
            <a:ext cx="485136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сезоны-года.рф/sites/default/files/images/uchitelu/risunok_podsolnuh_1.jpg"/>
          <p:cNvPicPr/>
          <p:nvPr/>
        </p:nvPicPr>
        <p:blipFill>
          <a:blip r:embed="rId1"/>
          <a:stretch/>
        </p:blipFill>
        <p:spPr>
          <a:xfrm>
            <a:off x="250920" y="1989000"/>
            <a:ext cx="847404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611280" y="189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Нарисуйте кружок-бутон, от него веточку-стебел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755640" y="476280"/>
            <a:ext cx="7162920" cy="6095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734360" y="18900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Затем пририсуйте лис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Внимательно добавьте элементы к рису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Смотрите сколько птичек слетелось к нашему подсолнух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сезоны-года.рф/sites/default/files/images/uchitelu/risunok_podsolnuh_2.jpg"/>
          <p:cNvPicPr/>
          <p:nvPr/>
        </p:nvPicPr>
        <p:blipFill>
          <a:blip r:embed="rId1"/>
          <a:stretch/>
        </p:blipFill>
        <p:spPr>
          <a:xfrm>
            <a:off x="1258920" y="1341360"/>
            <a:ext cx="6049800" cy="5146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79640" y="3716280"/>
            <a:ext cx="525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зоны-года.рф/рисунок%20подсолнух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451240" y="231840"/>
            <a:ext cx="3071520" cy="1773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050920" y="5157720"/>
            <a:ext cx="5257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shkola-abv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7:44:28Z</dcterms:created>
  <dc:creator>Еленга Берюхова</dc:creator>
  <dc:description/>
  <dc:language>en-US</dc:language>
  <cp:lastModifiedBy>Борис</cp:lastModifiedBy>
  <dcterms:modified xsi:type="dcterms:W3CDTF">2014-03-30T04:46:45Z</dcterms:modified>
  <cp:revision>4</cp:revision>
  <dc:subject/>
  <dc:title>Слайд 1</dc:title>
</cp:coreProperties>
</file>