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06B9-FD45-45A4-A74F-372C9893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8028-E34C-4AF4-8888-16B3C7AC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3B09-A73C-4A20-A148-B135E365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DA4B-5030-4F11-8EF9-812D10CF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DC8E-98C0-43E0-A0C3-07869C74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5851-41D1-4DB3-8AA0-494CCC37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0CF9-5EF3-421F-B916-5DC64841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00E3-E3B9-4346-9AEC-540DC868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881A-4C49-4F47-BF42-846571E7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9711-90DB-455D-9633-07432DE1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5D87-22B2-4035-AA42-F9D74974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5B51-BCFE-4C9C-B697-589A3996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F93B-068F-4EAB-B49C-FEF7C95A9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244440" y="195120"/>
            <a:ext cx="8588520" cy="2286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ttp://сезоны-года.рф/sites/default/files/images/uchitelu/risunok_podsolnuh.jpg"/>
          <p:cNvPicPr/>
          <p:nvPr/>
        </p:nvPicPr>
        <p:blipFill>
          <a:blip r:embed="rId2"/>
          <a:stretch/>
        </p:blipFill>
        <p:spPr>
          <a:xfrm>
            <a:off x="1905120" y="1989000"/>
            <a:ext cx="4851360" cy="4319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395280" y="260280"/>
            <a:ext cx="849780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одсолнух - цветок, который растет на открытой поляне под солнцем, поэтому он и получил такое солнечное название. Нарисовать подсолнух карандашом совсем просто, если следовать несложным инструкциям на схеме-картин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сезоны-года.рф/sites/default/files/images/uchitelu/risunok_podsolnuh.jpg"/>
          <p:cNvPicPr/>
          <p:nvPr/>
        </p:nvPicPr>
        <p:blipFill>
          <a:blip r:embed="rId1"/>
          <a:stretch/>
        </p:blipFill>
        <p:spPr>
          <a:xfrm>
            <a:off x="1979640" y="2205000"/>
            <a:ext cx="4851360" cy="4319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сезоны-года.рф/sites/default/files/images/uchitelu/risunok_podsolnuh_1.jpg"/>
          <p:cNvPicPr/>
          <p:nvPr/>
        </p:nvPicPr>
        <p:blipFill>
          <a:blip r:embed="rId1"/>
          <a:stretch/>
        </p:blipFill>
        <p:spPr>
          <a:xfrm>
            <a:off x="250920" y="1989000"/>
            <a:ext cx="847404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611280" y="1890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 Нарисуйте кружок-бутон, от него веточку-стебел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сезоны-года.рф/sites/default/files/images/uchitelu/risunok_podsolnuh_2.jpg"/>
          <p:cNvPicPr/>
          <p:nvPr/>
        </p:nvPicPr>
        <p:blipFill>
          <a:blip r:embed="rId1"/>
          <a:stretch/>
        </p:blipFill>
        <p:spPr>
          <a:xfrm>
            <a:off x="755640" y="476280"/>
            <a:ext cx="7162920" cy="60958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4734360" y="18900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 Затем пририсуйте листоч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468360" y="260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 Внимательно добавьте элементы к рисун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. Смотрите сколько птичек слетелось к нашему подсолнуху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сезоны-года.рф/sites/default/files/images/uchitelu/risunok_podsolnuh_2.jpg"/>
          <p:cNvPicPr/>
          <p:nvPr/>
        </p:nvPicPr>
        <p:blipFill>
          <a:blip r:embed="rId1"/>
          <a:stretch/>
        </p:blipFill>
        <p:spPr>
          <a:xfrm>
            <a:off x="1258920" y="1341360"/>
            <a:ext cx="6049800" cy="5146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979640" y="3716280"/>
            <a:ext cx="52578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сурсы интернета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ttp://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зоны-года.рф/рисунок%20подсолнух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Прямоугольник 2" descr=""/>
          <p:cNvPicPr/>
          <p:nvPr/>
        </p:nvPicPr>
        <p:blipFill>
          <a:blip r:embed="rId1"/>
          <a:stretch/>
        </p:blipFill>
        <p:spPr>
          <a:xfrm>
            <a:off x="2451240" y="231840"/>
            <a:ext cx="3071520" cy="1773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"/>
          <p:cNvSpPr/>
          <p:nvPr/>
        </p:nvSpPr>
        <p:spPr>
          <a:xfrm>
            <a:off x="2050920" y="5157720"/>
            <a:ext cx="52578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й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ttp:/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shkola-abv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9T07:44:28Z</dcterms:created>
  <dc:creator>Еленга Берюхова</dc:creator>
  <dc:description/>
  <dc:language>en-US</dc:language>
  <cp:lastModifiedBy>Борис</cp:lastModifiedBy>
  <dcterms:modified xsi:type="dcterms:W3CDTF">2014-03-30T04:46:45Z</dcterms:modified>
  <cp:revision>4</cp:revision>
  <dc:subject/>
  <dc:title>Слайд 1</dc:title>
</cp:coreProperties>
</file>