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47D-42A0-43A1-8AA5-E2A0C7A8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A81-8421-487C-92BD-CBE242A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A5F-8305-4B8F-AF16-95BC58E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14F-7482-474E-9553-65D7EF0B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95DE-D558-4868-B1B0-3D2E0FC7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30C5-BAC7-460B-A60B-403A150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F23-94CC-469E-B867-BFA5ED3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A620-6F59-4556-92E0-8925124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BFD-E352-46CC-8726-3C4C20FA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5845-1A63-4968-B4A9-C5D67814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9A1C-51BB-4F55-8670-65B534AB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4DB-EA58-4B84-A400-7A21F565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C85E-3714-42A2-9091-4F06F98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5D99-D55A-4D3A-9DD9-FDBFCE2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F9C-64C7-4AB0-B512-0D9C0BFB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4EFA-2001-4B09-B07D-2B0B4588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7AC-F2B5-4F50-BA62-3B775C74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D13-F1C8-4D37-A5F4-FD031C21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973-6A24-4B8F-BCC5-FC8D35AF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160-D306-4D65-8AEF-1CE1E538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DF4-AC9C-4BD7-B077-F6E49E8A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F16-0906-4025-A1E5-069D834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2A6-AEE9-42B3-9AFE-B742582B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2EE-8467-4C88-94F3-63E9901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de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2D65-459D-42F4-A9C4-BC463D8900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de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A495-DE10-41C3-98D9-18D569ABA2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571760" y="1214280"/>
            <a:ext cx="7178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овление и оформление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10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42920" y="928800"/>
            <a:ext cx="1206360" cy="236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2987640" y="4508640"/>
            <a:ext cx="3443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хрина Надежда Сергеев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доп. об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 учреждение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 Переславль-Залесский, 20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928880" y="2214720"/>
            <a:ext cx="621504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латов с элементами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3857760" y="3000240"/>
            <a:ext cx="2428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рвинга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71760" y="928800"/>
            <a:ext cx="6715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714680" y="571680"/>
            <a:ext cx="6143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салаты мясные рецепты +с фото"/>
          <p:cNvPicPr/>
          <p:nvPr/>
        </p:nvPicPr>
        <p:blipFill>
          <a:blip r:embed="rId2"/>
          <a:stretch/>
        </p:blipFill>
        <p:spPr>
          <a:xfrm>
            <a:off x="1547640" y="765000"/>
            <a:ext cx="6696360" cy="502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284328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ие блюд – сродни искус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masterskaja.net/sites/default/files/styles/tekst/public/images_upload_useruid8/20130101215435.jpg"/>
          <p:cNvPicPr/>
          <p:nvPr/>
        </p:nvPicPr>
        <p:blipFill>
          <a:blip r:embed="rId2"/>
          <a:stretch/>
        </p:blipFill>
        <p:spPr>
          <a:xfrm>
            <a:off x="179280" y="3500280"/>
            <a:ext cx="4310280" cy="324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s4.forumimage.ru/uploads/20111230/1325264136310068100.jpg"/>
          <p:cNvPicPr/>
          <p:nvPr/>
        </p:nvPicPr>
        <p:blipFill>
          <a:blip r:embed="rId3"/>
          <a:stretch/>
        </p:blipFill>
        <p:spPr>
          <a:xfrm>
            <a:off x="4572000" y="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5076720" y="443700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гинально украшенное блюдо создает атмосферу радости, удивления и возбуждения аппет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13170"/>
          <p:cNvPicPr/>
          <p:nvPr/>
        </p:nvPicPr>
        <p:blipFill>
          <a:blip r:embed="rId1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2124000" y="59500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винг – это искусство для каждого на своей кух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http://img.inforico.com.ua/a/eksklyuzivnoe-oformlenie-meropriyatiy-s-pomoshchyu-karving-kompoziciy.-super-cen-pri-zakaze-v-iyune-speshite--142d-1340045469822478-3-big.jpg"/>
          <p:cNvPicPr/>
          <p:nvPr/>
        </p:nvPicPr>
        <p:blipFill>
          <a:blip r:embed="rId2"/>
          <a:stretch/>
        </p:blipFill>
        <p:spPr>
          <a:xfrm>
            <a:off x="1619280" y="69228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43000" y="1143000"/>
            <a:ext cx="767232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09840" indent="-47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л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холодное блюдо, состоящее из одного или нескольких видов овощей, а также в сочетании с мясом, рыбой, яйцами и так дал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840" indent="-4762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ящие в состав салата продукты могут бы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ры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дис, зеленый салат, огурцы, помидоры, лук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е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векла, картофель, морковь)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ринованными или соле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вашеная капуста и маринованные огурцы), продуктами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шедшими сложную и длительную обработ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лбасы, копченая рыба, консерв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2000160" y="285840"/>
            <a:ext cx="409284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то такое салат?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6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85920" y="1500120"/>
            <a:ext cx="76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лат из свежих овощей готовят непосредственно перед под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одукты должны пройти первичную обработку, а часть из них первичную и теплов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алатов из сырых овощей овощи и зелень моют сначала сырой водой, а затем кипяч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соединять теплые и холодные овощи – салат быстро испорт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авлять и оформлять салаты надо прямо перед подачей на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хранения незаправленных салатов не более 12 часов, заправленных – 6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547640" y="571680"/>
            <a:ext cx="70963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бования при приготовлении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85920" y="2143080"/>
            <a:ext cx="76723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ая обработка овощей, входящих в сал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ка овощей (овощи должны быть нарезаны одинаковой форм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авка салата (перемешивать продукты надо осторожно, чтобы они не мялис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ложить в салатницу и украс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785960" y="571680"/>
            <a:ext cx="6858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хнология приготовления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785960" y="1143000"/>
            <a:ext cx="3357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 свежих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85560" y="1642680"/>
            <a:ext cx="314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тиро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ист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785960" y="571680"/>
            <a:ext cx="6858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ичная обработ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1814760" cy="121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tretch/>
        </p:blipFill>
        <p:spPr>
          <a:xfrm>
            <a:off x="5500800" y="2643120"/>
            <a:ext cx="1785960" cy="12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6"/>
          <a:stretch/>
        </p:blipFill>
        <p:spPr>
          <a:xfrm>
            <a:off x="6429240" y="400068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7"/>
          <a:stretch/>
        </p:blipFill>
        <p:spPr>
          <a:xfrm>
            <a:off x="7072200" y="5429160"/>
            <a:ext cx="1706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56840" y="1928520"/>
            <a:ext cx="7672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и сортируют по размеру (в основном корнеплоды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вномерной тепловой обработ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наре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ьшения от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1785960" y="571680"/>
            <a:ext cx="5643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ортиров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85560" y="1642680"/>
            <a:ext cx="314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ом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ус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48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90000"/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1785960" y="571680"/>
            <a:ext cx="4500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езка овощей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4357800" y="1214280"/>
            <a:ext cx="1690560" cy="112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5"/>
          <a:stretch/>
        </p:blipFill>
        <p:spPr>
          <a:xfrm>
            <a:off x="6000840" y="20718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6"/>
          <a:stretch/>
        </p:blipFill>
        <p:spPr>
          <a:xfrm>
            <a:off x="4357800" y="30002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6000840" y="40006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8"/>
          <a:stretch/>
        </p:blipFill>
        <p:spPr>
          <a:xfrm>
            <a:off x="4357800" y="500076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1908000" y="549360"/>
            <a:ext cx="619308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рнеплоды используемые в карвинге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7" descr="i?id=1244532&amp;tov=3"/>
          <p:cNvPicPr/>
          <p:nvPr/>
        </p:nvPicPr>
        <p:blipFill>
          <a:blip r:embed="rId4"/>
          <a:stretch/>
        </p:blipFill>
        <p:spPr>
          <a:xfrm>
            <a:off x="1571760" y="19288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i?id=118250529&amp;tov=6"/>
          <p:cNvPicPr/>
          <p:nvPr/>
        </p:nvPicPr>
        <p:blipFill>
          <a:blip r:embed="rId5"/>
          <a:stretch/>
        </p:blipFill>
        <p:spPr>
          <a:xfrm>
            <a:off x="2857680" y="4000680"/>
            <a:ext cx="128556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3" descr="i[4]"/>
          <p:cNvPicPr/>
          <p:nvPr/>
        </p:nvPicPr>
        <p:blipFill>
          <a:blip r:embed="rId6"/>
          <a:stretch/>
        </p:blipFill>
        <p:spPr>
          <a:xfrm>
            <a:off x="4143240" y="192888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5" descr="i?id=71457792&amp;tov=2"/>
          <p:cNvPicPr/>
          <p:nvPr/>
        </p:nvPicPr>
        <p:blipFill>
          <a:blip r:embed="rId7"/>
          <a:stretch/>
        </p:blipFill>
        <p:spPr>
          <a:xfrm>
            <a:off x="7000920" y="1928880"/>
            <a:ext cx="1511280" cy="121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6" descr="i?id=82119758&amp;tov=5"/>
          <p:cNvPicPr/>
          <p:nvPr/>
        </p:nvPicPr>
        <p:blipFill>
          <a:blip r:embed="rId8"/>
          <a:stretch/>
        </p:blipFill>
        <p:spPr>
          <a:xfrm>
            <a:off x="5857920" y="4000680"/>
            <a:ext cx="1285920" cy="1584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0"/>
          <p:cNvSpPr/>
          <p:nvPr/>
        </p:nvSpPr>
        <p:spPr>
          <a:xfrm>
            <a:off x="1571760" y="3214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286160" y="32148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7143840" y="3214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786040" y="557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5857920" y="5572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1785960" y="571680"/>
            <a:ext cx="5715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особы оформления салатов</a:t>
            </a:r>
            <a:endParaRPr b="1" lang="en-US" sz="1600" spc="1" strike="noStrike">
              <a:ln w="1584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4" descr="613170"/>
          <p:cNvPicPr/>
          <p:nvPr/>
        </p:nvPicPr>
        <p:blipFill>
          <a:blip r:embed="rId3"/>
          <a:srcRect l="19996" t="0" r="14997" b="14997"/>
          <a:stretch/>
        </p:blipFill>
        <p:spPr>
          <a:xfrm>
            <a:off x="179280" y="115920"/>
            <a:ext cx="1206720" cy="236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салат роза"/>
          <p:cNvPicPr/>
          <p:nvPr/>
        </p:nvPicPr>
        <p:blipFill>
          <a:blip r:embed="rId4"/>
          <a:stretch/>
        </p:blipFill>
        <p:spPr>
          <a:xfrm>
            <a:off x="1547640" y="1484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s</cp:lastModifiedBy>
  <dcterms:modified xsi:type="dcterms:W3CDTF">2022-11-17T11:55:14Z</dcterms:modified>
  <cp:revision>33</cp:revision>
  <dc:subject/>
  <dc:title>Введение в курс «рукотворный мир кулинарных чудес»</dc:title>
</cp:coreProperties>
</file>