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134-C5C2-48AC-82A7-67619DEB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B4B-E92E-4447-95F3-6A6F2DC9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FAD-10B9-4E9A-BE08-DA67D50D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A8A-1FD3-4C73-BA97-043735F9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A5B-3556-4153-817D-96AF5FD8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2E3A-6722-4123-BC97-F7F7C82B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82FD-44F0-423F-8032-276140A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2928-C641-464F-8420-C229F427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B19-FC92-4832-BFFE-3C6CB7FE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5005-D215-4C3A-A95F-9D2EC9C4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389-7EEC-41E0-97FF-40F0C3C0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DF2-2585-4F8D-9DDD-CB9F0C9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675C-B7CD-4724-800F-5362470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0BD6-AD59-450C-8103-27B5E71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BD62-6121-40D7-9165-90922B27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535C-CA36-411D-BA58-66B37921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95BC-9BD7-4045-94D1-A98C1F9A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C88-EBC4-4ECE-9B81-0318D64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15C-DA88-41A1-AE0C-568BA15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47D-28C6-4B4E-BECC-8B968FA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FAD-1A29-4C7D-A2DA-0B6ECED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276-B259-47B2-838F-CBB45FB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746-A3BF-47CD-BF5A-35A4A3F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E7C-3A6F-4467-A3CB-27B36F2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de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471-5742-4DC1-A145-2DE0FDD40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de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E903-E2F7-4908-8CB5-E9C9F35173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571760" y="1214280"/>
            <a:ext cx="7178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овление и оформление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10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42920" y="928800"/>
            <a:ext cx="1206360" cy="236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2987640" y="4508640"/>
            <a:ext cx="3443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хрина Надежда Сергеев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доп. об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 учреждение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 Переславль-Залесский, 20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928880" y="2214720"/>
            <a:ext cx="6215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латов с элементами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3857760" y="3000240"/>
            <a:ext cx="2428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рвинга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71760" y="928800"/>
            <a:ext cx="6715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714680" y="571680"/>
            <a:ext cx="6143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салаты мясные рецепты +с фото"/>
          <p:cNvPicPr/>
          <p:nvPr/>
        </p:nvPicPr>
        <p:blipFill>
          <a:blip r:embed="rId2"/>
          <a:stretch/>
        </p:blipFill>
        <p:spPr>
          <a:xfrm>
            <a:off x="1547640" y="765000"/>
            <a:ext cx="6696360" cy="502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284328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е блюд – сродни искус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masterskaja.net/sites/default/files/styles/tekst/public/images_upload_useruid8/20130101215435.jpg"/>
          <p:cNvPicPr/>
          <p:nvPr/>
        </p:nvPicPr>
        <p:blipFill>
          <a:blip r:embed="rId2"/>
          <a:stretch/>
        </p:blipFill>
        <p:spPr>
          <a:xfrm>
            <a:off x="179280" y="3500280"/>
            <a:ext cx="4310280" cy="324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s4.forumimage.ru/uploads/20111230/1325264136310068100.jpg"/>
          <p:cNvPicPr/>
          <p:nvPr/>
        </p:nvPicPr>
        <p:blipFill>
          <a:blip r:embed="rId3"/>
          <a:stretch/>
        </p:blipFill>
        <p:spPr>
          <a:xfrm>
            <a:off x="4572000" y="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5076720" y="443700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гинально украшенное блюдо создает атмосферу радости, удивления и возбуждения аппет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2124000" y="5950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винг – это искусство для каждого на своей кух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http://img.inforico.com.ua/a/eksklyuzivnoe-oformlenie-meropriyatiy-s-pomoshchyu-karving-kompoziciy.-super-cen-pri-zakaze-v-iyune-speshite--142d-1340045469822478-3-big.jpg"/>
          <p:cNvPicPr/>
          <p:nvPr/>
        </p:nvPicPr>
        <p:blipFill>
          <a:blip r:embed="rId2"/>
          <a:stretch/>
        </p:blipFill>
        <p:spPr>
          <a:xfrm>
            <a:off x="1619280" y="692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43000" y="1143000"/>
            <a:ext cx="767232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09840" indent="-47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л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холодное блюдо, состоящее из одного или нескольких видов овощей, а также в сочетании с мясом, рыбой, яйцами и так дал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840" indent="-47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ящие в состав салата продукты могут бы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ры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дис, зеленый салат, огурцы, помидоры, лук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е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векла, картофель, морковь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ринованными или соле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вашеная капуста и маринованные огурцы), продуктами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шедшими сложную и длительную обработ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лбасы, копченая рыба, консерв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2000160" y="285840"/>
            <a:ext cx="409284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то такое салат?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6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85920" y="1500120"/>
            <a:ext cx="76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лат из свежих овощей готовят непосредственно перед под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одукты должны пройти первичную обработку, а часть из них первичную и теплов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алатов из сырых овощей овощи и зелень моют сначала сырой водой, а затем кипяч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соединять теплые и холодные овощи – салат быстро испорт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влять и оформлять салаты надо прямо перед подачей на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хранения незаправленных салатов не более 12 часов, заправленных – 6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547640" y="571680"/>
            <a:ext cx="70963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бования при приготовлении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85920" y="2143080"/>
            <a:ext cx="76723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ая обработка овощей, входящих в сал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ка овощей (овощи должны быть нарезаны одинаковой форм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авка салата (перемешивать продукты надо осторожно, чтобы они не мялис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ложить в салатницу и украс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785960" y="571680"/>
            <a:ext cx="6858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хнология приготовления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785960" y="1143000"/>
            <a:ext cx="3357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 свежих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85560" y="1642680"/>
            <a:ext cx="314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тиро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ист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785960" y="571680"/>
            <a:ext cx="6858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ичная обработ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1814760" cy="121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tretch/>
        </p:blipFill>
        <p:spPr>
          <a:xfrm>
            <a:off x="5500800" y="2643120"/>
            <a:ext cx="1785960" cy="12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6"/>
          <a:stretch/>
        </p:blipFill>
        <p:spPr>
          <a:xfrm>
            <a:off x="6429240" y="400068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7"/>
          <a:stretch/>
        </p:blipFill>
        <p:spPr>
          <a:xfrm>
            <a:off x="7072200" y="5429160"/>
            <a:ext cx="1706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56840" y="1928520"/>
            <a:ext cx="7672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и сортируют по размеру (в основном корнеплоды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вномерной тепловой обработ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наре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я от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1785960" y="571680"/>
            <a:ext cx="5643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ортиров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85560" y="1642680"/>
            <a:ext cx="314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ом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ус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1785960" y="571680"/>
            <a:ext cx="4500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ез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4357800" y="1214280"/>
            <a:ext cx="1690560" cy="112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6000840" y="20718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6"/>
          <a:stretch/>
        </p:blipFill>
        <p:spPr>
          <a:xfrm>
            <a:off x="4357800" y="30002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6000840" y="40006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8"/>
          <a:stretch/>
        </p:blipFill>
        <p:spPr>
          <a:xfrm>
            <a:off x="4357800" y="500076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1908000" y="549360"/>
            <a:ext cx="619308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рнеплоды используемые в карвинге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7" descr="i?id=1244532&amp;tov=3"/>
          <p:cNvPicPr/>
          <p:nvPr/>
        </p:nvPicPr>
        <p:blipFill>
          <a:blip r:embed="rId4"/>
          <a:stretch/>
        </p:blipFill>
        <p:spPr>
          <a:xfrm>
            <a:off x="1571760" y="19288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i?id=118250529&amp;tov=6"/>
          <p:cNvPicPr/>
          <p:nvPr/>
        </p:nvPicPr>
        <p:blipFill>
          <a:blip r:embed="rId5"/>
          <a:stretch/>
        </p:blipFill>
        <p:spPr>
          <a:xfrm>
            <a:off x="2857680" y="4000680"/>
            <a:ext cx="128556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3" descr="i[4]"/>
          <p:cNvPicPr/>
          <p:nvPr/>
        </p:nvPicPr>
        <p:blipFill>
          <a:blip r:embed="rId6"/>
          <a:stretch/>
        </p:blipFill>
        <p:spPr>
          <a:xfrm>
            <a:off x="4143240" y="192888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5" descr="i?id=71457792&amp;tov=2"/>
          <p:cNvPicPr/>
          <p:nvPr/>
        </p:nvPicPr>
        <p:blipFill>
          <a:blip r:embed="rId7"/>
          <a:stretch/>
        </p:blipFill>
        <p:spPr>
          <a:xfrm>
            <a:off x="7000920" y="1928880"/>
            <a:ext cx="1511280" cy="121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6" descr="i?id=82119758&amp;tov=5"/>
          <p:cNvPicPr/>
          <p:nvPr/>
        </p:nvPicPr>
        <p:blipFill>
          <a:blip r:embed="rId8"/>
          <a:stretch/>
        </p:blipFill>
        <p:spPr>
          <a:xfrm>
            <a:off x="5857920" y="4000680"/>
            <a:ext cx="1285920" cy="1584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0"/>
          <p:cNvSpPr/>
          <p:nvPr/>
        </p:nvSpPr>
        <p:spPr>
          <a:xfrm>
            <a:off x="1571760" y="3214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286160" y="32148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7143840" y="3214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786040" y="557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5857920" y="557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1785960" y="571680"/>
            <a:ext cx="5715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особы оформления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алат роза"/>
          <p:cNvPicPr/>
          <p:nvPr/>
        </p:nvPicPr>
        <p:blipFill>
          <a:blip r:embed="rId4"/>
          <a:stretch/>
        </p:blipFill>
        <p:spPr>
          <a:xfrm>
            <a:off x="1547640" y="1484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s</cp:lastModifiedBy>
  <dcterms:modified xsi:type="dcterms:W3CDTF">2022-11-17T11:55:14Z</dcterms:modified>
  <cp:revision>33</cp:revision>
  <dc:subject/>
  <dc:title>Введение в курс «рукотворный мир кулинарных чудес»</dc:title>
</cp:coreProperties>
</file>