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150-CCA7-4299-8A8A-6475920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0BA-2FE2-4312-AB82-5D4E76BE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A3F-751A-4465-88E4-211EA05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840-ED33-4C56-A225-CEE3E037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4180-398A-4E4F-97F6-3CD156DD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B4D-422D-4A5E-BCE1-5677EF0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3D9D-DE3E-4E2B-B4FB-95A2563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48A6-66EA-4555-8877-7ACC7A8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10B6-4490-4548-8AB5-8C4DFCF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A67-8E63-46F0-A6B8-C105A13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CFA-FC38-4152-8E2A-06BFE9C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785-DDEF-4FE9-9FC7-B7C7564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B1FA-D737-4888-A96A-33C3D90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EDA-E877-44AE-A301-F1360EA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CBBD-79AD-4F96-8B84-E25DA8E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295A-4AC9-4C61-BBED-C5C2AAC0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3BED-8281-4C47-9DBD-01E15BC4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686-25B1-483D-9036-016605E2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B5-9ED1-40DE-8412-B655C929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56D-BFCB-48A4-B795-7B7450AE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5DA-8F34-4659-92AC-194CDD3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9F6-7FB6-4F0A-AD6F-DDCB9E8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77C-F88D-4045-90D8-C27AEC97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9BD-FDA7-4500-AA3A-2FD5DFA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FF6-E2CB-401D-B4B1-F399E3314D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8890-E7F6-4085-843E-FB7E388C17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571760" y="1214280"/>
            <a:ext cx="7178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овление и оформлени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10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42920" y="928800"/>
            <a:ext cx="1206360" cy="236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2987640" y="4508640"/>
            <a:ext cx="3443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хрина Надежда Сергеев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доп. об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 учреждение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 Переславль-Залесский, 20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928880" y="2214720"/>
            <a:ext cx="6215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латов с элементами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3857760" y="3000240"/>
            <a:ext cx="242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рвинга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71760" y="928800"/>
            <a:ext cx="6715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714680" y="571680"/>
            <a:ext cx="6143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салаты мясные рецепты +с фото"/>
          <p:cNvPicPr/>
          <p:nvPr/>
        </p:nvPicPr>
        <p:blipFill>
          <a:blip r:embed="rId2"/>
          <a:stretch/>
        </p:blipFill>
        <p:spPr>
          <a:xfrm>
            <a:off x="1547640" y="765000"/>
            <a:ext cx="6696360" cy="502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84328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е блюд – сродни искус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sterskaja.net/sites/default/files/styles/tekst/public/images_upload_useruid8/20130101215435.jpg"/>
          <p:cNvPicPr/>
          <p:nvPr/>
        </p:nvPicPr>
        <p:blipFill>
          <a:blip r:embed="rId2"/>
          <a:stretch/>
        </p:blipFill>
        <p:spPr>
          <a:xfrm>
            <a:off x="179280" y="3500280"/>
            <a:ext cx="4310280" cy="324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s4.forumimage.ru/uploads/20111230/1325264136310068100.jpg"/>
          <p:cNvPicPr/>
          <p:nvPr/>
        </p:nvPicPr>
        <p:blipFill>
          <a:blip r:embed="rId3"/>
          <a:stretch/>
        </p:blipFill>
        <p:spPr>
          <a:xfrm>
            <a:off x="4572000" y="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5076720" y="443700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гинально украшенное блюдо создает атмосферу радости, удивления и возбуждения аппет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124000" y="5950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винг – это искусство для каждого на своей кух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ttp://img.inforico.com.ua/a/eksklyuzivnoe-oformlenie-meropriyatiy-s-pomoshchyu-karving-kompoziciy.-super-cen-pri-zakaze-v-iyune-speshite--142d-1340045469822478-3-big.jpg"/>
          <p:cNvPicPr/>
          <p:nvPr/>
        </p:nvPicPr>
        <p:blipFill>
          <a:blip r:embed="rId2"/>
          <a:stretch/>
        </p:blipFill>
        <p:spPr>
          <a:xfrm>
            <a:off x="1619280" y="692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43000" y="1143000"/>
            <a:ext cx="76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л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холодное блюдо, состоящее из одного или нескольких видов овощей, а также в сочетании с мясом, рыбой, яйцами и так дал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ящие в состав салата продукты могут бы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ры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дис, зеленый салат, огурцы, помидоры, лук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векла, картофель, морковь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ринованными или сол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вашеная капуста и маринованные огурцы), продуктами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шедшими сложную и длительную обработ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лбасы, копченая рыба, консерв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000160" y="285840"/>
            <a:ext cx="40928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то такое салат?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6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85920" y="1500120"/>
            <a:ext cx="76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лат из свежих овощей готовят непосредственно перед по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одукты должны пройти первичную обработку, а часть из них первичную и теплов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алатов из сырых овощей овощи и зелень моют сначала сырой водой, а затем кипяч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соединять теплые и холодные овощи – салат быстро испорт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влять и оформлять салаты надо прямо перед подачей на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хранения незаправленных салатов не более 12 часов, заправленных – 6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547640" y="571680"/>
            <a:ext cx="70963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бования при приготовлении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920" y="2143080"/>
            <a:ext cx="76723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ая обработка овощей, входящих в сал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 овощей (овощи должны быть нарезаны одинаковой форм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авка салата (перемешивать продукты надо осторожно, чтобы они не мялис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ложить в салатницу и укра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хнология приготов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785960" y="1143000"/>
            <a:ext cx="3357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 свежих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тир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ист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ичная обработ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1814760" cy="121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tretch/>
        </p:blipFill>
        <p:spPr>
          <a:xfrm>
            <a:off x="5500800" y="2643120"/>
            <a:ext cx="17859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6"/>
          <a:stretch/>
        </p:blipFill>
        <p:spPr>
          <a:xfrm>
            <a:off x="6429240" y="40006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7"/>
          <a:stretch/>
        </p:blipFill>
        <p:spPr>
          <a:xfrm>
            <a:off x="7072200" y="5429160"/>
            <a:ext cx="1706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56840" y="1928520"/>
            <a:ext cx="7672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и сортируют по размеру (в основном корнеплоды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вномерной тепловой обработ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наре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я от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1785960" y="571680"/>
            <a:ext cx="5643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ортиров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ом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ус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1785960" y="571680"/>
            <a:ext cx="4500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ез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4357800" y="1214280"/>
            <a:ext cx="1690560" cy="112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6000840" y="20718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6"/>
          <a:stretch/>
        </p:blipFill>
        <p:spPr>
          <a:xfrm>
            <a:off x="4357800" y="30002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6000840" y="4000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8"/>
          <a:stretch/>
        </p:blipFill>
        <p:spPr>
          <a:xfrm>
            <a:off x="4357800" y="500076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1908000" y="549360"/>
            <a:ext cx="619308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рнеплоды используемые в карвинг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7" descr="i?id=1244532&amp;tov=3"/>
          <p:cNvPicPr/>
          <p:nvPr/>
        </p:nvPicPr>
        <p:blipFill>
          <a:blip r:embed="rId4"/>
          <a:stretch/>
        </p:blipFill>
        <p:spPr>
          <a:xfrm>
            <a:off x="1571760" y="19288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i?id=118250529&amp;tov=6"/>
          <p:cNvPicPr/>
          <p:nvPr/>
        </p:nvPicPr>
        <p:blipFill>
          <a:blip r:embed="rId5"/>
          <a:stretch/>
        </p:blipFill>
        <p:spPr>
          <a:xfrm>
            <a:off x="2857680" y="4000680"/>
            <a:ext cx="128556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i[4]"/>
          <p:cNvPicPr/>
          <p:nvPr/>
        </p:nvPicPr>
        <p:blipFill>
          <a:blip r:embed="rId6"/>
          <a:stretch/>
        </p:blipFill>
        <p:spPr>
          <a:xfrm>
            <a:off x="4143240" y="192888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5" descr="i?id=71457792&amp;tov=2"/>
          <p:cNvPicPr/>
          <p:nvPr/>
        </p:nvPicPr>
        <p:blipFill>
          <a:blip r:embed="rId7"/>
          <a:stretch/>
        </p:blipFill>
        <p:spPr>
          <a:xfrm>
            <a:off x="7000920" y="1928880"/>
            <a:ext cx="1511280" cy="121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6" descr="i?id=82119758&amp;tov=5"/>
          <p:cNvPicPr/>
          <p:nvPr/>
        </p:nvPicPr>
        <p:blipFill>
          <a:blip r:embed="rId8"/>
          <a:stretch/>
        </p:blipFill>
        <p:spPr>
          <a:xfrm>
            <a:off x="5857920" y="4000680"/>
            <a:ext cx="1285920" cy="1584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157176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286160" y="32148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714384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78604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585792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1785960" y="571680"/>
            <a:ext cx="5715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особы оформ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алат роза"/>
          <p:cNvPicPr/>
          <p:nvPr/>
        </p:nvPicPr>
        <p:blipFill>
          <a:blip r:embed="rId4"/>
          <a:stretch/>
        </p:blipFill>
        <p:spPr>
          <a:xfrm>
            <a:off x="1547640" y="1484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s</cp:lastModifiedBy>
  <dcterms:modified xsi:type="dcterms:W3CDTF">2022-11-17T11:55:14Z</dcterms:modified>
  <cp:revision>33</cp:revision>
  <dc:subject/>
  <dc:title>Введение в курс «рукотворный мир кулинарных чудес»</dc:title>
</cp:coreProperties>
</file>