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9.jpeg" ContentType="image/jpeg"/>
  <Override PartName="/ppt/media/image11.jpeg" ContentType="image/jpeg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A01FE-42A0-4B4E-8EA3-5BB161BC6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286F0-ACB7-4A73-A0FD-9F2723CA0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11A73-F605-4BE7-ABA1-DFDC4B8AD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336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0988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336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0988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D35DC-AF31-4FB5-93A2-83FB65DF3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C1D61-2AD0-44CE-BB1D-E166CF6F8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A2FE8-42C8-403F-9AD9-4881AFA18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FB1C7-C7E3-4B3A-B4D1-9DE1FCEEE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DE1C6-5AA3-46AC-A24B-AE609CB4E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5CFDD-4925-4374-BE26-04FB07A9D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57913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C0637-E275-4C2C-9FFE-6DBE53D2E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2425F-4F90-4307-B63D-4AB34AB12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894DC-8406-4BE0-82C7-82DAE7019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01108-DDE5-4226-A32A-FDF59BAB5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27D4B-9AF4-440B-AEFF-11A187A3D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27BB9-B522-4676-BEF9-C50CD82DD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A8FA2-92AB-48AD-85C8-C36CCA70D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3336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60988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03336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60988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82A31-38CE-43A4-9DB8-573732C56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65A986-31CE-42A6-A793-C7D2DB4F7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0B5A62-E205-417B-BEBD-FE25AAC24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0B6A31-CADB-46EA-8E89-0CEA9DDD7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E2F0E3-9058-481C-B608-0FC70405B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08BEC1-E672-4D9F-902A-3C3519276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6485F-355D-4E48-A27C-9E3A4663D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57913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F71BF9-57FD-4D51-8299-213301510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7E9480-8A54-42FF-8977-3DD06A79B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BC2322-1ED7-427A-8024-E943AE71D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B3BAB5-FEE2-4C71-8978-15AAD8D3B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D22528-AA1A-4494-BC50-54C5D45F7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63EE38-8754-4FEE-8CD0-C294A2188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03336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60988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03336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60988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B9AA1C-DCDD-4A32-8E04-257C0344D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13558-CEAC-4658-8511-89F1C866C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BA4F5-B3CC-40BC-9A8E-1BEB68E7D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57913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AD64F-DB17-4045-BCD2-0FC23AC38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38F65-A5DA-4F36-8077-B5ADCFBD6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386FB-D20B-4C49-B0A7-800D40273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6E196-BE0A-49BE-9D47-1B8CAC425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1282e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171840"/>
            <a:ext cx="3429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56840" y="6492600"/>
            <a:ext cx="34290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 rot="16200000">
            <a:off x="8227080" y="5885640"/>
            <a:ext cx="1316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d1282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53464-0052-4FE0-A0F2-33930326EA20}" type="slidenum">
              <a:rPr b="1" lang="ru-RU" sz="2400" spc="-1" strike="noStrike">
                <a:solidFill>
                  <a:srgbClr val="d1282e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9001080" y="0"/>
            <a:ext cx="142920" cy="1371600"/>
          </a:xfrm>
          <a:prstGeom prst="rect">
            <a:avLst/>
          </a:prstGeom>
          <a:solidFill>
            <a:srgbClr val="d128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7"/>
          <p:cNvSpPr/>
          <p:nvPr/>
        </p:nvSpPr>
        <p:spPr>
          <a:xfrm>
            <a:off x="9001080" y="1371600"/>
            <a:ext cx="142920" cy="5486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9001080" y="4846680"/>
            <a:ext cx="142920" cy="2011320"/>
          </a:xfrm>
          <a:prstGeom prst="rect">
            <a:avLst/>
          </a:prstGeom>
          <a:solidFill>
            <a:srgbClr val="d128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9001080" y="0"/>
            <a:ext cx="142920" cy="4846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1282e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171840"/>
            <a:ext cx="3429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456840" y="6492600"/>
            <a:ext cx="34290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 rot="16200000">
            <a:off x="8227080" y="5885640"/>
            <a:ext cx="1316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AE2CC-937C-4537-AFAD-560FA9BFBD46}" type="slidenum">
              <a:rPr b="1" lang="ru-RU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8"/>
          <p:cNvSpPr/>
          <p:nvPr/>
        </p:nvSpPr>
        <p:spPr>
          <a:xfrm>
            <a:off x="9001080" y="4846680"/>
            <a:ext cx="142920" cy="2011320"/>
          </a:xfrm>
          <a:prstGeom prst="rect">
            <a:avLst/>
          </a:prstGeom>
          <a:solidFill>
            <a:srgbClr val="d128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9"/>
          <p:cNvSpPr/>
          <p:nvPr/>
        </p:nvSpPr>
        <p:spPr>
          <a:xfrm>
            <a:off x="9001080" y="0"/>
            <a:ext cx="142920" cy="4846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1282e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171840"/>
            <a:ext cx="3429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456840" y="6492600"/>
            <a:ext cx="34290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 rot="16200000">
            <a:off x="8227080" y="5885640"/>
            <a:ext cx="1316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F6473-7EC5-42BF-BE98-F66CAE0C2F34}" type="slidenum">
              <a:rPr b="1" lang="ru-RU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2" descr="D:\УЧЁБА\Мои материалы\5 класс\gramota\фоны для презентаций\Colorful (4)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Прямоугольник 4"/>
          <p:cNvSpPr/>
          <p:nvPr/>
        </p:nvSpPr>
        <p:spPr>
          <a:xfrm>
            <a:off x="684360" y="404640"/>
            <a:ext cx="82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БОУ Красновская школа им. М. Бабико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Прямоугольник 5"/>
          <p:cNvSpPr/>
          <p:nvPr/>
        </p:nvSpPr>
        <p:spPr>
          <a:xfrm>
            <a:off x="826920" y="2060640"/>
            <a:ext cx="7417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Причастие как часть речи»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 клас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Прямоугольник 6"/>
          <p:cNvSpPr/>
          <p:nvPr/>
        </p:nvSpPr>
        <p:spPr>
          <a:xfrm>
            <a:off x="5364000" y="4149720"/>
            <a:ext cx="3600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зентацию подготови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русского языка и литерату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ипенко Г.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2" descr="D:\УЧЁБА\Мои материалы\5 класс\gramota\фоны для презентаций\Colorful (4)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8" name="Rectangle 1"/>
          <p:cNvSpPr/>
          <p:nvPr/>
        </p:nvSpPr>
        <p:spPr>
          <a:xfrm>
            <a:off x="539640" y="30600"/>
            <a:ext cx="7848720" cy="643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Ключ к «Цифровому диктанту»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Calibri"/>
              </a:rPr>
              <a:t>10100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6-5 верных ответов  –«5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4 верных– «4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3 верных ответа - «3»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3" descr="Писатель думает о чем писать - раскраска №11543 | Printonic.ru"/>
          <p:cNvPicPr/>
          <p:nvPr/>
        </p:nvPicPr>
        <p:blipFill>
          <a:blip r:embed="rId2"/>
          <a:stretch/>
        </p:blipFill>
        <p:spPr>
          <a:xfrm>
            <a:off x="0" y="1484280"/>
            <a:ext cx="251928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2" descr="D:\УЧЁБА\Мои материалы\5 класс\gramota\фоны для презентаций\Colorful (4)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1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4" descr="Виды рефлексии на уроке - всем учителям, уроки"/>
          <p:cNvPicPr/>
          <p:nvPr/>
        </p:nvPicPr>
        <p:blipFill>
          <a:blip r:embed="rId2"/>
          <a:stretch/>
        </p:blipFill>
        <p:spPr>
          <a:xfrm>
            <a:off x="0" y="2781360"/>
            <a:ext cx="9144000" cy="4076640"/>
          </a:xfrm>
          <a:prstGeom prst="rect">
            <a:avLst/>
          </a:prstGeom>
          <a:ln w="0">
            <a:noFill/>
          </a:ln>
        </p:spPr>
      </p:pic>
      <p:sp>
        <p:nvSpPr>
          <p:cNvPr id="163" name="TextBox 4"/>
          <p:cNvSpPr/>
          <p:nvPr/>
        </p:nvSpPr>
        <p:spPr>
          <a:xfrm>
            <a:off x="3401640" y="765000"/>
            <a:ext cx="259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флекс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2" descr="D:\УЧЁБА\Мои материалы\5 класс\gramota\фоны для презентаций\Colorful (4)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5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5"/>
          <p:cNvSpPr/>
          <p:nvPr/>
        </p:nvSpPr>
        <p:spPr>
          <a:xfrm>
            <a:off x="684360" y="333360"/>
            <a:ext cx="77752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машнее задани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.12-выучить правило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ить упр.77 ил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исать из предложенного текста пять предложений, где есть причастия,  определить их вид и врем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D:\УЧЁБА\Мои материалы\5 класс\gramota\фоны для презентаций\Colorful (4)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1"/>
          <p:cNvSpPr/>
          <p:nvPr/>
        </p:nvSpPr>
        <p:spPr>
          <a:xfrm>
            <a:off x="539640" y="277920"/>
            <a:ext cx="74170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читайте слова. Как можно их сгруппировать?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Увлекательный, пишущий, рисовать, осень, красивая, рисующий, прочитанная, веник, закрытый, подарил.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3" descr="Думающий человечек рисунок: стоковые фото, изображения | Скачать Думающий  человечек рисунок картинки на Depositphotos"/>
          <p:cNvPicPr/>
          <p:nvPr/>
        </p:nvPicPr>
        <p:blipFill>
          <a:blip r:embed="rId2"/>
          <a:stretch/>
        </p:blipFill>
        <p:spPr>
          <a:xfrm>
            <a:off x="6659640" y="4005360"/>
            <a:ext cx="2484360" cy="285264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D:\УЧЁБА\Мои материалы\5 класс\gramota\фоны для презентаций\Colorful (4)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3" descr="ребусы"/>
          <p:cNvPicPr/>
          <p:nvPr/>
        </p:nvPicPr>
        <p:blipFill>
          <a:blip r:embed="rId2"/>
          <a:stretch/>
        </p:blipFill>
        <p:spPr>
          <a:xfrm>
            <a:off x="900000" y="1773360"/>
            <a:ext cx="1236600" cy="25923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4" descr="ребусы"/>
          <p:cNvPicPr/>
          <p:nvPr/>
        </p:nvPicPr>
        <p:blipFill>
          <a:blip r:embed="rId3"/>
          <a:stretch/>
        </p:blipFill>
        <p:spPr>
          <a:xfrm>
            <a:off x="2268360" y="3141720"/>
            <a:ext cx="771840" cy="12240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5" descr="ребусы"/>
          <p:cNvPicPr/>
          <p:nvPr/>
        </p:nvPicPr>
        <p:blipFill>
          <a:blip r:embed="rId4"/>
          <a:stretch/>
        </p:blipFill>
        <p:spPr>
          <a:xfrm>
            <a:off x="3276720" y="2492280"/>
            <a:ext cx="1801800" cy="19004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6" descr="ребусы"/>
          <p:cNvPicPr/>
          <p:nvPr/>
        </p:nvPicPr>
        <p:blipFill>
          <a:blip r:embed="rId5"/>
          <a:stretch/>
        </p:blipFill>
        <p:spPr>
          <a:xfrm>
            <a:off x="3419640" y="4724280"/>
            <a:ext cx="1050840" cy="505080"/>
          </a:xfrm>
          <a:prstGeom prst="rect">
            <a:avLst/>
          </a:prstGeom>
          <a:ln w="0">
            <a:noFill/>
          </a:ln>
        </p:spPr>
      </p:pic>
      <p:sp>
        <p:nvSpPr>
          <p:cNvPr id="141" name="Прямоугольник 20"/>
          <p:cNvSpPr/>
          <p:nvPr/>
        </p:nvSpPr>
        <p:spPr>
          <a:xfrm>
            <a:off x="4500720" y="4653000"/>
            <a:ext cx="79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Franklin Gothic Book"/>
                <a:ea typeface="Arial"/>
              </a:rPr>
              <a:t>+ 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17" descr="ребусы"/>
          <p:cNvPicPr/>
          <p:nvPr/>
        </p:nvPicPr>
        <p:blipFill>
          <a:blip r:embed="rId6"/>
          <a:stretch/>
        </p:blipFill>
        <p:spPr>
          <a:xfrm>
            <a:off x="5724360" y="1700280"/>
            <a:ext cx="1727280" cy="26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2" descr="D:\УЧЁБА\Мои материалы\5 класс\gramota\фоны для презентаций\Colorful (4)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4" name="TextBox 2"/>
          <p:cNvSpPr/>
          <p:nvPr/>
        </p:nvSpPr>
        <p:spPr>
          <a:xfrm>
            <a:off x="1064880" y="1773360"/>
            <a:ext cx="6910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а урок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Причастие как часть речи»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2" descr="D:\УЧЁБА\Мои материалы\5 класс\gramota\фоны для презентаций\Colorful (4)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6" name="Rectangle 1"/>
          <p:cNvSpPr/>
          <p:nvPr/>
        </p:nvSpPr>
        <p:spPr>
          <a:xfrm>
            <a:off x="2411280" y="353520"/>
            <a:ext cx="460872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Цель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1) уметь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2) находить в 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3) научиться правильно …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4) выяснить…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3" descr="3 D Человек Думающий С Красные Знаки Вопроса — стоковые фотографии и другие  картинки 2015 - iStock"/>
          <p:cNvPicPr/>
          <p:nvPr/>
        </p:nvPicPr>
        <p:blipFill>
          <a:blip r:embed="rId2"/>
          <a:stretch/>
        </p:blipFill>
        <p:spPr>
          <a:xfrm>
            <a:off x="0" y="3833640"/>
            <a:ext cx="298764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D:\УЧЁБА\Мои материалы\5 класс\gramota\фоны для презентаций\Colorful (4)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2" descr="Презентация на тему &amp;quot;Причастие как часть речи&amp;quot; (интерактивная таблица)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D:\УЧЁБА\Мои материалы\5 класс\gramota\фоны для презентаций\Colorful (4)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2" descr="Презентация на тему &amp;quot;Причастие как часть речи&amp;quot; (интерактивная таблица)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D:\УЧЁБА\Мои материалы\5 класс\gramota\фоны для презентаций\Colorful (4)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1"/>
          <p:cNvSpPr/>
          <p:nvPr/>
        </p:nvSpPr>
        <p:spPr>
          <a:xfrm>
            <a:off x="395280" y="1901160"/>
            <a:ext cx="835344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бота в группах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1 группа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 самостоятельно работает с учебником: упр.76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2 группа: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 выполняет задания по карточк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2" descr="D:\УЧЁБА\Мои материалы\5 класс\gramota\фоны для презентаций\Colorful (4)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Rectangle 1"/>
          <p:cNvSpPr/>
          <p:nvPr/>
        </p:nvSpPr>
        <p:spPr>
          <a:xfrm>
            <a:off x="0" y="20520"/>
            <a:ext cx="9144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«Цифровой диктант»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согласен-1, не согласен-0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1.причастие – самостоятельная часть речи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2. причастие образовано от глагола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3. причастие бывает сов. в. и несов. в.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4.причастие изменяется по лицам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5.в предложении является обстоятельством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6. обозначает признак предмета по действию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3" descr="1 сентября. Раскраски на тему школа"/>
          <p:cNvPicPr/>
          <p:nvPr/>
        </p:nvPicPr>
        <p:blipFill>
          <a:blip r:embed="rId2"/>
          <a:stretch/>
        </p:blipFill>
        <p:spPr>
          <a:xfrm>
            <a:off x="6659640" y="4508640"/>
            <a:ext cx="2484360" cy="23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7-16T10:22:34Z</dcterms:created>
  <dc:creator>User</dc:creator>
  <dc:description/>
  <dc:language>en-US</dc:language>
  <cp:lastModifiedBy>admin</cp:lastModifiedBy>
  <dcterms:modified xsi:type="dcterms:W3CDTF">2022-11-15T20:11:43Z</dcterms:modified>
  <cp:revision>24</cp:revision>
  <dc:subject/>
  <dc:title>Слайд 1</dc:title>
</cp:coreProperties>
</file>