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B49-97BB-4765-B6B4-BBAABF8B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1B9-0BF4-4C68-88C6-14C0B041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9C3-1C38-407E-98F2-A2D7A647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E56-8241-47DB-B31D-A2D21C1E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914F-23AE-4D74-8B87-DD09A644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41FC-FF1C-4A88-8848-FE8666F8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65CF-AE89-46F4-B0EC-413391E9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8F92-1E20-45AC-A12D-9EE8AB37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8400-2C15-4512-8754-7FD60277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8651-B1E3-4DDA-B663-9AC24834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AF79-DE9A-4EBD-B4E0-FC97156C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3B5-ADA3-41B3-9215-9738FBAC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5DC7-46B2-450E-8421-CC8CB6C4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03EB-FCCA-485D-A39F-2FF96C18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5564-31EE-4745-A01E-94745957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B9A2-AED7-41F8-9D6E-A9E2DA1E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79BD-D045-4F9B-984C-33B65A1E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0CAE-EA08-4A4B-A204-37D76279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712C-F62B-4C0A-960E-947E93B2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E98EC-18F0-492D-B6DD-DDE1C775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274B3-70D2-4CE4-A736-DFA2A676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ABDFF-D0D4-47F3-B2A1-0924F163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2D9-9E73-4A58-9050-8DDB0E0C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DAF29-E653-4ED2-9F14-41F2EA79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D8D22-483A-43DC-9FA4-2C699CF4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2ED1-BB9E-474A-9D8A-5CD617C7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83B87-27A1-4107-9C48-1A43162C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76BCA-73D8-4640-934B-7432E7D0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D087A-9C7D-402E-AA01-23A5AF33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B0730-5119-42DB-99DD-A8BD62A2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AEE1-B8EF-4C9E-9791-0EDAA6EA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87C-4340-4E72-947C-CFED1376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E6B-7117-4C7C-A944-0E919CC5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F74-D5F5-4366-93F9-A6DA3CCF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47C-0692-4139-86B4-7146CBDA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1BA-D99A-4AC3-A934-C2D3804E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5BEA-E5F7-4995-A898-53A4A2AC7A36}" type="slidenum">
              <a:rPr b="1" lang="ru-RU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D62D-3822-4C37-8C8C-08718F53927A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2337-41EC-4439-AEFA-EB79E01F8C95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684360" y="404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Красновская школа им. М. Баби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826920" y="2060640"/>
            <a:ext cx="74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частие как часть реч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5364000" y="4149720"/>
            <a:ext cx="36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пенко Г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539640" y="30600"/>
            <a:ext cx="784872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люч к «Цифровому диктанту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1010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6-5 верных ответов  –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4 верных– «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3 верных ответа - «3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Писатель думает о чем писать - раскраска №11543 | Printonic.ru"/>
          <p:cNvPicPr/>
          <p:nvPr/>
        </p:nvPicPr>
        <p:blipFill>
          <a:blip r:embed="rId2"/>
          <a:stretch/>
        </p:blipFill>
        <p:spPr>
          <a:xfrm>
            <a:off x="0" y="1484280"/>
            <a:ext cx="2519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Виды рефлексии на уроке - всем учителям, уроки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3401640" y="765000"/>
            <a:ext cx="25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684360" y="333360"/>
            <a:ext cx="7775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12-выучить правил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.77 и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сать из предложенного текста пять предложений, где есть причастия,  определить их вид и вр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539640" y="277920"/>
            <a:ext cx="741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читайте слова. Как можно их сгруппировать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влекательный, пишущий, рисовать, осень, красивая, рисующий, прочитанная, веник, закрытый, подарил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Думающий человечек рисунок: стоковые фото, изображения | Скачать Думающий  человечек рисунок картинки на Depositphotos"/>
          <p:cNvPicPr/>
          <p:nvPr/>
        </p:nvPicPr>
        <p:blipFill>
          <a:blip r:embed="rId2"/>
          <a:stretch/>
        </p:blipFill>
        <p:spPr>
          <a:xfrm>
            <a:off x="6659640" y="4005360"/>
            <a:ext cx="248436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ребусы"/>
          <p:cNvPicPr/>
          <p:nvPr/>
        </p:nvPicPr>
        <p:blipFill>
          <a:blip r:embed="rId2"/>
          <a:stretch/>
        </p:blipFill>
        <p:spPr>
          <a:xfrm>
            <a:off x="900000" y="1773360"/>
            <a:ext cx="1236600" cy="259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ребусы"/>
          <p:cNvPicPr/>
          <p:nvPr/>
        </p:nvPicPr>
        <p:blipFill>
          <a:blip r:embed="rId3"/>
          <a:stretch/>
        </p:blipFill>
        <p:spPr>
          <a:xfrm>
            <a:off x="2268360" y="3141720"/>
            <a:ext cx="771840" cy="1224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ребусы"/>
          <p:cNvPicPr/>
          <p:nvPr/>
        </p:nvPicPr>
        <p:blipFill>
          <a:blip r:embed="rId4"/>
          <a:stretch/>
        </p:blipFill>
        <p:spPr>
          <a:xfrm>
            <a:off x="3276720" y="2492280"/>
            <a:ext cx="1801800" cy="1900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ребусы"/>
          <p:cNvPicPr/>
          <p:nvPr/>
        </p:nvPicPr>
        <p:blipFill>
          <a:blip r:embed="rId5"/>
          <a:stretch/>
        </p:blipFill>
        <p:spPr>
          <a:xfrm>
            <a:off x="3419640" y="4724280"/>
            <a:ext cx="1050840" cy="5050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20"/>
          <p:cNvSpPr/>
          <p:nvPr/>
        </p:nvSpPr>
        <p:spPr>
          <a:xfrm>
            <a:off x="4500720" y="4653000"/>
            <a:ext cx="7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  <a:ea typeface="Arial"/>
              </a:rPr>
              <a:t>+ 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ребусы"/>
          <p:cNvPicPr/>
          <p:nvPr/>
        </p:nvPicPr>
        <p:blipFill>
          <a:blip r:embed="rId6"/>
          <a:stretch/>
        </p:blipFill>
        <p:spPr>
          <a:xfrm>
            <a:off x="5724360" y="1700280"/>
            <a:ext cx="17272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1064880" y="1773360"/>
            <a:ext cx="691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частие как часть реч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"/>
          <p:cNvSpPr/>
          <p:nvPr/>
        </p:nvSpPr>
        <p:spPr>
          <a:xfrm>
            <a:off x="2411280" y="353520"/>
            <a:ext cx="460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уме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находить в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научиться правильно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выяснить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3 D Человек Думающий С Красные Знаки Вопроса — стоковые фотографии и другие  картинки 2015 - iStock"/>
          <p:cNvPicPr/>
          <p:nvPr/>
        </p:nvPicPr>
        <p:blipFill>
          <a:blip r:embed="rId2"/>
          <a:stretch/>
        </p:blipFill>
        <p:spPr>
          <a:xfrm>
            <a:off x="0" y="3833640"/>
            <a:ext cx="2987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Презентация на тему &amp;quot;Причастие как часть речи&amp;quot; (интерактивная таблица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Презентация на тему &amp;quot;Причастие как часть речи&amp;quot; (интерактивная таблица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395280" y="190116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в групп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1 групп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амостоятельно работает с учебником: упр.76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2 группа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ыполняет задания по карточ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"/>
          <p:cNvSpPr/>
          <p:nvPr/>
        </p:nvSpPr>
        <p:spPr>
          <a:xfrm>
            <a:off x="0" y="20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Цифровой диктант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ен-1, не согласен-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причастие – самостоятельная часть реч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ричастие образовано от глагол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ичастие бывает сов. в. и несов. в.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4.причастие изменяется по лицам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.в предложении является обстоятельством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обозначает признак предмета по действ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1 сентября. Раскраски на тему школа"/>
          <p:cNvPicPr/>
          <p:nvPr/>
        </p:nvPicPr>
        <p:blipFill>
          <a:blip r:embed="rId2"/>
          <a:stretch/>
        </p:blipFill>
        <p:spPr>
          <a:xfrm>
            <a:off x="6659640" y="4508640"/>
            <a:ext cx="24843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16T10:22:34Z</dcterms:created>
  <dc:creator>User</dc:creator>
  <dc:description/>
  <dc:language>en-US</dc:language>
  <cp:lastModifiedBy>admin</cp:lastModifiedBy>
  <dcterms:modified xsi:type="dcterms:W3CDTF">2022-11-15T20:11:43Z</dcterms:modified>
  <cp:revision>24</cp:revision>
  <dc:subject/>
  <dc:title>Слайд 1</dc:title>
</cp:coreProperties>
</file>