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9DF-1A28-4EA5-A677-189CC041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B5A-9A22-4298-B0E0-9519CB80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4A7-D9EA-4E70-8664-5D8F2D5B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E58-2A35-4990-B3FE-8A0033EF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B918-E0F7-4A34-B5EE-C80D33F5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CADF-E69F-455E-8FA2-8988178E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AA92-310C-4E10-AAC3-FFBBC494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BEF6-055C-410B-B3D4-19801CCD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DB76-C24C-45BC-B4B5-BA2261B8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785F-9D5D-4E2F-A7FC-C815DF53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238A-E75B-4349-AE85-85A020A0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932-E8B7-428B-B2BA-044BFAF7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EB8D-BA55-4583-A6F4-5392FA4E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EB02-404B-4ED7-BE18-D4DC8CE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DCFD-53BD-41B7-9085-417A05B2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C265-A5CA-4876-9240-429890AC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BE78-1A87-4261-9035-6619CFC7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1D194-F223-486F-AF26-2DCD0E76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169B-B23D-4B38-8D87-8DDD2909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CA2D-5259-4F55-9DFF-C57832E8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AEAC-099A-46EC-B871-B9DC286F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75B70-A981-44FE-80B6-10BEB872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CE1-4AA3-4D88-B9C8-86113AC3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DAF2-B537-4EF9-9B37-C7D31052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4FC6-F3ED-49D8-9D28-2EF7B5B9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F1D5-2D6D-4E96-9390-46B59B8D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FCD9-8AE9-48D2-B217-0160FB2F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0CD9-4F8C-4563-81E1-2D0F6A58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93A0-65F8-4F96-8DE7-1F5043F2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CD001-FBD3-46E6-BDFA-3E9D6AF0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420-7490-4DC8-92C9-7C1997FA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675-B40E-4902-8243-7267DBC4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7AF-C3AE-4D0E-845F-F382A9B8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E5A-9969-481F-BB6E-5BA68F46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791-174A-44D7-8740-A13137EF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F14-F730-4FF3-BD79-537CD3C4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6E31-8DFD-4786-8393-DA87A75868F7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A1B4-193B-4B60-92E0-FBB0D613CEC4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CCC2-7447-4F86-B79A-AF1C7E6E702F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684360" y="404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Красновская школа им. М. Баби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826920" y="206064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астие как часть реч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5364000" y="414972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пенко Г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539640" y="30600"/>
            <a:ext cx="784872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люч к «Цифровому диктанту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1010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6-5 верных ответов  –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4 верных– «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3 верных ответа - «3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Писатель думает о чем писать - раскраска №11543 | Printonic.ru"/>
          <p:cNvPicPr/>
          <p:nvPr/>
        </p:nvPicPr>
        <p:blipFill>
          <a:blip r:embed="rId2"/>
          <a:stretch/>
        </p:blipFill>
        <p:spPr>
          <a:xfrm>
            <a:off x="0" y="1484280"/>
            <a:ext cx="2519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Виды рефлексии на уроке - всем учителям, уроки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3401640" y="765000"/>
            <a:ext cx="25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684360" y="333360"/>
            <a:ext cx="7775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12-выучить правил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77 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ать из предложенного текста пять предложений, где есть причастия,  определить их вид и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539640" y="277920"/>
            <a:ext cx="741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слова. Как можно их сгруппировать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лекательный, пишущий, рисовать, осень, красивая, рисующий, прочитанная, веник, закрытый, подарил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Думающий человечек рисунок: стоковые фото, изображения | Скачать Думающий  человечек рисунок картинки на Depositphotos"/>
          <p:cNvPicPr/>
          <p:nvPr/>
        </p:nvPicPr>
        <p:blipFill>
          <a:blip r:embed="rId2"/>
          <a:stretch/>
        </p:blipFill>
        <p:spPr>
          <a:xfrm>
            <a:off x="6659640" y="4005360"/>
            <a:ext cx="248436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ребусы"/>
          <p:cNvPicPr/>
          <p:nvPr/>
        </p:nvPicPr>
        <p:blipFill>
          <a:blip r:embed="rId2"/>
          <a:stretch/>
        </p:blipFill>
        <p:spPr>
          <a:xfrm>
            <a:off x="900000" y="1773360"/>
            <a:ext cx="123660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ребусы"/>
          <p:cNvPicPr/>
          <p:nvPr/>
        </p:nvPicPr>
        <p:blipFill>
          <a:blip r:embed="rId3"/>
          <a:stretch/>
        </p:blipFill>
        <p:spPr>
          <a:xfrm>
            <a:off x="2268360" y="3141720"/>
            <a:ext cx="771840" cy="12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ребусы"/>
          <p:cNvPicPr/>
          <p:nvPr/>
        </p:nvPicPr>
        <p:blipFill>
          <a:blip r:embed="rId4"/>
          <a:stretch/>
        </p:blipFill>
        <p:spPr>
          <a:xfrm>
            <a:off x="3276720" y="2492280"/>
            <a:ext cx="1801800" cy="190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ребусы"/>
          <p:cNvPicPr/>
          <p:nvPr/>
        </p:nvPicPr>
        <p:blipFill>
          <a:blip r:embed="rId5"/>
          <a:stretch/>
        </p:blipFill>
        <p:spPr>
          <a:xfrm>
            <a:off x="3419640" y="4724280"/>
            <a:ext cx="1050840" cy="5050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0"/>
          <p:cNvSpPr/>
          <p:nvPr/>
        </p:nvSpPr>
        <p:spPr>
          <a:xfrm>
            <a:off x="4500720" y="465300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  <a:ea typeface="Arial"/>
              </a:rPr>
              <a:t>+ 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ребусы"/>
          <p:cNvPicPr/>
          <p:nvPr/>
        </p:nvPicPr>
        <p:blipFill>
          <a:blip r:embed="rId6"/>
          <a:stretch/>
        </p:blipFill>
        <p:spPr>
          <a:xfrm>
            <a:off x="5724360" y="1700280"/>
            <a:ext cx="17272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064880" y="1773360"/>
            <a:ext cx="69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астие как часть реч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2411280" y="353520"/>
            <a:ext cx="460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ум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находить в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научиться правильно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ыяснить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3 D Человек Думающий С Красные Знаки Вопроса — стоковые фотографии и другие  картинки 2015 - iStock"/>
          <p:cNvPicPr/>
          <p:nvPr/>
        </p:nvPicPr>
        <p:blipFill>
          <a:blip r:embed="rId2"/>
          <a:stretch/>
        </p:blipFill>
        <p:spPr>
          <a:xfrm>
            <a:off x="0" y="3833640"/>
            <a:ext cx="2987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Презентация на тему &amp;quot;Причастие как часть речи&amp;quot; (интерактивная таблица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Презентация на тему &amp;quot;Причастие как часть речи&amp;quot; (интерактивная таблица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395280" y="190116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в групп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 групп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амостоятельно работает с учебником: упр.76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2 групп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ыполняет задания по карточ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УЧЁБА\Мои материалы\5 класс\gramota\фоны для презентаций\Colorful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0" y="20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Цифровой диктант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ен-1, не согласен-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ричастие – самостоятельная часть реч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ричастие образовано от глаго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ичастие бывает сов. в. и несов. в.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причастие изменяется по лица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в предложении является обстоятельство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обозначает признак предмета по действ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1 сентября. Раскраски на тему школа"/>
          <p:cNvPicPr/>
          <p:nvPr/>
        </p:nvPicPr>
        <p:blipFill>
          <a:blip r:embed="rId2"/>
          <a:stretch/>
        </p:blipFill>
        <p:spPr>
          <a:xfrm>
            <a:off x="6659640" y="4508640"/>
            <a:ext cx="2484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16T10:22:34Z</dcterms:created>
  <dc:creator>User</dc:creator>
  <dc:description/>
  <dc:language>en-US</dc:language>
  <cp:lastModifiedBy>admin</cp:lastModifiedBy>
  <dcterms:modified xsi:type="dcterms:W3CDTF">2022-11-15T20:11:43Z</dcterms:modified>
  <cp:revision>24</cp:revision>
  <dc:subject/>
  <dc:title>Слайд 1</dc:title>
</cp:coreProperties>
</file>