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12.png" ContentType="image/png"/>
  <Override PartName="/ppt/media/image3.gif" ContentType="image/gif"/>
  <Override PartName="/ppt/media/image29.png" ContentType="image/png"/>
  <Override PartName="/ppt/media/image28.gif" ContentType="image/gif"/>
  <Override PartName="/ppt/media/image2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"ЗСОШ №6" РТ  Нигматзянова Э.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7D95-A6DD-4E72-A0CD-619EE37F7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"ЗСОШ №6" РТ  Нигматзянова Э.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04F-A62D-4D7D-9613-28442B7F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8B5-7595-46D8-B87E-5C5FAF0A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15F-7D5D-4EBC-87DE-D8FB0C32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D90-28E5-4E09-8DED-AD97FE94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FA9-5E7D-4701-9651-EC174CF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6A2-766F-4F6E-A620-F7B955BE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DE4-8E4E-441C-BA43-F80DBACA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9E7-5EAD-47CC-AB9F-66C23003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EFF-322E-40E5-A748-D09574C8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A61-2B66-4267-BA25-FAE78E07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97C-5F71-4E22-811A-A905E12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DC2-5A45-4F20-8907-C212F368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34F7-6FBD-4E3A-AF22-372B448942A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"ЗСОШ №6" РТ   Нигматзянова Э.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AC2B-B581-476C-9EFD-EEB83FFE3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684360" y="260280"/>
            <a:ext cx="7848360" cy="4969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66ff"/>
              </a:gs>
              <a:gs pos="50000">
                <a:srgbClr val="ffff66"/>
              </a:gs>
              <a:gs pos="100000">
                <a:srgbClr val="ff66ff"/>
              </a:gs>
            </a:gsLst>
            <a:lin ang="18900000"/>
          </a:gradFill>
          <a:ln w="38160">
            <a:solidFill>
              <a:srgbClr val="993366"/>
            </a:solidFill>
            <a:prstDash val="sysDot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0" y="2249640"/>
            <a:ext cx="9434520" cy="46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37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Comic Sans MS"/>
              </a:rPr>
              <a:t>Музыка к драматическому спектаклю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Comic Sans MS"/>
              </a:rPr>
              <a:t>«Ромео и Джульетта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pic>
        <p:nvPicPr>
          <p:cNvPr id="50" name="Picture 61" descr="MCj04325860000[1]"/>
          <p:cNvPicPr/>
          <p:nvPr/>
        </p:nvPicPr>
        <p:blipFill>
          <a:blip r:embed="rId1"/>
          <a:stretch/>
        </p:blipFill>
        <p:spPr>
          <a:xfrm>
            <a:off x="826920" y="0"/>
            <a:ext cx="1181160" cy="11811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62" descr="MCj04325860000[1]"/>
          <p:cNvPicPr/>
          <p:nvPr/>
        </p:nvPicPr>
        <p:blipFill>
          <a:blip r:embed="rId2"/>
          <a:stretch/>
        </p:blipFill>
        <p:spPr>
          <a:xfrm>
            <a:off x="7667640" y="0"/>
            <a:ext cx="1181160" cy="11811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Picture 64" descr="AG00030_"/>
          <p:cNvPicPr/>
          <p:nvPr/>
        </p:nvPicPr>
        <p:blipFill>
          <a:blip r:embed="rId3"/>
          <a:stretch/>
        </p:blipFill>
        <p:spPr>
          <a:xfrm>
            <a:off x="5724360" y="4076640"/>
            <a:ext cx="2294280" cy="223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6" descr="clef"/>
          <p:cNvPicPr/>
          <p:nvPr/>
        </p:nvPicPr>
        <p:blipFill>
          <a:blip r:embed="rId4"/>
          <a:stretch/>
        </p:blipFill>
        <p:spPr>
          <a:xfrm>
            <a:off x="4211640" y="40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8" descr="gif"/>
          <p:cNvPicPr/>
          <p:nvPr/>
        </p:nvPicPr>
        <p:blipFill>
          <a:blip r:embed="rId5"/>
          <a:stretch/>
        </p:blipFill>
        <p:spPr>
          <a:xfrm rot="2140800">
            <a:off x="6948000" y="4797000"/>
            <a:ext cx="255600" cy="3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9" descr="gif"/>
          <p:cNvPicPr/>
          <p:nvPr/>
        </p:nvPicPr>
        <p:blipFill>
          <a:blip r:embed="rId6"/>
          <a:stretch/>
        </p:blipFill>
        <p:spPr>
          <a:xfrm rot="20922000">
            <a:off x="6372360" y="4723920"/>
            <a:ext cx="255600" cy="330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джиева Е.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E043-66B7-4834-9283-CE1FEC416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0"/>
          <a:ext cx="8072640" cy="6515280"/>
        </p:xfrm>
        <a:graphic>
          <a:graphicData uri="http://schemas.openxmlformats.org/drawingml/2006/table">
            <a:tbl>
              <a:tblPr/>
              <a:tblGrid>
                <a:gridCol w="816120"/>
                <a:gridCol w="415800"/>
                <a:gridCol w="496800"/>
                <a:gridCol w="569880"/>
                <a:gridCol w="569880"/>
                <a:gridCol w="416160"/>
                <a:gridCol w="555480"/>
                <a:gridCol w="555840"/>
                <a:gridCol w="569880"/>
                <a:gridCol w="569880"/>
                <a:gridCol w="415800"/>
                <a:gridCol w="415800"/>
                <a:gridCol w="417600"/>
                <a:gridCol w="417600"/>
                <a:gridCol w="434880"/>
                <a:gridCol w="435240"/>
              </a:tblGrid>
              <a:tr h="388800">
                <a:tc rowSpan="2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Части  поэмы Ромео и Джуль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Кабалевск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те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жа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громк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и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тих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ещендо (усиливающ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иминуэн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затихающ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ж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ин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ыстрый (аллегр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мер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ленный (андан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н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с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е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юи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ро в Вероне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ествие гос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стреча Ромео и Джульетты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Смерть и прими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1"/>
          <p:cNvSpPr/>
          <p:nvPr/>
        </p:nvSpPr>
        <p:spPr>
          <a:xfrm>
            <a:off x="61128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4280" y="1928880"/>
          <a:ext cx="6429600" cy="3357360"/>
        </p:xfrm>
        <a:graphic>
          <a:graphicData uri="http://schemas.openxmlformats.org/drawingml/2006/table">
            <a:tbl>
              <a:tblPr/>
              <a:tblGrid>
                <a:gridCol w="3414960"/>
                <a:gridCol w="3014640"/>
              </a:tblGrid>
              <a:tr h="671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соответ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раз любви и образ враж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Бор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Спокойное взаимо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рими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Любов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45 0.02847 C 0.17274 0.02871 -0.00295 0.15972 -0.00174 0.32246 C -0.00295 0.48449 0.17274 0.6169 0.39045 0.6169 C 0.60677 0.6169 0.78385 0.48472 0.78368 0.32246 C 0.78385 0.15972 0.60677 0.02847 0.39045 0.02847 Z">
                                      <p:cBhvr>
                                        <p:cTn id="44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1"/>
          <p:cNvSpPr/>
          <p:nvPr/>
        </p:nvSpPr>
        <p:spPr>
          <a:xfrm>
            <a:off x="61128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12800" y="2357280"/>
          <a:ext cx="6174000" cy="2921040"/>
        </p:xfrm>
        <a:graphic>
          <a:graphicData uri="http://schemas.openxmlformats.org/drawingml/2006/table">
            <a:tbl>
              <a:tblPr/>
              <a:tblGrid>
                <a:gridCol w="2887920"/>
                <a:gridCol w="3286080"/>
              </a:tblGrid>
              <a:tr h="555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соответ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раз враж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З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Любов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Гн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очув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32709 C -0.00278 0.45139 0.08212 0.55301 0.18611 0.55301 C 0.30851 0.55301 0.35295 0.44028 0.37153 0.37222 L 0.39097 0.28172 C 0.4099 0.21366 0.45677 0.10139 0.59531 0.10139 C 0.68385 0.10139 0.78472 0.20232 0.78472 0.32709 C 0.78472 0.45139 0.68385 0.55301 0.59531 0.55301 C 0.45677 0.55301 0.4099 0.44028 0.39097 0.37222 L 0.37153 0.28172 C 0.35295 0.21366 0.30851 0.10139 0.18611 0.10139 C 0.08212 0.10139 -0.00278 0.20232 -0.00278 0.32709 Z">
                                      <p:cBhvr>
                                        <p:cTn id="50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лыбающееся лицо 1"/>
          <p:cNvSpPr/>
          <p:nvPr/>
        </p:nvSpPr>
        <p:spPr>
          <a:xfrm>
            <a:off x="61128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79560" y="1714680"/>
          <a:ext cx="5978520" cy="4241520"/>
        </p:xfrm>
        <a:graphic>
          <a:graphicData uri="http://schemas.openxmlformats.org/drawingml/2006/table">
            <a:tbl>
              <a:tblPr/>
              <a:tblGrid>
                <a:gridCol w="3175200"/>
                <a:gridCol w="2803320"/>
              </a:tblGrid>
              <a:tr h="496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соответ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раз любви и образ враж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Бор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Спокойное взаимо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рими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Любов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132 0.62639 C 0.18698 0.62639 0.02049 0.49514 0.02049 0.33241 C 0.02049 0.17014 0.18698 0.03797 0.39132 0.03797 C 0.59531 0.03797 0.76111 0.17014 0.76111 0.33241 C 0.76111 0.49514 0.59531 0.62639 0.39132 0.62639 Z">
                                      <p:cBhvr>
                                        <p:cTn id="56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лыбающееся лицо 1"/>
          <p:cNvSpPr/>
          <p:nvPr/>
        </p:nvSpPr>
        <p:spPr>
          <a:xfrm>
            <a:off x="2243160" y="1263600"/>
            <a:ext cx="4722840" cy="4392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1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lines14"/>
          <p:cNvPicPr/>
          <p:nvPr/>
        </p:nvPicPr>
        <p:blipFill>
          <a:blip r:embed="rId1"/>
          <a:stretch/>
        </p:blipFill>
        <p:spPr>
          <a:xfrm rot="16200000">
            <a:off x="-2485080" y="3069000"/>
            <a:ext cx="6048360" cy="28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lines14"/>
          <p:cNvPicPr/>
          <p:nvPr/>
        </p:nvPicPr>
        <p:blipFill>
          <a:blip r:embed="rId2"/>
          <a:stretch/>
        </p:blipFill>
        <p:spPr>
          <a:xfrm rot="5400000">
            <a:off x="5940000" y="3033720"/>
            <a:ext cx="6048360" cy="358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101301973440482655"/>
          <p:cNvPicPr/>
          <p:nvPr/>
        </p:nvPicPr>
        <p:blipFill>
          <a:blip r:embed="rId3"/>
          <a:stretch/>
        </p:blipFill>
        <p:spPr>
          <a:xfrm>
            <a:off x="611280" y="692280"/>
            <a:ext cx="788832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2268360" y="2133720"/>
            <a:ext cx="463896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елаю успехов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3300"/>
                </a:solidFill>
                <a:latin typeface="Bookman Old Style"/>
              </a:rPr>
              <a:t>МОЛОДЦЫ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star58"/>
          <p:cNvPicPr/>
          <p:nvPr/>
        </p:nvPicPr>
        <p:blipFill>
          <a:blip r:embed="rId4"/>
          <a:stretch/>
        </p:blipFill>
        <p:spPr>
          <a:xfrm>
            <a:off x="2843280" y="765000"/>
            <a:ext cx="216000" cy="19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tar58"/>
          <p:cNvPicPr/>
          <p:nvPr/>
        </p:nvPicPr>
        <p:blipFill>
          <a:blip r:embed="rId5"/>
          <a:stretch/>
        </p:blipFill>
        <p:spPr>
          <a:xfrm>
            <a:off x="6732720" y="2133720"/>
            <a:ext cx="2054160" cy="1879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r58"/>
          <p:cNvPicPr/>
          <p:nvPr/>
        </p:nvPicPr>
        <p:blipFill>
          <a:blip r:embed="rId6"/>
          <a:stretch/>
        </p:blipFill>
        <p:spPr>
          <a:xfrm>
            <a:off x="4427640" y="4437000"/>
            <a:ext cx="2232000" cy="204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tar58"/>
          <p:cNvPicPr/>
          <p:nvPr/>
        </p:nvPicPr>
        <p:blipFill>
          <a:blip r:embed="rId7"/>
          <a:stretch/>
        </p:blipFill>
        <p:spPr>
          <a:xfrm>
            <a:off x="684360" y="476280"/>
            <a:ext cx="2232000" cy="204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star58"/>
          <p:cNvPicPr/>
          <p:nvPr/>
        </p:nvPicPr>
        <p:blipFill>
          <a:blip r:embed="rId8"/>
          <a:stretch/>
        </p:blipFill>
        <p:spPr>
          <a:xfrm>
            <a:off x="8172360" y="2276640"/>
            <a:ext cx="216000" cy="19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tar58"/>
          <p:cNvPicPr/>
          <p:nvPr/>
        </p:nvPicPr>
        <p:blipFill>
          <a:blip r:embed="rId9"/>
          <a:stretch/>
        </p:blipFill>
        <p:spPr>
          <a:xfrm>
            <a:off x="6300720" y="6021360"/>
            <a:ext cx="216000" cy="1969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3">
            <a:hlinkClick r:id="" action="ppaction://hlinkshowjump?jump=firstslide"/>
          </p:cNvPr>
          <p:cNvSpPr/>
          <p:nvPr/>
        </p:nvSpPr>
        <p:spPr>
          <a:xfrm>
            <a:off x="684360" y="6093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1332000" y="126828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7236000" y="2852640"/>
            <a:ext cx="115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defitsita.net/upload/resize_cache/iblock/917/800_600_1/dsc_5300_1.jpg"/>
          <p:cNvPicPr/>
          <p:nvPr/>
        </p:nvPicPr>
        <p:blipFill>
          <a:blip r:embed="rId1"/>
          <a:stretch/>
        </p:blipFill>
        <p:spPr>
          <a:xfrm>
            <a:off x="1258920" y="54936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 (9)"/>
          <p:cNvPicPr/>
          <p:nvPr/>
        </p:nvPicPr>
        <p:blipFill>
          <a:blip r:embed="rId1"/>
          <a:stretch/>
        </p:blipFill>
        <p:spPr>
          <a:xfrm>
            <a:off x="1332000" y="907920"/>
            <a:ext cx="3078000" cy="2070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4644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ильям 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5303160" y="4762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тр Ильич 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"/>
          <p:cNvPicPr/>
          <p:nvPr/>
        </p:nvPicPr>
        <p:blipFill>
          <a:blip r:embed="rId2"/>
          <a:stretch/>
        </p:blipFill>
        <p:spPr>
          <a:xfrm>
            <a:off x="5435640" y="907920"/>
            <a:ext cx="273672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"/>
          <p:cNvPicPr/>
          <p:nvPr/>
        </p:nvPicPr>
        <p:blipFill>
          <a:blip r:embed="rId3"/>
          <a:stretch/>
        </p:blipFill>
        <p:spPr>
          <a:xfrm>
            <a:off x="1619280" y="3716280"/>
            <a:ext cx="2098800" cy="253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1168748_fanparty_fan_club_composer"/>
          <p:cNvPicPr/>
          <p:nvPr/>
        </p:nvPicPr>
        <p:blipFill>
          <a:blip r:embed="rId4"/>
          <a:stretch/>
        </p:blipFill>
        <p:spPr>
          <a:xfrm>
            <a:off x="558000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684360" y="2523600"/>
            <a:ext cx="845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гей Сергее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кофьев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митрий Борис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бале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arhivurokov.ru/kopilka/uploads/user_file_56978c2b7a80b/img_user_file_56978c2b7a80b_0.jpg"/>
          <p:cNvPicPr/>
          <p:nvPr/>
        </p:nvPicPr>
        <p:blipFill>
          <a:blip r:embed="rId1"/>
          <a:stretch/>
        </p:blipFill>
        <p:spPr>
          <a:xfrm>
            <a:off x="1692360" y="1268280"/>
            <a:ext cx="6672240" cy="5004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2419200" y="-60480"/>
            <a:ext cx="49197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1"/>
          <a:stretch/>
        </p:blipFill>
        <p:spPr>
          <a:xfrm>
            <a:off x="695160" y="1311120"/>
            <a:ext cx="83091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lh6.ggpht.com/blP6EGY7xbQk5phGGbrMdNpJoG5keTtmPaKwvz2eLg3Ynv7-0GH6nKlTU1Zm-6qTV1U=h800"/>
          <p:cNvPicPr/>
          <p:nvPr/>
        </p:nvPicPr>
        <p:blipFill>
          <a:blip r:embed="rId1"/>
          <a:stretch/>
        </p:blipFill>
        <p:spPr>
          <a:xfrm>
            <a:off x="900000" y="1052640"/>
            <a:ext cx="7809120" cy="4392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2041560"/>
            <a:ext cx="847800" cy="31528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3"/>
          <a:stretch/>
        </p:blipFill>
        <p:spPr>
          <a:xfrm>
            <a:off x="2073240" y="3584520"/>
            <a:ext cx="75564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" descr=""/>
          <p:cNvPicPr/>
          <p:nvPr/>
        </p:nvPicPr>
        <p:blipFill>
          <a:blip r:embed="rId4"/>
          <a:stretch/>
        </p:blipFill>
        <p:spPr>
          <a:xfrm>
            <a:off x="3352680" y="3371760"/>
            <a:ext cx="755640" cy="20415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5"/>
          <a:stretch/>
        </p:blipFill>
        <p:spPr>
          <a:xfrm>
            <a:off x="4095720" y="1798560"/>
            <a:ext cx="84780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6"/>
          <a:stretch/>
        </p:blipFill>
        <p:spPr>
          <a:xfrm>
            <a:off x="5583240" y="1481040"/>
            <a:ext cx="433440" cy="44751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8" descr=""/>
          <p:cNvPicPr/>
          <p:nvPr/>
        </p:nvPicPr>
        <p:blipFill>
          <a:blip r:embed="rId7"/>
          <a:stretch/>
        </p:blipFill>
        <p:spPr>
          <a:xfrm>
            <a:off x="6450120" y="3328920"/>
            <a:ext cx="846000" cy="22906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9" descr=""/>
          <p:cNvPicPr/>
          <p:nvPr/>
        </p:nvPicPr>
        <p:blipFill>
          <a:blip r:embed="rId8"/>
          <a:stretch/>
        </p:blipFill>
        <p:spPr>
          <a:xfrm>
            <a:off x="7839000" y="3260880"/>
            <a:ext cx="847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"ЗСОШ №6" РТ   Нигматзянова Э.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A34E-1EF1-4ED6-AB30-F85D34528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img5"/>
          <p:cNvPicPr/>
          <p:nvPr/>
        </p:nvPicPr>
        <p:blipFill>
          <a:blip r:embed="rId1"/>
          <a:stretch/>
        </p:blipFill>
        <p:spPr>
          <a:xfrm>
            <a:off x="500040" y="74520"/>
            <a:ext cx="84852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96840"/>
            <a:ext cx="87962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КОУ «Щедринская СОШ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джиева Е.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91DA-31C0-4AA3-B584-DF8C7FAE1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00040" y="357120"/>
          <a:ext cx="8001000" cy="5500800"/>
        </p:xfrm>
        <a:graphic>
          <a:graphicData uri="http://schemas.openxmlformats.org/drawingml/2006/table">
            <a:tbl>
              <a:tblPr/>
              <a:tblGrid>
                <a:gridCol w="1785960"/>
                <a:gridCol w="6215040"/>
              </a:tblGrid>
              <a:tr h="246240">
                <a:tc gridSpan="2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УЗЫКАЛЬНОЙ ВЫРАЗИ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74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О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НАЯ, ВЫРАЖАЕТ РАЗЛИЧНЫЕ ОБРАЗЫ И СОСТОЯНИЯ,                           МНОГО ПОДГОЛОСКОВ, НЕЖНАЯ, ТВЁРДАЯ, ЛЁГКАЯ, МЯГКАЯ, ОЗОРНАЯ, УВЕРЕННАЯ, СКАЧКООБРАЗНАЯ, ВОСХОДЯЩАЯ, НИСХОДЯЩА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ЖОРНЫЙ, МИНОРНЫЙ, ПЕРЕМ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НЫЙ, ПУНКТИ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ЫЙ, ОЖИВЛЁННЫЙ, МЕДЛЕННЫЙ, СПОКОЙНЫЙ, ПЛАВНЫЙ, УМЕР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, СРЕДНИЙ, ВЫ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МКО, ТИХО, НЕ ОЧЕНЬ ГРОМКО, РЕЗКО, ВПОЛГОЛОСА, КРИЧАЩЕ, ЩЁПО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ИТЕЛЬНЫЙ  ГОРЯЧИЙ ТЕМПЕРАМЕНТНЫЙ  БЫСТРЫЙ СТРАСТНЫЙ ПОРЫВИСТЫЙ БУРНЫЙ ШУТЛИВЫЙ СЕРЬЁЗНЫЙ  ТАНЦЕВАЛЬНЫЙ МАРШЕВЫЙ ПЕС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9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НО СТРЕМИТЕЛЬНО НАПРЯЖЁННО ХМУРО  ТОСКЛИВО НАСМЕШЛИ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О МОЛИТВЕННО ВЛАСТНО СВЕТЛО ПРОСТО ЛЮБОВНО ИГРИВО ЛИКУЮЩЕ ЖИЗНЕУТВЕРЖДАЮЩЕ ТРАГИЧНО ЗЛОВЕЩЕ ТРАУРНО СМИРЕННО ПЕЧАЛЬНО РАДОСТНО ВОСТОРЖЕННО МРА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Нигматзянова Э.Ф.</dc:creator>
  <dc:description/>
  <dc:language>en-US</dc:language>
  <cp:lastModifiedBy>AC</cp:lastModifiedBy>
  <dcterms:modified xsi:type="dcterms:W3CDTF">2022-11-12T07:22:16Z</dcterms:modified>
  <cp:revision>156</cp:revision>
  <dc:subject>Викторина "Пятерка по музыке"</dc:subject>
  <dc:title>Презентация</dc:title>
</cp:coreProperties>
</file>