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4.gif" ContentType="image/gif"/>
  <Override PartName="/ppt/media/image22.jpeg" ContentType="image/jpeg"/>
  <Override PartName="/ppt/media/image12.png" ContentType="image/png"/>
  <Override PartName="/ppt/media/image3.gif" ContentType="image/gif"/>
  <Override PartName="/ppt/media/image29.png" ContentType="image/png"/>
  <Override PartName="/ppt/media/image28.gif" ContentType="image/gif"/>
  <Override PartName="/ppt/media/image2.png" ContentType="image/png"/>
  <Override PartName="/ppt/media/image27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4.wmf" ContentType="image/x-wmf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"ЗСОШ №6" РТ  Нигматзянова Э.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C841-7F00-4FE0-AD22-C00D5BF254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"ЗСОШ №6" РТ  Нигматзянова Э.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32FD-D731-4132-B5AC-7CD2C762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12F8-3BE1-4BE2-9A52-7E4802DA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B2D5-399D-47E2-8F7C-78AC2E0B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69B3-DD4B-4CDA-9821-02FBA716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3215-3BDC-4DC9-BCA0-C150D055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8DFD-19FD-410D-B320-C5613F8F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F04E-F4AD-47AB-A364-341866BD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21C0-5196-4296-917A-2CB61FD8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0268-4DCC-451A-8948-DAC46A52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C121-2143-45B1-AD19-4E94D828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AEA6-16D6-41AE-A85C-DD4DCEB7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36E0-BCD1-4DC1-B923-3DE793C4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0F2E-CA34-422A-B885-4387F1FE0CC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"ЗСОШ №6" РТ   Нигматзянова Э.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3199-18A8-4E38-A1BD-1EF7D8A5A6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9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684360" y="260280"/>
            <a:ext cx="7848360" cy="4969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66ff"/>
              </a:gs>
              <a:gs pos="50000">
                <a:srgbClr val="ffff66"/>
              </a:gs>
              <a:gs pos="100000">
                <a:srgbClr val="ff66ff"/>
              </a:gs>
            </a:gsLst>
            <a:lin ang="18900000"/>
          </a:gradFill>
          <a:ln w="38160">
            <a:solidFill>
              <a:srgbClr val="993366"/>
            </a:solidFill>
            <a:prstDash val="sysDot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0" y="2249640"/>
            <a:ext cx="9434520" cy="460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371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latin typeface="Comic Sans MS"/>
              </a:rPr>
              <a:t>Музыка к драматическому спектаклю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latin typeface="Comic Sans MS"/>
              </a:rPr>
              <a:t>«Ромео и Джульетта"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latin typeface="Comic Sans MS"/>
              <a:ea typeface="Comic Sans MS"/>
            </a:endParaRPr>
          </a:p>
        </p:txBody>
      </p:sp>
      <p:pic>
        <p:nvPicPr>
          <p:cNvPr id="50" name="Picture 61" descr="MCj04325860000[1]"/>
          <p:cNvPicPr/>
          <p:nvPr/>
        </p:nvPicPr>
        <p:blipFill>
          <a:blip r:embed="rId1"/>
          <a:stretch/>
        </p:blipFill>
        <p:spPr>
          <a:xfrm>
            <a:off x="826920" y="0"/>
            <a:ext cx="1181160" cy="11811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62" descr="MCj04325860000[1]"/>
          <p:cNvPicPr/>
          <p:nvPr/>
        </p:nvPicPr>
        <p:blipFill>
          <a:blip r:embed="rId2"/>
          <a:stretch/>
        </p:blipFill>
        <p:spPr>
          <a:xfrm>
            <a:off x="7667640" y="0"/>
            <a:ext cx="1181160" cy="11811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2" name="Picture 64" descr="AG00030_"/>
          <p:cNvPicPr/>
          <p:nvPr/>
        </p:nvPicPr>
        <p:blipFill>
          <a:blip r:embed="rId3"/>
          <a:stretch/>
        </p:blipFill>
        <p:spPr>
          <a:xfrm>
            <a:off x="5724360" y="4076640"/>
            <a:ext cx="2294280" cy="2233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6" descr="clef"/>
          <p:cNvPicPr/>
          <p:nvPr/>
        </p:nvPicPr>
        <p:blipFill>
          <a:blip r:embed="rId4"/>
          <a:stretch/>
        </p:blipFill>
        <p:spPr>
          <a:xfrm>
            <a:off x="4211640" y="4005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8" descr="gif"/>
          <p:cNvPicPr/>
          <p:nvPr/>
        </p:nvPicPr>
        <p:blipFill>
          <a:blip r:embed="rId5"/>
          <a:stretch/>
        </p:blipFill>
        <p:spPr>
          <a:xfrm rot="2140800">
            <a:off x="6948000" y="4797000"/>
            <a:ext cx="255600" cy="330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9" descr="gif"/>
          <p:cNvPicPr/>
          <p:nvPr/>
        </p:nvPicPr>
        <p:blipFill>
          <a:blip r:embed="rId6"/>
          <a:stretch/>
        </p:blipFill>
        <p:spPr>
          <a:xfrm rot="20922000">
            <a:off x="6372360" y="4723920"/>
            <a:ext cx="255600" cy="3304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аджиева Е.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94D4-A8F1-4A44-84DF-0A2DB07656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00040" y="0"/>
          <a:ext cx="8072640" cy="6515280"/>
        </p:xfrm>
        <a:graphic>
          <a:graphicData uri="http://schemas.openxmlformats.org/drawingml/2006/table">
            <a:tbl>
              <a:tblPr/>
              <a:tblGrid>
                <a:gridCol w="816120"/>
                <a:gridCol w="415800"/>
                <a:gridCol w="496800"/>
                <a:gridCol w="569880"/>
                <a:gridCol w="569880"/>
                <a:gridCol w="416160"/>
                <a:gridCol w="555480"/>
                <a:gridCol w="555840"/>
                <a:gridCol w="569880"/>
                <a:gridCol w="569880"/>
                <a:gridCol w="415800"/>
                <a:gridCol w="415800"/>
                <a:gridCol w="417600"/>
                <a:gridCol w="417600"/>
                <a:gridCol w="434880"/>
                <a:gridCol w="435240"/>
              </a:tblGrid>
              <a:tr h="388800">
                <a:tc rowSpan="2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Части  поэмы Ромео и Джуль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Кабалевск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дина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Л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те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жа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громк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и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тих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рещендо (усиливающ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иминуэнд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затихающ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ж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ин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ыстрый (аллегр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мер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дленный (андант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ане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р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ес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пе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а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юит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тро в Вероне»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Шествие госте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стреча Ромео и Джульетты»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Смерть и примир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f3f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1) 6 : 2 = 3 (см) - шири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2) 6 х 3 = 18 ( см 2) – площад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f3f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Ответ: </a:t>
            </a:r>
            <a:r>
              <a:rPr b="0" lang="en-US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S</a:t>
            </a: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=18 см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3574080" y="692280"/>
            <a:ext cx="1697040" cy="764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•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F:\разные картинки\ФОНЫ школьные\Рисунок1рр.emf"/>
          <p:cNvPicPr/>
          <p:nvPr/>
        </p:nvPicPr>
        <p:blipFill>
          <a:blip r:embed="rId1"/>
          <a:stretch/>
        </p:blipFill>
        <p:spPr>
          <a:xfrm>
            <a:off x="-14400" y="0"/>
            <a:ext cx="9237600" cy="69483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860400" y="1135080"/>
            <a:ext cx="7488360" cy="46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Улыбающееся лицо 1"/>
          <p:cNvSpPr/>
          <p:nvPr/>
        </p:nvSpPr>
        <p:spPr>
          <a:xfrm>
            <a:off x="611280" y="692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14280" y="1928880"/>
          <a:ext cx="6429600" cy="3357360"/>
        </p:xfrm>
        <a:graphic>
          <a:graphicData uri="http://schemas.openxmlformats.org/drawingml/2006/table">
            <a:tbl>
              <a:tblPr/>
              <a:tblGrid>
                <a:gridCol w="3414960"/>
                <a:gridCol w="3014640"/>
              </a:tblGrid>
              <a:tr h="6714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ти соответ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Образ любви и образ вражд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Борь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Спокойное взаимо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Примир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Любов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ircl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045 0.02847 C 0.17274 0.02871 -0.00295 0.15972 -0.00174 0.32246 C -0.00295 0.48449 0.17274 0.6169 0.39045 0.6169 C 0.60677 0.6169 0.78385 0.48472 0.78368 0.32246 C 0.78385 0.15972 0.60677 0.02847 0.39045 0.02847 Z">
                                      <p:cBhvr>
                                        <p:cTn id="44" dur="5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f3f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1) 6 : 2 = 3 (см) - шири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2) 6 х 3 = 18 ( см 2) – площад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f3f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Ответ: </a:t>
            </a:r>
            <a:r>
              <a:rPr b="0" lang="en-US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S</a:t>
            </a: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=18 см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3574080" y="692280"/>
            <a:ext cx="1697040" cy="764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•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F:\разные картинки\ФОНЫ школьные\Рисунок1рр.emf"/>
          <p:cNvPicPr/>
          <p:nvPr/>
        </p:nvPicPr>
        <p:blipFill>
          <a:blip r:embed="rId1"/>
          <a:stretch/>
        </p:blipFill>
        <p:spPr>
          <a:xfrm>
            <a:off x="-14400" y="0"/>
            <a:ext cx="9237600" cy="69483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860400" y="1135080"/>
            <a:ext cx="7488360" cy="46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лыбающееся лицо 1"/>
          <p:cNvSpPr/>
          <p:nvPr/>
        </p:nvSpPr>
        <p:spPr>
          <a:xfrm>
            <a:off x="611280" y="692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12800" y="2357280"/>
          <a:ext cx="6174000" cy="2921040"/>
        </p:xfrm>
        <a:graphic>
          <a:graphicData uri="http://schemas.openxmlformats.org/drawingml/2006/table">
            <a:tbl>
              <a:tblPr/>
              <a:tblGrid>
                <a:gridCol w="2887920"/>
                <a:gridCol w="3286080"/>
              </a:tblGrid>
              <a:tr h="55584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ти соответ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Образ враж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Заб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Любов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Гне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Сочув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ircl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pat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0.32709 C -0.00278 0.45139 0.08212 0.55301 0.18611 0.55301 C 0.30851 0.55301 0.35295 0.44028 0.37153 0.37222 L 0.39097 0.28172 C 0.4099 0.21366 0.45677 0.10139 0.59531 0.10139 C 0.68385 0.10139 0.78472 0.20232 0.78472 0.32709 C 0.78472 0.45139 0.68385 0.55301 0.59531 0.55301 C 0.45677 0.55301 0.4099 0.44028 0.39097 0.37222 L 0.37153 0.28172 C 0.35295 0.21366 0.30851 0.10139 0.18611 0.10139 C 0.08212 0.10139 -0.00278 0.20232 -0.00278 0.32709 Z">
                                      <p:cBhvr>
                                        <p:cTn id="50" dur="5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f3f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1) 6 : 2 = 3 (см) - шири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2) 6 х 3 = 18 ( см 2) – площад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f3f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Ответ: </a:t>
            </a:r>
            <a:r>
              <a:rPr b="0" lang="en-US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S</a:t>
            </a: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=18 см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3574080" y="692280"/>
            <a:ext cx="1697040" cy="764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•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F:\разные картинки\ФОНЫ школьные\Рисунок1рр.emf"/>
          <p:cNvPicPr/>
          <p:nvPr/>
        </p:nvPicPr>
        <p:blipFill>
          <a:blip r:embed="rId1"/>
          <a:stretch/>
        </p:blipFill>
        <p:spPr>
          <a:xfrm>
            <a:off x="-14400" y="0"/>
            <a:ext cx="9237600" cy="69483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860400" y="1135080"/>
            <a:ext cx="7488360" cy="46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Улыбающееся лицо 1"/>
          <p:cNvSpPr/>
          <p:nvPr/>
        </p:nvSpPr>
        <p:spPr>
          <a:xfrm>
            <a:off x="611280" y="692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879560" y="1714680"/>
          <a:ext cx="5978520" cy="4241520"/>
        </p:xfrm>
        <a:graphic>
          <a:graphicData uri="http://schemas.openxmlformats.org/drawingml/2006/table">
            <a:tbl>
              <a:tblPr/>
              <a:tblGrid>
                <a:gridCol w="3175200"/>
                <a:gridCol w="2803320"/>
              </a:tblGrid>
              <a:tr h="4968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ти соответ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Образ любви и образ вражд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Борь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Спокойное взаимо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Примир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Любов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132 0.62639 C 0.18698 0.62639 0.02049 0.49514 0.02049 0.33241 C 0.02049 0.17014 0.18698 0.03797 0.39132 0.03797 C 0.59531 0.03797 0.76111 0.17014 0.76111 0.33241 C 0.76111 0.49514 0.59531 0.62639 0.39132 0.62639 Z">
                                      <p:cBhvr>
                                        <p:cTn id="56" dur="5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f3f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1) 6 : 2 = 3 (см) - шири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2) 6 х 3 = 18 ( см 2) – площад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f3f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Ответ: </a:t>
            </a:r>
            <a:r>
              <a:rPr b="0" lang="en-US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S</a:t>
            </a: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=18 см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3574080" y="692280"/>
            <a:ext cx="1697040" cy="764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•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F:\разные картинки\ФОНЫ школьные\Рисунок1рр.emf"/>
          <p:cNvPicPr/>
          <p:nvPr/>
        </p:nvPicPr>
        <p:blipFill>
          <a:blip r:embed="rId1"/>
          <a:stretch/>
        </p:blipFill>
        <p:spPr>
          <a:xfrm>
            <a:off x="-14400" y="0"/>
            <a:ext cx="9237600" cy="6948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860400" y="1135080"/>
            <a:ext cx="7488360" cy="46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Улыбающееся лицо 1"/>
          <p:cNvSpPr/>
          <p:nvPr/>
        </p:nvSpPr>
        <p:spPr>
          <a:xfrm>
            <a:off x="2243160" y="1263600"/>
            <a:ext cx="4722840" cy="4392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5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91" nodeType="after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5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lines14"/>
          <p:cNvPicPr/>
          <p:nvPr/>
        </p:nvPicPr>
        <p:blipFill>
          <a:blip r:embed="rId1"/>
          <a:stretch/>
        </p:blipFill>
        <p:spPr>
          <a:xfrm rot="16200000">
            <a:off x="-2485080" y="3069000"/>
            <a:ext cx="6048360" cy="287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lines14"/>
          <p:cNvPicPr/>
          <p:nvPr/>
        </p:nvPicPr>
        <p:blipFill>
          <a:blip r:embed="rId2"/>
          <a:stretch/>
        </p:blipFill>
        <p:spPr>
          <a:xfrm rot="5400000">
            <a:off x="5940000" y="3033720"/>
            <a:ext cx="6048360" cy="358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101301973440482655"/>
          <p:cNvPicPr/>
          <p:nvPr/>
        </p:nvPicPr>
        <p:blipFill>
          <a:blip r:embed="rId3"/>
          <a:stretch/>
        </p:blipFill>
        <p:spPr>
          <a:xfrm>
            <a:off x="611280" y="692280"/>
            <a:ext cx="7888320" cy="5545080"/>
          </a:xfrm>
          <a:prstGeom prst="rect">
            <a:avLst/>
          </a:prstGeom>
          <a:ln w="0">
            <a:noFill/>
          </a:ln>
        </p:spPr>
      </p:pic>
      <p:sp>
        <p:nvSpPr>
          <p:cNvPr id="113" name="WordArt 4"/>
          <p:cNvSpPr txBox="1"/>
          <p:nvPr/>
        </p:nvSpPr>
        <p:spPr>
          <a:xfrm>
            <a:off x="2268360" y="2133720"/>
            <a:ext cx="463896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Желаю успехов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611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3300"/>
                </a:solidFill>
                <a:latin typeface="Bookman Old Style"/>
              </a:rPr>
              <a:t>МОЛОДЦЫ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star58"/>
          <p:cNvPicPr/>
          <p:nvPr/>
        </p:nvPicPr>
        <p:blipFill>
          <a:blip r:embed="rId4"/>
          <a:stretch/>
        </p:blipFill>
        <p:spPr>
          <a:xfrm>
            <a:off x="2843280" y="765000"/>
            <a:ext cx="216000" cy="196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star58"/>
          <p:cNvPicPr/>
          <p:nvPr/>
        </p:nvPicPr>
        <p:blipFill>
          <a:blip r:embed="rId5"/>
          <a:stretch/>
        </p:blipFill>
        <p:spPr>
          <a:xfrm>
            <a:off x="6732720" y="2133720"/>
            <a:ext cx="2054160" cy="1879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tar58"/>
          <p:cNvPicPr/>
          <p:nvPr/>
        </p:nvPicPr>
        <p:blipFill>
          <a:blip r:embed="rId6"/>
          <a:stretch/>
        </p:blipFill>
        <p:spPr>
          <a:xfrm>
            <a:off x="4427640" y="4437000"/>
            <a:ext cx="2232000" cy="2044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star58"/>
          <p:cNvPicPr/>
          <p:nvPr/>
        </p:nvPicPr>
        <p:blipFill>
          <a:blip r:embed="rId7"/>
          <a:stretch/>
        </p:blipFill>
        <p:spPr>
          <a:xfrm>
            <a:off x="684360" y="476280"/>
            <a:ext cx="2232000" cy="2044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star58"/>
          <p:cNvPicPr/>
          <p:nvPr/>
        </p:nvPicPr>
        <p:blipFill>
          <a:blip r:embed="rId8"/>
          <a:stretch/>
        </p:blipFill>
        <p:spPr>
          <a:xfrm>
            <a:off x="8172360" y="2276640"/>
            <a:ext cx="216000" cy="19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star58"/>
          <p:cNvPicPr/>
          <p:nvPr/>
        </p:nvPicPr>
        <p:blipFill>
          <a:blip r:embed="rId9"/>
          <a:stretch/>
        </p:blipFill>
        <p:spPr>
          <a:xfrm>
            <a:off x="6300720" y="6021360"/>
            <a:ext cx="216000" cy="19692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23">
            <a:hlinkClick r:id="" action="ppaction://hlinkshowjump?jump=firstslide"/>
          </p:cNvPr>
          <p:cNvSpPr/>
          <p:nvPr/>
        </p:nvSpPr>
        <p:spPr>
          <a:xfrm>
            <a:off x="684360" y="609300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15068" y="3837"/>
                </a:moveTo>
                <a:lnTo>
                  <a:pt x="17645" y="6448"/>
                </a:lnTo>
                <a:lnTo>
                  <a:pt x="17645" y="4707"/>
                </a:lnTo>
                <a:lnTo>
                  <a:pt x="19420" y="4707"/>
                </a:lnTo>
                <a:lnTo>
                  <a:pt x="19420" y="8224"/>
                </a:lnTo>
                <a:lnTo>
                  <a:pt x="22031" y="10800"/>
                </a:lnTo>
                <a:lnTo>
                  <a:pt x="20378" y="10800"/>
                </a:lnTo>
                <a:lnTo>
                  <a:pt x="20378" y="17989"/>
                </a:lnTo>
                <a:lnTo>
                  <a:pt x="9759" y="17989"/>
                </a:lnTo>
                <a:lnTo>
                  <a:pt x="9759" y="10800"/>
                </a:lnTo>
                <a:lnTo>
                  <a:pt x="8105" y="10800"/>
                </a:lnTo>
                <a:close/>
              </a:path>
              <a:path fill="darkenLess" w="30137" h="21600">
                <a:moveTo>
                  <a:pt x="17645" y="6448"/>
                </a:moveTo>
                <a:lnTo>
                  <a:pt x="17645" y="4707"/>
                </a:lnTo>
                <a:lnTo>
                  <a:pt x="19420" y="4707"/>
                </a:lnTo>
                <a:lnTo>
                  <a:pt x="19420" y="8224"/>
                </a:lnTo>
                <a:close/>
              </a:path>
              <a:path fill="darkenLess" w="30137" h="21600">
                <a:moveTo>
                  <a:pt x="14146" y="14299"/>
                </a:moveTo>
                <a:lnTo>
                  <a:pt x="15991" y="14299"/>
                </a:lnTo>
                <a:lnTo>
                  <a:pt x="15991" y="17989"/>
                </a:lnTo>
                <a:lnTo>
                  <a:pt x="20378" y="17989"/>
                </a:lnTo>
                <a:lnTo>
                  <a:pt x="20378" y="10800"/>
                </a:lnTo>
                <a:lnTo>
                  <a:pt x="9759" y="10800"/>
                </a:lnTo>
                <a:lnTo>
                  <a:pt x="9759" y="17989"/>
                </a:lnTo>
                <a:lnTo>
                  <a:pt x="1414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5"/>
          <p:cNvSpPr/>
          <p:nvPr/>
        </p:nvSpPr>
        <p:spPr>
          <a:xfrm>
            <a:off x="1332000" y="1268280"/>
            <a:ext cx="1008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6"/>
          <p:cNvSpPr/>
          <p:nvPr/>
        </p:nvSpPr>
        <p:spPr>
          <a:xfrm>
            <a:off x="7236000" y="2852640"/>
            <a:ext cx="115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www.defitsita.net/upload/resize_cache/iblock/917/800_600_1/dsc_5300_1.jpg"/>
          <p:cNvPicPr/>
          <p:nvPr/>
        </p:nvPicPr>
        <p:blipFill>
          <a:blip r:embed="rId1"/>
          <a:stretch/>
        </p:blipFill>
        <p:spPr>
          <a:xfrm>
            <a:off x="1258920" y="549360"/>
            <a:ext cx="7143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i (9)"/>
          <p:cNvPicPr/>
          <p:nvPr/>
        </p:nvPicPr>
        <p:blipFill>
          <a:blip r:embed="rId1"/>
          <a:stretch/>
        </p:blipFill>
        <p:spPr>
          <a:xfrm>
            <a:off x="1332000" y="907920"/>
            <a:ext cx="3078000" cy="2070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46440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ильям Шексп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5303160" y="4762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тр Ильич Чай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P"/>
          <p:cNvPicPr/>
          <p:nvPr/>
        </p:nvPicPr>
        <p:blipFill>
          <a:blip r:embed="rId2"/>
          <a:stretch/>
        </p:blipFill>
        <p:spPr>
          <a:xfrm>
            <a:off x="5435640" y="907920"/>
            <a:ext cx="2736720" cy="2055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i"/>
          <p:cNvPicPr/>
          <p:nvPr/>
        </p:nvPicPr>
        <p:blipFill>
          <a:blip r:embed="rId3"/>
          <a:stretch/>
        </p:blipFill>
        <p:spPr>
          <a:xfrm>
            <a:off x="1619280" y="3716280"/>
            <a:ext cx="2098800" cy="2535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1168748_fanparty_fan_club_composer"/>
          <p:cNvPicPr/>
          <p:nvPr/>
        </p:nvPicPr>
        <p:blipFill>
          <a:blip r:embed="rId4"/>
          <a:stretch/>
        </p:blipFill>
        <p:spPr>
          <a:xfrm>
            <a:off x="5580000" y="3933720"/>
            <a:ext cx="2160720" cy="2590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684360" y="2523600"/>
            <a:ext cx="8459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гей Сергееви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кофьев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митрий Борис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абалев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s://arhivurokov.ru/kopilka/uploads/user_file_56978c2b7a80b/img_user_file_56978c2b7a80b_0.jpg"/>
          <p:cNvPicPr/>
          <p:nvPr/>
        </p:nvPicPr>
        <p:blipFill>
          <a:blip r:embed="rId1"/>
          <a:stretch/>
        </p:blipFill>
        <p:spPr>
          <a:xfrm>
            <a:off x="1692360" y="1268280"/>
            <a:ext cx="6672240" cy="50040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4" descr=""/>
          <p:cNvPicPr/>
          <p:nvPr/>
        </p:nvPicPr>
        <p:blipFill>
          <a:blip r:embed="rId2"/>
          <a:stretch/>
        </p:blipFill>
        <p:spPr>
          <a:xfrm>
            <a:off x="2419200" y="-60480"/>
            <a:ext cx="491976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5" descr=""/>
          <p:cNvPicPr/>
          <p:nvPr/>
        </p:nvPicPr>
        <p:blipFill>
          <a:blip r:embed="rId1"/>
          <a:stretch/>
        </p:blipFill>
        <p:spPr>
          <a:xfrm>
            <a:off x="695160" y="1311120"/>
            <a:ext cx="830916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s://lh6.ggpht.com/blP6EGY7xbQk5phGGbrMdNpJoG5keTtmPaKwvz2eLg3Ynv7-0GH6nKlTU1Zm-6qTV1U=h800"/>
          <p:cNvPicPr/>
          <p:nvPr/>
        </p:nvPicPr>
        <p:blipFill>
          <a:blip r:embed="rId1"/>
          <a:stretch/>
        </p:blipFill>
        <p:spPr>
          <a:xfrm>
            <a:off x="900000" y="1052640"/>
            <a:ext cx="7809120" cy="43923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2" descr=""/>
          <p:cNvPicPr/>
          <p:nvPr/>
        </p:nvPicPr>
        <p:blipFill>
          <a:blip r:embed="rId2"/>
          <a:stretch/>
        </p:blipFill>
        <p:spPr>
          <a:xfrm>
            <a:off x="798480" y="2041560"/>
            <a:ext cx="847800" cy="315288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3" descr=""/>
          <p:cNvPicPr/>
          <p:nvPr/>
        </p:nvPicPr>
        <p:blipFill>
          <a:blip r:embed="rId3"/>
          <a:stretch/>
        </p:blipFill>
        <p:spPr>
          <a:xfrm>
            <a:off x="2073240" y="3584520"/>
            <a:ext cx="755640" cy="19512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4" descr=""/>
          <p:cNvPicPr/>
          <p:nvPr/>
        </p:nvPicPr>
        <p:blipFill>
          <a:blip r:embed="rId4"/>
          <a:stretch/>
        </p:blipFill>
        <p:spPr>
          <a:xfrm>
            <a:off x="3352680" y="3371760"/>
            <a:ext cx="755640" cy="204156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5" descr=""/>
          <p:cNvPicPr/>
          <p:nvPr/>
        </p:nvPicPr>
        <p:blipFill>
          <a:blip r:embed="rId5"/>
          <a:stretch/>
        </p:blipFill>
        <p:spPr>
          <a:xfrm>
            <a:off x="4095720" y="1798560"/>
            <a:ext cx="847800" cy="304812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6" descr=""/>
          <p:cNvPicPr/>
          <p:nvPr/>
        </p:nvPicPr>
        <p:blipFill>
          <a:blip r:embed="rId6"/>
          <a:stretch/>
        </p:blipFill>
        <p:spPr>
          <a:xfrm>
            <a:off x="5583240" y="1481040"/>
            <a:ext cx="433440" cy="447516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8" descr=""/>
          <p:cNvPicPr/>
          <p:nvPr/>
        </p:nvPicPr>
        <p:blipFill>
          <a:blip r:embed="rId7"/>
          <a:stretch/>
        </p:blipFill>
        <p:spPr>
          <a:xfrm>
            <a:off x="6450120" y="3328920"/>
            <a:ext cx="846000" cy="229068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9" descr=""/>
          <p:cNvPicPr/>
          <p:nvPr/>
        </p:nvPicPr>
        <p:blipFill>
          <a:blip r:embed="rId8"/>
          <a:stretch/>
        </p:blipFill>
        <p:spPr>
          <a:xfrm>
            <a:off x="7839000" y="3260880"/>
            <a:ext cx="8478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"ЗСОШ №6" РТ   Нигматзянова Э.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1E43-5BB5-482F-9B8D-2B826AE435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img5"/>
          <p:cNvPicPr/>
          <p:nvPr/>
        </p:nvPicPr>
        <p:blipFill>
          <a:blip r:embed="rId1"/>
          <a:stretch/>
        </p:blipFill>
        <p:spPr>
          <a:xfrm>
            <a:off x="500040" y="74520"/>
            <a:ext cx="848520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Прямоугольник 2" descr=""/>
          <p:cNvPicPr/>
          <p:nvPr/>
        </p:nvPicPr>
        <p:blipFill>
          <a:blip r:embed="rId1"/>
          <a:stretch/>
        </p:blipFill>
        <p:spPr>
          <a:xfrm>
            <a:off x="244440" y="96840"/>
            <a:ext cx="879624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КОУ «Щедринская СОШ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аджиева Е.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7A11-0C45-4470-8AEA-200C60723F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00040" y="357120"/>
          <a:ext cx="8001000" cy="5500800"/>
        </p:xfrm>
        <a:graphic>
          <a:graphicData uri="http://schemas.openxmlformats.org/drawingml/2006/table">
            <a:tbl>
              <a:tblPr/>
              <a:tblGrid>
                <a:gridCol w="1785960"/>
                <a:gridCol w="6215040"/>
              </a:tblGrid>
              <a:tr h="246240">
                <a:tc gridSpan="2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 МУЗЫКАЛЬНОЙ ВЫРАЗИ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74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О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ВНАЯ, ВЫРАЖАЕТ РАЗЛИЧНЫЕ ОБРАЗЫ И СОСТОЯНИЯ,                           МНОГО ПОДГОЛОСКОВ, НЕЖНАЯ, ТВЁРДАЯ, ЛЁГКАЯ, МЯГКАЯ, ОЗОРНАЯ, УВЕРЕННАЯ, СКАЧКООБРАЗНАЯ, ВОСХОДЯЩАЯ, НИСХОДЯЩА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ЖОРНЫЙ, МИНОРНЫЙ, ПЕРЕМ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Т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ВНЫЙ, ПУНКТИ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СТРЫЙ, ОЖИВЛЁННЫЙ, МЕДЛЕННЫЙ, СПОКОЙНЫЙ, ПЛАВНЫЙ, УМЕР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, СРЕДНИЙ, ВЫО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ОМКО, ТИХО, НЕ ОЧЕНЬ ГРОМКО, РЕЗКО, ВПОЛГОЛОСА, КРИЧАЩЕ, ЩЁПО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ЕМИТЕЛЬНЫЙ  ГОРЯЧИЙ ТЕМПЕРАМЕНТНЫЙ  БЫСТРЫЙ СТРАСТНЫЙ ПОРЫВИСТЫЙ БУРНЫЙ ШУТЛИВЫЙ СЕРЬЁЗНЫЙ  ТАНЦЕВАЛЬНЫЙ МАРШЕВЫЙ ПЕС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096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ТРО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РНО СТРЕМИТЕЛЬНО НАПРЯЖЁННО ХМУРО  ТОСКЛИВО НАСМЕШЛИВ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РОВО МОЛИТВЕННО ВЛАСТНО СВЕТЛО ПРОСТО ЛЮБОВНО ИГРИВО ЛИКУЮЩЕ ЖИЗНЕУТВЕРЖДАЮЩЕ ТРАГИЧНО ЗЛОВЕЩЕ ТРАУРНО СМИРЕННО ПЕЧАЛЬНО РАДОСТНО ВОСТОРЖЕННО МРА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8:20:23Z</dcterms:created>
  <dc:creator>Нигматзянова Э.Ф.</dc:creator>
  <dc:description/>
  <dc:language>en-US</dc:language>
  <cp:lastModifiedBy>AC</cp:lastModifiedBy>
  <dcterms:modified xsi:type="dcterms:W3CDTF">2022-11-12T07:22:16Z</dcterms:modified>
  <cp:revision>156</cp:revision>
  <dc:subject>Викторина "Пятерка по музыке"</dc:subject>
  <dc:title>Презентация</dc:title>
</cp:coreProperties>
</file>