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11.gif" ContentType="image/gif"/>
  <Override PartName="/ppt/media/image9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6.jpeg" ContentType="image/jpeg"/>
  <Override PartName="/ppt/media/image10.png" ContentType="image/png"/>
  <Override PartName="/ppt/media/image5.gif" ContentType="image/gif"/>
  <Override PartName="/ppt/media/image8.gif" ContentType="image/gif"/>
  <Override PartName="/ppt/media/image25.gif" ContentType="image/gif"/>
  <Override PartName="/ppt/media/image21.gif" ContentType="image/gif"/>
  <Override PartName="/ppt/media/image19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4.jpeg" ContentType="image/jpeg"/>
  <Override PartName="/ppt/media/image2.png" ContentType="image/png"/>
  <Override PartName="/ppt/media/image15.gif" ContentType="image/gif"/>
  <Override PartName="/ppt/media/image14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25E-6619-4785-BEC2-5C201BE0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1FF-1D85-4668-B096-8645BB49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4CC-E561-4D61-B9CD-E06DF42E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89E-ED73-43E1-8654-E735A81E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6C6-275D-4F68-B513-51DEB2D5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062-FE29-4043-A9DB-1C127791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716-3B02-46A1-AE96-4801500B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ADB-1113-4976-89C1-740080BA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E84-061E-4981-BCE9-2765E30B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887-F202-485B-8D2C-7DECC5E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07D-74C6-4981-BEFD-27A54F7A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A61-C927-4677-948E-BB79C95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679007-2540-41A0-BCB8-4A71F0AF44A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8360" y="0"/>
            <a:ext cx="374472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Физ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«В гостях у мультяш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геро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00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60720" y="3068640"/>
            <a:ext cx="2801880" cy="34113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2360520" cy="1984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106800" cy="1738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43280" y="3141720"/>
            <a:ext cx="3095640" cy="24829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6192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1697040" cy="29527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1817640" cy="271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1721160" cy="25747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1613160" cy="193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701720" cy="238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211640" y="3933720"/>
            <a:ext cx="1701720" cy="23878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1557360" cy="3014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1671840" cy="2006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019400" y="2790720"/>
            <a:ext cx="1105200" cy="127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308720" y="2852640"/>
            <a:ext cx="1105200" cy="127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2102040" cy="24274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1882800" cy="212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952560" cy="10951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43280" y="4292640"/>
            <a:ext cx="1789200" cy="200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1338120" cy="15019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4983120"/>
            <a:ext cx="1474920" cy="187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1474920" cy="18748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20:17:02Z</dcterms:created>
  <dc:creator>user</dc:creator>
  <dc:description/>
  <dc:language>en-US</dc:language>
  <cp:lastModifiedBy>user</cp:lastModifiedBy>
  <dcterms:modified xsi:type="dcterms:W3CDTF">2010-08-25T20:39:32Z</dcterms:modified>
  <cp:revision>3</cp:revision>
  <dc:subject/>
  <dc:title>Слайд 1</dc:title>
</cp:coreProperties>
</file>