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jpeg" ContentType="image/jpeg"/>
  <Override PartName="/ppt/media/image10.png" ContentType="image/png"/>
  <Override PartName="/ppt/media/image5.gif" ContentType="image/gif"/>
  <Override PartName="/ppt/media/image8.gif" ContentType="image/gif"/>
  <Override PartName="/ppt/media/image25.gif" ContentType="image/gif"/>
  <Override PartName="/ppt/media/image21.gif" ContentType="image/gif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4.jpeg" ContentType="image/jpeg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A7D-9FC3-40F0-BE5E-640DAFA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E8A-B0D6-4B44-BE84-EC104CC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002-0979-4942-A61A-AFCA0257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520-BC20-4ADA-9F43-C568507B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356-A9FA-47DA-899B-9EA8659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E68-E51B-4AD3-9564-169F3AA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492-64E8-488C-99EB-5798B93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F1B-1F4E-4C04-A5FF-B502AE02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906-25F9-4A28-8C1A-E4B807D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399-8970-4903-B847-DF0F944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644-2278-496C-9E9E-718558C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E54-6ECD-43ED-8968-A33BCFF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511F33-3B54-4DD2-87B4-B05F6CD7575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0"/>
            <a:ext cx="374472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Физ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«В гостях у мультяш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геро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60720" y="3068640"/>
            <a:ext cx="2801880" cy="341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360520" cy="1984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106800" cy="1738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3095640" cy="2482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6192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1697040" cy="2952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817640" cy="27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1721160" cy="2574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1613160" cy="193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701720" cy="238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11640" y="3933720"/>
            <a:ext cx="1701720" cy="2387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1557360" cy="3014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1671840" cy="2006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19400" y="279072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08720" y="285264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2102040" cy="24274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88280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1789200" cy="200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1338120" cy="1501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4983120"/>
            <a:ext cx="1474920" cy="18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1474920" cy="1874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0:17:02Z</dcterms:created>
  <dc:creator>user</dc:creator>
  <dc:description/>
  <dc:language>en-US</dc:language>
  <cp:lastModifiedBy>user</cp:lastModifiedBy>
  <dcterms:modified xsi:type="dcterms:W3CDTF">2010-08-25T20:39:32Z</dcterms:modified>
  <cp:revision>3</cp:revision>
  <dc:subject/>
  <dc:title>Слайд 1</dc:title>
</cp:coreProperties>
</file>