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00F-2DFA-46A8-9BDE-7B4518F6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09B-0214-4B88-8372-CFA1BEC0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FDE-9354-46F1-BC58-BBDCC233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4A8-1527-4AE2-BEAB-71963C15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385-704E-4F76-BEBD-A03590BA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4B2-0A3B-4A61-B2CE-B6ADA86E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252-5260-4C7B-B3A6-5B0A3D9A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9D3-6FEA-40EB-BD76-B71C5B31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BDF-CA91-4248-BE69-AA56AD3C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B3E-F1CD-43DF-B974-6A7F826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69D-A8BB-431E-A396-3306305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18F-4F03-4C95-871D-97BF2C9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806-906F-43BC-B01F-3F604E13E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1557360"/>
            <a:ext cx="59958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Monotype Corsiva"/>
              </a:rPr>
              <a:t>Урок математики</a:t>
            </a:r>
            <a:br>
              <a:rPr sz="4800"/>
            </a:br>
            <a:r>
              <a:rPr b="1" lang="ru-RU" sz="4800" spc="-1" strike="noStrike">
                <a:solidFill>
                  <a:srgbClr val="990099"/>
                </a:solidFill>
                <a:latin typeface="Monotype Corsiva"/>
              </a:rPr>
              <a:t>«Связь между компонентами и результатом умнож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entury Schoolbook"/>
              </a:rPr>
              <a:t>1</a:t>
            </a:r>
            <a:r>
              <a:rPr b="1" i="1" lang="en-US" sz="5400" spc="-1" strike="noStrike">
                <a:solidFill>
                  <a:srgbClr val="0000ff"/>
                </a:solidFill>
                <a:latin typeface="Century Schoolbook"/>
              </a:rPr>
              <a:t>3 </a:t>
            </a:r>
            <a:r>
              <a:rPr b="1" i="1" lang="ru-RU" sz="5400" spc="-1" strike="noStrike">
                <a:solidFill>
                  <a:srgbClr val="0000ff"/>
                </a:solidFill>
                <a:latin typeface="Century Schoolbook"/>
              </a:rPr>
              <a:t>апреля.</a:t>
            </a:r>
            <a:br>
              <a:rPr sz="5400"/>
            </a:br>
            <a:r>
              <a:rPr b="1" i="1" lang="ru-RU" sz="5400" spc="-1" strike="noStrike">
                <a:solidFill>
                  <a:srgbClr val="0000ff"/>
                </a:solidFill>
                <a:latin typeface="Century Schoolbook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000080" y="642960"/>
            <a:ext cx="7761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071800" y="928800"/>
            <a:ext cx="215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2643120" y="1785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3786120" y="857160"/>
            <a:ext cx="647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643120" y="642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4786200" y="642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000080" y="1785960"/>
            <a:ext cx="7761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4786200" y="1785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2" name="WordArt 12"/>
          <p:cNvSpPr txBox="1"/>
          <p:nvPr/>
        </p:nvSpPr>
        <p:spPr>
          <a:xfrm>
            <a:off x="3786120" y="2000160"/>
            <a:ext cx="647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3" name="WordArt 13"/>
          <p:cNvSpPr txBox="1"/>
          <p:nvPr/>
        </p:nvSpPr>
        <p:spPr>
          <a:xfrm>
            <a:off x="2071800" y="2000160"/>
            <a:ext cx="21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4" name="WordArt 14"/>
          <p:cNvSpPr txBox="1"/>
          <p:nvPr/>
        </p:nvSpPr>
        <p:spPr>
          <a:xfrm>
            <a:off x="1000080" y="3000240"/>
            <a:ext cx="776160" cy="8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5" name="WordArt 15"/>
          <p:cNvSpPr txBox="1"/>
          <p:nvPr/>
        </p:nvSpPr>
        <p:spPr>
          <a:xfrm>
            <a:off x="2071800" y="3214800"/>
            <a:ext cx="21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4786200" y="3000240"/>
            <a:ext cx="776520" cy="8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7" name="WordArt 17"/>
          <p:cNvSpPr txBox="1"/>
          <p:nvPr/>
        </p:nvSpPr>
        <p:spPr>
          <a:xfrm>
            <a:off x="2643120" y="3000240"/>
            <a:ext cx="776520" cy="8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8" name="WordArt 18"/>
          <p:cNvSpPr txBox="1"/>
          <p:nvPr/>
        </p:nvSpPr>
        <p:spPr>
          <a:xfrm>
            <a:off x="3786120" y="3214800"/>
            <a:ext cx="647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642960" y="4357800"/>
            <a:ext cx="81374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Если произведение разделить на один множитель, то получим другой множ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0" descr="Мячик"/>
          <p:cNvPicPr/>
          <p:nvPr/>
        </p:nvPicPr>
        <p:blipFill>
          <a:blip r:embed="rId1"/>
          <a:stretch/>
        </p:blipFill>
        <p:spPr>
          <a:xfrm>
            <a:off x="5786280" y="1857240"/>
            <a:ext cx="519120" cy="50508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30"/>
          <p:cNvGrpSpPr/>
          <p:nvPr/>
        </p:nvGrpSpPr>
        <p:grpSpPr>
          <a:xfrm>
            <a:off x="6072120" y="1143000"/>
            <a:ext cx="1805040" cy="504720"/>
            <a:chOff x="6072120" y="1143000"/>
            <a:chExt cx="1805040" cy="504720"/>
          </a:xfrm>
        </p:grpSpPr>
        <p:pic>
          <p:nvPicPr>
            <p:cNvPr id="122" name="Picture 20" descr="Мячик"/>
            <p:cNvPicPr/>
            <p:nvPr/>
          </p:nvPicPr>
          <p:blipFill>
            <a:blip r:embed="rId2"/>
            <a:stretch/>
          </p:blipFill>
          <p:spPr>
            <a:xfrm>
              <a:off x="6072120" y="114300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0" descr="Мячик"/>
            <p:cNvPicPr/>
            <p:nvPr/>
          </p:nvPicPr>
          <p:blipFill>
            <a:blip r:embed="rId3"/>
            <a:stretch/>
          </p:blipFill>
          <p:spPr>
            <a:xfrm>
              <a:off x="7358400" y="114300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0" descr="Мячик"/>
            <p:cNvPicPr/>
            <p:nvPr/>
          </p:nvPicPr>
          <p:blipFill>
            <a:blip r:embed="rId4"/>
            <a:stretch/>
          </p:blipFill>
          <p:spPr>
            <a:xfrm>
              <a:off x="6715080" y="1143000"/>
              <a:ext cx="5187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Группа 29"/>
          <p:cNvGrpSpPr/>
          <p:nvPr/>
        </p:nvGrpSpPr>
        <p:grpSpPr>
          <a:xfrm>
            <a:off x="6072120" y="571680"/>
            <a:ext cx="1805040" cy="504720"/>
            <a:chOff x="6072120" y="571680"/>
            <a:chExt cx="1805040" cy="504720"/>
          </a:xfrm>
        </p:grpSpPr>
        <p:pic>
          <p:nvPicPr>
            <p:cNvPr id="126" name="Picture 20" descr="Мячик"/>
            <p:cNvPicPr/>
            <p:nvPr/>
          </p:nvPicPr>
          <p:blipFill>
            <a:blip r:embed="rId5"/>
            <a:stretch/>
          </p:blipFill>
          <p:spPr>
            <a:xfrm>
              <a:off x="6072120" y="57168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0" descr="Мячик"/>
            <p:cNvPicPr/>
            <p:nvPr/>
          </p:nvPicPr>
          <p:blipFill>
            <a:blip r:embed="rId6"/>
            <a:stretch/>
          </p:blipFill>
          <p:spPr>
            <a:xfrm>
              <a:off x="7358400" y="57168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0" descr="Мячик"/>
            <p:cNvPicPr/>
            <p:nvPr/>
          </p:nvPicPr>
          <p:blipFill>
            <a:blip r:embed="rId7"/>
            <a:stretch/>
          </p:blipFill>
          <p:spPr>
            <a:xfrm>
              <a:off x="6715080" y="571680"/>
              <a:ext cx="518760" cy="5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20" descr="Мячик"/>
          <p:cNvPicPr/>
          <p:nvPr/>
        </p:nvPicPr>
        <p:blipFill>
          <a:blip r:embed="rId8"/>
          <a:stretch/>
        </p:blipFill>
        <p:spPr>
          <a:xfrm>
            <a:off x="678672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Мячик"/>
          <p:cNvPicPr/>
          <p:nvPr/>
        </p:nvPicPr>
        <p:blipFill>
          <a:blip r:embed="rId9"/>
          <a:stretch/>
        </p:blipFill>
        <p:spPr>
          <a:xfrm>
            <a:off x="6286680" y="1857240"/>
            <a:ext cx="518760" cy="50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Мячик"/>
          <p:cNvPicPr/>
          <p:nvPr/>
        </p:nvPicPr>
        <p:blipFill>
          <a:blip r:embed="rId10"/>
          <a:stretch/>
        </p:blipFill>
        <p:spPr>
          <a:xfrm>
            <a:off x="835812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Мячик"/>
          <p:cNvPicPr/>
          <p:nvPr/>
        </p:nvPicPr>
        <p:blipFill>
          <a:blip r:embed="rId11"/>
          <a:stretch/>
        </p:blipFill>
        <p:spPr>
          <a:xfrm>
            <a:off x="778680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Мячик"/>
          <p:cNvPicPr/>
          <p:nvPr/>
        </p:nvPicPr>
        <p:blipFill>
          <a:blip r:embed="rId12"/>
          <a:stretch/>
        </p:blipFill>
        <p:spPr>
          <a:xfrm>
            <a:off x="728676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Мячик"/>
          <p:cNvPicPr/>
          <p:nvPr/>
        </p:nvPicPr>
        <p:blipFill>
          <a:blip r:embed="rId13"/>
          <a:stretch/>
        </p:blipFill>
        <p:spPr>
          <a:xfrm>
            <a:off x="585792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Мячик"/>
          <p:cNvPicPr/>
          <p:nvPr/>
        </p:nvPicPr>
        <p:blipFill>
          <a:blip r:embed="rId14"/>
          <a:stretch/>
        </p:blipFill>
        <p:spPr>
          <a:xfrm>
            <a:off x="635796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Мячик"/>
          <p:cNvPicPr/>
          <p:nvPr/>
        </p:nvPicPr>
        <p:blipFill>
          <a:blip r:embed="rId15"/>
          <a:stretch/>
        </p:blipFill>
        <p:spPr>
          <a:xfrm>
            <a:off x="685800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Мячик"/>
          <p:cNvPicPr/>
          <p:nvPr/>
        </p:nvPicPr>
        <p:blipFill>
          <a:blip r:embed="rId16"/>
          <a:stretch/>
        </p:blipFill>
        <p:spPr>
          <a:xfrm>
            <a:off x="735804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Мячик"/>
          <p:cNvPicPr/>
          <p:nvPr/>
        </p:nvPicPr>
        <p:blipFill>
          <a:blip r:embed="rId17"/>
          <a:stretch/>
        </p:blipFill>
        <p:spPr>
          <a:xfrm>
            <a:off x="785808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Мячик"/>
          <p:cNvPicPr/>
          <p:nvPr/>
        </p:nvPicPr>
        <p:blipFill>
          <a:blip r:embed="rId18"/>
          <a:stretch/>
        </p:blipFill>
        <p:spPr>
          <a:xfrm>
            <a:off x="8358120" y="3071880"/>
            <a:ext cx="5191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-0.15972 0.07685 E">
                                      <p:cBhvr>
                                        <p:cTn id="38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15937 0.07685 E">
                                      <p:cBhvr>
                                        <p:cTn id="38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16667 0.07685 E">
                                      <p:cBhvr>
                                        <p:cTn id="38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-0.10504 0.07824 E">
                                      <p:cBhvr>
                                        <p:cTn id="4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-0.10469 0.07824 E">
                                      <p:cBhvr>
                                        <p:cTn id="45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-0.21441 0.15185 E">
                                      <p:cBhvr>
                                        <p:cTn id="46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21406 0.15185 E">
                                      <p:cBhvr>
                                        <p:cTn id="466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042920" y="1557360"/>
            <a:ext cx="727416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Arial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611280" y="1268280"/>
            <a:ext cx="7848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физминутка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arbariki - Druzhba.mp3" descr=""/>
          <p:cNvPicPr/>
          <p:nvPr/>
        </p:nvPicPr>
        <p:blipFill>
          <a:blip r:embed="rId1"/>
          <a:stretch/>
        </p:blipFill>
        <p:spPr>
          <a:xfrm>
            <a:off x="8317080" y="522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23913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Monotype Corsiva"/>
              </a:rPr>
              <a:t>РАБОТАЕМ САМОСТОЯТЕЛЬ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8∙4=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32:8=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32:4=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9</a:t>
            </a: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∙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2=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18: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9</a:t>
            </a: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=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18: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2</a:t>
            </a: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=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Monotype Corsiva"/>
              </a:rPr>
              <a:t>Решаем задач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entury Schoolbook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Century Schoolbook"/>
              </a:rPr>
              <a:t>Цена булочки 5 р. Сколько стоят 3 таких булоч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99"/>
                </a:solidFill>
                <a:latin typeface="Century Schoolbook"/>
              </a:rPr>
              <a:t>5 ∙ 3 = 15(р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99"/>
                </a:solidFill>
                <a:latin typeface="Century Schoolbook"/>
              </a:rPr>
              <a:t>Ответ:15 рубле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Чебурашка"/>
          <p:cNvPicPr/>
          <p:nvPr/>
        </p:nvPicPr>
        <p:blipFill>
          <a:blip r:embed="rId1"/>
          <a:stretch/>
        </p:blipFill>
        <p:spPr>
          <a:xfrm>
            <a:off x="5219640" y="3500280"/>
            <a:ext cx="316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15:3=5(р.)</a:t>
            </a:r>
            <a:br>
              <a:rPr sz="6000"/>
            </a:b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Ответ: 5 рубле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15:5=3(б.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Ответ: 3 булоч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Думай, считай, отгадыв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Сколько ушей у трёх мышей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Сколько концов у двух с половиной палок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В семье 5 сыновей. У каждого из них одна сестра. Сколько всего детей в семье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Какие цифры могут сказать про себя: «Повернёшь меня вверх(вниз)головой и стану цифрой я другой»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684360" y="620640"/>
            <a:ext cx="770400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тог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7" name="Picture 3" descr="Чебурашка"/>
          <p:cNvPicPr/>
          <p:nvPr/>
        </p:nvPicPr>
        <p:blipFill>
          <a:blip r:embed="rId1"/>
          <a:stretch/>
        </p:blipFill>
        <p:spPr>
          <a:xfrm>
            <a:off x="5651640" y="3789360"/>
            <a:ext cx="273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cc33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тр. 62, № 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Игра «Верю- не вер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Чебурашка"/>
          <p:cNvPicPr/>
          <p:nvPr/>
        </p:nvPicPr>
        <p:blipFill>
          <a:blip r:embed="rId1"/>
          <a:stretch/>
        </p:blipFill>
        <p:spPr>
          <a:xfrm>
            <a:off x="7020000" y="7821720"/>
            <a:ext cx="1655640" cy="1527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539640" y="148428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 умножения – это произвед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казывания могут быть истинными и ложным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писи двузначного числа есть десятки и единицы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омпонент вычитания –это слагаем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Чебурашка"/>
          <p:cNvPicPr/>
          <p:nvPr/>
        </p:nvPicPr>
        <p:blipFill>
          <a:blip r:embed="rId2"/>
          <a:stretch/>
        </p:blipFill>
        <p:spPr>
          <a:xfrm>
            <a:off x="2411280" y="4653000"/>
            <a:ext cx="2016360" cy="196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Чебурашка"/>
          <p:cNvPicPr/>
          <p:nvPr/>
        </p:nvPicPr>
        <p:blipFill>
          <a:blip r:embed="rId3"/>
          <a:stretch/>
        </p:blipFill>
        <p:spPr>
          <a:xfrm>
            <a:off x="2340000" y="4653000"/>
            <a:ext cx="20160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Сумма –это результат с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Если из вычитаемого вычесть уменьшаемое, то получится ра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1м=1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Чебурашка"/>
          <p:cNvPicPr/>
          <p:nvPr/>
        </p:nvPicPr>
        <p:blipFill>
          <a:blip r:embed="rId1"/>
          <a:stretch/>
        </p:blipFill>
        <p:spPr>
          <a:xfrm>
            <a:off x="5219640" y="3500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Чебурашка"/>
          <p:cNvPicPr/>
          <p:nvPr/>
        </p:nvPicPr>
        <p:blipFill>
          <a:blip r:embed="rId2"/>
          <a:stretch/>
        </p:blipFill>
        <p:spPr>
          <a:xfrm>
            <a:off x="5219640" y="3500280"/>
            <a:ext cx="316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42920" y="260280"/>
            <a:ext cx="88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доискат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91628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8360" y="1628640"/>
            <a:ext cx="828036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замке Кощея Бессмертнорго имеются 3 комнаты, в каждой из которых стоит по сундуку: один сундук с золотом, один сундук с серебром, один сундук с мед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кимора развесила на дверях таблички. За какой дверью спрятано золото, за какой – серебро и за какой – медь, если известно, что все надписи ложные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kazka_27"/>
          <p:cNvPicPr/>
          <p:nvPr/>
        </p:nvPicPr>
        <p:blipFill>
          <a:blip r:embed="rId1"/>
          <a:stretch/>
        </p:blipFill>
        <p:spPr>
          <a:xfrm>
            <a:off x="7093080" y="3645000"/>
            <a:ext cx="1589040" cy="28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rcRect l="32173" t="31913" r="44762" b="29571"/>
          <a:stretch/>
        </p:blipFill>
        <p:spPr>
          <a:xfrm>
            <a:off x="611280" y="378936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3"/>
          <a:srcRect l="32173" t="31913" r="44762" b="29571"/>
          <a:stretch/>
        </p:blipFill>
        <p:spPr>
          <a:xfrm>
            <a:off x="2771640" y="378936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4"/>
          <a:srcRect l="32173" t="31913" r="44762" b="29571"/>
          <a:stretch/>
        </p:blipFill>
        <p:spPr>
          <a:xfrm>
            <a:off x="4932360" y="3789360"/>
            <a:ext cx="205272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1042920" y="450864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900000" y="450864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десь 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843280" y="4508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ебро 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5148360" y="4365720"/>
            <a:ext cx="17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а здесь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219640" y="479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684360" y="4797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еб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3132000" y="4797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Составьте примеры по образц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Винни-Пух"/>
          <p:cNvPicPr/>
          <p:nvPr/>
        </p:nvPicPr>
        <p:blipFill>
          <a:blip r:embed="rId1"/>
          <a:stretch/>
        </p:blipFill>
        <p:spPr>
          <a:xfrm>
            <a:off x="7596360" y="4797360"/>
            <a:ext cx="1225440" cy="1681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773360"/>
            <a:ext cx="273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 + 60 = 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0 – 6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0 – 2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867280" y="1700280"/>
            <a:ext cx="280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2 + 8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 – 32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 – 8 =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411280" y="2565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411280" y="342900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667640" y="1700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9"/>
          <p:cNvSpPr txBox="1"/>
          <p:nvPr/>
        </p:nvSpPr>
        <p:spPr>
          <a:xfrm>
            <a:off x="826920" y="1341360"/>
            <a:ext cx="7345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Группа 13"/>
          <p:cNvGrpSpPr/>
          <p:nvPr/>
        </p:nvGrpSpPr>
        <p:grpSpPr>
          <a:xfrm>
            <a:off x="-154080" y="-216000"/>
            <a:ext cx="9298080" cy="7074000"/>
            <a:chOff x="-154080" y="-216000"/>
            <a:chExt cx="9298080" cy="7074000"/>
          </a:xfrm>
        </p:grpSpPr>
        <p:sp>
          <p:nvSpPr>
            <p:cNvPr id="74" name="Полилиния 9"/>
            <p:cNvSpPr/>
            <p:nvPr/>
          </p:nvSpPr>
          <p:spPr>
            <a:xfrm>
              <a:off x="-142920" y="3379680"/>
              <a:ext cx="920772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олилиния 6"/>
            <p:cNvSpPr/>
            <p:nvPr/>
          </p:nvSpPr>
          <p:spPr>
            <a:xfrm>
              <a:off x="-154080" y="3763800"/>
              <a:ext cx="9298080" cy="307836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олилиния 7"/>
            <p:cNvSpPr/>
            <p:nvPr/>
          </p:nvSpPr>
          <p:spPr>
            <a:xfrm>
              <a:off x="676080" y="4178160"/>
              <a:ext cx="8388720" cy="267984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олилиния 4"/>
            <p:cNvSpPr/>
            <p:nvPr/>
          </p:nvSpPr>
          <p:spPr>
            <a:xfrm>
              <a:off x="-122040" y="4167360"/>
              <a:ext cx="8609400" cy="265896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олилиния 11"/>
            <p:cNvSpPr/>
            <p:nvPr/>
          </p:nvSpPr>
          <p:spPr>
            <a:xfrm>
              <a:off x="2041200" y="471240"/>
              <a:ext cx="4297320" cy="19303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олилиния 12"/>
            <p:cNvSpPr/>
            <p:nvPr/>
          </p:nvSpPr>
          <p:spPr>
            <a:xfrm>
              <a:off x="597384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3" descr="D:\Школьные файлы\ПАПКА  ДЛЯ  СКАЧИВАНИЯ\1239894510_1233707616_romaski.jpg"/>
          <p:cNvPicPr/>
          <p:nvPr/>
        </p:nvPicPr>
        <p:blipFill>
          <a:blip r:embed="rId1"/>
          <a:stretch/>
        </p:blipFill>
        <p:spPr>
          <a:xfrm>
            <a:off x="500040" y="4214880"/>
            <a:ext cx="250020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D:\Школьные файлы\ПАПКА  ДЛЯ  СКАЧИВАНИЯ\strawberries.jpg"/>
          <p:cNvPicPr/>
          <p:nvPr/>
        </p:nvPicPr>
        <p:blipFill>
          <a:blip r:embed="rId2"/>
          <a:stretch/>
        </p:blipFill>
        <p:spPr>
          <a:xfrm>
            <a:off x="4000680" y="4429080"/>
            <a:ext cx="1857240" cy="188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Школьные файлы\ПАПКА  ДЛЯ  СКАЧИВАНИЯ\Картинки для физкультминутки\2654996506cbdb1a3d6a3cb86602b146626f0ef9b9_s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4"/>
          <a:stretch/>
        </p:blipFill>
        <p:spPr>
          <a:xfrm>
            <a:off x="0" y="1785960"/>
            <a:ext cx="188136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Школьные файлы\ПАПКА  ДЛЯ  СКАЧИВАНИЯ\Картинки для физкультминутки\babochka265.jpg"/>
          <p:cNvPicPr/>
          <p:nvPr/>
        </p:nvPicPr>
        <p:blipFill>
          <a:blip r:embed="rId5"/>
          <a:stretch/>
        </p:blipFill>
        <p:spPr>
          <a:xfrm>
            <a:off x="6786720" y="214200"/>
            <a:ext cx="2143080" cy="165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Школьные файлы\ПАПКА  ДЛЯ  СКАЧИВАНИЯ\Картинки для физкультминутки\56082879_1267888063_babochki_45.gif"/>
          <p:cNvPicPr/>
          <p:nvPr/>
        </p:nvPicPr>
        <p:blipFill>
          <a:blip r:embed="rId6"/>
          <a:stretch/>
        </p:blipFill>
        <p:spPr>
          <a:xfrm>
            <a:off x="214200" y="428760"/>
            <a:ext cx="1476360" cy="13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7"/>
          <a:stretch/>
        </p:blipFill>
        <p:spPr>
          <a:xfrm>
            <a:off x="3643200" y="428760"/>
            <a:ext cx="20242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C 0.11424 -0.12777 0.22847 -0.25555 0.35972 -0.26458 C 0.49097 -0.27361 0.72604 -0.08287 0.78715 -0.0537 E">
                                      <p:cBhvr>
                                        <p:cTn id="214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73472E-018 L -0.70088 0.01042 E">
                                      <p:cBhvr>
                                        <p:cTn id="230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87 0.01042 L -0.70591 0.5794 E">
                                      <p:cBhvr>
                                        <p:cTn id="23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L 0.7875 3.7037E-007 E">
                                      <p:cBhvr>
                                        <p:cTn id="243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5 -2.59259E-006 L 0.67152 0.56968 E">
                                      <p:cBhvr>
                                        <p:cTn id="247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88" name="Полилиния 2"/>
            <p:cNvSpPr/>
            <p:nvPr/>
          </p:nvSpPr>
          <p:spPr>
            <a:xfrm>
              <a:off x="10800" y="3379680"/>
              <a:ext cx="920772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олилиния 3"/>
            <p:cNvSpPr/>
            <p:nvPr/>
          </p:nvSpPr>
          <p:spPr>
            <a:xfrm>
              <a:off x="0" y="3763800"/>
              <a:ext cx="9298080" cy="307836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олилиния 4"/>
            <p:cNvSpPr/>
            <p:nvPr/>
          </p:nvSpPr>
          <p:spPr>
            <a:xfrm>
              <a:off x="830160" y="4178160"/>
              <a:ext cx="8388720" cy="267984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олилиния 5"/>
            <p:cNvSpPr/>
            <p:nvPr/>
          </p:nvSpPr>
          <p:spPr>
            <a:xfrm>
              <a:off x="31680" y="4167360"/>
              <a:ext cx="8609400" cy="265896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олилиния 6"/>
            <p:cNvSpPr/>
            <p:nvPr/>
          </p:nvSpPr>
          <p:spPr>
            <a:xfrm>
              <a:off x="2195280" y="471240"/>
              <a:ext cx="4297320" cy="19303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7"/>
            <p:cNvSpPr/>
            <p:nvPr/>
          </p:nvSpPr>
          <p:spPr>
            <a:xfrm>
              <a:off x="612792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500040" y="85716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:\Школьные файлы\ПАПКА  ДЛЯ  СКАЧИВАНИЯ\Картинки для физкультминутки\65.gif"/>
          <p:cNvPicPr/>
          <p:nvPr/>
        </p:nvPicPr>
        <p:blipFill>
          <a:blip r:embed="rId2"/>
          <a:stretch/>
        </p:blipFill>
        <p:spPr>
          <a:xfrm>
            <a:off x="5929200" y="3857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Школьные файлы\ПАПКА  ДЛЯ  СКАЧИВАНИЯ\Картинки для физкультминутки\65.gif"/>
          <p:cNvPicPr/>
          <p:nvPr/>
        </p:nvPicPr>
        <p:blipFill>
          <a:blip r:embed="rId3"/>
          <a:stretch/>
        </p:blipFill>
        <p:spPr>
          <a:xfrm flipH="1">
            <a:off x="928800" y="378612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1880" y="571680"/>
            <a:ext cx="5857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7933c"/>
                </a:solidFill>
                <a:latin typeface="Monotype Corsiva"/>
              </a:rPr>
              <a:t>Б У Д Ь Т Е </a:t>
            </a:r>
            <a:br>
              <a:rPr sz="6600"/>
            </a:br>
            <a:r>
              <a:rPr b="1" lang="ru-RU" sz="6600" spc="-1" strike="noStrike">
                <a:solidFill>
                  <a:srgbClr val="77933c"/>
                </a:solidFill>
                <a:latin typeface="Monotype Corsiva"/>
              </a:rPr>
              <a:t>З Д О Р О В Ы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4"/>
          <a:stretch/>
        </p:blipFill>
        <p:spPr>
          <a:xfrm>
            <a:off x="468360" y="83664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5"/>
          <a:stretch/>
        </p:blipFill>
        <p:spPr>
          <a:xfrm>
            <a:off x="468360" y="83664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Школьные файлы\ПАПКА  ДЛЯ  СКАЧИВАНИЯ\Картинки для физкультминутки\65.gif"/>
          <p:cNvPicPr/>
          <p:nvPr/>
        </p:nvPicPr>
        <p:blipFill>
          <a:blip r:embed="rId6"/>
          <a:stretch/>
        </p:blipFill>
        <p:spPr>
          <a:xfrm flipH="1">
            <a:off x="900000" y="378936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entury Schoolbook"/>
              </a:rPr>
              <a:t>3 ∙ 2=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Monotype Corsiva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3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-  </a:t>
            </a:r>
            <a:r>
              <a:rPr b="1" lang="ru-RU" sz="6600" spc="-1" strike="noStrike">
                <a:solidFill>
                  <a:srgbClr val="333399"/>
                </a:solidFill>
                <a:latin typeface="Monotype Corsiva"/>
              </a:rPr>
              <a:t>множи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-  </a:t>
            </a:r>
            <a:r>
              <a:rPr b="1" lang="ru-RU" sz="6600" spc="-1" strike="noStrike">
                <a:solidFill>
                  <a:srgbClr val="333399"/>
                </a:solidFill>
                <a:latin typeface="Monotype Corsiva"/>
              </a:rPr>
              <a:t>множи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ru-RU" sz="6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6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-  </a:t>
            </a:r>
            <a:r>
              <a:rPr b="1" lang="ru-RU" sz="6600" spc="-1" strike="noStrike">
                <a:solidFill>
                  <a:srgbClr val="333399"/>
                </a:solidFill>
                <a:latin typeface="Monotype Corsiva"/>
              </a:rPr>
              <a:t>произвед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51:44Z</dcterms:created>
  <dc:creator>Admin</dc:creator>
  <dc:description/>
  <dc:language>en-US</dc:language>
  <cp:lastModifiedBy>Лиана</cp:lastModifiedBy>
  <dcterms:modified xsi:type="dcterms:W3CDTF">2022-11-18T02:31:25Z</dcterms:modified>
  <cp:revision>31</cp:revision>
  <dc:subject/>
  <dc:title>Урок математики</dc:title>
</cp:coreProperties>
</file>