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C59-17E1-4460-86A0-2B70FB24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15C-566E-4CDA-B8CF-E8598451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647-545D-49BD-864C-F00B5AB1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774-9BF2-4683-9856-309A79EE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094B-E211-431B-9733-429C3957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DD69-57CC-4DF6-B5E2-8186CCC4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0071-71D0-41CF-B5BF-F60EA9CD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BF22-5D13-45D5-9A4A-185B7DBE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610D-176A-49E3-94FE-FB375CB2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A74D-543A-4CC9-A27D-AFB462D2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5949-EA41-4471-B93C-26E2E9E1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A5E-7E95-4864-A14E-5DFEFDD8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10A9-2FB5-4C2E-A19C-FA72E15F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7638-DBBF-408F-9F2C-3DF972BA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6500-3686-410C-AD29-320A79AD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D2B3-95FB-44E1-AAFE-300B9AD5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5AF3-ADC2-4477-A634-83236C92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15F-3CD7-4284-81A3-F5117152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EDF-74C2-47A7-BC5B-368D6CAA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F85E-DA9E-4AE6-AEE0-F489103C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6BD-60E2-4442-9473-669E335B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B1D-787E-4CD4-9F96-C09FFC27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C54-7484-47DC-B957-23903DB1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CEB-8151-4570-A047-6A7F60EE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5AC3-9A84-4107-B3B4-5DF1E001563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CB0D-26F1-4A85-A1FB-A333735DBBC0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4471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5c00"/>
                </a:solidFill>
                <a:latin typeface="Times New Roman"/>
              </a:rPr>
              <a:t>Плазма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95280" y="1211400"/>
            <a:ext cx="632484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азма - смесь нескольких газ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закону Дальтона полное давление смеси равно сумме парциальных давлений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=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_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(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_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k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де p = nkT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вокупность частиц каждого из указанных ниже видов образует свой собственный газ: нейтральных атомов или молекул, электронный газ, ионный газ, фотонный газ. Смесью этих газов и является плазма. Если температура компонентов плазмы одинакова, то плазма называется изотермической (чаще всего в космических условиях). Разные компоненты газоразрядной плазмы характеризуются различной температурой. Температура электронного газа выше на порядок температуры нейтрального газа. Температура же фотонного газа еще более высокая, чем электронного. Так , в газосветных трубках (реклама) температура электронов 40000К, а температура ионов не выше 2000К. В дуговом разряде различия температур компонентов меньше.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80880" y="1356480"/>
            <a:ext cx="838224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ия частиц и температура газа 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 как частица с массой m и скоростью v обладает кинетической энергией U 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=mv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средняя энергия на одну молекулу </a:t>
            </a: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=3kT/2 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 энергию частиц можно выразить </a:t>
            </a: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=mv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2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де энергия выражена в электронвольтах(эВ) : </a:t>
            </a: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эВ=1,6*10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ж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Особенные 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09480" y="633240"/>
            <a:ext cx="8001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исутствие свободных электрических зарядов делает плазму проводящей ток средо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что обуславливает её заметно большее (по сравнению с другими агрегатными состояниями вещества) взаимодействие с магнитным и электрическим полями, эт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иводит к появлению слоёв и стру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Электроны, ионы и нейтральные частиц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различаются знаком электрического заряда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могут вести себя независимо друг от друга — иметь разные скорости и даже температур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что служит причиной появления новых явлений, например волн и неустойчивостей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аждая частица взаимодействует сразу со многими.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Эти коллективные взаимодействия имеют гораздо большее влияние чем двухчастичные (т.е. взаимодействие только между 2 частицами - наиболее часто встречаются в газах)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49528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тория открытия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895480" y="1752480"/>
            <a:ext cx="541044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Четвёртое состояние вещества было открыто 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. Круксом в 1879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первые термин "плазма" , ранее лишь медицинский, был использован в 1923 г. американскими физиками Ленгмюром и Тонксом, которые стали обозначать с его помощью особое состояние ионизированного газа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Лёнгмюр (1881—1957) иЛеви Тонко (1897—1971) назвали плазмой ионизованный газ в газоразрядной трубке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Английский физик Уильям Крукс (1832—1919), изучавший электрический разряд в трубках с разрежённым воздухом, писал: “Явления в откачанных трубках открывают для физической науки новый мир, в котором материя может существовать в четвёртом состоянии”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0574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олнце и ионосфера Земл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990720" y="1755360"/>
            <a:ext cx="7162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олнце – громадный шар , состоящий из раскаленной плазм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С поверхности Солнца непрерывн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текает спокойный поток плазм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– так называемый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олнечный ветер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Время от времени на поверхности Солнца происходят вспышки . При каждой такой вспышке в космос выплескивается кратковременный поток плазмы . Эти плазменные потоки , достигая атмосферы земли вызывают в ней много замечательных явлений :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олярное сияние , магнитные бури , нарушение радиосвяз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Дело в том ,что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округ Земли есть плазменная оболочк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, только эта оболочка находится высоко .Ведь Солнце на ряду с видимым светом посылает невидимые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льтрафиолетовые луч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Эти луч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оздействуют на атомы воздуха и отрывают от них электроны , т.е. производят ионизаци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Так получается , чт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ерхние слои атмосферы – ионосфер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- состоят из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онизированного воздух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, иначе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говоря , из плазмы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95880" cy="4952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447920" y="54673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олнце, как и любая звезда, - огромный шар из плазмы.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29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оносфера Земл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85800" y="764640"/>
            <a:ext cx="80010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оносфера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остоит из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меси газа нейтральных атомов и молекул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в основном кислорода О</a:t>
            </a:r>
            <a:r>
              <a:rPr b="0" lang="ru-RU" sz="16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и азота N</a:t>
            </a:r>
            <a:r>
              <a:rPr b="0" lang="ru-RU" sz="16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и квазинейтральной плазм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число отрицательно заряженных частиц примерно равно числу положительно заряженных). Ионизация становится существенной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же на высоте 60 километров и неуклонно увеличивается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с удалением от Земл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труктура ионосферы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зависимости от плотности нейтральных частиц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в ионосфере выделятся слои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Е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и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D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60-90 км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характеризу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небольшими плотностями, слабой ионизацией и, соответственно, небольшой концентрацией заряженных частиц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Основным ионизирующим фактором этого слоя явля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ентгеновское излучением Солнц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Ночью ионизация в слое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резко уменьшается, но не исчезает полностью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Е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(90-120 км)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характеризу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более высокими плотностями, ростом концентрации электронов с высотой в дневное время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связанным с поглощением солнечного коротковолнового излучения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F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ю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называют всю ионосферу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ыше 130—140 км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Плотность частиц достигает своего максимума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9" descr=""/>
          <p:cNvPicPr/>
          <p:nvPr/>
        </p:nvPicPr>
        <p:blipFill>
          <a:blip r:embed="rId1"/>
          <a:stretch/>
        </p:blipFill>
        <p:spPr>
          <a:xfrm>
            <a:off x="4800600" y="53352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31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32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33" descr=""/>
          <p:cNvPicPr/>
          <p:nvPr/>
        </p:nvPicPr>
        <p:blipFill>
          <a:blip r:embed="rId4"/>
          <a:stretch/>
        </p:blipFill>
        <p:spPr>
          <a:xfrm>
            <a:off x="4800600" y="320040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34"/>
          <p:cNvSpPr/>
          <p:nvPr/>
        </p:nvSpPr>
        <p:spPr>
          <a:xfrm>
            <a:off x="838080" y="57888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c2b"/>
                </a:solidFill>
                <a:latin typeface="Times New Roman"/>
              </a:rPr>
              <a:t>Северное сияние - процессы в ионосфере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пользование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85800" y="1752480"/>
            <a:ext cx="80010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аиболее широко плазма применяется в светотехнике —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газоразрядных лампах, освещающих улицы, и лампах дневного света, используемых в помещениях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А кроме того, в самых разных газоразрядных приборах: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прямителях электрического тока, стабилизаторах напряжения, плазменных усилителях и генераторах сверхвысоких частот (СВЧ), счётчиках космических частиц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се так называемые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газовые лазер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(гелий-неоновый, криптоновый, на диоксиде углерода и т. п.) на самом деле плазменные: газовые смеси в них ионизованы электрическим разрядом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Разрабатываются различные схемы плазменного ускорения заряженных частиц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Что такое плазма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581280" y="1371600"/>
            <a:ext cx="52578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лазм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(от греч. plásma — вылепленное, оформленное), частично или полностью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ионизованный газ, состоящий из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электрическ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заряженных и нейтральных частиц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котором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суммарный электрический заряд равен нулю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выполнено так называемое условие квазинейтральности ).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о не каждое скопление частиц можно назвать плазмой, например, пучок электронов, летящих в вакууме, не плазма: он несет только отрицательный заряд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124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пользование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30" name="Picture 5" descr="D:\DISTRIBUTES\- Юра\Миша\fire.gif"/>
          <p:cNvPicPr/>
          <p:nvPr/>
        </p:nvPicPr>
        <p:blipFill>
          <a:blip r:embed="rId1"/>
          <a:stretch/>
        </p:blipFill>
        <p:spPr>
          <a:xfrm>
            <a:off x="1371600" y="1066680"/>
            <a:ext cx="5943600" cy="2438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533520" y="358236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уществуют генераторы низкотемпературной плазмы —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лазмотрон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в которых используется электрическая дуга. С помощью плазмотрона можно нагреть почти любой газ до 7000—10000 градусов за сотые и тысячные доли секунды. С  созданием плазмотрона возникла новая область науки — плазменная химия: многие химические реакции ускоряются или идут только в плазменной струе.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лазмотроны применяются и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горно-рудной промышленности, и для резки металлов. Созданы также плазменные двигатели, магнитогидродинамические электростанции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e1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457200" y="1046880"/>
            <a:ext cx="8077320" cy="56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окамак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О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оида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ера с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нитными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тушками)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это один из варианто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стройства, способного формировать долгоживущую горячую плазму высокой плотност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При достижении определенных параметров плазмы в ней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ачинается термоядерная реакция синтеза ядер гелия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з исходного сырья — изотопов водорода (дейтерия и трития). При этом в токамак-реакторе должно вырабатываться существенно больше энергии, чем затрачивается на формирование плазмы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ермин“токамак” был введён русскими физикам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.В.Таммом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.Д.Сахаровым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50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х годах. Первый токамак был разработан под руководством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кадемика Л.А.Арцимова в Институте атомной энергии им. И. В. Курчатова в Москве и продемонстрирован в1968 в Новосибирск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 настоящее время токамак считается наиболее перспективным устройством для осуществления управляемого термоядерного синтеза. Токамак представляет по сут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олый  тор (бублик), на который намотан проводник, образующий магнитное пол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Основное магнитное поле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амере-ловушке, содержащей горячую плазму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создается тороидальными магнитными катушками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80880" y="7884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Центральной задачей физики плазмы является проблема управляемого термоядерного синтеза.</a:t>
            </a:r>
            <a:endParaRPr b="1" lang="en-US" sz="2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лазма – четвёртое состояние вещества 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648320" y="1596240"/>
            <a:ext cx="4114800" cy="46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3" marL="13716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 Cyr"/>
              </a:rPr>
              <a:t>Еще в глубокой древности мыслители считали, что мир состоит из четырех простых стихий: земли, воды, воздуха и огня. Частично они были правы. Этим стихиям соответствуют твердое, жидкое и газообразное состояния вещества и вещество в состоянии плазмы. </a:t>
            </a:r>
            <a:r>
              <a:rPr b="1" lang="ru-RU" sz="2000" spc="-1" strike="noStrike">
                <a:solidFill>
                  <a:srgbClr val="333333"/>
                </a:solidFill>
                <a:latin typeface="Times New Roman Cyr"/>
              </a:rPr>
              <a:t>При температурах выше 10000°С все вещества находятся в своем четвертом состоянии - состоянии плазмы. </a:t>
            </a:r>
            <a:br>
              <a:rPr sz="2000"/>
            </a:b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809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Где встречается плазма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962520" y="1600200"/>
            <a:ext cx="434340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азма — наиболее распространённое состояние вещества в природ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на неё приходится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около 99 % массы Вселенной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олнце, большинство звёзд, туманности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это полностью ионизованная плазма. Внешняя часть земной атмосферы (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ионосфер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тоже плазма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Ещё выше располагаются радиационные пояса, содержащие плазму.</a:t>
            </a:r>
            <a:br>
              <a:rPr sz="1600"/>
            </a:b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олярные сияния, молнии, в том числе шаровы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— всё это различные виды плазмы, наблюдать которые можно в естественных условиях на Земле. И лишь ничтожную часть Вселенной составляет вещество в твёрдом состоянии — планеты, астероиды и пылевые туманност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276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Условия возникновения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066680" y="1295280"/>
            <a:ext cx="708660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зависимости от температуры любое вещество изменяет своё состояни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Так, вода при отрицательных температурах находится в твёрдом состоянии, от 0 до 100 </a:t>
            </a:r>
            <a:r>
              <a:rPr b="0" lang="ru-RU" sz="1800" spc="-1" strike="noStrike" baseline="30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 - в жидком, выше 100 °С—в газообразном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сли температура продолжает раст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томы и молекул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ачинают терять свои электроны — ионизуются и газ превращается в плазму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Если любое вещество накалить до очень высокой температуры или пропускать через него сильный электрический ток , его электроны начинают отрываться от атомов . То , что остается от атомов после отрыва электрона , имеет положительный заряд и называется ионом , сам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оцесс отрыва электронов от атомов называется ионизацие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результате ионизации получается смесь свободных частиц с положительными и отрицательными зарядами . Эту смесь назвали плазмо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</a:t>
            </a:r>
            <a:r>
              <a:rPr b="0" lang="ru-RU" sz="1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и температурах более 1 000 000 °С плазма абсолютно ионизована — она состоит только из электронов и положительных ионов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Виды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343400" y="1825920"/>
            <a:ext cx="40384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лазма обычно разделяется на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деаль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еидеаль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изкотемператур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сокотемператур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вновес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еравновесную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Газовую плазму принято разделять на низкотемпературную — до 100 тыс. градусов и высокотемпературную — до 100 млн градусов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имером низкотемпературной плазмы является обыкновенный огонь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7" name="Object 14"/>
          <p:cNvGraphicFramePr/>
          <p:nvPr/>
        </p:nvGraphicFramePr>
        <p:xfrm>
          <a:off x="609480" y="1752480"/>
          <a:ext cx="3575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3575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Виды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Text Box 1029"/>
          <p:cNvSpPr/>
          <p:nvPr/>
        </p:nvSpPr>
        <p:spPr>
          <a:xfrm>
            <a:off x="838080" y="2169000"/>
            <a:ext cx="7696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неравновесной плазме электронная температура существенно превышает температуру ионов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Это происходит из-за различия в массах иона и электрона, которое затрудняет процесс обмена энергией. Такая ситуация встречается в газовых разрядах, когда ионы имеют температуру около сотен, а электроны около десятков тысяч градусов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авновесной плазме обе температуры равн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Поскольку для осуществления процесса ионизации необходимы температуры, сравнимые с потенциалом ионизации, равновесная плазма обычно является горячей (с температурой больше нескольких тысяч градусов)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онятие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ысокотемпературная плазм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употребляется обычно для плазмы термоядерного синтеза, который требует температур в миллионы кельвинов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Характеристики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Text Box 1029"/>
          <p:cNvSpPr/>
          <p:nvPr/>
        </p:nvSpPr>
        <p:spPr>
          <a:xfrm>
            <a:off x="609480" y="1051200"/>
            <a:ext cx="792504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</a:rPr>
              <a:t>Температура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Для описания плазмы в физике удобно использовать не температуру, а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энергию, выраженную в электрон-вольтах (эВ)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Для перевода температуры в эВ можно воспользоваться следующим соотношением: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1эВ = 11600 градусов Кельвин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</a:rPr>
              <a:t>Степень ионизации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тепень ионизации определяется как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отношение числа ионизованных частиц к общему числу частиц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Для низкотемпературных плазм характерны малые степени ионизации (&lt;1 %)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Горячая плазма почти всегда полностью ионизована (степень ионизации ~100 %). Обычно именно она понимается под “четвертым агрегатным состоянием вещества”. Примером может служить Солнце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 Black"/>
              </a:rPr>
              <a:t>Плотность.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лово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отность плазм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обычно обозначает плотность электронов,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то есть число свободных электронов в единице объем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строго говоря, здесь, плотностью называют концентрацию — не массу единицы объема, а число частиц в единице объема)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 Black"/>
              </a:rPr>
              <a:t>Квазинейтраль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отность отрицательных зарядов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с хорошей точностью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авна плотности положительных зарядов.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Нарушение квазинейтральности ведёт к немедленному появлению сильных электрических полей пространственных зарядов, тут же восстанавливающих квазинейтральность.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Text Box 1029"/>
          <p:cNvSpPr/>
          <p:nvPr/>
        </p:nvSpPr>
        <p:spPr>
          <a:xfrm>
            <a:off x="990720" y="1427040"/>
            <a:ext cx="68580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плазмой и обычными газами имеется много общего, несмотря на то, что плазма является особой средой, в которой существенную роль играют силы кулоновского взаимодействия между заряженными частицам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войства газ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энергия взаимодействия между заряженными частицами в плазме является пренебрежимо малой в сравнении со средней кинетической энергией теплового движения, то можно считать, что плазма ведет себя, как идеальный газ, основным уравнением которого является уравнение Менделеева-Клапейрона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V=(m/M)RT 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=nk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2:30:19Z</dcterms:created>
  <dc:creator>Администратор</dc:creator>
  <dc:description/>
  <dc:language>en-US</dc:language>
  <cp:lastModifiedBy>Teacher</cp:lastModifiedBy>
  <dcterms:modified xsi:type="dcterms:W3CDTF">2022-11-18T02:22:08Z</dcterms:modified>
  <cp:revision>31</cp:revision>
  <dc:subject/>
  <dc:title>Презентация на тему:  Плазма</dc:title>
</cp:coreProperties>
</file>