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AC4-92ED-4AC7-A83C-DC5F909D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B72-789B-48D5-AD3C-529D5C84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073-16CA-4EEA-9847-CB7DEC9C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7C5-9601-4BA3-A046-32513064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5790-B12C-4C64-9DE3-39743952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DB35-0FDE-4CF2-BB56-224E75F6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1F3C-D4C1-4798-AF25-E6B96A37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B5B3-1248-407B-81FE-A68A007A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BCDC-438A-4879-BB4A-66B64959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F9CC-717D-4F85-BD5F-6BCC230E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6B6D-EB69-4A7F-8C7F-29CD03A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DA8-3C8A-4230-9219-C24C5A9C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F8A1-93AC-4E8D-8F0B-721FD3E9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9D73-FDA2-4E47-84A4-D369310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A5E9-59DF-48D7-957E-1F9EA11A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744E-AAD1-4388-850D-BC5579EB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E1CD-6EF0-4EE9-9765-33781C75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926-7835-4EB8-BBE4-57948BA8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134-6DE2-4A49-AD93-6C8696F9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CC3-4C72-466D-B83A-CC1E03FF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19C-F282-4C52-80C3-9E3A31FF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497-6471-49F1-A44D-9F0DA324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7B8-ED14-4628-B6D3-1AF8E84D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6C2-4D78-411C-88CD-47C5C7B5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483-50F6-4D2B-A5FF-65CD071197A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2B75-95DD-4EE4-BC94-003AE1028D8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4471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5c00"/>
                </a:solidFill>
                <a:latin typeface="Times New Roman"/>
              </a:rPr>
              <a:t>Плазма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95280" y="1211400"/>
            <a:ext cx="632484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зма - смесь нескольких газ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закону Дальтона полное давление смеси равно сумме парциальных давлений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(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k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p = nkT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вокупность частиц каждого из указанных ниже видов образует свой собственный газ: нейтральных атомов или молекул, электронный газ, ионный газ, фотонный газ. Смесью этих газов и является плазма. Если температура компонентов плазмы одинакова, то плазма называется изотермической (чаще всего в космических условиях). Разные компоненты газоразрядной плазмы характеризуются различной температурой. Температура электронного газа выше на порядок температуры нейтрального газа. Температура же фотонного газа еще более высокая, чем электронного. Так , в газосветных трубках (реклама) температура электронов 40000К, а температура ионов не выше 2000К. В дуговом разряде различия температур компонентов меньше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80880" y="1356480"/>
            <a:ext cx="838224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ия частиц и температура газа 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 как частица с массой m и скоростью v обладает кинетической энергией U 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редняя энергия на одну молекулу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3kT/2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 энергию частиц можно выразить 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2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де энергия выражена в электронвольтах(эВ) :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эВ=1,6*10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ж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Особенные 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09480" y="633240"/>
            <a:ext cx="8001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сутствие свободных электрических зарядов делает плазму проводящей ток сред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обуславливает её заметно большее (по сравнению с другими агрегатными состояниями вещества) взаимодействие с магнитным и электрическим полями, э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водит к появлению слоёв и стру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Электроны, ионы и нейтральные частиц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различаются знаком электрического заряда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могут вести себя независимо друг от друга — иметь разные скорости и даже температу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служит причиной появления новых явлений, например волн и неустойчивостей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ждая частица взаимодействует сразу со многими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Эти коллективные взаимодействия имеют гораздо большее влияние чем двухчастичные (т.е. взаимодействие только между 2 частицами - наиболее часто встречаются в газах)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9528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тория открытия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895480" y="1752480"/>
            <a:ext cx="541044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Четвёртое состояние вещества было открыто 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. Круксом в 1879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первые термин "плазма" , ранее лишь медицинский, был использован в 1923 г. американскими физиками Ленгмюром и Тонксом, которые стали обозначать с его помощью особое состояние ионизированного газ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Лёнгмюр (1881—1957) иЛеви Тонко (1897—1971) назвали плазмой ионизованный газ в газоразрядной трубк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Английский физик Уильям Крукс (1832—1919), изучавший электрический разряд в трубках с разрежённым воздухом, писал: “Явления в откачанных трубках открывают для физической науки новый мир, в котором материя может существовать в четвёртом состоянии”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0574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олнце и 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90720" y="1755360"/>
            <a:ext cx="7162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це – громадный шар , состоящий из раскаленной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С поверхности Солнца непрерывн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текает спокойный поток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– так называемы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ечный ветер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Время от времени на поверхности Солнца происходят вспышки . При каждой такой вспышке в космос выплескивается кратковременный поток плазмы . Эти плазменные потоки , достигая атмосферы земли вызывают в ней много замечательных явлений 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ярное сияние , магнитные бури , нарушение радиосвяз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Дело в том ,что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круг Земли есть плазменная оболочк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только эта оболочка находится высоко .Ведь Солнце на ряду с видимым светом посылает невиди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льтрафиолетовые луч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Эти луч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здействуют на атомы воздуха и отрывают от них электроны , т.е. производят ионизаци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Так получается , ч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ерхние слои атмосферы – ионосфер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- состоят из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изированного воздух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иначе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оворя , из плазмы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4952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447920" y="54673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олнце, как и любая звезда, - огромный шар из плазмы.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29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5800" y="764640"/>
            <a:ext cx="80010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осфера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остоит из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меси газа нейтральных атомов и молекул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в основном кислорода О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и азота N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 квазинейтральной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число отрицательно заряженных частиц примерно равно числу положительно заряженных). Ионизация становится существенной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же на высоте 60 километров и неуклонно увеличиваетс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удалением от Земл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труктура ионосферы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зависимости от плотности нейтральных частиц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в ионосфере выделятся слои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D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60-9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большими плотностями, слабой ионизацией и, соответственно, небольшой концентрацией заряженных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Основным ионизирующим фактором этого слоя явля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ентгеновское излучением Солнц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Ночью ионизация в слое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резко уменьшается, но не исчезает полностью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Е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(90-120 км)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более высокими плотностями, ростом концентрации электронов с высотой в дневное врем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связанным с поглощением солнечного коротковолнового излучения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F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ю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называют всю ионосферу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ше 130—14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лотность частиц достигает своего максимума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31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32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33" descr=""/>
          <p:cNvPicPr/>
          <p:nvPr/>
        </p:nvPicPr>
        <p:blipFill>
          <a:blip r:embed="rId4"/>
          <a:stretch/>
        </p:blipFill>
        <p:spPr>
          <a:xfrm>
            <a:off x="4800600" y="320040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34"/>
          <p:cNvSpPr/>
          <p:nvPr/>
        </p:nvSpPr>
        <p:spPr>
          <a:xfrm>
            <a:off x="838080" y="5788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Северное сияние - процессы в ионосфере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85800" y="1752480"/>
            <a:ext cx="8001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аиболее широко плазма применяется в светотехнике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газоразрядных лампах, освещающих улицы, и лампах дневного света, используемых в помещения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А кроме того, в самых разных газоразрядных приборах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прямителях электрического тока, стабилизаторах напряжения, плазменных усилителях и генераторах сверхвысоких частот (СВЧ), счётчиках космических частиц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се так называе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азовые лазе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(гелий-неоновый, криптоновый, на диоксиде углерода и т. п.) на самом деле плазменные: газовые смеси в них ионизованы электрическим разрядом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рабатываются различные схемы плазменного ускорения заряженных частиц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Что такое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581280" y="1371600"/>
            <a:ext cx="5257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лазм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от греч. plásma — вылепленное, оформленное), частично или полностью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ионизованный газ, состоящий и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электрическ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заряженных и нейтральных частиц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тором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суммарный электрический заряд равен нул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выполнено так называемое условие квазинейтральности )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о не каждое скопление частиц можно назвать плазмой, например, пучок электронов, летящих в вакууме, не плазма: он несет только отрицательный заряд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12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0" name="Picture 5" descr="D:\DISTRIBUTES\- Юра\Миша\fire.gif"/>
          <p:cNvPicPr/>
          <p:nvPr/>
        </p:nvPicPr>
        <p:blipFill>
          <a:blip r:embed="rId1"/>
          <a:stretch/>
        </p:blipFill>
        <p:spPr>
          <a:xfrm>
            <a:off x="1371600" y="1066680"/>
            <a:ext cx="5943600" cy="2438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33520" y="358236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уществуют генераторы низкотемпературной плазмы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лазмотр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в которых используется электрическая дуга. С помощью плазмотрона можно нагреть почти любой газ до 7000—10000 градусов за сотые и тысячные доли секунды. С  созданием плазмотрона возникла новая область науки — плазменная химия: многие химические реакции ускоряются или идут только в плазменной струе.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отроны применяются и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орно-рудной промышленности, и для резки металлов. Созданы также плазменные двигатели, магнитогидродинамические электростанции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e1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457200" y="1046880"/>
            <a:ext cx="8077320" cy="56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кама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оида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ра с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нитным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тушками)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это один из варианто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стройства, способного формировать долгоживущую горячую плазму высокой плотно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При достижении определенных параметров плазмы в не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ется термоядерная реакция синтеза ядер гел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з исходного сырья — изотопов водорода (дейтерия и трития). При этом в токамак-реакторе должно вырабатываться существенно больше энергии, чем затрачивается на формирование плазмы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рмин“токамак” был введён русскими физикам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.В.Таммо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.Д.Сахаровы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5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х годах. Первый токамак был разработан под руководство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кадемика Л.А.Арцимова в Институте атомной энергии им. И. В. Курчатова в Москве и продемонстрирован в1968 в Новосибирск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настоящее время токамак считается наиболее перспективным устройством для осуществления управляемого термоядерного синтеза. Токамак представляет по сут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ый  тор (бублик), на который намотан проводник, образующий магнитное пол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Основное магнитное поле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мере-ловушке, содержащей горячую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создается тороидальными магнитными катушками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80880" y="7884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Центральной задачей физики плазмы является проблема управляемого термоядерного синтеза.</a:t>
            </a: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лазма – четвёртое состояние вещества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648320" y="1596240"/>
            <a:ext cx="4114800" cy="46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3" marL="13716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 Cyr"/>
              </a:rPr>
              <a:t>Еще в глубокой древности мыслители считали, что мир состоит из четырех простых стихий: земли, воды, воздуха и огня. Частично они были правы. Этим стихиям соответствуют твердое, жидкое и газообразное состояния вещества и вещество в состоянии плазмы. </a:t>
            </a:r>
            <a:r>
              <a:rPr b="1" lang="ru-RU" sz="2000" spc="-1" strike="noStrike">
                <a:solidFill>
                  <a:srgbClr val="333333"/>
                </a:solidFill>
                <a:latin typeface="Times New Roman Cyr"/>
              </a:rPr>
              <a:t>При температурах выше 10000°С все вещества находятся в своем четвертом состоянии - состоянии плазмы. </a:t>
            </a:r>
            <a:br>
              <a:rPr sz="2000"/>
            </a:b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809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Где встречается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62520" y="1600200"/>
            <a:ext cx="43434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азма — наиболее распространённое состояние вещества в природ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на неё приходится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коло 99 % массы Вселенной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олнце, большинство звёзд, туманности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это полностью ионизованная плазма. Внешняя часть земной атмосферы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оносфер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тоже плазм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Ещё выше располагаются радиационные пояса, содержащие плазму.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олярные сияния, молнии, в том числе шаровы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— всё это различные виды плазмы, наблюдать которые можно в естественных условиях на Земле. И лишь ничтожную часть Вселенной составляет вещество в твёрдом состоянии — планеты, астероиды и пылевые туманност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276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Условия возникновения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66680" y="1295280"/>
            <a:ext cx="70866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зависимости от температуры любое вещество изменяет своё состояни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Так, вода при отрицательных температурах находится в твёрдом состоянии, от 0 до 100 </a:t>
            </a:r>
            <a:r>
              <a:rPr b="0" lang="ru-RU" sz="1800" spc="-1" strike="noStrike" baseline="30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- в жидком, выше 100 °С—в газообразном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сли температура продолжает ра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томы и молекул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ют терять свои электроны — ионизуются и газ превращается в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Если любое вещество накалить до очень высокой температуры или пропускать через него сильный электрический ток , его электроны начинают отрываться от атомов . То , что остается от атомов после отрыва электрона , имеет положительный заряд и называется ионом , са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оцесс отрыва электронов от атомов называется ионизацие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результате ионизации получается смесь свободных частиц с положительными и отрицательными зарядами . Эту смесь назвали плазм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</a:t>
            </a:r>
            <a:r>
              <a:rPr b="0" lang="ru-RU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 температурах более 1 000 000 °С плазма абсолютно ионизована — она состоит только из электронов и положительных ионов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343400" y="1825920"/>
            <a:ext cx="40384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а обычно разделяется на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из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со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вновес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равновесную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азовую плазму принято разделять на низкотемпературную — до 100 тыс. градусов и высокотемпературную — до 100 млн градусов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мером низкотемпературной плазмы является обыкновенный огонь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7" name="Object 14"/>
          <p:cNvGraphicFramePr/>
          <p:nvPr/>
        </p:nvGraphicFramePr>
        <p:xfrm>
          <a:off x="609480" y="1752480"/>
          <a:ext cx="3575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3575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Text Box 1029"/>
          <p:cNvSpPr/>
          <p:nvPr/>
        </p:nvSpPr>
        <p:spPr>
          <a:xfrm>
            <a:off x="838080" y="2169000"/>
            <a:ext cx="769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равновесной плазме электронная температура существенно превышает температуру ион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Это происходит из-за различия в массах иона и электрона, которое затрудняет процесс обмена энергией. Такая ситуация встречается в газовых разрядах, когда ионы имеют температуру около сотен, а электроны около десятков тысяч градус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овесной плазме обе температуры равн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оскольку для осуществления процесса ионизации необходимы температуры, сравнимые с потенциалом ионизации, равновесная плазма обычно является горячей (с температурой больше нескольких тысяч градусов)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онятие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сокотемпературная плаз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употребляется обычно для плазмы термоядерного синтеза, который требует температур в миллионы кельвин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Характеристики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609480" y="1051200"/>
            <a:ext cx="792504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Температура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описания плазмы в физике удобно использовать не температуру, а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энергию, выраженную в электрон-вольтах (эВ)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перевода температуры в эВ можно воспользоваться следующим соотношением: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эВ = 11600 градусов Кельвин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Степень ионизации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тепень ионизации определяется как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отношение числа ионизованных частиц к общему числу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Для низкотемпературных плазм характерны малые степени ионизации (&lt;1 %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орячая плазма почти всегда полностью ионизована (степень ионизации ~100 %). Обычно именно она понимается под “четвертым агрегатным состоянием вещества”. Примером может служить Солнц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Плотность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лово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обычно обозначает плотность электронов,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то есть число свободных электронов в единице объе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строго говоря, здесь, плотностью называют концентрацию — не массу единицы объема, а число частиц в единице объема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Квазинейтраль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отрицательных заряд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хорошей точностью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а плотности положительных зарядов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Нарушение квазинейтральности ведёт к немедленному появлению сильных электрических полей пространственных зарядов, тут же восстанавливающих квазинейтральность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Text Box 1029"/>
          <p:cNvSpPr/>
          <p:nvPr/>
        </p:nvSpPr>
        <p:spPr>
          <a:xfrm>
            <a:off x="990720" y="1427040"/>
            <a:ext cx="6858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плазмой и обычными газами имеется много общего, несмотря на то, что плазма является особой средой, в которой существенную роль играют силы кулоновского взаимодействия между заряженными частицам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ойства газ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энергия взаимодействия между заряженными частицами в плазме является пренебрежимо малой в сравнении со средней кинетической энергией теплового движения, то можно считать, что плазма ведет себя, как идеальный газ, основным уравнением которого является уравнение Менделеева-Клапейрона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V=(m/M)RT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=nk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2:30:19Z</dcterms:created>
  <dc:creator>Администратор</dc:creator>
  <dc:description/>
  <dc:language>en-US</dc:language>
  <cp:lastModifiedBy>Teacher</cp:lastModifiedBy>
  <dcterms:modified xsi:type="dcterms:W3CDTF">2022-11-18T02:22:08Z</dcterms:modified>
  <cp:revision>31</cp:revision>
  <dc:subject/>
  <dc:title>Презентация на тему:  Плазма</dc:title>
</cp:coreProperties>
</file>