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907-42EE-47E9-BE43-ED9DABF1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4FA-33A2-4BF5-9419-15797E9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E32-7323-4387-8D0F-01639CED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003-6F30-481C-848B-A8D3FFCB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4E1C-85EC-46FE-9823-8B3B09EF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0C76-B697-43BF-8B93-2FBCB55B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CBD4-6593-4229-961F-9D1E8FE2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8713-F1B4-4F41-89E4-9369DB8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73AB-28F1-402D-BCCA-7BB6937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812F-0CF8-49DF-884D-B9066C36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C647-CDB2-4FDD-A0D1-BCB86D4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D99-B989-4DD6-8603-4401092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5B9-C2A7-49AA-9E1B-FCD1E962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798F-D3DE-421B-A2C3-085781E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34A-CEBE-4A5E-8427-58D3AFDF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84C-1802-41E8-ADFF-DF8FD044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093-127C-4685-9FEF-E8FAD26C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EAA-7860-43B8-A912-77D5E1B6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179-EE8A-4AC8-A964-866EA68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4D7-D2FD-4D89-82B3-9A88E800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3C3-6C8C-4D51-8051-3FAEAD5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11B-6C9A-4FD7-8FDC-67712DD4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D66-B81B-48C2-904D-5C09A3F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D10-986A-4C7C-B2B0-E23F82D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315-30B1-4156-BB84-E65A90B9617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D78-F805-49A5-AE76-5FA36C7239C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4471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5c00"/>
                </a:solidFill>
                <a:latin typeface="Times New Roman"/>
              </a:rPr>
              <a:t>Плазма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1211400"/>
            <a:ext cx="632484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зма - смесь нескольких газ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ону Дальтона полное давление смеси равно сумме парциальных давлений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k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p = nkT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ь частиц каждого из указанных ниже видов образует свой собственный газ: нейтральных атомов или молекул, электронный газ, ионный газ, фотонный газ. Смесью этих газов и является плазма. Если температура компонентов плазмы одинакова, то плазма называется изотермической (чаще всего в космических условиях). Разные компоненты газоразрядной плазмы характеризуются различной температурой. Температура электронного газа выше на порядок температуры нейтрального газа. Температура же фотонного газа еще более высокая, чем электронного. Так , в газосветных трубках (реклама) температура электронов 40000К, а температура ионов не выше 2000К. В дуговом разряде различия температур компонентов меньше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880" y="1356480"/>
            <a:ext cx="83822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ия частиц и температура газа 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как частица с массой m и скоростью v обладает кинетической энергией U 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яя энергия на одну молекулу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3kT/2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энергию частиц можно выразить 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2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энергия выражена в электронвольтах(эВ) :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эВ=1,6*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ж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собенные 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9480" y="633240"/>
            <a:ext cx="8001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сутствие свободных электрических зарядов делает плазму проводящей ток сред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обуславливает её заметно большее (по сравнению с другими агрегатными состояниями вещества) взаимодействие с магнитным и электрическим полями, э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одит к появлению слоёв и стру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лектроны, ионы и нейтральные частиц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различаются знаком электрического заряда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могут вести себя независимо друг от друга — иметь разные скорости и даже температу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служит причиной появления новых явлений, например волн и неустойчивостей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ждая частица взаимодействует сразу со многими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Эти коллективные взаимодействия имеют гораздо большее влияние чем двухчастичные (т.е. взаимодействие только между 2 частицами - наиболее часто встречаются в газах)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952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тория открыт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895480" y="1752480"/>
            <a:ext cx="5410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Четвёртое состояние вещества было открыто 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. Круксом в 1879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первые термин "плазма" , ранее лишь медицинский, был использован в 1923 г. американскими физиками Ленгмюром и Тонксом, которые стали обозначать с его помощью особое состояние ионизированного газ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Лёнгмюр (1881—1957) иЛеви Тонко (1897—1971) назвали плазмой ионизованный газ в газоразрядной трубк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нглийский физик Уильям Крукс (1832—1919), изучавший электрический разряд в трубках с разрежённым воздухом, писал: “Явления в откачанных трубках открывают для физической науки новый мир, в котором материя может существовать в четвёртом состоянии”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лнце и 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90720" y="1755360"/>
            <a:ext cx="716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це – громадный шар , состоящий из раскаленной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С поверхности Солнца непрерывн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текает спокойный поток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– так называемы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ечный ве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Время от времени на поверхности Солнца происходят вспышки . При каждой такой вспышке в космос выплескивается кратковременный поток плазмы . Эти плазменные потоки , достигая атмосферы земли вызывают в ней много замечательных явлений 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ярное сияние , магнитные бури , нарушение радиосвяз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Дело в том ,что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круг Земли есть плазменная оболоч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только эта оболочка находится высоко .Ведь Солнце на ряду с видимым светом посылает невиди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льтрафиолетовые луч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Эти луч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здействуют на атомы воздуха и отрывают от них электроны , т.е. производят ионизаци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Так получается , ч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ерхние слои атмосферы – ионосфер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- состоят из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изированного воздух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иначе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оворя , из плазмы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4952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447920" y="5467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олнце, как и любая звезда, - огромный шар из плазмы.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5800" y="764640"/>
            <a:ext cx="8001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осф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оит из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меси газа нейтральных атомов и молеку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в основном кислорода О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и азота N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 квазинейтральной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число отрицательно заряженных частиц примерно равно числу положительно заряженных). Ионизация становится существенной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же на высоте 60 километров и неуклонно увеличиваетс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удалением от Земл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труктура ионосферы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зависимости от плотности нейтральных частиц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в ионосфере выделятся слои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D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0-9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большими плотностями, слабой ионизацией и, соответственно, небольшой концентрацией заряженных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Основным ионизирующим фактором этого слоя явля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нтгеновское излучением Солнц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Ночью ионизация в слое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резко уменьшается, но не исчезает полностью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Е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90-120 км)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более высокими плотностями, ростом концентрации электронов с высотой в дневное врем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связанным с поглощением солнечного коротковолнового излучения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F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ю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называют всю ионосферу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ше 130—14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лотность частиц достигает своего максимума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1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2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3" descr=""/>
          <p:cNvPicPr/>
          <p:nvPr/>
        </p:nvPicPr>
        <p:blipFill>
          <a:blip r:embed="rId4"/>
          <a:stretch/>
        </p:blipFill>
        <p:spPr>
          <a:xfrm>
            <a:off x="4800600" y="320040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34"/>
          <p:cNvSpPr/>
          <p:nvPr/>
        </p:nvSpPr>
        <p:spPr>
          <a:xfrm>
            <a:off x="838080" y="578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Северное сияние - процессы в ионосфере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1752480"/>
            <a:ext cx="8001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иболее широко плазма применяется в светотехнике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газоразрядных лампах, освещающих улицы, и лампах дневного света, используемых в помещения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А кроме того, в самых разных газоразрядных приборах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прямителях электрического тока, стабилизаторах напряжения, плазменных усилителях и генераторах сверхвысоких частот (СВЧ), счётчиках космических частиц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се так называе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азовые лазе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(гелий-неоновый, криптоновый, на диоксиде углерода и т. п.) на самом деле плазменные: газовые смеси в них ионизованы электрическим разрядом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атываются различные схемы плазменного ускорения заряженных частиц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Что такое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581280" y="1371600"/>
            <a:ext cx="5257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азм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от греч. plásma — вылепленное, оформленное), частично или полностью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ионизованный газ, состоящий и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лектрическ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заряженных и нейтральных частиц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тором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суммарный электрический заряд равен нул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выполнено так называемое условие квазинейтральности )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о не каждое скопление частиц можно назвать плазмой, например, пучок электронов, летящих в вакууме, не плазма: он несет только отрицательный заряд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0" name="Picture 5" descr="D:\DISTRIBUTES\- Юра\Миша\fire.gif"/>
          <p:cNvPicPr/>
          <p:nvPr/>
        </p:nvPicPr>
        <p:blipFill>
          <a:blip r:embed="rId1"/>
          <a:stretch/>
        </p:blipFill>
        <p:spPr>
          <a:xfrm>
            <a:off x="1371600" y="1066680"/>
            <a:ext cx="594360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33520" y="358236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ествуют генераторы низкотемпературной плазмы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лазмотр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в которых используется электрическая дуга. С помощью плазмотрона можно нагреть почти любой газ до 7000—10000 градусов за сотые и тысячные доли секунды. С  созданием плазмотрона возникла новая область науки — плазменная химия: многие химические реакции ускоряются или идут только в плазменной струе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отроны применяются и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орно-рудной промышленности, и для резки металлов. Созданы также плазменные двигатели, магнитогидродинамические электростанции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1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457200" y="1046880"/>
            <a:ext cx="80773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кама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ида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ра с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нитным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тушкам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то один из варианто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стройства, способного формировать долгоживущую горячую плазму высокой плотно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При достижении определенных параметров плазмы в не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ется термоядерная реакция синтеза ядер гел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 исходного сырья — изотопов водорода (дейтерия и трития). При этом в токамак-реакторе должно вырабатываться существенно больше энергии, чем затрачивается на формирование плазмы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рмин“токамак” был введён русскими физикам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.В.Таммо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.Д.Сахаровы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5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 годах. Первый токамак был разработан под руководство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кадемика Л.А.Арцимова в Институте атомной энергии им. И. В. Курчатова в Москве и продемонстрирован в1968 в Новосибирск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настоящее время токамак считается наиболее перспективным устройством для осуществления управляемого термоядерного синтеза. Токамак представляет по сут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ый  тор (бублик), на который намотан проводник, образующий магнитное пол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Основное магнитное поле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мере-ловушке, содержащей горячую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создается тороидальными магнитными катушками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0880" y="7884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Центральной задачей физики плазмы является проблема управляемого термоядерного синтеза.</a:t>
            </a: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лазма – четвёртое состояние вещества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48320" y="1596240"/>
            <a:ext cx="41148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3" marL="1371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Еще в глубокой древности мыслители считали, что мир состоит из четырех простых стихий: земли, воды, воздуха и огня. Частично они были правы. Этим стихиям соответствуют твердое, жидкое и газообразное состояния вещества и вещество в состоянии плазмы. </a:t>
            </a:r>
            <a:r>
              <a:rPr b="1" lang="ru-RU" sz="2000" spc="-1" strike="noStrike">
                <a:solidFill>
                  <a:srgbClr val="333333"/>
                </a:solidFill>
                <a:latin typeface="Times New Roman Cyr"/>
              </a:rPr>
              <a:t>При температурах выше 10000°С все вещества находятся в своем четвертом состоянии - состоянии плазмы. </a:t>
            </a:r>
            <a:br>
              <a:rPr sz="2000"/>
            </a:b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де встречается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62520" y="1600200"/>
            <a:ext cx="43434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азма — наиболее распространённое состояние вещества в природ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на неё приходится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коло 99 % массы Вселенной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олнце, большинство звёзд, туманност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это полностью ионизованная плазма. Внешняя часть земной атмосферы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оносфер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тоже плазм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щё выше располагаются радиационные пояса, содержащие плазму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лярные сияния, молнии, в том числе шаровы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— всё это различные виды плазмы, наблюдать которые можно в естественных условиях на Земле. И лишь ничтожную часть Вселенной составляет вещество в твёрдом состоянии — планеты, астероиды и пылевые туманност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словия возникновен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66680" y="1295280"/>
            <a:ext cx="7086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зависимости от температуры любое вещество изменяет своё состояни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ак, вода при отрицательных температурах находится в твёрдом состоянии, от 0 до 100 </a:t>
            </a:r>
            <a:r>
              <a:rPr b="0" lang="ru-RU" sz="1800" spc="-1" strike="noStrike" baseline="30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- в жидком, выше 100 °С—в газообразном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сли температура продолжает ра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томы и молекул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ют терять свои электроны — ионизуются и газ превращается в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Если любое вещество накалить до очень высокой температуры или пропускать через него сильный электрический ток , его электроны начинают отрываться от атомов . То , что остается от атомов после отрыва электрона , имеет положительный заряд и называется ионом , са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оцесс отрыва электронов от атомов называется ионизацие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результате ионизации получается смесь свободных частиц с положительными и отрицательными зарядами . Эту смесь назвали плазм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</a:t>
            </a:r>
            <a:r>
              <a:rPr b="0" lang="ru-RU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 температурах более 1 000 000 °С плазма абсолютно ионизована — она состоит только из электронов и положительных ионов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3400" y="1825920"/>
            <a:ext cx="4038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а обычно разделяется на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из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со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вновес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равновесную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азовую плазму принято разделять на низкотемпературную — до 100 тыс. градусов и высокотемпературную — до 100 млн градусов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мером низкотемпературной плазмы является обыкновенный огонь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7" name="Object 14"/>
          <p:cNvGraphicFramePr/>
          <p:nvPr/>
        </p:nvGraphicFramePr>
        <p:xfrm>
          <a:off x="609480" y="1752480"/>
          <a:ext cx="357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7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Text Box 1029"/>
          <p:cNvSpPr/>
          <p:nvPr/>
        </p:nvSpPr>
        <p:spPr>
          <a:xfrm>
            <a:off x="838080" y="21690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равновесной плазме электронная температура существенно превышает температуру ион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Это происходит из-за различия в массах иона и электрона, которое затрудняет процесс обмена энергией. Такая ситуация встречается в газовых разрядах, когда ионы имеют температуру около сотен, а электроны около десятков тысяч градус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овесной плазме обе температуры равн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оскольку для осуществления процесса ионизации необходимы температуры, сравнимые с потенциалом ионизации, равновесная плазма обычно является горячей (с температурой больше нескольких тысяч градусов)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няти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сокотемпературная плаз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употребляется обычно для плазмы термоядерного синтеза, который требует температур в миллионы кельвин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арактеристики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609480" y="1051200"/>
            <a:ext cx="79250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Температура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описания плазмы в физике удобно использовать не температуру, 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энергию, выраженную в электрон-вольтах (эВ)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перевода температуры в эВ можно воспользоваться следующим соотношением: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эВ = 11600 градусов Кельвин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Степень ионизации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епень ионизации определяется как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отношение числа ионизованных частиц к общему числу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Для низкотемпературных плазм характерны малые степени ионизации (&lt;1 %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орячая плазма почти всегда полностью ионизована (степень ионизации ~100 %). Обычно именно она понимается под “четвертым агрегатным состоянием вещества”. Примером может служить Солнц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Плотность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лово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обычно обозначает плотность электронов,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то есть число свободных электронов в единице объе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строго говоря, здесь, плотностью называют концентрацию — не массу единицы объема, а число частиц в единице объема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Квазинейтраль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отрицательных заряд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хорошей точностью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а плотности положительных зарядов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рушение квазинейтральности ведёт к немедленному появлению сильных электрических полей пространственных зарядов, тут же восстанавливающих квазинейтральность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990720" y="1427040"/>
            <a:ext cx="685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плазмой и обычными газами имеется много общего, несмотря на то, что плазма является особой средой, в которой существенную роль играют силы кулоновского взаимодействия между заряженными частицам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йства газ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энергия взаимодействия между заряженными частицами в плазме является пренебрежимо малой в сравнении со средней кинетической энергией теплового движения, то можно считать, что плазма ведет себя, как идеальный газ, основным уравнением которого является уравнение Менделеева-Клапейро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V=(m/M)RT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=nk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2:30:19Z</dcterms:created>
  <dc:creator>Администратор</dc:creator>
  <dc:description/>
  <dc:language>en-US</dc:language>
  <cp:lastModifiedBy>Teacher</cp:lastModifiedBy>
  <dcterms:modified xsi:type="dcterms:W3CDTF">2022-11-18T02:22:08Z</dcterms:modified>
  <cp:revision>31</cp:revision>
  <dc:subject/>
  <dc:title>Презентация на тему:  Плазма</dc:title>
</cp:coreProperties>
</file>