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png" ContentType="image/png"/>
  <Override PartName="/ppt/media/image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8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6A130-54ED-4421-954D-B3485004EA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02F9F-C39F-43CB-AA70-0A2F4DD93E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000CB-BD51-4071-938E-B4AA257E13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02095-F6A2-4FF2-98D8-FB57372B01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B3580-2F66-4DF7-9F5B-8AE748FB37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CA42C-7A95-42E0-924D-447EF8BD17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DBA6A-C39D-4FCA-B487-54937E7583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2D041-AD31-4390-929C-BB1D9E332D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27133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4D2A5-87EA-486D-BC4A-7022B48F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260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15773-E59B-4897-8C42-4259061A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772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180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772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180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F41E3-B7EB-456A-932A-5ABB14AD40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C8C00-1D80-40B5-A4D3-B1315C6850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A0EF1-A7B2-43B9-9082-DD982CBC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3AFF3-3B95-4134-BE43-7194885E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294B5-C3D9-4C5A-B381-B0B19DDE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005CD-A793-4B86-B95A-5A1E4D27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4982760"/>
            <a:ext cx="81756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1BD0D-5CBE-4487-A5B8-CD5BE062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6FE2D-AEF3-46B7-A255-08A8B0A0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D387-14A8-4F17-83CD-1DA54BB8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260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DC726-7756-4197-A92F-AAEA26E5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462DE-7FDB-47EC-9AC2-02A43552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27133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E445A-6A8E-4903-8898-439127DC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260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665A5-3391-421D-B3BC-21587876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772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180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772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180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B0382-A259-4920-9E09-C7C5564738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843D-5637-4618-8891-9538238F66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4D37-C1DD-49FE-9AA1-FEB1EEB4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57AA-44F7-4289-9D86-A96B78A4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F849-3A80-47EC-B366-9D732E32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47E0-EBD9-4F70-AD38-2965AC65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292D7-F55B-411B-A9C1-22A52FAE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03280" y="4982760"/>
            <a:ext cx="81756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436A-CCE2-4CF2-ADC3-B4FA95CE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9AF8-2DF8-4942-9740-AEFAE92E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9260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36D6-AF08-4316-8CB3-8E0A25BC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AEA0-F56D-4E8A-99E3-FD39487E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3280" y="27133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B9EB-C6A6-4E7C-9384-9F309042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9260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7969-00B0-47F8-B9E7-02DBCF62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6772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3180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328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6772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3180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983B-5CCB-4BED-B2DE-677A403783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26EC-966F-439F-8306-24BF2FB3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044A0-645C-4795-BF36-3BD70D6A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3280" y="4982760"/>
            <a:ext cx="81756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91EB8-FA88-422B-ABD3-CFD5C4A4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4541A-BC90-4393-82E1-5BA7BDA6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260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3539E-1BD8-47DC-9841-231EEAD1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26F7D-BED3-4C08-A976-EFA32D1B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78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.3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348760" y="6111360"/>
            <a:ext cx="4492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2D2772-367C-4BCD-8F6A-3F6609DEBD4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3776760" y="6111720"/>
            <a:ext cx="2278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27.3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348760" y="6111360"/>
            <a:ext cx="4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5C515B-0B6E-4584-A75A-5F2174457B7A}" type="slidenum"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dt" idx="5"/>
          </p:nvPr>
        </p:nvSpPr>
        <p:spPr>
          <a:xfrm>
            <a:off x="3776760" y="6111720"/>
            <a:ext cx="2278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27.3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63A9E2-A1F4-4658-A9A8-C9DCA717845A}" type="slidenum"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turkmenportal.com/images/uploads/blogs/ecceea25f494e20a852edde46407df21.png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28400" y="5357520"/>
            <a:ext cx="83581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Туркменистане отмечают Новруз - байр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C:\Users\Bercom\Desktop\Новруз байрамы2\6510b-600x450.jpg"/>
          <p:cNvPicPr/>
          <p:nvPr/>
        </p:nvPicPr>
        <p:blipFill>
          <a:blip r:embed="rId1"/>
          <a:stretch/>
        </p:blipFill>
        <p:spPr>
          <a:xfrm>
            <a:off x="428760" y="428760"/>
            <a:ext cx="82864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312120" indent="-3121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мени -  это символ плодородия. По нему определяют, каким будет урожай. Если семени хорошо проросло и высоко вытянулось, значит быть урожаю в этом году. Семени - символ нежности. Это первая нежная зелень в доме, она мягка и беспомощна, требует к себе уважительного обращения. Семени - символ добр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1071720" y="214200"/>
            <a:ext cx="4868640" cy="508644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2"/>
          <p:cNvSpPr/>
          <p:nvPr/>
        </p:nvSpPr>
        <p:spPr>
          <a:xfrm>
            <a:off x="428760" y="5500800"/>
            <a:ext cx="85010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В больших казанах варится главное ритуальное блюдо Новруза – сем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86840" cy="501516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285840" y="5286240"/>
            <a:ext cx="88581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3 году Туркменистан был гостеприимным хозяином Международного дня Новруза. К празднику, на который съехались сотни гостей из разных стра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904000" cy="387684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2"/>
          <p:cNvSpPr/>
          <p:nvPr/>
        </p:nvSpPr>
        <p:spPr>
          <a:xfrm>
            <a:off x="357120" y="5072040"/>
            <a:ext cx="857268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зднование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вруза означа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встречу нового года, первого дня весны. Первый день весны в календаре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годовой оборот Солн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252360" y="333360"/>
            <a:ext cx="86407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0" y="285840"/>
            <a:ext cx="8786880" cy="492912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6"/>
          <p:cNvSpPr/>
          <p:nvPr/>
        </p:nvSpPr>
        <p:spPr>
          <a:xfrm>
            <a:off x="285840" y="5214960"/>
            <a:ext cx="88581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здник Навруз – древний народный праздник, символизирующий приход весны.  Новруз празднуется  в день весеннего равноденствия и проводится  праздничное веселье, отмечающее наступление нового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Дата 3"/>
          <p:cNvSpPr/>
          <p:nvPr/>
        </p:nvSpPr>
        <p:spPr>
          <a:xfrm>
            <a:off x="3776760" y="6111720"/>
            <a:ext cx="2278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27.3.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5429160" cy="442908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4"/>
          <p:cNvSpPr/>
          <p:nvPr/>
        </p:nvSpPr>
        <p:spPr>
          <a:xfrm>
            <a:off x="5857920" y="285840"/>
            <a:ext cx="3286080" cy="40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аздничной программе -концерт  мастеров искусств страны, исполняющих литературно-музыкальные и фольклорно- этнографические компози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0" y="357120"/>
            <a:ext cx="5929200" cy="564372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4"/>
          <p:cNvSpPr/>
          <p:nvPr/>
        </p:nvSpPr>
        <p:spPr>
          <a:xfrm>
            <a:off x="6000840" y="428760"/>
            <a:ext cx="3143160" cy="52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хие туркменские джигиты демонстрируют гостям праздника  свое неподражаемое мастерство, сочетающее цирковое искусство и национальный колори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Дата 3"/>
          <p:cNvSpPr/>
          <p:nvPr/>
        </p:nvSpPr>
        <p:spPr>
          <a:xfrm>
            <a:off x="3776760" y="6111720"/>
            <a:ext cx="2278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27.3.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C:\Users\Bercom\Desktop\Новруз байрамы2\orig-min-1.gif"/>
          <p:cNvPicPr/>
          <p:nvPr/>
        </p:nvPicPr>
        <p:blipFill>
          <a:blip r:embed="rId1"/>
          <a:stretch/>
        </p:blipFill>
        <p:spPr>
          <a:xfrm>
            <a:off x="571680" y="357120"/>
            <a:ext cx="5715000" cy="333396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5"/>
          <p:cNvSpPr/>
          <p:nvPr/>
        </p:nvSpPr>
        <p:spPr>
          <a:xfrm>
            <a:off x="357120" y="3929040"/>
            <a:ext cx="850104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здник Новруз - это праздник пробуждения природы. Приходит пора любви и пора крестьянского труда. Закладывается основа будущего урож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75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упает Новруз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ир прекрасен в великом и мало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ле вешней гроз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еваются горы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уманом,                                      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ждый новый росток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 солнцу – гостем является званы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рываются скал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ынью, плющом и бурьяном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скалах птицам раздолье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Махтумкули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Дата 3"/>
          <p:cNvSpPr/>
          <p:nvPr/>
        </p:nvSpPr>
        <p:spPr>
          <a:xfrm>
            <a:off x="3776760" y="6111720"/>
            <a:ext cx="2278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27.3.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478584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первых дней Независимости наша страна стала отметить  Новруз –байрам как государственный праздни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3" descr="C:\Users\Bercom\Desktop\Новруз байрамы2\i-600x311.jpg"/>
          <p:cNvPicPr/>
          <p:nvPr/>
        </p:nvPicPr>
        <p:blipFill>
          <a:blip r:embed="rId1"/>
          <a:stretch/>
        </p:blipFill>
        <p:spPr>
          <a:xfrm>
            <a:off x="285840" y="285840"/>
            <a:ext cx="88581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шёл Новру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шёл Новруз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сь мир цветёт сегод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 розе соловей поёт сегод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куя, сердце радость пьёт сегод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вь везде, во всём живёт сегод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устыне – счастья сад растёт сегод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Махтумкули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Дата 3"/>
          <p:cNvSpPr/>
          <p:nvPr/>
        </p:nvSpPr>
        <p:spPr>
          <a:xfrm>
            <a:off x="3776760" y="6111720"/>
            <a:ext cx="2278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27.3.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8429760" cy="4541760"/>
          </a:xfrm>
          <a:prstGeom prst="rect">
            <a:avLst/>
          </a:prstGeom>
          <a:ln w="0">
            <a:noFill/>
          </a:ln>
        </p:spPr>
      </p:pic>
      <p:sp>
        <p:nvSpPr>
          <p:cNvPr id="185" name="WordArt 3"/>
          <p:cNvSpPr txBox="1"/>
          <p:nvPr/>
        </p:nvSpPr>
        <p:spPr>
          <a:xfrm>
            <a:off x="357120" y="4857840"/>
            <a:ext cx="37116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Спраздником -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3929040" y="5000760"/>
            <a:ext cx="521496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Новруз-байра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3013200" y="1214280"/>
            <a:ext cx="3887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т от Джумаева Х.Дж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ПППп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Users\Bercom\Desktop\Новруз байрамы2\ecceea25f494e20a852edde46407df21-396343-300x335-2.png"/>
          <p:cNvPicPr/>
          <p:nvPr/>
        </p:nvPicPr>
        <p:blipFill>
          <a:blip r:embed="rId1"/>
          <a:stretch/>
        </p:blipFill>
        <p:spPr>
          <a:xfrm>
            <a:off x="357120" y="0"/>
            <a:ext cx="7858080" cy="54291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>
            <a:hlinkClick r:id="rId2"/>
          </p:cNvPr>
          <p:cNvSpPr/>
          <p:nvPr/>
        </p:nvSpPr>
        <p:spPr>
          <a:xfrm>
            <a:off x="0" y="457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5505120"/>
            <a:ext cx="9144000" cy="11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годня, 21 марта, весь туркменский народ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ружно отмечает один из самых важных праздников год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овруз байрам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аздник весны, теплого солн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500040"/>
            <a:ext cx="822168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вруз считается самым древним праздником, историки считают, что ему около трех тысяч лет. В пяти государствах Центральной Азии – Туркменистане, Казахстане, Кыргызстане, Узбекистане, Таджикистане, а также в Азербайджане, Новруз объявлен государственным праздником. Это придало мощный импульс популяризации Новруза во всем ми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571320"/>
            <a:ext cx="8221680" cy="42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3 февраля 2010 года, по инициативе Азербайджана, Албании, Афганистана, бывшей югославской Республики Македония, Индии, Ирана, Казахстана, Кыргызстана, Таджикистана, Туркменистана и Турции, Генеральная Ассамблея ООН признала 21 марта как Международный день Новруз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835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ОВРУЗ  БАЙРАМ-  ПРАЗДНИК   ВЕСН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627280" y="1857240"/>
            <a:ext cx="4103640" cy="18576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3"/>
          <p:cNvSpPr/>
          <p:nvPr/>
        </p:nvSpPr>
        <p:spPr>
          <a:xfrm>
            <a:off x="500040" y="3643200"/>
            <a:ext cx="842976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а страна традиционно отмечает древний праздник Новруз байрам особыми торжествами, которые  разворачиваются в предгорной долине Ахала, где создана долина Новруз, возведено здание «Türkmeniň ak öýi»,  как символ исконных традиций дружелюбия и гостеприимства туркмен, а также воздвигнут монумент «Дружба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C:\Users\Bercom\Desktop\Новруз байрамы2\s1200-6-600x309.jpg"/>
          <p:cNvPicPr/>
          <p:nvPr/>
        </p:nvPicPr>
        <p:blipFill>
          <a:blip r:embed="rId1"/>
          <a:stretch/>
        </p:blipFill>
        <p:spPr>
          <a:xfrm>
            <a:off x="357120" y="428760"/>
            <a:ext cx="8358120" cy="447192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428760" y="5000760"/>
            <a:ext cx="871524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мару Хайяму удаётся установить, что весеннее равноденствие приходится на дату празднования Новру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3"/>
          <p:cNvSpPr/>
          <p:nvPr/>
        </p:nvSpPr>
        <p:spPr>
          <a:xfrm>
            <a:off x="357120" y="357120"/>
            <a:ext cx="857268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авние времена верили, что в дни Новруза добрые ангелы (фаришта), спускаются с небес, приносят людям изобилие и благоденствие, но не посещают неопрятные дома или дома, в которых люди не живут в мире и согласии друг с другом. Поэтому, до наступления праздника было принято проводить уборку в домах и на улице, прощать обиды и возвращать долги. Эти обычаи сохранились и по сегодняшний д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3645000"/>
            <a:ext cx="81835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Главным блюдом является «семени», приготовленное из ростков пшеницы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482920" y="620640"/>
            <a:ext cx="4248000" cy="2927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rcom</cp:lastModifiedBy>
  <dcterms:modified xsi:type="dcterms:W3CDTF">2014-01-01T00:20:59Z</dcterms:modified>
  <cp:revision>29</cp:revision>
  <dc:subject/>
  <dc:title>НОВРУЗ  БАЙРАМ-  ПРАЗДНИК   ВЕСНЫ</dc:title>
</cp:coreProperties>
</file>