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8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7475F-ED8E-448F-8AA4-8E60BB7697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5E0BE-5B7F-4082-9C29-14527211AD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9A8B1-E376-4173-8783-707182D5A3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B1B7B-A268-447E-B18F-D03CB39C97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C729A-855A-4306-95B9-7430A754DA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CAFAE-EA8D-4E31-9595-002AB7D3ED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05718-2B77-4506-B208-C4222F629E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A7CA-9C90-4520-99E3-064606AC15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2228-2AFE-4B70-95CD-01FE8659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D5AF4-8DAD-4793-BD52-55D1DBCD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772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80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772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80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82F3-6E17-4BAA-9C0E-378D1DC082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DDCE3-049E-465F-B14F-C0EFD53480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89FA1-6D85-4895-B9D2-6FB3E893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F7CBD-7C15-43FE-9312-23A0B6B8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1935F-0189-4826-A8E6-ABAAB1D5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5121C-5A7C-4123-AE6A-60158C67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2760"/>
            <a:ext cx="81756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33B68-2EDA-438E-A8EA-48A6DA39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0AB33-F2BD-433F-8A17-C265961F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3E0F1-6417-470C-85E8-0D22AA2C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C75EC-72D2-43BA-9E46-9E5B85C8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7D642-DA55-4F05-8E68-2B9415E9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50342-546C-44B2-8663-01CCB8DA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6EF3A-5A3D-4807-A362-A4A110AA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772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180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772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180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63F8C-DF81-41A5-8B5B-1E78924DB1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8018-23C8-4618-B686-8311D5B50F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2B69-7F4D-45DD-A2C1-535747EF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77C1-32EF-4B47-978A-EBF1A92F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DE4E-40CE-4345-B630-0E3881A8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1711-7D22-4C43-8CFB-3632DA8D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EF663-C09E-47C7-AEE3-804B2905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03280" y="4982760"/>
            <a:ext cx="81756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020C-3A93-4A96-9AF3-AB8BD9DF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4906-031C-4D7A-8DAF-BCB96121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0667-5F1A-435E-9871-6CFB14FA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110F-9579-4A67-A07F-FA087EAC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A873-6C17-4CA5-9F70-2EB66953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E4C6-BF77-41C8-92FF-2F2E32B8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6772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3180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328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6772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3180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B979-9D36-4824-86A7-B76860F9AF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AA88-83FB-4FFB-B808-08040A78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2783-3570-4433-A0C1-822F0A02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4982760"/>
            <a:ext cx="81756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5CF2-E74D-428A-AC25-D0D6D79A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ED8D-42AB-4A13-9A7D-0F098D92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C2583-3076-4CE5-BF7B-CEF94FA6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98003-B394-4AE0-BCB0-52C57C96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78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.3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348760" y="6111360"/>
            <a:ext cx="4492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976F40-96D5-4F8B-9A15-D58F0F38310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61B7F6-C988-408C-B07C-36B3C8BBF57C}" type="slidenum"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dt" idx="5"/>
          </p:nvPr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15A19B-9DF5-4F9D-857F-F8F5BB86159D}" type="slidenum"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turkmenportal.com/images/uploads/blogs/ecceea25f494e20a852edde46407df21.png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28400" y="5357520"/>
            <a:ext cx="83581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Туркменистане отмечают Новруз - байр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C:\Users\Bercom\Desktop\Новруз байрамы2\6510b-600x450.jpg"/>
          <p:cNvPicPr/>
          <p:nvPr/>
        </p:nvPicPr>
        <p:blipFill>
          <a:blip r:embed="rId1"/>
          <a:stretch/>
        </p:blipFill>
        <p:spPr>
          <a:xfrm>
            <a:off x="428760" y="428760"/>
            <a:ext cx="82864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312120" indent="-3121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мени -  это символ плодородия. По нему определяют, каким будет урожай. Если семени хорошо проросло и высоко вытянулось, значит быть урожаю в этом году. Семени - символ нежности. Это первая нежная зелень в доме, она мягка и беспомощна, требует к себе уважительного обращения. Семени - символ добр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071720" y="214200"/>
            <a:ext cx="4868640" cy="50864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2"/>
          <p:cNvSpPr/>
          <p:nvPr/>
        </p:nvSpPr>
        <p:spPr>
          <a:xfrm>
            <a:off x="428760" y="5500800"/>
            <a:ext cx="85010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 больших казанах варится главное ритуальное блюдо Новруза – с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86840" cy="501516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285840" y="5286240"/>
            <a:ext cx="88581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3 году Туркменистан был гостеприимным хозяином Международного дня Новруза. К празднику, на который съехались сотни гостей из разных стра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904000" cy="38768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2"/>
          <p:cNvSpPr/>
          <p:nvPr/>
        </p:nvSpPr>
        <p:spPr>
          <a:xfrm>
            <a:off x="357120" y="5072040"/>
            <a:ext cx="85726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зднование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руза означа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встречу нового года, первого дня весны. Первый день весны в календаре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годовой оборот Солн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252360" y="333360"/>
            <a:ext cx="864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0" y="285840"/>
            <a:ext cx="8786880" cy="492912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6"/>
          <p:cNvSpPr/>
          <p:nvPr/>
        </p:nvSpPr>
        <p:spPr>
          <a:xfrm>
            <a:off x="285840" y="5214960"/>
            <a:ext cx="88581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здник Навруз – древний народный праздник, символизирующий приход весны.  Новруз празднуется  в день весеннего равноденствия и проводится  праздничное веселье, отмечающее наступление нового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Дата 3"/>
          <p:cNvSpPr/>
          <p:nvPr/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5429160" cy="44290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4"/>
          <p:cNvSpPr/>
          <p:nvPr/>
        </p:nvSpPr>
        <p:spPr>
          <a:xfrm>
            <a:off x="5857920" y="285840"/>
            <a:ext cx="328608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аздничной программе -концерт  мастеров искусств страны, исполняющих литературно-музыкальные и фольклорно- этнографические компози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357120"/>
            <a:ext cx="5929200" cy="564372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6000840" y="428760"/>
            <a:ext cx="3143160" cy="52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хие туркменские джигиты демонстрируют гостям праздника  свое неподражаемое мастерство, сочетающее цирковое искусство и национальный колори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Дата 3"/>
          <p:cNvSpPr/>
          <p:nvPr/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C:\Users\Bercom\Desktop\Новруз байрамы2\orig-min-1.gif"/>
          <p:cNvPicPr/>
          <p:nvPr/>
        </p:nvPicPr>
        <p:blipFill>
          <a:blip r:embed="rId1"/>
          <a:stretch/>
        </p:blipFill>
        <p:spPr>
          <a:xfrm>
            <a:off x="571680" y="357120"/>
            <a:ext cx="5715000" cy="333396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5"/>
          <p:cNvSpPr/>
          <p:nvPr/>
        </p:nvSpPr>
        <p:spPr>
          <a:xfrm>
            <a:off x="357120" y="3929040"/>
            <a:ext cx="850104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здник Новруз - это праздник пробуждения природы. Приходит пора любви и пора крестьянского труда. Закладывается основа будущего урож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75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упает Новруз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ир прекрасен в великом и мал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ле вешней гроз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еваются горы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уманом,                                   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ждый новый росто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 солнцу – гостем является званы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рываются скал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ынью, плющом и бурьяном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скалах птицам раздолье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Махтумкули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Дата 3"/>
          <p:cNvSpPr/>
          <p:nvPr/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478584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первых дней Независимости наша страна стала отметить  Новруз –байрам как государственный праздн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3" descr="C:\Users\Bercom\Desktop\Новруз байрамы2\i-600x311.jpg"/>
          <p:cNvPicPr/>
          <p:nvPr/>
        </p:nvPicPr>
        <p:blipFill>
          <a:blip r:embed="rId1"/>
          <a:stretch/>
        </p:blipFill>
        <p:spPr>
          <a:xfrm>
            <a:off x="285840" y="285840"/>
            <a:ext cx="88581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шёл Новру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шёл Новруз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сь мир цветёт сегод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 розе соловей поёт сегод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куя, сердце радость пьёт сегод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вь везде, во всём живёт сегод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устыне – счастья сад растёт сегод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Махтумкули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Дата 3"/>
          <p:cNvSpPr/>
          <p:nvPr/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8429760" cy="4541760"/>
          </a:xfrm>
          <a:prstGeom prst="rect">
            <a:avLst/>
          </a:prstGeom>
          <a:ln w="0">
            <a:noFill/>
          </a:ln>
        </p:spPr>
      </p:pic>
      <p:sp>
        <p:nvSpPr>
          <p:cNvPr id="185" name="WordArt 3"/>
          <p:cNvSpPr txBox="1"/>
          <p:nvPr/>
        </p:nvSpPr>
        <p:spPr>
          <a:xfrm>
            <a:off x="357120" y="4857840"/>
            <a:ext cx="37116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Спраздником -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3929040" y="5000760"/>
            <a:ext cx="521496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овруз-байра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3013200" y="1214280"/>
            <a:ext cx="3887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т от Джумаева Х.Дж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ПППп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Bercom\Desktop\Новруз байрамы2\ecceea25f494e20a852edde46407df21-396343-300x335-2.png"/>
          <p:cNvPicPr/>
          <p:nvPr/>
        </p:nvPicPr>
        <p:blipFill>
          <a:blip r:embed="rId1"/>
          <a:stretch/>
        </p:blipFill>
        <p:spPr>
          <a:xfrm>
            <a:off x="357120" y="0"/>
            <a:ext cx="7858080" cy="5429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>
            <a:hlinkClick r:id="rId2"/>
          </p:cNvPr>
          <p:cNvSpPr/>
          <p:nvPr/>
        </p:nvSpPr>
        <p:spPr>
          <a:xfrm>
            <a:off x="0" y="457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5505120"/>
            <a:ext cx="9144000" cy="11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годня, 21 марта, весь туркменский народ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ружно отмечает один из самых важных праздников год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овруз байрам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аздник весны, теплого сол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500040"/>
            <a:ext cx="82216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вруз считается самым древним праздником, историки считают, что ему около трех тысяч лет. В пяти государствах Центральной Азии – Туркменистане, Казахстане, Кыргызстане, Узбекистане, Таджикистане, а также в Азербайджане, Новруз объявлен государственным праздником. Это придало мощный импульс популяризации Новруза во всем ми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571320"/>
            <a:ext cx="8221680" cy="42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3 февраля 2010 года, по инициативе Азербайджана, Албании, Афганистана, бывшей югославской Республики Македония, Индии, Ирана, Казахстана, Кыргызстана, Таджикистана, Туркменистана и Турции, Генеральная Ассамблея ООН признала 21 марта как Международный день Новруз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835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ОВРУЗ  БАЙРАМ-  ПРАЗДНИК   ВЕСН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627280" y="1857240"/>
            <a:ext cx="4103640" cy="18576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500040" y="3643200"/>
            <a:ext cx="842976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а страна традиционно отмечает древний праздник Новруз байрам особыми торжествами, которые  разворачиваются в предгорной долине Ахала, где создана долина Новруз, возведено здание «Türkmeniň ak öýi»,  как символ исконных традиций дружелюбия и гостеприимства туркмен, а также воздвигнут монумент «Дружба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C:\Users\Bercom\Desktop\Новруз байрамы2\s1200-6-600x309.jpg"/>
          <p:cNvPicPr/>
          <p:nvPr/>
        </p:nvPicPr>
        <p:blipFill>
          <a:blip r:embed="rId1"/>
          <a:stretch/>
        </p:blipFill>
        <p:spPr>
          <a:xfrm>
            <a:off x="357120" y="428760"/>
            <a:ext cx="8358120" cy="447192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428760" y="5000760"/>
            <a:ext cx="87152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мару Хайяму удаётся установить, что весеннее равноденствие приходится на дату празднования Новру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3"/>
          <p:cNvSpPr/>
          <p:nvPr/>
        </p:nvSpPr>
        <p:spPr>
          <a:xfrm>
            <a:off x="357120" y="357120"/>
            <a:ext cx="857268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авние времена верили, что в дни Новруза добрые ангелы (фаришта), спускаются с небес, приносят людям изобилие и благоденствие, но не посещают неопрятные дома или дома, в которых люди не живут в мире и согласии друг с другом. Поэтому, до наступления праздника было принято проводить уборку в домах и на улице, прощать обиды и возвращать долги. Эти обычаи сохранились и по сегодняшний д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3645000"/>
            <a:ext cx="81835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Главным блюдом является «семени», приготовленное из ростков пшеницы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482920" y="620640"/>
            <a:ext cx="4248000" cy="2927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rcom</cp:lastModifiedBy>
  <dcterms:modified xsi:type="dcterms:W3CDTF">2014-01-01T00:20:59Z</dcterms:modified>
  <cp:revision>29</cp:revision>
  <dc:subject/>
  <dc:title>НОВРУЗ  БАЙРАМ-  ПРАЗДНИК   ВЕСНЫ</dc:title>
</cp:coreProperties>
</file>