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8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5A5F2-7775-4302-B23D-AC61A0BF79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798A7-E410-4D9B-A5AC-9BF31C15D6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F7979-A34F-4C24-97EC-4EA57863CB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AEB47-24D7-4000-8066-CC49297797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3A87D-5E8C-4EA1-9C31-333076DC16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A9984-E0CE-4F6B-B538-A604F8AA51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0A57C-0867-4713-B4FE-1E6F25D60D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37C3-5E94-48C6-BEC1-B6D64CE64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9A7A-8597-4392-A115-55ACC33B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B0EC-C839-44CC-957C-E813BC7E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772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80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772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80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F6B9-A445-464E-A2BB-498077A7F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C74B6-03A4-445E-AF48-DF86DBCA76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4A23B-DBC7-4899-B041-E1318CA2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7EAA9-2893-4EFE-9D3D-ECCE5944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B3EA6-90BE-4CA2-AFF9-113FDEA3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AC294-8FD9-49B6-847E-10450186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2760"/>
            <a:ext cx="81756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4FBF7-AA94-4876-B880-5FF1E11D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2EB20-B9AD-4A94-90D8-D1084B25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6866-39A4-475A-B9FD-65A58C79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31DC3-A883-4CD9-82BA-77B9B76C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40007-4F10-4E71-A14F-6539567B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CFB0F-B643-4491-B047-4ED2816D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AE164-825F-47F8-B952-974CD867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772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180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772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180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8C81E-CA77-451B-B5D9-842A851AF7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BEF1-31F7-4631-860A-537A7AEC0F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E9E1-6582-43B1-9A74-CBEC7C74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1A8-A034-441B-A24F-5E956E17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C40E-ECD6-4352-B481-9D7DBCEB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AB63-8EAB-44F5-A536-74F4040C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7306-5391-46C8-BF1D-936930F7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03280" y="4982760"/>
            <a:ext cx="81756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9BCD-8272-4A6E-B31F-BBC731F8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3D96-AC15-4C0F-82E4-CD2B9B9A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183A-0C56-4983-937C-C760D8D7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7DA2-B3C7-422F-AF60-8F2BC7A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C53E-1777-4BF7-B3D4-18A8712B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4465-0C5D-4455-8DF0-85815B83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772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1800" y="5299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328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772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1800" y="2713320"/>
            <a:ext cx="26323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0EDD-B317-4154-BF83-2C4DD3A83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93334-AE57-452D-B1B4-F3BC6185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3894-2A2B-43BA-8775-0D616CED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4982760"/>
            <a:ext cx="81756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9898-9C1F-4184-8443-ABCC3F9F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2997-18B8-413B-B7A6-7F18DCFF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2600" y="27133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2AA4-EF6E-4446-A273-0575AAA1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2600" y="529920"/>
            <a:ext cx="39895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2713320"/>
            <a:ext cx="8175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2A1AA-3E52-4201-AC21-910DFE13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348760" y="6111360"/>
            <a:ext cx="4492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E92BD2-C258-41C2-970A-6F0F33BCCC1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062264-DC45-4982-83C2-6190E292AB82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5"/>
          </p:nvPr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501159-82C5-41E8-9146-3753D7EEB595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turkmenportal.com/images/uploads/blogs/ecceea25f494e20a852edde46407df21.png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28400" y="535752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Туркменистане отмечают Новруз - байр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C:\Users\Bercom\Desktop\Новруз байрамы2\6510b-600x450.jpg"/>
          <p:cNvPicPr/>
          <p:nvPr/>
        </p:nvPicPr>
        <p:blipFill>
          <a:blip r:embed="rId1"/>
          <a:stretch/>
        </p:blipFill>
        <p:spPr>
          <a:xfrm>
            <a:off x="428760" y="428760"/>
            <a:ext cx="8286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12120" indent="-3121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мени -  это символ плодородия. По нему определяют, каким будет урожай. Если семени хорошо проросло и высоко вытянулось, значит быть урожаю в этом году. Семени - символ нежности. Это первая нежная зелень в доме, она мягка и беспомощна, требует к себе уважительного обращения. Семени - символ добр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071720" y="214200"/>
            <a:ext cx="4868640" cy="50864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428760" y="5500800"/>
            <a:ext cx="85010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 больших казанах варится главное ритуальное блюдо Новруза – с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86840" cy="50151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285840" y="5286240"/>
            <a:ext cx="88581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3 году Туркменистан был гостеприимным хозяином Международного дня Новруза. К празднику, на который съехались сотни гостей из разных стра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904000" cy="38768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2"/>
          <p:cNvSpPr/>
          <p:nvPr/>
        </p:nvSpPr>
        <p:spPr>
          <a:xfrm>
            <a:off x="357120" y="5072040"/>
            <a:ext cx="85726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ование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руза означ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стречу нового года, первого дня весны. Первый день весны в календаре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годовой оборот Солн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252360" y="333360"/>
            <a:ext cx="864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0" y="285840"/>
            <a:ext cx="8786880" cy="49291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6"/>
          <p:cNvSpPr/>
          <p:nvPr/>
        </p:nvSpPr>
        <p:spPr>
          <a:xfrm>
            <a:off x="285840" y="5214960"/>
            <a:ext cx="88581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ик Навруз – древний народный праздник, символизирующий приход весны.  Новруз празднуется  в день весеннего равноденствия и проводится  праздничное веселье, отмечающее наступление нового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5429160" cy="44290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"/>
          <p:cNvSpPr/>
          <p:nvPr/>
        </p:nvSpPr>
        <p:spPr>
          <a:xfrm>
            <a:off x="5857920" y="285840"/>
            <a:ext cx="328608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аздничной программе -концерт  мастеров искусств страны, исполняющих литературно-музыкальные и фольклорно- этнографические композ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357120"/>
            <a:ext cx="59292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6000840" y="428760"/>
            <a:ext cx="3143160" cy="52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хие туркменские джигиты демонстрируют гостям праздника  свое неподражаемое мастерство, сочетающее цирковое искусство и национальный колори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C:\Users\Bercom\Desktop\Новруз байрамы2\orig-min-1.gif"/>
          <p:cNvPicPr/>
          <p:nvPr/>
        </p:nvPicPr>
        <p:blipFill>
          <a:blip r:embed="rId1"/>
          <a:stretch/>
        </p:blipFill>
        <p:spPr>
          <a:xfrm>
            <a:off x="571680" y="357120"/>
            <a:ext cx="5715000" cy="333396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5"/>
          <p:cNvSpPr/>
          <p:nvPr/>
        </p:nvSpPr>
        <p:spPr>
          <a:xfrm>
            <a:off x="357120" y="3929040"/>
            <a:ext cx="85010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ик Новруз - это праздник пробуждения природы. Приходит пора любви и пора крестьянского труда. Закладывается основа будущего урож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75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упает Новруз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ир прекрасен в великом и ма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ле вешней гроз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еваются горы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уманом,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ждый новый росто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 солнцу – гостем является званы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рываются скал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ынью, плющом и бурьяном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скалах птицам раздолье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Махтумкули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478584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первых дней Независимости наша страна стала отметить  Новруз –байрам как государственный празд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3" descr="C:\Users\Bercom\Desktop\Новруз байрамы2\i-600x311.jpg"/>
          <p:cNvPicPr/>
          <p:nvPr/>
        </p:nvPicPr>
        <p:blipFill>
          <a:blip r:embed="rId1"/>
          <a:stretch/>
        </p:blipFill>
        <p:spPr>
          <a:xfrm>
            <a:off x="285840" y="285840"/>
            <a:ext cx="88581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шёл Новру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шёл Новруз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сь мир цвет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 розе соловей по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куя, сердце радость пь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вь везде, во всём жив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устыне – счастья сад растёт сегод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Махтумкули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Дата 3"/>
          <p:cNvSpPr/>
          <p:nvPr/>
        </p:nvSpPr>
        <p:spPr>
          <a:xfrm>
            <a:off x="3776760" y="6111720"/>
            <a:ext cx="2278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7.3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429760" cy="4541760"/>
          </a:xfrm>
          <a:prstGeom prst="rect">
            <a:avLst/>
          </a:prstGeom>
          <a:ln w="0">
            <a:noFill/>
          </a:ln>
        </p:spPr>
      </p:pic>
      <p:sp>
        <p:nvSpPr>
          <p:cNvPr id="185" name="WordArt 3"/>
          <p:cNvSpPr txBox="1"/>
          <p:nvPr/>
        </p:nvSpPr>
        <p:spPr>
          <a:xfrm>
            <a:off x="357120" y="4857840"/>
            <a:ext cx="37116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Спраздником -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3929040" y="5000760"/>
            <a:ext cx="521496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овруз-байра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3013200" y="1214280"/>
            <a:ext cx="388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т от Джумаева Х.Дж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ППП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Bercom\Desktop\Новруз байрамы2\ecceea25f494e20a852edde46407df21-396343-300x335-2.png"/>
          <p:cNvPicPr/>
          <p:nvPr/>
        </p:nvPicPr>
        <p:blipFill>
          <a:blip r:embed="rId1"/>
          <a:stretch/>
        </p:blipFill>
        <p:spPr>
          <a:xfrm>
            <a:off x="357120" y="0"/>
            <a:ext cx="7858080" cy="5429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>
            <a:hlinkClick r:id="rId2"/>
          </p:cNvPr>
          <p:cNvSpPr/>
          <p:nvPr/>
        </p:nvSpPr>
        <p:spPr>
          <a:xfrm>
            <a:off x="0" y="457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5505120"/>
            <a:ext cx="9144000" cy="11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годня, 21 марта, весь туркменский народ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ужно отмечает один из самых важных праздников го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овруз байрам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аздник весны, теплого сол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500040"/>
            <a:ext cx="82216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вруз считается самым древним праздником, историки считают, что ему около трех тысяч лет. В пяти государствах Центральной Азии – Туркменистане, Казахстане, Кыргызстане, Узбекистане, Таджикистане, а также в Азербайджане, Новруз объявлен государственным праздником. Это придало мощный импульс популяризации Новруза во всем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571320"/>
            <a:ext cx="822168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3 февраля 2010 года, по инициативе Азербайджана, Албании, Афганистана, бывшей югославской Республики Македония, Индии, Ирана, Казахстана, Кыргызстана, Таджикистана, Туркменистана и Турции, Генеральная Ассамблея ООН признала 21 марта как Международный день Новру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835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ОВРУЗ  БАЙРАМ-  ПРАЗДНИК   ВЕСН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627280" y="1857240"/>
            <a:ext cx="4103640" cy="18576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500040" y="3643200"/>
            <a:ext cx="842976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а страна традиционно отмечает древний праздник Новруз байрам особыми торжествами, которые  разворачиваются в предгорной долине Ахала, где создана долина Новруз, возведено здание «Türkmeniň ak öýi»,  как символ исконных традиций дружелюбия и гостеприимства туркмен, а также воздвигнут монумент «Дружба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:\Users\Bercom\Desktop\Новруз байрамы2\s1200-6-600x309.jpg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447192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428760" y="5000760"/>
            <a:ext cx="87152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ару Хайяму удаётся установить, что весеннее равноденствие приходится на дату празднования Новру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3"/>
          <p:cNvSpPr/>
          <p:nvPr/>
        </p:nvSpPr>
        <p:spPr>
          <a:xfrm>
            <a:off x="357120" y="357120"/>
            <a:ext cx="857268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вние времена верили, что в дни Новруза добрые ангелы (фаришта), спускаются с небес, приносят людям изобилие и благоденствие, но не посещают неопрятные дома или дома, в которых люди не живут в мире и согласии друг с другом. Поэтому, до наступления праздника было принято проводить уборку в домах и на улице, прощать обиды и возвращать долги. Эти обычаи сохранились и по сегодняшний д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3645000"/>
            <a:ext cx="81835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Главным блюдом является «семени», приготовленное из ростков пшеницы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482920" y="620640"/>
            <a:ext cx="4248000" cy="292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com</cp:lastModifiedBy>
  <dcterms:modified xsi:type="dcterms:W3CDTF">2014-01-01T00:20:59Z</dcterms:modified>
  <cp:revision>29</cp:revision>
  <dc:subject/>
  <dc:title>НОВРУЗ  БАЙРАМ-  ПРАЗДНИК   ВЕСНЫ</dc:title>
</cp:coreProperties>
</file>