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43C3-F218-4FEE-A96E-1A1CD55B69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448C-D377-40DA-855B-C3EAE07859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E49E-5C1A-4564-8575-7B4A442BD2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E791-4D8F-449A-81A7-5EFDB3849C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5AFB-835B-42F5-9217-32E36768BA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C3BE-5248-4480-A073-4663B49526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A775-B706-41EF-998F-8AF37375FE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6BEC-620D-46E7-BB10-49AD89CD0E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F07D-6950-44F2-9DEB-17015B5622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CD2A-B5A0-4FB2-96B5-6BCA31399B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D6C7-6CEF-4AD9-940D-522A6B8ACA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CF6F-2624-4827-8868-7B1C655F48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B74B-D50E-4412-B2C9-52A4FFCFFB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9E4F-4C87-411C-9BEC-AD11719267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4EC-6AD5-4461-A40E-988D13A5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423-B458-481A-A677-97F1C93C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B34-68D3-4411-9B61-AD09B09D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480-4959-4692-8E16-2FD9CB76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D2C-8ECE-4F8F-A8BB-31979B4A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450-6B43-4385-82D5-EA0D932E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491-A89C-4564-BFC8-7E9CEBAA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F8F-F18B-4A7D-9C04-549F398F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B43-9ADE-45F3-9C36-EC03E186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2E8-F404-432D-8912-7D1F4039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6A4-B912-49E1-8703-518C019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6B2-C072-4456-A795-CA398283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C157-20E7-45EC-B27A-AFBFA8A84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тогене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ндивидуальное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бриональный пери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момента зачатия до момента р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гота делится образуются клетки бластомеры, накапливается клеточный материал для дальнейше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стула –однослойный зароды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4" descr="img1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179280" y="765000"/>
            <a:ext cx="85456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Картинки по запросу развитие зародыша гаструла"/>
          <p:cNvPicPr/>
          <p:nvPr/>
        </p:nvPicPr>
        <p:blipFill>
          <a:blip r:embed="rId2"/>
          <a:stretch/>
        </p:blipFill>
        <p:spPr>
          <a:xfrm>
            <a:off x="324000" y="2349360"/>
            <a:ext cx="85723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струла (2х слойный зародыш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4" descr="img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slide-32.jpg"/>
          <p:cNvPicPr/>
          <p:nvPr/>
        </p:nvPicPr>
        <p:blipFill>
          <a:blip r:embed="rId1"/>
          <a:stretch/>
        </p:blipFill>
        <p:spPr>
          <a:xfrm>
            <a:off x="1500120" y="928800"/>
            <a:ext cx="7093080" cy="53132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фференц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https://tnp-production.s3.amazonaws.com/uploads/image_block/000/003/827/image/base_c0c5de0f7b.jpg"/>
          <p:cNvPicPr/>
          <p:nvPr/>
        </p:nvPicPr>
        <p:blipFill>
          <a:blip r:embed="rId1"/>
          <a:stretch/>
        </p:blipFill>
        <p:spPr>
          <a:xfrm>
            <a:off x="539640" y="1268280"/>
            <a:ext cx="773748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8" descr="011.jpg"/>
          <p:cNvPicPr/>
          <p:nvPr/>
        </p:nvPicPr>
        <p:blipFill>
          <a:blip r:embed="rId1"/>
          <a:stretch/>
        </p:blipFill>
        <p:spPr>
          <a:xfrm>
            <a:off x="428760" y="428760"/>
            <a:ext cx="8175600" cy="6130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155520" y="-246852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155520" y="-2468520"/>
            <a:ext cx="685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огенез (нейрул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яются нервная трубка, хорда, кишечная трубка, осевые орг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http://900igr.net/datas/biologija/Razvitie-zhivotnykh/0007-007-Nejrula.jpg"/>
          <p:cNvPicPr/>
          <p:nvPr/>
        </p:nvPicPr>
        <p:blipFill>
          <a:blip r:embed="rId1"/>
          <a:stretch/>
        </p:blipFill>
        <p:spPr>
          <a:xfrm>
            <a:off x="2411280" y="2924280"/>
            <a:ext cx="4392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Картинки по запросу развитие зародыша"/>
          <p:cNvPicPr/>
          <p:nvPr/>
        </p:nvPicPr>
        <p:blipFill>
          <a:blip r:embed="rId2"/>
          <a:stretch/>
        </p:blipFill>
        <p:spPr>
          <a:xfrm>
            <a:off x="684360" y="1844640"/>
            <a:ext cx="8237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ирование половых кл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лежит мейоз (гаметогене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яют оогенез  (яицеклет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рматогенез (сперматозои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http://dentalia03.ru/pics/otvar-matroni-tsena-3252_31.png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Картинки по запросу развитие зародыша нейрула"/>
          <p:cNvPicPr/>
          <p:nvPr/>
        </p:nvPicPr>
        <p:blipFill>
          <a:blip r:embed="rId2"/>
          <a:stretch/>
        </p:blipFill>
        <p:spPr>
          <a:xfrm>
            <a:off x="1332000" y="260280"/>
            <a:ext cx="6487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тэмбриональн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момента рождения или выхода из яйцевых оболочек, до смер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вает прямое (молодой организм сходен со взрослы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рямое , с метаморфозом.  Личинка не похожа на взросл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3" descr="slide_1.jpg"/>
          <p:cNvPicPr/>
          <p:nvPr/>
        </p:nvPicPr>
        <p:blipFill>
          <a:blip r:embed="rId1"/>
          <a:stretch/>
        </p:blipFill>
        <p:spPr>
          <a:xfrm>
            <a:off x="1214280" y="642960"/>
            <a:ext cx="7120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img28.jpg"/>
          <p:cNvPicPr/>
          <p:nvPr/>
        </p:nvPicPr>
        <p:blipFill>
          <a:blip r:embed="rId1"/>
          <a:stretch/>
        </p:blipFill>
        <p:spPr>
          <a:xfrm>
            <a:off x="1143000" y="857160"/>
            <a:ext cx="71769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ы метаморфоза происходят в несколько последовательных этапов. На каждом из этих этапов (фаз) животное имеет определенные характерные особенности строения и функц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ения могут быть полными и неполными (полный и неполный метаморфоз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прям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http://biofile.ru/pic/f-deca-13-450.png"/>
          <p:cNvPicPr/>
          <p:nvPr/>
        </p:nvPicPr>
        <p:blipFill>
          <a:blip r:embed="rId1"/>
          <a:stretch/>
        </p:blipFill>
        <p:spPr>
          <a:xfrm>
            <a:off x="826920" y="1628640"/>
            <a:ext cx="72741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4" descr="016.jpg"/>
          <p:cNvPicPr/>
          <p:nvPr/>
        </p:nvPicPr>
        <p:blipFill>
          <a:blip r:embed="rId1"/>
          <a:stretch/>
        </p:blipFill>
        <p:spPr>
          <a:xfrm>
            <a:off x="285840" y="369720"/>
            <a:ext cx="865188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постэмбрионального пери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епродуктивный (рост, развитие, половое созрева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продуктивный (активное функционирование, размнож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репродуктивный (ста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http://distant-lessons.ru/wp-content/uploads/2012/11/postembrionalnyj-period.jpg"/>
          <p:cNvPicPr/>
          <p:nvPr/>
        </p:nvPicPr>
        <p:blipFill>
          <a:blip r:embed="rId1"/>
          <a:stretch/>
        </p:blipFill>
        <p:spPr>
          <a:xfrm>
            <a:off x="2050920" y="4305240"/>
            <a:ext cx="5510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3" descr="015.jpg"/>
          <p:cNvPicPr/>
          <p:nvPr/>
        </p:nvPicPr>
        <p:blipFill>
          <a:blip r:embed="rId1"/>
          <a:stretch/>
        </p:blipFill>
        <p:spPr>
          <a:xfrm>
            <a:off x="571680" y="214200"/>
            <a:ext cx="7866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013.jpg"/>
          <p:cNvPicPr/>
          <p:nvPr/>
        </p:nvPicPr>
        <p:blipFill>
          <a:blip r:embed="rId1"/>
          <a:stretch/>
        </p:blipFill>
        <p:spPr>
          <a:xfrm>
            <a:off x="500040" y="214200"/>
            <a:ext cx="83422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артинки по запросу развитие половых клеток"/>
          <p:cNvPicPr/>
          <p:nvPr/>
        </p:nvPicPr>
        <p:blipFill>
          <a:blip r:embed="rId2"/>
          <a:stretch/>
        </p:blipFill>
        <p:spPr>
          <a:xfrm>
            <a:off x="826920" y="260280"/>
            <a:ext cx="6859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http://yakiev.com/images/news/block/6131b.jpg"/>
          <p:cNvPicPr/>
          <p:nvPr/>
        </p:nvPicPr>
        <p:blipFill>
          <a:blip r:embed="rId1"/>
          <a:stretch/>
        </p:blipFill>
        <p:spPr>
          <a:xfrm>
            <a:off x="179280" y="333360"/>
            <a:ext cx="8953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йцекле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содержать много и мало жел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о (ланцетник) и вторично мало у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(птицы, рептил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http://animalkingdom.su/books/item/f00/s00/z0000035/pic/000017.jpg"/>
          <p:cNvPicPr/>
          <p:nvPr/>
        </p:nvPicPr>
        <p:blipFill>
          <a:blip r:embed="rId1"/>
          <a:stretch/>
        </p:blipFill>
        <p:spPr>
          <a:xfrm>
            <a:off x="5796000" y="3284640"/>
            <a:ext cx="280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Похожее изображение"/>
          <p:cNvPicPr/>
          <p:nvPr/>
        </p:nvPicPr>
        <p:blipFill>
          <a:blip r:embed="rId2"/>
          <a:stretch/>
        </p:blipFill>
        <p:spPr>
          <a:xfrm>
            <a:off x="179280" y="1268280"/>
            <a:ext cx="86169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и по запросу сперматозоид строение"/>
          <p:cNvPicPr/>
          <p:nvPr/>
        </p:nvPicPr>
        <p:blipFill>
          <a:blip r:embed="rId2"/>
          <a:stretch/>
        </p:blipFill>
        <p:spPr>
          <a:xfrm>
            <a:off x="900000" y="1268280"/>
            <a:ext cx="7417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ияние женской и мужской клетки, образуется зигота (диплоид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вает внешним (в воде) у рыб и земновод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м (половые орган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лодотворение происходит после осеменения (попадания семенной жидкости в половые пути сам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13264840_437967740.pdf-4.jpg"/>
          <p:cNvPicPr/>
          <p:nvPr/>
        </p:nvPicPr>
        <p:blipFill>
          <a:blip r:embed="rId1"/>
          <a:stretch/>
        </p:blipFill>
        <p:spPr>
          <a:xfrm>
            <a:off x="1285920" y="714240"/>
            <a:ext cx="711972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4" descr="Картинки по запросу оплодотворение"/>
          <p:cNvPicPr/>
          <p:nvPr/>
        </p:nvPicPr>
        <p:blipFill>
          <a:blip r:embed="rId2"/>
          <a:stretch/>
        </p:blipFill>
        <p:spPr>
          <a:xfrm>
            <a:off x="0" y="1628640"/>
            <a:ext cx="92725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2T10:52:58Z</dcterms:created>
  <dc:creator>Татьяна</dc:creator>
  <dc:description/>
  <dc:language>en-US</dc:language>
  <cp:lastModifiedBy>user</cp:lastModifiedBy>
  <dcterms:modified xsi:type="dcterms:W3CDTF">2018-11-08T07:55:41Z</dcterms:modified>
  <cp:revision>29</cp:revision>
  <dc:subject/>
  <dc:title>онтогенез</dc:title>
</cp:coreProperties>
</file>