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425F-5AFC-4DC8-8CB1-4B9586BA0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780-CB93-476E-A1FF-7C16C1FAF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386-1932-455D-B176-1007411E9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314-659F-41DF-8DBE-4D83B25B7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1042-4345-4EAA-AEAD-D7F421F950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C6A-1723-4078-8FB2-297A6E0C9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33A-923C-4D09-B076-B2F71D5EA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CA3-35B8-476A-84DA-912B0AA4E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5C8-28AD-4EFA-A068-D3A8C9294D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49C4-C92B-4C22-9F01-ED76946FF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1F73-BB20-48FC-B04C-673897DD9F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BE8-877A-4735-ADD0-593EB33F0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569A-4609-48AE-BC17-76026CC1A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4AD-A6BA-4135-BFC7-490413A08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9DC-52D8-4614-843D-707C28D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587-1EBF-417A-93F5-4B33DBA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A59-4DE6-4825-97BE-62EA201E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35F-0D7D-4609-9A72-9A1A3126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46E-8E64-4D64-8879-8A1BA73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432-C209-4FE6-9466-D1972F95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81C-7F21-42DB-99BD-3667D01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FDD-575B-48AA-8901-9B6CC9A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509-0E82-4A1C-9182-99C35FF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348-E732-492B-B795-61D0C5E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902-0F6B-4642-B642-2B72D32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3E3-5FE6-4A3E-B54E-43C62F3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9AD-43DA-4AC4-98FC-1D32FE719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тоген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ндивидуа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бриональны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зачатия до момента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гота делится образуются клетки бластомеры, накапливается клеточный материал для дальнейше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стула –однослойный зарод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img1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765000"/>
            <a:ext cx="85456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и по запросу развитие зародыша гаструла"/>
          <p:cNvPicPr/>
          <p:nvPr/>
        </p:nvPicPr>
        <p:blipFill>
          <a:blip r:embed="rId2"/>
          <a:stretch/>
        </p:blipFill>
        <p:spPr>
          <a:xfrm>
            <a:off x="324000" y="2349360"/>
            <a:ext cx="8572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струла (2х слойный зародыш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4" descr="img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slide-32.jpg"/>
          <p:cNvPicPr/>
          <p:nvPr/>
        </p:nvPicPr>
        <p:blipFill>
          <a:blip r:embed="rId1"/>
          <a:stretch/>
        </p:blipFill>
        <p:spPr>
          <a:xfrm>
            <a:off x="1500120" y="928800"/>
            <a:ext cx="7093080" cy="53132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фференц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https://tnp-production.s3.amazonaws.com/uploads/image_block/000/003/827/image/base_c0c5de0f7b.jpg"/>
          <p:cNvPicPr/>
          <p:nvPr/>
        </p:nvPicPr>
        <p:blipFill>
          <a:blip r:embed="rId1"/>
          <a:stretch/>
        </p:blipFill>
        <p:spPr>
          <a:xfrm>
            <a:off x="539640" y="1268280"/>
            <a:ext cx="77374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8" descr="011.jpg"/>
          <p:cNvPicPr/>
          <p:nvPr/>
        </p:nvPicPr>
        <p:blipFill>
          <a:blip r:embed="rId1"/>
          <a:stretch/>
        </p:blipFill>
        <p:spPr>
          <a:xfrm>
            <a:off x="428760" y="428760"/>
            <a:ext cx="8175600" cy="6130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огенез (нейрул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яются нервная трубка, хорда, кишечная трубка, осевые орг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http://900igr.net/datas/biologija/Razvitie-zhivotnykh/0007-007-Nejrula.jpg"/>
          <p:cNvPicPr/>
          <p:nvPr/>
        </p:nvPicPr>
        <p:blipFill>
          <a:blip r:embed="rId1"/>
          <a:stretch/>
        </p:blipFill>
        <p:spPr>
          <a:xfrm>
            <a:off x="2411280" y="292428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Картинки по запросу развитие зародыша"/>
          <p:cNvPicPr/>
          <p:nvPr/>
        </p:nvPicPr>
        <p:blipFill>
          <a:blip r:embed="rId2"/>
          <a:stretch/>
        </p:blipFill>
        <p:spPr>
          <a:xfrm>
            <a:off x="684360" y="1844640"/>
            <a:ext cx="823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половых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ежит мейоз (гаметогене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оогенез  (яицеклет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рматогенез (сперматозои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http://dentalia03.ru/pics/otvar-matroni-tsena-3252_31.png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Картинки по запросу развитие зародыша нейрула"/>
          <p:cNvPicPr/>
          <p:nvPr/>
        </p:nvPicPr>
        <p:blipFill>
          <a:blip r:embed="rId2"/>
          <a:stretch/>
        </p:blipFill>
        <p:spPr>
          <a:xfrm>
            <a:off x="1332000" y="260280"/>
            <a:ext cx="648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эмбриональ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рождения или выхода из яйцевых оболочек, до смер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прямое (молодой организм сходен со взрослы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ямое , с метаморфозом.  Личинка не похожа на взросл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slide_1.jpg"/>
          <p:cNvPicPr/>
          <p:nvPr/>
        </p:nvPicPr>
        <p:blipFill>
          <a:blip r:embed="rId1"/>
          <a:stretch/>
        </p:blipFill>
        <p:spPr>
          <a:xfrm>
            <a:off x="1214280" y="642960"/>
            <a:ext cx="7120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img28.jpg"/>
          <p:cNvPicPr/>
          <p:nvPr/>
        </p:nvPicPr>
        <p:blipFill>
          <a:blip r:embed="rId1"/>
          <a:stretch/>
        </p:blipFill>
        <p:spPr>
          <a:xfrm>
            <a:off x="1143000" y="857160"/>
            <a:ext cx="71769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 метаморфоза происходят в несколько последовательных этапов. На каждом из этих этапов (фаз) животное имеет определенные характерные особенности строения и функ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ения могут быть полными и неполными (полный и неполный метаморфоз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я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http://biofile.ru/pic/f-deca-13-450.png"/>
          <p:cNvPicPr/>
          <p:nvPr/>
        </p:nvPicPr>
        <p:blipFill>
          <a:blip r:embed="rId1"/>
          <a:stretch/>
        </p:blipFill>
        <p:spPr>
          <a:xfrm>
            <a:off x="826920" y="1628640"/>
            <a:ext cx="7274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016.jpg"/>
          <p:cNvPicPr/>
          <p:nvPr/>
        </p:nvPicPr>
        <p:blipFill>
          <a:blip r:embed="rId1"/>
          <a:stretch/>
        </p:blipFill>
        <p:spPr>
          <a:xfrm>
            <a:off x="285840" y="369720"/>
            <a:ext cx="86518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остэмбрионального пери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епродуктивный (рост, развитие, половое созре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родуктивный (активное функционирование, размно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епродуктивный (ста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http://distant-lessons.ru/wp-content/uploads/2012/11/postembrionalnyj-period.jpg"/>
          <p:cNvPicPr/>
          <p:nvPr/>
        </p:nvPicPr>
        <p:blipFill>
          <a:blip r:embed="rId1"/>
          <a:stretch/>
        </p:blipFill>
        <p:spPr>
          <a:xfrm>
            <a:off x="2050920" y="4305240"/>
            <a:ext cx="5510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015.jpg"/>
          <p:cNvPicPr/>
          <p:nvPr/>
        </p:nvPicPr>
        <p:blipFill>
          <a:blip r:embed="rId1"/>
          <a:stretch/>
        </p:blipFill>
        <p:spPr>
          <a:xfrm>
            <a:off x="571680" y="214200"/>
            <a:ext cx="7866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013.jpg"/>
          <p:cNvPicPr/>
          <p:nvPr/>
        </p:nvPicPr>
        <p:blipFill>
          <a:blip r:embed="rId1"/>
          <a:stretch/>
        </p:blipFill>
        <p:spPr>
          <a:xfrm>
            <a:off x="500040" y="214200"/>
            <a:ext cx="83422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артинки по запросу развитие половых клеток"/>
          <p:cNvPicPr/>
          <p:nvPr/>
        </p:nvPicPr>
        <p:blipFill>
          <a:blip r:embed="rId2"/>
          <a:stretch/>
        </p:blipFill>
        <p:spPr>
          <a:xfrm>
            <a:off x="826920" y="260280"/>
            <a:ext cx="6859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http://yakiev.com/images/news/block/6131b.jpg"/>
          <p:cNvPicPr/>
          <p:nvPr/>
        </p:nvPicPr>
        <p:blipFill>
          <a:blip r:embed="rId1"/>
          <a:stretch/>
        </p:blipFill>
        <p:spPr>
          <a:xfrm>
            <a:off x="179280" y="333360"/>
            <a:ext cx="8953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йце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содержать много и мало жел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(ланцетник) и вторично мало у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(птицы, рептил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animalkingdom.su/books/item/f00/s00/z0000035/pic/000017.jpg"/>
          <p:cNvPicPr/>
          <p:nvPr/>
        </p:nvPicPr>
        <p:blipFill>
          <a:blip r:embed="rId1"/>
          <a:stretch/>
        </p:blipFill>
        <p:spPr>
          <a:xfrm>
            <a:off x="5796000" y="3284640"/>
            <a:ext cx="280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1268280"/>
            <a:ext cx="86169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и по запросу сперматозоид строение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яние женской и мужской клетки, образуется зигота (диплоид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внешним (в воде) у рыб и земновод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м (половые орган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лодотворение происходит после осеменения (попадания семенной жидкости в половые пути сам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3264840_437967740.pdf-4.jpg"/>
          <p:cNvPicPr/>
          <p:nvPr/>
        </p:nvPicPr>
        <p:blipFill>
          <a:blip r:embed="rId1"/>
          <a:stretch/>
        </p:blipFill>
        <p:spPr>
          <a:xfrm>
            <a:off x="1285920" y="714240"/>
            <a:ext cx="71197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Картинки по запросу оплодотворение"/>
          <p:cNvPicPr/>
          <p:nvPr/>
        </p:nvPicPr>
        <p:blipFill>
          <a:blip r:embed="rId2"/>
          <a:stretch/>
        </p:blipFill>
        <p:spPr>
          <a:xfrm>
            <a:off x="0" y="1628640"/>
            <a:ext cx="9272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2T10:52:58Z</dcterms:created>
  <dc:creator>Татьяна</dc:creator>
  <dc:description/>
  <dc:language>en-US</dc:language>
  <cp:lastModifiedBy>user</cp:lastModifiedBy>
  <dcterms:modified xsi:type="dcterms:W3CDTF">2018-11-08T07:55:41Z</dcterms:modified>
  <cp:revision>29</cp:revision>
  <dc:subject/>
  <dc:title>онтогенез</dc:title>
</cp:coreProperties>
</file>