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EB17-5F99-491D-87B8-5927789F0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153D-9739-43F1-9152-AD11E4493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24D-7496-4BB5-AFA9-6860E23C99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73A7-A5FA-472F-BAFB-77ABD8D2E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E8AA-7EDD-4C45-856C-DE2D504201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3EA4-A634-43AC-B361-9D70B8A8DB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FE9B-2319-4F9D-9E28-2FE38B76AA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7D5-3394-4BFB-8A3B-EA5D8611C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92C-CEBE-4A7B-9177-84D9BDA48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1F00-5FCC-4DC7-8565-2BC2661BAD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7CFA-2A13-4C9D-BC25-01B408D11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467A-C79D-4D78-87DB-7ACCB1D9A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33FD-0EEB-4B21-B9DD-9999D6E318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E5AE-E96B-4C98-87F2-E646F60CF8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FD9-80C6-4630-8820-5165B4B8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EBA-0946-42A1-80C0-500CC261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9DF-2F3A-47BF-9CDE-C5299937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2AE-A2B8-4C35-86E8-78BA0837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7CC-248E-4775-A339-E63FC08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D17-FF00-4E58-AC6A-13A798D2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322-CE31-44E0-B6F2-7B230BFC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F43-7E96-4707-9FE1-A628361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3B1-9594-4B41-A97A-573E050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009-2CBA-442D-B2D8-301EC581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28C-09EA-4015-8797-F83F82CD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51E-1724-4E80-8255-3C783E43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1612-163E-4608-BBEC-4B7DAA303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тоген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ндивидуальн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бриональный пери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омента зачатия до момента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гота делится образуются клетки бластомеры, накапливается клеточный материал для дальнейше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стула –однослойный зароды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4" descr="img1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79280" y="765000"/>
            <a:ext cx="85456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и по запросу развитие зародыша гаструла"/>
          <p:cNvPicPr/>
          <p:nvPr/>
        </p:nvPicPr>
        <p:blipFill>
          <a:blip r:embed="rId2"/>
          <a:stretch/>
        </p:blipFill>
        <p:spPr>
          <a:xfrm>
            <a:off x="324000" y="2349360"/>
            <a:ext cx="85723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струла (2х слойный зародыш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4" descr="img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slide-32.jpg"/>
          <p:cNvPicPr/>
          <p:nvPr/>
        </p:nvPicPr>
        <p:blipFill>
          <a:blip r:embed="rId1"/>
          <a:stretch/>
        </p:blipFill>
        <p:spPr>
          <a:xfrm>
            <a:off x="1500120" y="928800"/>
            <a:ext cx="7093080" cy="53132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фференц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https://tnp-production.s3.amazonaws.com/uploads/image_block/000/003/827/image/base_c0c5de0f7b.jpg"/>
          <p:cNvPicPr/>
          <p:nvPr/>
        </p:nvPicPr>
        <p:blipFill>
          <a:blip r:embed="rId1"/>
          <a:stretch/>
        </p:blipFill>
        <p:spPr>
          <a:xfrm>
            <a:off x="539640" y="1268280"/>
            <a:ext cx="77374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8" descr="011.jpg"/>
          <p:cNvPicPr/>
          <p:nvPr/>
        </p:nvPicPr>
        <p:blipFill>
          <a:blip r:embed="rId1"/>
          <a:stretch/>
        </p:blipFill>
        <p:spPr>
          <a:xfrm>
            <a:off x="428760" y="428760"/>
            <a:ext cx="8175600" cy="6130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55520" y="-246852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155520" y="-246852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огенез (нейрул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яются нервная трубка, хорда, кишечная трубка, осевые орг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http://900igr.net/datas/biologija/Razvitie-zhivotnykh/0007-007-Nejrula.jpg"/>
          <p:cNvPicPr/>
          <p:nvPr/>
        </p:nvPicPr>
        <p:blipFill>
          <a:blip r:embed="rId1"/>
          <a:stretch/>
        </p:blipFill>
        <p:spPr>
          <a:xfrm>
            <a:off x="2411280" y="292428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Картинки по запросу развитие зародыша"/>
          <p:cNvPicPr/>
          <p:nvPr/>
        </p:nvPicPr>
        <p:blipFill>
          <a:blip r:embed="rId2"/>
          <a:stretch/>
        </p:blipFill>
        <p:spPr>
          <a:xfrm>
            <a:off x="684360" y="1844640"/>
            <a:ext cx="8237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ирование половых кл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лежит мейоз (гаметогене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яют оогенез  (яицеклет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рматогенез (сперматозои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http://dentalia03.ru/pics/otvar-matroni-tsena-3252_31.png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Картинки по запросу развитие зародыша нейрула"/>
          <p:cNvPicPr/>
          <p:nvPr/>
        </p:nvPicPr>
        <p:blipFill>
          <a:blip r:embed="rId2"/>
          <a:stretch/>
        </p:blipFill>
        <p:spPr>
          <a:xfrm>
            <a:off x="1332000" y="260280"/>
            <a:ext cx="6487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эмбриональ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омента рождения или выхода из яйцевых оболочек, до смер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вает прямое (молодой организм сходен со взрослы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ямое , с метаморфозом.  Личинка не похожа на взросл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slide_1.jpg"/>
          <p:cNvPicPr/>
          <p:nvPr/>
        </p:nvPicPr>
        <p:blipFill>
          <a:blip r:embed="rId1"/>
          <a:stretch/>
        </p:blipFill>
        <p:spPr>
          <a:xfrm>
            <a:off x="1214280" y="642960"/>
            <a:ext cx="7120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img28.jpg"/>
          <p:cNvPicPr/>
          <p:nvPr/>
        </p:nvPicPr>
        <p:blipFill>
          <a:blip r:embed="rId1"/>
          <a:stretch/>
        </p:blipFill>
        <p:spPr>
          <a:xfrm>
            <a:off x="1143000" y="857160"/>
            <a:ext cx="71769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 метаморфоза происходят в несколько последовательных этапов. На каждом из этих этапов (фаз) животное имеет определенные характерные особенности строения и функ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ения могут быть полными и неполными (полный и неполный метаморфоз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ям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http://biofile.ru/pic/f-deca-13-450.png"/>
          <p:cNvPicPr/>
          <p:nvPr/>
        </p:nvPicPr>
        <p:blipFill>
          <a:blip r:embed="rId1"/>
          <a:stretch/>
        </p:blipFill>
        <p:spPr>
          <a:xfrm>
            <a:off x="826920" y="1628640"/>
            <a:ext cx="72741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4" descr="016.jpg"/>
          <p:cNvPicPr/>
          <p:nvPr/>
        </p:nvPicPr>
        <p:blipFill>
          <a:blip r:embed="rId1"/>
          <a:stretch/>
        </p:blipFill>
        <p:spPr>
          <a:xfrm>
            <a:off x="285840" y="369720"/>
            <a:ext cx="865188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остэмбрионального пери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епродуктивный (рост, развитие, половое созре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продуктивный (активное функционирование, размнож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епродуктивный (ста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http://distant-lessons.ru/wp-content/uploads/2012/11/postembrionalnyj-period.jpg"/>
          <p:cNvPicPr/>
          <p:nvPr/>
        </p:nvPicPr>
        <p:blipFill>
          <a:blip r:embed="rId1"/>
          <a:stretch/>
        </p:blipFill>
        <p:spPr>
          <a:xfrm>
            <a:off x="2050920" y="4305240"/>
            <a:ext cx="5510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015.jpg"/>
          <p:cNvPicPr/>
          <p:nvPr/>
        </p:nvPicPr>
        <p:blipFill>
          <a:blip r:embed="rId1"/>
          <a:stretch/>
        </p:blipFill>
        <p:spPr>
          <a:xfrm>
            <a:off x="571680" y="214200"/>
            <a:ext cx="7866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013.jpg"/>
          <p:cNvPicPr/>
          <p:nvPr/>
        </p:nvPicPr>
        <p:blipFill>
          <a:blip r:embed="rId1"/>
          <a:stretch/>
        </p:blipFill>
        <p:spPr>
          <a:xfrm>
            <a:off x="500040" y="214200"/>
            <a:ext cx="83422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артинки по запросу развитие половых клеток"/>
          <p:cNvPicPr/>
          <p:nvPr/>
        </p:nvPicPr>
        <p:blipFill>
          <a:blip r:embed="rId2"/>
          <a:stretch/>
        </p:blipFill>
        <p:spPr>
          <a:xfrm>
            <a:off x="826920" y="260280"/>
            <a:ext cx="6859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http://yakiev.com/images/news/block/6131b.jpg"/>
          <p:cNvPicPr/>
          <p:nvPr/>
        </p:nvPicPr>
        <p:blipFill>
          <a:blip r:embed="rId1"/>
          <a:stretch/>
        </p:blipFill>
        <p:spPr>
          <a:xfrm>
            <a:off x="179280" y="333360"/>
            <a:ext cx="8953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йцекле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содержать много и мало жел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о (ланцетник) и вторично мало у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(птицы, рептил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http://animalkingdom.su/books/item/f00/s00/z0000035/pic/000017.jpg"/>
          <p:cNvPicPr/>
          <p:nvPr/>
        </p:nvPicPr>
        <p:blipFill>
          <a:blip r:embed="rId1"/>
          <a:stretch/>
        </p:blipFill>
        <p:spPr>
          <a:xfrm>
            <a:off x="5796000" y="3284640"/>
            <a:ext cx="280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Похожее изображение"/>
          <p:cNvPicPr/>
          <p:nvPr/>
        </p:nvPicPr>
        <p:blipFill>
          <a:blip r:embed="rId2"/>
          <a:stretch/>
        </p:blipFill>
        <p:spPr>
          <a:xfrm>
            <a:off x="179280" y="1268280"/>
            <a:ext cx="86169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и по запросу сперматозоид строение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яние женской и мужской клетки, образуется зигота (диплоид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вает внешним (в воде) у рыб и земновод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м (половые орган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лодотворение происходит после осеменения (попадания семенной жидкости в половые пути сам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3264840_437967740.pdf-4.jpg"/>
          <p:cNvPicPr/>
          <p:nvPr/>
        </p:nvPicPr>
        <p:blipFill>
          <a:blip r:embed="rId1"/>
          <a:stretch/>
        </p:blipFill>
        <p:spPr>
          <a:xfrm>
            <a:off x="1285920" y="714240"/>
            <a:ext cx="711972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4" descr="Картинки по запросу оплодотворение"/>
          <p:cNvPicPr/>
          <p:nvPr/>
        </p:nvPicPr>
        <p:blipFill>
          <a:blip r:embed="rId2"/>
          <a:stretch/>
        </p:blipFill>
        <p:spPr>
          <a:xfrm>
            <a:off x="0" y="1628640"/>
            <a:ext cx="92725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2T10:52:58Z</dcterms:created>
  <dc:creator>Татьяна</dc:creator>
  <dc:description/>
  <dc:language>en-US</dc:language>
  <cp:lastModifiedBy>user</cp:lastModifiedBy>
  <dcterms:modified xsi:type="dcterms:W3CDTF">2018-11-08T07:55:41Z</dcterms:modified>
  <cp:revision>29</cp:revision>
  <dc:subject/>
  <dc:title>онтогенез</dc:title>
</cp:coreProperties>
</file>