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662E-1CA1-4833-9516-A6FFF792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5374-7F1A-463A-8200-5A81DB72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8BC38-CD96-4688-B33D-3E0E5155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D46AC-1BF1-4564-AE42-B1AA0DF0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3B82A-54B0-4039-9518-D5CED6F6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04F4C-D274-488E-99FE-DC62686D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0C868-900F-4483-BA15-AF232593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3C583-30E6-4B3C-8F4B-A468B07A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D7A1C-B91F-488B-B642-787519DA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EBD85-9E6F-45AE-BCF2-1577C7DA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D1435-95EB-4315-9D06-3D87ACB8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A9A17-463D-42ED-B358-0F06E9B3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DC96-4205-4C80-B900-9BE611F4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3C27C-A74D-43FF-A665-45B11622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E0663-553F-4259-BC5E-32FBA3F5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A3E50-13BA-4C85-AC4B-5FAD63BE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A2737-A3A2-4D9C-988F-712D42ED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D8024-4AF3-4141-B752-169AA56F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206BC-4AFC-42D2-A611-58B17A15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2F868-7FA7-4CC7-83A7-0EF35870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643C6-53A6-48F3-B4E6-348D76A3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E1B58-F904-4B38-B18E-C5021BB2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8A68A-7712-49A0-B4C0-4407FF6D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B2D-A996-44B3-A781-A09CF053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F81D9-60D2-48E9-BAF1-89073B83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9D406-FFE5-46A4-B298-691B6097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06DC7-D761-4E6A-9D00-1288DF51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0066D-9CEC-45D5-92DB-5730B366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B0EFE-6F88-48FF-8B55-83A2CAAB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15E25-02A2-4C3A-A6C5-6DA58A12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AA31E-FC73-4C5F-B47D-71A0E9DE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0F9B3-BA72-45E1-A054-BF92127F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A1EEC-F5C0-46B3-A2CB-2C92E424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FDFD7-417C-4B66-B055-36A6E82A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1531-65F2-49DC-9995-DEC1F6AF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BB95F-271F-4DCD-BED5-5AB2D0E9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22425-F5A7-4EA9-90D4-19414BBF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D2201-9578-48B1-8953-B91A6CFF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3F405-662B-4B44-B2C7-3AD704A7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774F5-8B6A-4B47-BE95-A4EA0842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D36C6-5A63-4D17-88EA-DFE4014F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B7C07-B7C1-4EAA-BF5B-DF395C81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844DC-788F-46BE-9616-2E4B07D8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A22CA-ACAF-422A-BF28-52CE9038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51861-F0FF-4352-BB4D-0B2B56B5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2818-C8D9-42C1-B1B3-77E2E63D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ABD87-E7AB-4E59-BDD2-1560AAEE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DFC84-75F4-45BE-BDB4-939F73EB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450DC-D0EF-4011-BF57-7496C5D1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129C9-469C-4AC4-A284-5B5D8BEB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3BE1D-DB7C-480E-B0C7-087E4BAA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2A7D-17C0-4834-88A1-B4834EAA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3BE3-25FD-48B8-9670-9516A080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9392-349F-4DDE-BB05-83BB5E56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5D88-7236-4503-8ED9-6F4A472E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2854-330C-4288-971F-65B8E856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608-805C-477E-A89E-53F4DAC5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51F7-2CDD-435F-94A3-3F5CD3E9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394D-3E32-4FAD-AC61-A6F780B0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74BE-49F4-4EFB-B80E-1FFA7FC8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3E57-63A8-4530-8137-5B427787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0B10-8B30-4407-BB0B-D7BE8ACD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2F818-56CB-4DB8-8C06-4E5D3815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915D5-ED92-4A00-B7C4-AE967EE5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41AD4-1190-42CE-AEDB-94B58B36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A8D38-D0D5-47A7-94FA-6B784BEA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67F55-3015-4508-9D7D-8BF31514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44F6-A4ED-47BC-AB20-05A7D8CB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E406C-D00A-4435-8453-8DBB4393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B6ABA-C46A-4C0A-A3F5-9642DBD1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83413-A54D-48E7-99E6-BE81F377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D6417-4E76-4454-AF5B-7FB7E580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F3B22-30E7-49B5-B0B1-E56A265C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CCB3C-4F53-41C4-8C63-1031A2C7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5F0B0-90B2-4BAA-B979-15A1FBF5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02E4C-C00E-499B-948F-46D3B25F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D4B3C-0C27-4239-BA6A-3247909B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9C2A0-CA9E-4C84-A04A-55F5B0FC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AC11-C661-4B1D-AF6B-FCB88CE4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8014F-A161-4C9B-9DE8-893652FF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939CF-5070-4FCD-8BBD-E40052A9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74AE1-FC57-4816-B3BE-3EBEB645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1A875-4481-4DCA-921E-233343E8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B1B12-D134-45E8-996A-2A548E10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2ABB8-FE12-4B09-AD5B-CB0381D7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0CD5D-E690-4B0C-9DCE-B70A25AB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2D331-C407-4A8B-B06B-E29F4D63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3A655-AC7F-4332-9903-A3D2D59D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C26A0-8A1F-44AC-9072-4071E9F4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CA1F-8B55-47E4-BB18-CA2CDD18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C0B61-3B7B-4595-9B76-70C5A1B9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3F788-8A3E-43C1-9A55-0CF20076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B7918-ED4A-4951-9631-14245F77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1369B-F96D-439A-811B-51D0B1D0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734CB-78FA-4615-B649-C5BB8C60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B0636-BF30-474B-A130-84118E02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D438D-5C97-4E07-A5DD-FAE4840F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28F9F-FD4F-4A01-A6E4-CCEDEF67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C523B-8800-4EB5-8D02-75E6C3A3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B00F4-0CD4-4606-9F0D-BB45925A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2664-0755-4B78-85F4-4489A103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0FD23-7CB7-4995-90ED-7883EF43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64AD8-8312-4F2B-B6EA-6D11D103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E373D-73B0-4567-B149-53F1A97E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B0475-BE75-4E67-9E36-4A289B46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59540-79D3-4809-BDEA-02A45B82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EF849-34EF-42AD-BDFB-27F3B80E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7049A-38D3-4156-BDC8-7A018659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B9603-B4D9-4285-AA11-F79EA4F5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53912-66DF-4BCE-9B54-8338CB8D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81CE8-8A9D-416E-8693-F3DBAD54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A5F-72FF-4956-BEC5-145D114B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11724-974B-4134-AFD8-31C41A18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4D118-0287-4023-9738-F09ADF78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D06E0-E98C-4E88-80EE-49FC7680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7CE3D-402B-4D80-9824-7C9B27F6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18AFC-515D-4742-874A-6B390DD6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C11F5-B960-4FF3-8057-C0B6824A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6A7ED-56D2-4B3A-B767-8DE5D511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DACCE-3EE8-4FA4-8234-A6FD0EE8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A298E-E029-47B2-A996-D81E0EAA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974DD-C0D7-44D4-AA59-C9E472DB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A4D-34F2-403E-B3F7-8F275D5B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50B4C-15F0-40CB-8658-4EE2A1F6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B9286-DA25-4A4F-9FD3-3386AC02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60DA0-FF37-4511-844C-247DFCF2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28BD7-32A0-44EC-95A5-98EAA1ED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F426E-D8C0-41D8-8AE6-ED0366A8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2CB36-6748-4399-9965-4AF67813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772E2-1E3E-4927-B592-C658BB68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B273B-6B60-4A50-9F33-1804E15A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F0E68-50F7-4378-8C38-094FF48D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B5A9E-DD8B-4ADE-9594-A8B7BBF2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4BD-4324-4E6C-807B-C738693A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8714C-478D-4265-A839-37808D88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EACC4-C1D8-470F-B0E1-99A419A7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EF7A1-0BE7-400E-8B69-029FBDC8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CA5F5-B732-4EAA-B3D8-3C20819E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D889D-E8C2-4BA6-B5F9-A9D88FEF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7CB22-4880-4621-BDE2-6CA6DF4F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F6B8E-3F35-4664-ADC0-8AB68CAB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BB9D5-6361-45B3-B988-990A5CF3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69CBF-6A80-48E5-8AC5-8894229A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62234-667E-48E5-A643-78DC4A66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F082-0BE1-4E50-966D-6028D1C1658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470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473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77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CE9B-1117-4C00-A33C-09FCC272C50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2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2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BB55-E3CF-4F9C-BEF8-E5F398E78E2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7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7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7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97AA-92CB-4F79-BC2C-04754DF7CA9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82A9-40D6-4629-81A1-8BBC0A3CBFA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ED39-22DE-4043-9FD1-A33CFBBFF53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5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5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F252-57C1-4BBA-AF34-4296D8A3F05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75CB-2A31-4D2C-8652-A176635501C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17E1-CF4E-4945-9597-3C4FC9259D0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1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2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24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326C-E0A5-4D3A-BC15-C71B0FEAB82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6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71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75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F684-8230-445A-ACA0-6F8697B9018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41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22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26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http://aida.ucoz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85A2-E14C-4EB8-8C01-FA838DD4DB6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Заголовок 6" descr=""/>
          <p:cNvPicPr/>
          <p:nvPr/>
        </p:nvPicPr>
        <p:blipFill>
          <a:blip r:embed="rId1"/>
          <a:stretch/>
        </p:blipFill>
        <p:spPr>
          <a:xfrm>
            <a:off x="755640" y="822240"/>
            <a:ext cx="777240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Заголовок 1" descr=""/>
          <p:cNvPicPr/>
          <p:nvPr/>
        </p:nvPicPr>
        <p:blipFill>
          <a:blip r:embed="rId1"/>
          <a:stretch/>
        </p:blipFill>
        <p:spPr>
          <a:xfrm>
            <a:off x="1139760" y="176040"/>
            <a:ext cx="6516720" cy="11350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 txBox="1"/>
          <p:nvPr/>
        </p:nvSpPr>
        <p:spPr>
          <a:xfrm>
            <a:off x="285480" y="1213920"/>
            <a:ext cx="8429400" cy="46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по изучению темы       « Морфология» загадывается определенная часть речи, и ребята начинают задавать учителю вопросы: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амостоятельная часть речи? - да;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обозначает признак предмета? – нет;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часть речи склоняется? – да;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амая многочисленная часть речи? – да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делают вывод, что это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ое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646" name="Прямоугольник 3"/>
          <p:cNvGrpSpPr/>
          <p:nvPr/>
        </p:nvGrpSpPr>
        <p:grpSpPr>
          <a:xfrm>
            <a:off x="6138720" y="5065560"/>
            <a:ext cx="2303640" cy="1590840"/>
            <a:chOff x="6138720" y="5065560"/>
            <a:chExt cx="2303640" cy="1590840"/>
          </a:xfrm>
        </p:grpSpPr>
        <p:pic>
          <p:nvPicPr>
            <p:cNvPr id="647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6138720" y="5065560"/>
              <a:ext cx="230364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6143760" y="5072040"/>
              <a:ext cx="22860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Заголовок 1" descr=""/>
          <p:cNvPicPr/>
          <p:nvPr/>
        </p:nvPicPr>
        <p:blipFill>
          <a:blip r:embed="rId1"/>
          <a:stretch/>
        </p:blipFill>
        <p:spPr>
          <a:xfrm>
            <a:off x="-6480" y="103320"/>
            <a:ext cx="8790120" cy="113976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 txBox="1"/>
          <p:nvPr/>
        </p:nvSpPr>
        <p:spPr>
          <a:xfrm>
            <a:off x="428760" y="999720"/>
            <a:ext cx="8286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редлагает вразброс обычные загадки и лжезагадки, дети должны их угадывать и указывать их тип. Например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будет 8 + 4: 11 или 13 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растет не березе - яблоки или груши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"часы" - пишется как "чесы" или "чисы"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быстрее плавает - котенок или цыпленок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ица России - Париж или Минск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звери живут в Африке –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онты или динозавры?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51" name="Picture 4" descr=""/>
          <p:cNvPicPr/>
          <p:nvPr/>
        </p:nvPicPr>
        <p:blipFill>
          <a:blip r:embed="rId2"/>
          <a:stretch/>
        </p:blipFill>
        <p:spPr>
          <a:xfrm>
            <a:off x="6715080" y="5000760"/>
            <a:ext cx="20001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Заголовок 1" descr=""/>
          <p:cNvPicPr/>
          <p:nvPr/>
        </p:nvPicPr>
        <p:blipFill>
          <a:blip r:embed="rId1"/>
          <a:stretch/>
        </p:blipFill>
        <p:spPr>
          <a:xfrm>
            <a:off x="706320" y="176040"/>
            <a:ext cx="7089840" cy="125100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 txBox="1"/>
          <p:nvPr/>
        </p:nvSpPr>
        <p:spPr>
          <a:xfrm>
            <a:off x="713880" y="1214280"/>
            <a:ext cx="67582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ридумывают слова на тему «Школа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арта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арта, доска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арта, доска, мел и т.д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время детям под силу назвать по порядку только 5–6 слов, в конце года – уже 10–12 сло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2"/>
          <a:stretch/>
        </p:blipFill>
        <p:spPr>
          <a:xfrm>
            <a:off x="7238880" y="4286160"/>
            <a:ext cx="159732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Заголовок 1" descr=""/>
          <p:cNvPicPr/>
          <p:nvPr/>
        </p:nvPicPr>
        <p:blipFill>
          <a:blip r:embed="rId1"/>
          <a:stretch/>
        </p:blipFill>
        <p:spPr>
          <a:xfrm>
            <a:off x="1359000" y="317520"/>
            <a:ext cx="7151760" cy="125568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 txBox="1"/>
          <p:nvPr/>
        </p:nvSpPr>
        <p:spPr>
          <a:xfrm>
            <a:off x="571680" y="1285560"/>
            <a:ext cx="65433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вид рефлексии вы можете использовать на своих уроках после изучения большого раздела. Вот вам рюкзачок. Передавая его друг другу скажите по фразе: что узнали, что поняли, что удивило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«Я научилась хорошо определять падежи имен существительных в словосочетаниях» или «Я хорошо научилась различать родительный и винительный падежи»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57" name="Содержимое 4" descr="rjukzakthefoxyowl.jpg"/>
          <p:cNvPicPr/>
          <p:nvPr/>
        </p:nvPicPr>
        <p:blipFill>
          <a:blip r:embed="rId2"/>
          <a:stretch/>
        </p:blipFill>
        <p:spPr>
          <a:xfrm>
            <a:off x="6711840" y="4071960"/>
            <a:ext cx="22129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357120" y="571320"/>
            <a:ext cx="85010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формировании функциональной грамотности учащихся учителям начальных классов надо помнить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лавным является не предмет, которому вы учите, а личность, которую вы формирует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воспитание активности не жалейте ни времени, ни усилий. Сегодняшний активный ученик - завтрашний активный член обществ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Учите детей учитьс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Необходимо чаще использовать вопрос "почему?", чтобы научить мыслить причинно: понимание причинно-следственных связей является обязательным условием развивающего обуче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мните, что знает не тот, кто пересказывает, а тот, кто использует знания на практик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Приучайте учеников думать и действовать самостоятель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1080" indent="-181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Заголовок 6" descr=""/>
          <p:cNvPicPr/>
          <p:nvPr/>
        </p:nvPicPr>
        <p:blipFill>
          <a:blip r:embed="rId1"/>
          <a:stretch/>
        </p:blipFill>
        <p:spPr>
          <a:xfrm>
            <a:off x="639720" y="2163600"/>
            <a:ext cx="8480520" cy="20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Федеральном компоненте государственного стандарта общего образования среди прочих направлений модернизации общего образования выделяется задач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формирования ключевых компетенций – готовности учащихся использовать усвоенные знания, умения и способы деятельности в реальной жизни для решения практических задач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Так же, отмечается, что одним из базовых требований к содержанию образования на ступени основного общего образован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… является достижение выпускниками уровня функциональной грамотности, необходимой в современном обществе, как по математическому и естественнонаучному, так и социально-культурному направлениям».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449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Заголовок 1" descr=""/>
          <p:cNvPicPr/>
          <p:nvPr/>
        </p:nvPicPr>
        <p:blipFill>
          <a:blip r:embed="rId1"/>
          <a:stretch/>
        </p:blipFill>
        <p:spPr>
          <a:xfrm>
            <a:off x="285840" y="208080"/>
            <a:ext cx="8656560" cy="18828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 txBox="1"/>
          <p:nvPr/>
        </p:nvSpPr>
        <p:spPr>
          <a:xfrm>
            <a:off x="539280" y="1989000"/>
            <a:ext cx="82803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и качествами должен обладать ученик начальной школы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SzPct val="13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отовность взаимодействовать с окружающим миром, уверенная адаптация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SzPct val="13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мение самостоятельно решать учебные и житейские задачи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SzPct val="13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пособность строить отношения в малой социальной группе, в частности — в школьном классе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SzPct val="13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ладение навыками рефлексии, способность посмотреть на себя со стороны, оценить свою работу.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95280" y="260280"/>
            <a:ext cx="85694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к, у которого сформированы навыки функционального чтения, может «свободно использовать навыки чтения и письма для получения информации из текста – для его понимания, сжатия, преобразования и т.д.». (по А.А. Леонтьеву)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449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27" name="Рисунок 1" descr=""/>
          <p:cNvPicPr/>
          <p:nvPr/>
        </p:nvPicPr>
        <p:blipFill>
          <a:blip r:embed="rId1"/>
          <a:stretch/>
        </p:blipFill>
        <p:spPr>
          <a:xfrm>
            <a:off x="422280" y="2673360"/>
            <a:ext cx="8542440" cy="4184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Заголовок 1" descr=""/>
          <p:cNvPicPr/>
          <p:nvPr/>
        </p:nvPicPr>
        <p:blipFill>
          <a:blip r:embed="rId1"/>
          <a:stretch/>
        </p:blipFill>
        <p:spPr>
          <a:xfrm>
            <a:off x="1255680" y="152280"/>
            <a:ext cx="6729480" cy="12495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 txBox="1"/>
          <p:nvPr/>
        </p:nvSpPr>
        <p:spPr>
          <a:xfrm>
            <a:off x="500040" y="1500120"/>
            <a:ext cx="781704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SzPct val="13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шите, исправив ошибки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237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пал снег саша. И коля чистят. Каток весело. Работать ребятам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237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SzPct val="13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шите, исправив ошибки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237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нас жывёт кот семён.он добрый и очен пушыстый. Сам он весь чорный а ушы у нево белинькие. Хвосьтик Сёма держит трубой. Гласки хитрыи .А ещё он дрочюн. На нашей улеце ево боятся все каты. А мышы не баятся, потому што Сёма не любит лавить мышей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237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2376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0" name="Прямая соединительная линия 4"/>
          <p:cNvSpPr/>
          <p:nvPr/>
        </p:nvSpPr>
        <p:spPr>
          <a:xfrm>
            <a:off x="2195640" y="2060640"/>
            <a:ext cx="0" cy="0"/>
          </a:xfrm>
          <a:prstGeom prst="line">
            <a:avLst/>
          </a:prstGeom>
          <a:ln w="9360">
            <a:solidFill>
              <a:srgbClr val="ff8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2"/>
          <a:stretch/>
        </p:blipFill>
        <p:spPr>
          <a:xfrm>
            <a:off x="7715160" y="5143680"/>
            <a:ext cx="1214640" cy="1539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Заголовок 1" descr=""/>
          <p:cNvPicPr/>
          <p:nvPr/>
        </p:nvPicPr>
        <p:blipFill>
          <a:blip r:embed="rId1"/>
          <a:stretch/>
        </p:blipFill>
        <p:spPr>
          <a:xfrm>
            <a:off x="281160" y="317520"/>
            <a:ext cx="8577000" cy="154152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999720" y="1499760"/>
            <a:ext cx="70722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тавьте пропущенные буквы парных согласных, подобрав проверочные слова: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у.., пиро.., ко.., горо.., пру.., клю.., пру…, овра.., коро.., ко.., арбу.., лу.., обо…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34" name="Рисунок 3" descr=""/>
          <p:cNvPicPr/>
          <p:nvPr/>
        </p:nvPicPr>
        <p:blipFill>
          <a:blip r:embed="rId2"/>
          <a:stretch/>
        </p:blipFill>
        <p:spPr>
          <a:xfrm>
            <a:off x="7143840" y="4857840"/>
            <a:ext cx="1827000" cy="1827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Заголовок 1" descr=""/>
          <p:cNvPicPr/>
          <p:nvPr/>
        </p:nvPicPr>
        <p:blipFill>
          <a:blip r:embed="rId1"/>
          <a:stretch/>
        </p:blipFill>
        <p:spPr>
          <a:xfrm>
            <a:off x="426960" y="603360"/>
            <a:ext cx="6796080" cy="125568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 txBox="1"/>
          <p:nvPr/>
        </p:nvSpPr>
        <p:spPr>
          <a:xfrm>
            <a:off x="713880" y="1785960"/>
            <a:ext cx="7286760" cy="40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ёза - л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з – х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д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ята – д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ух – 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я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 – уч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ина -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а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37" name="Picture 2" descr=""/>
          <p:cNvPicPr/>
          <p:nvPr/>
        </p:nvPicPr>
        <p:blipFill>
          <a:blip r:embed="rId2"/>
          <a:stretch/>
        </p:blipFill>
        <p:spPr>
          <a:xfrm>
            <a:off x="6715080" y="4000680"/>
            <a:ext cx="1824120" cy="2431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Заголовок 1" descr=""/>
          <p:cNvPicPr/>
          <p:nvPr/>
        </p:nvPicPr>
        <p:blipFill>
          <a:blip r:embed="rId1"/>
          <a:stretch/>
        </p:blipFill>
        <p:spPr>
          <a:xfrm>
            <a:off x="420840" y="463680"/>
            <a:ext cx="7937280" cy="12492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 txBox="1"/>
          <p:nvPr/>
        </p:nvSpPr>
        <p:spPr>
          <a:xfrm>
            <a:off x="785520" y="1643040"/>
            <a:ext cx="7643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я тему «Словообразование», читаю стихотворение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ак-математик в Германии жил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улку и масло случайно сложил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результат положил себе в рот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так человек изобрёл бутерброд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40" name="Picture 2" descr=""/>
          <p:cNvPicPr/>
          <p:nvPr/>
        </p:nvPicPr>
        <p:blipFill>
          <a:blip r:embed="rId2"/>
          <a:stretch/>
        </p:blipFill>
        <p:spPr>
          <a:xfrm>
            <a:off x="7286760" y="5143680"/>
            <a:ext cx="1662120" cy="1454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Заголовок 1" descr=""/>
          <p:cNvPicPr/>
          <p:nvPr/>
        </p:nvPicPr>
        <p:blipFill>
          <a:blip r:embed="rId1"/>
          <a:stretch/>
        </p:blipFill>
        <p:spPr>
          <a:xfrm>
            <a:off x="208080" y="103320"/>
            <a:ext cx="8955000" cy="113976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 txBox="1"/>
          <p:nvPr/>
        </p:nvSpPr>
        <p:spPr>
          <a:xfrm>
            <a:off x="428760" y="999720"/>
            <a:ext cx="85010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 1 класс «Звуки и буквы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, в некотором царстве, в некотором государстве жили - были брат и сестра. Сестра всегда пела и танцевала и любила носить красные платья, а брат петь не мог, но любил носить синие или зеленые, а иногда и сине-зеленые вещи. Но это их не расстраивало, ведь сестра всегда ходила с братом, держась за руку, и всегда пела красивые песн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на доске буквы нам надо их разделить на две группы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 Ж М Н Щ Ы У Д О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 в группу сестры, вторые - бра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, как вы думаете, какие буквы отправим в группу сестры, а какие брата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какого цвета будут буквы в группе сестры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брата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цы, хотите узнать, как звали сестру и брата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643" name="Рисунок 4" descr=""/>
          <p:cNvPicPr/>
          <p:nvPr/>
        </p:nvPicPr>
        <p:blipFill>
          <a:blip r:embed="rId2"/>
          <a:stretch/>
        </p:blipFill>
        <p:spPr>
          <a:xfrm>
            <a:off x="7215120" y="5000760"/>
            <a:ext cx="160200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1:46:25Z</dcterms:created>
  <dc:creator>Nataliya</dc:creator>
  <dc:description/>
  <dc:language>en-US</dc:language>
  <cp:lastModifiedBy>Влад</cp:lastModifiedBy>
  <dcterms:modified xsi:type="dcterms:W3CDTF">2022-09-08T14:42:45Z</dcterms:modified>
  <cp:revision>96</cp:revision>
  <dc:subject/>
  <dc:title>Слайд 1</dc:title>
</cp:coreProperties>
</file>