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240-DC41-402A-9E4C-262D3605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9B1-9950-4B0A-AFFA-A4FE2A8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59FD-1604-4C71-B962-B7AFD82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15B4-E073-4695-9EAA-B9D2CF5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747F4-A1AD-4D50-AC89-62864C5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9B6ED-4CF2-4F33-A3DB-526ED84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53BA4-2F1D-4737-A410-1558A3E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EE64C-DD19-48B6-8EB8-D9B2CA7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5545F-7B07-4473-A891-B3D8120D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4684B-C864-4FE6-AC3F-280F6396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53A8-29DB-4D4A-8484-621D9B99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39968-4DEC-43A1-9744-1F68C43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0AF-26FF-4590-8A5B-6D0CF70A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82BA7-0837-4D45-9089-4791153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C4EA5-3B0C-4BC9-A4AB-2A5DC89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42884-C4F9-42F0-8BF4-86581FE2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20ADA-831F-4403-BA13-BDF58BCB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533B8-D147-44AE-ABC9-DD5E73D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D83D-E8E4-46B5-B4A1-E20A6C7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D65E5-2B0F-4F89-A882-E96ADA3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B46E1-09FC-4682-9AA6-4587157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A5CD7-161A-4933-B346-06E1D30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4C06-5D09-411C-9E95-699C6A98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3AA-0106-4889-A272-022CAA96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BE5FF-929D-4A71-BBD8-7B1CBA8D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A3FC-D173-43E9-BD77-7E298C6C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3C4C-5D26-4D8F-A55D-C2C8127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6D37-93F7-4CC8-85EA-CE6DF4BC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AE83D-6AEA-45E2-AA7D-F1D9DBF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C15D-4C97-4E78-8152-F7CD990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33384-BAB0-448D-96BB-7AE1AE3F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690C3-09B9-4C9A-A779-10BED56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AD69A-8EA9-401B-83C2-48F155F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45CE-5D3E-42F7-9B43-60C06527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0C4-FE3F-476B-B43D-8896A30A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649D5-4085-497D-83F4-790F344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52B0-42C4-4EE8-B2BE-B516D9F3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D1CAF-EFE7-4D51-B973-188B1F4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F6814-F05F-487B-A3FB-8F15E2C8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36828-BE40-4350-B276-395A489D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987FA-9B38-4293-8E13-1BCF9BA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DF79-9810-4F18-A497-C78506C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6E10-D4E6-4429-A1A6-2C155226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10557-AA41-426C-A967-89206014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73F39-372D-4D42-AC9E-095F3F8D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88F-129A-4663-B82D-C61B098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54822-440B-4308-8541-D82E4AD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F098E-D445-419C-A808-3B04F91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3FF12-3223-42F2-B3A7-4896817B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FF3B-021E-4866-B0C9-C248C268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1DE2B-90A5-4FFA-B6AA-EDD49C37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59D-2D6C-44BD-8C41-51DF6C2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EF3B-880D-42C0-95F0-3443A4B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64D-93C0-4857-8E95-8E93A98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DA6-8E90-438D-A79E-E54793D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3BBB-0AD2-46EB-A405-823CB73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EB8-7178-4F3C-9519-1860B93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2AF8-97EE-40F7-9CCF-EFA5A3C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E777-A84B-4248-82BB-0AA579D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E41-C499-453A-8F5A-FEAD07E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693-E894-4081-8A8B-E38677DE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44E1-C9A5-451D-8738-93745D19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0A86-C21F-428D-A4D5-2C2D55E3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6731-94B9-4FDB-85E4-D78E1424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4D08-3B2C-44E5-A898-F845BAF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13E6-7E59-4FB6-A7A4-B500042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0F1B-244E-4B3A-8BD3-AB3F259E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33D-EE65-421E-8A3F-3F01C1BE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5DD3-05E5-41CF-9A86-8C91488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ED08-0CCF-470A-AAAE-9A34477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3B23-0321-4C52-B511-9CDBECCD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C1E9-E71C-4390-87D2-3A488D2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938C-A0A2-4B49-B0DE-03F6FD1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852B-E8CD-4B11-8E88-19FF35CE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814A-D1F7-4082-A914-DE820722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0781-6941-4C5C-8B4C-27B76A0F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9177-2DA6-451F-B802-B7B2BF7B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D9A2-E339-40BE-8748-50817E0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D95-B424-44AD-A8E1-B38402A8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D8A7-162C-46AE-95A1-3DCA770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3D9D-895F-4B41-8E8D-C1D0C67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4A5B-0C25-4DEB-88A2-5ABDA6CA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435C-0B33-4845-86C3-9CEC112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79E8-B738-4E37-A33F-97E2A8D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A69C-074F-4080-8E98-7D630F7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8FAB-CA84-4818-9A0F-70324D8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2D01-6CBA-4C10-BEDB-29703F0C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6432-4E17-4140-9BEE-174B7E6A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AD8C-EF8F-4AA6-A31C-25DC7AE3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BE4-40C9-406F-BCF8-D9CADA4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1AE2C-2F90-4527-80B8-E9D1100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86D44-8F90-415D-9C82-E27318C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A6D1-82A6-4F12-A783-0F7423E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5A65-1128-4FF1-B51F-4CE2D42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A8CC-98DB-4A1A-B83F-A3BCBF5F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B870-5E3E-45F7-83D0-D75922B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FA08-9359-4E57-BB66-E45FFAD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5B42-F1C7-4F4C-A401-F214A88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B449-8806-4FA3-A543-5914329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1C56-2D5D-474F-BE82-7E0D8381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608-2272-4850-956B-962844E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745E-D505-42BF-BFB9-1D9B6B35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2768-88BF-402B-AE25-9D4CA286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083A-6A8A-4C44-A859-ED3AB5F6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80D00-BACF-4648-A4DE-799B478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6CE3F-99C3-4071-AC1B-6F3274E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5DF1A-5C16-4E39-B4D5-93F68AF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6EA3-F7B3-4167-B03F-D57AB8A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C651-D2F0-4AD1-98CB-FEFAE29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22C5D-D1A0-4646-9998-EA8CEFD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0BB3-590C-4CDB-995C-E74A1D4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5BE-C02A-41FC-8573-9CF3E81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52C9-375E-4200-B0C4-43066208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78B2-76DD-47E5-A3FA-BB04B7A2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5993-F205-4560-B81C-13C4569C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6352-2D4C-48BF-8FAB-9F9CE3A2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AAC7-F1A3-415F-9C5C-0B6A692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532D-F571-421C-B9BA-5FF697C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751F3-4C66-470F-9C07-51D9221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EBE1-7D4C-436C-ABF7-1292F2BC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EFEE-72E6-4D4C-B973-E4EB34D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871A-7D71-40FE-9FF8-262E8BC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A3B-E486-46CF-A882-D54CED6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425B-DCB2-4703-9A8B-B645ED1D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988D1-4F56-47AB-8F59-3825325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707E1-F07F-47FA-BB60-666D78A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281E-BD71-43EA-8DAE-8AF2355B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6E4EC-ED3A-4C68-976A-F2F89B42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9F21-3B03-4A1D-9B8B-5C31AAF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96EAD-96FC-4936-B12F-8AC1ED0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20BC-59C3-4F12-872C-A82644E9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0988-C731-4470-9FCF-1A28A066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2A06C-619D-46B1-9599-2D2F270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304-7E54-4FF8-BAAA-F27A22F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997A-1E64-4F5B-9FD8-5A75AA6C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3FACB-AA9B-4BBA-AE2D-6218FB0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39934-57F7-4C03-93C3-75D6008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CFF1-F232-4DF0-B742-0F6C70B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42A7-C5D9-4343-84FE-4D7FEA5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5FF1-E236-4E62-BD15-A69BCBFC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FF86E-9BF1-47BF-9B4F-78CB3D13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80A40-327A-4EB7-B650-57D9DB11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C1E78-0D90-427C-A01E-EEF80A4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E20CB-AE8C-4C45-BF73-B051EA15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3F6-1A22-4B6A-90F8-7495E92E17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5DC-C3CB-4389-A599-EF0FEBB6D9F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523-021C-4815-A6A3-22715521C2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C3C-003B-4233-A94A-99A3037590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295-3428-4E49-8F88-BA7D5AFDE8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491-DEB2-43FF-B9B2-5A203081AE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920-52FB-4BE7-887D-C7CFFE67C4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035A-9C6D-4463-A9DC-DB79839CA72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50D5-2EE9-4F15-A079-CAE66EBE0EE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3EE-5914-44B9-BD60-5F90878CEC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9C1-D384-4605-BA2E-A1AC69D522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BA44-B266-46AB-B098-EE4B17D92B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Заголовок 6" descr=""/>
          <p:cNvPicPr/>
          <p:nvPr/>
        </p:nvPicPr>
        <p:blipFill>
          <a:blip r:embed="rId1"/>
          <a:stretch/>
        </p:blipFill>
        <p:spPr>
          <a:xfrm>
            <a:off x="755640" y="82224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139760" y="176040"/>
            <a:ext cx="6516720" cy="11350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285480" y="1213920"/>
            <a:ext cx="84294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о изучению темы       « Морфология» загадывается определенная часть речи, и ребята начинают задавать учителю вопросы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часть речи? -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означает признак предмета? – нет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часть речи склоняется? –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ая многочисленная часть речи? – д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делают вывод, что эт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646" name="Прямоугольник 3"/>
          <p:cNvGrpSpPr/>
          <p:nvPr/>
        </p:nvGrpSpPr>
        <p:grpSpPr>
          <a:xfrm>
            <a:off x="6138720" y="5065560"/>
            <a:ext cx="2303640" cy="1590840"/>
            <a:chOff x="6138720" y="5065560"/>
            <a:chExt cx="2303640" cy="1590840"/>
          </a:xfrm>
        </p:grpSpPr>
        <p:pic>
          <p:nvPicPr>
            <p:cNvPr id="64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138720" y="5065560"/>
              <a:ext cx="23036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143760" y="507204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Заголово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8790120" cy="1139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28760" y="999720"/>
            <a:ext cx="8286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вразброс обычные загадки и лжезагадки, дети должны их угадывать и указывать их тип. 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8 + 4: 11 или 13 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тет не березе - яблоки или груши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"часы" - пишется как "чесы" или "чисы"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стрее плавает - котенок или цыплено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России - Париж или Минс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вери живут в Африке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онты или динозавры?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2"/>
          <a:stretch/>
        </p:blipFill>
        <p:spPr>
          <a:xfrm>
            <a:off x="6715080" y="500076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Заголовок 1" descr=""/>
          <p:cNvPicPr/>
          <p:nvPr/>
        </p:nvPicPr>
        <p:blipFill>
          <a:blip r:embed="rId1"/>
          <a:stretch/>
        </p:blipFill>
        <p:spPr>
          <a:xfrm>
            <a:off x="706320" y="176040"/>
            <a:ext cx="7089840" cy="12510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713880" y="1214280"/>
            <a:ext cx="67582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думывают слова на тему «Школ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арт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арта, дос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та, доска, мел 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время детям под силу назвать по порядку только 5–6 слов, в конце года – уже 10–12 с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238880" y="4286160"/>
            <a:ext cx="1597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1359000" y="317520"/>
            <a:ext cx="7151760" cy="1255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571680" y="1285560"/>
            <a:ext cx="6543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вид рефлексии вы можете использовать на своих уроках после изучения большого раздела. Вот вам рюкзачок. Передавая его друг другу скажите по фразе: что узнали, что поняли, что удивил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«Я научилась хорошо определять падежи имен существительных в словосочетаниях» или «Я хорошо научилась различать родительный и винительный падежи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7" name="Содержимое 4" descr="rjukzakthefoxyowl.jpg"/>
          <p:cNvPicPr/>
          <p:nvPr/>
        </p:nvPicPr>
        <p:blipFill>
          <a:blip r:embed="rId2"/>
          <a:stretch/>
        </p:blipFill>
        <p:spPr>
          <a:xfrm>
            <a:off x="6711840" y="407196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57120" y="5713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формировании функциональной грамотности учащихся учителям начальных классов надо помн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вным является не предмет, которому вы учите, а личность, которую вы формируе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воспитание активности не жалейте ни времени, ни усилий. Сегодняшний активный ученик - завтрашний активный член об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чите детей учить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обходимо чаще использовать вопрос "почему?", чтобы научить мыслить причинно: понимание причинно-следственных связей является обязательным условием развивающего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мните, что знает не тот, кто пересказывает, а тот, кто использует знания на практ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Приучайте учеников думать и действовать самостоятель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6" descr=""/>
          <p:cNvPicPr/>
          <p:nvPr/>
        </p:nvPicPr>
        <p:blipFill>
          <a:blip r:embed="rId1"/>
          <a:stretch/>
        </p:blipFill>
        <p:spPr>
          <a:xfrm>
            <a:off x="639720" y="2163600"/>
            <a:ext cx="8480520" cy="20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Федеральном компоненте государственного стандарта общего образования среди прочих направлений модернизации общего образования выделяется задач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формирования ключевых компетенций – готовности учащихся использовать усвоенные знания, умения и способы деятельности в реальной жизни для решения практических задач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Так же, отмечается, что одним из базовых требований к содержанию образования на ступени основного общего образо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… является достижение выпускниками уровня функциональной грамотности, необходимой в современном обществе, как по математическому и естественнонаучному, так и социально-культурному направлениям»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Заголовок 1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656560" cy="1882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539280" y="1989000"/>
            <a:ext cx="828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качествами должен обладать ученик начальной школы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ность взаимодействовать с окружающим миром, уверенная адаптация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ие самостоятельно решать учебные и житейские задачи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строить отношения в малой социальной группе, в частности — в школьном классе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ние навыками рефлексии, способность посмотреть на себя со стороны, оценить свою работу.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95280" y="260280"/>
            <a:ext cx="8569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, у которого сформированы навыки функционального чтения, может «свободно использовать навыки чтения и письма для получения информации из текста – для его понимания, сжатия, преобразования и т.д.». (по А.А. Леонтьеву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27" name="Рисунок 1" descr=""/>
          <p:cNvPicPr/>
          <p:nvPr/>
        </p:nvPicPr>
        <p:blipFill>
          <a:blip r:embed="rId1"/>
          <a:stretch/>
        </p:blipFill>
        <p:spPr>
          <a:xfrm>
            <a:off x="422280" y="2673360"/>
            <a:ext cx="8542440" cy="418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Заголовок 1" descr=""/>
          <p:cNvPicPr/>
          <p:nvPr/>
        </p:nvPicPr>
        <p:blipFill>
          <a:blip r:embed="rId1"/>
          <a:stretch/>
        </p:blipFill>
        <p:spPr>
          <a:xfrm>
            <a:off x="1255680" y="152280"/>
            <a:ext cx="6729480" cy="12495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500040" y="1500120"/>
            <a:ext cx="78170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 саша. И коля чистят. Каток весело. Работать ребятам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нас жывёт кот семён.он добрый и очен пушыстый. Сам он весь чорный а ушы у нево белинькие. Хвосьтик Сёма держит трубой. Гласки хитрыи .А ещё он дрочюн. На нашей улеце ево боятся все каты. А мышы не баятся, потому што Сёма не любит лавить мыше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Прямая соединительная линия 4"/>
          <p:cNvSpPr/>
          <p:nvPr/>
        </p:nvSpPr>
        <p:spPr>
          <a:xfrm>
            <a:off x="2195640" y="2060640"/>
            <a:ext cx="0" cy="0"/>
          </a:xfrm>
          <a:prstGeom prst="line">
            <a:avLst/>
          </a:prstGeom>
          <a:ln w="9360">
            <a:solidFill>
              <a:srgbClr val="ff8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7715160" y="5143680"/>
            <a:ext cx="1214640" cy="153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8577000" cy="154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999720" y="1499760"/>
            <a:ext cx="707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тавьте пропущенные буквы парных согласных, подобрав проверочные слова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у.., пиро.., ко.., горо.., пру.., клю.., пру…, овра.., коро.., ко.., арбу.., лу.., обо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2"/>
          <a:stretch/>
        </p:blipFill>
        <p:spPr>
          <a:xfrm>
            <a:off x="7143840" y="4857840"/>
            <a:ext cx="1827000" cy="1827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Заголовок 1" descr=""/>
          <p:cNvPicPr/>
          <p:nvPr/>
        </p:nvPicPr>
        <p:blipFill>
          <a:blip r:embed="rId1"/>
          <a:stretch/>
        </p:blipFill>
        <p:spPr>
          <a:xfrm>
            <a:off x="426960" y="603360"/>
            <a:ext cx="6796080" cy="12556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713880" y="1785960"/>
            <a:ext cx="72867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ёза - 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 – 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д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ята – д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х – 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 – 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на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6715080" y="4000680"/>
            <a:ext cx="182412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420840" y="463680"/>
            <a:ext cx="7937280" cy="1249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785520" y="164304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тему «Словообразование», читаю стихотворение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ак-математик в Германии жи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улку и масло случайно сложил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результат положил себе в ро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 человек изобрёл бутербр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7286760" y="5143680"/>
            <a:ext cx="166212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208080" y="103320"/>
            <a:ext cx="8955000" cy="1139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428760" y="999720"/>
            <a:ext cx="85010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1 класс «Звуки и букв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в некотором царстве, в некотором государстве жили - были брат и сестра. Сестра всегда пела и танцевала и любила носить красные платья, а брат петь не мог, но любил носить синие или зеленые, а иногда и сине-зеленые вещи. Но это их не расстраивало, ведь сестра всегда ходила с братом, держась за руку, и всегда пела красивые пес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а доске буквы нам надо их разделить на две групп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Ж М Н Щ Ы У Д 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 в группу сестры, вторые - бр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 вы думаете, какие буквы отправим в группу сестры, а какие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ого цвета будут буквы в группе сестры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, хотите узнать, как звали сестру и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3" name="Рисунок 4" descr=""/>
          <p:cNvPicPr/>
          <p:nvPr/>
        </p:nvPicPr>
        <p:blipFill>
          <a:blip r:embed="rId2"/>
          <a:stretch/>
        </p:blipFill>
        <p:spPr>
          <a:xfrm>
            <a:off x="7215120" y="5000760"/>
            <a:ext cx="1602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46:25Z</dcterms:created>
  <dc:creator>Nataliya</dc:creator>
  <dc:description/>
  <dc:language>en-US</dc:language>
  <cp:lastModifiedBy>Влад</cp:lastModifiedBy>
  <dcterms:modified xsi:type="dcterms:W3CDTF">2022-09-08T14:42:45Z</dcterms:modified>
  <cp:revision>96</cp:revision>
  <dc:subject/>
  <dc:title>Слайд 1</dc:title>
</cp:coreProperties>
</file>