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424-520B-4DF4-AA99-69BEED6E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874-7A37-4721-A207-382C6C8A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5D247-E51F-4236-A9FB-80171195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9ECD3-7ADA-4FE2-90F1-0E6F4B59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157A4-999B-42F4-AE2B-2A94E562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54DAE-1DC1-41DE-BAA7-7420D40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33BCD-7362-4645-95FC-3CA06C4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2544C-8EDC-4F55-8130-544DBB76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B0012-88C4-4F3C-A887-1DA280A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35102-AE66-48DA-A61D-475D110C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F057D-F2E7-4894-AD72-CCDF7FFC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BF2A6-1D9F-49FE-88B3-29E55BCE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2FF-E707-4A2D-9646-989D303E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BF618-41C6-416C-932B-A3435537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83300-7A5C-4B0A-85EA-232C71F0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0F955-D6B6-4B21-A3E5-AB1A56D4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E0605-9790-420F-80C5-417C8DBA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1BD84-9E8E-46C2-B10B-12BA73D9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77D96-6F9D-432C-9490-BE4A6587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28DD5-5378-4F7C-9D9E-3152C065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7C7BD-1950-41F3-9EC2-EA1F43C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14DD1-B2E4-4ABC-BEE8-60A673AF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E456-2A87-4578-909C-35311C2A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8F4-593C-412E-BD3C-5681A9B8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9A6C7-1D4B-4FBE-98A8-94FF7BDA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49E76-7C56-48CE-8854-37C6D9FF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4C8BF-178C-4713-937C-B35B2C3B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E8374-3119-4522-B3A4-4E77B6F7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45151-F62A-4D9C-ADA2-2E265535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906BF-0D9E-4E54-B77C-07FA6442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0B60B-9594-472D-B203-2B85F3C3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4C063-078F-4F7E-A67F-133C2C0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7E829-B300-49B6-844B-5CE5A109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05698-45D7-4E1D-8F1E-2B2B484B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609E-D78F-4717-AEA7-9294CF43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9031E-32F1-4BC6-BE94-8DFC54FF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96CBF-E89B-4826-AEF9-0FC66DEA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82080-AB49-4D47-A9E6-B00314A7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DE21C-39E2-4B91-8136-52474D0C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C2086-92F3-47B4-B561-486BE37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8E060-249A-474B-A1CF-1500617B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674AB-BE9F-41B0-AEC7-55BE047D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7FEFA-9EE0-47D6-816A-6B0367CE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AEABE-791E-499E-833F-9CF27F41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3E7A1-7A23-4F69-96E3-3FC6414E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CABF-04D6-4051-8D40-A6D31082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4A2CB-6A0E-4F47-B8E9-8A0A19D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71D77-7009-4C1D-8211-893260D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62A68-0768-4CE3-A39E-5E2B50BE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6F529-BEBC-43E9-9CB8-34D51590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CA7F6-0D10-419B-BF28-DB6EEDDD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D527-C469-44B2-8A4E-AEC2547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D654-BAED-45DB-9286-C1F38ECE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AC91-6D41-4319-8238-EB302D39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1A9D-295A-4CCF-A013-C234C9B3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B2DA-43C7-498D-A72C-53962BE2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116-CC07-4829-9D79-D89BDD9B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AEF4-1AD8-4E3C-9196-861DE77C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6256-EA88-4A20-9EC9-43DA2ABD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97A3-4710-478B-8CAD-CCFB3BD0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5106-6CF6-4E46-95B0-EA5FDF1C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6C40-CF5B-4612-98AC-2E71A3E9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3024-A4C2-43CF-83A7-D5CE9514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0555-9202-4FE6-B822-561C9DC5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76E72-37D5-4EF8-83C8-E56A680F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DF09-9710-474A-B7EF-C279997A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D6A1-2C3C-4279-A2BB-EFE94D6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018-B16D-42B6-ADB0-59B35706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0201-C336-471D-A855-C79341CA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1CB8-A57A-4174-B194-05918AF3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7E9E-4197-4868-9714-0DD2EF0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8862-3155-4B12-9BA9-D21EDA1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98A2-ADCE-425F-9F49-FF1A7E80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11CC-F166-4912-9930-94C49FC6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C92B-BAF7-4F34-890F-2EBC66B8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B34B-C527-49F7-BBC6-D9BCD7AB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C8C7-A5B4-46C6-BA31-3707E1B0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87AF-550F-4524-9D89-CDCFA439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BAD-62A5-429D-8275-FA6413F2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14CD4-BB8E-4B1F-A18C-EA8F2947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F16A-D011-4EE2-B243-FF48DAD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221D-7EE2-48B7-8311-882E9D5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7E4B-CFEF-49D4-8332-8C324215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EC319-1000-4827-BE8A-98E6A83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D893-4FB9-4EC4-9937-63ACADA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6ED3-FBD8-4336-BD36-29ED5780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6A08-9569-49C2-AF93-722A4759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723F-9424-48AB-8CAF-5BBB7374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37CF-9CB5-4178-BFE3-D13E076E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ED2-9E2D-4DBE-9194-86CE5EC3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F7542-2B47-4A02-A0AD-B352B8A4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2539-4A97-45B0-BF76-AF33C102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18AF-020A-4BDC-9D2C-2EB9791F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A40F9-7E26-46F7-ADD2-BF74882F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65296-AAC9-4B75-B11D-C323A7E2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8611-4D12-4175-BCDA-3EC303C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A4D69-6A21-4C2C-A115-B6AD70B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BA00B-DA68-4AC2-B200-2F34299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BE9F-69FB-4A24-951E-DA257499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F350-13C1-4B12-86FB-15D1195C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F10-FB5F-46AC-A5BD-39F189C8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0A8FC-9365-4AA9-84DC-807FFFF6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1E48F-B295-4197-B5ED-84D83AC5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FC0F3-6CEF-4E94-9510-24054554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D2DA-FBB1-49B5-BADB-EA7B7223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9DC8-2111-4C38-8DA2-ABF67021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167A-3070-4469-AF3A-066D5E21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1AC8F-546C-4EE7-8A31-2EE77556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2626-743F-4F2A-8E01-06EFDB97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973F-1666-4E1B-9802-C08DBEC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71F49-9626-4243-8DB9-7FCCF4DF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483-D50E-4783-8033-A55C0D4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07A85-4C30-4168-B94B-D08AE243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D77EE-8ECC-471C-9C4E-78AF0CE4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107DD-484D-4D50-8BD2-33BE0E8D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7211E-7AF7-42BF-B3D1-230F756D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56D52-2500-44B9-8B2F-60E8E65C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54BD-F9B3-492A-A434-39988A9A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43753-0A0C-467F-A549-E890FAF2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0498F-6A70-4E04-831B-7F7E82E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FBD5-FDD7-41AB-B3C2-9F26A994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C4C10-FD35-48E6-8E8F-0258D42B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65A-4B3D-4BE6-9BCC-219E0BD2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3C0E-4E3D-408B-9510-5158615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32497-C1BE-4680-8B9F-2D3F32C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404CF-E771-403E-BBDF-FD00CDF5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D359-4A56-4B47-86FD-EE762DCB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78EA5-3C19-4C53-8514-7820099A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E90A-E1C4-400B-8D6E-C7295A39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796E5-2F78-4796-A96F-77C82CEC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981B4-CC3E-4B85-91B1-38548E0F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A1DF7-E749-4055-BAEF-6EE4E9E5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91C83-E7E8-4AFE-96B8-4A75D56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5E2-7156-409C-B60F-88C796B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ECE8A-31C8-441D-8AA1-AD02298D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E88A8-B960-4406-B2A8-777C525C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33ACC-0C60-442E-B477-039067CA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10496-2665-4CE7-81DE-FEB4F55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0E16-6A29-4AC4-BEE8-93BA01F1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4A40-47FC-4F30-82DF-0E43A81B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41BD-BFE6-4218-8F56-7B5F3254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D9036-DDFF-49BD-A039-1129F8CB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77DF1-6AA4-449C-A012-66764FB4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96A43-B947-4479-BF7E-7A9161DB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F724-FCA2-4C1D-843E-C7C536AF380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2B06-F1C3-442C-B954-4449D0FD88F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B911-5A7E-4F00-869E-3531E08B1CB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7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7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829E-6F4B-4C8B-83F3-4143569758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F7D1-1481-46AB-8B2C-EE0637C3927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B840-14CE-4E22-BDE3-155926AF4B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2917-10D3-4B7B-8CC2-29306367CA0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F91-A14D-4549-8CF0-ECE3B2EA4E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92C8-D87C-4121-A660-570265C7CC8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9DF0-7136-4CF6-B29F-CB8F35D80EC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58F3-37CB-4682-840F-9E8E63DB499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7BFC-2679-4258-8FFA-4ACA09CE78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Заголовок 6" descr=""/>
          <p:cNvPicPr/>
          <p:nvPr/>
        </p:nvPicPr>
        <p:blipFill>
          <a:blip r:embed="rId1"/>
          <a:stretch/>
        </p:blipFill>
        <p:spPr>
          <a:xfrm>
            <a:off x="755640" y="82224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Заголовок 1" descr=""/>
          <p:cNvPicPr/>
          <p:nvPr/>
        </p:nvPicPr>
        <p:blipFill>
          <a:blip r:embed="rId1"/>
          <a:stretch/>
        </p:blipFill>
        <p:spPr>
          <a:xfrm>
            <a:off x="1139760" y="176040"/>
            <a:ext cx="6516720" cy="11350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285480" y="1213920"/>
            <a:ext cx="842940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по изучению темы       « Морфология» загадывается определенная часть речи, и ребята начинают задавать учителю вопросы: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ая часть речи? - да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бозначает признак предмета? – нет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часть речи склоняется? – да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ая многочисленная часть речи? – да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делают вывод, что эт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646" name="Прямоугольник 3"/>
          <p:cNvGrpSpPr/>
          <p:nvPr/>
        </p:nvGrpSpPr>
        <p:grpSpPr>
          <a:xfrm>
            <a:off x="6138720" y="5065560"/>
            <a:ext cx="2303640" cy="1590840"/>
            <a:chOff x="6138720" y="5065560"/>
            <a:chExt cx="2303640" cy="1590840"/>
          </a:xfrm>
        </p:grpSpPr>
        <p:pic>
          <p:nvPicPr>
            <p:cNvPr id="64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138720" y="5065560"/>
              <a:ext cx="23036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143760" y="5072040"/>
              <a:ext cx="2286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Заголово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8790120" cy="1139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428760" y="999720"/>
            <a:ext cx="8286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т вразброс обычные загадки и лжезагадки, дети должны их угадывать и указывать их тип. Например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удет 8 + 4: 11 или 13 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тет не березе - яблоки или груши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"часы" - пишется как "чесы" или "чисы"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стрее плавает - котенок или цыпленок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а России - Париж или Минск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вери живут в Африке –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онты или динозавры?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2"/>
          <a:stretch/>
        </p:blipFill>
        <p:spPr>
          <a:xfrm>
            <a:off x="6715080" y="500076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Заголовок 1" descr=""/>
          <p:cNvPicPr/>
          <p:nvPr/>
        </p:nvPicPr>
        <p:blipFill>
          <a:blip r:embed="rId1"/>
          <a:stretch/>
        </p:blipFill>
        <p:spPr>
          <a:xfrm>
            <a:off x="706320" y="176040"/>
            <a:ext cx="7089840" cy="12510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 txBox="1"/>
          <p:nvPr/>
        </p:nvSpPr>
        <p:spPr>
          <a:xfrm>
            <a:off x="713880" y="1214280"/>
            <a:ext cx="67582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думывают слова на тему «Школа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арт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арта, доск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арта, доска, мел и т.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время детям под силу назвать по порядку только 5–6 слов, в конце года – уже 10–12 сл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7238880" y="4286160"/>
            <a:ext cx="1597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Заголовок 1" descr=""/>
          <p:cNvPicPr/>
          <p:nvPr/>
        </p:nvPicPr>
        <p:blipFill>
          <a:blip r:embed="rId1"/>
          <a:stretch/>
        </p:blipFill>
        <p:spPr>
          <a:xfrm>
            <a:off x="1359000" y="317520"/>
            <a:ext cx="7151760" cy="12556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571680" y="1285560"/>
            <a:ext cx="6543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вид рефлексии вы можете использовать на своих уроках после изучения большого раздела. Вот вам рюкзачок. Передавая его друг другу скажите по фразе: что узнали, что поняли, что удивил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«Я научилась хорошо определять падежи имен существительных в словосочетаниях» или «Я хорошо научилась различать родительный и винительный падежи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7" name="Содержимое 4" descr="rjukzakthefoxyowl.jpg"/>
          <p:cNvPicPr/>
          <p:nvPr/>
        </p:nvPicPr>
        <p:blipFill>
          <a:blip r:embed="rId2"/>
          <a:stretch/>
        </p:blipFill>
        <p:spPr>
          <a:xfrm>
            <a:off x="6711840" y="4071960"/>
            <a:ext cx="2212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57120" y="5713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формировании функциональной грамотности учащихся учителям начальных классов надо помни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лавным является не предмет, которому вы учите, а личность, которую вы формируе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воспитание активности не жалейте ни времени, ни усилий. Сегодняшний активный ученик - завтрашний активный член обще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Учите детей учитьс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еобходимо чаще использовать вопрос "почему?", чтобы научить мыслить причинно: понимание причинно-следственных связей является обязательным условием развивающего обуч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мните, что знает не тот, кто пересказывает, а тот, кто использует знания на практик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Приучайте учеников думать и действовать самостоятель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Заголовок 6" descr=""/>
          <p:cNvPicPr/>
          <p:nvPr/>
        </p:nvPicPr>
        <p:blipFill>
          <a:blip r:embed="rId1"/>
          <a:stretch/>
        </p:blipFill>
        <p:spPr>
          <a:xfrm>
            <a:off x="639720" y="2163600"/>
            <a:ext cx="8480520" cy="20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Федеральном компоненте государственного стандарта общего образования среди прочих направлений модернизации общего образования выделяется задач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формирования ключевых компетенций – готовности учащихся использовать усвоенные знания, умения и способы деятельности в реальной жизни для решения практических задач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Так же, отмечается, что одним из базовых требований к содержанию образования на ступени основного общего образова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… является достижение выпускниками уровня функциональной грамотности, необходимой в современном обществе, как по математическому и естественнонаучному, так и социально-культурному направлениям».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449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Заголовок 1" descr=""/>
          <p:cNvPicPr/>
          <p:nvPr/>
        </p:nvPicPr>
        <p:blipFill>
          <a:blip r:embed="rId1"/>
          <a:stretch/>
        </p:blipFill>
        <p:spPr>
          <a:xfrm>
            <a:off x="285840" y="208080"/>
            <a:ext cx="8656560" cy="1882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 txBox="1"/>
          <p:nvPr/>
        </p:nvSpPr>
        <p:spPr>
          <a:xfrm>
            <a:off x="539280" y="1989000"/>
            <a:ext cx="8280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качествами должен обладать ученик начальной школы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отовность взаимодействовать с окружающим миром, уверенная адаптация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мение самостоятельно решать учебные и житейские задачи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ность строить отношения в малой социальной группе, в частности — в школьном классе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ладение навыками рефлексии, способность посмотреть на себя со стороны, оценить свою работу.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95280" y="260280"/>
            <a:ext cx="8569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, у которого сформированы навыки функционального чтения, может «свободно использовать навыки чтения и письма для получения информации из текста – для его понимания, сжатия, преобразования и т.д.». (по А.А. Леонтьеву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449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27" name="Рисунок 1" descr=""/>
          <p:cNvPicPr/>
          <p:nvPr/>
        </p:nvPicPr>
        <p:blipFill>
          <a:blip r:embed="rId1"/>
          <a:stretch/>
        </p:blipFill>
        <p:spPr>
          <a:xfrm>
            <a:off x="422280" y="2673360"/>
            <a:ext cx="8542440" cy="418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Заголовок 1" descr=""/>
          <p:cNvPicPr/>
          <p:nvPr/>
        </p:nvPicPr>
        <p:blipFill>
          <a:blip r:embed="rId1"/>
          <a:stretch/>
        </p:blipFill>
        <p:spPr>
          <a:xfrm>
            <a:off x="1255680" y="152280"/>
            <a:ext cx="6729480" cy="12495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500040" y="1500120"/>
            <a:ext cx="781704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исправив ошибк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ал снег саша. И коля чистят. Каток весело. Работать ребятам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исправив ошибки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нас жывёт кот семён.он добрый и очен пушыстый. Сам он весь чорный а ушы у нево белинькие. Хвосьтик Сёма держит трубой. Гласки хитрыи .А ещё он дрочюн. На нашей улеце ево боятся все каты. А мышы не баятся, потому што Сёма не любит лавить мыше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Прямая соединительная линия 4"/>
          <p:cNvSpPr/>
          <p:nvPr/>
        </p:nvSpPr>
        <p:spPr>
          <a:xfrm>
            <a:off x="2195640" y="2060640"/>
            <a:ext cx="0" cy="0"/>
          </a:xfrm>
          <a:prstGeom prst="line">
            <a:avLst/>
          </a:prstGeom>
          <a:ln w="9360">
            <a:solidFill>
              <a:srgbClr val="ff8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7715160" y="5143680"/>
            <a:ext cx="1214640" cy="153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Заголовок 1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8577000" cy="154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999720" y="1499760"/>
            <a:ext cx="7072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тавьте пропущенные буквы парных согласных, подобрав проверочные слова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у.., пиро.., ко.., горо.., пру.., клю.., пру…, овра.., коро.., ко.., арбу.., лу.., обо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2"/>
          <a:stretch/>
        </p:blipFill>
        <p:spPr>
          <a:xfrm>
            <a:off x="7143840" y="4857840"/>
            <a:ext cx="1827000" cy="1827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Заголовок 1" descr=""/>
          <p:cNvPicPr/>
          <p:nvPr/>
        </p:nvPicPr>
        <p:blipFill>
          <a:blip r:embed="rId1"/>
          <a:stretch/>
        </p:blipFill>
        <p:spPr>
          <a:xfrm>
            <a:off x="426960" y="603360"/>
            <a:ext cx="6796080" cy="12556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713880" y="1785960"/>
            <a:ext cx="728676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ёза - 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 – х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д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ята – д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х – 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 – у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на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2"/>
          <a:stretch/>
        </p:blipFill>
        <p:spPr>
          <a:xfrm>
            <a:off x="6715080" y="4000680"/>
            <a:ext cx="1824120" cy="2431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Заголовок 1" descr=""/>
          <p:cNvPicPr/>
          <p:nvPr/>
        </p:nvPicPr>
        <p:blipFill>
          <a:blip r:embed="rId1"/>
          <a:stretch/>
        </p:blipFill>
        <p:spPr>
          <a:xfrm>
            <a:off x="420840" y="463680"/>
            <a:ext cx="7937280" cy="1249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785520" y="164304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тему «Словообразование», читаю стихотворение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ак-математик в Германии жил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улку и масло случайно сложил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результат положил себе в рот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 человек изобрёл бутербр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2"/>
          <a:stretch/>
        </p:blipFill>
        <p:spPr>
          <a:xfrm>
            <a:off x="7286760" y="5143680"/>
            <a:ext cx="1662120" cy="14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Заголовок 1" descr=""/>
          <p:cNvPicPr/>
          <p:nvPr/>
        </p:nvPicPr>
        <p:blipFill>
          <a:blip r:embed="rId1"/>
          <a:stretch/>
        </p:blipFill>
        <p:spPr>
          <a:xfrm>
            <a:off x="208080" y="103320"/>
            <a:ext cx="8955000" cy="11397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428760" y="999720"/>
            <a:ext cx="85010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1 класс «Звуки и буквы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в некотором царстве, в некотором государстве жили - были брат и сестра. Сестра всегда пела и танцевала и любила носить красные платья, а брат петь не мог, но любил носить синие или зеленые, а иногда и сине-зеленые вещи. Но это их не расстраивало, ведь сестра всегда ходила с братом, держась за руку, и всегда пела красивые песн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на доске буквы нам надо их разделить на две группы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Ж М Н Щ Ы У Д 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 в группу сестры, вторые - бр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как вы думаете, какие буквы отправим в группу сестры, а какие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какого цвета будут буквы в группе сестры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, хотите узнать, как звали сестру и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43" name="Рисунок 4" descr=""/>
          <p:cNvPicPr/>
          <p:nvPr/>
        </p:nvPicPr>
        <p:blipFill>
          <a:blip r:embed="rId2"/>
          <a:stretch/>
        </p:blipFill>
        <p:spPr>
          <a:xfrm>
            <a:off x="7215120" y="5000760"/>
            <a:ext cx="16020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46:25Z</dcterms:created>
  <dc:creator>Nataliya</dc:creator>
  <dc:description/>
  <dc:language>en-US</dc:language>
  <cp:lastModifiedBy>Влад</cp:lastModifiedBy>
  <dcterms:modified xsi:type="dcterms:W3CDTF">2022-09-08T14:42:45Z</dcterms:modified>
  <cp:revision>96</cp:revision>
  <dc:subject/>
  <dc:title>Слайд 1</dc:title>
</cp:coreProperties>
</file>