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12.wmf" ContentType="image/x-wmf"/>
  <Override PartName="/ppt/media/image8.png" ContentType="image/png"/>
  <Override PartName="/ppt/media/image7.wmf" ContentType="image/x-wmf"/>
  <Override PartName="/ppt/media/image20.jpeg" ContentType="image/jpeg"/>
  <Override PartName="/ppt/media/image6.wmf" ContentType="image/x-wmf"/>
  <Override PartName="/ppt/media/image11.png" ContentType="image/png"/>
  <Override PartName="/ppt/media/image19.jpeg" ContentType="image/jpeg"/>
  <Override PartName="/ppt/media/image21.wmf" ContentType="image/x-wmf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dt" idx="4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ftr" idx="4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 type="sldNum" idx="4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440C-8641-4854-8440-99F9FB3E03C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D1F9-F57A-470E-9123-FECA0BD4E04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ACF8-FAA9-4387-A3D9-88F36771E03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D828-494D-46CD-A7F4-FD0E358C5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2783-8DC5-4BD0-B78F-4111889E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4BD2B2-41DA-4E3D-96DE-EE9FFB51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B7112A-6D55-4FB4-98AB-F5E9A0BC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B58C2E-A7BB-411E-B92B-36D6C83D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30B873-C1A9-49C6-B829-D3B3C1DE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7D29A7-B6B9-4B30-B137-401EB064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6EB672-8125-4FC5-AB52-6BFD6724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219ED-9838-4861-ACC0-634AABC0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10F5E6-80C3-43FF-BE64-7C3F61A1E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8A3713-59F7-4F9D-9527-E88B81F63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1B6213-6522-41FD-89DE-6D7824B9B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B847-5C19-42EE-9B75-2A4EFE764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5C37B4-D1BE-4BA9-8E61-37A1D14F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2CE77E-4395-49B2-AAB3-52F28D9E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D1FBE7-E374-472D-B24A-2537A286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B6DDBE-E102-4943-B7B3-B5AFE238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3ABC54-92BC-4EAA-A4B9-3082B273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E35C52-61A7-43E7-B4DF-2925D931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651962-7E99-49DB-8C61-271B833C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30638C-0112-44D5-B178-D97AADCA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B09001-AF04-4C69-90AD-24B1F3C9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1A998F-D741-4B1E-AF4B-66B2845B5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4A4C-A28C-4B0C-9D97-B9EE21B3A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ACFE53-96C2-49C6-A1EF-15D23A3FF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1BBCC-7F1D-436C-85CF-5C294537A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1F40E1-4E84-4E39-AD80-7D19EBA9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96975-3C04-4F07-980E-98FCEFF3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3F539C-4C8E-4860-A769-A7423A2F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985A38-8BC0-467D-8AC1-74813AAE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CCEBC-2619-4220-997A-15F9BD32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89D1C9-7EEE-423A-B421-215D3713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40039-E3DE-4FCE-B05E-C503A420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487C3C-35ED-471B-91D1-0A20844B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5E30-827B-4710-9EC4-3CA16FCBE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17F184-3887-45D0-A196-DBAA0AF8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07E4ED-B02B-446E-9544-B89E43CA1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63D75-92CE-499D-8DE2-CE23E74F4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DBD2BD-1B16-4F7F-AB07-5CFC2C42D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B7EE74-C194-4B9A-B351-A0FBA4B7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8B9692-B648-4E98-A373-11C6D716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877CF7-95A6-45C3-A7D5-8A637E5D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7ABEC6-7DFB-4F16-AD1B-BD2E16CA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16A5CF-6688-407D-BB8F-E08CA8FD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3C7A9A-820B-498A-BEDF-2689D5C5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1673-84E5-4719-90FC-CAFAFCCD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2D43CD-BA7B-47B8-9636-F914E906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1C9DD6-8424-4990-8FF6-4D1F92B9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5E9F20-14A7-4400-B1A5-1869122C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8C556E-458A-4627-ADDD-F4F041B1C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AB851A-46C9-4795-B16A-E666C57A2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F0081E-374D-42BD-B93E-B0B0A4838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EE7509-CA96-4AE5-B8F3-B129944A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BD449F-0A00-4385-B320-F4142BAF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438596-417B-4FE8-99D3-93895E15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B7A8F5-3B58-4788-B268-7B00F9EA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3465B-6263-4372-AF3F-9DE0B698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3BBB26-EDC5-4F23-87B2-845DF0AB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FD6DA8-87E6-487E-B256-C8AFB91C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927022-C7E4-49AB-8B91-998D68ED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530A66-2495-450D-BF3D-B8347101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35BD70-B26C-4ECE-980C-9DE51BE6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9CBDA7-D289-4341-8404-30204133F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83F52B-F41A-4B99-8D09-65E57594D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57F97F-8DB1-4198-9BAB-8DFD56B52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DBEEBE-922A-4BF2-9026-2BAA776E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3C87BB-5BF8-43DA-86EB-994BC60F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F300-551F-47B1-A772-23D61B2A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02FC4F-84CA-4324-9D33-C07EE45C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397651-22EA-45F2-A950-4791344F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4979BF-7B13-407E-9F86-CD24271D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34D37F-19A1-4B29-9CE4-84CEBAF5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37BBEB-721B-412D-96B9-6B050966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4D44F9-9892-440E-A86A-454F5174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4FF618-E022-41C5-A730-C11B0B24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8EAE03-3688-43C4-85A5-12ADA9733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488F5E-0116-46C2-87DF-4C289CA05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A334-0045-4B3A-8B46-F231A77E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FDE4-1643-4E29-ADE7-32EA6092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39F90-D721-427E-A600-BC12DBB1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25BC-6D45-4D01-9290-FB4CAB2E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D615-75E0-409C-8F73-97C8D7DF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FDF3-64E6-42C7-B4C7-F64CB7CC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C76D-9231-4993-9DD8-34F8ED98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AB15-AE56-4EFD-A359-0A051F8F8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4ABF-0E52-4342-B51B-FDCD5D263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C93D1-2451-434F-9DA9-E3E890225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224BA-6A6D-420A-8285-2196D9CD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9A12F-A611-442E-AF1A-A689218F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A7575-E97B-405B-AC71-0BAB58EB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F5B96-3BC9-495C-B4C7-B9797208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D085-8E06-416D-85B5-CCA2AA8D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29943-19A9-4E66-8C9A-A3D87BFD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5A747-4498-4065-A0DA-090F85CE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EF657-A0E3-4D3D-AFFE-CC7447F4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3C5D1-1534-494D-AED1-DF2EB38C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9A148-4BDF-4CC6-8963-E1943988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2970E-BB42-478C-B1E5-57E25F0DE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22B91-E043-4623-8683-62E306961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9DF7D-F99A-4191-AE85-F7B0E4D95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EE792-A313-4DF4-9468-3375DAEE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FD2C5-1D41-415D-9037-99CE7AB4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73C7-1252-49D1-B804-88751C20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BD19F-2110-49A8-9265-883626B8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74902-72E2-48BE-8821-55829CE4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DC554-F528-4EB3-8B2E-4152A471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D5751-8ACA-472F-9693-D4128769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E8E4A-7F81-4866-956F-AA5F122A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5C653-2AF8-4707-874C-2DBB52FC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CD21B-4386-4930-9129-17B294A3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FF12A-F309-45B7-A2EB-0B046CBBE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12E5D-E597-4AB9-84D8-18C70616D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04141-B9DB-4222-86BC-E2095B3B4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025E-AFBD-414D-B22C-B5F1F19A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04376-6E56-4AC3-AD68-D90CE0D1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FCA17-D59A-4951-BC1E-B03EB657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62EBA-9A2C-473D-A594-D92377ED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3420F-112C-4E90-B3F8-7F3FE84C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2E3E1-E0A1-4F5D-8574-04B26D5B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813F6-3DC9-4B62-B909-E3564539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862FE-EFE7-45AB-85B2-E7874179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47EC0-5947-42B2-8F57-D0DFC8E7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64B91-CEAD-40A4-B640-0804901B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CE0F8-9E7E-4D6F-818B-A52CA236A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4E9D-A19C-4A87-8538-1F42F790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1C904-FAF9-458C-9A64-395731433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F21B7-388D-4151-AB46-0C56557C3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176B5-EB2C-4408-81C9-2CB04620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6C17F-60A4-4A8C-BA70-B22C4D09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5D878-7CEE-4A5B-BF50-41FCA04A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62FD6-51F3-4E74-ACDD-4F68154A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D96B7-BCE6-434C-A547-3F7DA1C0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7C055-C2E1-4A35-8656-25F276D5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83133-B300-463C-A71A-102874FC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FBE33-B3F9-4638-99A5-3C6989B5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EAD7-B72C-422F-8978-7929788C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85A7E-06A0-415D-AC3D-C32DFB0B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4D4EC-A87A-43C2-8365-E5FDFF031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F9992-07CB-4117-873E-447058AAA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12AC1-E960-48D9-81B4-8C08E3277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C5BBF-283D-4ED2-B2CA-6100CE45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F9D43-63E8-43FD-8E57-E637720A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400F6-C7C1-47AA-B2FC-E8846BFF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0F3F2-E8A4-4689-8EAB-B8330D4B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9F823-EB8B-4D3C-AA02-6D26CEF4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E7E4E-C545-42C6-BB98-B83D9E1C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1390-BD11-44D7-BF23-455C2599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EE194-2186-4552-B078-CB074633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B012E-21E1-4020-AEBA-D74DDF21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3EC12-350B-4244-AD55-4A762D97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BB68A-0429-4AA5-A722-141B1D86B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7B86B-2BF4-426E-B38A-F72AF1AC5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4E333-8E7F-4186-A45F-75A2D4656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0DEF6-2D11-474E-9A2B-910397A0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3BE94-8271-4696-B9A2-07456DC3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A5A5B-32B0-4BF7-ACD0-A5FDB51F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51D1E-8105-4026-A105-47C491DC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0AC5-98CF-48B5-B2E3-F124FBA4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E1D87-0DDB-4B1D-A6D4-DEE1C8A8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6BF9A-76C4-4E25-8DE4-E7167F4F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2510E-7FF3-4EE5-BDEB-F2F8DF52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A3F26-5856-44A8-BCC3-109C4C30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AF5AD-67A8-4D55-8540-509A409F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9DA41-2B73-4569-B91F-6A555F2F1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A4052-6EE2-4679-9A25-7FC678A53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D985B4-CFF5-4A2B-AE47-DE3D5259F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0EBED1-AABC-4914-9B42-70EAEA65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2175E2-B40B-4C72-8FE3-A47FF555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265A-C879-4900-A216-E880361061AD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4B50-C6FD-40C8-9018-5150D091D47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8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6C34-B8C4-4892-A731-744BD33FC475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9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30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66CD-835C-437A-8D17-70B1AE6FAA98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434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435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3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E06B-C222-462D-9943-DB02276F4E83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3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3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3E93-FA51-46DD-9DFD-B76F662985E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478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479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4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D56D-9593-4646-8FD1-15AB87F9949E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5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6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5B48-37F4-48C6-9D13-F4441A03998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522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523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7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5953-58C8-4A8B-8E60-A4DDADA962E9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8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D3B7-C9EE-4DA8-A388-BC87039BA6A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566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567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40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A7D9-0524-42D3-8E70-AAC3BCD5076F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41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42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E798-E10F-4C47-BF77-6CC82B0DE07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5745-69CC-4F25-94E1-4D086D488B01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5FCC-2DA5-42E4-B743-6A57163D2502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3A83-6DC1-44F1-82BB-8D744019607C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770B-81C0-416E-A548-CC712150AE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9BBB-2375-4012-AF43-BFB339D945D1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242D-CA5D-40C3-9D11-AA08E190622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DDC5-3DDB-4EAA-BFF3-683595435D9B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AEF4-DB27-436D-BE6F-7B6EB867F3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DF06-7B19-4AB3-B728-0CB9695EB3F8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24B5-4F71-4DB0-AB3B-605FF1A5B9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264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265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0EDA-525B-4842-B63A-0F4F02797584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F641-D75A-4809-A296-7EBE1E49A2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308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309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DC66-001E-4E53-B9C8-421CFDCEE571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1056-879C-4955-AA91-0311F97EDC3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5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FC6E-D9D3-455C-BCB3-5C02748F61E4}" type="datetime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6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7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9FCC-DF9C-4E39-B4E4-856110B29641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7a7ff"/>
            </a:gs>
            <a:gs pos="100000">
              <a:srgbClr val="e4005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Rectangle 2049" descr=""/>
          <p:cNvPicPr/>
          <p:nvPr/>
        </p:nvPicPr>
        <p:blipFill>
          <a:blip r:embed="rId1"/>
          <a:stretch/>
        </p:blipFill>
        <p:spPr>
          <a:xfrm>
            <a:off x="457200" y="1920960"/>
            <a:ext cx="8809200" cy="2352600"/>
          </a:xfrm>
          <a:prstGeom prst="rect">
            <a:avLst/>
          </a:prstGeom>
          <a:ln w="0">
            <a:noFill/>
          </a:ln>
        </p:spPr>
      </p:pic>
      <p:pic>
        <p:nvPicPr>
          <p:cNvPr id="617" name="Rectangle 2048" descr=""/>
          <p:cNvPicPr/>
          <p:nvPr/>
        </p:nvPicPr>
        <p:blipFill>
          <a:blip r:embed="rId2"/>
          <a:stretch/>
        </p:blipFill>
        <p:spPr>
          <a:xfrm>
            <a:off x="3279600" y="2286000"/>
            <a:ext cx="3127680" cy="814392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71"/>
          <p:cNvSpPr/>
          <p:nvPr/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1DEE-12E9-488E-9387-04608E378355}" type="slidenum">
              <a:rPr b="0" lang="ru-RU" sz="1300" spc="-1" strike="noStrike">
                <a:solidFill>
                  <a:srgbClr val="ffffff"/>
                </a:solidFill>
                <a:latin typeface="Bell M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Bell MT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/>
          </p:nvPr>
        </p:nvSpPr>
        <p:spPr>
          <a:xfrm>
            <a:off x="455760" y="533520"/>
            <a:ext cx="868824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02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Century Gothic"/>
              </a:rPr>
              <a:t>    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              </a:t>
            </a:r>
            <a:r>
              <a:rPr b="0" lang="ru-RU" sz="2000" spc="-1" strike="noStrike">
                <a:solidFill>
                  <a:srgbClr val="ffff00"/>
                </a:solidFill>
                <a:latin typeface="Century Gothic"/>
              </a:rPr>
              <a:t>            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2 Zn + O</a:t>
            </a:r>
            <a:r>
              <a:rPr b="0" lang="en-US" sz="3000" spc="-1" strike="noStrike" baseline="-25000">
                <a:solidFill>
                  <a:srgbClr val="ffff00"/>
                </a:solidFill>
                <a:latin typeface="Century Gothic"/>
              </a:rPr>
              <a:t>2 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= 2 ZnO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               </a:t>
            </a:r>
            <a:r>
              <a:rPr b="0" lang="ru-RU" sz="3000" spc="-1" strike="noStrike">
                <a:solidFill>
                  <a:srgbClr val="ffff00"/>
                </a:solidFill>
                <a:latin typeface="Century Gothic"/>
              </a:rPr>
              <a:t>      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Zn + Cl</a:t>
            </a:r>
            <a:r>
              <a:rPr b="0" lang="en-US" sz="3000" spc="-1" strike="noStrike" baseline="-25000">
                <a:solidFill>
                  <a:srgbClr val="ffff00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 =  ZnCl</a:t>
            </a:r>
            <a:r>
              <a:rPr b="0" lang="en-US" sz="3000" spc="-1" strike="noStrike" baseline="-25000">
                <a:solidFill>
                  <a:srgbClr val="ffff00"/>
                </a:solidFill>
                <a:latin typeface="Century Gothic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baseline="-25000">
                <a:solidFill>
                  <a:srgbClr val="ffff00"/>
                </a:solidFill>
                <a:latin typeface="Century Gothic"/>
              </a:rPr>
              <a:t>                           </a:t>
            </a:r>
            <a:r>
              <a:rPr b="0" lang="ru-RU" sz="3000" spc="-1" strike="noStrike" baseline="-25000">
                <a:solidFill>
                  <a:srgbClr val="ffff00"/>
                </a:solidFill>
                <a:latin typeface="Century Gothic"/>
              </a:rPr>
              <a:t>          </a:t>
            </a:r>
            <a:r>
              <a:rPr b="0" lang="en-US" sz="3000" spc="-1" strike="noStrike" baseline="-25000">
                <a:solidFill>
                  <a:srgbClr val="ffff00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Zn</a:t>
            </a:r>
            <a:r>
              <a:rPr b="0" lang="ru-RU" sz="3000" spc="-1" strike="noStrike">
                <a:solidFill>
                  <a:srgbClr val="ffff00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+ S = ZnS</a:t>
            </a:r>
            <a:r>
              <a:rPr b="0" lang="ru-RU" sz="3000" spc="-1" strike="noStrike">
                <a:solidFill>
                  <a:srgbClr val="ffff00"/>
                </a:solidFill>
                <a:latin typeface="Century Gothic"/>
              </a:rPr>
              <a:t>,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Bell MT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а с водой – только в раскаленном виде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ell MT"/>
              </a:rPr>
              <a:t>                      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                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Zn + H</a:t>
            </a:r>
            <a:r>
              <a:rPr b="0" lang="en-US" sz="3000" spc="-1" strike="noStrike" baseline="-25000">
                <a:solidFill>
                  <a:srgbClr val="ffff00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O = ZnO + H</a:t>
            </a:r>
            <a:r>
              <a:rPr b="0" lang="en-US" sz="3000" spc="-1" strike="noStrike" baseline="-25000">
                <a:solidFill>
                  <a:srgbClr val="ffff00"/>
                </a:solidFill>
                <a:latin typeface="Century Gothic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При обычных условиях эти реакции не идут, т.к. по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верхность цинка на воздухе покрывается тонкой за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щитной пленкой оксида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Цинк вступает в реакции со сложными веществами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с кислотами и основаниями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ell MT"/>
              </a:rPr>
              <a:t>                          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ffffff"/>
                </a:solidFill>
                <a:latin typeface="Century Gothic"/>
              </a:rPr>
              <a:t>                                  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9" name="Object 19"/>
              <p:cNvSpPr txBox="1"/>
              <p:nvPr/>
            </p:nvSpPr>
            <p:spPr>
              <a:xfrm>
                <a:off x="6407280" y="3124080"/>
                <a:ext cx="2905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0" name="Номер слайда 6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ABF2-BF2C-4F7B-B677-E5102BDB55F4}" type="slidenum">
              <a:rPr b="0" lang="ru-RU" sz="1200" spc="-1" strike="noStrike">
                <a:solidFill>
                  <a:srgbClr val="ffffff"/>
                </a:solidFill>
                <a:latin typeface="Bell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ell MT"/>
            </a:endParaRPr>
          </a:p>
        </p:txBody>
      </p:sp>
    </p:spTree>
  </p:cSld>
  <p:transition spd="med">
    <p:cover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10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950"/>
                            </p:stCondLst>
                            <p:childTnLst>
                              <p:par>
                                <p:cTn id="10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1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/>
          </p:nvPr>
        </p:nvSpPr>
        <p:spPr>
          <a:xfrm>
            <a:off x="0" y="352440"/>
            <a:ext cx="9144000" cy="71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а)    При взаимодействии цинка с кислотой  ход реакции зависит от концентрации кислоты. Например, из раз  –бавленной серной кислоты цинк, стоящий в ряду ак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9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тивности металлов до водорода, легко вытесняет его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9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в ходе реакции. Окислителями в этих условиях явля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9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ются ионы водорода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9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98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Bell MT"/>
              </a:rPr>
              <a:t>                     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Zn + H</a:t>
            </a:r>
            <a:r>
              <a:rPr b="0" lang="en-US" sz="3000" spc="-1" strike="noStrike" baseline="-25000">
                <a:solidFill>
                  <a:srgbClr val="ffff00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SO</a:t>
            </a:r>
            <a:r>
              <a:rPr b="0" lang="en-US" sz="3000" spc="-1" strike="noStrike" baseline="-25000">
                <a:solidFill>
                  <a:srgbClr val="ffff00"/>
                </a:solidFill>
                <a:latin typeface="Century Gothic"/>
              </a:rPr>
              <a:t>4 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= ZnSO</a:t>
            </a:r>
            <a:r>
              <a:rPr b="0" lang="en-US" sz="3000" spc="-1" strike="noStrike" baseline="-25000">
                <a:solidFill>
                  <a:srgbClr val="ffff00"/>
                </a:solidFill>
                <a:latin typeface="Century Gothic"/>
              </a:rPr>
              <a:t>4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 + H</a:t>
            </a:r>
            <a:r>
              <a:rPr b="0" lang="en-US" sz="3000" spc="-1" strike="noStrike" baseline="-25000">
                <a:solidFill>
                  <a:srgbClr val="ffff00"/>
                </a:solidFill>
                <a:latin typeface="Century Gothic"/>
              </a:rPr>
              <a:t>2 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  <a:ea typeface="Arial"/>
              </a:rPr>
              <a:t>⁭⁭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39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98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           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Zn</a:t>
            </a:r>
            <a:r>
              <a:rPr b="0" lang="en-US" sz="3000" spc="-1" strike="noStrike" baseline="30000">
                <a:solidFill>
                  <a:srgbClr val="ffff00"/>
                </a:solidFill>
                <a:latin typeface="Century Gothic"/>
              </a:rPr>
              <a:t>0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 + 2H</a:t>
            </a:r>
            <a:r>
              <a:rPr b="0" lang="en-US" sz="3000" spc="-1" strike="noStrike" baseline="30000">
                <a:solidFill>
                  <a:srgbClr val="ffff00"/>
                </a:solidFill>
                <a:latin typeface="Century Gothic"/>
              </a:rPr>
              <a:t>+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 + SO</a:t>
            </a:r>
            <a:r>
              <a:rPr b="0" lang="en-US" sz="3000" spc="-1" strike="noStrike" baseline="-25000">
                <a:solidFill>
                  <a:srgbClr val="ffff00"/>
                </a:solidFill>
                <a:latin typeface="Century Gothic"/>
              </a:rPr>
              <a:t>4</a:t>
            </a:r>
            <a:r>
              <a:rPr b="0" lang="en-US" sz="3000" spc="-1" strike="noStrike" baseline="30000">
                <a:solidFill>
                  <a:srgbClr val="ffff00"/>
                </a:solidFill>
                <a:latin typeface="Century Gothic"/>
              </a:rPr>
              <a:t>2-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 = Zn</a:t>
            </a:r>
            <a:r>
              <a:rPr b="0" lang="en-US" sz="3000" spc="-1" strike="noStrike" baseline="30000">
                <a:solidFill>
                  <a:srgbClr val="ffff00"/>
                </a:solidFill>
                <a:latin typeface="Century Gothic"/>
              </a:rPr>
              <a:t>2+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+ SO</a:t>
            </a:r>
            <a:r>
              <a:rPr b="0" lang="en-US" sz="3000" spc="-1" strike="noStrike" baseline="-25000">
                <a:solidFill>
                  <a:srgbClr val="ffff00"/>
                </a:solidFill>
                <a:latin typeface="Century Gothic"/>
              </a:rPr>
              <a:t>4</a:t>
            </a:r>
            <a:r>
              <a:rPr b="0" lang="en-US" sz="3000" spc="-1" strike="noStrike" baseline="30000">
                <a:solidFill>
                  <a:srgbClr val="ffff00"/>
                </a:solidFill>
                <a:latin typeface="Century Gothic"/>
              </a:rPr>
              <a:t>2-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 + H</a:t>
            </a:r>
            <a:r>
              <a:rPr b="0" lang="en-US" sz="3000" spc="-1" strike="noStrike" baseline="-25000">
                <a:solidFill>
                  <a:srgbClr val="ffff00"/>
                </a:solidFill>
                <a:latin typeface="Century Gothic"/>
              </a:rPr>
              <a:t>2 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  <a:ea typeface="Arial"/>
              </a:rPr>
              <a:t>⁭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39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ff00"/>
                </a:solidFill>
                <a:latin typeface="Bell M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98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 Greek"/>
              </a:rPr>
              <a:t>           </a:t>
            </a:r>
            <a:r>
              <a:rPr b="0" lang="en-US" sz="3000" spc="-1" strike="noStrike">
                <a:solidFill>
                  <a:srgbClr val="ffff00"/>
                </a:solidFill>
                <a:latin typeface="Arial Greek"/>
              </a:rPr>
              <a:t>          </a:t>
            </a:r>
            <a:r>
              <a:rPr b="0" lang="ru-RU" sz="3000" spc="-1" strike="noStrike">
                <a:solidFill>
                  <a:srgbClr val="ffff00"/>
                </a:solidFill>
                <a:latin typeface="Arial Greek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Arial Greek"/>
              </a:rPr>
              <a:t>Zn</a:t>
            </a:r>
            <a:r>
              <a:rPr b="0" lang="en-US" sz="3000" spc="-1" strike="noStrike" baseline="30000">
                <a:solidFill>
                  <a:srgbClr val="ffff00"/>
                </a:solidFill>
                <a:latin typeface="Arial Greek"/>
              </a:rPr>
              <a:t>0 </a:t>
            </a:r>
            <a:r>
              <a:rPr b="0" lang="en-US" sz="3000" spc="-1" strike="noStrike">
                <a:solidFill>
                  <a:srgbClr val="ffff00"/>
                </a:solidFill>
                <a:latin typeface="Arial Greek"/>
              </a:rPr>
              <a:t>+ 2H</a:t>
            </a:r>
            <a:r>
              <a:rPr b="0" lang="en-US" sz="3000" spc="-1" strike="noStrike" baseline="30000">
                <a:solidFill>
                  <a:srgbClr val="ffff00"/>
                </a:solidFill>
                <a:latin typeface="Arial Greek"/>
              </a:rPr>
              <a:t>+ </a:t>
            </a:r>
            <a:r>
              <a:rPr b="0" lang="en-US" sz="3000" spc="-1" strike="noStrike">
                <a:solidFill>
                  <a:srgbClr val="ffff00"/>
                </a:solidFill>
                <a:latin typeface="Arial Greek"/>
              </a:rPr>
              <a:t>= Zn</a:t>
            </a:r>
            <a:r>
              <a:rPr b="0" lang="en-US" sz="3000" spc="-1" strike="noStrike" baseline="30000">
                <a:solidFill>
                  <a:srgbClr val="ffff00"/>
                </a:solidFill>
                <a:latin typeface="Arial Greek"/>
              </a:rPr>
              <a:t>2+</a:t>
            </a:r>
            <a:r>
              <a:rPr b="0" lang="en-US" sz="3000" spc="-1" strike="noStrike">
                <a:solidFill>
                  <a:srgbClr val="ffff00"/>
                </a:solidFill>
                <a:latin typeface="Arial Greek"/>
              </a:rPr>
              <a:t> + H</a:t>
            </a:r>
            <a:r>
              <a:rPr b="0" lang="en-US" sz="3000" spc="-1" strike="noStrike" baseline="-25000">
                <a:solidFill>
                  <a:srgbClr val="ffff00"/>
                </a:solidFill>
                <a:latin typeface="Arial Greek"/>
              </a:rPr>
              <a:t>2</a:t>
            </a:r>
            <a:r>
              <a:rPr b="0" lang="en-US" sz="3000" spc="-1" strike="noStrike">
                <a:solidFill>
                  <a:srgbClr val="ffff00"/>
                </a:solidFill>
                <a:latin typeface="Arial Greek"/>
              </a:rPr>
              <a:t> ⁭</a:t>
            </a:r>
            <a:r>
              <a:rPr b="0" lang="en-US" sz="3000" spc="-1" strike="noStrike" baseline="30000">
                <a:solidFill>
                  <a:srgbClr val="ffff00"/>
                </a:solidFill>
                <a:latin typeface="Arial Greek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39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9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ell MT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Bell MT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Bell M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2" name="Номер слайда 6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B473-5EFB-4797-AF03-F04F30FBAC7F}" type="slidenum">
              <a:rPr b="0" lang="ru-RU" sz="1200" spc="-1" strike="noStrike">
                <a:solidFill>
                  <a:srgbClr val="ffffff"/>
                </a:solidFill>
                <a:latin typeface="Bell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ell MT"/>
            </a:endParaRPr>
          </a:p>
        </p:txBody>
      </p:sp>
    </p:spTree>
  </p:cSld>
  <p:transition spd="med">
    <p:cover dir="d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4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5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5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 txBox="1"/>
          <p:nvPr/>
        </p:nvSpPr>
        <p:spPr>
          <a:xfrm>
            <a:off x="455760" y="304920"/>
            <a:ext cx="868824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93840" indent="-336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При взаимодействии цинка с концентрированной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9384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серной кислотой окислителем является сера со сте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9384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пенью окисления (+6). Реакция идет только при на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9384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гревании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9384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93840" indent="-336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                 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39384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б)   В отличие от типичных металлов 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I-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  II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-групп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9384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переодической таблицы цинк может взаимодейство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9384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вать с основаниями в твердом виде ( при нагревании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9384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или в водном растворе, образуя соль или комплексное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9384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соединение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4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6855-71A8-4833-B07F-4C69FFFF7A44}" type="slidenum">
              <a:rPr b="0" lang="ru-RU" sz="1200" spc="-1" strike="noStrike">
                <a:solidFill>
                  <a:srgbClr val="ffffff"/>
                </a:solidFill>
                <a:latin typeface="Bell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ell MT"/>
            </a:endParaRPr>
          </a:p>
        </p:txBody>
      </p:sp>
      <p:pic>
        <p:nvPicPr>
          <p:cNvPr id="655" name="Picture 6" descr="Рисунок7"/>
          <p:cNvPicPr/>
          <p:nvPr/>
        </p:nvPicPr>
        <p:blipFill>
          <a:blip r:embed="rId1"/>
          <a:stretch/>
        </p:blipFill>
        <p:spPr>
          <a:xfrm>
            <a:off x="455760" y="2476440"/>
            <a:ext cx="8211960" cy="647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455760" y="838080"/>
            <a:ext cx="86882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Bell MT"/>
              </a:rPr>
              <a:t>  </a:t>
            </a:r>
            <a:r>
              <a:rPr b="0" lang="en-US" sz="2800" spc="-1" strike="noStrike">
                <a:solidFill>
                  <a:srgbClr val="660066"/>
                </a:solidFill>
                <a:latin typeface="Bell MT"/>
              </a:rPr>
              <a:t>       </a:t>
            </a:r>
            <a:r>
              <a:rPr b="0" lang="ru-RU" sz="2800" spc="-1" strike="noStrike">
                <a:solidFill>
                  <a:srgbClr val="660066"/>
                </a:solidFill>
                <a:latin typeface="Bell MT"/>
              </a:rPr>
              <a:t> </a:t>
            </a:r>
            <a:r>
              <a:rPr b="0" lang="en-US" sz="3000" spc="-1" strike="noStrike">
                <a:solidFill>
                  <a:srgbClr val="ffff99"/>
                </a:solidFill>
                <a:latin typeface="Century Gothic"/>
              </a:rPr>
              <a:t>Zn</a:t>
            </a:r>
            <a:r>
              <a:rPr b="0" lang="en-US" sz="3000" spc="-1" strike="noStrike" baseline="30000">
                <a:solidFill>
                  <a:srgbClr val="ffff99"/>
                </a:solidFill>
                <a:latin typeface="Century Gothic"/>
              </a:rPr>
              <a:t>0</a:t>
            </a:r>
            <a:r>
              <a:rPr b="0" lang="en-US" sz="3000" spc="-1" strike="noStrike">
                <a:solidFill>
                  <a:srgbClr val="ffff99"/>
                </a:solidFill>
                <a:latin typeface="Century Gothic"/>
              </a:rPr>
              <a:t> + 2Na</a:t>
            </a:r>
            <a:r>
              <a:rPr b="0" lang="en-US" sz="3000" spc="-1" strike="noStrike" baseline="30000">
                <a:solidFill>
                  <a:srgbClr val="ffff99"/>
                </a:solidFill>
                <a:latin typeface="Century Gothic"/>
              </a:rPr>
              <a:t>+1</a:t>
            </a:r>
            <a:r>
              <a:rPr b="0" lang="en-US" sz="3000" spc="-1" strike="noStrike">
                <a:solidFill>
                  <a:srgbClr val="ffff99"/>
                </a:solidFill>
                <a:latin typeface="Century Gothic"/>
              </a:rPr>
              <a:t>OH = Na</a:t>
            </a:r>
            <a:r>
              <a:rPr b="0" lang="en-US" sz="3000" spc="-1" strike="noStrike" baseline="-25000">
                <a:solidFill>
                  <a:srgbClr val="ffff99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ffff99"/>
                </a:solidFill>
                <a:latin typeface="Century Gothic"/>
              </a:rPr>
              <a:t>ZnO</a:t>
            </a:r>
            <a:r>
              <a:rPr b="0" lang="en-US" sz="3000" spc="-1" strike="noStrike" baseline="-25000">
                <a:solidFill>
                  <a:srgbClr val="ffff99"/>
                </a:solidFill>
                <a:latin typeface="Century Gothic"/>
              </a:rPr>
              <a:t>2 </a:t>
            </a:r>
            <a:r>
              <a:rPr b="0" lang="en-US" sz="3000" spc="-1" strike="noStrike">
                <a:solidFill>
                  <a:srgbClr val="ffff99"/>
                </a:solidFill>
                <a:latin typeface="Century Gothic"/>
              </a:rPr>
              <a:t>+ H</a:t>
            </a:r>
            <a:r>
              <a:rPr b="0" lang="en-US" sz="3000" spc="-1" strike="noStrike" baseline="-25000">
                <a:solidFill>
                  <a:srgbClr val="ffff99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ffff99"/>
                </a:solidFill>
                <a:latin typeface="Century Gothic"/>
                <a:ea typeface="Arial"/>
              </a:rPr>
              <a:t>↑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Bell MT"/>
              </a:rPr>
              <a:t> </a:t>
            </a:r>
            <a:r>
              <a:rPr b="0" lang="en-US" sz="3000" spc="-1" strike="noStrike">
                <a:solidFill>
                  <a:srgbClr val="ffff99"/>
                </a:solidFill>
                <a:latin typeface="Century Gothic"/>
              </a:rPr>
              <a:t>Zn</a:t>
            </a:r>
            <a:r>
              <a:rPr b="0" lang="en-US" sz="3000" spc="-1" strike="noStrike" baseline="30000">
                <a:solidFill>
                  <a:srgbClr val="ffff99"/>
                </a:solidFill>
                <a:latin typeface="Century Gothic"/>
              </a:rPr>
              <a:t>0</a:t>
            </a:r>
            <a:r>
              <a:rPr b="0" lang="en-US" sz="3000" spc="-1" strike="noStrike">
                <a:solidFill>
                  <a:srgbClr val="ffff99"/>
                </a:solidFill>
                <a:latin typeface="Century Gothic"/>
              </a:rPr>
              <a:t> + 2NaOH + 2H</a:t>
            </a:r>
            <a:r>
              <a:rPr b="0" lang="en-US" sz="3000" spc="-1" strike="noStrike" baseline="-25000">
                <a:solidFill>
                  <a:srgbClr val="ffff99"/>
                </a:solidFill>
                <a:latin typeface="Century Gothic"/>
              </a:rPr>
              <a:t>2</a:t>
            </a:r>
            <a:r>
              <a:rPr b="0" lang="en-US" sz="3000" spc="-1" strike="noStrike" baseline="30000">
                <a:solidFill>
                  <a:srgbClr val="ffff99"/>
                </a:solidFill>
                <a:latin typeface="Century Gothic"/>
              </a:rPr>
              <a:t>+1</a:t>
            </a:r>
            <a:r>
              <a:rPr b="0" lang="en-US" sz="3000" spc="-1" strike="noStrike">
                <a:solidFill>
                  <a:srgbClr val="ffff99"/>
                </a:solidFill>
                <a:latin typeface="Century Gothic"/>
              </a:rPr>
              <a:t>O = Na</a:t>
            </a:r>
            <a:r>
              <a:rPr b="0" lang="ru-RU" sz="3000" spc="-1" strike="noStrike" baseline="-25000">
                <a:solidFill>
                  <a:srgbClr val="ffff99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ffff99"/>
                </a:solidFill>
                <a:latin typeface="Century Gothic"/>
                <a:ea typeface="Arial"/>
              </a:rPr>
              <a:t>[ Zn(OH</a:t>
            </a:r>
            <a:r>
              <a:rPr b="0" lang="en-US" sz="3000" spc="-1" strike="noStrike" baseline="-25000">
                <a:solidFill>
                  <a:srgbClr val="ffff99"/>
                </a:solidFill>
                <a:latin typeface="Century Gothic"/>
                <a:ea typeface="Arial"/>
              </a:rPr>
              <a:t>4</a:t>
            </a:r>
            <a:r>
              <a:rPr b="0" lang="en-US" sz="3000" spc="-1" strike="noStrike">
                <a:solidFill>
                  <a:srgbClr val="ffff99"/>
                </a:solidFill>
                <a:latin typeface="Century Gothic"/>
                <a:ea typeface="Arial"/>
              </a:rPr>
              <a:t>)] + H</a:t>
            </a:r>
            <a:r>
              <a:rPr b="0" lang="en-US" sz="3000" spc="-1" strike="noStrike" baseline="-25000">
                <a:solidFill>
                  <a:srgbClr val="ffff99"/>
                </a:solidFill>
                <a:latin typeface="Century Gothic"/>
                <a:ea typeface="Arial"/>
              </a:rPr>
              <a:t>2</a:t>
            </a:r>
            <a:r>
              <a:rPr b="0" lang="en-US" sz="3000" spc="-1" strike="noStrike">
                <a:solidFill>
                  <a:srgbClr val="ffff99"/>
                </a:solidFill>
                <a:latin typeface="Century Gothic"/>
                <a:ea typeface="Arial"/>
              </a:rPr>
              <a:t>↑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В приведенных реакциях цинка с кислотами и основа -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ниями выражена двойственная природа цинка как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элемента побочной подгруппы переодической системы,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способного образовать амфотерные оксид и гидроксид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7" name="Object 7"/>
              <p:cNvSpPr txBox="1"/>
              <p:nvPr/>
            </p:nvSpPr>
            <p:spPr>
              <a:xfrm>
                <a:off x="6392880" y="2598840"/>
                <a:ext cx="542880" cy="1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крис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8" name="Номер слайда 7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97D4-A793-4D55-BBD1-AF0FA1937934}" type="slidenum">
              <a:rPr b="0" lang="ru-RU" sz="1200" spc="-1" strike="noStrike">
                <a:solidFill>
                  <a:srgbClr val="ffffff"/>
                </a:solidFill>
                <a:latin typeface="Bell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ell MT"/>
            </a:endParaRPr>
          </a:p>
        </p:txBody>
      </p:sp>
    </p:spTree>
  </p:cSld>
  <p:transition spd="med">
    <p:cover dir="d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7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8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Rectangle 2" descr=""/>
          <p:cNvPicPr/>
          <p:nvPr/>
        </p:nvPicPr>
        <p:blipFill>
          <a:blip r:embed="rId1"/>
          <a:stretch/>
        </p:blipFill>
        <p:spPr>
          <a:xfrm>
            <a:off x="212760" y="171360"/>
            <a:ext cx="8474040" cy="171288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 txBox="1"/>
          <p:nvPr/>
        </p:nvSpPr>
        <p:spPr>
          <a:xfrm>
            <a:off x="455760" y="1415520"/>
            <a:ext cx="8688240" cy="54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5840" indent="-32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Bell MT"/>
              </a:rPr>
              <a:t>Гидроксид цинка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ll MT"/>
              </a:rPr>
              <a:t>Zn(OH)</a:t>
            </a:r>
            <a:r>
              <a:rPr b="0" lang="en-US" sz="2800" spc="-1" strike="noStrike" u="sng" baseline="-25000">
                <a:solidFill>
                  <a:srgbClr val="ffffff"/>
                </a:solidFill>
                <a:uFillTx/>
                <a:latin typeface="Bell MT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представляет собой не -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-32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растворимое в воде кристаллическое или аморфное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-32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вещество белого цвета. Он обычно выпадает в осадок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-32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при взаимодействии соли цинка с щелочью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-32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-32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   </a:t>
            </a:r>
            <a:r>
              <a:rPr b="0" lang="en-US" sz="2600" spc="-1" strike="noStrike">
                <a:solidFill>
                  <a:srgbClr val="660066"/>
                </a:solidFill>
                <a:latin typeface="Century Gothic"/>
              </a:rPr>
              <a:t>ZnSO</a:t>
            </a:r>
            <a:r>
              <a:rPr b="0" lang="en-US" sz="2600" spc="-1" strike="noStrike" baseline="-25000">
                <a:solidFill>
                  <a:srgbClr val="660066"/>
                </a:solidFill>
                <a:latin typeface="Century Gothic"/>
              </a:rPr>
              <a:t>4</a:t>
            </a:r>
            <a:r>
              <a:rPr b="0" lang="en-US" sz="2600" spc="-1" strike="noStrike">
                <a:solidFill>
                  <a:srgbClr val="660066"/>
                </a:solidFill>
                <a:latin typeface="Century Gothic"/>
              </a:rPr>
              <a:t> + 2NaOH = Zn(OH)</a:t>
            </a:r>
            <a:r>
              <a:rPr b="0" lang="en-US" sz="2600" spc="-1" strike="noStrike" baseline="-25000">
                <a:solidFill>
                  <a:srgbClr val="660066"/>
                </a:solidFill>
                <a:latin typeface="Century Gothic"/>
              </a:rPr>
              <a:t>2</a:t>
            </a:r>
            <a:r>
              <a:rPr b="0" lang="ru-RU" sz="2600" spc="-1" strike="noStrike">
                <a:solidFill>
                  <a:srgbClr val="660066"/>
                </a:solidFill>
                <a:latin typeface="Century Gothic"/>
              </a:rPr>
              <a:t>↓</a:t>
            </a:r>
            <a:r>
              <a:rPr b="0" lang="en-US" sz="2600" spc="-1" strike="noStrike">
                <a:solidFill>
                  <a:srgbClr val="660066"/>
                </a:solidFill>
                <a:latin typeface="Century Gothic"/>
              </a:rPr>
              <a:t>+ Na</a:t>
            </a:r>
            <a:r>
              <a:rPr b="0" lang="en-US" sz="2600" spc="-1" strike="noStrike" baseline="-25000">
                <a:solidFill>
                  <a:srgbClr val="660066"/>
                </a:solidFill>
                <a:latin typeface="Century Gothic"/>
              </a:rPr>
              <a:t>2</a:t>
            </a:r>
            <a:r>
              <a:rPr b="0" lang="en-US" sz="2600" spc="-1" strike="noStrike">
                <a:solidFill>
                  <a:srgbClr val="660066"/>
                </a:solidFill>
                <a:latin typeface="Century Gothic"/>
              </a:rPr>
              <a:t>SO</a:t>
            </a:r>
            <a:r>
              <a:rPr b="0" lang="en-US" sz="2600" spc="-1" strike="noStrike" baseline="-25000">
                <a:solidFill>
                  <a:srgbClr val="660066"/>
                </a:solidFill>
                <a:latin typeface="Century Gothic"/>
              </a:rPr>
              <a:t>4</a:t>
            </a:r>
            <a:r>
              <a:rPr b="0" lang="ru-RU" sz="2800" spc="-1" strike="noStrike">
                <a:solidFill>
                  <a:srgbClr val="660066"/>
                </a:solidFill>
                <a:latin typeface="Bell MT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-32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-32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Однако осадок  легко растворяется в растворе щелочи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-32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или кислоты, проявляя характерные для гидроксид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-32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цинка амфотерные свойства: реагировать с кислотой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-32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1" name="Номер слайда 6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1148-A6B7-4EC0-8FA4-DBAE778B32DD}" type="slidenum">
              <a:rPr b="0" lang="ru-RU" sz="1200" spc="-1" strike="noStrike">
                <a:solidFill>
                  <a:srgbClr val="ffffff"/>
                </a:solidFill>
                <a:latin typeface="Bell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ell MT"/>
            </a:endParaRPr>
          </a:p>
        </p:txBody>
      </p:sp>
    </p:spTree>
  </p:cSld>
  <p:transition spd="med">
    <p:cover dir="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/>
          </p:nvPr>
        </p:nvSpPr>
        <p:spPr>
          <a:xfrm>
            <a:off x="455760" y="380520"/>
            <a:ext cx="86882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0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Реагировать с кислотой как основание, а с основанием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к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ак кислота, т.е. формулу гидроксида цинка можно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п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редставить двояко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                 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Zn(OH)</a:t>
            </a:r>
            <a:r>
              <a:rPr b="0" lang="en-US" sz="3000" spc="-1" strike="noStrike" baseline="-25000">
                <a:solidFill>
                  <a:srgbClr val="660066"/>
                </a:solidFill>
                <a:latin typeface="Century Gothic"/>
              </a:rPr>
              <a:t>2</a:t>
            </a:r>
            <a:r>
              <a:rPr b="0" lang="ru-RU" sz="3000" spc="-1" strike="noStrike" baseline="-25000">
                <a:solidFill>
                  <a:srgbClr val="660066"/>
                </a:solidFill>
                <a:latin typeface="Century Gothic"/>
              </a:rPr>
              <a:t>   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= </a:t>
            </a:r>
            <a:r>
              <a:rPr b="0" lang="ru-RU" sz="3000" spc="-1" strike="noStrike">
                <a:solidFill>
                  <a:srgbClr val="660066"/>
                </a:solidFill>
                <a:latin typeface="Century Gothic"/>
              </a:rPr>
              <a:t>  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H</a:t>
            </a:r>
            <a:r>
              <a:rPr b="0" lang="en-US" sz="3000" spc="-1" strike="noStrike" baseline="-25000">
                <a:solidFill>
                  <a:srgbClr val="660066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ZnO</a:t>
            </a:r>
            <a:r>
              <a:rPr b="0" lang="en-US" sz="3000" spc="-1" strike="noStrike" baseline="-25000">
                <a:solidFill>
                  <a:srgbClr val="660066"/>
                </a:solidFill>
                <a:latin typeface="Century Gothic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baseline="-25000">
                <a:solidFill>
                  <a:srgbClr val="ffffff"/>
                </a:solidFill>
                <a:latin typeface="Century Gothic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Тогда уравнения реакций гидроксида цинка с кис -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лотой и с щелочью можно записать так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        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Zn(OH)</a:t>
            </a:r>
            <a:r>
              <a:rPr b="0" lang="en-US" sz="3000" spc="-1" strike="noStrike" baseline="-25000">
                <a:solidFill>
                  <a:srgbClr val="660066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 + 2HCl = ZnCl</a:t>
            </a:r>
            <a:r>
              <a:rPr b="0" lang="en-US" sz="3000" spc="-1" strike="noStrike" baseline="-25000">
                <a:solidFill>
                  <a:srgbClr val="660066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 + 2H</a:t>
            </a:r>
            <a:r>
              <a:rPr b="0" lang="en-US" sz="3000" spc="-1" strike="noStrike" baseline="-25000">
                <a:solidFill>
                  <a:srgbClr val="660066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O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3" name="Object 7"/>
              <p:cNvSpPr txBox="1"/>
              <p:nvPr/>
            </p:nvSpPr>
            <p:spPr>
              <a:xfrm>
                <a:off x="2900520" y="3024360"/>
                <a:ext cx="880920" cy="1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гидрокси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Object 7"/>
              <p:cNvSpPr txBox="1"/>
              <p:nvPr/>
            </p:nvSpPr>
            <p:spPr>
              <a:xfrm>
                <a:off x="5129280" y="2971800"/>
                <a:ext cx="159372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кислот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5" name="Номер слайда 7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CCA7-1B75-4DE4-8568-5D680C8069C1}" type="slidenum">
              <a:rPr b="0" lang="ru-RU" sz="1200" spc="-1" strike="noStrike">
                <a:solidFill>
                  <a:srgbClr val="ffffff"/>
                </a:solidFill>
                <a:latin typeface="Bell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ell MT"/>
            </a:endParaRPr>
          </a:p>
        </p:txBody>
      </p:sp>
    </p:spTree>
  </p:cSld>
  <p:transition spd="med">
    <p:cover dir="d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 txBox="1"/>
          <p:nvPr/>
        </p:nvSpPr>
        <p:spPr>
          <a:xfrm>
            <a:off x="455760" y="380880"/>
            <a:ext cx="86882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371520" indent="-317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0066"/>
                </a:solidFill>
                <a:latin typeface="Century Gothic"/>
              </a:rPr>
              <a:t>  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  </a:t>
            </a:r>
            <a:r>
              <a:rPr b="0" lang="ru-RU" sz="3000" spc="-1" strike="noStrike">
                <a:solidFill>
                  <a:srgbClr val="660066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H</a:t>
            </a:r>
            <a:r>
              <a:rPr b="0" lang="en-US" sz="3000" spc="-1" strike="noStrike" baseline="-25000">
                <a:solidFill>
                  <a:srgbClr val="660066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ZnO</a:t>
            </a:r>
            <a:r>
              <a:rPr b="0" lang="en-US" sz="3000" spc="-1" strike="noStrike" baseline="-25000">
                <a:solidFill>
                  <a:srgbClr val="660066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 + 2NaOH = Na</a:t>
            </a:r>
            <a:r>
              <a:rPr b="0" lang="en-US" sz="3000" spc="-1" strike="noStrike" baseline="-25000">
                <a:solidFill>
                  <a:srgbClr val="660066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ZnO</a:t>
            </a:r>
            <a:r>
              <a:rPr b="0" lang="en-US" sz="3000" spc="-1" strike="noStrike" baseline="-25000">
                <a:solidFill>
                  <a:srgbClr val="660066"/>
                </a:solidFill>
                <a:latin typeface="Century Gothic"/>
              </a:rPr>
              <a:t>2 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+ 2H</a:t>
            </a:r>
            <a:r>
              <a:rPr b="0" lang="en-US" sz="3000" spc="-1" strike="noStrike" baseline="-25000">
                <a:solidFill>
                  <a:srgbClr val="660066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O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371520" indent="-317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371520" indent="-317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В обоих случаях образуются растворимые соли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1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хлорид цинка и цинкат натрия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1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Bell MT"/>
              </a:rPr>
              <a:t>Оксид цинка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ll MT"/>
              </a:rPr>
              <a:t>ZnO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– это белые шелковистые блестя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1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щие иглы или призмы, которые можно получить, на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1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пример, окислением цинка на воздухе при нагревании,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1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как было показано ранее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1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Аналогично гидроксиду оксид цинка также прояв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1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ляет амфотерный характер – образует растворимые в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1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Воде соли при взаимодействии как с кислотами, про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1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7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BAF6-899A-4B41-B7F9-6FD2DB61911D}" type="slidenum">
              <a:rPr b="0" lang="ru-RU" sz="1200" spc="-1" strike="noStrike">
                <a:solidFill>
                  <a:srgbClr val="ffffff"/>
                </a:solidFill>
                <a:latin typeface="Bell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ell MT"/>
            </a:endParaRPr>
          </a:p>
        </p:txBody>
      </p:sp>
    </p:spTree>
  </p:cSld>
  <p:transition spd="med">
    <p:cover dir="d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 txBox="1"/>
          <p:nvPr/>
        </p:nvSpPr>
        <p:spPr>
          <a:xfrm>
            <a:off x="455760" y="380520"/>
            <a:ext cx="86882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являя себя в роли основного оксида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ZnO + 2HCl = ZnCl</a:t>
            </a:r>
            <a:r>
              <a:rPr b="0" lang="en-US" sz="3000" spc="-1" strike="noStrike" baseline="-25000">
                <a:solidFill>
                  <a:srgbClr val="660066"/>
                </a:solidFill>
                <a:latin typeface="Century Gothic"/>
              </a:rPr>
              <a:t>2 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+ H</a:t>
            </a:r>
            <a:r>
              <a:rPr b="0" lang="en-US" sz="3000" spc="-1" strike="noStrike" baseline="-25000">
                <a:solidFill>
                  <a:srgbClr val="660066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O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Так и с основаниями, выступая в качестве кислотного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Оксида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          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ZnO + 2KOH = K</a:t>
            </a:r>
            <a:r>
              <a:rPr b="0" lang="en-US" sz="3000" spc="-1" strike="noStrike" baseline="-25000">
                <a:solidFill>
                  <a:srgbClr val="660066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ZnO</a:t>
            </a:r>
            <a:r>
              <a:rPr b="0" lang="en-US" sz="3000" spc="-1" strike="noStrike" baseline="-25000">
                <a:solidFill>
                  <a:srgbClr val="660066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 +H</a:t>
            </a:r>
            <a:r>
              <a:rPr b="0" lang="en-US" sz="3000" spc="-1" strike="noStrike" baseline="-25000">
                <a:solidFill>
                  <a:srgbClr val="660066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O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9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C83E-45B1-42FE-B49D-45E670FF1F2A}" type="slidenum">
              <a:rPr b="0" lang="ru-RU" sz="1200" spc="-1" strike="noStrike">
                <a:solidFill>
                  <a:srgbClr val="ffffff"/>
                </a:solidFill>
                <a:latin typeface="Bell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ell MT"/>
            </a:endParaRPr>
          </a:p>
        </p:txBody>
      </p:sp>
    </p:spTree>
  </p:cSld>
  <p:transition spd="med">
    <p:cover dir="d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Rectangle 2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8358120" cy="154332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 txBox="1"/>
          <p:nvPr/>
        </p:nvSpPr>
        <p:spPr>
          <a:xfrm>
            <a:off x="455760" y="1598760"/>
            <a:ext cx="868824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848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Цинк в природе встречается только в составе соеди -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нений цинковых руд, например,цинковая обманка 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ZnS,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цинковый шпат 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Zn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ell MT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, цинкит 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ZnO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. Массовая доля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цинка в земной коре составляет 0,005%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Для получения цинка его руды подвергают обжигу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  </a:t>
            </a:r>
            <a:r>
              <a:rPr b="0" lang="en-US" sz="3000" spc="-1" strike="noStrike">
                <a:solidFill>
                  <a:srgbClr val="1c1c1c"/>
                </a:solidFill>
                <a:latin typeface="Century Gothic"/>
              </a:rPr>
              <a:t>2ZnS + 3O</a:t>
            </a:r>
            <a:r>
              <a:rPr b="0" lang="en-US" sz="3000" spc="-1" strike="noStrike" baseline="-25000">
                <a:solidFill>
                  <a:srgbClr val="1c1c1c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1c1c1c"/>
                </a:solidFill>
                <a:latin typeface="Century Gothic"/>
              </a:rPr>
              <a:t> = 2ZnO + 2SO</a:t>
            </a:r>
            <a:r>
              <a:rPr b="0" lang="en-US" sz="3000" spc="-1" strike="noStrike" baseline="-25000">
                <a:solidFill>
                  <a:srgbClr val="1c1c1c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1c1c1c"/>
                </a:solidFill>
                <a:latin typeface="Century Gothic"/>
                <a:ea typeface="Arial"/>
              </a:rPr>
              <a:t>↑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            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 </a:t>
            </a:r>
            <a:r>
              <a:rPr b="0" lang="en-US" sz="3000" spc="-1" strike="noStrike">
                <a:solidFill>
                  <a:srgbClr val="1c1c1c"/>
                </a:solidFill>
                <a:latin typeface="Century Gothic"/>
              </a:rPr>
              <a:t>ZnCO</a:t>
            </a:r>
            <a:r>
              <a:rPr b="0" lang="en-US" sz="3000" spc="-1" strike="noStrike" baseline="-25000">
                <a:solidFill>
                  <a:srgbClr val="1c1c1c"/>
                </a:solidFill>
                <a:latin typeface="Century Gothic"/>
              </a:rPr>
              <a:t>3</a:t>
            </a:r>
            <a:r>
              <a:rPr b="0" lang="en-US" sz="3000" spc="-1" strike="noStrike">
                <a:solidFill>
                  <a:srgbClr val="1c1c1c"/>
                </a:solidFill>
                <a:latin typeface="Century Gothic"/>
              </a:rPr>
              <a:t> = ZnO + CO</a:t>
            </a:r>
            <a:r>
              <a:rPr b="0" lang="en-US" sz="3000" spc="-1" strike="noStrike" baseline="-25000">
                <a:solidFill>
                  <a:srgbClr val="1c1c1c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1c1c1c"/>
                </a:solidFill>
                <a:latin typeface="Century Gothic"/>
                <a:ea typeface="Arial"/>
              </a:rPr>
              <a:t>↑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2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1BC9-68D8-4B77-93D9-7DF68C9E9425}" type="slidenum">
              <a:rPr b="0" lang="ru-RU" sz="1200" spc="-1" strike="noStrike">
                <a:solidFill>
                  <a:srgbClr val="ffffff"/>
                </a:solidFill>
                <a:latin typeface="Bell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ell MT"/>
            </a:endParaRPr>
          </a:p>
        </p:txBody>
      </p:sp>
    </p:spTree>
  </p:cSld>
  <p:transition spd="med">
    <p:cover dir="d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250" autoRev="1" fill="hold"/>
                                        <p:tgtEl>
                                          <p:spTgt spid="6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74" dur="250" autoRev="1" fill="hold"/>
                                        <p:tgtEl>
                                          <p:spTgt spid="6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75" dur="250" autoRev="1" fill="hold"/>
                                        <p:tgtEl>
                                          <p:spTgt spid="6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250" autoRev="1" fill="hold"/>
                                        <p:tgtEl>
                                          <p:spTgt spid="6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79" dur="250" autoRev="1" fill="hold"/>
                                        <p:tgtEl>
                                          <p:spTgt spid="6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80" dur="250" autoRev="1" fill="hold"/>
                                        <p:tgtEl>
                                          <p:spTgt spid="6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 txBox="1"/>
          <p:nvPr/>
        </p:nvSpPr>
        <p:spPr>
          <a:xfrm>
            <a:off x="455760" y="380520"/>
            <a:ext cx="86882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Далее оксид цинка при нагревании восстанавливают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Углем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</a:t>
            </a:r>
            <a:r>
              <a:rPr b="0" lang="en-US" sz="3000" spc="-1" strike="noStrike">
                <a:solidFill>
                  <a:srgbClr val="1c1c1c"/>
                </a:solidFill>
                <a:latin typeface="Century Gothic"/>
              </a:rPr>
              <a:t>ZnO + C = Zn + CO</a:t>
            </a:r>
            <a:r>
              <a:rPr b="0" lang="en-US" sz="3000" spc="-1" strike="noStrike">
                <a:solidFill>
                  <a:srgbClr val="1c1c1c"/>
                </a:solidFill>
                <a:latin typeface="Century Gothic"/>
                <a:ea typeface="Arial"/>
              </a:rPr>
              <a:t>↑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4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74A8-FEBD-4D01-952F-AD4FE3B1A6CA}" type="slidenum">
              <a:rPr b="0" lang="ru-RU" sz="1200" spc="-1" strike="noStrike">
                <a:solidFill>
                  <a:srgbClr val="ffffff"/>
                </a:solidFill>
                <a:latin typeface="Bell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ell MT"/>
            </a:endParaRPr>
          </a:p>
        </p:txBody>
      </p:sp>
      <p:pic>
        <p:nvPicPr>
          <p:cNvPr id="675" name="Picture 5" descr="800px-Zinc_fragment_sublimed_and_1cm3_cube"/>
          <p:cNvPicPr/>
          <p:nvPr/>
        </p:nvPicPr>
        <p:blipFill>
          <a:blip r:embed="rId1"/>
          <a:stretch/>
        </p:blipFill>
        <p:spPr>
          <a:xfrm>
            <a:off x="1447920" y="2536920"/>
            <a:ext cx="6476760" cy="3558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6" dur="250" autoRev="1" fill="hold"/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87" dur="250" autoRev="1" fill="hold"/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88" dur="250" autoRev="1" fill="hold"/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66"/>
            </a:gs>
            <a:gs pos="100000">
              <a:srgbClr val="e4005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-37476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Bell MT"/>
              </a:rPr>
              <a:t>а)    </a:t>
            </a:r>
            <a:r>
              <a:rPr b="0" lang="ru-RU" sz="3700" spc="-1" strike="noStrike">
                <a:solidFill>
                  <a:srgbClr val="ff00ff"/>
                </a:solidFill>
                <a:latin typeface="Bell MT"/>
              </a:rPr>
              <a:t>Формула состава атома цинка</a:t>
            </a: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Bell MT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Bell MT"/>
              </a:rPr>
              <a:t>Согласно планетарной модели, предложенной ан -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Bell MT"/>
              </a:rPr>
              <a:t>глийским физиком Резерфордом, атом состоит из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Bell MT"/>
              </a:rPr>
              <a:t>положительно заряжен</a:t>
            </a: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 -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Bell MT"/>
              </a:rPr>
              <a:t>ного ядра и окружаю -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Bell MT"/>
              </a:rPr>
              <a:t>щей электронной обо -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Bell MT"/>
              </a:rPr>
              <a:t>лочки, заряженной от -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Bell MT"/>
              </a:rPr>
              <a:t>рицательно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    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Bell MT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1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3CC3-6952-4207-B849-A4194C7BED4E}" type="slidenum">
              <a:rPr b="0" lang="ru-RU" sz="1200" spc="-1" strike="noStrike">
                <a:solidFill>
                  <a:srgbClr val="ffffff"/>
                </a:solidFill>
                <a:latin typeface="Bell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ell MT"/>
            </a:endParaRPr>
          </a:p>
        </p:txBody>
      </p:sp>
    </p:spTree>
  </p:cSld>
  <p:transition spd="med">
    <p:cover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Rectangle 28" descr=""/>
          <p:cNvPicPr/>
          <p:nvPr/>
        </p:nvPicPr>
        <p:blipFill>
          <a:blip r:embed="rId1"/>
          <a:stretch/>
        </p:blipFill>
        <p:spPr>
          <a:xfrm>
            <a:off x="457200" y="-73080"/>
            <a:ext cx="8223120" cy="1384200"/>
          </a:xfrm>
          <a:prstGeom prst="rect">
            <a:avLst/>
          </a:prstGeom>
          <a:ln w="0">
            <a:noFill/>
          </a:ln>
        </p:spPr>
      </p:pic>
      <p:sp>
        <p:nvSpPr>
          <p:cNvPr id="677" name=""/>
          <p:cNvSpPr txBox="1"/>
          <p:nvPr/>
        </p:nvSpPr>
        <p:spPr>
          <a:xfrm>
            <a:off x="455760" y="1142640"/>
            <a:ext cx="86882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848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Ввиду того, что на цинк при обычных условиях не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действует ни кислород воздуха, ни вода, большая часть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цинка расходуется на защитные от коррозии покрытия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железных листов, стальных и чугунных изделий, а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также для получения специальных сплавов с повы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шенной антикоррозионной активностью, для произ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водства цинково-угольных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гальванических элементов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в батареях разного назна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чения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Оксид цинка применяют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в производстве красок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8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D3A9-00D6-4E30-927A-171FC3AD279E}" type="slidenum">
              <a:rPr b="0" lang="ru-RU" sz="1200" spc="-1" strike="noStrike">
                <a:solidFill>
                  <a:srgbClr val="ffffff"/>
                </a:solidFill>
                <a:latin typeface="Bell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ell MT"/>
            </a:endParaRPr>
          </a:p>
        </p:txBody>
      </p:sp>
      <p:pic>
        <p:nvPicPr>
          <p:cNvPr id="679" name="Picture 6" descr="1249205476_bae"/>
          <p:cNvPicPr/>
          <p:nvPr/>
        </p:nvPicPr>
        <p:blipFill>
          <a:blip r:embed="rId2"/>
          <a:stretch/>
        </p:blipFill>
        <p:spPr>
          <a:xfrm>
            <a:off x="4797360" y="3879720"/>
            <a:ext cx="4346640" cy="28371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Picture 11" descr="737"/>
          <p:cNvPicPr/>
          <p:nvPr/>
        </p:nvPicPr>
        <p:blipFill>
          <a:blip r:embed="rId1"/>
          <a:stretch/>
        </p:blipFill>
        <p:spPr>
          <a:xfrm rot="1200000">
            <a:off x="141120" y="3935160"/>
            <a:ext cx="2895840" cy="133344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5" descr="Zinkum_enl"/>
          <p:cNvPicPr/>
          <p:nvPr/>
        </p:nvPicPr>
        <p:blipFill>
          <a:blip r:embed="rId2"/>
          <a:stretch/>
        </p:blipFill>
        <p:spPr>
          <a:xfrm rot="20520000">
            <a:off x="5486400" y="3250800"/>
            <a:ext cx="3365640" cy="1967040"/>
          </a:xfrm>
          <a:prstGeom prst="rect">
            <a:avLst/>
          </a:prstGeom>
          <a:ln w="0">
            <a:noFill/>
          </a:ln>
        </p:spPr>
      </p:pic>
      <p:sp>
        <p:nvSpPr>
          <p:cNvPr id="682" name=""/>
          <p:cNvSpPr txBox="1"/>
          <p:nvPr/>
        </p:nvSpPr>
        <p:spPr>
          <a:xfrm>
            <a:off x="455760" y="69480"/>
            <a:ext cx="86882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(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цинковых белил) и как полупроводниковый материал,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а в медицине и косметике – как мазь, шампунь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Сульфат цинка применяют в качестве электролит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при получении цинковых покрытий и как микроудо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брение в сельском хозяйстве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3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83F2-370E-4D8B-9BBF-8142EC7516B8}" type="slidenum">
              <a:rPr b="0" lang="ru-RU" sz="1200" spc="-1" strike="noStrike">
                <a:solidFill>
                  <a:srgbClr val="ffffff"/>
                </a:solidFill>
                <a:latin typeface="Bell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ell MT"/>
            </a:endParaRPr>
          </a:p>
        </p:txBody>
      </p:sp>
      <p:pic>
        <p:nvPicPr>
          <p:cNvPr id="684" name="Picture 13" descr="J0198494"/>
          <p:cNvPicPr/>
          <p:nvPr/>
        </p:nvPicPr>
        <p:blipFill>
          <a:blip r:embed="rId3"/>
          <a:stretch/>
        </p:blipFill>
        <p:spPr>
          <a:xfrm rot="20400000">
            <a:off x="3003120" y="3987360"/>
            <a:ext cx="2729160" cy="2006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455760" y="380520"/>
            <a:ext cx="86882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Ядро атома в свою очередь состоит из элементар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ных частиц двух видов: протонов и нейтронов. Протон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имеет заряд (+1) и массу 1 ( р</a:t>
            </a:r>
            <a:r>
              <a:rPr b="0" lang="ru-RU" sz="2800" spc="-1" strike="noStrike" baseline="30000">
                <a:solidFill>
                  <a:srgbClr val="ffffff"/>
                </a:solidFill>
                <a:latin typeface="Bell MT"/>
              </a:rPr>
              <a:t>+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). Нейтрон, как и протон,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имеет массу 1, но заряда не имеет (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n</a:t>
            </a:r>
            <a:r>
              <a:rPr b="0" lang="en-US" sz="2800" spc="-1" strike="noStrike" baseline="30000">
                <a:solidFill>
                  <a:srgbClr val="ffffff"/>
                </a:solidFill>
                <a:latin typeface="Bell MT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)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455760" y="380880"/>
            <a:ext cx="86882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07520" indent="-34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Электрон ( е </a:t>
            </a:r>
            <a:r>
              <a:rPr b="0" lang="ru-RU" sz="2800" spc="-1" strike="noStrike" baseline="30000">
                <a:solidFill>
                  <a:srgbClr val="ffffff"/>
                </a:solidFill>
                <a:latin typeface="Bell MT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) имеет заряд (-1) и очень маленькую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-34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массу (1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/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1840). Следовательно, масса атома (А) со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-34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средоточена в ядре и численно равна сумме числ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-34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протонов (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Z)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и нейтронов (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N)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, или А=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Z+N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-34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Так как атом – электронейтральная частица, об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-34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щее число электронов в его электронной оболочке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-34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равно числу протонов в ядре атома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-34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Таким образом, формула состава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атома цинка имеет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вид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-34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-34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-34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-34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4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7D5A-D8DD-410F-A1F2-635FDDC1E6A2}" type="slidenum">
              <a:rPr b="0" lang="ru-RU" sz="1200" spc="-1" strike="noStrike">
                <a:solidFill>
                  <a:srgbClr val="ffffff"/>
                </a:solidFill>
                <a:latin typeface="Bell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ell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Object 13"/>
              <p:cNvSpPr txBox="1"/>
              <p:nvPr/>
            </p:nvSpPr>
            <p:spPr>
              <a:xfrm>
                <a:off x="455760" y="4565520"/>
                <a:ext cx="609732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р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е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5n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626" name="Picture 7" descr="грапрапмип"/>
          <p:cNvPicPr/>
          <p:nvPr/>
        </p:nvPicPr>
        <p:blipFill>
          <a:blip r:embed="rId1"/>
          <a:stretch/>
        </p:blipFill>
        <p:spPr>
          <a:xfrm>
            <a:off x="6645240" y="5062680"/>
            <a:ext cx="1508040" cy="1414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/>
          </p:nvPr>
        </p:nvSpPr>
        <p:spPr>
          <a:xfrm>
            <a:off x="455760" y="380880"/>
            <a:ext cx="86882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0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ell MT"/>
              </a:rPr>
              <a:t> </a:t>
            </a:r>
            <a:r>
              <a:rPr b="0" lang="ru-RU" sz="3600" spc="-1" strike="noStrike">
                <a:solidFill>
                  <a:srgbClr val="ff00ff"/>
                </a:solidFill>
                <a:latin typeface="Bell MT"/>
              </a:rPr>
              <a:t>б) Электронная формула атома цинка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80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ell MT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Электроны в атоме обладают неодинаковой энерги -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0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ей и в соответствии со своей энергией располагаются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0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на различном расстоянии от ядра, образуя электронные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0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слои или энергетические уровни. Максимальное число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0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электронов на энергетическом уровне можно опреде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0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лить как         , где  </a:t>
            </a:r>
            <a:r>
              <a:rPr b="0" lang="en-US" sz="2800" spc="-1" strike="noStrike">
                <a:solidFill>
                  <a:srgbClr val="1c1c1c"/>
                </a:solidFill>
                <a:latin typeface="Bell MT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 –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номер энергетического уровня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0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Тогда  электронная оболочка  атома цинка состоит из   4-х  энергетических уровней со следующим  разме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0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щением на них 30 электронов: 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28" name="Picture 24" descr="Рисунок1"/>
          <p:cNvPicPr/>
          <p:nvPr/>
        </p:nvPicPr>
        <p:blipFill>
          <a:blip r:embed="rId1"/>
          <a:stretch/>
        </p:blipFill>
        <p:spPr>
          <a:xfrm>
            <a:off x="1233360" y="5713560"/>
            <a:ext cx="1494000" cy="853920"/>
          </a:xfrm>
          <a:prstGeom prst="rect">
            <a:avLst/>
          </a:prstGeom>
          <a:ln w="0">
            <a:noFill/>
          </a:ln>
        </p:spPr>
      </p:pic>
      <p:sp>
        <p:nvSpPr>
          <p:cNvPr id="629" name="Номер слайда 6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2D63-CE3A-4766-AD27-6D84B59BC6C7}" type="slidenum">
              <a:rPr b="0" lang="ru-RU" sz="1200" spc="-1" strike="noStrike">
                <a:solidFill>
                  <a:srgbClr val="ffffff"/>
                </a:solidFill>
                <a:latin typeface="Bell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ell MT"/>
            </a:endParaRPr>
          </a:p>
        </p:txBody>
      </p:sp>
      <p:pic>
        <p:nvPicPr>
          <p:cNvPr id="630" name="Picture 16" descr="Рисунок4"/>
          <p:cNvPicPr/>
          <p:nvPr/>
        </p:nvPicPr>
        <p:blipFill>
          <a:blip r:embed="rId2"/>
          <a:stretch/>
        </p:blipFill>
        <p:spPr>
          <a:xfrm>
            <a:off x="1981080" y="3675240"/>
            <a:ext cx="673200" cy="492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31" name="Object 20"/>
              <p:cNvSpPr txBox="1"/>
              <p:nvPr/>
            </p:nvSpPr>
            <p:spPr>
              <a:xfrm>
                <a:off x="3429000" y="5423040"/>
                <a:ext cx="510552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е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8е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е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е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cover dir="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/>
          </p:nvPr>
        </p:nvSpPr>
        <p:spPr>
          <a:xfrm>
            <a:off x="455760" y="272880"/>
            <a:ext cx="86882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Такая запись схемы распределения электронов явля  -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ется упрощенной, т.к. она не отражает состояние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электрона в атоме и характер его движения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Обладая различной энергией, электроны в пределах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одного и того же энергетического уровня размещаются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на различных подуровнях, называемых  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s, p, d, f -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под -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уровнями или  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s, p, d, f –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орбиталями, а электроны н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этих орбиталях – 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s, p, d, f –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электронами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С учетом состояния электрона полную электрон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ную формулу атома цинка можно представить так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3" name="Object 8"/>
              <p:cNvSpPr txBox="1"/>
              <p:nvPr/>
            </p:nvSpPr>
            <p:spPr>
              <a:xfrm>
                <a:off x="6618240" y="2544840"/>
                <a:ext cx="88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Object 18"/>
              <p:cNvSpPr txBox="1"/>
              <p:nvPr/>
            </p:nvSpPr>
            <p:spPr>
              <a:xfrm>
                <a:off x="2666880" y="5504040"/>
                <a:ext cx="601524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p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p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d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35" name="Номер слайда 7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1686-DC96-4EFA-9200-C536CBC19356}" type="slidenum">
              <a:rPr b="0" lang="ru-RU" sz="1200" spc="-1" strike="noStrike">
                <a:solidFill>
                  <a:srgbClr val="ffffff"/>
                </a:solidFill>
                <a:latin typeface="Bell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ell MT"/>
            </a:endParaRPr>
          </a:p>
        </p:txBody>
      </p:sp>
      <p:pic>
        <p:nvPicPr>
          <p:cNvPr id="636" name="Picture 17" descr="Рисунок1"/>
          <p:cNvPicPr/>
          <p:nvPr/>
        </p:nvPicPr>
        <p:blipFill>
          <a:blip r:embed="rId1"/>
          <a:stretch/>
        </p:blipFill>
        <p:spPr>
          <a:xfrm>
            <a:off x="914400" y="5622840"/>
            <a:ext cx="1494000" cy="854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400960" cy="143820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 txBox="1"/>
          <p:nvPr/>
        </p:nvSpPr>
        <p:spPr>
          <a:xfrm>
            <a:off x="455760" y="1598400"/>
            <a:ext cx="868824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39" name="Picture 4" descr="прроо"/>
          <p:cNvPicPr/>
          <p:nvPr/>
        </p:nvPicPr>
        <p:blipFill>
          <a:blip r:embed="rId2"/>
          <a:stretch/>
        </p:blipFill>
        <p:spPr>
          <a:xfrm>
            <a:off x="0" y="1598760"/>
            <a:ext cx="9144000" cy="525924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7" descr="грапрапмип"/>
          <p:cNvPicPr/>
          <p:nvPr/>
        </p:nvPicPr>
        <p:blipFill>
          <a:blip r:embed="rId3"/>
          <a:stretch/>
        </p:blipFill>
        <p:spPr>
          <a:xfrm>
            <a:off x="7772400" y="3220920"/>
            <a:ext cx="1371600" cy="1751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 txBox="1"/>
          <p:nvPr/>
        </p:nvSpPr>
        <p:spPr>
          <a:xfrm>
            <a:off x="455760" y="2057040"/>
            <a:ext cx="8688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8952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-   Порядковый номер выражающий заряд ядра атом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952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Zn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, т.е. число протонов или число электронов в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952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атоме, – 30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952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-    Номер периода, показывающий число энергетиче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952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ских уровней, – 4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952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-    Группа, выражающая число электронов на внешнем     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952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энергетическом уровне ( валентных электронов )  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952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побочная группа 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– группы ( 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Б – группа)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952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-   Относительная атомная масса ( А) – 65,37</a:t>
            </a:r>
            <a:r>
              <a:rPr b="0" lang="ru-RU" sz="2800" spc="-1" strike="noStrike">
                <a:solidFill>
                  <a:srgbClr val="ffffff"/>
                </a:solidFill>
                <a:latin typeface="Berlin Sans FB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952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2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E1B8-1C67-4890-8A90-70F678CBE9C7}" type="slidenum">
              <a:rPr b="0" lang="ru-RU" sz="1200" spc="-1" strike="noStrike">
                <a:solidFill>
                  <a:srgbClr val="ffffff"/>
                </a:solidFill>
                <a:latin typeface="Bell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ell MT"/>
            </a:endParaRPr>
          </a:p>
        </p:txBody>
      </p:sp>
      <p:pic>
        <p:nvPicPr>
          <p:cNvPr id="643" name="Picture 6" descr="Z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609480"/>
            <a:ext cx="198144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Rectangle 2" descr=""/>
          <p:cNvPicPr/>
          <p:nvPr/>
        </p:nvPicPr>
        <p:blipFill>
          <a:blip r:embed="rId1"/>
          <a:stretch/>
        </p:blipFill>
        <p:spPr>
          <a:xfrm>
            <a:off x="-536400" y="274680"/>
            <a:ext cx="8918280" cy="113976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 txBox="1"/>
          <p:nvPr/>
        </p:nvSpPr>
        <p:spPr>
          <a:xfrm>
            <a:off x="455760" y="1598760"/>
            <a:ext cx="868824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358200" indent="-30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Цинк – химически активный металл. Он проявляет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58200" indent="-30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только восстановительные свойства. Обладая на внеш-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58200" indent="-30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нем энергетическом уровне двумя валентными элек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58200" indent="-30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тронами, во всех своих соединениях цинк имеет сте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58200" indent="-30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пень окисления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 (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+ 2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)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58200" indent="-30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По химической активности цинк уступает щелоч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58200" indent="-30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ным и щелочноземельным металлам. Так, с простыми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58200" indent="-30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веществами-неметаллами он реагирует только при на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58200" indent="-30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гревании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6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253B-AAC1-4909-9A84-17817F28C48D}" type="slidenum">
              <a:rPr b="0" lang="ru-RU" sz="1200" spc="-1" strike="noStrike">
                <a:solidFill>
                  <a:srgbClr val="ffffff"/>
                </a:solidFill>
                <a:latin typeface="Bell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ell MT"/>
            </a:endParaRPr>
          </a:p>
        </p:txBody>
      </p:sp>
      <p:pic>
        <p:nvPicPr>
          <p:cNvPr id="647" name="Picture 8" descr="J0198022"/>
          <p:cNvPicPr/>
          <p:nvPr/>
        </p:nvPicPr>
        <p:blipFill>
          <a:blip r:embed="rId2"/>
          <a:stretch/>
        </p:blipFill>
        <p:spPr>
          <a:xfrm>
            <a:off x="7467480" y="0"/>
            <a:ext cx="1676520" cy="1598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Arkasha Tita</cp:lastModifiedBy>
  <dcterms:modified xsi:type="dcterms:W3CDTF">2021-05-13T20:35:40Z</dcterms:modified>
  <cp:revision>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