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12.wmf" ContentType="image/x-wmf"/>
  <Override PartName="/ppt/media/image8.png" ContentType="image/png"/>
  <Override PartName="/ppt/media/image7.wmf" ContentType="image/x-wmf"/>
  <Override PartName="/ppt/media/image20.jpeg" ContentType="image/jpeg"/>
  <Override PartName="/ppt/media/image6.wmf" ContentType="image/x-wmf"/>
  <Override PartName="/ppt/media/image11.png" ContentType="image/png"/>
  <Override PartName="/ppt/media/image19.jpeg" ContentType="image/jpeg"/>
  <Override PartName="/ppt/media/image21.wmf" ContentType="image/x-wmf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0928-CEEE-4046-8779-88918E90D7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C9BA-1C0C-401D-BD49-E0F46D01C64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092F-3336-42DD-BAAE-8FBF107F8DF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4843-D7F4-4434-AEA3-46DC2508E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2839-5BC4-4069-AF10-A5AF6FED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B8B23-F5D8-4211-A777-778F119C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236E0-27CA-409F-8B3F-C1DF12E5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DABE2-FA40-4BEC-B5BC-5552E6F5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5CB1F-CD43-4A41-9B37-B3504AFC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FEB33-70ED-42DB-97AB-00F21720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71E39-0B94-4750-9B40-5C4C9005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DC64C-1FAA-4665-89E5-183B038A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4F151F-4481-430E-8740-153A4F72A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ED392-8A3B-4CB6-9ACB-DB7108E58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F621D-7A76-46CC-A2A1-93C4D2A99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A6B0-3E48-48B6-A8C2-D8C89AC4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C72839-30C9-431B-8F51-24BA31EC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E1071-D826-4EA5-AC09-35B82D5D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3F0021-5829-416F-BCBC-D76E3C16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2DED85-23B4-4CAA-91C4-D4E53D89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24BBB1-AC9C-496F-B676-CDE8F183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ECEA5-7C38-4C55-A988-5335705C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85DAB-108A-44B8-B351-22F32E3D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A920A1-DE9C-47C2-939F-401226B5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26757-FDDB-4DD9-A65B-98F87E15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FAB5B-3B82-4D17-9605-A7F3159DC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0537-B287-41CA-A82F-A490C0446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DA7393-64F5-41C9-A8E3-F350560C1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6F8FA-41E3-45C0-A565-EAEED111B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83433-7B93-4E63-8E3C-5AB19BF8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67C24-6F42-4ABA-9F0F-BBC514B7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30DDD-E2E9-4771-BE6E-42A39DFE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4D3DA-E4A4-43FC-85FD-85F5BFA0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B28B0-7B59-43B6-AEF9-704314D0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CDBCF-4846-43AD-B094-EE64E62D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E7396-410C-4220-A680-A084452B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0B235-FCCA-475F-A6B4-9F7B6307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ABAA-26CC-49E8-BF62-0494B6EF9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D0ABE-32FC-428C-A7AB-8E84F60C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64AEE-9BFD-4A8E-9B38-B702A6A79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83825-CB0D-472D-BB55-C31407818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5F2E07-2823-4D2A-96C3-DAC408209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EF8D18-86BB-4256-8749-280BAFFD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14D1CD-7031-457F-8B9C-5CA0365D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5F2399-5ACF-497C-9F4D-248F9F4E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47898D-2595-4628-A476-F1F7C4BA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9640D3-116D-4E37-8C44-1CCFBA1B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2C71F6-98D4-4C14-B3FD-D782E4DF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4A42-AC5B-4FA0-9C09-861CB664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4ACB68-FBC6-46D1-9624-96C20C97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6E8A07-85FB-4197-80CD-75C780C4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D00AD-5203-4429-BDB0-CBCB6634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9C9BE1-738A-4866-9AAA-C9BA48C25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3CF805-3374-4D56-ABAC-92FE9A14F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6258AA-8319-44CF-A14B-CE5837722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76B95F-97AC-4A6A-8612-3602922B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4D4D81-C9B6-4E6C-A9B8-61158A33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9C9034-04D1-44B3-851B-257544FA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8AF799-E5CB-459F-B872-4D1740C6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5C84-B8FB-4E31-944E-CEF4E374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2330C5-7AD0-43D2-94DF-544D0612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175692-D8B6-4C21-A38D-A3F01E05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C5E9D0-D81F-4C72-B6AE-7EAB5F37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5FB940-E970-4C04-9FE5-35236E19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8E8BE4-66AD-4E96-846F-F979F107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860D8E-94C6-434E-90D9-1D6F98F96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118D9D-A261-43DA-8398-3F00829F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34BCCB-9870-44F7-AAB3-6057217C8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3696D7-866E-4041-ACEB-F6EEF32B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027CD8-0E99-412F-A110-AA2F02C6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CEB5-7718-49E8-86B0-9BDD2C50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1908E8-FAC0-4006-8675-DEF9D8A2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A84310-1D8A-45F1-9B94-250F9BD2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7DDBA9-9C5C-45CA-91E3-7F67836B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85BD8C-E0FE-4B62-BDF2-FE08ACB3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AEBA57-E793-42E7-8EE3-472E451F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003455-613A-412A-AD0C-5CCBD28C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038FDC-2BFC-48DA-8220-80477635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B3BA0A-C26D-4193-8822-C99CFED86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52BDC3-4EA0-45B9-9990-BA58A0F68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1973-1C87-4543-981E-1D907416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FC5D-9D6D-4F71-B0E6-7C67DC96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5FEE-7991-4E56-95EC-E6B2A15E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B649-EA86-4802-809E-B18B3A7C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CC7B-C682-41C8-9313-C54098D6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40CE-F8E5-407A-AC7B-DFC7A341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6ACF-764C-40D7-9CEE-06FFACC2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25F8-D169-44F4-903F-82C67B15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EEA2-E38E-47BF-8BE9-57676AE6E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D5310-1322-40EC-95AA-0EBB71720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2C3DD-7740-44EC-92A5-58D491E6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6071D-0039-4F0A-9C65-D815BB9A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6CBC7-5B03-4FCE-9CC7-C224C7A5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73AF0-82DC-42B8-B916-07FA13BF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4F96-4045-4C00-AEB9-0CEBC864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2816B-14CA-4BB1-BA53-B2555B5F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67C03-B54F-4AB5-82A5-5E137306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ED842-9A43-45F0-BE27-695A29F0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349B1-4619-4459-B897-0D17DC01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A1C2D-4A8B-4CA9-A924-52E6F767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DBA36-D181-492D-B227-D519D7849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70809-85C9-49FA-8F39-339C354EA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137EB-B329-4774-BCC9-C252A62A7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95426-0122-42D4-9B84-FC978F87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ED91B-79C2-4BE4-AA39-D53CBD58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63F0-81BA-4DB0-9E67-6BC3AB56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61780-2E1D-40CF-B626-5C855371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99AEB-4626-4013-AEC4-E9A76774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99F13-58AC-4808-BA59-66EF25C4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AF959-977B-41E9-95BB-20F677B9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5AC89-4B0C-46E0-8771-5F06F558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66591-3DAE-4B0F-B229-F7C58776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91771-1333-4F59-8B2D-0C8263DA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D9F84-3DC4-4B65-B026-25DCA3042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64DEB-7724-45F4-BAEF-0248F7BC6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59253-5E30-4A3B-B380-893D93AE6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4972-A73E-4868-ABEF-04919D14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862D5-3E39-4F46-877A-79E2E18D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C7654-C143-4593-AA46-8EB257F5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3716C-B269-4EC6-83FC-55CB1545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AC374-FD45-45DC-9B7B-8B6B0151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D19E9-F851-4276-BDAB-644EFA13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04875-1852-4600-B25D-748920CC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D43E6-75D1-4D98-93F3-02B89013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6D633-920F-45AC-9DD0-053F76F4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64466-7033-4B08-BCA8-9F6B8F58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AE242-B01D-4266-A8EA-17C8E943E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9FD0-0C51-4571-B831-1C6F2F51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8A2E1-4AF9-4F41-93DC-36D918344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723E3-590F-4058-BB78-08A4203E3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F53B1-1B83-4DA1-9D9C-205E51CB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07FFA-5B54-4AE4-A2C8-0FC65B3E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FAC81-A627-4638-9C43-CFC3249D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01EDB-10BF-4B57-9352-3E3848A6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01CFD-F525-424C-8426-37D809F7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0FEED-16A8-48A7-A7CD-4F3ADD4B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948F2-B818-494E-BE62-D4515854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4F660-C55F-43D5-9C48-ED8A6866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97E9-69D3-46D4-B39B-8F607F5B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4779E-D22E-4EBE-A4EE-114CD49F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69837-76FB-4F5B-ACA4-B3A702C0D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AB2B8-627C-4B5B-90DA-FB9682468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02D0F-7A4C-4C73-B9BF-170E1B41F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57663-A591-40EB-8EC9-C3A659FA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EFF2C-0F24-4426-8A0B-6CB1E622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1CB87-37FB-4EFC-BE8E-3F31E082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38539-BB17-4713-A08C-6E7BA750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B56F3-8C94-4654-AF88-E0AA61A2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146E8-E37B-4821-866A-67F7F49A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3A6F-7A8D-4298-9FDC-446F03A8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F21E0-216D-4FFB-B898-1522DD6C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EDEE3-B302-4C11-B10F-137E8238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565D7-3D96-422C-8A82-2351E0D4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45833-00AB-434E-91B2-EA7544C16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E9FA1-BCB1-420B-A7AA-474A932AD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46480-5E29-4EAA-B6E6-F10FBDD90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2DF02-49E3-4CFC-AAAA-6E3A6140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7F90F-2AAC-43A1-964E-81784D14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6DEF6-C5DD-4941-8BC5-C49FA1DB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C273C-8BBE-4FA0-84AE-ED4585D9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D971-C3D9-4148-9389-5A201197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C2E57-F2E8-484A-844C-AFAA13F0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9F298-0836-4EEA-9271-28F28E56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856AC-B198-48EE-893C-60EFD887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56142-722A-4168-B6BF-39A5C870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A4A14-BB9B-496E-BAF9-F37F76FF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1099D-3D3C-483B-A3DD-208503F2C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804B7-4C80-4CB3-AF9C-E8A842FC2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4ABD1-5626-4EBD-93E3-13C8D2650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5B328-E8F1-44B9-92EF-C7CC87C1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6B70A-0D45-42E8-9A0F-B5FC8DD4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D13C-73AC-4519-90DE-773E581C9E92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A383-D9A5-479B-BD05-ED72888262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5FF6-3A8F-42BB-B0CD-304DB3D6F10F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97DA-752F-421B-9E91-F563DD57C6FF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434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435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3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BB2D-F64A-4C50-9DBF-8B2A811F2EE7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3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3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3FF4-95FC-41ED-A081-05C1D7027C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478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479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4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6194-15FE-4381-A78B-E08E89961A17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5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874E-2230-408C-8C57-84C4DB5F3D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52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52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7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7BAA-0F7F-4602-8045-8A5E79F47FA0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8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3D3B-0FBF-4DD8-8CE6-C3E2A74CEE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566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567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40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3911-F6C9-4C0E-A1F4-74BAFE279FC2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41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42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60E1-3A1A-4D28-971A-06DE6D55555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1E3D-CC23-4CD9-AFDE-3A8EDFC967D8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1632-A7FC-430C-92C5-B0ED602B9908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8245-C1C7-450D-8184-C9518DB8B223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4F01-109F-4C7A-BE88-550931BB3B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9D0E-D75D-43AA-A76F-1F187F5FB51D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9EC1-E5AF-4B6D-BA60-36B86147B6B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2B83-1127-4510-B5CB-FE7B8B71D5E1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1CC0-9318-4256-A45C-550A34BD7D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81D8-47BF-4EC5-87B2-5C1E72B4C83D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2E1E-C931-469B-9524-B33F5DDE98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264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265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27F0-D706-4FF0-A97F-27990A502CE1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BB80-A681-4461-AEB1-20BA872B78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308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309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85D1-0643-4F44-8197-A0446B0098BB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3EC6-7EF4-454C-AA28-254C78F790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5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E130-33B2-4F61-9258-EDB1C758B687}" type="datetime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6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7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26CD-E782-483F-AF3B-C8A12BB855FB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7a7ff"/>
            </a:gs>
            <a:gs pos="100000">
              <a:srgbClr val="e4005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Rectangle 2049" descr=""/>
          <p:cNvPicPr/>
          <p:nvPr/>
        </p:nvPicPr>
        <p:blipFill>
          <a:blip r:embed="rId1"/>
          <a:stretch/>
        </p:blipFill>
        <p:spPr>
          <a:xfrm>
            <a:off x="457200" y="1920960"/>
            <a:ext cx="8809200" cy="2352600"/>
          </a:xfrm>
          <a:prstGeom prst="rect">
            <a:avLst/>
          </a:prstGeom>
          <a:ln w="0">
            <a:noFill/>
          </a:ln>
        </p:spPr>
      </p:pic>
      <p:pic>
        <p:nvPicPr>
          <p:cNvPr id="617" name="Rectangle 2048" descr=""/>
          <p:cNvPicPr/>
          <p:nvPr/>
        </p:nvPicPr>
        <p:blipFill>
          <a:blip r:embed="rId2"/>
          <a:stretch/>
        </p:blipFill>
        <p:spPr>
          <a:xfrm>
            <a:off x="3279600" y="2286000"/>
            <a:ext cx="3127680" cy="814392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71"/>
          <p:cNvSpPr/>
          <p:nvPr/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6F2A-2FA3-4F38-912D-BE2EFB68835A}" type="slidenum">
              <a:rPr b="0" lang="ru-RU" sz="13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Bell MT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455760" y="533520"/>
            <a:ext cx="868824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02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Century Gothic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              </a:t>
            </a:r>
            <a:r>
              <a:rPr b="0" lang="ru-RU" sz="2000" spc="-1" strike="noStrike">
                <a:solidFill>
                  <a:srgbClr val="ffff00"/>
                </a:solidFill>
                <a:latin typeface="Century Gothic"/>
              </a:rPr>
              <a:t>            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2 Zn + O</a:t>
            </a:r>
            <a:r>
              <a:rPr b="0" lang="en-US" sz="3000" spc="-1" strike="noStrike" baseline="-25000">
                <a:solidFill>
                  <a:srgbClr val="ffff00"/>
                </a:solidFill>
                <a:latin typeface="Century Gothic"/>
              </a:rPr>
              <a:t>2 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= 2 ZnO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               </a:t>
            </a:r>
            <a:r>
              <a:rPr b="0" lang="ru-RU" sz="3000" spc="-1" strike="noStrike">
                <a:solidFill>
                  <a:srgbClr val="ffff00"/>
                </a:solidFill>
                <a:latin typeface="Century Gothic"/>
              </a:rPr>
              <a:t>      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Zn + Cl</a:t>
            </a:r>
            <a:r>
              <a:rPr b="0" lang="en-US" sz="3000" spc="-1" strike="noStrike" baseline="-25000">
                <a:solidFill>
                  <a:srgbClr val="ffff00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 =  ZnCl</a:t>
            </a:r>
            <a:r>
              <a:rPr b="0" lang="en-US" sz="3000" spc="-1" strike="noStrike" baseline="-25000">
                <a:solidFill>
                  <a:srgbClr val="ffff00"/>
                </a:solidFill>
                <a:latin typeface="Century Gothic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-25000">
                <a:solidFill>
                  <a:srgbClr val="ffff00"/>
                </a:solidFill>
                <a:latin typeface="Century Gothic"/>
              </a:rPr>
              <a:t>                           </a:t>
            </a:r>
            <a:r>
              <a:rPr b="0" lang="ru-RU" sz="3000" spc="-1" strike="noStrike" baseline="-25000">
                <a:solidFill>
                  <a:srgbClr val="ffff00"/>
                </a:solidFill>
                <a:latin typeface="Century Gothic"/>
              </a:rPr>
              <a:t>          </a:t>
            </a:r>
            <a:r>
              <a:rPr b="0" lang="en-US" sz="3000" spc="-1" strike="noStrike" baseline="-25000">
                <a:solidFill>
                  <a:srgbClr val="ffff00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Zn</a:t>
            </a:r>
            <a:r>
              <a:rPr b="0" lang="ru-RU" sz="30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+ S = ZnS</a:t>
            </a:r>
            <a:r>
              <a:rPr b="0" lang="ru-RU" sz="3000" spc="-1" strike="noStrike">
                <a:solidFill>
                  <a:srgbClr val="ffff00"/>
                </a:solidFill>
                <a:latin typeface="Century Gothic"/>
              </a:rPr>
              <a:t>,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Bell MT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а с водой – только в раскаленном виде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ell MT"/>
              </a:rPr>
              <a:t>                      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                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Zn + H</a:t>
            </a:r>
            <a:r>
              <a:rPr b="0" lang="en-US" sz="3000" spc="-1" strike="noStrike" baseline="-25000">
                <a:solidFill>
                  <a:srgbClr val="ffff00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O = ZnO + H</a:t>
            </a:r>
            <a:r>
              <a:rPr b="0" lang="en-US" sz="3000" spc="-1" strike="noStrike" baseline="-25000">
                <a:solidFill>
                  <a:srgbClr val="ffff00"/>
                </a:solidFill>
                <a:latin typeface="Century Gothic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При обычных условиях эти реакции не идут, т.к. по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верхность цинка на воздухе покрывается тонкой за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щитной пленкой оксида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Цинк вступает в реакции со сложными веществами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с кислотами и основаниями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ell MT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ffffff"/>
                </a:solidFill>
                <a:latin typeface="Century Gothic"/>
              </a:rPr>
              <a:t>                                 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Object 19"/>
              <p:cNvSpPr txBox="1"/>
              <p:nvPr/>
            </p:nvSpPr>
            <p:spPr>
              <a:xfrm>
                <a:off x="6407280" y="3124080"/>
                <a:ext cx="290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0" name="Номер слайда 6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6C5C-294B-4500-9765-AED9C725DF5C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</p:spTree>
  </p:cSld>
  <p:transition spd="med">
    <p:cover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10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950"/>
                            </p:stCondLst>
                            <p:childTnLst>
                              <p:par>
                                <p:cTn id="10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1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0" y="352440"/>
            <a:ext cx="9144000" cy="71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а)    При взаимодействии цинка с кислотой  ход реакции зависит от концентрации кислоты. Например, из раз  –бавленной серной кислоты цинк, стоящий в ряду ак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9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тивности металлов до водорода, легко вытесняет его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9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в ходе реакции. Окислителями в этих условиях явля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9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ются ионы водорода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9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98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ell MT"/>
              </a:rPr>
              <a:t>                     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Zn + H</a:t>
            </a:r>
            <a:r>
              <a:rPr b="0" lang="en-US" sz="3000" spc="-1" strike="noStrike" baseline="-25000">
                <a:solidFill>
                  <a:srgbClr val="ffff00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SO</a:t>
            </a:r>
            <a:r>
              <a:rPr b="0" lang="en-US" sz="3000" spc="-1" strike="noStrike" baseline="-25000">
                <a:solidFill>
                  <a:srgbClr val="ffff00"/>
                </a:solidFill>
                <a:latin typeface="Century Gothic"/>
              </a:rPr>
              <a:t>4 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= ZnSO</a:t>
            </a:r>
            <a:r>
              <a:rPr b="0" lang="en-US" sz="3000" spc="-1" strike="noStrike" baseline="-25000">
                <a:solidFill>
                  <a:srgbClr val="ffff00"/>
                </a:solidFill>
                <a:latin typeface="Century Gothic"/>
              </a:rPr>
              <a:t>4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 + H</a:t>
            </a:r>
            <a:r>
              <a:rPr b="0" lang="en-US" sz="3000" spc="-1" strike="noStrike" baseline="-25000">
                <a:solidFill>
                  <a:srgbClr val="ffff00"/>
                </a:solidFill>
                <a:latin typeface="Century Gothic"/>
              </a:rPr>
              <a:t>2 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  <a:ea typeface="Arial"/>
              </a:rPr>
              <a:t>⁭⁭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39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98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           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Zn</a:t>
            </a:r>
            <a:r>
              <a:rPr b="0" lang="en-US" sz="3000" spc="-1" strike="noStrike" baseline="30000">
                <a:solidFill>
                  <a:srgbClr val="ffff00"/>
                </a:solidFill>
                <a:latin typeface="Century Gothic"/>
              </a:rPr>
              <a:t>0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 + 2H</a:t>
            </a:r>
            <a:r>
              <a:rPr b="0" lang="en-US" sz="3000" spc="-1" strike="noStrike" baseline="30000">
                <a:solidFill>
                  <a:srgbClr val="ffff00"/>
                </a:solidFill>
                <a:latin typeface="Century Gothic"/>
              </a:rPr>
              <a:t>+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 + SO</a:t>
            </a:r>
            <a:r>
              <a:rPr b="0" lang="en-US" sz="3000" spc="-1" strike="noStrike" baseline="-25000">
                <a:solidFill>
                  <a:srgbClr val="ffff00"/>
                </a:solidFill>
                <a:latin typeface="Century Gothic"/>
              </a:rPr>
              <a:t>4</a:t>
            </a:r>
            <a:r>
              <a:rPr b="0" lang="en-US" sz="3000" spc="-1" strike="noStrike" baseline="30000">
                <a:solidFill>
                  <a:srgbClr val="ffff00"/>
                </a:solidFill>
                <a:latin typeface="Century Gothic"/>
              </a:rPr>
              <a:t>2-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 = Zn</a:t>
            </a:r>
            <a:r>
              <a:rPr b="0" lang="en-US" sz="3000" spc="-1" strike="noStrike" baseline="30000">
                <a:solidFill>
                  <a:srgbClr val="ffff00"/>
                </a:solidFill>
                <a:latin typeface="Century Gothic"/>
              </a:rPr>
              <a:t>2+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+ SO</a:t>
            </a:r>
            <a:r>
              <a:rPr b="0" lang="en-US" sz="3000" spc="-1" strike="noStrike" baseline="-25000">
                <a:solidFill>
                  <a:srgbClr val="ffff00"/>
                </a:solidFill>
                <a:latin typeface="Century Gothic"/>
              </a:rPr>
              <a:t>4</a:t>
            </a:r>
            <a:r>
              <a:rPr b="0" lang="en-US" sz="3000" spc="-1" strike="noStrike" baseline="30000">
                <a:solidFill>
                  <a:srgbClr val="ffff00"/>
                </a:solidFill>
                <a:latin typeface="Century Gothic"/>
              </a:rPr>
              <a:t>2-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 + H</a:t>
            </a:r>
            <a:r>
              <a:rPr b="0" lang="en-US" sz="3000" spc="-1" strike="noStrike" baseline="-25000">
                <a:solidFill>
                  <a:srgbClr val="ffff00"/>
                </a:solidFill>
                <a:latin typeface="Century Gothic"/>
              </a:rPr>
              <a:t>2 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  <a:ea typeface="Arial"/>
              </a:rPr>
              <a:t>⁭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39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ff00"/>
                </a:solidFill>
                <a:latin typeface="Bell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98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 Greek"/>
              </a:rPr>
              <a:t>           </a:t>
            </a:r>
            <a:r>
              <a:rPr b="0" lang="en-US" sz="3000" spc="-1" strike="noStrike">
                <a:solidFill>
                  <a:srgbClr val="ffff00"/>
                </a:solidFill>
                <a:latin typeface="Arial Greek"/>
              </a:rPr>
              <a:t>          </a:t>
            </a:r>
            <a:r>
              <a:rPr b="0" lang="ru-RU" sz="3000" spc="-1" strike="noStrike">
                <a:solidFill>
                  <a:srgbClr val="ffff00"/>
                </a:solidFill>
                <a:latin typeface="Arial Greek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Arial Greek"/>
              </a:rPr>
              <a:t>Zn</a:t>
            </a:r>
            <a:r>
              <a:rPr b="0" lang="en-US" sz="3000" spc="-1" strike="noStrike" baseline="30000">
                <a:solidFill>
                  <a:srgbClr val="ffff00"/>
                </a:solidFill>
                <a:latin typeface="Arial Greek"/>
              </a:rPr>
              <a:t>0 </a:t>
            </a:r>
            <a:r>
              <a:rPr b="0" lang="en-US" sz="3000" spc="-1" strike="noStrike">
                <a:solidFill>
                  <a:srgbClr val="ffff00"/>
                </a:solidFill>
                <a:latin typeface="Arial Greek"/>
              </a:rPr>
              <a:t>+ 2H</a:t>
            </a:r>
            <a:r>
              <a:rPr b="0" lang="en-US" sz="3000" spc="-1" strike="noStrike" baseline="30000">
                <a:solidFill>
                  <a:srgbClr val="ffff00"/>
                </a:solidFill>
                <a:latin typeface="Arial Greek"/>
              </a:rPr>
              <a:t>+ </a:t>
            </a:r>
            <a:r>
              <a:rPr b="0" lang="en-US" sz="3000" spc="-1" strike="noStrike">
                <a:solidFill>
                  <a:srgbClr val="ffff00"/>
                </a:solidFill>
                <a:latin typeface="Arial Greek"/>
              </a:rPr>
              <a:t>= Zn</a:t>
            </a:r>
            <a:r>
              <a:rPr b="0" lang="en-US" sz="3000" spc="-1" strike="noStrike" baseline="30000">
                <a:solidFill>
                  <a:srgbClr val="ffff00"/>
                </a:solidFill>
                <a:latin typeface="Arial Greek"/>
              </a:rPr>
              <a:t>2+</a:t>
            </a:r>
            <a:r>
              <a:rPr b="0" lang="en-US" sz="3000" spc="-1" strike="noStrike">
                <a:solidFill>
                  <a:srgbClr val="ffff00"/>
                </a:solidFill>
                <a:latin typeface="Arial Greek"/>
              </a:rPr>
              <a:t> + H</a:t>
            </a:r>
            <a:r>
              <a:rPr b="0" lang="en-US" sz="3000" spc="-1" strike="noStrike" baseline="-25000">
                <a:solidFill>
                  <a:srgbClr val="ffff00"/>
                </a:solidFill>
                <a:latin typeface="Arial Greek"/>
              </a:rPr>
              <a:t>2</a:t>
            </a:r>
            <a:r>
              <a:rPr b="0" lang="en-US" sz="3000" spc="-1" strike="noStrike">
                <a:solidFill>
                  <a:srgbClr val="ffff00"/>
                </a:solidFill>
                <a:latin typeface="Arial Greek"/>
              </a:rPr>
              <a:t> ⁭</a:t>
            </a:r>
            <a:r>
              <a:rPr b="0" lang="en-US" sz="3000" spc="-1" strike="noStrike" baseline="30000">
                <a:solidFill>
                  <a:srgbClr val="ffff00"/>
                </a:solidFill>
                <a:latin typeface="Arial Greek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39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9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ell MT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Bell MT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Bell M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2" name="Номер слайда 6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CC79-F6B2-4395-8111-A0FE89347B2F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</p:spTree>
  </p:cSld>
  <p:transition spd="med">
    <p:cover dir="d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4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5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 txBox="1"/>
          <p:nvPr/>
        </p:nvSpPr>
        <p:spPr>
          <a:xfrm>
            <a:off x="455760" y="304920"/>
            <a:ext cx="868824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3840" indent="-336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При взаимодействии цинка с концентрированной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9384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серной кислотой окислителем является сера со сте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9384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пенью окисления (+6). Реакция идет только при на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9384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гревании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9384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93840" indent="-336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                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39384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б)   В отличие от типичных металлов 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I-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  II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-групп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9384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переодической таблицы цинк может взаимодейство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9384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вать с основаниями в твердом виде ( при нагревании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9384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или в водном растворе, образуя соль или комплексное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9384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соединение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4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BFA5-F808-400F-807B-6CF0C66339C9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  <p:pic>
        <p:nvPicPr>
          <p:cNvPr id="655" name="Picture 6" descr="Рисунок7"/>
          <p:cNvPicPr/>
          <p:nvPr/>
        </p:nvPicPr>
        <p:blipFill>
          <a:blip r:embed="rId1"/>
          <a:stretch/>
        </p:blipFill>
        <p:spPr>
          <a:xfrm>
            <a:off x="455760" y="2476440"/>
            <a:ext cx="8211960" cy="647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455760" y="838080"/>
            <a:ext cx="86882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Bell MT"/>
              </a:rPr>
              <a:t>  </a:t>
            </a:r>
            <a:r>
              <a:rPr b="0" lang="en-US" sz="2800" spc="-1" strike="noStrike">
                <a:solidFill>
                  <a:srgbClr val="660066"/>
                </a:solidFill>
                <a:latin typeface="Bell MT"/>
              </a:rPr>
              <a:t>       </a:t>
            </a:r>
            <a:r>
              <a:rPr b="0" lang="ru-RU" sz="2800" spc="-1" strike="noStrike">
                <a:solidFill>
                  <a:srgbClr val="660066"/>
                </a:solidFill>
                <a:latin typeface="Bell MT"/>
              </a:rPr>
              <a:t> </a:t>
            </a:r>
            <a:r>
              <a:rPr b="0" lang="en-US" sz="3000" spc="-1" strike="noStrike">
                <a:solidFill>
                  <a:srgbClr val="ffff99"/>
                </a:solidFill>
                <a:latin typeface="Century Gothic"/>
              </a:rPr>
              <a:t>Zn</a:t>
            </a:r>
            <a:r>
              <a:rPr b="0" lang="en-US" sz="3000" spc="-1" strike="noStrike" baseline="30000">
                <a:solidFill>
                  <a:srgbClr val="ffff99"/>
                </a:solidFill>
                <a:latin typeface="Century Gothic"/>
              </a:rPr>
              <a:t>0</a:t>
            </a:r>
            <a:r>
              <a:rPr b="0" lang="en-US" sz="3000" spc="-1" strike="noStrike">
                <a:solidFill>
                  <a:srgbClr val="ffff99"/>
                </a:solidFill>
                <a:latin typeface="Century Gothic"/>
              </a:rPr>
              <a:t> + 2Na</a:t>
            </a:r>
            <a:r>
              <a:rPr b="0" lang="en-US" sz="3000" spc="-1" strike="noStrike" baseline="30000">
                <a:solidFill>
                  <a:srgbClr val="ffff99"/>
                </a:solidFill>
                <a:latin typeface="Century Gothic"/>
              </a:rPr>
              <a:t>+1</a:t>
            </a:r>
            <a:r>
              <a:rPr b="0" lang="en-US" sz="3000" spc="-1" strike="noStrike">
                <a:solidFill>
                  <a:srgbClr val="ffff99"/>
                </a:solidFill>
                <a:latin typeface="Century Gothic"/>
              </a:rPr>
              <a:t>OH = Na</a:t>
            </a:r>
            <a:r>
              <a:rPr b="0" lang="en-US" sz="3000" spc="-1" strike="noStrike" baseline="-25000">
                <a:solidFill>
                  <a:srgbClr val="ffff99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ffff99"/>
                </a:solidFill>
                <a:latin typeface="Century Gothic"/>
              </a:rPr>
              <a:t>ZnO</a:t>
            </a:r>
            <a:r>
              <a:rPr b="0" lang="en-US" sz="3000" spc="-1" strike="noStrike" baseline="-25000">
                <a:solidFill>
                  <a:srgbClr val="ffff99"/>
                </a:solidFill>
                <a:latin typeface="Century Gothic"/>
              </a:rPr>
              <a:t>2 </a:t>
            </a:r>
            <a:r>
              <a:rPr b="0" lang="en-US" sz="3000" spc="-1" strike="noStrike">
                <a:solidFill>
                  <a:srgbClr val="ffff99"/>
                </a:solidFill>
                <a:latin typeface="Century Gothic"/>
              </a:rPr>
              <a:t>+ H</a:t>
            </a:r>
            <a:r>
              <a:rPr b="0" lang="en-US" sz="3000" spc="-1" strike="noStrike" baseline="-25000">
                <a:solidFill>
                  <a:srgbClr val="ffff99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ffff99"/>
                </a:solidFill>
                <a:latin typeface="Century Gothic"/>
                <a:ea typeface="Arial"/>
              </a:rPr>
              <a:t>↑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ell MT"/>
              </a:rPr>
              <a:t> </a:t>
            </a:r>
            <a:r>
              <a:rPr b="0" lang="en-US" sz="3000" spc="-1" strike="noStrike">
                <a:solidFill>
                  <a:srgbClr val="ffff99"/>
                </a:solidFill>
                <a:latin typeface="Century Gothic"/>
              </a:rPr>
              <a:t>Zn</a:t>
            </a:r>
            <a:r>
              <a:rPr b="0" lang="en-US" sz="3000" spc="-1" strike="noStrike" baseline="30000">
                <a:solidFill>
                  <a:srgbClr val="ffff99"/>
                </a:solidFill>
                <a:latin typeface="Century Gothic"/>
              </a:rPr>
              <a:t>0</a:t>
            </a:r>
            <a:r>
              <a:rPr b="0" lang="en-US" sz="3000" spc="-1" strike="noStrike">
                <a:solidFill>
                  <a:srgbClr val="ffff99"/>
                </a:solidFill>
                <a:latin typeface="Century Gothic"/>
              </a:rPr>
              <a:t> + 2NaOH + 2H</a:t>
            </a:r>
            <a:r>
              <a:rPr b="0" lang="en-US" sz="3000" spc="-1" strike="noStrike" baseline="-25000">
                <a:solidFill>
                  <a:srgbClr val="ffff99"/>
                </a:solidFill>
                <a:latin typeface="Century Gothic"/>
              </a:rPr>
              <a:t>2</a:t>
            </a:r>
            <a:r>
              <a:rPr b="0" lang="en-US" sz="3000" spc="-1" strike="noStrike" baseline="30000">
                <a:solidFill>
                  <a:srgbClr val="ffff99"/>
                </a:solidFill>
                <a:latin typeface="Century Gothic"/>
              </a:rPr>
              <a:t>+1</a:t>
            </a:r>
            <a:r>
              <a:rPr b="0" lang="en-US" sz="3000" spc="-1" strike="noStrike">
                <a:solidFill>
                  <a:srgbClr val="ffff99"/>
                </a:solidFill>
                <a:latin typeface="Century Gothic"/>
              </a:rPr>
              <a:t>O = Na</a:t>
            </a:r>
            <a:r>
              <a:rPr b="0" lang="ru-RU" sz="3000" spc="-1" strike="noStrike" baseline="-25000">
                <a:solidFill>
                  <a:srgbClr val="ffff99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ffff99"/>
                </a:solidFill>
                <a:latin typeface="Century Gothic"/>
                <a:ea typeface="Arial"/>
              </a:rPr>
              <a:t>[ Zn(OH</a:t>
            </a:r>
            <a:r>
              <a:rPr b="0" lang="en-US" sz="3000" spc="-1" strike="noStrike" baseline="-25000">
                <a:solidFill>
                  <a:srgbClr val="ffff99"/>
                </a:solidFill>
                <a:latin typeface="Century Gothic"/>
                <a:ea typeface="Arial"/>
              </a:rPr>
              <a:t>4</a:t>
            </a:r>
            <a:r>
              <a:rPr b="0" lang="en-US" sz="3000" spc="-1" strike="noStrike">
                <a:solidFill>
                  <a:srgbClr val="ffff99"/>
                </a:solidFill>
                <a:latin typeface="Century Gothic"/>
                <a:ea typeface="Arial"/>
              </a:rPr>
              <a:t>)] + H</a:t>
            </a:r>
            <a:r>
              <a:rPr b="0" lang="en-US" sz="3000" spc="-1" strike="noStrike" baseline="-25000">
                <a:solidFill>
                  <a:srgbClr val="ffff99"/>
                </a:solidFill>
                <a:latin typeface="Century Gothic"/>
                <a:ea typeface="Arial"/>
              </a:rPr>
              <a:t>2</a:t>
            </a:r>
            <a:r>
              <a:rPr b="0" lang="en-US" sz="3000" spc="-1" strike="noStrike">
                <a:solidFill>
                  <a:srgbClr val="ffff99"/>
                </a:solidFill>
                <a:latin typeface="Century Gothic"/>
                <a:ea typeface="Arial"/>
              </a:rPr>
              <a:t>↑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В приведенных реакциях цинка с кислотами и основа -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ниями выражена двойственная природа цинка как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элемента побочной подгруппы переодической системы,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способного образовать амфотерные оксид и гидроксид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Object 7"/>
              <p:cNvSpPr txBox="1"/>
              <p:nvPr/>
            </p:nvSpPr>
            <p:spPr>
              <a:xfrm>
                <a:off x="6392880" y="2598840"/>
                <a:ext cx="542880" cy="1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крис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8" name="Номер слайда 7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98B4-F20C-47D9-99BE-B1D04A6AA693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</p:spTree>
  </p:cSld>
  <p:transition spd="med">
    <p:cover dir="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8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Rectangle 2" descr=""/>
          <p:cNvPicPr/>
          <p:nvPr/>
        </p:nvPicPr>
        <p:blipFill>
          <a:blip r:embed="rId1"/>
          <a:stretch/>
        </p:blipFill>
        <p:spPr>
          <a:xfrm>
            <a:off x="212760" y="171360"/>
            <a:ext cx="8474040" cy="171288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 txBox="1"/>
          <p:nvPr/>
        </p:nvSpPr>
        <p:spPr>
          <a:xfrm>
            <a:off x="455760" y="1415520"/>
            <a:ext cx="8688240" cy="54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5840" indent="-32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Bell MT"/>
              </a:rPr>
              <a:t>Гидроксид цинка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ll MT"/>
              </a:rPr>
              <a:t>Zn(OH)</a:t>
            </a:r>
            <a:r>
              <a:rPr b="0" lang="en-US" sz="2800" spc="-1" strike="noStrike" u="sng" baseline="-25000">
                <a:solidFill>
                  <a:srgbClr val="ffffff"/>
                </a:solidFill>
                <a:uFillTx/>
                <a:latin typeface="Bell MT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представляет собой не -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-32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растворимое в воде кристаллическое или аморфное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-32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вещество белого цвета. Он обычно выпадает в осадок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-32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при взаимодействии соли цинка с щелочью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-32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-32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   </a:t>
            </a:r>
            <a:r>
              <a:rPr b="0" lang="en-US" sz="2600" spc="-1" strike="noStrike">
                <a:solidFill>
                  <a:srgbClr val="660066"/>
                </a:solidFill>
                <a:latin typeface="Century Gothic"/>
              </a:rPr>
              <a:t>ZnSO</a:t>
            </a:r>
            <a:r>
              <a:rPr b="0" lang="en-US" sz="2600" spc="-1" strike="noStrike" baseline="-25000">
                <a:solidFill>
                  <a:srgbClr val="660066"/>
                </a:solidFill>
                <a:latin typeface="Century Gothic"/>
              </a:rPr>
              <a:t>4</a:t>
            </a:r>
            <a:r>
              <a:rPr b="0" lang="en-US" sz="2600" spc="-1" strike="noStrike">
                <a:solidFill>
                  <a:srgbClr val="660066"/>
                </a:solidFill>
                <a:latin typeface="Century Gothic"/>
              </a:rPr>
              <a:t> + 2NaOH = Zn(OH)</a:t>
            </a:r>
            <a:r>
              <a:rPr b="0" lang="en-US" sz="2600" spc="-1" strike="noStrike" baseline="-25000">
                <a:solidFill>
                  <a:srgbClr val="660066"/>
                </a:solidFill>
                <a:latin typeface="Century Gothic"/>
              </a:rPr>
              <a:t>2</a:t>
            </a:r>
            <a:r>
              <a:rPr b="0" lang="ru-RU" sz="2600" spc="-1" strike="noStrike">
                <a:solidFill>
                  <a:srgbClr val="660066"/>
                </a:solidFill>
                <a:latin typeface="Century Gothic"/>
              </a:rPr>
              <a:t>↓</a:t>
            </a:r>
            <a:r>
              <a:rPr b="0" lang="en-US" sz="2600" spc="-1" strike="noStrike">
                <a:solidFill>
                  <a:srgbClr val="660066"/>
                </a:solidFill>
                <a:latin typeface="Century Gothic"/>
              </a:rPr>
              <a:t>+ Na</a:t>
            </a:r>
            <a:r>
              <a:rPr b="0" lang="en-US" sz="2600" spc="-1" strike="noStrike" baseline="-25000">
                <a:solidFill>
                  <a:srgbClr val="660066"/>
                </a:solidFill>
                <a:latin typeface="Century Gothic"/>
              </a:rPr>
              <a:t>2</a:t>
            </a:r>
            <a:r>
              <a:rPr b="0" lang="en-US" sz="2600" spc="-1" strike="noStrike">
                <a:solidFill>
                  <a:srgbClr val="660066"/>
                </a:solidFill>
                <a:latin typeface="Century Gothic"/>
              </a:rPr>
              <a:t>SO</a:t>
            </a:r>
            <a:r>
              <a:rPr b="0" lang="en-US" sz="2600" spc="-1" strike="noStrike" baseline="-25000">
                <a:solidFill>
                  <a:srgbClr val="660066"/>
                </a:solidFill>
                <a:latin typeface="Century Gothic"/>
              </a:rPr>
              <a:t>4</a:t>
            </a:r>
            <a:r>
              <a:rPr b="0" lang="ru-RU" sz="2800" spc="-1" strike="noStrike">
                <a:solidFill>
                  <a:srgbClr val="660066"/>
                </a:solidFill>
                <a:latin typeface="Bell MT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-32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-32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Однако осадок  легко растворяется в растворе щелоч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-32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или кислоты, проявляя характерные для гидроксид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-32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цинка амфотерные свойства: реагировать с кислотой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-32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1" name="Номер слайда 6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CF16-68AF-4F2B-8F5F-EFB7B850E3C4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</p:spTree>
  </p:cSld>
  <p:transition spd="med">
    <p:cover dir="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/>
          </p:nvPr>
        </p:nvSpPr>
        <p:spPr>
          <a:xfrm>
            <a:off x="455760" y="380520"/>
            <a:ext cx="8688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0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Реагировать с кислотой как основание, а с основанием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к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ак кислота, т.е. формулу гидроксида цинка можно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п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редставить двояко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                 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Zn(OH)</a:t>
            </a:r>
            <a:r>
              <a:rPr b="0" lang="en-US" sz="3000" spc="-1" strike="noStrike" baseline="-25000">
                <a:solidFill>
                  <a:srgbClr val="660066"/>
                </a:solidFill>
                <a:latin typeface="Century Gothic"/>
              </a:rPr>
              <a:t>2</a:t>
            </a:r>
            <a:r>
              <a:rPr b="0" lang="ru-RU" sz="3000" spc="-1" strike="noStrike" baseline="-25000">
                <a:solidFill>
                  <a:srgbClr val="660066"/>
                </a:solidFill>
                <a:latin typeface="Century Gothic"/>
              </a:rPr>
              <a:t>   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= </a:t>
            </a:r>
            <a:r>
              <a:rPr b="0" lang="ru-RU" sz="3000" spc="-1" strike="noStrike">
                <a:solidFill>
                  <a:srgbClr val="660066"/>
                </a:solidFill>
                <a:latin typeface="Century Gothic"/>
              </a:rPr>
              <a:t>  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H</a:t>
            </a:r>
            <a:r>
              <a:rPr b="0" lang="en-US" sz="3000" spc="-1" strike="noStrike" baseline="-25000">
                <a:solidFill>
                  <a:srgbClr val="660066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ZnO</a:t>
            </a:r>
            <a:r>
              <a:rPr b="0" lang="en-US" sz="3000" spc="-1" strike="noStrike" baseline="-25000">
                <a:solidFill>
                  <a:srgbClr val="660066"/>
                </a:solidFill>
                <a:latin typeface="Century Gothic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baseline="-25000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Тогда уравнения реакций гидроксида цинка с кис -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лотой и с щелочью можно записать так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        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Zn(OH)</a:t>
            </a:r>
            <a:r>
              <a:rPr b="0" lang="en-US" sz="3000" spc="-1" strike="noStrike" baseline="-25000">
                <a:solidFill>
                  <a:srgbClr val="660066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 + 2HCl = ZnCl</a:t>
            </a:r>
            <a:r>
              <a:rPr b="0" lang="en-US" sz="3000" spc="-1" strike="noStrike" baseline="-25000">
                <a:solidFill>
                  <a:srgbClr val="660066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 + 2H</a:t>
            </a:r>
            <a:r>
              <a:rPr b="0" lang="en-US" sz="3000" spc="-1" strike="noStrike" baseline="-25000">
                <a:solidFill>
                  <a:srgbClr val="660066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O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3" name="Object 7"/>
              <p:cNvSpPr txBox="1"/>
              <p:nvPr/>
            </p:nvSpPr>
            <p:spPr>
              <a:xfrm>
                <a:off x="2900520" y="3024360"/>
                <a:ext cx="88092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гидрокси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Object 7"/>
              <p:cNvSpPr txBox="1"/>
              <p:nvPr/>
            </p:nvSpPr>
            <p:spPr>
              <a:xfrm>
                <a:off x="5129280" y="2971800"/>
                <a:ext cx="15937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кислот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5" name="Номер слайда 7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6077-BC6D-4996-91F7-3571E6884FAF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</p:spTree>
  </p:cSld>
  <p:transition spd="med">
    <p:cover dir="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455760" y="380880"/>
            <a:ext cx="86882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371520" indent="-317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66"/>
                </a:solidFill>
                <a:latin typeface="Century Gothic"/>
              </a:rPr>
              <a:t>  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  </a:t>
            </a:r>
            <a:r>
              <a:rPr b="0" lang="ru-RU" sz="3000" spc="-1" strike="noStrike">
                <a:solidFill>
                  <a:srgbClr val="660066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H</a:t>
            </a:r>
            <a:r>
              <a:rPr b="0" lang="en-US" sz="3000" spc="-1" strike="noStrike" baseline="-25000">
                <a:solidFill>
                  <a:srgbClr val="660066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ZnO</a:t>
            </a:r>
            <a:r>
              <a:rPr b="0" lang="en-US" sz="3000" spc="-1" strike="noStrike" baseline="-25000">
                <a:solidFill>
                  <a:srgbClr val="660066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 + 2NaOH = Na</a:t>
            </a:r>
            <a:r>
              <a:rPr b="0" lang="en-US" sz="3000" spc="-1" strike="noStrike" baseline="-25000">
                <a:solidFill>
                  <a:srgbClr val="660066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ZnO</a:t>
            </a:r>
            <a:r>
              <a:rPr b="0" lang="en-US" sz="3000" spc="-1" strike="noStrike" baseline="-25000">
                <a:solidFill>
                  <a:srgbClr val="660066"/>
                </a:solidFill>
                <a:latin typeface="Century Gothic"/>
              </a:rPr>
              <a:t>2 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+ 2H</a:t>
            </a:r>
            <a:r>
              <a:rPr b="0" lang="en-US" sz="3000" spc="-1" strike="noStrike" baseline="-25000">
                <a:solidFill>
                  <a:srgbClr val="660066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O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371520" indent="-317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371520" indent="-317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В обоих случаях образуются растворимые соли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1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хлорид цинка и цинкат натрия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1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Bell MT"/>
              </a:rPr>
              <a:t>Оксид цинка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ll MT"/>
              </a:rPr>
              <a:t>ZnO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– это белые шелковистые блестя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1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щие иглы или призмы, которые можно получить, на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1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пример, окислением цинка на воздухе при нагревании,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1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как было показано ранее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1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Аналогично гидроксиду оксид цинка также прояв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1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ляет амфотерный характер – образует растворимые в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1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Воде соли при взаимодействии как с кислотами, про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1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7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082C-20D8-4E0B-B0AD-8610128A7B8A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</p:spTree>
  </p:cSld>
  <p:transition spd="med">
    <p:cover dir="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 txBox="1"/>
          <p:nvPr/>
        </p:nvSpPr>
        <p:spPr>
          <a:xfrm>
            <a:off x="455760" y="380520"/>
            <a:ext cx="8688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являя себя в роли основного оксида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ZnO + 2HCl = ZnCl</a:t>
            </a:r>
            <a:r>
              <a:rPr b="0" lang="en-US" sz="3000" spc="-1" strike="noStrike" baseline="-25000">
                <a:solidFill>
                  <a:srgbClr val="660066"/>
                </a:solidFill>
                <a:latin typeface="Century Gothic"/>
              </a:rPr>
              <a:t>2 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+ H</a:t>
            </a:r>
            <a:r>
              <a:rPr b="0" lang="en-US" sz="3000" spc="-1" strike="noStrike" baseline="-25000">
                <a:solidFill>
                  <a:srgbClr val="660066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O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Так и с основаниями, выступая в качестве кислотного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Оксида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          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ZnO + 2KOH = K</a:t>
            </a:r>
            <a:r>
              <a:rPr b="0" lang="en-US" sz="3000" spc="-1" strike="noStrike" baseline="-25000">
                <a:solidFill>
                  <a:srgbClr val="660066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ZnO</a:t>
            </a:r>
            <a:r>
              <a:rPr b="0" lang="en-US" sz="3000" spc="-1" strike="noStrike" baseline="-25000">
                <a:solidFill>
                  <a:srgbClr val="660066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 +H</a:t>
            </a:r>
            <a:r>
              <a:rPr b="0" lang="en-US" sz="3000" spc="-1" strike="noStrike" baseline="-25000">
                <a:solidFill>
                  <a:srgbClr val="660066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O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9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2D7B-89B1-4740-8A48-BE2B5AC58DDB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</p:spTree>
  </p:cSld>
  <p:transition spd="med">
    <p:cover dir="d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Rectangle 2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358120" cy="154332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 txBox="1"/>
          <p:nvPr/>
        </p:nvSpPr>
        <p:spPr>
          <a:xfrm>
            <a:off x="455760" y="1598760"/>
            <a:ext cx="868824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848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Цинк в природе встречается только в составе соеди -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нений цинковых руд, например,цинковая обманка 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ZnS,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цинковый шпат 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Zn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ell MT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, цинкит 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ZnO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. Массовая доля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цинка в земной коре составляет 0,005%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Для получения цинка его руды подвергают обжигу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  </a:t>
            </a:r>
            <a:r>
              <a:rPr b="0" lang="en-US" sz="3000" spc="-1" strike="noStrike">
                <a:solidFill>
                  <a:srgbClr val="1c1c1c"/>
                </a:solidFill>
                <a:latin typeface="Century Gothic"/>
              </a:rPr>
              <a:t>2ZnS + 3O</a:t>
            </a:r>
            <a:r>
              <a:rPr b="0" lang="en-US" sz="3000" spc="-1" strike="noStrike" baseline="-25000">
                <a:solidFill>
                  <a:srgbClr val="1c1c1c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1c1c1c"/>
                </a:solidFill>
                <a:latin typeface="Century Gothic"/>
              </a:rPr>
              <a:t> = 2ZnO + 2SO</a:t>
            </a:r>
            <a:r>
              <a:rPr b="0" lang="en-US" sz="3000" spc="-1" strike="noStrike" baseline="-25000">
                <a:solidFill>
                  <a:srgbClr val="1c1c1c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1c1c1c"/>
                </a:solidFill>
                <a:latin typeface="Century Gothic"/>
                <a:ea typeface="Arial"/>
              </a:rPr>
              <a:t>↑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           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 </a:t>
            </a:r>
            <a:r>
              <a:rPr b="0" lang="en-US" sz="3000" spc="-1" strike="noStrike">
                <a:solidFill>
                  <a:srgbClr val="1c1c1c"/>
                </a:solidFill>
                <a:latin typeface="Century Gothic"/>
              </a:rPr>
              <a:t>ZnCO</a:t>
            </a:r>
            <a:r>
              <a:rPr b="0" lang="en-US" sz="3000" spc="-1" strike="noStrike" baseline="-25000">
                <a:solidFill>
                  <a:srgbClr val="1c1c1c"/>
                </a:solidFill>
                <a:latin typeface="Century Gothic"/>
              </a:rPr>
              <a:t>3</a:t>
            </a:r>
            <a:r>
              <a:rPr b="0" lang="en-US" sz="3000" spc="-1" strike="noStrike">
                <a:solidFill>
                  <a:srgbClr val="1c1c1c"/>
                </a:solidFill>
                <a:latin typeface="Century Gothic"/>
              </a:rPr>
              <a:t> = ZnO + CO</a:t>
            </a:r>
            <a:r>
              <a:rPr b="0" lang="en-US" sz="3000" spc="-1" strike="noStrike" baseline="-25000">
                <a:solidFill>
                  <a:srgbClr val="1c1c1c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1c1c1c"/>
                </a:solidFill>
                <a:latin typeface="Century Gothic"/>
                <a:ea typeface="Arial"/>
              </a:rPr>
              <a:t>↑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2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403F-C02F-4D73-B70F-93C55455B1B1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</p:spTree>
  </p:cSld>
  <p:transition spd="med">
    <p:cover dir="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250" autoRev="1" fill="hold"/>
                                        <p:tgtEl>
                                          <p:spTgt spid="6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74" dur="250" autoRev="1" fill="hold"/>
                                        <p:tgtEl>
                                          <p:spTgt spid="6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75" dur="250" autoRev="1" fill="hold"/>
                                        <p:tgtEl>
                                          <p:spTgt spid="6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250" autoRev="1" fill="hold"/>
                                        <p:tgtEl>
                                          <p:spTgt spid="6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79" dur="250" autoRev="1" fill="hold"/>
                                        <p:tgtEl>
                                          <p:spTgt spid="6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80" dur="250" autoRev="1" fill="hold"/>
                                        <p:tgtEl>
                                          <p:spTgt spid="6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 txBox="1"/>
          <p:nvPr/>
        </p:nvSpPr>
        <p:spPr>
          <a:xfrm>
            <a:off x="455760" y="380520"/>
            <a:ext cx="8688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Далее оксид цинка при нагревании восстанавливают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Углем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</a:t>
            </a:r>
            <a:r>
              <a:rPr b="0" lang="en-US" sz="3000" spc="-1" strike="noStrike">
                <a:solidFill>
                  <a:srgbClr val="1c1c1c"/>
                </a:solidFill>
                <a:latin typeface="Century Gothic"/>
              </a:rPr>
              <a:t>ZnO + C = Zn + CO</a:t>
            </a:r>
            <a:r>
              <a:rPr b="0" lang="en-US" sz="3000" spc="-1" strike="noStrike">
                <a:solidFill>
                  <a:srgbClr val="1c1c1c"/>
                </a:solidFill>
                <a:latin typeface="Century Gothic"/>
                <a:ea typeface="Arial"/>
              </a:rPr>
              <a:t>↑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4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3924-3C09-4761-A4FD-9822F51DD266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  <p:pic>
        <p:nvPicPr>
          <p:cNvPr id="675" name="Picture 5" descr="800px-Zinc_fragment_sublimed_and_1cm3_cube"/>
          <p:cNvPicPr/>
          <p:nvPr/>
        </p:nvPicPr>
        <p:blipFill>
          <a:blip r:embed="rId1"/>
          <a:stretch/>
        </p:blipFill>
        <p:spPr>
          <a:xfrm>
            <a:off x="1447920" y="2536920"/>
            <a:ext cx="6476760" cy="3558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6" dur="250" autoRev="1" fill="hold"/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87" dur="250" autoRev="1" fill="hold"/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88" dur="250" autoRev="1" fill="hold"/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66"/>
            </a:gs>
            <a:gs pos="100000">
              <a:srgbClr val="e4005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-37476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Bell MT"/>
              </a:rPr>
              <a:t>а)    </a:t>
            </a:r>
            <a:r>
              <a:rPr b="0" lang="ru-RU" sz="3700" spc="-1" strike="noStrike">
                <a:solidFill>
                  <a:srgbClr val="ff00ff"/>
                </a:solidFill>
                <a:latin typeface="Bell MT"/>
              </a:rPr>
              <a:t>Формула состава атома цинка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Bell MT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Bell MT"/>
              </a:rPr>
              <a:t>Согласно планетарной модели, предложенной ан -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Bell MT"/>
              </a:rPr>
              <a:t>глийским физиком Резерфордом, атом состоит из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Bell MT"/>
              </a:rPr>
              <a:t>положительно заряжен</a:t>
            </a: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-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Bell MT"/>
              </a:rPr>
              <a:t>ного ядра и окружаю -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Bell MT"/>
              </a:rPr>
              <a:t>щей электронной обо -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Bell MT"/>
              </a:rPr>
              <a:t>лочки, заряженной от -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Bell MT"/>
              </a:rPr>
              <a:t>рицательно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   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Bell MT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1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F874-D486-4E3A-AB27-470717964A34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</p:spTree>
  </p:cSld>
  <p:transition spd="med">
    <p:cover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Rectangle 28" descr=""/>
          <p:cNvPicPr/>
          <p:nvPr/>
        </p:nvPicPr>
        <p:blipFill>
          <a:blip r:embed="rId1"/>
          <a:stretch/>
        </p:blipFill>
        <p:spPr>
          <a:xfrm>
            <a:off x="457200" y="-73080"/>
            <a:ext cx="8223120" cy="138420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 txBox="1"/>
          <p:nvPr/>
        </p:nvSpPr>
        <p:spPr>
          <a:xfrm>
            <a:off x="455760" y="1142640"/>
            <a:ext cx="8688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848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Ввиду того, что на цинк при обычных условиях не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действует ни кислород воздуха, ни вода, большая часть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цинка расходуется на защитные от коррозии покрытия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железных листов, стальных и чугунных изделий, а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также для получения специальных сплавов с повы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шенной антикоррозионной активностью, для произ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водства цинково-угольных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гальванических элементов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в батареях разного назна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чения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Оксид цинка применяют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в производстве красок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8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F41D-8BB7-4869-B9E6-C11718C9DD42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  <p:pic>
        <p:nvPicPr>
          <p:cNvPr id="679" name="Picture 6" descr="1249205476_bae"/>
          <p:cNvPicPr/>
          <p:nvPr/>
        </p:nvPicPr>
        <p:blipFill>
          <a:blip r:embed="rId2"/>
          <a:stretch/>
        </p:blipFill>
        <p:spPr>
          <a:xfrm>
            <a:off x="4797360" y="3879720"/>
            <a:ext cx="4346640" cy="2837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Picture 11" descr="737"/>
          <p:cNvPicPr/>
          <p:nvPr/>
        </p:nvPicPr>
        <p:blipFill>
          <a:blip r:embed="rId1"/>
          <a:stretch/>
        </p:blipFill>
        <p:spPr>
          <a:xfrm rot="1200000">
            <a:off x="141120" y="3935160"/>
            <a:ext cx="2895840" cy="133344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5" descr="Zinkum_enl"/>
          <p:cNvPicPr/>
          <p:nvPr/>
        </p:nvPicPr>
        <p:blipFill>
          <a:blip r:embed="rId2"/>
          <a:stretch/>
        </p:blipFill>
        <p:spPr>
          <a:xfrm rot="20520000">
            <a:off x="5486400" y="3250800"/>
            <a:ext cx="3365640" cy="196704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 txBox="1"/>
          <p:nvPr/>
        </p:nvSpPr>
        <p:spPr>
          <a:xfrm>
            <a:off x="455760" y="69480"/>
            <a:ext cx="86882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(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цинковых белил) и как полупроводниковый материал,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а в медицине и косметике – как мазь, шампунь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Сульфат цинка применяют в качестве электролит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при получении цинковых покрытий и как микроудо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брение в сельском хозяйстве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3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9AE3-AC76-405A-8B77-F177125A16A0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  <p:pic>
        <p:nvPicPr>
          <p:cNvPr id="684" name="Picture 13" descr="J0198494"/>
          <p:cNvPicPr/>
          <p:nvPr/>
        </p:nvPicPr>
        <p:blipFill>
          <a:blip r:embed="rId3"/>
          <a:stretch/>
        </p:blipFill>
        <p:spPr>
          <a:xfrm rot="20400000">
            <a:off x="3003120" y="3987360"/>
            <a:ext cx="2729160" cy="2006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455760" y="380520"/>
            <a:ext cx="86882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Ядро атома в свою очередь состоит из элементар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ных частиц двух видов: протонов и нейтронов. Протон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имеет заряд (+1) и массу 1 ( р</a:t>
            </a:r>
            <a:r>
              <a:rPr b="0" lang="ru-RU" sz="2800" spc="-1" strike="noStrike" baseline="30000">
                <a:solidFill>
                  <a:srgbClr val="ffffff"/>
                </a:solidFill>
                <a:latin typeface="Bell MT"/>
              </a:rPr>
              <a:t>+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). Нейтрон, как и протон,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имеет массу 1, но заряда не имеет (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Bell MT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455760" y="380880"/>
            <a:ext cx="86882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07520" indent="-34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Электрон ( е </a:t>
            </a:r>
            <a:r>
              <a:rPr b="0" lang="ru-RU" sz="2800" spc="-1" strike="noStrike" baseline="30000">
                <a:solidFill>
                  <a:srgbClr val="ffffff"/>
                </a:solidFill>
                <a:latin typeface="Bell MT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) имеет заряд (-1) и очень маленькую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массу (1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/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1840). Следовательно, масса атома (А) со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средоточена в ядре и численно равна сумме числ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протонов (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Z)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и нейтронов (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N)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, или А=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Z+N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Так как атом – электронейтральная частица, об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щее число электронов в его электронной оболочке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равно числу протонов в ядре атома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Таким образом, формула состава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атома цинка имеет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вид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4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439E-E38D-4ED6-A91C-2857F91CAF37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Object 13"/>
              <p:cNvSpPr txBox="1"/>
              <p:nvPr/>
            </p:nvSpPr>
            <p:spPr>
              <a:xfrm>
                <a:off x="455760" y="4565520"/>
                <a:ext cx="60973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р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е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5n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626" name="Picture 7" descr="грапрапмип"/>
          <p:cNvPicPr/>
          <p:nvPr/>
        </p:nvPicPr>
        <p:blipFill>
          <a:blip r:embed="rId1"/>
          <a:stretch/>
        </p:blipFill>
        <p:spPr>
          <a:xfrm>
            <a:off x="6645240" y="5062680"/>
            <a:ext cx="1508040" cy="1414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/>
          </p:nvPr>
        </p:nvSpPr>
        <p:spPr>
          <a:xfrm>
            <a:off x="455760" y="380880"/>
            <a:ext cx="86882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0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ell MT"/>
              </a:rPr>
              <a:t> </a:t>
            </a:r>
            <a:r>
              <a:rPr b="0" lang="ru-RU" sz="3600" spc="-1" strike="noStrike">
                <a:solidFill>
                  <a:srgbClr val="ff00ff"/>
                </a:solidFill>
                <a:latin typeface="Bell MT"/>
              </a:rPr>
              <a:t>б) Электронная формула атома цинка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ell MT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Электроны в атоме обладают неодинаковой энерги -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ей и в соответствии со своей энергией располагаются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на различном расстоянии от ядра, образуя электронные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слои или энергетические уровни. Максимальное число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электронов на энергетическом уровне можно опреде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лить как         , где  </a:t>
            </a:r>
            <a:r>
              <a:rPr b="0" lang="en-US" sz="2800" spc="-1" strike="noStrike">
                <a:solidFill>
                  <a:srgbClr val="1c1c1c"/>
                </a:solidFill>
                <a:latin typeface="Bell MT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номер энергетического уровня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Тогда  электронная оболочка  атома цинка состоит из   4-х  энергетических уровней со следующим  разме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щением на них 30 электронов: 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28" name="Picture 24" descr="Рисунок1"/>
          <p:cNvPicPr/>
          <p:nvPr/>
        </p:nvPicPr>
        <p:blipFill>
          <a:blip r:embed="rId1"/>
          <a:stretch/>
        </p:blipFill>
        <p:spPr>
          <a:xfrm>
            <a:off x="1233360" y="5713560"/>
            <a:ext cx="1494000" cy="853920"/>
          </a:xfrm>
          <a:prstGeom prst="rect">
            <a:avLst/>
          </a:prstGeom>
          <a:ln w="0">
            <a:noFill/>
          </a:ln>
        </p:spPr>
      </p:pic>
      <p:sp>
        <p:nvSpPr>
          <p:cNvPr id="629" name="Номер слайда 6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8BE9-4B78-4209-A7FD-0ECD5B90FF1E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  <p:pic>
        <p:nvPicPr>
          <p:cNvPr id="630" name="Picture 16" descr="Рисунок4"/>
          <p:cNvPicPr/>
          <p:nvPr/>
        </p:nvPicPr>
        <p:blipFill>
          <a:blip r:embed="rId2"/>
          <a:stretch/>
        </p:blipFill>
        <p:spPr>
          <a:xfrm>
            <a:off x="1981080" y="3675240"/>
            <a:ext cx="673200" cy="492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31" name="Object 20"/>
              <p:cNvSpPr txBox="1"/>
              <p:nvPr/>
            </p:nvSpPr>
            <p:spPr>
              <a:xfrm>
                <a:off x="3429000" y="5423040"/>
                <a:ext cx="510552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е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8е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е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е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cover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/>
          </p:nvPr>
        </p:nvSpPr>
        <p:spPr>
          <a:xfrm>
            <a:off x="455760" y="272880"/>
            <a:ext cx="86882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Такая запись схемы распределения электронов явля  -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ется упрощенной, т.к. она не отражает состояние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электрона в атоме и характер его движения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Обладая различной энергией, электроны в пределах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одного и того же энергетического уровня размещаются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на различных подуровнях, называемых  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s, p, d, f -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под -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уровнями или  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s, p, d, f –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орбиталями, а электроны н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этих орбиталях – 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s, p, d, f –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электронами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С учетом состояния электрона полную электрон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ную формулу атома цинка можно представить так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Object 8"/>
              <p:cNvSpPr txBox="1"/>
              <p:nvPr/>
            </p:nvSpPr>
            <p:spPr>
              <a:xfrm>
                <a:off x="6618240" y="2544840"/>
                <a:ext cx="88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Object 18"/>
              <p:cNvSpPr txBox="1"/>
              <p:nvPr/>
            </p:nvSpPr>
            <p:spPr>
              <a:xfrm>
                <a:off x="2666880" y="5504040"/>
                <a:ext cx="601524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p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p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d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35" name="Номер слайда 7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173F-57D8-46C2-9B5D-89131865E1D6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  <p:pic>
        <p:nvPicPr>
          <p:cNvPr id="636" name="Picture 17" descr="Рисунок1"/>
          <p:cNvPicPr/>
          <p:nvPr/>
        </p:nvPicPr>
        <p:blipFill>
          <a:blip r:embed="rId1"/>
          <a:stretch/>
        </p:blipFill>
        <p:spPr>
          <a:xfrm>
            <a:off x="914400" y="5622840"/>
            <a:ext cx="1494000" cy="854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400960" cy="143820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 txBox="1"/>
          <p:nvPr/>
        </p:nvSpPr>
        <p:spPr>
          <a:xfrm>
            <a:off x="455760" y="1598400"/>
            <a:ext cx="86882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39" name="Picture 4" descr="прроо"/>
          <p:cNvPicPr/>
          <p:nvPr/>
        </p:nvPicPr>
        <p:blipFill>
          <a:blip r:embed="rId2"/>
          <a:stretch/>
        </p:blipFill>
        <p:spPr>
          <a:xfrm>
            <a:off x="0" y="1598760"/>
            <a:ext cx="9144000" cy="525924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грапрапмип"/>
          <p:cNvPicPr/>
          <p:nvPr/>
        </p:nvPicPr>
        <p:blipFill>
          <a:blip r:embed="rId3"/>
          <a:stretch/>
        </p:blipFill>
        <p:spPr>
          <a:xfrm>
            <a:off x="7772400" y="3220920"/>
            <a:ext cx="1371600" cy="1751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455760" y="2057040"/>
            <a:ext cx="8688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-   Порядковый номер выражающий заряд ядра атом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952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Zn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, т.е. число протонов или число электронов в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952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атоме, – 30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952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-    Номер периода, показывающий число энергетиче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952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ских уровней, – 4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952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-    Группа, выражающая число электронов на внешнем     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952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энергетическом уровне ( валентных электронов )  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952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побочная группа 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– группы ( 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Б – группа)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952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-   Относительная атомная масса ( А) – 65,37</a:t>
            </a:r>
            <a:r>
              <a:rPr b="0" lang="ru-RU" sz="2800" spc="-1" strike="noStrike">
                <a:solidFill>
                  <a:srgbClr val="ffffff"/>
                </a:solidFill>
                <a:latin typeface="Berlin Sans FB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952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2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93EB-3F64-442F-98D9-DD3566299427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  <p:pic>
        <p:nvPicPr>
          <p:cNvPr id="643" name="Picture 6" descr="Z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609480"/>
            <a:ext cx="198144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Rectangle 2" descr=""/>
          <p:cNvPicPr/>
          <p:nvPr/>
        </p:nvPicPr>
        <p:blipFill>
          <a:blip r:embed="rId1"/>
          <a:stretch/>
        </p:blipFill>
        <p:spPr>
          <a:xfrm>
            <a:off x="-536400" y="274680"/>
            <a:ext cx="8918280" cy="113976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 txBox="1"/>
          <p:nvPr/>
        </p:nvSpPr>
        <p:spPr>
          <a:xfrm>
            <a:off x="455760" y="1598760"/>
            <a:ext cx="868824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358200" indent="-30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Цинк – химически активный металл. Он проявляет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58200" indent="-30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только восстановительные свойства. Обладая на внеш-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58200" indent="-30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нем энергетическом уровне двумя валентными элек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58200" indent="-30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тронами, во всех своих соединениях цинк имеет сте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58200" indent="-30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пень окисления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(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+ 2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58200" indent="-30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По химической активности цинк уступает щелоч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58200" indent="-30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ным и щелочноземельным металлам. Так, с простым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58200" indent="-30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веществами-неметаллами он реагирует только при на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58200" indent="-30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гревании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6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8F50-9AC5-411D-8A94-D0AA686E257C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  <p:pic>
        <p:nvPicPr>
          <p:cNvPr id="647" name="Picture 8" descr="J0198022"/>
          <p:cNvPicPr/>
          <p:nvPr/>
        </p:nvPicPr>
        <p:blipFill>
          <a:blip r:embed="rId2"/>
          <a:stretch/>
        </p:blipFill>
        <p:spPr>
          <a:xfrm>
            <a:off x="7467480" y="0"/>
            <a:ext cx="1676520" cy="1598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Arkasha Tita</cp:lastModifiedBy>
  <dcterms:modified xsi:type="dcterms:W3CDTF">2021-05-13T20:35:40Z</dcterms:modified>
  <cp:revision>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