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717-6F33-4113-B8EC-95E6F5552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2B9-8B31-4394-8285-E4864B84D2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799-7187-4BF3-813E-86822E262A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A41-4FC4-4644-B892-371299C2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B29-D41E-4CC8-B359-1F01498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AD2DF-9B04-48EB-8D9B-0E1A6EC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BBA5D-1E7C-46B8-B33D-A5C034B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7CDCB-5912-4DA4-A74C-097B8D9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09F69-097F-4DB2-AF91-D5E1658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AFF11-A5F4-4BCD-BB10-720121F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B654A-6F3A-4CA7-8EB8-27C8F84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71F9E-0669-4A18-B291-61BDD68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B2262-C030-4897-808F-139D96C9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76621-93ED-4471-A3D7-34C60525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45271-D830-4B06-AE37-A1287A52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E67-1860-43B5-B343-6D8EDC96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DD946-4C14-45C3-A747-485CB22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17531-0B79-41EA-B438-E0F6346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49423-755B-41CE-A32A-7F03D552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51EA9-13FA-4885-9B57-5AF749DF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30392-B688-466E-BA52-3B9427F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041F6-6D03-4AC8-A46D-C0394FE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0778-79D9-4299-9A06-C86A19A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8B0F2-CEDA-4E62-BACD-9D8D67E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9D7FB-2FED-4CC6-814E-CDD55282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6B16-2E1B-4853-BDC7-362C8D9B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8E9-C5BB-4950-8423-D985586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3D541-7EC8-4FE3-AD77-5DA372DA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447B2-EEB2-4FBA-940E-86A37FCD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C7977-752D-47FF-9D30-C7C69E65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3EE3-49DA-4171-9193-85138311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1A726-3E37-48FD-B1BD-FAD0E53D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84D35-2F5C-4F1B-8592-1C239CDA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E56A5-715A-497E-A984-C9A515B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57C31-3605-4490-9BED-586E10E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70C92-DDE8-4785-8B36-0082525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5F833-00BA-49E4-9399-E1D6BB2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274-FEE2-4BB6-962F-674B8125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831E-BA5E-4795-B910-590D7B1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FF23-4F6B-4FB2-B406-DAB72E69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644EF-26B1-43B1-A723-05DA66CF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70425-AC43-4953-8FF9-F37AACD0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33513-3328-4FD6-BB7A-84C4C78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B0BDC-3317-4365-B500-D3575BE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5E842-0CB9-4249-BB84-9D17B779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AA2BC-C9DF-4508-BEA1-FF3A7DC9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C7BC3-107A-46A4-8891-AA099BA8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810D1-E605-42A9-ACB0-7B2D104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CFE8-B15D-4851-95FB-7AC8844C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E4132-2FC6-410F-9E3F-4DE35E4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B3DAC-6A99-443F-991A-6352E19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65E70-2CC3-431F-B3C8-3C6C001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A71E1-4F54-48E7-A2FB-43856682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05F0F-8440-4EF1-94EE-CA03D64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9F037-1976-4AF5-B9B0-889F7C9F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53FE9-E28A-4219-9B2C-810CB194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55582-DF47-490F-A72E-F165284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03AB4-2044-45C5-B38C-8A5C25AD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4B588-D91F-41D8-BC09-CF338E3D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D619-5233-4E52-B6DE-97570E6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33B79-F427-4C67-98BF-F19440FC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D68AB-1261-4AAD-8BC5-BBDF2C3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EA906-A942-4B00-849C-B185522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25F73-E8C2-432C-9675-FC0BDBC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88802-4625-49D7-A957-8748D639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6403C-E697-4EFE-BFEE-E294D036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563F9-E946-47DF-8AFE-E9CBAC23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3FBA5-7227-49D6-9CDD-CB9F7AB9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C5A0A-EA41-491C-BA3A-E0E2A59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79686-9292-4A5F-B27E-CA532A9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A0C-7D8C-40CA-81D9-75DEDAA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402E6-AD7C-4D34-A09C-79E0C0D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AA503-BF31-4A80-A9CC-6156A36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2C86E-E1E6-4676-A1AD-38320A6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D2869-66D9-4FA4-A534-3DAD0AB7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EE1A0-6C32-46FA-85A5-2BD8634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A01E8-5B4C-4E2D-8BBB-3FFAC23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63B99-9657-432A-B478-79ACF98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40BA7-3050-40CB-86CB-1AD2616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1E0F7-4791-426E-82C3-6BB36B42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AB44-33E7-4CB0-94D5-EB969D1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5C62-0746-470F-9648-948806E0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B3D-4482-4C52-B1B0-09FD997B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738-F4FB-4C9B-928B-4B52524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7CE-0D44-4D29-9F45-00C5031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8EA8-69EF-4869-9A76-78AEC9F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3A7-4D6C-4986-85AF-5EBEAE3E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D12-B893-44EF-A631-8FBF13E4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5F0-176C-48FC-BC4E-3256464F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BACF-BE4A-4535-8104-6AB2936F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2D31-D1BC-434A-BFEF-F03E686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5778-AA46-4E51-B11B-FA75436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59D7-B00B-4B24-9F83-B813E20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5623-5E65-45EB-A570-4A030DC0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F92-C2EA-4DBA-B5D2-E38BBC8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FDF9-4A9C-44F0-859E-8F32CD2C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D98B-4BAD-4760-B615-9F9AD04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CF8B-B0E0-428C-8064-391620A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6DD5-4F0A-419F-AFEA-B58BE3FC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3418-F7AB-4842-9BFC-6C4AF08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9F8F-D28E-475A-A841-2FF459BF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EAF2-8DAF-40A2-A9CC-AF2FFFCD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CCED-B2A7-48AA-82CF-5B4661B8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0861-B239-4832-A4B3-F5B7499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47F8-49AF-4E0D-8EC9-AE6661F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644-CC12-4728-A6CE-97292858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4D85-898F-432A-8621-010FB561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9CC4-3401-444A-907C-21246D8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93E2-94AD-4570-9B76-2E966E09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2E456-F9DF-4ACC-9D92-53ED7D8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0199-6872-4001-94EE-7DA07D4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8BC0-EE94-429C-B92F-F148A52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08C3-103A-49AA-BDC9-65314B0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A4C3-A911-41D8-8DC3-98DF0BE3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DB2F-80DC-4B82-B8B9-DC12C406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1A76-3D65-4A51-B769-938407F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7AB-1764-4D16-B577-8A700412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F30E-D52D-4649-9FB4-B885F9DD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9DE4-92E5-4EEF-9DE5-1C968CF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AA3D-6492-4D84-B7FB-ADA452A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0FA1-EDBF-4684-BD44-7DC1372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CDE1-97B1-4985-9999-2803D80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B434-A5AB-4A35-9C6C-37A8F45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AB39-36B6-4B4A-8A50-7AAEBFB2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A1A8-D06B-4235-BC25-4B546E6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D275-C653-4020-B671-8530B9A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7B48-E7BB-4DFF-BA15-3751B1BF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C1A-BCE6-40B7-BD25-B169984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D1A8-18A0-4943-9019-A5C155C5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4521-B406-4878-8312-0598604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5E0B-124A-4C94-9911-8D9E1D40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D4CEF-F3C0-4AC0-BF76-5A27F901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F9C53-CAA1-44C6-9FF3-ABC8C270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5220-5CA1-4823-A4B6-0BF4E19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0F1C-B95C-4983-8874-1759225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9425-AB2C-4328-8D8C-9851366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8C52B-942C-4D6E-87DF-158531F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AF4E1-0D93-44B4-BDD7-8D87A64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E89-EFBB-455D-B424-BF8D128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E93CD-EDD1-4283-B640-0E681A51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2B65-02E8-4008-A670-B09CDD9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6471-A3D0-4E08-8C5A-FBB25C89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F105-A5B9-4866-9249-CE0E23AD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45E01-B7CE-404C-A54C-F8C0960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2057-18F6-4FAD-B210-6F34969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96E1-EDE8-4857-9D83-191431A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51E3-7CDC-4BED-9875-68812F03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9C0C2-A5CD-4FA2-9BE2-1446A99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D726-263C-4B87-9F50-2C80BE24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E92-0BCE-4D66-BFD7-0E384135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7DC8-8AAA-4A34-AC92-A803EA92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E513-1114-412D-B545-CD13FBA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705F-19DE-450E-834E-F9E1A40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647E-BB11-423C-8A9F-76BC830B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2D9A-DC15-4519-96D8-6C6E8405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76723-2B90-4374-BC23-83F79115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6D78-31CD-41C6-BC8F-E5E6353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8926-04DA-4463-BE87-7420476D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AAECE-4D34-484E-BC28-FE57FF3C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DE787-B1EA-4AA8-9578-2C31701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474-AF05-410F-95BF-2CF67EC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549F-4286-4C47-B7BC-9C27AC8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98673-5820-4804-9467-2AB9D31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96D2-9798-4264-9DFF-03243CC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1336-8BD2-420A-A8DA-998FCBA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1C938-48CD-45D8-B94E-3C395D3E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92964-7C51-4C61-AE93-872ECD95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A672-F8CF-402F-A16B-F896AA2B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B6EB-D64E-4BFD-A08E-4DD02923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DFF84-B7FF-47D0-9DC4-A2AF9F2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B732D-8B2E-4170-A9A2-6D8B3D1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AF8-76C3-4E0A-BFD8-6D7950900D8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4E83-AB40-4DCF-8C30-2D20BDC418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E2F-9BB8-4107-AC1F-22187A0A31F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854-39EC-4CEA-BD05-76E094E63F1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9D1-87BC-47E9-89B2-1D6BBDCB520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1FB9-E33C-47F1-B063-0A9DEBA2D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4367-2954-45EE-9B21-503BB3BF4F5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FA7-44F6-4D79-9AE4-6F8F1D838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1A05-7D6D-445B-990F-66ACD4FD27D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A48A-CD9B-41B0-8552-32132F661B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99C9-C41F-40B3-9C50-BCD0376C317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D20-0263-48DB-BB40-0F21C36A91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9C7-98E4-4006-B517-B6B150929DC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BCB-A3BF-42FA-B0CB-F6DC1FAD4E5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B42-6F4A-4442-A0CF-6D1DBE28A4D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D271-637B-4E64-AED8-67EA666D76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216-B486-4D90-BA09-C5C27A38DE7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8F7A-B936-4BD3-842F-4C9F4F36CC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055-B13A-4DF5-9115-76123884D32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DBE-6A27-4B9A-AAEF-88FD056872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1C5-E26A-48BE-BAA5-31DF8B25EFB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204-CA7A-48EA-A055-526B47BDE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E45-52AA-49C2-8815-981BC5774E2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BA9-6010-48B6-9D5D-5DB23AFA4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B60-E9BB-4FB2-84D7-35E8F6DD11A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3E0-9821-46FD-BBE8-6C43FB2EF9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4F6-59EE-4FA5-BF19-4E68DFE52786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ell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47A9-2A93-4F75-8606-5A97BE60E0E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ff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049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8809200" cy="2352600"/>
          </a:xfrm>
          <a:prstGeom prst="rect">
            <a:avLst/>
          </a:prstGeom>
          <a:ln w="0">
            <a:noFill/>
          </a:ln>
        </p:spPr>
      </p:pic>
      <p:pic>
        <p:nvPicPr>
          <p:cNvPr id="617" name="Rectangle 2048" descr=""/>
          <p:cNvPicPr/>
          <p:nvPr/>
        </p:nvPicPr>
        <p:blipFill>
          <a:blip r:embed="rId2"/>
          <a:stretch/>
        </p:blipFill>
        <p:spPr>
          <a:xfrm>
            <a:off x="3279600" y="2286000"/>
            <a:ext cx="3127680" cy="81439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71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770-294D-4105-A910-1FC95A66DD50}" type="slidenum">
              <a:rPr b="0" lang="ru-RU" sz="13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5760" y="533520"/>
            <a:ext cx="8688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2 Zn + 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2 Zn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 ZnCl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0" lang="ru-RU" sz="3000" spc="-1" strike="noStrike" baseline="-25000">
                <a:solidFill>
                  <a:srgbClr val="ffff00"/>
                </a:solidFill>
                <a:latin typeface="Century Gothic"/>
              </a:rPr>
              <a:t>          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 = ZnS</a:t>
            </a: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Bell MT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с водой – только в раскаленном вид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O = ZnO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обычных условиях эти реакции не идут, т.к. п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рхность цинка на воздухе покрывается тонкой з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тной пленкой оксид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ступает в реакции со сложными веществам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кислотами и основани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ell MT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Century Gothic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9"/>
              <p:cNvSpPr txBox="1"/>
              <p:nvPr/>
            </p:nvSpPr>
            <p:spPr>
              <a:xfrm>
                <a:off x="6407280" y="3124080"/>
                <a:ext cx="290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7B8-FF9B-40D5-8AC9-9AB1185D797A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352440"/>
            <a:ext cx="9144000" cy="71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)    При взаимодействии цинка с кислотой  ход реакции зависит от концентрации кислоты. Например, из раз  –бавленной серной кислоты цинк, стоящий в ряду а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ивности металлов до водорода, легко вытесняет е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ходе реакции. Окислителями в этих условиях явл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ются ионы водоро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Bell MT"/>
              </a:rPr>
              <a:t>          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= Zn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+ SO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4</a:t>
            </a:r>
            <a:r>
              <a:rPr b="0" lang="en-US" sz="3000" spc="-1" strike="noStrike" baseline="30000">
                <a:solidFill>
                  <a:srgbClr val="ffff00"/>
                </a:solidFill>
                <a:latin typeface="Century Gothic"/>
              </a:rPr>
              <a:t>2-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00"/>
                </a:solidFill>
                <a:latin typeface="Century Gothic"/>
                <a:ea typeface="Arial"/>
              </a:rPr>
              <a:t>⁭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00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         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         </a:t>
            </a:r>
            <a:r>
              <a:rPr b="0" lang="ru-RU" sz="3000" spc="-1" strike="noStrike">
                <a:solidFill>
                  <a:srgbClr val="ffff00"/>
                </a:solidFill>
                <a:latin typeface="Arial Greek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0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+ 2H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+ 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= Zn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2+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+ H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 Greek"/>
              </a:rPr>
              <a:t>2</a:t>
            </a:r>
            <a:r>
              <a:rPr b="0" lang="en-US" sz="3000" spc="-1" strike="noStrike">
                <a:solidFill>
                  <a:srgbClr val="ffff00"/>
                </a:solidFill>
                <a:latin typeface="Arial Greek"/>
              </a:rPr>
              <a:t> ⁭</a:t>
            </a:r>
            <a:r>
              <a:rPr b="0" lang="en-US" sz="3000" spc="-1" strike="noStrike" baseline="30000">
                <a:solidFill>
                  <a:srgbClr val="ffff00"/>
                </a:solidFill>
                <a:latin typeface="Arial Gree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CF6-5D75-4B11-BCF4-F381C1B233DF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55760" y="304920"/>
            <a:ext cx="8688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цинка с концентрированн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ерной кислотой окислителем является сера со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ю окисления (+6). Реакция ид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)   В отличие от типичных металлов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групп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реодической таблицы цинк может взаимодейств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ать с основаниями в твердом виде ( при нагревании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в водном растворе, образуя соль или комплекс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оединение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1CDA-19C9-4BC4-A846-D6E248151155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55" name="Picture 6" descr="Рисунок7"/>
          <p:cNvPicPr/>
          <p:nvPr/>
        </p:nvPicPr>
        <p:blipFill>
          <a:blip r:embed="rId1"/>
          <a:stretch/>
        </p:blipFill>
        <p:spPr>
          <a:xfrm>
            <a:off x="455760" y="2476440"/>
            <a:ext cx="8211960" cy="64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688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660066"/>
                </a:solidFill>
                <a:latin typeface="Bell MT"/>
              </a:rPr>
              <a:t>       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H = Na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Zn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 + 2NaOH + 2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 baseline="30000">
                <a:solidFill>
                  <a:srgbClr val="ffff99"/>
                </a:solidFill>
                <a:latin typeface="Century Gothic"/>
              </a:rPr>
              <a:t>+1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</a:rPr>
              <a:t>O = Na</a:t>
            </a:r>
            <a:r>
              <a:rPr b="0" lang="ru-RU" sz="3000" spc="-1" strike="noStrike" baseline="-25000">
                <a:solidFill>
                  <a:srgbClr val="ffff99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[ Zn(O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4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)] + H</a:t>
            </a:r>
            <a:r>
              <a:rPr b="0" lang="en-US" sz="3000" spc="-1" strike="noStrike" baseline="-25000">
                <a:solidFill>
                  <a:srgbClr val="ffff99"/>
                </a:solidFill>
                <a:latin typeface="Century Gothic"/>
                <a:ea typeface="Arial"/>
              </a:rPr>
              <a:t>2</a:t>
            </a:r>
            <a:r>
              <a:rPr b="0" lang="en-US" sz="3000" spc="-1" strike="noStrike">
                <a:solidFill>
                  <a:srgbClr val="ffff99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иведенных реакциях цинка с кислотами и основа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иями выражена двойственная природа цинка ка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мента побочной подгруппы переодической системы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пособного образовать амфотерные оксид и гидроксид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6392880" y="2598840"/>
                <a:ext cx="54288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ри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826-91E8-42FD-9B65-6FE6A812C830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Rectangle 2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28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455760" y="1415520"/>
            <a:ext cx="868824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Гидр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(OH)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Bell MT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едставляет собой не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створимое в воде кристаллическое или аморф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о белого цвета. Он обычно выпадает в осад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взаимодействии соли цинка с щелочь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Zn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 + 2NaOH = Zn(OH)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2600" spc="-1" strike="noStrike">
                <a:solidFill>
                  <a:srgbClr val="660066"/>
                </a:solidFill>
                <a:latin typeface="Century Gothic"/>
              </a:rPr>
              <a:t>↓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+ Na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660066"/>
                </a:solidFill>
                <a:latin typeface="Century Gothic"/>
              </a:rPr>
              <a:t>SO</a:t>
            </a:r>
            <a:r>
              <a:rPr b="0" lang="en-US" sz="2600" spc="-1" strike="noStrike" baseline="-25000">
                <a:solidFill>
                  <a:srgbClr val="660066"/>
                </a:solidFill>
                <a:latin typeface="Century Gothic"/>
              </a:rPr>
              <a:t>4</a:t>
            </a:r>
            <a:r>
              <a:rPr b="0" lang="ru-RU" sz="2800" spc="-1" strike="noStrike">
                <a:solidFill>
                  <a:srgbClr val="660066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ако осадок  легко растворяется в растворе щелоч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ли кислоты, проявляя характерные для гидроксид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амфотерные свойства: реагировать с кислото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-32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8897-8FD0-4D90-9FB5-19EACD4AA95D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агировать с кислотой как основание, а с основани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к кислота, т.е. формулу гидроксида цинка можн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едставить двояко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ru-RU" sz="3000" spc="-1" strike="noStrike" baseline="-25000">
                <a:solidFill>
                  <a:srgbClr val="660066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=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уравнения реакций гидроксида цинка с кис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отой и с щелочью можно записа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(OH)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7"/>
              <p:cNvSpPr txBox="1"/>
              <p:nvPr/>
            </p:nvSpPr>
            <p:spPr>
              <a:xfrm>
                <a:off x="2900520" y="3024360"/>
                <a:ext cx="8809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идрокси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7"/>
              <p:cNvSpPr txBox="1"/>
              <p:nvPr/>
            </p:nvSpPr>
            <p:spPr>
              <a:xfrm>
                <a:off x="5129280" y="2971800"/>
                <a:ext cx="1593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исл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B49-FDAA-4FB3-AA07-613C21DDDAF1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660066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 2NaOH = Na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2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обоих случаях образуются растворимые сол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хлорид цинка и цинкат натр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ell MT"/>
              </a:rPr>
              <a:t>Оксид цинк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это белые шелковистые блестя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ие иглы или призмы, которые можно получить,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мер, окислением цинка на воздухе при нагревании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как было показано ране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налогично гидроксиду оксид цинка также прояв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яет амфотерный характер – образует растворимые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е соли при взаимодействии как с кислотами, пр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1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37C-53AE-4D56-8DAA-6821BEB0E24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вляя себя в роли основного 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HCl = ZnCl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+ 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и с основаниями, выступая в качестве кислотног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  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 + 2KOH = K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ZnO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 +H</a:t>
            </a:r>
            <a:r>
              <a:rPr b="0" lang="en-US" sz="3000" spc="-1" strike="noStrike" baseline="-25000">
                <a:solidFill>
                  <a:srgbClr val="660066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660066"/>
                </a:solidFill>
                <a:latin typeface="Century Gothic"/>
              </a:rPr>
              <a:t>O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A43-8231-40A0-BCE7-7754529EA10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ctangle 2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358120" cy="15433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в природе встречается только в составе соед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ний цинковых руд, например,цинковая обманк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S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й шпа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ll MT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цинкит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O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 Массовая до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в земной коре составляет 0,005%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ля получения цинка его руды подвергают обжигу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2ZnS + 3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2ZnO + 2S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 = ZnO + CO</a:t>
            </a:r>
            <a:r>
              <a:rPr b="0" lang="en-US" sz="3000" spc="-1" strike="noStrike" baseline="-25000">
                <a:solidFill>
                  <a:srgbClr val="1c1c1c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4871-F0B9-47DE-820B-50D910F2EEC8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55760" y="38052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алее оксид цинка при нагревании восстанавлива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глем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</a:rPr>
              <a:t>ZnO + C = Zn + CO</a:t>
            </a:r>
            <a:r>
              <a:rPr b="0" lang="en-US" sz="3000" spc="-1" strike="noStrike">
                <a:solidFill>
                  <a:srgbClr val="1c1c1c"/>
                </a:solidFill>
                <a:latin typeface="Century Gothic"/>
                <a:ea typeface="Arial"/>
              </a:rPr>
              <a:t>↑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D440-0515-4F57-8061-2DF90BFAF2C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5" name="Picture 5" descr="800px-Zinc_fragment_sublimed_and_1cm3_cube"/>
          <p:cNvPicPr/>
          <p:nvPr/>
        </p:nvPicPr>
        <p:blipFill>
          <a:blip r:embed="rId1"/>
          <a:stretch/>
        </p:blipFill>
        <p:spPr>
          <a:xfrm>
            <a:off x="1447920" y="2536920"/>
            <a:ext cx="6476760" cy="355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e4005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Bell MT"/>
              </a:rPr>
              <a:t>а)    </a:t>
            </a:r>
            <a:r>
              <a:rPr b="0" lang="ru-RU" sz="3700" spc="-1" strike="noStrike">
                <a:solidFill>
                  <a:srgbClr val="ff00ff"/>
                </a:solidFill>
                <a:latin typeface="Bell MT"/>
              </a:rPr>
              <a:t>Формула состава атома цинка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Согласно планетарной модели, предложенной ан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глийским физиком Резерфордом, атом состоит и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положительно заряжен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ного ядра и окружаю -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щей электронной обо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лочки, заряженной от 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рицательно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740-3498-4224-8386-8E7ECE7D178F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Rectangle 28" descr=""/>
          <p:cNvPicPr/>
          <p:nvPr/>
        </p:nvPicPr>
        <p:blipFill>
          <a:blip r:embed="rId1"/>
          <a:stretch/>
        </p:blipFill>
        <p:spPr>
          <a:xfrm>
            <a:off x="457200" y="-73080"/>
            <a:ext cx="8223120" cy="13842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5760" y="1142640"/>
            <a:ext cx="868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виду того, что на цинк при обычных условиях н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действует ни кислород воздуха, ни вода, большая част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а расходуется на защитные от коррозии покрыти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железных листов, стальных и чугунных изделий, 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же для получения специальных сплавов с повы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шенной антикоррозионной активностью, для произ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одства цинково-угольны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альванических элемент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батареях разного назн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чения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ксид цинка применяю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 производстве красок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48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514C-19AB-41C5-A9B2-FC5B71708F6B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79" name="Picture 6" descr="1249205476_bae"/>
          <p:cNvPicPr/>
          <p:nvPr/>
        </p:nvPicPr>
        <p:blipFill>
          <a:blip r:embed="rId2"/>
          <a:stretch/>
        </p:blipFill>
        <p:spPr>
          <a:xfrm>
            <a:off x="4797360" y="3879720"/>
            <a:ext cx="4346640" cy="2837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1" descr="737"/>
          <p:cNvPicPr/>
          <p:nvPr/>
        </p:nvPicPr>
        <p:blipFill>
          <a:blip r:embed="rId1"/>
          <a:stretch/>
        </p:blipFill>
        <p:spPr>
          <a:xfrm rot="1200000">
            <a:off x="141120" y="3935160"/>
            <a:ext cx="2895840" cy="1333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Zinkum_enl"/>
          <p:cNvPicPr/>
          <p:nvPr/>
        </p:nvPicPr>
        <p:blipFill>
          <a:blip r:embed="rId2"/>
          <a:stretch/>
        </p:blipFill>
        <p:spPr>
          <a:xfrm rot="20520000">
            <a:off x="5486400" y="3250800"/>
            <a:ext cx="3365640" cy="19670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55760" y="6948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овых белил) и как полупроводниковый материал,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 в медицине и косметике – как мазь, шампун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ульфат цинка применяют в качестве электрол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и получении цинковых покрытий и как микроуд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брение в сельском хозяйств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810-F619-4CBD-8C22-B0AF3D91EF5C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84" name="Picture 13" descr="J0198494"/>
          <p:cNvPicPr/>
          <p:nvPr/>
        </p:nvPicPr>
        <p:blipFill>
          <a:blip r:embed="rId3"/>
          <a:stretch/>
        </p:blipFill>
        <p:spPr>
          <a:xfrm rot="20400000">
            <a:off x="3003120" y="3987360"/>
            <a:ext cx="272916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5760" y="380520"/>
            <a:ext cx="8688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Ядро атома в свою очередь состоит из элементар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х частиц двух видов: протонов и нейтронов. Прот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заряд (+1) и массу 1 ( 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. Нейтрон, как и протон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имеет массу 1, но заряда не имеет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ell MT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 ( е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Bell MT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) имеет заряд (-1) и очень маленьку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массу (1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1840). Следовательно, масса атома (А) со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редоточена в ядре и численно равна сумме чис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рот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и нейтронов (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N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или А=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+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 как атом – электронейтральная частица, об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е число электронов в его электронной оболочк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равно числу протонов в ядре атом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им образом, формула состав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а цинка имеет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ид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07520" indent="-34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A72-2E9E-4DAD-8945-2D391077CC78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3"/>
              <p:cNvSpPr txBox="1"/>
              <p:nvPr/>
            </p:nvSpPr>
            <p:spPr>
              <a:xfrm>
                <a:off x="455760" y="4565520"/>
                <a:ext cx="6097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n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26" name="Picture 7" descr="грапрапмип"/>
          <p:cNvPicPr/>
          <p:nvPr/>
        </p:nvPicPr>
        <p:blipFill>
          <a:blip r:embed="rId1"/>
          <a:stretch/>
        </p:blipFill>
        <p:spPr>
          <a:xfrm>
            <a:off x="6645240" y="5062680"/>
            <a:ext cx="1508040" cy="14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5760" y="380880"/>
            <a:ext cx="8688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ru-RU" sz="3600" spc="-1" strike="noStrike">
                <a:solidFill>
                  <a:srgbClr val="ff00ff"/>
                </a:solidFill>
                <a:latin typeface="Bell MT"/>
              </a:rPr>
              <a:t>б) Электронная формула атома цин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ll MT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ы в атоме обладают неодинаковой энерги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й и в соответствии со своей энергией располаг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ом расстоянии от ядра, образуя электронны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лои или энергетические уровни. Максимальное числ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ов на энергетическом уровне можно опред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лить как         , где  </a:t>
            </a:r>
            <a:r>
              <a:rPr b="0" lang="en-US" sz="2800" spc="-1" strike="noStrike">
                <a:solidFill>
                  <a:srgbClr val="1c1c1c"/>
                </a:solidFill>
                <a:latin typeface="Bell MT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омер энергетического уровн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гда  электронная оболочка  атома цинка состоит из   4-х  энергетических уровней со следующим  разм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щением на них 30 электронов: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8" name="Picture 24" descr="Рисунок1"/>
          <p:cNvPicPr/>
          <p:nvPr/>
        </p:nvPicPr>
        <p:blipFill>
          <a:blip r:embed="rId1"/>
          <a:stretch/>
        </p:blipFill>
        <p:spPr>
          <a:xfrm>
            <a:off x="1233360" y="5713560"/>
            <a:ext cx="1494000" cy="853920"/>
          </a:xfrm>
          <a:prstGeom prst="rect">
            <a:avLst/>
          </a:prstGeom>
          <a:ln w="0">
            <a:noFill/>
          </a:ln>
        </p:spPr>
      </p:pic>
      <p:sp>
        <p:nvSpPr>
          <p:cNvPr id="629" name="Номер слайда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A2B3-52D1-4096-A12A-4F50EAFE261B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0" name="Picture 16" descr="Рисунок4"/>
          <p:cNvPicPr/>
          <p:nvPr/>
        </p:nvPicPr>
        <p:blipFill>
          <a:blip r:embed="rId2"/>
          <a:stretch/>
        </p:blipFill>
        <p:spPr>
          <a:xfrm>
            <a:off x="1981080" y="3675240"/>
            <a:ext cx="673200" cy="4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1" name="Object 20"/>
              <p:cNvSpPr txBox="1"/>
              <p:nvPr/>
            </p:nvSpPr>
            <p:spPr>
              <a:xfrm>
                <a:off x="3429000" y="5423040"/>
                <a:ext cx="51055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е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5760" y="272880"/>
            <a:ext cx="86882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акая запись схемы распределения электронов явля 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ется упрощенной, т.к. она не отражает состоя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 в атоме и характер его движен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бладая различной энергией, электроны в предела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дного и того же энергетического уровня размещаютс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а различных подуровнях, называемых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-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д 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уровнями или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орбиталями, а электроны н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тих орбиталях –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s, p, d, f –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лектрон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 учетом состояния электрона полную электрон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ую формулу атома цинка можно представить так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7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8"/>
              <p:cNvSpPr txBox="1"/>
              <p:nvPr/>
            </p:nvSpPr>
            <p:spPr>
              <a:xfrm>
                <a:off x="6618240" y="2544840"/>
                <a:ext cx="88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8"/>
              <p:cNvSpPr txBox="1"/>
              <p:nvPr/>
            </p:nvSpPr>
            <p:spPr>
              <a:xfrm>
                <a:off x="2666880" y="5504040"/>
                <a:ext cx="60152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5" name="Номер слайда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990F-0FF4-4658-A744-B187511500A3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36" name="Picture 17" descr="Рисунок1"/>
          <p:cNvPicPr/>
          <p:nvPr/>
        </p:nvPicPr>
        <p:blipFill>
          <a:blip r:embed="rId1"/>
          <a:stretch/>
        </p:blipFill>
        <p:spPr>
          <a:xfrm>
            <a:off x="914400" y="5622840"/>
            <a:ext cx="1494000" cy="854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00960" cy="14382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 txBox="1"/>
          <p:nvPr/>
        </p:nvSpPr>
        <p:spPr>
          <a:xfrm>
            <a:off x="455760" y="1598400"/>
            <a:ext cx="86882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4" descr="прроо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52592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грапрапмип"/>
          <p:cNvPicPr/>
          <p:nvPr/>
        </p:nvPicPr>
        <p:blipFill>
          <a:blip r:embed="rId3"/>
          <a:stretch/>
        </p:blipFill>
        <p:spPr>
          <a:xfrm>
            <a:off x="7772400" y="3220920"/>
            <a:ext cx="137160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5760" y="2057040"/>
            <a:ext cx="8688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Порядковый номер выражающий заряд ядра атом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, т.е. число протонов или число электронов 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атоме, – 30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Номер периода, показывающий число энергетич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ских уровней, – 4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 Группа, выражающая число электронов на внешнем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энергетическом уровне ( валентных электронов )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бочная группа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– группы (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Б – группа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-   Относительная атомная масса ( А) – 65,37</a:t>
            </a:r>
            <a:r>
              <a:rPr b="0" lang="ru-RU" sz="28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90E5-0852-48A0-894A-D7F832BAE4F7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3" name="Picture 6" descr="Z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60948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2" descr=""/>
          <p:cNvPicPr/>
          <p:nvPr/>
        </p:nvPicPr>
        <p:blipFill>
          <a:blip r:embed="rId1"/>
          <a:stretch/>
        </p:blipFill>
        <p:spPr>
          <a:xfrm>
            <a:off x="-536400" y="274680"/>
            <a:ext cx="8918280" cy="1139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455760" y="1598760"/>
            <a:ext cx="86882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Цинк – химически активный металл. Он проявля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олько восстановительные свойства. Обладая на внеш-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ем энергетическом уровне двумя валентными элек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тронами, во всех своих соединениях цинк имеет сте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ень окис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+ 2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По химической активности цинк уступает щелоч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ным и щелочноземельным металлам. Так, с просты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веществами-неметаллами он реагирует только при на –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-30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ell MT"/>
              </a:rPr>
              <a:t>гревани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4B9-5E82-4330-AE35-52AD9582E996}" type="slidenum">
              <a:rPr b="0" lang="ru-RU" sz="1200" spc="-1" strike="noStrike">
                <a:solidFill>
                  <a:srgbClr val="ffffff"/>
                </a:solidFill>
                <a:latin typeface="Bell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ell MT"/>
            </a:endParaRPr>
          </a:p>
        </p:txBody>
      </p:sp>
      <p:pic>
        <p:nvPicPr>
          <p:cNvPr id="647" name="Picture 8" descr="J0198022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59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rkasha Tita</cp:lastModifiedBy>
  <dcterms:modified xsi:type="dcterms:W3CDTF">2021-05-13T20:35:40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