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%D0%B4%D1%8B%D0%BC%D0%BA%D0%BE%D0%B2%D1%81%D0%BA%D0%B8%D0%BD%20%D0%B8%D0%B3%D1%80%D1%83%D1%88%D0%BA%D0%B8.wav" ContentType="audio/x-wav"/>
  <Override PartName="/ppt/media/image19.jpeg" ContentType="image/jpeg"/>
  <Override PartName="/ppt/media/image1.gif" ContentType="image/gif"/>
  <Override PartName="/ppt/media/image10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1B2-77C7-4CFE-9652-64D3B389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5C8-006D-477F-9556-07D2477C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52B-0C7C-410C-83DC-BCAEC703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19D-62D1-448A-A56E-06BF7C6E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F73-728C-42E2-8F05-A513E1FB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647-A67F-4587-8FDB-D235F02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3DA-311F-4D93-9C03-838EB690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738-344D-44DA-BF9F-F47323CD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86F-A953-4F6D-820D-134119A1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89C-059B-4834-B731-4F0377D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5CF-D654-4750-8C25-897088FA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9B6-5103-459E-A36F-FAED22C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D1C9-3F12-4219-BC96-858439DB8E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audio" Target="../media/&#1076;&#1099;&#1084;&#1082;&#1086;&#1074;&#1089;&#1082;&#1080;&#1085;%20&#1080;&#1075;&#1088;&#1091;&#1096;&#1082;&#1080;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nimflower2"/>
          <p:cNvPicPr/>
          <p:nvPr/>
        </p:nvPicPr>
        <p:blipFill>
          <a:blip r:embed="rId1"/>
          <a:stretch/>
        </p:blipFill>
        <p:spPr>
          <a:xfrm>
            <a:off x="2050920" y="5805360"/>
            <a:ext cx="5185080" cy="82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5"/>
          <p:cNvPicPr/>
          <p:nvPr/>
        </p:nvPicPr>
        <p:blipFill>
          <a:blip r:embed="rId2"/>
          <a:stretch/>
        </p:blipFill>
        <p:spPr>
          <a:xfrm>
            <a:off x="5508720" y="1484280"/>
            <a:ext cx="3132000" cy="448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900000" y="1052640"/>
            <a:ext cx="381636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85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ымковска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2" descr="Картинка 7 из 336"/>
          <p:cNvPicPr/>
          <p:nvPr/>
        </p:nvPicPr>
        <p:blipFill>
          <a:blip r:embed="rId3"/>
          <a:stretch/>
        </p:blipFill>
        <p:spPr>
          <a:xfrm>
            <a:off x="826920" y="2637000"/>
            <a:ext cx="3552840" cy="2795400"/>
          </a:xfrm>
          <a:prstGeom prst="rect">
            <a:avLst/>
          </a:prstGeom>
          <a:ln w="19080">
            <a:solidFill>
              <a:srgbClr val="0033cc"/>
            </a:solidFill>
            <a:prstDash val="sysDot"/>
            <a:miter/>
          </a:ln>
        </p:spPr>
      </p:pic>
      <p:pic>
        <p:nvPicPr>
          <p:cNvPr id="46" name="Picture 7" descr="animflower2"/>
          <p:cNvPicPr/>
          <p:nvPr/>
        </p:nvPicPr>
        <p:blipFill>
          <a:blip r:embed="rId4"/>
          <a:stretch/>
        </p:blipFill>
        <p:spPr>
          <a:xfrm>
            <a:off x="250920" y="5877000"/>
            <a:ext cx="4249800" cy="8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2f1"/>
          <p:cNvPicPr/>
          <p:nvPr/>
        </p:nvPicPr>
        <p:blipFill>
          <a:blip r:embed="rId5"/>
          <a:stretch/>
        </p:blipFill>
        <p:spPr>
          <a:xfrm>
            <a:off x="7308720" y="33336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  <p:sndAc>
      <p:stSnd>
        <p:snd r:embed="rId6" name="%D0%B4%D1%8B%D0%BC%D0%BA%D0%BE%D0%B2%D1%81%D0%BA%D0%B8%D0%BD%20%D0%B8%D0%B3%D1%80%D1%83%D1%88%D0%BA%D0%B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68360" y="333360"/>
            <a:ext cx="82072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de-DE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жде чем начать работу, правильно приготовь свое рабочее мест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468360" y="260280"/>
            <a:ext cx="835164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4.</a:t>
            </a:r>
            <a:r>
              <a:rPr b="1" lang="de-DE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уроке соблюдай тишину, не отвлекай товарищ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324000" y="260280"/>
            <a:ext cx="83516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5.</a:t>
            </a:r>
            <a:r>
              <a:rPr b="1" lang="de-DE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время работы содержи рабочее место в порядке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324000" y="333360"/>
            <a:ext cx="849600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de-DE" sz="9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лся сам – помоги товарищу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24000" y="260280"/>
            <a:ext cx="835164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Times New Roman"/>
                <a:ea typeface="Calibri"/>
              </a:rPr>
              <a:t>7.</a:t>
            </a:r>
            <a:r>
              <a:rPr b="1" lang="de-DE" sz="1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ть надо дружно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24000" y="333360"/>
            <a:ext cx="83516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8.</a:t>
            </a:r>
            <a:r>
              <a:rPr b="1" lang="de-DE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чил работу – убери свое рабочее мест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50920" y="333360"/>
          <a:ext cx="8353440" cy="555624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556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1" lang="de-DE" sz="8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авила работы с пластилином и стеками.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1"/>
          <p:cNvSpPr/>
          <p:nvPr/>
        </p:nvSpPr>
        <p:spPr>
          <a:xfrm>
            <a:off x="1800" y="-13824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79280" y="260280"/>
            <a:ext cx="8785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Аккуратно пользоваться пластилином, не пачкать стол, одежду, лепить на дощечке, не брать пластилин в рот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1" lang="de-DE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468360" y="404640"/>
            <a:ext cx="849636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Будьте осторожны пластмассовыми стеками; нельзя взмахивать рукой с инструментом – это может нанести травму соседу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24000" y="333360"/>
            <a:ext cx="8424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сле работы с пластилином привести в порядок рабочее место; очистить от пластилина доски, протереть стол мокрой тряпочкой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опия map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628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 rot="20218800">
            <a:off x="7093080" y="1125000"/>
            <a:ext cx="976320" cy="217800"/>
          </a:xfrm>
          <a:prstGeom prst="leftArrow">
            <a:avLst>
              <a:gd name="adj1" fmla="val 50000"/>
              <a:gd name="adj2" fmla="val 1120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5724360" y="1052640"/>
            <a:ext cx="1511640" cy="151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68360" y="333360"/>
            <a:ext cx="792000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4.По окончании работы сначала вытереть руки бумажными салфетками, а затем вымыть теплой  водой и насухо вытереть полотенц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50920" y="333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Кокошник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- нарядный женский уз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88"/>
          <p:cNvPicPr/>
          <p:nvPr/>
        </p:nvPicPr>
        <p:blipFill>
          <a:blip r:embed="rId1"/>
          <a:srcRect l="10093" t="27279" r="10948" b="3358"/>
          <a:stretch/>
        </p:blipFill>
        <p:spPr>
          <a:xfrm>
            <a:off x="539640" y="189000"/>
            <a:ext cx="7920000" cy="5140080"/>
          </a:xfrm>
          <a:prstGeom prst="rect">
            <a:avLst/>
          </a:prstGeom>
          <a:ln w="19080">
            <a:solidFill>
              <a:srgbClr val="0000cc"/>
            </a:solidFill>
            <a:prstDash val="sysDot"/>
            <a:miter/>
          </a:ln>
        </p:spPr>
      </p:pic>
      <p:sp>
        <p:nvSpPr>
          <p:cNvPr id="54" name="Rectangle 7"/>
          <p:cNvSpPr/>
          <p:nvPr/>
        </p:nvSpPr>
        <p:spPr>
          <a:xfrm>
            <a:off x="250920" y="530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утрам хозяйки дружно топили печи, и кудрявые дымки весело поднимались к небу. Наверное, потому и назвали село Дымков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357120" y="5500800"/>
            <a:ext cx="8501040" cy="1023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:\д15.jpg"/>
          <p:cNvPicPr/>
          <p:nvPr/>
        </p:nvPicPr>
        <p:blipFill>
          <a:blip r:embed="rId3"/>
          <a:stretch/>
        </p:blipFill>
        <p:spPr>
          <a:xfrm>
            <a:off x="324000" y="189000"/>
            <a:ext cx="8503920" cy="52243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grpSp>
        <p:nvGrpSpPr>
          <p:cNvPr id="58" name="AutoShape 8"/>
          <p:cNvGrpSpPr/>
          <p:nvPr/>
        </p:nvGrpSpPr>
        <p:grpSpPr>
          <a:xfrm>
            <a:off x="244440" y="5657760"/>
            <a:ext cx="8435880" cy="925560"/>
            <a:chOff x="244440" y="5657760"/>
            <a:chExt cx="8435880" cy="925560"/>
          </a:xfrm>
        </p:grpSpPr>
        <p:pic>
          <p:nvPicPr>
            <p:cNvPr id="59" name="AutoShape 8" descr=""/>
            <p:cNvPicPr/>
            <p:nvPr/>
          </p:nvPicPr>
          <p:blipFill>
            <a:blip r:embed="rId4"/>
            <a:stretch/>
          </p:blipFill>
          <p:spPr>
            <a:xfrm>
              <a:off x="244440" y="5657760"/>
              <a:ext cx="84358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95200" y="5705640"/>
              <a:ext cx="833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Там любили песни, пляски,               Вечера зимой так длинны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В селе рождались чудо - сказки.      И лепили там из глин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999"/>
          <p:cNvPicPr/>
          <p:nvPr/>
        </p:nvPicPr>
        <p:blipFill>
          <a:blip r:embed="rId1"/>
          <a:stretch/>
        </p:blipFill>
        <p:spPr>
          <a:xfrm>
            <a:off x="395280" y="189000"/>
            <a:ext cx="8389800" cy="5643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63" name="Rectangle 6"/>
          <p:cNvSpPr/>
          <p:nvPr/>
        </p:nvSpPr>
        <p:spPr>
          <a:xfrm>
            <a:off x="250920" y="6021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пили из местной красной глины. Слепят и в печь поставят, чтобы стали они   крепкими и долго всех радов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SC04419"/>
          <p:cNvPicPr/>
          <p:nvPr/>
        </p:nvPicPr>
        <p:blipFill>
          <a:blip r:embed="rId1"/>
          <a:srcRect l="0" t="11463" r="0" b="0"/>
          <a:stretch/>
        </p:blipFill>
        <p:spPr>
          <a:xfrm>
            <a:off x="250920" y="189000"/>
            <a:ext cx="2651040" cy="273672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6" name="Picture 4" descr="DSC04420"/>
          <p:cNvPicPr/>
          <p:nvPr/>
        </p:nvPicPr>
        <p:blipFill>
          <a:blip r:embed="rId2"/>
          <a:stretch/>
        </p:blipFill>
        <p:spPr>
          <a:xfrm>
            <a:off x="6227640" y="3141720"/>
            <a:ext cx="2490840" cy="287964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7" name="Picture 5" descr="DSC04410"/>
          <p:cNvPicPr/>
          <p:nvPr/>
        </p:nvPicPr>
        <p:blipFill>
          <a:blip r:embed="rId3"/>
          <a:srcRect l="0" t="4825" r="0" b="7736"/>
          <a:stretch/>
        </p:blipFill>
        <p:spPr>
          <a:xfrm>
            <a:off x="468360" y="3141720"/>
            <a:ext cx="2471760" cy="287964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8" name="Picture 6" descr="DSC04412"/>
          <p:cNvPicPr/>
          <p:nvPr/>
        </p:nvPicPr>
        <p:blipFill>
          <a:blip r:embed="rId4"/>
          <a:srcRect l="0" t="7689" r="0" b="12833"/>
          <a:stretch/>
        </p:blipFill>
        <p:spPr>
          <a:xfrm>
            <a:off x="6227640" y="189000"/>
            <a:ext cx="2581560" cy="273528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9" name="Picture 7" descr="DSC04415"/>
          <p:cNvPicPr/>
          <p:nvPr/>
        </p:nvPicPr>
        <p:blipFill>
          <a:blip r:embed="rId5"/>
          <a:stretch/>
        </p:blipFill>
        <p:spPr>
          <a:xfrm>
            <a:off x="3276720" y="189000"/>
            <a:ext cx="2581200" cy="273528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70" name="Picture 8" descr="DSC04424"/>
          <p:cNvPicPr/>
          <p:nvPr/>
        </p:nvPicPr>
        <p:blipFill>
          <a:blip r:embed="rId6"/>
          <a:stretch/>
        </p:blipFill>
        <p:spPr>
          <a:xfrm>
            <a:off x="3492360" y="3141720"/>
            <a:ext cx="2217960" cy="287964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sp>
        <p:nvSpPr>
          <p:cNvPr id="71" name="AutoShape 9"/>
          <p:cNvSpPr/>
          <p:nvPr/>
        </p:nvSpPr>
        <p:spPr>
          <a:xfrm>
            <a:off x="179280" y="6165720"/>
            <a:ext cx="8785440" cy="4320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оздавая игрушку, человек вкладывает в неё частичку своей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933480" y="476280"/>
            <a:ext cx="8210520" cy="115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Картинка 5 из 336"/>
          <p:cNvPicPr/>
          <p:nvPr/>
        </p:nvPicPr>
        <p:blipFill>
          <a:blip r:embed="rId3"/>
          <a:stretch/>
        </p:blipFill>
        <p:spPr>
          <a:xfrm>
            <a:off x="4932360" y="907920"/>
            <a:ext cx="3714840" cy="49374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75" name="Rectangle 5"/>
          <p:cNvSpPr/>
          <p:nvPr/>
        </p:nvSpPr>
        <p:spPr>
          <a:xfrm>
            <a:off x="324000" y="1773360"/>
            <a:ext cx="403200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смотри, как хороша эта девица-ду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Щечки алые горят, удивительный наря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идит кокошник гордел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рышня так кра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 лебедушка плывет, песню тихую по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549360"/>
          <a:ext cx="8424720" cy="6226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7134840"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r>
                        <a:rPr b="1" lang="de-DE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ый работает на своем рабочем месте.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611280" y="333360"/>
            <a:ext cx="79214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2.</a:t>
            </a:r>
            <a:r>
              <a:rPr b="1" lang="de-DE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слушать объяснение учителя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9:13:23Z</dcterms:created>
  <dc:creator>Root</dc:creator>
  <dc:description/>
  <dc:language>en-US</dc:language>
  <cp:lastModifiedBy>пакард белл</cp:lastModifiedBy>
  <dcterms:modified xsi:type="dcterms:W3CDTF">2014-02-17T16:11:36Z</dcterms:modified>
  <cp:revision>70</cp:revision>
  <dc:subject/>
  <dc:title>Слайд 1</dc:title>
</cp:coreProperties>
</file>