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%D0%B4%D1%8B%D0%BC%D0%BA%D0%BE%D0%B2%D1%81%D0%BA%D0%B8%D0%BD%20%D0%B8%D0%B3%D1%80%D1%83%D1%88%D0%BA%D0%B8.wav" ContentType="audio/x-wav"/>
  <Override PartName="/ppt/media/image19.jpeg" ContentType="image/jpeg"/>
  <Override PartName="/ppt/media/image1.gif" ContentType="image/gif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720-0636-49DB-B774-1D6CBFBF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459-A595-4C19-9099-B773D3A4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E94-E93A-4ECF-8389-7BF45A3B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A4B-735C-4FC4-92C6-B125977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803-4E04-49D4-9EFB-A881CF0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A93-0D61-4E9F-8E3A-0FC492F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955-2B91-4BB1-B9C2-99327E5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C8B-0D7E-4FE7-8CD5-80322D6C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83D-F771-47BA-B338-3007A9EF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B0B-E1B8-478E-A5A7-202EB65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1A1-4B97-4A61-A1AA-F3C1DCE7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EEC-D0D3-438C-9929-04238CB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77FD-9686-4D5D-9EDB-8ED331B866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audio" Target="../media/&#1076;&#1099;&#1084;&#1082;&#1086;&#1074;&#1089;&#1082;&#1080;&#1085;%20&#1080;&#1075;&#1088;&#1091;&#1096;&#1082;&#1080;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nimflower2"/>
          <p:cNvPicPr/>
          <p:nvPr/>
        </p:nvPicPr>
        <p:blipFill>
          <a:blip r:embed="rId1"/>
          <a:stretch/>
        </p:blipFill>
        <p:spPr>
          <a:xfrm>
            <a:off x="2050920" y="5805360"/>
            <a:ext cx="5185080" cy="82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5"/>
          <p:cNvPicPr/>
          <p:nvPr/>
        </p:nvPicPr>
        <p:blipFill>
          <a:blip r:embed="rId2"/>
          <a:stretch/>
        </p:blipFill>
        <p:spPr>
          <a:xfrm>
            <a:off x="5508720" y="1484280"/>
            <a:ext cx="3132000" cy="448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1052640"/>
            <a:ext cx="381636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85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ымковск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" descr="Картинка 7 из 336"/>
          <p:cNvPicPr/>
          <p:nvPr/>
        </p:nvPicPr>
        <p:blipFill>
          <a:blip r:embed="rId3"/>
          <a:stretch/>
        </p:blipFill>
        <p:spPr>
          <a:xfrm>
            <a:off x="826920" y="2637000"/>
            <a:ext cx="3552840" cy="2795400"/>
          </a:xfrm>
          <a:prstGeom prst="rect">
            <a:avLst/>
          </a:prstGeom>
          <a:ln w="19080">
            <a:solidFill>
              <a:srgbClr val="0033cc"/>
            </a:solidFill>
            <a:prstDash val="sysDot"/>
            <a:miter/>
          </a:ln>
        </p:spPr>
      </p:pic>
      <p:pic>
        <p:nvPicPr>
          <p:cNvPr id="46" name="Picture 7" descr="animflower2"/>
          <p:cNvPicPr/>
          <p:nvPr/>
        </p:nvPicPr>
        <p:blipFill>
          <a:blip r:embed="rId4"/>
          <a:stretch/>
        </p:blipFill>
        <p:spPr>
          <a:xfrm>
            <a:off x="250920" y="5877000"/>
            <a:ext cx="4249800" cy="8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f1"/>
          <p:cNvPicPr/>
          <p:nvPr/>
        </p:nvPicPr>
        <p:blipFill>
          <a:blip r:embed="rId5"/>
          <a:stretch/>
        </p:blipFill>
        <p:spPr>
          <a:xfrm>
            <a:off x="7308720" y="33336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  <p:sndAc>
      <p:stSnd>
        <p:snd r:embed="rId6" name="%D0%B4%D1%8B%D0%BC%D0%BA%D0%BE%D0%B2%D1%81%D0%BA%D0%B8%D0%BD%20%D0%B8%D0%B3%D1%80%D1%83%D1%88%D0%BA%D0%B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68360" y="333360"/>
            <a:ext cx="82072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чем начать работу, правильно приготовь свое рабочее мест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68360" y="260280"/>
            <a:ext cx="835164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de-DE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е соблюдай тишину, не отвлекай товарищ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24000" y="26028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5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работы содержи рабочее место в порядке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324000" y="333360"/>
            <a:ext cx="849600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de-DE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лся сам – помоги товарищу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24000" y="260280"/>
            <a:ext cx="835164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7.</a:t>
            </a:r>
            <a:r>
              <a:rPr b="1" lang="de-DE" sz="1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ть надо дружно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24000" y="333360"/>
            <a:ext cx="83516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8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чил работу – убери свое рабочее мес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333360"/>
          <a:ext cx="8353440" cy="55562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556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de-DE" sz="8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авила работы с пластилином и стеками.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1"/>
          <p:cNvSpPr/>
          <p:nvPr/>
        </p:nvSpPr>
        <p:spPr>
          <a:xfrm>
            <a:off x="1800" y="-13824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9280" y="260280"/>
            <a:ext cx="878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ккуратно пользоваться пластилином, не пачкать стол, одежду, лепить на дощечке, не брать пластилин в рот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de-DE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68360" y="404640"/>
            <a:ext cx="849636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Будьте осторожны пластмассовыми стеками; нельзя взмахивать рукой с инструментом – это может нанести травму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24000" y="333360"/>
            <a:ext cx="8424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сле работы с пластилином привести в порядок рабочее место; очистить от пластилина доски, протереть стол мокрой тряпочкой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опия map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62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 rot="20218800">
            <a:off x="7093080" y="1125000"/>
            <a:ext cx="976320" cy="217800"/>
          </a:xfrm>
          <a:prstGeom prst="leftArrow">
            <a:avLst>
              <a:gd name="adj1" fmla="val 50000"/>
              <a:gd name="adj2" fmla="val 1120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5724360" y="1052640"/>
            <a:ext cx="1511640" cy="15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68360" y="333360"/>
            <a:ext cx="792000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о окончании работы сначала вытереть руки бумажными салфетками, а затем вымыть теплой  водой и насухо вытереть полотенц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50920" y="333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- нарядный женский уз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88"/>
          <p:cNvPicPr/>
          <p:nvPr/>
        </p:nvPicPr>
        <p:blipFill>
          <a:blip r:embed="rId1"/>
          <a:srcRect l="10093" t="27279" r="10948" b="3358"/>
          <a:stretch/>
        </p:blipFill>
        <p:spPr>
          <a:xfrm>
            <a:off x="539640" y="189000"/>
            <a:ext cx="7920000" cy="5140080"/>
          </a:xfrm>
          <a:prstGeom prst="rect">
            <a:avLst/>
          </a:prstGeom>
          <a:ln w="19080">
            <a:solidFill>
              <a:srgbClr val="0000cc"/>
            </a:solidFill>
            <a:prstDash val="sysDot"/>
            <a:miter/>
          </a:ln>
        </p:spPr>
      </p:pic>
      <p:sp>
        <p:nvSpPr>
          <p:cNvPr id="54" name="Rectangle 7"/>
          <p:cNvSpPr/>
          <p:nvPr/>
        </p:nvSpPr>
        <p:spPr>
          <a:xfrm>
            <a:off x="250920" y="530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утрам хозяйки дружно топили печи, и кудрявые дымки весело поднимались к небу. Наверное, потому и назвали село Дымков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357120" y="5500800"/>
            <a:ext cx="8501040" cy="1023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:\д15.jpg"/>
          <p:cNvPicPr/>
          <p:nvPr/>
        </p:nvPicPr>
        <p:blipFill>
          <a:blip r:embed="rId3"/>
          <a:stretch/>
        </p:blipFill>
        <p:spPr>
          <a:xfrm>
            <a:off x="324000" y="189000"/>
            <a:ext cx="8503920" cy="52243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grpSp>
        <p:nvGrpSpPr>
          <p:cNvPr id="58" name="AutoShape 8"/>
          <p:cNvGrpSpPr/>
          <p:nvPr/>
        </p:nvGrpSpPr>
        <p:grpSpPr>
          <a:xfrm>
            <a:off x="244440" y="5657760"/>
            <a:ext cx="8435880" cy="925560"/>
            <a:chOff x="244440" y="5657760"/>
            <a:chExt cx="8435880" cy="925560"/>
          </a:xfrm>
        </p:grpSpPr>
        <p:pic>
          <p:nvPicPr>
            <p:cNvPr id="59" name="AutoShape 8" descr=""/>
            <p:cNvPicPr/>
            <p:nvPr/>
          </p:nvPicPr>
          <p:blipFill>
            <a:blip r:embed="rId4"/>
            <a:stretch/>
          </p:blipFill>
          <p:spPr>
            <a:xfrm>
              <a:off x="244440" y="5657760"/>
              <a:ext cx="84358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95200" y="5705640"/>
              <a:ext cx="833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Там любили песни, пляски,               Вечера зимой так длинны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В селе рождались чудо - сказки.      И лепили там из гли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99"/>
          <p:cNvPicPr/>
          <p:nvPr/>
        </p:nvPicPr>
        <p:blipFill>
          <a:blip r:embed="rId1"/>
          <a:stretch/>
        </p:blipFill>
        <p:spPr>
          <a:xfrm>
            <a:off x="395280" y="189000"/>
            <a:ext cx="8389800" cy="5643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3" name="Rectangle 6"/>
          <p:cNvSpPr/>
          <p:nvPr/>
        </p:nvSpPr>
        <p:spPr>
          <a:xfrm>
            <a:off x="250920" y="6021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пили из местной красной глины. Слепят и в печь поставят, чтобы стали они   крепкими и долго всех радов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SC04419"/>
          <p:cNvPicPr/>
          <p:nvPr/>
        </p:nvPicPr>
        <p:blipFill>
          <a:blip r:embed="rId1"/>
          <a:srcRect l="0" t="11463" r="0" b="0"/>
          <a:stretch/>
        </p:blipFill>
        <p:spPr>
          <a:xfrm>
            <a:off x="250920" y="189000"/>
            <a:ext cx="2651040" cy="273672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6" name="Picture 4" descr="DSC04420"/>
          <p:cNvPicPr/>
          <p:nvPr/>
        </p:nvPicPr>
        <p:blipFill>
          <a:blip r:embed="rId2"/>
          <a:stretch/>
        </p:blipFill>
        <p:spPr>
          <a:xfrm>
            <a:off x="6227640" y="3141720"/>
            <a:ext cx="249084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7" name="Picture 5" descr="DSC04410"/>
          <p:cNvPicPr/>
          <p:nvPr/>
        </p:nvPicPr>
        <p:blipFill>
          <a:blip r:embed="rId3"/>
          <a:srcRect l="0" t="4825" r="0" b="7736"/>
          <a:stretch/>
        </p:blipFill>
        <p:spPr>
          <a:xfrm>
            <a:off x="468360" y="3141720"/>
            <a:ext cx="24717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8" name="Picture 6" descr="DSC04412"/>
          <p:cNvPicPr/>
          <p:nvPr/>
        </p:nvPicPr>
        <p:blipFill>
          <a:blip r:embed="rId4"/>
          <a:srcRect l="0" t="7689" r="0" b="12833"/>
          <a:stretch/>
        </p:blipFill>
        <p:spPr>
          <a:xfrm>
            <a:off x="6227640" y="189000"/>
            <a:ext cx="258156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69" name="Picture 7" descr="DSC04415"/>
          <p:cNvPicPr/>
          <p:nvPr/>
        </p:nvPicPr>
        <p:blipFill>
          <a:blip r:embed="rId5"/>
          <a:stretch/>
        </p:blipFill>
        <p:spPr>
          <a:xfrm>
            <a:off x="3276720" y="189000"/>
            <a:ext cx="2581200" cy="273528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pic>
        <p:nvPicPr>
          <p:cNvPr id="70" name="Picture 8" descr="DSC04424"/>
          <p:cNvPicPr/>
          <p:nvPr/>
        </p:nvPicPr>
        <p:blipFill>
          <a:blip r:embed="rId6"/>
          <a:stretch/>
        </p:blipFill>
        <p:spPr>
          <a:xfrm>
            <a:off x="3492360" y="3141720"/>
            <a:ext cx="2217960" cy="2879640"/>
          </a:xfrm>
          <a:prstGeom prst="rect">
            <a:avLst/>
          </a:prstGeom>
          <a:ln w="12600">
            <a:solidFill>
              <a:srgbClr val="0000cc"/>
            </a:solidFill>
            <a:prstDash val="dash"/>
            <a:miter/>
          </a:ln>
        </p:spPr>
      </p:pic>
      <p:sp>
        <p:nvSpPr>
          <p:cNvPr id="71" name="AutoShape 9"/>
          <p:cNvSpPr/>
          <p:nvPr/>
        </p:nvSpPr>
        <p:spPr>
          <a:xfrm>
            <a:off x="179280" y="6165720"/>
            <a:ext cx="8785440" cy="432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здавая игрушку, человек вкладывает в неё частичку своей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33480" y="476280"/>
            <a:ext cx="821052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Картинка 5 из 336"/>
          <p:cNvPicPr/>
          <p:nvPr/>
        </p:nvPicPr>
        <p:blipFill>
          <a:blip r:embed="rId3"/>
          <a:stretch/>
        </p:blipFill>
        <p:spPr>
          <a:xfrm>
            <a:off x="4932360" y="907920"/>
            <a:ext cx="3714840" cy="4937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75" name="Rectangle 5"/>
          <p:cNvSpPr/>
          <p:nvPr/>
        </p:nvSpPr>
        <p:spPr>
          <a:xfrm>
            <a:off x="324000" y="1773360"/>
            <a:ext cx="40320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мотри, как хороша эта девица-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Щечки алые горят, удивительный на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дит кокошник гордел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рышня так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лебедушка плывет, песню тихую п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549360"/>
          <a:ext cx="8424720" cy="6226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7134840"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lang="de-DE" sz="8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работает на своем рабочем месте.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11280" y="333360"/>
            <a:ext cx="792144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de-DE" sz="8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слушать объяснение учителя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13:23Z</dcterms:created>
  <dc:creator>Root</dc:creator>
  <dc:description/>
  <dc:language>en-US</dc:language>
  <cp:lastModifiedBy>пакард белл</cp:lastModifiedBy>
  <dcterms:modified xsi:type="dcterms:W3CDTF">2014-02-17T16:11:36Z</dcterms:modified>
  <cp:revision>70</cp:revision>
  <dc:subject/>
  <dc:title>Слайд 1</dc:title>
</cp:coreProperties>
</file>