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521-FDB1-43BE-828F-464EEEE3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F7C-0E4B-4DC0-9F7D-833C7CF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FF3-9CF7-421B-B429-032D46B4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4BD-87C3-4809-B691-144F6A7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B63-0CDA-4EA2-B4E6-4F8B1C78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F25-5C01-4559-BAE5-3A7D18D7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FDC-294C-4A50-A06D-A9785B0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99E-194B-4B2D-BF89-EE7C43F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8D1-5D02-47C0-8DAF-F1F8B302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D97-6E68-43F9-A508-F3C0328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798-7C6D-45F6-A421-2EB0E27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73A-A384-40D5-B2E4-365A4AB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E6BE-3240-436D-8FE3-296C35A010A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lgz.ru/upload/iblock/62c/62cfaad6b8b843f8586801213756333d.jpg"/>
          <p:cNvPicPr/>
          <p:nvPr/>
        </p:nvPicPr>
        <p:blipFill>
          <a:blip r:embed="rId1"/>
          <a:stretch/>
        </p:blipFill>
        <p:spPr>
          <a:xfrm>
            <a:off x="539640" y="1341360"/>
            <a:ext cx="7620120" cy="493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85920" y="2142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амуил Яковлевич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ноября 1887г.  -   4 июля 196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152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214200"/>
            <a:ext cx="94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женитьбы семья С.Я.Маршака некоторое время жила в Острогожс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м городке, который был дорог будущему пис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326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928800" y="49291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12 году вместе с семьей Самуил Яковлевич уезжает в Лондон, чтобы продолжить обучение сначала в техникуме, а затем в университ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shareslide.ru/img/tmb/8/709427/9740d5432ebc9839c78efd1eda8a4705-800x.jpg"/>
          <p:cNvPicPr/>
          <p:nvPr/>
        </p:nvPicPr>
        <p:blipFill>
          <a:blip r:embed="rId1"/>
          <a:stretch/>
        </p:blipFill>
        <p:spPr>
          <a:xfrm>
            <a:off x="539640" y="836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pp.userapi.com/c841026/v841026148/34fc0/tK7lc3nc-8A.jpg"/>
          <p:cNvPicPr/>
          <p:nvPr/>
        </p:nvPicPr>
        <p:blipFill>
          <a:blip r:embed="rId1"/>
          <a:stretch/>
        </p:blipFill>
        <p:spPr>
          <a:xfrm>
            <a:off x="25092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7072200" cy="5286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357280" y="42876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50004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всей своей жизни С.Я.Маршак никогда не терял связи со своими братьями и 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072200" cy="5214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071800" y="6429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С. Я. Маршака было два сына и доч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1450800" y="1090440"/>
            <a:ext cx="62424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0726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myshared.ru/9/865796/slide_5.jpg"/>
          <p:cNvPicPr/>
          <p:nvPr/>
        </p:nvPicPr>
        <p:blipFill>
          <a:blip r:embed="rId1"/>
          <a:stretch/>
        </p:blipFill>
        <p:spPr>
          <a:xfrm>
            <a:off x="419040" y="404640"/>
            <a:ext cx="8066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71544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900000" y="5037120"/>
            <a:ext cx="785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1 году он  едет в путешествие по Турции,  Греции, Сирии, Палестине. Здесь он знакомится со своей будущей женой. Софья Мильвидская. Единственная любовь Самуила Яковлевича Марш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0:09:51Z</dcterms:created>
  <dc:creator>Admin</dc:creator>
  <dc:description/>
  <dc:language>en-US</dc:language>
  <cp:lastModifiedBy>ret</cp:lastModifiedBy>
  <dcterms:modified xsi:type="dcterms:W3CDTF">2009-01-01T00:12:26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10017</vt:lpwstr>
  </property>
</Properties>
</file>