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F306-D6F5-4193-9BD1-05515AD32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065F-E762-4BCA-B050-9B49E202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78BF-E257-4E5A-B53C-A6E1E7F60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AA0C-7F10-4B1A-86BC-E85D96D32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A064-43EF-423A-B176-3F52B448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DB5B-059D-4576-B974-E65F4119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A761-516E-4867-A7CB-CEA49664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1C89-A535-4374-A925-3CE15507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5FE1-00DE-4F6A-A883-DECE4C2A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243D-83BF-42F4-8B98-2C89E484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C40B-34AC-4375-94E7-20C3C830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7CD0-68E9-4B4F-887D-04BF390D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08B6-1BDD-4654-AB59-819D3F9725EE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s://lgz.ru/upload/iblock/62c/62cfaad6b8b843f8586801213756333d.jpg"/>
          <p:cNvPicPr/>
          <p:nvPr/>
        </p:nvPicPr>
        <p:blipFill>
          <a:blip r:embed="rId1"/>
          <a:stretch/>
        </p:blipFill>
        <p:spPr>
          <a:xfrm>
            <a:off x="539640" y="1341360"/>
            <a:ext cx="7620120" cy="493416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285920" y="214200"/>
            <a:ext cx="633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Самуил Яковлевич Марш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 ноября 1887г.  -   4 июля 1964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500040" y="1143000"/>
            <a:ext cx="8215200" cy="4572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500040" y="214200"/>
            <a:ext cx="949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женитьбы семья С.Я.Маршака некоторое время жила в Острогожск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ольшом городке, который был дорог будущему писате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357120" y="1214280"/>
            <a:ext cx="8429760" cy="326736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928800" y="492912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912 году вместе с семьей Самуил Яковлевич уезжает в Лондон, чтобы продолжить обучение сначала в техникуме, а затем в университе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s://shareslide.ru/img/tmb/8/709427/9740d5432ebc9839c78efd1eda8a4705-800x.jpg"/>
          <p:cNvPicPr/>
          <p:nvPr/>
        </p:nvPicPr>
        <p:blipFill>
          <a:blip r:embed="rId1"/>
          <a:stretch/>
        </p:blipFill>
        <p:spPr>
          <a:xfrm>
            <a:off x="539640" y="83664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s://pp.userapi.com/c841026/v841026148/34fc0/tK7lc3nc-8A.jpg"/>
          <p:cNvPicPr/>
          <p:nvPr/>
        </p:nvPicPr>
        <p:blipFill>
          <a:blip r:embed="rId1"/>
          <a:stretch/>
        </p:blipFill>
        <p:spPr>
          <a:xfrm>
            <a:off x="250920" y="46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1071720" y="1071720"/>
            <a:ext cx="7072200" cy="528624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2357280" y="428760"/>
            <a:ext cx="52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уил Яковлевич Маршак с деть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"/>
          <p:cNvPicPr/>
          <p:nvPr/>
        </p:nvPicPr>
        <p:blipFill>
          <a:blip r:embed="rId1"/>
          <a:stretch/>
        </p:blipFill>
        <p:spPr>
          <a:xfrm>
            <a:off x="1071720" y="1357200"/>
            <a:ext cx="7000560" cy="471492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071720" y="500040"/>
            <a:ext cx="70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отяжении всей своей жизни С.Я.Маршак никогда не терял связи со своими братьями и сестр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"/>
          <p:cNvPicPr/>
          <p:nvPr/>
        </p:nvPicPr>
        <p:blipFill>
          <a:blip r:embed="rId1"/>
          <a:stretch/>
        </p:blipFill>
        <p:spPr>
          <a:xfrm>
            <a:off x="1071720" y="1214280"/>
            <a:ext cx="7072200" cy="521496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2071800" y="642960"/>
            <a:ext cx="55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 С. Я. Маршака было два сына и доч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"/>
          <p:cNvPicPr/>
          <p:nvPr/>
        </p:nvPicPr>
        <p:blipFill>
          <a:blip r:embed="rId1"/>
          <a:stretch/>
        </p:blipFill>
        <p:spPr>
          <a:xfrm>
            <a:off x="1450800" y="1090440"/>
            <a:ext cx="6242400" cy="46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"/>
          <p:cNvPicPr/>
          <p:nvPr/>
        </p:nvPicPr>
        <p:blipFill>
          <a:blip r:embed="rId1"/>
          <a:stretch/>
        </p:blipFill>
        <p:spPr>
          <a:xfrm>
            <a:off x="1450800" y="1087560"/>
            <a:ext cx="6242400" cy="46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1" descr=""/>
          <p:cNvPicPr/>
          <p:nvPr/>
        </p:nvPicPr>
        <p:blipFill>
          <a:blip r:embed="rId1"/>
          <a:stretch/>
        </p:blipFill>
        <p:spPr>
          <a:xfrm>
            <a:off x="357120" y="357120"/>
            <a:ext cx="807264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images.myshared.ru/9/865796/slide_5.jpg"/>
          <p:cNvPicPr/>
          <p:nvPr/>
        </p:nvPicPr>
        <p:blipFill>
          <a:blip r:embed="rId1"/>
          <a:stretch/>
        </p:blipFill>
        <p:spPr>
          <a:xfrm>
            <a:off x="419040" y="404640"/>
            <a:ext cx="80661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"/>
          <p:cNvPicPr/>
          <p:nvPr/>
        </p:nvPicPr>
        <p:blipFill>
          <a:blip r:embed="rId1"/>
          <a:stretch/>
        </p:blipFill>
        <p:spPr>
          <a:xfrm>
            <a:off x="1214280" y="357120"/>
            <a:ext cx="6715440" cy="4680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900000" y="5037120"/>
            <a:ext cx="785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11 году он  едет в путешествие по Турции,  Греции, Сирии, Палестине. Здесь он знакомится со своей будущей женой. Софья Мильвидская. Единственная любовь Самуила Яковлевича Марша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15T10:09:51Z</dcterms:created>
  <dc:creator>Admin</dc:creator>
  <dc:description/>
  <dc:language>en-US</dc:language>
  <cp:lastModifiedBy>ret</cp:lastModifiedBy>
  <dcterms:modified xsi:type="dcterms:W3CDTF">2009-01-01T00:12:26Z</dcterms:modified>
  <cp:revision>10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1.2.0.10017</vt:lpwstr>
  </property>
</Properties>
</file>