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2E4-AFB3-46BC-B80E-46ECAB42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DFC-8409-4A53-BD07-FB4005BD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73-B682-4945-95FD-BD951D5A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98A-E13A-45A5-943D-BB14B7C8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330-AB30-4DD4-B686-DC33B5E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35D-7F02-4843-9923-99CBE39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4B9-0B7B-4DD3-9365-A9A9E500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479-07D9-4342-A541-0D0F209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1AE-9EA9-49DE-9433-43F1D066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D3B-9A2F-4415-9C4B-369090B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DEF-5486-4771-AED1-8EBE9FCB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68E-5A20-4671-885D-ED003A8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DF8-DBB9-4E80-8715-8E2BA6948C7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lgz.ru/upload/iblock/62c/62cfaad6b8b843f8586801213756333d.jpg"/>
          <p:cNvPicPr/>
          <p:nvPr/>
        </p:nvPicPr>
        <p:blipFill>
          <a:blip r:embed="rId1"/>
          <a:stretch/>
        </p:blipFill>
        <p:spPr>
          <a:xfrm>
            <a:off x="539640" y="1341360"/>
            <a:ext cx="7620120" cy="493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85920" y="2142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амуил Яковлевич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ноября 1887г.  -   4 июля 19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214200"/>
            <a:ext cx="94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женитьбы семья С.Я.Маршака некоторое время жила в Острогожс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м городке, который был дорог будущему пис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326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928800" y="49291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2 году вместе с семьей Самуил Яковлевич уезжает в Лондон, чтобы продолжить обучение сначала в техникуме, а затем в университ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shareslide.ru/img/tmb/8/709427/9740d5432ebc9839c78efd1eda8a4705-800x.jpg"/>
          <p:cNvPicPr/>
          <p:nvPr/>
        </p:nvPicPr>
        <p:blipFill>
          <a:blip r:embed="rId1"/>
          <a:stretch/>
        </p:blipFill>
        <p:spPr>
          <a:xfrm>
            <a:off x="539640" y="836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pp.userapi.com/c841026/v841026148/34fc0/tK7lc3nc-8A.jpg"/>
          <p:cNvPicPr/>
          <p:nvPr/>
        </p:nvPicPr>
        <p:blipFill>
          <a:blip r:embed="rId1"/>
          <a:stretch/>
        </p:blipFill>
        <p:spPr>
          <a:xfrm>
            <a:off x="25092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707220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57280" y="42876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50004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всей своей жизни С.Я.Маршак никогда не терял связи со своими братьями и 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072200" cy="5214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071800" y="6429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С. Я. Маршака было два сына и до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1450800" y="1090440"/>
            <a:ext cx="62424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0726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myshared.ru/9/865796/slide_5.jpg"/>
          <p:cNvPicPr/>
          <p:nvPr/>
        </p:nvPicPr>
        <p:blipFill>
          <a:blip r:embed="rId1"/>
          <a:stretch/>
        </p:blipFill>
        <p:spPr>
          <a:xfrm>
            <a:off x="419040" y="404640"/>
            <a:ext cx="8066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71544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900000" y="5037120"/>
            <a:ext cx="785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1 году он  едет в путешествие по Турции,  Греции, Сирии, Палестине. Здесь он знакомится со своей будущей женой. Софья Мильвидская. Единственная любовь Самуила Яковлевича Марш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0:09:51Z</dcterms:created>
  <dc:creator>Admin</dc:creator>
  <dc:description/>
  <dc:language>en-US</dc:language>
  <cp:lastModifiedBy>ret</cp:lastModifiedBy>
  <dcterms:modified xsi:type="dcterms:W3CDTF">2009-01-01T00:12:26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10017</vt:lpwstr>
  </property>
</Properties>
</file>