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06FB4-3DB1-48B7-924C-F3711C8EE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97E29-C653-4893-8D34-5A19FB4EB5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6A9C3-5A84-4A01-BB46-BDE7BD6F05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1C0ED-E0F7-40A2-999E-80414F3A4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4D32-C251-4B26-9161-AAB75C2C9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3E079-8A2F-4FE5-AA24-09C0F9D80F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F4EC-0E11-46C7-A486-55DD347D2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2D41-6970-4B7F-9E45-4D629AEC1A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F010B-6585-4038-A7AB-3B1DD02D61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C21C-05F6-4753-84D8-AC441B1B45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F23EE-7B4A-4234-A160-9A4FD99D67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28676-B5B1-45EA-9067-EB2948873E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421CC-A09F-43E6-AFCD-524B65D47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6B428-DAA7-4723-A78F-491A48CA22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130F1-9385-40D6-AB68-5CA9C7DD8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6EF4-F3FD-4362-B8B6-F9DFD5EEC1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09BDC-BA0A-4F68-BB67-31AAC8AC0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F851-2961-4BA0-9FA3-884B54063E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BE2-DE0C-46A4-9D6B-8908CD99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FE6-33B6-4A53-932F-E9D8AFB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579D-5179-4E9B-B8C5-4C74714F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A184-59F7-43FB-BCA5-40449FF4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D22A3-5F84-4CCD-9BE1-38966C5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91ABC-18CB-413F-8BCA-4C64543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9AEAA-4A16-4F58-ACD9-D7C3F12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A243B-361D-4977-8927-F8282DF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04FE-67CA-45DE-BCBA-CE89A91D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2D62-3BB8-4C49-AA1C-A6C7C797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0E6CE-3744-4789-B097-131B2DED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2DFEA-D4F1-4C21-A650-7F105A33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36D-259E-4340-ABCC-E3D66EC4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E14B-C54A-4B17-82B8-3BE7C978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30AB8-316B-4968-8D2D-A1285070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25FC-5EA9-4E89-9229-027A1CA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1442A-09F1-43E6-8FDD-0CB7667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C1BBA-7851-443C-9026-AD68A30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32456-1A39-466F-905D-08A50654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DB8B7-E5CD-457B-BA90-13D8DCB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C1ADF-DAB7-4C17-B98E-E92BFBA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3227-403A-4146-A41C-26904E12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04E5B-4664-4023-9E45-7743265F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136-6B10-4B94-8D1A-193D8386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50CA8-5FD7-4396-99A4-036081A9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D171-7918-470A-B560-51D929E3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156AA-BEBE-4372-83AB-54B5F044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D29FB-8CDC-4A91-B11E-D8E3AD0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82B1-38A2-42A6-8518-65585BD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296DA-9107-45B6-943A-B68A89F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5450A-07C5-41AC-822E-6CD3CB4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D931-5766-4E6F-9103-DF6616E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D62E6-5BD5-41B2-B604-C679035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41AE7-8256-48A0-A554-2536684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09C0-65BE-4FBD-8403-BF6C65BF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08332-20E8-4EAA-A63A-F77BF28D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B6FA-6984-4634-85E7-BC526E49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4837-61B3-426E-BE90-2E491C33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38DC7-18A8-4DE5-BBC3-7AEA5732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178AA-05B0-4B45-A439-CA3B902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0B78F-FA3F-4085-91F3-713C96C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12DB-3D53-4BA1-8697-169A6FB7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E01D1-8C64-4E21-B5FD-649A01A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F4AC4-0561-45A2-BBE6-7509B220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FE56C-D642-46BD-8D3D-DC6D14A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D948-D206-4704-8243-B35FA79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FB36C-D061-42D3-85FB-907908C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B0352-65F0-4A92-A5F8-2BC1235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FAC87-85ED-4398-9BFF-7619BE91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C10C5-6C9B-4789-9280-004542DE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8C129-C304-41CC-81A8-8046CF2E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50A9-2B5A-4EEE-B3BA-219CE78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92B-72DD-4296-BB1F-BB8EAC8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5665-6D47-4282-AC86-23A8BBF3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4BC-FD16-412F-A3D4-233551A1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908-644D-4D7F-BBA8-643E641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62D-C24C-420A-9232-827AD7A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6AA-C569-4EB4-9989-1E63056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7B99-A23F-4053-A8E5-8A2DC93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3CA2-0209-495D-BE23-7BC7B01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3284-E05E-4C6E-8239-3A519448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FF5-65DF-46FA-9BD5-C0A77A4A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16EB-FB8D-442F-8A14-E9C96C1C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A3EA-A7E0-4C04-B6E2-1E100372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C607-0BC1-4377-ABE1-A25E64F5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B57E-9C24-456A-96D6-A23FA52B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6C4E-8912-4178-89C0-7EA857E0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486-2CA8-4406-8263-8FEFD42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56B1-8F09-48FA-B808-B9A88A4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C6ED-BDAF-4E1C-A1D8-841F300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F099-CDC5-450E-8BAC-3A13430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162E-A102-4681-896A-5DF3F13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4E0D-1A0D-4CF4-8A33-58860809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1A90-9F61-4950-AEA4-B7BF3C51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3D96-E28A-42FE-A02E-80FFAFF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750A-AD1E-4A31-BFF8-D8055AA0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6427-D1F5-4EF4-BA2D-42BF16A4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559B-5A47-4085-9CAA-31F6050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148-81F9-4E21-AA5D-143368C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95AF-AD15-4BC9-979C-FBE9D2FF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11AE-409A-4CD6-9CD5-8CF3F03C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5A73-36D0-47FF-BFD4-9F3F75F4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9B83-5311-4F6D-BCF6-5F73024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60BE-0C98-4531-BDAA-746B6E4A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CB32-C35D-406B-9AFD-A6B12B7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3804-F86F-41F6-9F27-7C26225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309E-67B5-4888-B3F5-2460525D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DC98-ADAA-4953-9872-DBE4C4F0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0024-D0B0-4DD9-8331-49CAB14E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290-909A-41CB-8360-C452DCB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326B3-1143-4969-B4E4-0731109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EC2F-84EF-4B80-BF95-9728255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BE49-DFAB-4FB7-B3B8-106C6B3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9D96-F796-49BB-B90C-BB20B08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3CBD-79BA-4B48-82AB-6DAA6BD3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F14CE-E1B7-497F-9314-9F65187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01C6-CC83-49D1-82CE-80F07657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A0F9-4140-4E8D-8808-B455E34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C5A13-49D7-4D9D-9AFF-859E3C8F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267E-E14F-4404-AD2F-03992D57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323-CCBF-4B95-99E5-44DFF42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D368-DE51-4C5B-9A72-998CF421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F7B9-869F-4C33-A1AB-4D69E9C5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0112-03B8-4E75-B7DC-3268B031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B585-78B2-4B5D-8709-A0EBE30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9C29-148B-44A2-A858-7EF8E1A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6EF6-CAC7-40A3-BE8E-DCF6995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027F-60E5-4788-94C7-241D019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3690-564C-484D-B74F-013D416B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CA9A1-7AB3-47A0-B921-4C3A185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F96F-2774-4286-8C43-C9798FF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ADE-B10D-4D03-A4F4-8B446AF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7826-79D9-4A3D-BB2F-A9E1130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55A5-B7A9-481A-9820-9170C688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BD5E-646D-454F-BEE5-DFA24242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3F2F-12C0-4339-A737-6490D21B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D820-4F9C-4BEF-B530-E1BFBD60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7B87-E3EF-41AA-85A9-2FE36DE5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5D481-DDF2-4BC5-82DA-E97F0C0F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BC81-6AE2-40FD-A259-BE90C20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5917-9A54-4926-B6E6-8E4C8BE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3402-7110-4D5A-810D-5951DA6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88C-BD8A-4D24-A007-B070AAF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22C92-A9AB-477E-9797-3C5CA57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98AE-9485-426E-A431-A620EB1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66762-F123-4BC7-93D5-C742186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E96A-F61A-478B-B6DF-C60EC7BB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0DBA-3211-43A7-9BAE-EE8F6BD8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87A08-96D8-45DC-8A31-04B3FE6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9D86-525E-46BA-906C-60C164E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8C7E-12AD-4401-8D0B-C8DF6E69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0128-08A0-4913-9274-5A706F4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38FBD-8D44-4155-A7E3-7C8D31D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B14-30F3-49B1-AF31-BDFF38B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DB28-DEFA-462D-9C8F-2D35A5CE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15F8-C9DE-466C-8303-3FC8F4D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DC788-B3EB-45A3-9970-89086D7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35770-7BC8-437B-A379-63C0B9F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25F5-A585-4BC9-86B2-28CE312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3700-9697-4B45-896B-7768A7C6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0579-1710-4B33-9EF8-3E0D195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22DA1-2BB9-4BF4-8B88-6C1A7EF3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A0331-323F-41A7-B283-4B63CFAC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C0FD5-0E93-4683-9FFA-65BD6F7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117810-676B-44BB-989E-CADBC47A9AE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FCD52A-363C-4F90-BDE6-1408175A142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0B959-DD0C-4C90-8815-00D17C0E414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A5D42E-41BD-4354-9C7B-BCC60A25168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EF5129-4E6E-4C58-A8D0-D5258DEB7E9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26D7A3-42F6-46DC-B9CE-E65E83F958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3FF3FD-BD8C-44DB-81D4-9C85721425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EA9797-7392-4BDB-ADED-837B305FA5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ECD005-D9C8-4632-8461-1B465F2FF1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AFD707-C8F6-4DEB-B59A-5CBA695063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98BDE6-86BF-4C98-8E96-7E55EEE748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FD53A9-B0BC-442B-976B-44C286E9B8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1"/>
          <p:cNvGrpSpPr/>
          <p:nvPr/>
        </p:nvGrpSpPr>
        <p:grpSpPr>
          <a:xfrm>
            <a:off x="208080" y="3292560"/>
            <a:ext cx="8724960" cy="1690560"/>
            <a:chOff x="208080" y="3292560"/>
            <a:chExt cx="8724960" cy="169056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>
              <a:off x="208080" y="3292560"/>
              <a:ext cx="872496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3"/>
            <p:cNvSpPr/>
            <p:nvPr/>
          </p:nvSpPr>
          <p:spPr>
            <a:xfrm>
              <a:off x="208080" y="3292560"/>
              <a:ext cx="87249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Заголовок 1" descr=""/>
          <p:cNvPicPr/>
          <p:nvPr/>
        </p:nvPicPr>
        <p:blipFill>
          <a:blip r:embed="rId1"/>
          <a:stretch/>
        </p:blipFill>
        <p:spPr>
          <a:xfrm>
            <a:off x="176040" y="208080"/>
            <a:ext cx="9034560" cy="5308560"/>
          </a:xfrm>
          <a:prstGeom prst="rect">
            <a:avLst/>
          </a:prstGeom>
          <a:ln w="0">
            <a:noFill/>
          </a:ln>
        </p:spPr>
      </p:pic>
      <p:sp>
        <p:nvSpPr>
          <p:cNvPr id="662" name="Прямоугольник 2"/>
          <p:cNvSpPr/>
          <p:nvPr/>
        </p:nvSpPr>
        <p:spPr>
          <a:xfrm>
            <a:off x="500040" y="1428840"/>
            <a:ext cx="7888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1. Mechanism, which is used to stop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2. Mechanism, which is used to guide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3.Mechanism, which engages or disengages the engine and the car whe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Прямоугольник 1"/>
          <p:cNvSpPr/>
          <p:nvPr/>
        </p:nvSpPr>
        <p:spPr>
          <a:xfrm>
            <a:off x="285840" y="85716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4. Mechanism, which is used to change the speed of the c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Clu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hield wi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Gear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5. Mechanism, which is used to guide the car in one or the other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Propeller sh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rak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Rear ax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tee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. Device, which is designed to measure the speed of the 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He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Wind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peed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000000"/>
              </a:buClr>
              <a:buFont typeface="Times New Roman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kilo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Заголовок 1" descr=""/>
          <p:cNvPicPr/>
          <p:nvPr/>
        </p:nvPicPr>
        <p:blipFill>
          <a:blip r:embed="rId1"/>
          <a:stretch/>
        </p:blipFill>
        <p:spPr>
          <a:xfrm>
            <a:off x="1792440" y="291960"/>
            <a:ext cx="6613200" cy="10861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17892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ul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, Max! They say you are a good motor mechanic. Is it very difficult to  repair ca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ax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, not very. A repairman must know everything about cars, their main parts, accessories and function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what are the main parts of the automobil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They are:....... and .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: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h, I know, the engine is the source of power. Is it a complicated  mechanism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M: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some extent it is. It includes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… ,…,…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... system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"/>
          <p:cNvGrpSpPr/>
          <p:nvPr/>
        </p:nvGrpSpPr>
        <p:grpSpPr>
          <a:xfrm>
            <a:off x="853920" y="79200"/>
            <a:ext cx="7780320" cy="1411560"/>
            <a:chOff x="853920" y="79200"/>
            <a:chExt cx="7780320" cy="1411560"/>
          </a:xfrm>
        </p:grpSpPr>
        <p:pic>
          <p:nvPicPr>
            <p:cNvPr id="635" name="Picture 2" descr=""/>
            <p:cNvPicPr/>
            <p:nvPr/>
          </p:nvPicPr>
          <p:blipFill>
            <a:blip r:embed="rId2"/>
            <a:stretch/>
          </p:blipFill>
          <p:spPr>
            <a:xfrm>
              <a:off x="853920" y="79200"/>
              <a:ext cx="7780320" cy="14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3"/>
            <p:cNvSpPr/>
            <p:nvPr/>
          </p:nvSpPr>
          <p:spPr>
            <a:xfrm>
              <a:off x="853920" y="79200"/>
              <a:ext cx="7780320" cy="14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7" name="Picture 4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1"/>
          <p:cNvGrpSpPr/>
          <p:nvPr/>
        </p:nvGrpSpPr>
        <p:grpSpPr>
          <a:xfrm>
            <a:off x="450720" y="201600"/>
            <a:ext cx="8239320" cy="1252440"/>
            <a:chOff x="450720" y="201600"/>
            <a:chExt cx="8239320" cy="1252440"/>
          </a:xfrm>
        </p:grpSpPr>
        <p:pic>
          <p:nvPicPr>
            <p:cNvPr id="639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201600"/>
              <a:ext cx="823932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3"/>
            <p:cNvSpPr/>
            <p:nvPr/>
          </p:nvSpPr>
          <p:spPr>
            <a:xfrm>
              <a:off x="450720" y="201600"/>
              <a:ext cx="823932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1" name="Picture 4" descr=""/>
          <p:cNvPicPr/>
          <p:nvPr/>
        </p:nvPicPr>
        <p:blipFill>
          <a:blip r:embed="rId3"/>
          <a:stretch/>
        </p:blipFill>
        <p:spPr>
          <a:xfrm>
            <a:off x="928800" y="139212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"/>
          <p:cNvGrpSpPr/>
          <p:nvPr/>
        </p:nvGrpSpPr>
        <p:grpSpPr>
          <a:xfrm>
            <a:off x="450720" y="103320"/>
            <a:ext cx="8239320" cy="1441440"/>
            <a:chOff x="450720" y="103320"/>
            <a:chExt cx="8239320" cy="1441440"/>
          </a:xfrm>
        </p:grpSpPr>
        <p:pic>
          <p:nvPicPr>
            <p:cNvPr id="643" name="Picture 2" descr=""/>
            <p:cNvPicPr/>
            <p:nvPr/>
          </p:nvPicPr>
          <p:blipFill>
            <a:blip r:embed="rId2"/>
            <a:stretch/>
          </p:blipFill>
          <p:spPr>
            <a:xfrm>
              <a:off x="450720" y="103320"/>
              <a:ext cx="823932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3"/>
            <p:cNvSpPr/>
            <p:nvPr/>
          </p:nvSpPr>
          <p:spPr>
            <a:xfrm>
              <a:off x="450720" y="103320"/>
              <a:ext cx="823932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285840" y="1857240"/>
            <a:ext cx="858024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4"/>
          <p:cNvGrpSpPr/>
          <p:nvPr/>
        </p:nvGrpSpPr>
        <p:grpSpPr>
          <a:xfrm>
            <a:off x="108000" y="620640"/>
            <a:ext cx="8927640" cy="5690880"/>
            <a:chOff x="108000" y="620640"/>
            <a:chExt cx="8927640" cy="5690880"/>
          </a:xfrm>
        </p:grpSpPr>
        <p:pic>
          <p:nvPicPr>
            <p:cNvPr id="647" name="Picture 5" descr=""/>
            <p:cNvPicPr/>
            <p:nvPr/>
          </p:nvPicPr>
          <p:blipFill>
            <a:blip r:embed="rId2"/>
            <a:stretch/>
          </p:blipFill>
          <p:spPr>
            <a:xfrm>
              <a:off x="108000" y="620640"/>
              <a:ext cx="8927640" cy="56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6"/>
            <p:cNvSpPr/>
            <p:nvPr/>
          </p:nvSpPr>
          <p:spPr>
            <a:xfrm>
              <a:off x="108000" y="620640"/>
              <a:ext cx="8927640" cy="56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1"/>
          <p:cNvGrpSpPr/>
          <p:nvPr/>
        </p:nvGrpSpPr>
        <p:grpSpPr>
          <a:xfrm>
            <a:off x="360360" y="-176040"/>
            <a:ext cx="8518680" cy="958680"/>
            <a:chOff x="360360" y="-176040"/>
            <a:chExt cx="8518680" cy="958680"/>
          </a:xfrm>
        </p:grpSpPr>
        <p:pic>
          <p:nvPicPr>
            <p:cNvPr id="650" name="Picture 2" descr=""/>
            <p:cNvPicPr/>
            <p:nvPr/>
          </p:nvPicPr>
          <p:blipFill>
            <a:blip r:embed="rId2"/>
            <a:stretch/>
          </p:blipFill>
          <p:spPr>
            <a:xfrm>
              <a:off x="360360" y="-176040"/>
              <a:ext cx="8518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3"/>
            <p:cNvSpPr/>
            <p:nvPr/>
          </p:nvSpPr>
          <p:spPr>
            <a:xfrm>
              <a:off x="360360" y="-176040"/>
              <a:ext cx="85186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4"/>
          <p:cNvGrpSpPr/>
          <p:nvPr/>
        </p:nvGrpSpPr>
        <p:grpSpPr>
          <a:xfrm>
            <a:off x="250920" y="981000"/>
            <a:ext cx="8621280" cy="5880240"/>
            <a:chOff x="250920" y="981000"/>
            <a:chExt cx="8621280" cy="5880240"/>
          </a:xfrm>
        </p:grpSpPr>
        <p:pic>
          <p:nvPicPr>
            <p:cNvPr id="653" name="Picture 5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8621280" cy="58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 Box 6"/>
            <p:cNvSpPr/>
            <p:nvPr/>
          </p:nvSpPr>
          <p:spPr>
            <a:xfrm>
              <a:off x="250920" y="981000"/>
              <a:ext cx="8621280" cy="58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1"/>
          <p:cNvSpPr/>
          <p:nvPr/>
        </p:nvSpPr>
        <p:spPr>
          <a:xfrm>
            <a:off x="285840" y="1071720"/>
            <a:ext cx="86439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214200" y="857160"/>
            <a:ext cx="8929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of the Automob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mobile is made up of three basic parts: the power plant, or the engine, the chassis a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eng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 the source of power that makes the wheels rotate and the car move. It includes fuel, cooling, lubricating and electric systems. Most automobile engines have six or eight cylind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has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 power train (power transmission), a running gear, steering and braking systems as wel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1"/>
          <p:cNvSpPr/>
          <p:nvPr/>
        </p:nvSpPr>
        <p:spPr>
          <a:xfrm>
            <a:off x="28584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7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214200" y="357120"/>
            <a:ext cx="8715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in carries the power from the engine to the car whe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transmission, in turn, contains the clutch, gearbox, propeller or cardan shaft, final drive, differential, real axle shafts. The running gear consists of a frame with axles, wheels and spr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hood, fenders and accessories: the heater, stereo tape recorder, windshield wipers, conditioner, speedome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1" descr=""/>
          <p:cNvPicPr/>
          <p:nvPr/>
        </p:nvPicPr>
        <p:blipFill>
          <a:blip r:embed="rId1"/>
          <a:stretch/>
        </p:blipFill>
        <p:spPr>
          <a:xfrm>
            <a:off x="176040" y="-30240"/>
            <a:ext cx="9163080" cy="5546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356760" y="2060640"/>
            <a:ext cx="822636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. What main parts is the automobile made up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. What is the function of the engin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. What system does the engine include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. What does the chassis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.What units does the power transmission contain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.What assemblies does the running gear consist of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. What has the body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</cp:lastModifiedBy>
  <dcterms:modified xsi:type="dcterms:W3CDTF">2022-11-18T10:07:52Z</dcterms:modified>
  <cp:revision>59</cp:revision>
  <dc:subject/>
  <dc:title>внешний и внутренний вид автомобиля</dc:title>
</cp:coreProperties>
</file>