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C87C3-AF11-4265-A83F-1D36B0EC09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DF44F-4CB8-49BE-8783-F650975E05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9B9C9-3C6B-4FB9-B90B-DFBE66B50A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C2790-0F8F-4B8D-B514-953E30C6E3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D1DCD-7C6C-4769-A780-046B9E0A4C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4C5A6-A5D2-413C-BE9B-135FCB3FB9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071FF-FF27-45A2-87BE-1D73118374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16C80-935D-4891-BC46-6B0F1D2D77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9E278-EFB5-4CC5-9D63-D5DC92ED34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C280F-2EEF-4F28-B7AC-642A195F43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6583C-7B12-4D20-B07E-AD32226DB0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AEF6E-9F3D-46A0-ABFC-9704533416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92FAE-0BA2-4EE1-90F3-AC242BA006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690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FF048-C132-497B-BED4-EDBB0D28150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D99B8-10C3-4879-8F3C-3419D739B8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139EA-CB4F-44D9-8A7A-499E903B8A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2E2A4-9CF2-4E60-ACC6-837B2022B0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283D2-D72F-44E7-A787-67D98F4A6C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FA5-8975-4214-90D3-0BAD3F1F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CD87-27EE-4CDE-9268-63046B18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83C4F-A472-4FD9-BAFC-F121A4D2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84658-E07A-410F-A218-FF34A883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E36E7-989C-4A15-944A-A46884FB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E2F34-D48A-4153-86BE-4737B02F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2F952-6E05-4E7E-9C60-E2CD614C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E7CD6-4362-4D63-B1AD-4535C4B2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3C530-BC98-4549-9855-38FD73E5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F667D-4CE9-4EFF-87A6-FD4CF991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2413A-82AC-4F66-AAC7-7362D852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12011-A6BA-4A6B-93A9-C5C5F872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A829-2C26-4552-99B5-85381B9F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F887A-56C5-4699-9EC3-64A01EEB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09587-734F-4830-BE08-35B59256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36925-B9EE-43C6-B4B5-5DF2E05D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95A43-F7DD-477B-B36B-032ADC12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1DAD8-11EB-4D98-8F4A-D3AB88C9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DFDBB-BAAD-48A0-B0E2-509CE774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B25EC-C7DF-4C2C-869B-0A6564F8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F8C31-7367-4B60-9AB3-FBAD939A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9DC95-BB30-4295-8323-4D52C407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15872-2B5D-4D79-B9B8-72E50341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E8A-4827-41AC-B5A8-3F7F9BAC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B684D-EC9B-4B7F-A0EC-A6DC1234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00A29-669A-4657-8843-90EE141F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87638-9ABE-4375-930E-DDEC507A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2E260-7065-4904-A53F-AD0540EE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E08C5-412B-4841-96FC-658F3313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78B01-F5A1-4BC2-8004-60D87912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78132-D1F1-42EF-A803-9FB3CECE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A8F54-665F-45E2-B32F-29883E08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546A3-46C3-4A89-A76A-D71A5843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58CC6-0C89-4BFB-BEE5-934B47A4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9A8D-30D0-4D7C-B3E2-29F938E0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169AA-603F-488B-AD65-53F939E1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AE9D6-84B5-493A-A851-18CD3D09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08681-3945-453B-9D84-B158D022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89DED-3479-483E-B002-B95BD580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ABA3B-2A92-41D3-A840-2237E064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BD5BA-3E56-4F72-835D-783EADEA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7BFF7-1F1C-42F1-A7D1-9588848D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96C03-0373-401F-B643-66E13CA8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13222-AEDB-4B29-BECD-DD0B2E3F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A82D5-0E73-444B-8F77-BF31D9EB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099A-804B-4416-96D8-8E4AEE81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F7F6D-0623-4079-BD6E-CAC64962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79B26-3427-4789-A242-42A58B2C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A59B3-C593-4954-93A9-2E0D50A8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C7137-1BE0-48B1-8C1E-12CE2546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82BD8-C769-465C-BDB7-D8D60F3C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F2D4-C308-4137-A8CA-AA53AAF6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416F-16E4-41CD-91F7-44B88862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5EEE-F864-41EC-8242-934A49C3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1A72-9C6B-4FF5-9540-4E75F1A3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12E8-C1C1-4729-A001-F1BE3611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B4C-0CAF-42C6-8295-656D50BB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1D0C-E929-444B-B055-D90A3E02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D108-9C06-40BD-8DD8-64E663D0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1DE2-8311-4703-A0CB-0F739822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54F1-7E45-489F-9906-1865E9F5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25AA-2413-4F55-948D-2F23DA7A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C6B8A-17A4-4579-91BB-176BF1BA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5BE38-58B7-4EB0-8A27-24C4A9E0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952BD-CA34-43B2-A806-177E2AF9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8DA46-2813-445E-83B6-90D0267E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A142E-285E-4472-BEE1-358113D2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D02-3BD2-4F59-9385-EC994C3D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CBB61-6D31-4ACB-B2FF-12946141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D2A71-CCEA-4663-88A5-3B60587A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93162-B9F7-4920-AFC3-4E782B5D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DDBB6-9D2A-45A3-A8E2-C97BA0E1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7E6B9-11E9-436F-8EDC-770DC759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F439F-1DE3-4EEF-8890-7A9DA3A6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9A916-76C4-4EED-8F6E-BD1B0DBF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7EBDF-4CDE-4BC9-95E5-523058FD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184A2-9D91-4A23-9913-BB20D521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2B32B-8553-41F4-82DE-5BF133EC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8E2-EB3B-430F-969F-F2AC6AE7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AD9C3-D535-4D40-9A5B-77A1C0DF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B5D31-74B9-4B13-AFF4-EAC6001A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C0828-79D6-4BD6-9ECF-FA72434F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6DA5E-42A2-4F9E-9C47-41A899D2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24C03-555F-4633-B13B-38F2B4CF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6683F-157B-4006-81CD-7E8F7510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6405E-9613-4ABD-81A9-96D8C889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1FCBC-9BF4-4134-B2CB-03FAA8A1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8B457-80B7-4791-A1DC-B9B86206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E5CF7-A7C9-4571-83BC-64B8D694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016-A7AE-4541-8772-C0B9291F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47A91-ADF1-4E0C-B8B0-B4B93F06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5F90A-8BE5-4D35-BFF0-86C745DF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C3633-77EC-4917-8D74-116EC415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BBD96-9956-4FAD-8BCB-A5FD08C4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28EA1-7AA6-4276-8266-0DC45955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CD73B-A7FB-4E41-A45A-B834F99B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C048C-379E-4E3B-8C4B-01182689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58568-7231-486F-8A8A-D93C9796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E68B6-B2EE-4A1D-A335-BA15D441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62FB5-D495-437C-9E39-03C1B93B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3F4-F3CC-4C9B-9AB5-0806AE40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12A5C-7EDB-438B-A30A-500BC2F8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F24E9-08EF-4AD7-9EE7-33C49EA5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378BA-39CD-404B-B7E8-35DFB70F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44ACA-DD88-4CB6-81C7-090B5969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5AF0C-7596-43B2-8A5C-A3B6F6F5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2B338-B13E-4584-B79C-5615222D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0A497-7531-4AB2-8759-928BD550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326FA-A300-4D8A-BD6C-69814278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985A4-A659-49B0-8441-9EA28AAD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C5692-68A5-4BC6-94A6-DF89281A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11D-97E8-4F8E-AB1E-9C487D96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9298D-2223-4B88-B0E9-86896156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303C3-C731-4197-8678-F5F87D10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3E892-7EFE-4C66-90C4-909E04D4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72347-D402-4722-BED6-B47E74D8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677AB-5432-455E-BF64-F309277B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5E557-9F94-4BA8-81A0-E1649A3C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471AD-884C-4C23-9DB5-4B65477D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3286F-58EF-4916-9326-93D6CE77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39681-0F73-4A35-941F-2267DA39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6AD82-80DB-436A-94F9-D2718570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8B40-CBFB-4289-BA40-70A086ED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08E0B-3670-4189-8B04-92428796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0294D-0427-46EF-B35D-30E245A3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E3618-E354-4388-AEBC-217B3CDD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218CB-902B-4818-B0F7-1462810E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CBA9A-6F18-4326-BBDE-2F0A9701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D743C-CE2E-4668-BBCD-28B1B0C8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FF043-D6F3-434D-9CDE-AD0BAB2A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80424-E966-4EEE-98E1-72186A83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193C3-6B06-4A8C-89B5-DE26253E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257E1-D302-4D38-9DE2-ECC4FCBF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355D-FD0E-4E83-BA81-9CE5EF3A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52F60-9C37-4A1E-8072-679FC96D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D7CC1-9A7B-442E-8BF1-31B43990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01E32-3CAE-40AD-9182-FE311379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FCFFE-3E93-4E9A-8FEB-0CB32E31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549BE-45A9-4911-88B8-C4BD34BF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022C2-EF68-44FB-AAF0-8BE6D688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0CBD1-D7E8-4561-A1F8-5DF65A70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F6BA1-CE6D-4EAB-90EF-5523793F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5A59B-D4CC-4A50-A560-B70262CA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62273-E812-4E3C-BE67-BB523DB0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E16388-CAE9-42EE-B6BF-B742E03996C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470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2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473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5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6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77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1454CC-364F-4EA5-B897-F06AE35AA40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2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2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F13BF3-0955-401A-BE2A-EDCE222ECE3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7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7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7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59E87D-77ED-44DE-8CEB-67A2AA120AA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142108-5093-4A21-AC99-6FD18C51D80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FB2587-CF1F-46A1-BFDB-D4CE23C3B3B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5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5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14B7FF-1ABC-4F6A-A838-2ECD1255ABB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71262B-65BF-49C8-A4C8-CE70CF879DF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99DEBC-2262-4B66-9FB3-FAD5E3362FA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1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2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24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B6EED6-F0DC-4A57-9822-3D8A59DB3AB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6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71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4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75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D1C242-D756-4BFE-A5F0-FAA9904D9D1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41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22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26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D6DD2C-04F1-4A32-AA98-3816BC0DAD7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1"/>
          <p:cNvGrpSpPr/>
          <p:nvPr/>
        </p:nvGrpSpPr>
        <p:grpSpPr>
          <a:xfrm>
            <a:off x="208080" y="3292560"/>
            <a:ext cx="8724960" cy="1690560"/>
            <a:chOff x="208080" y="3292560"/>
            <a:chExt cx="8724960" cy="1690560"/>
          </a:xfrm>
        </p:grpSpPr>
        <p:pic>
          <p:nvPicPr>
            <p:cNvPr id="632" name="Picture 2" descr=""/>
            <p:cNvPicPr/>
            <p:nvPr/>
          </p:nvPicPr>
          <p:blipFill>
            <a:blip r:embed="rId2"/>
            <a:stretch/>
          </p:blipFill>
          <p:spPr>
            <a:xfrm>
              <a:off x="208080" y="3292560"/>
              <a:ext cx="8724960" cy="16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Text Box 3"/>
            <p:cNvSpPr/>
            <p:nvPr/>
          </p:nvSpPr>
          <p:spPr>
            <a:xfrm>
              <a:off x="208080" y="3292560"/>
              <a:ext cx="872496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Заголовок 1" descr=""/>
          <p:cNvPicPr/>
          <p:nvPr/>
        </p:nvPicPr>
        <p:blipFill>
          <a:blip r:embed="rId1"/>
          <a:stretch/>
        </p:blipFill>
        <p:spPr>
          <a:xfrm>
            <a:off x="176040" y="208080"/>
            <a:ext cx="9034560" cy="5308560"/>
          </a:xfrm>
          <a:prstGeom prst="rect">
            <a:avLst/>
          </a:prstGeom>
          <a:ln w="0">
            <a:noFill/>
          </a:ln>
        </p:spPr>
      </p:pic>
      <p:sp>
        <p:nvSpPr>
          <p:cNvPr id="662" name="Прямоугольник 2"/>
          <p:cNvSpPr/>
          <p:nvPr/>
        </p:nvSpPr>
        <p:spPr>
          <a:xfrm>
            <a:off x="500040" y="1428840"/>
            <a:ext cx="7888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1. Mechanism, which is used to stop the c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Clu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Brak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Gearbo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Steering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2. Mechanism, which is used to guide the c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Clu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Brak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Gearbo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Steering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3.Mechanism, which engages or disengages the engine and the car whe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Clu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Brak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Gearbo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Steering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Прямоугольник 1"/>
          <p:cNvSpPr/>
          <p:nvPr/>
        </p:nvSpPr>
        <p:spPr>
          <a:xfrm>
            <a:off x="285840" y="857160"/>
            <a:ext cx="7715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4. Mechanism, which is used to change the speed of the c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Clu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Windshield wi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Gearbo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Accel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5. Mechanism, which is used to guide the car in one or the other dir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Propeller sha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Brak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Rear ax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Steering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. Device, which is designed to measure the speed of the c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He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Windscr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Speedome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kilome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Заголовок 1" descr=""/>
          <p:cNvPicPr/>
          <p:nvPr/>
        </p:nvPicPr>
        <p:blipFill>
          <a:blip r:embed="rId1"/>
          <a:stretch/>
        </p:blipFill>
        <p:spPr>
          <a:xfrm>
            <a:off x="1792440" y="291960"/>
            <a:ext cx="6613200" cy="10861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>
            <a:off x="178920" y="148392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Paul: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i, Max! They say you are a good motor mechanic. Is it very difficult to  repair cars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Max: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, not very. A repairman must know everything about cars, their main parts, accessories and functionin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P: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d what are the main parts of the automobile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M: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They are:....... and ...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P: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h, I know, the engine is the source of power. Is it a complicated  mechanism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M: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o some extent it is. It includes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… ,…,…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d ... system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1"/>
          <p:cNvGrpSpPr/>
          <p:nvPr/>
        </p:nvGrpSpPr>
        <p:grpSpPr>
          <a:xfrm>
            <a:off x="853920" y="79200"/>
            <a:ext cx="7780320" cy="1411560"/>
            <a:chOff x="853920" y="79200"/>
            <a:chExt cx="7780320" cy="1411560"/>
          </a:xfrm>
        </p:grpSpPr>
        <p:pic>
          <p:nvPicPr>
            <p:cNvPr id="635" name="Picture 2" descr=""/>
            <p:cNvPicPr/>
            <p:nvPr/>
          </p:nvPicPr>
          <p:blipFill>
            <a:blip r:embed="rId2"/>
            <a:stretch/>
          </p:blipFill>
          <p:spPr>
            <a:xfrm>
              <a:off x="853920" y="79200"/>
              <a:ext cx="7780320" cy="14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Text Box 3"/>
            <p:cNvSpPr/>
            <p:nvPr/>
          </p:nvSpPr>
          <p:spPr>
            <a:xfrm>
              <a:off x="853920" y="79200"/>
              <a:ext cx="7780320" cy="14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7" name="Picture 4" descr=""/>
          <p:cNvPicPr/>
          <p:nvPr/>
        </p:nvPicPr>
        <p:blipFill>
          <a:blip r:embed="rId3"/>
          <a:stretch/>
        </p:blipFill>
        <p:spPr>
          <a:xfrm>
            <a:off x="1476360" y="1773360"/>
            <a:ext cx="6381720" cy="478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1"/>
          <p:cNvGrpSpPr/>
          <p:nvPr/>
        </p:nvGrpSpPr>
        <p:grpSpPr>
          <a:xfrm>
            <a:off x="450720" y="201600"/>
            <a:ext cx="8239320" cy="1252440"/>
            <a:chOff x="450720" y="201600"/>
            <a:chExt cx="8239320" cy="1252440"/>
          </a:xfrm>
        </p:grpSpPr>
        <p:pic>
          <p:nvPicPr>
            <p:cNvPr id="639" name="Picture 2" descr=""/>
            <p:cNvPicPr/>
            <p:nvPr/>
          </p:nvPicPr>
          <p:blipFill>
            <a:blip r:embed="rId2"/>
            <a:stretch/>
          </p:blipFill>
          <p:spPr>
            <a:xfrm>
              <a:off x="450720" y="201600"/>
              <a:ext cx="8239320" cy="12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Text Box 3"/>
            <p:cNvSpPr/>
            <p:nvPr/>
          </p:nvSpPr>
          <p:spPr>
            <a:xfrm>
              <a:off x="450720" y="201600"/>
              <a:ext cx="823932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41" name="Picture 4" descr=""/>
          <p:cNvPicPr/>
          <p:nvPr/>
        </p:nvPicPr>
        <p:blipFill>
          <a:blip r:embed="rId3"/>
          <a:stretch/>
        </p:blipFill>
        <p:spPr>
          <a:xfrm>
            <a:off x="928800" y="1392120"/>
            <a:ext cx="7286400" cy="5465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1"/>
          <p:cNvGrpSpPr/>
          <p:nvPr/>
        </p:nvGrpSpPr>
        <p:grpSpPr>
          <a:xfrm>
            <a:off x="450720" y="103320"/>
            <a:ext cx="8239320" cy="1441440"/>
            <a:chOff x="450720" y="103320"/>
            <a:chExt cx="8239320" cy="1441440"/>
          </a:xfrm>
        </p:grpSpPr>
        <p:pic>
          <p:nvPicPr>
            <p:cNvPr id="643" name="Picture 2" descr=""/>
            <p:cNvPicPr/>
            <p:nvPr/>
          </p:nvPicPr>
          <p:blipFill>
            <a:blip r:embed="rId2"/>
            <a:stretch/>
          </p:blipFill>
          <p:spPr>
            <a:xfrm>
              <a:off x="450720" y="103320"/>
              <a:ext cx="823932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Text Box 3"/>
            <p:cNvSpPr/>
            <p:nvPr/>
          </p:nvSpPr>
          <p:spPr>
            <a:xfrm>
              <a:off x="450720" y="103320"/>
              <a:ext cx="823932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45" name="Picture 4" descr=""/>
          <p:cNvPicPr/>
          <p:nvPr/>
        </p:nvPicPr>
        <p:blipFill>
          <a:blip r:embed="rId3"/>
          <a:stretch/>
        </p:blipFill>
        <p:spPr>
          <a:xfrm>
            <a:off x="285840" y="1857240"/>
            <a:ext cx="8580240" cy="450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oup 4"/>
          <p:cNvGrpSpPr/>
          <p:nvPr/>
        </p:nvGrpSpPr>
        <p:grpSpPr>
          <a:xfrm>
            <a:off x="108000" y="620640"/>
            <a:ext cx="8927640" cy="5690880"/>
            <a:chOff x="108000" y="620640"/>
            <a:chExt cx="8927640" cy="5690880"/>
          </a:xfrm>
        </p:grpSpPr>
        <p:pic>
          <p:nvPicPr>
            <p:cNvPr id="647" name="Picture 5" descr=""/>
            <p:cNvPicPr/>
            <p:nvPr/>
          </p:nvPicPr>
          <p:blipFill>
            <a:blip r:embed="rId2"/>
            <a:stretch/>
          </p:blipFill>
          <p:spPr>
            <a:xfrm>
              <a:off x="108000" y="620640"/>
              <a:ext cx="8927640" cy="56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Text Box 6"/>
            <p:cNvSpPr/>
            <p:nvPr/>
          </p:nvSpPr>
          <p:spPr>
            <a:xfrm>
              <a:off x="108000" y="620640"/>
              <a:ext cx="8927640" cy="56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Group 1"/>
          <p:cNvGrpSpPr/>
          <p:nvPr/>
        </p:nvGrpSpPr>
        <p:grpSpPr>
          <a:xfrm>
            <a:off x="360360" y="-176040"/>
            <a:ext cx="8518680" cy="958680"/>
            <a:chOff x="360360" y="-176040"/>
            <a:chExt cx="8518680" cy="958680"/>
          </a:xfrm>
        </p:grpSpPr>
        <p:pic>
          <p:nvPicPr>
            <p:cNvPr id="650" name="Picture 2" descr=""/>
            <p:cNvPicPr/>
            <p:nvPr/>
          </p:nvPicPr>
          <p:blipFill>
            <a:blip r:embed="rId2"/>
            <a:stretch/>
          </p:blipFill>
          <p:spPr>
            <a:xfrm>
              <a:off x="360360" y="-176040"/>
              <a:ext cx="851868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Text Box 3"/>
            <p:cNvSpPr/>
            <p:nvPr/>
          </p:nvSpPr>
          <p:spPr>
            <a:xfrm>
              <a:off x="360360" y="-176040"/>
              <a:ext cx="851868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2" name="Group 4"/>
          <p:cNvGrpSpPr/>
          <p:nvPr/>
        </p:nvGrpSpPr>
        <p:grpSpPr>
          <a:xfrm>
            <a:off x="250920" y="981000"/>
            <a:ext cx="8621280" cy="5880240"/>
            <a:chOff x="250920" y="981000"/>
            <a:chExt cx="8621280" cy="5880240"/>
          </a:xfrm>
        </p:grpSpPr>
        <p:pic>
          <p:nvPicPr>
            <p:cNvPr id="653" name="Picture 5" descr=""/>
            <p:cNvPicPr/>
            <p:nvPr/>
          </p:nvPicPr>
          <p:blipFill>
            <a:blip r:embed="rId3"/>
            <a:stretch/>
          </p:blipFill>
          <p:spPr>
            <a:xfrm>
              <a:off x="250920" y="981000"/>
              <a:ext cx="8621280" cy="588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Text Box 6"/>
            <p:cNvSpPr/>
            <p:nvPr/>
          </p:nvSpPr>
          <p:spPr>
            <a:xfrm>
              <a:off x="250920" y="981000"/>
              <a:ext cx="8621280" cy="58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1"/>
          <p:cNvSpPr/>
          <p:nvPr/>
        </p:nvSpPr>
        <p:spPr>
          <a:xfrm>
            <a:off x="285840" y="1071720"/>
            <a:ext cx="86439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7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7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Text Box 2"/>
          <p:cNvSpPr/>
          <p:nvPr/>
        </p:nvSpPr>
        <p:spPr>
          <a:xfrm>
            <a:off x="214200" y="857160"/>
            <a:ext cx="89298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s of the Automobi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utomobile is made up of three basic parts: the power plant, or the engine, the chassis and the bod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eng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 the source of power that makes the wheels rotate and the car move. It includes fuel, cooling, lubricating and electric systems. Most automobile engines have six or eight cylind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hass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a power train (power transmission), a running gear, steering and braking systems as wel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1"/>
          <p:cNvSpPr/>
          <p:nvPr/>
        </p:nvSpPr>
        <p:spPr>
          <a:xfrm>
            <a:off x="28584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7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7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7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7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2"/>
          <p:cNvSpPr/>
          <p:nvPr/>
        </p:nvSpPr>
        <p:spPr>
          <a:xfrm>
            <a:off x="214200" y="357120"/>
            <a:ext cx="871560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wer train carries the power from the engine to the car whe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wer transmission, in turn, contains the clutch, gearbox, propeller or cardan shaft, final drive, differential, real axle shafts. The running gear consists of a frame with axles, wheels and spr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bod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 hood, fenders and accessories: the heater, stereo tape recorder, windshield wipers, conditioner, speedometer and so 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Заголовок 1" descr=""/>
          <p:cNvPicPr/>
          <p:nvPr/>
        </p:nvPicPr>
        <p:blipFill>
          <a:blip r:embed="rId1"/>
          <a:stretch/>
        </p:blipFill>
        <p:spPr>
          <a:xfrm>
            <a:off x="176040" y="-30240"/>
            <a:ext cx="9163080" cy="55468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 txBox="1"/>
          <p:nvPr/>
        </p:nvSpPr>
        <p:spPr>
          <a:xfrm>
            <a:off x="356760" y="2060640"/>
            <a:ext cx="822636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1. What main parts is the automobile made up of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2. What is the function of the engine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3. What system does the engine include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4. What does the chassis consist of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5.What units does the power transmission contain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6.What assemblies does the running gear consist of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7. What has the body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</cp:lastModifiedBy>
  <dcterms:modified xsi:type="dcterms:W3CDTF">2022-11-18T10:07:52Z</dcterms:modified>
  <cp:revision>59</cp:revision>
  <dc:subject/>
  <dc:title>внешний и внутренний вид автомобиля</dc:title>
</cp:coreProperties>
</file>