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98AF4-6502-4CD3-84B5-FD6F811D6F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FED7-7D3E-4223-B0BA-7E5D17C8F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6FA96-1ACA-411F-A20F-C300506C8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5D808-C67A-44B6-A8A4-F8A31FD9A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2A3CA-F71A-4E3E-83AF-1A991DF1D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F55F9-BFD4-42D7-BB6B-A7567B5A5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2387-D861-431F-9651-1FB553779C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131A-DE1F-411A-AA86-FEFC72F056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C9AD0-84FE-4E4F-90D3-68698C1C8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6D772-53E1-47B3-A01E-FE4F2E5BF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9F292-F825-4CD4-AFF2-3861C6057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89DB-1804-415F-911C-2634D4A38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71ADC-9840-461B-8AD8-FDD6C80A88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11F7F-74B9-487D-911D-F3FAE3FE14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9DB9-5E8E-48EE-B8EF-196A5B6FF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A2016-4B58-41E4-BC58-B640B0998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84713-4303-48AF-A666-5333E05632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FDD9B-03EF-4B2E-8750-655A207C8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25A-A0C9-4426-BA7A-13F6D560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239-E6CA-4506-AA31-3C4B0AA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A0D5-8BCC-42C0-80B6-960CF22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6169-3011-41AC-ACF5-D530DE27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DDEB-9822-42BC-B6A4-527F860B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4851-C8D9-4AC6-A1C8-46F2931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82CA-E49E-4B67-BC73-59B3AAD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C6770-D243-4013-AD3D-DC5F1C6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FA39-AC62-4C71-888A-C27FD29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F8BD-E2E5-4D7A-8D82-E8183F08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98489-8001-4E8C-AF55-10F24BAD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1EC08-88A9-4BF8-AF08-EB6B344E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5EC-7B5B-4F40-B796-40BE40C4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98612-2C59-4DB8-AB37-93B7F23D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EBE48-B2A5-4CCD-9061-D9594F2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2E72E-B47C-40E7-91B6-69E4ED80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5C26-2872-4C91-A236-686BE7E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4DFAB-B0AE-4E43-B2C6-6C954A8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71ED9-F8FF-4DB4-AE65-6CD8FD1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8C17A-A048-44BE-BFFC-D57D8866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42E59-2C23-4791-9116-089951A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6FCC0-1C50-4E00-A921-5E8F593D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AEA4D-3876-4D4F-AAF2-184310F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8EC-BD9B-4168-8649-E40E6C74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C982-B554-442A-9887-FA25712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2F641-6A5B-4A42-9281-2513D2A7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8EEAF-1D95-406F-AD1B-EDB04658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DA7B3-2427-491C-8D06-DAC18ABD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DC12-A33E-4AC7-8704-A89CA80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47039-C8E0-4BEB-8941-5AC539CD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B57EF-8F21-4906-80E4-FEFF4FAB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02ADC-8BCC-41C0-99D6-0EBD69A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80DF-E619-4CD2-8E47-93871B0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8289-A6DB-4495-87D4-636D35A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6AC7-A697-481C-8EB6-8A0F241D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778E-1FFC-415D-95F2-DD1131F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86AE3-52BA-4C08-A851-F002657B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2317-0DA9-4A1F-B813-BBA231CE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1A332-F8EB-4F3A-B49B-488B01C0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834DA-59C4-4C8B-8F34-96914CA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1B4EA-5AFA-4221-BD51-1727675C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0878F-0E38-4B67-BDF2-FF5FD6C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88E31-91AD-42B4-9ACB-750F4A0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57A5A-13C1-4666-A18E-67D6FD7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25F7A-3DC0-4012-88C9-AC3698A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007-87D5-4884-9645-3CA1470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B0281-4237-454B-84D4-8F75E863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7CDF7-844F-491D-9A4A-88B7659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A1FB5-75D7-41BD-A616-41E3BC9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EB1CB-FE81-4229-9112-7E7C4CF0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A94D-9E05-4C0B-BEA6-8A47574F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BF4-A92C-407D-8C24-C30C559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59F-7855-457F-92CA-408D777E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CF10-49A8-4A9B-A90D-16144CC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589-9F65-45E3-B0B3-4D7950F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F01-BD51-4F55-9B13-6AAD1F6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611-B633-413D-A9E0-38BA4BE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A84-288B-4BAE-BB44-9FC8156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BC0-9111-4B4D-8879-8EA3B4CA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409-8EF7-41E9-92E6-0F7EE57A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508E-DEAF-4A84-ACE2-1F483804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957-A720-4E37-8DC5-2D7C5616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B744-7566-4323-B165-4069ED42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6F2D-DD51-40C8-A77F-7CA0086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D040-27ED-467A-8E82-8B7C965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8778-3596-4B89-84EE-EC73AA73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8A8D-532D-4502-8598-4D7F63AC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55D-AD86-4BB0-965F-6245A8FC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2B6F-58D7-4FED-BB04-387BC9A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11A8-A921-4978-A2ED-2C8C1A2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6866-0EE0-40E8-8C3C-A38C28A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82DE-D03E-4E23-ABC8-DC863B4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1CCF-9E04-47FC-A432-54916DF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43F5-536C-42EF-8FFB-10FC2888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0DAB-A6AB-4592-A028-54193629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6A59-793A-4CC9-A6F8-1AA2FF2A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3727-2B6F-4723-8819-B4CDDD8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1915-A6E3-4820-B02F-BDC9910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18A-15DE-49FA-92DF-73F63486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9D52-2A8D-4810-9BE6-9AF89F6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DF80-DA62-40D6-9634-6696FA2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FCC6-68A7-4247-8711-C34E490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1C23-846C-4B90-86D0-B452B2F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E595-1B0C-41AD-AC69-F42498D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BAD1-DD0B-4975-8689-CC1A5A7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A74D-E2D1-4C74-9407-D881640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7000-B485-4D2A-BFA8-1753D29F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6322-4550-4562-9880-95BE7716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22C7-AFE3-4E97-9B19-37CAEA99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A96-052D-4F42-BB69-A3C9AB5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6C12-2919-4F5C-83A2-6AD62CC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BC99-56C8-4CAA-8AC0-D439306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6635-5B1F-4EB6-90A9-7F475A7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1A43-2E5A-442C-8DFD-0465895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211D-9FB2-41AB-9638-95792F46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169F-9D05-471A-8536-F31517E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0822-4C8B-4C9D-AD06-77EA5CC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5834-A562-4ABF-ACA7-9B91378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048CE-EF41-4207-A134-363C2693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ED70-8BC6-4862-9D99-1EEA0042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63C-C8C9-48D3-8C15-98C9D2D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999E-5F0A-48C8-BD66-82C34F1D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53BD-95C4-4297-A570-D9AEEECD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C39FA-29BF-475A-BBF7-62E2886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0121-75E1-46D0-A018-CBF572E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3B00-99FE-459B-BB84-D6616B6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21B4-867D-4E11-B9DB-73AF20CA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C422-6459-48F9-B8D7-938DBCF4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E8CF-6029-4EF7-82AB-412C3CA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5156-A57A-471C-92FB-35714D9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CC24-BBA9-4489-9576-BC646A0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B22-9832-45B1-AB64-0395E9C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D956-DFF6-4780-8DC5-4ACC7AD5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DA4A-9B96-4DA7-8965-B3CD4406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FB36-40A9-4B55-9216-11DE8343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6B0F-1FE4-4AD0-AF69-64A5C4E9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BC10-957B-4EA1-AB63-BDDE37AC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6850-00E8-479B-8E82-D9F012FE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DC3B-7414-4577-9F4C-EC2B1F69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FBD42-8D78-4D9D-83C6-247B4DB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02B3-C317-4D81-92BB-C55F8128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4E712-54FA-459F-AF27-B8569B31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147-A850-4F65-B317-7F63C67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E203-0285-4C77-AAEA-C5DBA500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9C7B-DC23-406C-9453-6DA09EF3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9BEA-B1A5-402E-9D79-4F0AEA6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CA0F3-3F9E-48AD-96C4-4DEB26DD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4077-5729-48B4-BAA8-B035DE47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18CF-2D06-43BB-BE5A-E6F0AC3F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C43B-9003-40CC-9D17-D441E85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645F-32A5-430A-B268-865AD3A9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330E-F187-4E36-B5BB-8BFF7CCA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F68A4-AAE4-43CA-96B0-1AFBBC6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ACF-2AC1-4BF7-B6D0-DB4E08D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7533-D862-4218-93D6-947F712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DA77-B399-4493-9558-EB9FC0F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37E2-5A11-4B76-9C0B-1BD5C63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812D-1B20-4D7C-BA29-8BD18F2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D8C7-EFB3-4DD4-956A-26C647A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B4C12-5459-458B-A81B-836E36C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062F-86C1-4586-9535-2EFA9E60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EFC3F-7172-41AD-AD5C-8DA7841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3F6B-6702-4F49-9C0A-A52BC2A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91282-030C-4539-8428-6F68435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12BEE1-76B4-4149-B843-FB5A0BB905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2AE156-D662-46C5-AD70-438FE0D4F6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760647-58E6-455E-8A85-43BDBDF4C60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4FD55C-5F48-408A-B3C7-EA6ACFDAA5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A0D47A-9947-45BC-9017-BD466458C93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21B07E-D131-4194-8F7C-F19FE817BFE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625DC7-FA6E-4EF2-B7AE-3E849CEEC7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4FB3D7-1D9C-4185-A92D-F45E2D4082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BC3AD7-F172-4635-9D56-C43728F649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26A49-0602-45EA-AFDC-95CE961E63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657715-23DC-4BEE-8AD4-2FB26B2DD21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00CDC3-0B40-4ADF-9C04-FFD1B71A916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1"/>
          <p:cNvGrpSpPr/>
          <p:nvPr/>
        </p:nvGrpSpPr>
        <p:grpSpPr>
          <a:xfrm>
            <a:off x="208080" y="3292560"/>
            <a:ext cx="8724960" cy="1690560"/>
            <a:chOff x="208080" y="3292560"/>
            <a:chExt cx="8724960" cy="169056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>
              <a:off x="208080" y="3292560"/>
              <a:ext cx="872496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3"/>
            <p:cNvSpPr/>
            <p:nvPr/>
          </p:nvSpPr>
          <p:spPr>
            <a:xfrm>
              <a:off x="208080" y="3292560"/>
              <a:ext cx="87249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Заголовок 1" descr=""/>
          <p:cNvPicPr/>
          <p:nvPr/>
        </p:nvPicPr>
        <p:blipFill>
          <a:blip r:embed="rId1"/>
          <a:stretch/>
        </p:blipFill>
        <p:spPr>
          <a:xfrm>
            <a:off x="176040" y="208080"/>
            <a:ext cx="9034560" cy="5308560"/>
          </a:xfrm>
          <a:prstGeom prst="rect">
            <a:avLst/>
          </a:prstGeom>
          <a:ln w="0">
            <a:noFill/>
          </a:ln>
        </p:spPr>
      </p:pic>
      <p:sp>
        <p:nvSpPr>
          <p:cNvPr id="662" name="Прямоугольник 2"/>
          <p:cNvSpPr/>
          <p:nvPr/>
        </p:nvSpPr>
        <p:spPr>
          <a:xfrm>
            <a:off x="500040" y="1428840"/>
            <a:ext cx="7888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1. Mechanism, which is used to stop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2. Mechanism, which is used to guide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3.Mechanism, which engages or disengages the engine and the car whe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Прямоугольник 1"/>
          <p:cNvSpPr/>
          <p:nvPr/>
        </p:nvSpPr>
        <p:spPr>
          <a:xfrm>
            <a:off x="285840" y="85716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4. Mechanism, which is used to change the speed of the c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hield wi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5. Mechanism, which is used to guide the car in one or the other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Propeller sh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Rear ax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. Device, which is designed to measure the speed of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He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peed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kil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Заголовок 1" descr=""/>
          <p:cNvPicPr/>
          <p:nvPr/>
        </p:nvPicPr>
        <p:blipFill>
          <a:blip r:embed="rId1"/>
          <a:stretch/>
        </p:blipFill>
        <p:spPr>
          <a:xfrm>
            <a:off x="1792440" y="291960"/>
            <a:ext cx="6613200" cy="10861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17892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ul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, Max! They say you are a good motor mechanic. Is it very difficult to  repair ca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ax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, not very. A repairman must know everything about cars, their main parts, accessories and function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what are the main parts of the automobil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They are:....... and .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h, I know, the engine is the source of power. Is it a complicated  mechanism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some extent it is. It includes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… ,…,…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... system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"/>
          <p:cNvGrpSpPr/>
          <p:nvPr/>
        </p:nvGrpSpPr>
        <p:grpSpPr>
          <a:xfrm>
            <a:off x="853920" y="79200"/>
            <a:ext cx="7780320" cy="1411560"/>
            <a:chOff x="853920" y="79200"/>
            <a:chExt cx="7780320" cy="1411560"/>
          </a:xfrm>
        </p:grpSpPr>
        <p:pic>
          <p:nvPicPr>
            <p:cNvPr id="635" name="Picture 2" descr=""/>
            <p:cNvPicPr/>
            <p:nvPr/>
          </p:nvPicPr>
          <p:blipFill>
            <a:blip r:embed="rId2"/>
            <a:stretch/>
          </p:blipFill>
          <p:spPr>
            <a:xfrm>
              <a:off x="853920" y="79200"/>
              <a:ext cx="7780320" cy="14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3"/>
            <p:cNvSpPr/>
            <p:nvPr/>
          </p:nvSpPr>
          <p:spPr>
            <a:xfrm>
              <a:off x="853920" y="79200"/>
              <a:ext cx="77803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7" name="Picture 4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1"/>
          <p:cNvGrpSpPr/>
          <p:nvPr/>
        </p:nvGrpSpPr>
        <p:grpSpPr>
          <a:xfrm>
            <a:off x="450720" y="201600"/>
            <a:ext cx="8239320" cy="1252440"/>
            <a:chOff x="450720" y="201600"/>
            <a:chExt cx="8239320" cy="1252440"/>
          </a:xfrm>
        </p:grpSpPr>
        <p:pic>
          <p:nvPicPr>
            <p:cNvPr id="639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201600"/>
              <a:ext cx="823932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3"/>
            <p:cNvSpPr/>
            <p:nvPr/>
          </p:nvSpPr>
          <p:spPr>
            <a:xfrm>
              <a:off x="450720" y="201600"/>
              <a:ext cx="823932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1" name="Picture 4" descr=""/>
          <p:cNvPicPr/>
          <p:nvPr/>
        </p:nvPicPr>
        <p:blipFill>
          <a:blip r:embed="rId3"/>
          <a:stretch/>
        </p:blipFill>
        <p:spPr>
          <a:xfrm>
            <a:off x="928800" y="139212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"/>
          <p:cNvGrpSpPr/>
          <p:nvPr/>
        </p:nvGrpSpPr>
        <p:grpSpPr>
          <a:xfrm>
            <a:off x="450720" y="103320"/>
            <a:ext cx="8239320" cy="1441440"/>
            <a:chOff x="450720" y="103320"/>
            <a:chExt cx="8239320" cy="1441440"/>
          </a:xfrm>
        </p:grpSpPr>
        <p:pic>
          <p:nvPicPr>
            <p:cNvPr id="643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103320"/>
              <a:ext cx="823932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3"/>
            <p:cNvSpPr/>
            <p:nvPr/>
          </p:nvSpPr>
          <p:spPr>
            <a:xfrm>
              <a:off x="450720" y="103320"/>
              <a:ext cx="823932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285840" y="1857240"/>
            <a:ext cx="858024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4"/>
          <p:cNvGrpSpPr/>
          <p:nvPr/>
        </p:nvGrpSpPr>
        <p:grpSpPr>
          <a:xfrm>
            <a:off x="108000" y="620640"/>
            <a:ext cx="8927640" cy="5690880"/>
            <a:chOff x="108000" y="620640"/>
            <a:chExt cx="8927640" cy="5690880"/>
          </a:xfrm>
        </p:grpSpPr>
        <p:pic>
          <p:nvPicPr>
            <p:cNvPr id="647" name="Picture 5" descr=""/>
            <p:cNvPicPr/>
            <p:nvPr/>
          </p:nvPicPr>
          <p:blipFill>
            <a:blip r:embed="rId2"/>
            <a:stretch/>
          </p:blipFill>
          <p:spPr>
            <a:xfrm>
              <a:off x="108000" y="620640"/>
              <a:ext cx="8927640" cy="56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108000" y="620640"/>
              <a:ext cx="8927640" cy="56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1"/>
          <p:cNvGrpSpPr/>
          <p:nvPr/>
        </p:nvGrpSpPr>
        <p:grpSpPr>
          <a:xfrm>
            <a:off x="360360" y="-176040"/>
            <a:ext cx="8518680" cy="958680"/>
            <a:chOff x="360360" y="-176040"/>
            <a:chExt cx="8518680" cy="958680"/>
          </a:xfrm>
        </p:grpSpPr>
        <p:pic>
          <p:nvPicPr>
            <p:cNvPr id="650" name="Picture 2" descr=""/>
            <p:cNvPicPr/>
            <p:nvPr/>
          </p:nvPicPr>
          <p:blipFill>
            <a:blip r:embed="rId2"/>
            <a:stretch/>
          </p:blipFill>
          <p:spPr>
            <a:xfrm>
              <a:off x="360360" y="-176040"/>
              <a:ext cx="8518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3"/>
            <p:cNvSpPr/>
            <p:nvPr/>
          </p:nvSpPr>
          <p:spPr>
            <a:xfrm>
              <a:off x="360360" y="-176040"/>
              <a:ext cx="85186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4"/>
          <p:cNvGrpSpPr/>
          <p:nvPr/>
        </p:nvGrpSpPr>
        <p:grpSpPr>
          <a:xfrm>
            <a:off x="250920" y="981000"/>
            <a:ext cx="8621280" cy="5880240"/>
            <a:chOff x="250920" y="981000"/>
            <a:chExt cx="8621280" cy="5880240"/>
          </a:xfrm>
        </p:grpSpPr>
        <p:pic>
          <p:nvPicPr>
            <p:cNvPr id="653" name="Picture 5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8621280" cy="58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6"/>
            <p:cNvSpPr/>
            <p:nvPr/>
          </p:nvSpPr>
          <p:spPr>
            <a:xfrm>
              <a:off x="250920" y="981000"/>
              <a:ext cx="8621280" cy="58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1"/>
          <p:cNvSpPr/>
          <p:nvPr/>
        </p:nvSpPr>
        <p:spPr>
          <a:xfrm>
            <a:off x="285840" y="1071720"/>
            <a:ext cx="86439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214200" y="857160"/>
            <a:ext cx="8929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of the Automob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mobile is made up of three basic parts: the power plant, or the engine, the chassis a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ng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 the source of power that makes the wheels rotate and the car move. It includes fuel, cooling, lubricating and electric systems. Most automobile engines have six or eight cylind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has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 power train (power transmission), a running gear, steering and braking systems as wel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1"/>
          <p:cNvSpPr/>
          <p:nvPr/>
        </p:nvSpPr>
        <p:spPr>
          <a:xfrm>
            <a:off x="28584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214200" y="357120"/>
            <a:ext cx="8715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in carries the power from the engine to the car wh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nsmission, in turn, contains the clutch, gearbox, propeller or cardan shaft, final drive, differential, real axle shafts. The running gear consists of a frame with axles, wheels and spr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hood, fenders and accessories: the heater, stereo tape recorder, windshield wipers, conditioner, speedome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1" descr=""/>
          <p:cNvPicPr/>
          <p:nvPr/>
        </p:nvPicPr>
        <p:blipFill>
          <a:blip r:embed="rId1"/>
          <a:stretch/>
        </p:blipFill>
        <p:spPr>
          <a:xfrm>
            <a:off x="176040" y="-30240"/>
            <a:ext cx="9163080" cy="5546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356760" y="2060640"/>
            <a:ext cx="822636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. What main parts is the automobile made up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. What is the function of the engin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. What system does the engine includ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. What does the chassis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.What units does the power transmission contain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.What assemblies does the running gear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. What has the body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</cp:lastModifiedBy>
  <dcterms:modified xsi:type="dcterms:W3CDTF">2022-11-18T10:07:52Z</dcterms:modified>
  <cp:revision>59</cp:revision>
  <dc:subject/>
  <dc:title>внешний и внутренний вид автомобиля</dc:title>
</cp:coreProperties>
</file>