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A119E-BD8C-4014-B242-4C60B090B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9617C-D381-4260-920E-BDB41083C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E0B6F-49C7-47E7-A6D9-B6AFAF950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58363-1514-480A-97DA-C486B76F1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37DF7-7F01-41B9-8FA8-6BEEAA1F8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123B4-990F-4B89-8DF2-F29DC17B7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27985-691C-4F75-B599-1D1C6C025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B7604-F3BF-46B9-8AA2-C7A33C905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C1D01-321D-4DA0-8890-D5BF8B1A8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C92FE-9B8B-48F6-8EA9-0551F94BA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182A9-23FE-4203-B983-45AD42548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62D6D-937F-4BE3-A52B-0908F18FB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B1C4D-84CA-4CD3-AFF3-7F4C54896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AE51E-38EE-477C-849E-FE179FBE3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F1774-EA61-45BA-8121-ED0AFB639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85C98-2F8A-41F5-800D-72BBB9F3C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A677C-B507-4E7D-84D0-BC3D50153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79A5D8-D834-476E-9426-E619857229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8F616C-CB4B-42E3-B663-EBF543AAF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6AE3E-7826-4BCC-BE47-57846BF855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8E4430-4277-4A6C-8952-673F74D3D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D3C3AF-0E34-480B-84B3-46131F031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19F8F-537F-42CD-A873-0874CE1E4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C66CB6-991D-495C-A181-ED399E19B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0C470-4AE5-48FE-BA5A-FD52DA298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7DFCF-45B6-4DD3-8260-A3D9D429B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806CD-9243-4A9C-B94F-3246109F47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D0128E-3FFD-43BD-8EFC-5D5CFF1AD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57D344-FB3D-4986-BB1A-1BD7A4D246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D8A76A-BE8A-4CAE-9B17-1C1CAA4B19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562477-8A74-4740-B165-FD8B287D51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95D192-887F-4B4F-BCFD-101641F7C8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78CDF5-B0F1-49EA-AB2E-3638699284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7E6CA-71C8-4D05-B9B8-DEEBAC695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049245-F39F-4925-8C2B-B22CB985DA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6E27FD-5A06-47F3-8CA0-B4EBBD7F9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FED6C-3B95-49DB-A82B-E522ADA82D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49429-1FFB-47A3-A635-F1477E9B5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C462B-933C-4D02-8001-2BBF165DD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B18F3-D707-48F3-A035-E322243608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787B9C-FE0F-42FE-BE25-840BFE7E7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D5E263-A397-4036-B026-67AF878667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2B2C6B-B41B-42E2-9AEB-7CBF033EE9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F06153-4626-411B-8579-9B836CFB14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86278-DEA4-4A6E-B8BA-4825713F1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9941C2-1232-4209-BD42-AE573500AA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23BB22-6BD8-47AC-B560-7D2EB81D66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1F61F1-0E3F-43FB-9BE4-2793DD719C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7733E-AB1A-4489-A0CF-45F5CA800B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17B214-4784-46B6-8DA7-A0DA9966D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A91F8-6A8D-43D2-8DCE-99F50496B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D964DD-4821-4EC7-A3B9-31CFC294F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1BB6A-48BB-4285-A692-CC3D0972A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38C57D-BF55-4729-AD0F-3EFF590948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82C7A3-E363-434D-8BBA-D33C94EAB0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77E37-07D0-43E6-B014-260C8A582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09C7F3-488D-46D7-9F1C-ACA651BAEE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8A9901-FF6F-4EB5-861C-F50B88330F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B543E4-3E9B-42AD-A0E6-ED00A56484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8CF07-EC2A-44C8-942E-55DA2A3DB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B98454-73D2-49BE-B2D0-CC653EF0E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B71EB3-669E-4F31-9741-24BC08D3BB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430F6C-D178-42C2-9D2E-B2E8157ECB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F8B2D-435E-4341-9A46-DAD2C314E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1DF9F-45E3-422E-AF37-8F6DB389A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3C074-1E2C-47CC-A85A-5868FD1ACE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E4570-5B50-4A94-A3C1-F37876B7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337F4-0BAE-465D-BD24-776C6A9751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3AB407-CA45-4853-B4FD-8FCEBF018D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3D5A90-C469-40F8-80FD-73E5B2806E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77CA4-BF4F-4347-BF5F-9A5F14D3B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4B804-9C48-4132-905B-259010166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7982-3627-498C-AE35-02C56521C5FF}"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0912-ED6C-48AD-A1AE-3351BBC2AEAD}"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7" name="Скругленный прямоугольник 10"/>
          <p:cNvGrpSpPr/>
          <p:nvPr/>
        </p:nvGrpSpPr>
        <p:grpSpPr>
          <a:xfrm>
            <a:off x="414360" y="426960"/>
            <a:ext cx="8315280" cy="3121200"/>
            <a:chOff x="414360" y="426960"/>
            <a:chExt cx="8315280" cy="3121200"/>
          </a:xfrm>
        </p:grpSpPr>
        <p:pic>
          <p:nvPicPr>
            <p:cNvPr id="88"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A6EC-982E-4B72-8786-5DF460587E1A}"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1"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2" name="Скругленный прямоугольник 10"/>
          <p:cNvGrpSpPr/>
          <p:nvPr/>
        </p:nvGrpSpPr>
        <p:grpSpPr>
          <a:xfrm>
            <a:off x="414360" y="426960"/>
            <a:ext cx="8315280" cy="4353120"/>
            <a:chOff x="414360" y="426960"/>
            <a:chExt cx="8315280" cy="4353120"/>
          </a:xfrm>
        </p:grpSpPr>
        <p:pic>
          <p:nvPicPr>
            <p:cNvPr id="133"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1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88C1-108C-43DA-B75B-EF9E42F1C5E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7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9"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6B1E-7494-4216-9E6B-9879A297744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8"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2"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432F-F3E0-4932-A6DE-A3B58B4C47D8}"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8400" y="-1643040"/>
            <a:ext cx="7993080" cy="5184720"/>
          </a:xfrm>
          <a:prstGeom prst="rect">
            <a:avLst/>
          </a:prstGeom>
          <a:noFill/>
          <a:ln w="0">
            <a:noFill/>
          </a:ln>
        </p:spPr>
        <p:txBody>
          <a:bodyPr lIns="45720" rIns="45720" t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71f28"/>
                </a:solidFill>
                <a:latin typeface="DejaVu Serif Condensed"/>
              </a:rPr>
              <a:t>Суицидальное поведение как особый вид отклоняющегося поведения подростков</a:t>
            </a:r>
            <a:endParaRPr b="1" lang="en-US" sz="3600" spc="-1" strike="noStrike">
              <a:solidFill>
                <a:srgbClr val="ff8d3e"/>
              </a:solidFill>
              <a:latin typeface="Verdana"/>
            </a:endParaRPr>
          </a:p>
        </p:txBody>
      </p:sp>
      <p:sp>
        <p:nvSpPr>
          <p:cNvPr id="262" name="PlaceHolder 2"/>
          <p:cNvSpPr>
            <a:spLocks noGrp="1"/>
          </p:cNvSpPr>
          <p:nvPr>
            <p:ph type="subTitle"/>
          </p:nvPr>
        </p:nvSpPr>
        <p:spPr>
          <a:xfrm>
            <a:off x="2050560" y="7788240"/>
            <a:ext cx="5721480" cy="7128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 spc="-1" strike="noStrike">
              <a:solidFill>
                <a:srgbClr val="79766f"/>
              </a:solidFill>
              <a:latin typeface="Verdana"/>
            </a:endParaRPr>
          </a:p>
        </p:txBody>
      </p:sp>
      <p:sp>
        <p:nvSpPr>
          <p:cNvPr id="263" name="TextBox 3"/>
          <p:cNvSpPr/>
          <p:nvPr/>
        </p:nvSpPr>
        <p:spPr>
          <a:xfrm>
            <a:off x="4286160" y="4786200"/>
            <a:ext cx="45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НСУЛЬТАЦИЯ ДЛЯ ПЕДАГОГОВ</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едагог-психолог Строева К.Н.</a:t>
            </a:r>
            <a:endParaRPr b="0" lang="en-US" sz="18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Поведенческие индикаторы суицидального риска:</a:t>
            </a:r>
            <a:endParaRPr b="0" lang="en-US" sz="3600" spc="-1" strike="noStrike">
              <a:solidFill>
                <a:srgbClr val="000000"/>
              </a:solidFill>
              <a:latin typeface="Calibri"/>
            </a:endParaRPr>
          </a:p>
        </p:txBody>
      </p:sp>
      <p:sp>
        <p:nvSpPr>
          <p:cNvPr id="282" name=""/>
          <p:cNvSpPr txBox="1"/>
          <p:nvPr/>
        </p:nvSpPr>
        <p:spPr>
          <a:xfrm>
            <a:off x="395280" y="1600200"/>
            <a:ext cx="8291520" cy="4997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лоупотребление психоактивными веществами, алкоголем;</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скейп – реакции (уход из дома и т.п.);</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менение привычек, например, несоблюдение правил личной гигиены, ухода за внешностью;</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едпочтение тем разговора и чтения, связанных со смертью и самоубийствами;</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ведение дел в порядок» (письма к родственникам и друзьям, раздаривание личных вещей).</a:t>
            </a:r>
            <a:endParaRPr b="0" lang="en-US" sz="2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Коммуникативные индикаторы суицидального риска:</a:t>
            </a:r>
            <a:endParaRPr b="0" lang="en-US" sz="3600" spc="-1" strike="noStrike">
              <a:solidFill>
                <a:srgbClr val="000000"/>
              </a:solidFill>
              <a:latin typeface="Calibri"/>
            </a:endParaRPr>
          </a:p>
        </p:txBody>
      </p:sp>
      <p:sp>
        <p:nvSpPr>
          <p:cNvPr id="284" name=""/>
          <p:cNvSpPr txBox="1"/>
          <p:nvPr/>
        </p:nvSpPr>
        <p:spPr>
          <a:xfrm>
            <a:off x="468000" y="1914480"/>
            <a:ext cx="8218440" cy="4216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гативная триада, характерная для депрессивных состояний: негативная оценка своей личности, окружающего мира и будущего;</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уннельное поведение» - неспособность увидеть иные приемлемые пути решения проблемы кроме суицид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личие суицидальных мыслей, намерений, планов;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пульсивность как характерологическая черта играет важную роль в  суицидальном поведении;</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ступность средств суицида (фармакологические препараты и т.п.).</a:t>
            </a:r>
            <a:endParaRPr b="0" lang="en-US" sz="24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Эмоциональные индикаторы суицидального риска:</a:t>
            </a:r>
            <a:endParaRPr b="0" lang="en-US" sz="3600" spc="-1" strike="noStrike">
              <a:solidFill>
                <a:srgbClr val="000000"/>
              </a:solidFill>
              <a:latin typeface="Calibri"/>
            </a:endParaRPr>
          </a:p>
        </p:txBody>
      </p:sp>
      <p:sp>
        <p:nvSpPr>
          <p:cNvPr id="286" name=""/>
          <p:cNvSpPr txBox="1"/>
          <p:nvPr/>
        </p:nvSpPr>
        <p:spPr>
          <a:xfrm>
            <a:off x="468000" y="1843200"/>
            <a:ext cx="8218440" cy="428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мбивалентность по отношению к жиз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прессивное настроение: безразличие к своей судьбе, подавленность, безнадежность, отчаяни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реживание горя.</a:t>
            </a:r>
            <a:endParaRPr b="0" lang="en-US" sz="32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79280" y="277920"/>
            <a:ext cx="8507520" cy="199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DejaVu Serif Condensed"/>
              </a:rPr>
              <a:t>Средства решения проблем.</a:t>
            </a:r>
            <a:br>
              <a:rPr sz="5400"/>
            </a:br>
            <a:endParaRPr b="0" lang="en-US" sz="5400" spc="-1" strike="noStrike">
              <a:solidFill>
                <a:srgbClr val="000000"/>
              </a:solidFill>
              <a:latin typeface="Calibri"/>
            </a:endParaRPr>
          </a:p>
        </p:txBody>
      </p:sp>
      <p:sp>
        <p:nvSpPr>
          <p:cNvPr id="288" name=""/>
          <p:cNvSpPr txBox="1"/>
          <p:nvPr/>
        </p:nvSpPr>
        <p:spPr>
          <a:xfrm>
            <a:off x="539280" y="2278080"/>
            <a:ext cx="8147160" cy="38527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Это те «сильные стороны» человека, которые служат основой его жизнестойкости и увеличивают вероятность преодоления кризиса с позитивным балансом.</a:t>
            </a:r>
            <a:endParaRPr b="0" lang="en-US" sz="40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DejaVu Serif Condensed"/>
              </a:rPr>
              <a:t>Внутренние ресурсы</a:t>
            </a:r>
            <a:endParaRPr b="0" lang="en-US" sz="4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Инстинкт самосохранения;</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Интеллект;</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Социальный опыт;</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Коммуникативный потенциал;</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Позитивный опыт решения проблем.</a:t>
            </a:r>
            <a:endParaRPr b="0" lang="en-US" sz="4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DejaVu Serif Condensed"/>
              </a:rPr>
              <a:t>Внешние ресурсы</a:t>
            </a:r>
            <a:endParaRPr b="0" lang="en-US" sz="48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Поддержка семьи;</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Поддержка друзей;</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Приверженность религии;</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Медицинская помощь;</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Индивидуальная психотерапевтическая программа.</a:t>
            </a:r>
            <a:endParaRPr b="0" lang="en-US" sz="40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Помощь при потенциальном суициде.</a:t>
            </a:r>
            <a:endParaRPr b="0" lang="en-US" sz="36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DejaVu Serif Condensed"/>
              </a:rPr>
              <a:t>Распознавание суицидальной опасности, разговор с суицидентом о его намерениях – это первая помощь.</a:t>
            </a:r>
            <a:endParaRPr b="0" lang="en-US" sz="48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Принципы и шаги работы в данной ситуации:</a:t>
            </a:r>
            <a:endParaRPr b="0" lang="en-US" sz="36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давать вопросы о самоубийстве, не избегать этой темы.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становление эмпатического контакта, отношений довер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пределение степени риска суицидального поведения и вероятности смертельного исход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работка совместного решения о дальнейших действиях.</a:t>
            </a:r>
            <a:endParaRPr b="0" lang="en-US" sz="32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277920"/>
            <a:ext cx="8686800" cy="603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46d7a"/>
                </a:solidFill>
                <a:latin typeface="DejaVu Serif Condensed"/>
              </a:rPr>
              <a:t>Главная задача – побудить отложить суицид, хотя бы временно. Не стоит уговаривать отказаться от суицида, спорить о смысле жизни, можно просто сказать, что вы бы не хотели, чтобы люди уходили из жизни, что вы будете стараться делать всё, чтобы этого не произошло. Таким образом, вы заключаете своего рода договор – </a:t>
            </a:r>
            <a:r>
              <a:rPr b="0" lang="ru-RU" sz="3600" spc="-1" strike="noStrike">
                <a:solidFill>
                  <a:srgbClr val="c00000"/>
                </a:solidFill>
                <a:latin typeface="DejaVu Serif Condensed"/>
              </a:rPr>
              <a:t>антисуицидальный контракт.</a:t>
            </a:r>
            <a:r>
              <a:rPr b="0" lang="ru-RU" sz="4000" spc="-1" strike="noStrike">
                <a:solidFill>
                  <a:srgbClr val="c00000"/>
                </a:solidFill>
                <a:latin typeface="Calibri"/>
              </a:rPr>
              <a:t> </a:t>
            </a:r>
            <a:endParaRPr b="0" lang="en-US" sz="4000" spc="-1" strike="noStrike">
              <a:solidFill>
                <a:srgbClr val="000000"/>
              </a:solidFill>
              <a:latin typeface="Calibri"/>
            </a:endParaRPr>
          </a:p>
        </p:txBody>
      </p:sp>
      <p:sp>
        <p:nvSpPr>
          <p:cNvPr id="298" name=""/>
          <p:cNvSpPr txBox="1"/>
          <p:nvPr/>
        </p:nvSpPr>
        <p:spPr>
          <a:xfrm rot="10800000">
            <a:off x="970920" y="7244640"/>
            <a:ext cx="7715160" cy="144360"/>
          </a:xfrm>
          <a:prstGeom prst="rect">
            <a:avLst/>
          </a:prstGeom>
          <a:noFill/>
          <a:ln w="0">
            <a:noFill/>
          </a:ln>
        </p:spPr>
        <p:txBody>
          <a:bodyPr anchor="t">
            <a:normAutofit/>
          </a:bodyPr>
          <a:p>
            <a:pPr marL="343080" indent="-34308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50560" y="277920"/>
            <a:ext cx="84358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16349"/>
                </a:solidFill>
                <a:latin typeface="DejaVu Serif Condensed"/>
              </a:rPr>
              <a:t>Рекомендации по ведению беседы с потенциальным суицидентом.</a:t>
            </a:r>
            <a:endParaRPr b="0" lang="en-US" sz="4000" spc="-1" strike="noStrike">
              <a:solidFill>
                <a:srgbClr val="000000"/>
              </a:solidFill>
              <a:latin typeface="Calibri"/>
            </a:endParaRPr>
          </a:p>
        </p:txBody>
      </p:sp>
      <p:sp>
        <p:nvSpPr>
          <p:cNvPr id="300" name=""/>
          <p:cNvSpPr txBox="1"/>
          <p:nvPr/>
        </p:nvSpPr>
        <p:spPr>
          <a:xfrm>
            <a:off x="324000" y="1988640"/>
            <a:ext cx="8362800" cy="4869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ыразите свою заинтересованность личностью собеседника, симпатию к нему.</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давайте вопросы прямо, в искренней и спокойной манере; используйте технику активного слушания.</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ыясните, насколько ясный образ будущего суицидального действия сформирован у собеседника: суицидальный план; время и место исполнения; суицидальные мысли и попытки суицида в прошлом; самооценка вероятности своего суицид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4000" y="-528480"/>
            <a:ext cx="8002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Calibri"/>
            </a:endParaRPr>
          </a:p>
        </p:txBody>
      </p:sp>
      <p:sp>
        <p:nvSpPr>
          <p:cNvPr id="265" name=""/>
          <p:cNvSpPr txBox="1"/>
          <p:nvPr/>
        </p:nvSpPr>
        <p:spPr>
          <a:xfrm>
            <a:off x="179280" y="189000"/>
            <a:ext cx="8964720" cy="648000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Суицидальное поведение относится к распространенной патологии поведения подростков.</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До13 – летнего возраста суицидальные попытки практически не встречаются.</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Начиная с 14 – 15 лет эта активность резко возрастает, достигая максимума к 16 – 19 годам.</a:t>
            </a:r>
            <a:endParaRPr b="0" lang="en-US" sz="36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55280" y="-888840"/>
            <a:ext cx="7931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Calibri"/>
            </a:endParaRPr>
          </a:p>
        </p:txBody>
      </p:sp>
      <p:sp>
        <p:nvSpPr>
          <p:cNvPr id="302" name=""/>
          <p:cNvSpPr txBox="1"/>
          <p:nvPr/>
        </p:nvSpPr>
        <p:spPr>
          <a:xfrm>
            <a:off x="323640" y="476280"/>
            <a:ext cx="8569080" cy="6121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ытайтесь выяснить причины и условия формирования суицидальных намерений, но не настаивайте на их обсуждении, если для собеседника это слишком тяжело.</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будите его выразить свои чувства, связанные с проблемной областью.</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просите, приходилось ли ему ранее рассказывать кому – либо о том, что он говорит сейчас. Этот вопрос поможет подтолкнуть собеседника к мысли, что, возможно, главная его проблема в социальной изоляции.</a:t>
            </a:r>
            <a:endParaRPr b="0" lang="en-US" sz="32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50560" y="277920"/>
            <a:ext cx="8435880" cy="617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d130d"/>
                </a:solidFill>
                <a:latin typeface="DejaVu Serif Condensed"/>
              </a:rPr>
              <a:t>Подросток с любыми признаками суицидальной активности должен находиться под постоянным наблюдением взрослых, разумеется, это наблюдение должно быть не назойливым и тактичным. Подростка нельзя предоставлять самому себе.</a:t>
            </a:r>
            <a:endParaRPr b="0" lang="en-US" sz="3600" spc="-1" strike="noStrike">
              <a:solidFill>
                <a:srgbClr val="000000"/>
              </a:solidFill>
              <a:latin typeface="Calibri"/>
            </a:endParaRPr>
          </a:p>
        </p:txBody>
      </p:sp>
      <p:pic>
        <p:nvPicPr>
          <p:cNvPr id="304" name="" descr=""/>
          <p:cNvPicPr/>
          <p:nvPr/>
        </p:nvPicPr>
        <p:blipFill>
          <a:blip r:embed="rId1"/>
          <a:stretch/>
        </p:blipFill>
        <p:spPr>
          <a:xfrm>
            <a:off x="468360" y="7100640"/>
            <a:ext cx="8229600" cy="45306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пользуемая литература:</a:t>
            </a:r>
            <a:endParaRPr b="0" lang="en-US" sz="4400" spc="-1" strike="noStrike">
              <a:solidFill>
                <a:srgbClr val="000000"/>
              </a:solidFill>
              <a:latin typeface="Calibri"/>
            </a:endParaRPr>
          </a:p>
        </p:txBody>
      </p:sp>
      <p:sp>
        <p:nvSpPr>
          <p:cNvPr id="306"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Е.В.Федосенко «Психологическое сопровождение подростков», С-Пб 200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В.Овчарова «Справочная книга школьного психолога», М.: «Просвещение», 199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С.Кон «Психология ранней юности», М.: «Просвещение», 1989.</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В.Сельченок «Методы эффективной психокоррекции», М.: АСТ 200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емья и дети в антинаркотических программах профилактики, коррекции, реабилитации», под редакцией Н.В.Вострокнутова, М.: 2003.</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repl">
                                        <p:cTn id="7" dur="1000" fill="hold"/>
                                        <p:tgtEl>
                                          <p:spTgt spid="305"/>
                                        </p:tgtEl>
                                        <p:attrNameLst>
                                          <p:attrName>ppt_x</p:attrName>
                                        </p:attrNameLst>
                                      </p:cBhvr>
                                      <p:tavLst>
                                        <p:tav tm="0">
                                          <p:val>
                                            <p:strVal val="#ppt_x-.2"/>
                                          </p:val>
                                        </p:tav>
                                        <p:tav tm="100000">
                                          <p:val>
                                            <p:strVal val="#ppt_x"/>
                                          </p:val>
                                        </p:tav>
                                      </p:tavLst>
                                    </p:anim>
                                    <p:anim calcmode="lin" valueType="num">
                                      <p:cBhvr additive="repl">
                                        <p:cTn id="8"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9" dur="1000"/>
                                        <p:tgtEl>
                                          <p:spTgt spid="3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306">
                                            <p:txEl>
                                              <p:pRg st="0" end="0"/>
                                            </p:txEl>
                                          </p:spTgt>
                                        </p:tgtEl>
                                        <p:attrNameLst>
                                          <p:attrName>style.visibility</p:attrName>
                                        </p:attrNameLst>
                                      </p:cBhvr>
                                      <p:to>
                                        <p:strVal val="visible"/>
                                      </p:to>
                                    </p:set>
                                    <p:animEffect filter="fade" transition="in">
                                      <p:cBhvr additive="repl">
                                        <p:cTn id="14" dur="500"/>
                                        <p:tgtEl>
                                          <p:spTgt spid="306">
                                            <p:txEl>
                                              <p:pRg st="0" end="0"/>
                                            </p:txEl>
                                          </p:spTgt>
                                        </p:tgtEl>
                                      </p:cBhvr>
                                    </p:animEffect>
                                    <p:anim calcmode="lin" valueType="num">
                                      <p:cBhvr additive="repl">
                                        <p:cTn id="1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0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306">
                                            <p:txEl>
                                              <p:pRg st="1" end="1"/>
                                            </p:txEl>
                                          </p:spTgt>
                                        </p:tgtEl>
                                        <p:attrNameLst>
                                          <p:attrName>style.visibility</p:attrName>
                                        </p:attrNameLst>
                                      </p:cBhvr>
                                      <p:to>
                                        <p:strVal val="visible"/>
                                      </p:to>
                                    </p:set>
                                    <p:animEffect filter="fade" transition="in">
                                      <p:cBhvr additive="repl">
                                        <p:cTn id="21" dur="500"/>
                                        <p:tgtEl>
                                          <p:spTgt spid="306">
                                            <p:txEl>
                                              <p:pRg st="1" end="1"/>
                                            </p:txEl>
                                          </p:spTgt>
                                        </p:tgtEl>
                                      </p:cBhvr>
                                    </p:animEffect>
                                    <p:anim calcmode="lin" valueType="num">
                                      <p:cBhvr additive="repl">
                                        <p:cTn id="22" dur="5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3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306">
                                            <p:txEl>
                                              <p:pRg st="2" end="2"/>
                                            </p:txEl>
                                          </p:spTgt>
                                        </p:tgtEl>
                                        <p:attrNameLst>
                                          <p:attrName>style.visibility</p:attrName>
                                        </p:attrNameLst>
                                      </p:cBhvr>
                                      <p:to>
                                        <p:strVal val="visible"/>
                                      </p:to>
                                    </p:set>
                                    <p:animEffect filter="fade" transition="in">
                                      <p:cBhvr additive="repl">
                                        <p:cTn id="28" dur="500"/>
                                        <p:tgtEl>
                                          <p:spTgt spid="306">
                                            <p:txEl>
                                              <p:pRg st="2" end="2"/>
                                            </p:txEl>
                                          </p:spTgt>
                                        </p:tgtEl>
                                      </p:cBhvr>
                                    </p:animEffect>
                                    <p:anim calcmode="lin" valueType="num">
                                      <p:cBhvr additive="repl">
                                        <p:cTn id="29"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3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306">
                                            <p:txEl>
                                              <p:pRg st="3" end="3"/>
                                            </p:txEl>
                                          </p:spTgt>
                                        </p:tgtEl>
                                        <p:attrNameLst>
                                          <p:attrName>style.visibility</p:attrName>
                                        </p:attrNameLst>
                                      </p:cBhvr>
                                      <p:to>
                                        <p:strVal val="visible"/>
                                      </p:to>
                                    </p:set>
                                    <p:animEffect filter="fade" transition="in">
                                      <p:cBhvr additive="repl">
                                        <p:cTn id="35" dur="500"/>
                                        <p:tgtEl>
                                          <p:spTgt spid="306">
                                            <p:txEl>
                                              <p:pRg st="3" end="3"/>
                                            </p:txEl>
                                          </p:spTgt>
                                        </p:tgtEl>
                                      </p:cBhvr>
                                    </p:animEffect>
                                    <p:anim calcmode="lin" valueType="num">
                                      <p:cBhvr additive="repl">
                                        <p:cTn id="36" dur="5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3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306">
                                            <p:txEl>
                                              <p:pRg st="4" end="4"/>
                                            </p:txEl>
                                          </p:spTgt>
                                        </p:tgtEl>
                                        <p:attrNameLst>
                                          <p:attrName>style.visibility</p:attrName>
                                        </p:attrNameLst>
                                      </p:cBhvr>
                                      <p:to>
                                        <p:strVal val="visible"/>
                                      </p:to>
                                    </p:set>
                                    <p:animEffect filter="fade" transition="in">
                                      <p:cBhvr additive="repl">
                                        <p:cTn id="42" dur="500"/>
                                        <p:tgtEl>
                                          <p:spTgt spid="306">
                                            <p:txEl>
                                              <p:pRg st="4" end="4"/>
                                            </p:txEl>
                                          </p:spTgt>
                                        </p:tgtEl>
                                      </p:cBhvr>
                                    </p:animEffect>
                                    <p:anim calcmode="lin" valueType="num">
                                      <p:cBhvr additive="repl">
                                        <p:cTn id="43" dur="500" fill="hold"/>
                                        <p:tgtEl>
                                          <p:spTgt spid="306">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30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Распознавание суицидальной опасности.</a:t>
            </a:r>
            <a:endParaRPr b="0" lang="en-US" sz="36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ля своевременного распознавания склонности к такой патологии и оказания своевременной помощи необходимо знать факторы суицидального риска, определять его степень, уметь оказывать экстренную помощь при потенциальном суициде.</a:t>
            </a:r>
            <a:endParaRPr b="0" lang="en-US" sz="32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549360"/>
            <a:ext cx="9144000" cy="151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Факторы суицидального риска:</a:t>
            </a:r>
            <a:br>
              <a:rPr sz="4000"/>
            </a:br>
            <a:r>
              <a:rPr b="0" lang="ru-RU" sz="3600" spc="-1" strike="noStrike">
                <a:solidFill>
                  <a:srgbClr val="d16349"/>
                </a:solidFill>
                <a:latin typeface="Calibri"/>
              </a:rPr>
              <a:t>Социально – демографические</a:t>
            </a:r>
            <a:br>
              <a:rPr sz="3600"/>
            </a:br>
            <a:endParaRPr b="0" lang="en-US" sz="3600" spc="-1" strike="noStrike">
              <a:solidFill>
                <a:srgbClr val="000000"/>
              </a:solidFill>
              <a:latin typeface="Calibri"/>
            </a:endParaRPr>
          </a:p>
        </p:txBody>
      </p:sp>
      <p:sp>
        <p:nvSpPr>
          <p:cNvPr id="269" name=""/>
          <p:cNvSpPr txBox="1"/>
          <p:nvPr/>
        </p:nvSpPr>
        <p:spPr>
          <a:xfrm>
            <a:off x="324000" y="1988640"/>
            <a:ext cx="8362800" cy="4141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л – мужской (уровень суицидов у юношей в 3-4 раза выше, чем у девушек, в то время как у женщин уровень суицидальных попыток примерно в 3 раза выше чем у мужчин)</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озраст – подростки и молодые люди 14-24 ле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емейная ситуация (непонимание со стороны родителей, безразличное отношение друг к другу и т.п.).</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1484280"/>
            <a:ext cx="8136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16349"/>
                </a:solidFill>
                <a:latin typeface="DejaVu Serif Condensed"/>
              </a:rPr>
              <a:t>Медико – психологические факторы.</a:t>
            </a:r>
            <a:br>
              <a:rPr sz="4000"/>
            </a:br>
            <a:r>
              <a:rPr b="0" lang="ru-RU" sz="3600" spc="-1" strike="noStrike">
                <a:solidFill>
                  <a:srgbClr val="d16349"/>
                </a:solidFill>
                <a:latin typeface="DejaVu Serif Condensed"/>
              </a:rPr>
              <a:t>1.Психическая патология:</a:t>
            </a:r>
            <a:br>
              <a:rPr sz="3600"/>
            </a:br>
            <a:br>
              <a:rPr sz="4000"/>
            </a:br>
            <a:endParaRPr b="0" lang="en-US" sz="3600" spc="-1" strike="noStrike">
              <a:solidFill>
                <a:srgbClr val="000000"/>
              </a:solidFill>
              <a:latin typeface="Calibri"/>
            </a:endParaRPr>
          </a:p>
        </p:txBody>
      </p:sp>
      <p:sp>
        <p:nvSpPr>
          <p:cNvPr id="271" name=""/>
          <p:cNvSpPr txBox="1"/>
          <p:nvPr/>
        </p:nvSpPr>
        <p:spPr>
          <a:xfrm>
            <a:off x="395280" y="2636640"/>
            <a:ext cx="8291520" cy="3493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епрессия, особенно затяжной депрессивный эпизод в недавнем прошло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лкогольная зависимость;</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висимость от других психоактивных веществ;</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асстройство личнос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Циклоидная, сенситивная, эпилептоидная, истероидная акцентуации характера.</a:t>
            </a:r>
            <a:endParaRPr b="0" lang="en-US" sz="28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16349"/>
                </a:solidFill>
                <a:latin typeface="DejaVu Serif Condensed"/>
              </a:rPr>
              <a:t>2.Соматическая патология – тяжелое хроническое прогрессирующее заболевание:</a:t>
            </a:r>
            <a:endParaRPr b="0" lang="en-US" sz="3200" spc="-1" strike="noStrike">
              <a:solidFill>
                <a:srgbClr val="000000"/>
              </a:solidFill>
              <a:latin typeface="Calibri"/>
            </a:endParaRPr>
          </a:p>
        </p:txBody>
      </p:sp>
      <p:sp>
        <p:nvSpPr>
          <p:cNvPr id="273" name=""/>
          <p:cNvSpPr txBox="1"/>
          <p:nvPr/>
        </p:nvSpPr>
        <p:spPr>
          <a:xfrm>
            <a:off x="468000" y="1844640"/>
            <a:ext cx="8218440" cy="4286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Врожденные и приобретенные уродства;</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теря физических функций (зрения, слуха, способности двигаться, утрата половой функции);</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ВИЧ – инфекция.</a:t>
            </a:r>
            <a:endParaRPr b="0" lang="en-US" sz="3600" spc="-1" strike="noStrike">
              <a:solidFill>
                <a:srgbClr val="000000"/>
              </a:solidFill>
              <a:latin typeface="Calibri"/>
            </a:endParaRPr>
          </a:p>
        </p:txBody>
      </p:sp>
      <p:pic>
        <p:nvPicPr>
          <p:cNvPr id="274" name="Picture 4" descr="j0240719"/>
          <p:cNvPicPr/>
          <p:nvPr/>
        </p:nvPicPr>
        <p:blipFill>
          <a:blip r:embed="rId1"/>
          <a:stretch/>
        </p:blipFill>
        <p:spPr>
          <a:xfrm>
            <a:off x="6595920" y="2924280"/>
            <a:ext cx="2548080" cy="39337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Биографические факторы:</a:t>
            </a:r>
            <a:endParaRPr b="0" lang="en-US" sz="40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омосексуальная ориентация (подростки обоего пол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ицидальные мысли, намерения, попытки в прошло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ицидальное поведение родственников, близких, друзей, других значимых лиц (музыкальные кумиры и т.д.).</a:t>
            </a:r>
            <a:endParaRPr b="0" lang="en-US" sz="32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1197000"/>
            <a:ext cx="8147160" cy="22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DejaVu Serif Condensed"/>
              </a:rPr>
              <a:t>Индикаторы суицидального риска.</a:t>
            </a:r>
            <a:endParaRPr b="0" lang="en-US" sz="5400" spc="-1" strike="noStrike">
              <a:solidFill>
                <a:srgbClr val="000000"/>
              </a:solidFill>
              <a:latin typeface="Calibri"/>
            </a:endParaRPr>
          </a:p>
        </p:txBody>
      </p:sp>
      <p:sp>
        <p:nvSpPr>
          <p:cNvPr id="278" name=""/>
          <p:cNvSpPr txBox="1"/>
          <p:nvPr/>
        </p:nvSpPr>
        <p:spPr>
          <a:xfrm>
            <a:off x="539280" y="2706480"/>
            <a:ext cx="8147160" cy="34239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Это особенности сложившейся ситуации, настроения, когнитивной деятельности и высказываний человека, которые увеличивают степень риска суицидального поведения.</a:t>
            </a:r>
            <a:endParaRPr b="0" lang="en-US" sz="36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Ситуационные индикаторы суицидального риска:</a:t>
            </a:r>
            <a:endParaRPr b="0" lang="en-US" sz="36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мерть любимого челове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сставание с любимой (ы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нужденная социальная изоляция, особенно от друзей или семь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ексуальное насили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желательная беременность;</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зор, унижение – «потеря лица».</a:t>
            </a:r>
            <a:endParaRPr b="0" lang="en-US" sz="32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5:18:16Z</dcterms:created>
  <dc:creator>Сава</dc:creator>
  <dc:description/>
  <dc:language>en-US</dc:language>
  <cp:lastModifiedBy>User</cp:lastModifiedBy>
  <dcterms:modified xsi:type="dcterms:W3CDTF">2019-03-21T08:59:28Z</dcterms:modified>
  <cp:revision>46</cp:revision>
  <dc:subject/>
  <dc:title>Суицидальное поведение как особый вид отклоняющегося поведения подростков.</dc:title>
</cp:coreProperties>
</file>