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A8778-0132-422A-8F4F-114ED2222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3429-4110-4F6B-A098-9D2B9F62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C0CEA-2800-4FB4-8B5C-035067357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54533-66C5-4AB9-A4D5-557B90C7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7034C-DED3-49A4-9E7D-FB76F577C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C02D3-3ACB-4D59-BC37-B522EBC9D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A412-957B-48CD-8046-DB222CB9B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01098-5C56-4103-B2C1-E8FA0D4C2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0192F-412F-46F0-892F-39B9F415B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01405-11F3-49D6-A9E5-82218802A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6D0A-690A-4A5A-BC0D-20B10E1F1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BF287-2E99-48E0-B82C-92CA339A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BC5F5-DB20-424D-B25E-BEB8A7727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82486-1586-491B-9BAB-9548459D4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7D1C1-4023-4155-AED1-94649C207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7B49A-FC99-45C8-97F8-81A88472C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2A94D-AEFB-4046-8A30-AFAB1BE1D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AB5C3-89CD-47FC-B29D-D6B5721EB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F848F-603F-44FE-8377-43B53756F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3E806-E2A0-40AE-8427-5D4E30202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3B072-5F65-4104-A1B0-ACA06D9EF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95457-529E-4834-BCAB-F34885E9F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9B84-CBA3-404B-9EA0-AEBE1FEA7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A26CA-F9B0-4BF7-8C01-E6ACDEA67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2DE68-12C6-4735-8088-105466F7E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AF1FF-CF89-45A0-A6A6-0B111E926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A31D5-6932-4316-9A21-31F0CF43C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BEA59-9484-4A36-ABCC-028A23F7D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B80387-7A27-4077-93CE-E0832F356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FAD7C-8A97-49C8-A27B-4D6C73186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EF9254-A420-463F-B6CE-DB85652C8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714F8-2D2B-488B-A074-B3FCA7C39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DBBED-0442-425E-84A2-E63826463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4A50-C05F-4420-9ACA-C7544A02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482E7-239F-4050-85F7-CD3B1CC9E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D5F9C-A9AB-461B-8D1C-9F5A9F0AE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7D6B4-AF1B-47BC-995D-09F3D3153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E5877-9467-48B6-A09C-240839659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0656D-74F7-4891-96EF-80F54A2F3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58643-E6A5-4FB1-8870-8747652CE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7AFDE-7F86-4E91-94B8-93C6184AF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8532C-2DCB-4A5E-80B7-A34F3A3F1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5EB57-89B7-4953-85C4-DA8A934E4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D99A4E-FFD4-41B8-A298-C7DE1F03F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70550-A4E6-4F79-AEC9-172E79D8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F1460-A734-40C5-AD55-7957081E6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11910-4503-4C94-9ADE-3F91329D7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F620F-7191-4227-92C4-A389E7832B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330B8-2B66-4476-BB23-7A3F537C3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C1889-DE3D-49A0-B524-0BF01013D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BBE8D-533E-4ECB-8986-F06A639C2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21D95-8F33-4605-AB9A-D5BBD9961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7FFF0-ECCD-48EA-B8F5-629E7132D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926C0-3CBE-44B1-AF64-84068623D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F72475-6354-44CC-960E-434413AAEC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654F4-E7AE-4CA1-8E57-2A4575E8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4E03D-1ED0-4136-A6C4-FD4228D20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431B7-7FF6-4189-9B6C-1466663874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20EE38-EC0F-456F-A3F8-9076A758F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2D75D-4A35-495A-9D73-078221D2E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744F6-5E5D-418C-8923-916C8C0EB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24FE5-1F82-4326-9181-690C56938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1706B-9164-42C2-B062-57C56622D4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1E31D-0643-47A7-862C-955396C1B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0BA79-6596-4730-9E51-A534527E5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89B9F-7BE7-40FD-A825-AFC1A3D73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F8F8-C21E-4D5C-9558-E1E789D2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F9152-D269-4FEC-9018-78CC9B867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68F42-6768-4B9F-AEAA-96E5873F79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D47357-81D1-4C49-9F6B-508FD1E68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35B8-DBDB-4C12-82C5-A8FE856C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B336-65D8-4744-9CD8-0E2CBEF9A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E0D7-AD30-4E58-95B0-2195D203E55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93AD-16A2-44BF-8B71-6BCE8E10686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7" name="Скругленный прямоугольник 10"/>
          <p:cNvGrpSpPr/>
          <p:nvPr/>
        </p:nvGrpSpPr>
        <p:grpSpPr>
          <a:xfrm>
            <a:off x="414360" y="426960"/>
            <a:ext cx="8315280" cy="3121200"/>
            <a:chOff x="414360" y="426960"/>
            <a:chExt cx="8315280" cy="3121200"/>
          </a:xfrm>
        </p:grpSpPr>
        <p:pic>
          <p:nvPicPr>
            <p:cNvPr id="88"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AF46-12E4-4C70-B2C7-84A559D72D8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2" name="Скругленный прямоугольник 10"/>
          <p:cNvGrpSpPr/>
          <p:nvPr/>
        </p:nvGrpSpPr>
        <p:grpSpPr>
          <a:xfrm>
            <a:off x="414360" y="426960"/>
            <a:ext cx="8315280" cy="4353120"/>
            <a:chOff x="414360" y="426960"/>
            <a:chExt cx="8315280" cy="4353120"/>
          </a:xfrm>
        </p:grpSpPr>
        <p:pic>
          <p:nvPicPr>
            <p:cNvPr id="133"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FC8B-EEE7-4945-BC9B-6DB0641F88F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9F99-E04F-4085-A71D-D08F8975B4E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E06-0EF0-417B-BBC8-36D1B13A7A0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00" y="-1643040"/>
            <a:ext cx="7993080" cy="518472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71f28"/>
                </a:solidFill>
                <a:latin typeface="DejaVu Serif Condensed"/>
              </a:rPr>
              <a:t>Суицидальное поведение как особый вид отклоняющегося поведения подростков</a:t>
            </a:r>
            <a:endParaRPr b="1" lang="en-US" sz="3600" spc="-1" strike="noStrike">
              <a:solidFill>
                <a:srgbClr val="ff8d3e"/>
              </a:solidFill>
              <a:latin typeface="Verdana"/>
            </a:endParaRPr>
          </a:p>
        </p:txBody>
      </p:sp>
      <p:sp>
        <p:nvSpPr>
          <p:cNvPr id="262" name="PlaceHolder 2"/>
          <p:cNvSpPr>
            <a:spLocks noGrp="1"/>
          </p:cNvSpPr>
          <p:nvPr>
            <p:ph type="subTitle"/>
          </p:nvPr>
        </p:nvSpPr>
        <p:spPr>
          <a:xfrm>
            <a:off x="2050560" y="7788240"/>
            <a:ext cx="5721480" cy="7128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 spc="-1" strike="noStrike">
              <a:solidFill>
                <a:srgbClr val="79766f"/>
              </a:solidFill>
              <a:latin typeface="Verdana"/>
            </a:endParaRPr>
          </a:p>
        </p:txBody>
      </p:sp>
      <p:sp>
        <p:nvSpPr>
          <p:cNvPr id="263" name="TextBox 3"/>
          <p:cNvSpPr/>
          <p:nvPr/>
        </p:nvSpPr>
        <p:spPr>
          <a:xfrm>
            <a:off x="4286160" y="4786200"/>
            <a:ext cx="45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СУЛЬТАЦИЯ ДЛЯ ПЕДАГОГ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дагог-психолог Строева К.Н.</a:t>
            </a:r>
            <a:endParaRPr b="0" lang="en-US" sz="18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веденческие индикаторы суицидального риска:</a:t>
            </a:r>
            <a:endParaRPr b="0" lang="en-US" sz="3600" spc="-1" strike="noStrike">
              <a:solidFill>
                <a:srgbClr val="000000"/>
              </a:solidFill>
              <a:latin typeface="Calibri"/>
            </a:endParaRPr>
          </a:p>
        </p:txBody>
      </p:sp>
      <p:sp>
        <p:nvSpPr>
          <p:cNvPr id="282" name=""/>
          <p:cNvSpPr txBox="1"/>
          <p:nvPr/>
        </p:nvSpPr>
        <p:spPr>
          <a:xfrm>
            <a:off x="395280" y="1600200"/>
            <a:ext cx="829152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лоупотребление психоактивными веществами, алкоголем;</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скейп – реакции (уход из дома и т.п.);</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менение привычек, например, несоблюдение правил личной гигиены, ухода за внешностью;</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дпочтение тем разговора и чтения, связанных со смертью и самоубийствам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ведение дел в порядок» (письма к родственникам и друзьям, раздаривание личных вещей).</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Коммуникативные индикаторы суицидального риска:</a:t>
            </a:r>
            <a:endParaRPr b="0" lang="en-US" sz="3600" spc="-1" strike="noStrike">
              <a:solidFill>
                <a:srgbClr val="000000"/>
              </a:solidFill>
              <a:latin typeface="Calibri"/>
            </a:endParaRPr>
          </a:p>
        </p:txBody>
      </p:sp>
      <p:sp>
        <p:nvSpPr>
          <p:cNvPr id="284" name=""/>
          <p:cNvSpPr txBox="1"/>
          <p:nvPr/>
        </p:nvSpPr>
        <p:spPr>
          <a:xfrm>
            <a:off x="468000" y="1914480"/>
            <a:ext cx="8218440" cy="4216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гативная триада, характерная для депрессивных состояний: негативная оценка своей личности, окружающего мира и будущег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уннельное поведение» - неспособность увидеть иные приемлемые пути решения проблемы кроме суиц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ичие суицидальных мыслей, намерений, планов;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пульсивность как характерологическая черта играет важную роль в  суицидальном поведени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ступность средств суицида (фармакологические препараты и т.п.).</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Эмоциональные индикаторы суицидального риска:</a:t>
            </a:r>
            <a:endParaRPr b="0" lang="en-US" sz="3600" spc="-1" strike="noStrike">
              <a:solidFill>
                <a:srgbClr val="000000"/>
              </a:solidFill>
              <a:latin typeface="Calibri"/>
            </a:endParaRPr>
          </a:p>
        </p:txBody>
      </p:sp>
      <p:sp>
        <p:nvSpPr>
          <p:cNvPr id="286" name=""/>
          <p:cNvSpPr txBox="1"/>
          <p:nvPr/>
        </p:nvSpPr>
        <p:spPr>
          <a:xfrm>
            <a:off x="468000" y="1843200"/>
            <a:ext cx="8218440" cy="428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мбивалентность по отношению к жиз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прессивное настроение: безразличие к своей судьбе, подавленность, безнадежность, отчая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живание горя.</a:t>
            </a:r>
            <a:endParaRPr b="0" lang="en-US" sz="32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79280" y="277920"/>
            <a:ext cx="8507520" cy="199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Средства решения проблем.</a:t>
            </a:r>
            <a:br>
              <a:rPr sz="5400"/>
            </a:br>
            <a:endParaRPr b="0" lang="en-US" sz="5400" spc="-1" strike="noStrike">
              <a:solidFill>
                <a:srgbClr val="000000"/>
              </a:solidFill>
              <a:latin typeface="Calibri"/>
            </a:endParaRPr>
          </a:p>
        </p:txBody>
      </p:sp>
      <p:sp>
        <p:nvSpPr>
          <p:cNvPr id="288" name=""/>
          <p:cNvSpPr txBox="1"/>
          <p:nvPr/>
        </p:nvSpPr>
        <p:spPr>
          <a:xfrm>
            <a:off x="539280" y="2278080"/>
            <a:ext cx="8147160" cy="38527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Это те «сильные стороны» человека, которые служат основой его жизнестойкости и увеличивают вероятность преодоления кризиса с позитивным балансом.</a:t>
            </a:r>
            <a:endParaRPr b="0" lang="en-US" sz="40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утренние ресурсы</a:t>
            </a:r>
            <a:endParaRPr b="0" lang="en-US" sz="4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стинкт самосохранения;</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теллек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Социальный опы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Коммуникативный потенциал;</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Позитивный опыт решения проблем.</a:t>
            </a:r>
            <a:endParaRPr b="0" lang="en-US" sz="4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ешние ресурсы</a:t>
            </a:r>
            <a:endParaRPr b="0" lang="en-US" sz="48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семь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друзей;</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риверженность религи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Медицинская помощь;</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Индивидуальная психотерапевтическая программа.</a:t>
            </a:r>
            <a:endParaRPr b="0" lang="en-US" sz="4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мощь при потенциальном суициде.</a:t>
            </a:r>
            <a:endParaRPr b="0" lang="en-US" sz="36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Распознавание суицидальной опасности, разговор с суицидентом о его намерениях – это первая помощь.</a:t>
            </a:r>
            <a:endParaRPr b="0" lang="en-US" sz="4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ринципы и шаги работы в данной ситуации:</a:t>
            </a:r>
            <a:endParaRPr b="0" lang="en-US" sz="36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давать вопросы о самоубийстве, не избегать этой темы.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тановление эмпатического контакта, отношений довер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ение степени риска суицидального поведения и вероятности смертельного исход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работка совместного решения о дальнейших действиях.</a:t>
            </a:r>
            <a:endParaRPr b="0" lang="en-US" sz="32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7920"/>
            <a:ext cx="8686800" cy="603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46d7a"/>
                </a:solidFill>
                <a:latin typeface="DejaVu Serif Condensed"/>
              </a:rPr>
              <a:t>Главная задача – побудить отложить суицид, хотя бы временно. Не стоит уговаривать отказаться от суицида, спорить о смысле жизни, можно просто сказать, что вы бы не хотели, чтобы люди уходили из жизни, что вы будете стараться делать всё, чтобы этого не произошло. Таким образом, вы заключаете своего рода договор – </a:t>
            </a:r>
            <a:r>
              <a:rPr b="0" lang="ru-RU" sz="3600" spc="-1" strike="noStrike">
                <a:solidFill>
                  <a:srgbClr val="c00000"/>
                </a:solidFill>
                <a:latin typeface="DejaVu Serif Condensed"/>
              </a:rPr>
              <a:t>антисуицидальный контракт.</a:t>
            </a:r>
            <a:r>
              <a:rPr b="0" lang="ru-RU" sz="4000" spc="-1" strike="noStrike">
                <a:solidFill>
                  <a:srgbClr val="c00000"/>
                </a:solidFill>
                <a:latin typeface="Calibri"/>
              </a:rPr>
              <a:t> </a:t>
            </a:r>
            <a:endParaRPr b="0" lang="en-US" sz="4000" spc="-1" strike="noStrike">
              <a:solidFill>
                <a:srgbClr val="000000"/>
              </a:solidFill>
              <a:latin typeface="Calibri"/>
            </a:endParaRPr>
          </a:p>
        </p:txBody>
      </p:sp>
      <p:sp>
        <p:nvSpPr>
          <p:cNvPr id="298" name=""/>
          <p:cNvSpPr txBox="1"/>
          <p:nvPr/>
        </p:nvSpPr>
        <p:spPr>
          <a:xfrm rot="10800000">
            <a:off x="970920" y="7244640"/>
            <a:ext cx="7715160" cy="144360"/>
          </a:xfrm>
          <a:prstGeom prst="rect">
            <a:avLst/>
          </a:prstGeom>
          <a:noFill/>
          <a:ln w="0">
            <a:noFill/>
          </a:ln>
        </p:spPr>
        <p:txBody>
          <a:bodyPr anchor="t">
            <a:normAutofit/>
          </a:bodyPr>
          <a:p>
            <a:pPr marL="343080" indent="-3430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0560" y="277920"/>
            <a:ext cx="84358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Рекомендации по ведению беседы с потенциальным суицидентом.</a:t>
            </a:r>
            <a:endParaRPr b="0" lang="en-US" sz="4000" spc="-1" strike="noStrike">
              <a:solidFill>
                <a:srgbClr val="000000"/>
              </a:solidFill>
              <a:latin typeface="Calibri"/>
            </a:endParaRPr>
          </a:p>
        </p:txBody>
      </p:sp>
      <p:sp>
        <p:nvSpPr>
          <p:cNvPr id="300" name=""/>
          <p:cNvSpPr txBox="1"/>
          <p:nvPr/>
        </p:nvSpPr>
        <p:spPr>
          <a:xfrm>
            <a:off x="324000" y="1988640"/>
            <a:ext cx="8362800" cy="486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разите свою заинтересованность личностью собеседника, симпатию к нем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давайте вопросы прямо, в искренней и спокойной манере; используйте технику активного слушан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ясните, насколько ясный образ будущего суицидального действия сформирован у собеседника: суицидальный план; время и место исполнения; суицидальные мысли и попытки суицида в прошлом; самооценка вероятности своего суицид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4000" y="-528480"/>
            <a:ext cx="8002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265" name=""/>
          <p:cNvSpPr txBox="1"/>
          <p:nvPr/>
        </p:nvSpPr>
        <p:spPr>
          <a:xfrm>
            <a:off x="179280" y="189000"/>
            <a:ext cx="8964720" cy="6480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уицидальное поведение относится к распространенной патологии поведения подростков.</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До13 – летнего возраста суицидальные попытки практически не встречаются.</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Начиная с 14 – 15 лет эта активность резко возрастает, достигая максимума к 16 – 19 годам.</a:t>
            </a:r>
            <a:endParaRPr b="0" lang="en-US" sz="36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280" y="-888840"/>
            <a:ext cx="7931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302" name=""/>
          <p:cNvSpPr txBox="1"/>
          <p:nvPr/>
        </p:nvSpPr>
        <p:spPr>
          <a:xfrm>
            <a:off x="323640" y="476280"/>
            <a:ext cx="8569080" cy="6121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ытайтесь выяснить причины и условия формирования суицидальных намерений, но не настаивайте на их обсуждении, если для собеседника это слишком тяжело.</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будите его выразить свои чувства, связанные с проблемной областью.</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росите, приходилось ли ему ранее рассказывать кому – либо о том, что он говорит сейчас. Этот вопрос поможет подтолкнуть собеседника к мысли, что, возможно, главная его проблема в социальной изоляции.</a:t>
            </a:r>
            <a:endParaRPr b="0" lang="en-US" sz="32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50560" y="277920"/>
            <a:ext cx="8435880" cy="617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d130d"/>
                </a:solidFill>
                <a:latin typeface="DejaVu Serif Condensed"/>
              </a:rPr>
              <a:t>Подросток с любыми признаками суицидальной активности должен находиться под постоянным наблюдением взрослых, разумеется, это наблюдение должно быть не назойливым и тактичным. Подростка нельзя предоставлять самому себе.</a:t>
            </a:r>
            <a:endParaRPr b="0" lang="en-US" sz="3600" spc="-1" strike="noStrike">
              <a:solidFill>
                <a:srgbClr val="000000"/>
              </a:solidFill>
              <a:latin typeface="Calibri"/>
            </a:endParaRPr>
          </a:p>
        </p:txBody>
      </p:sp>
      <p:pic>
        <p:nvPicPr>
          <p:cNvPr id="304" name="" descr=""/>
          <p:cNvPicPr/>
          <p:nvPr/>
        </p:nvPicPr>
        <p:blipFill>
          <a:blip r:embed="rId1"/>
          <a:stretch/>
        </p:blipFill>
        <p:spPr>
          <a:xfrm>
            <a:off x="468360" y="7100640"/>
            <a:ext cx="8229600" cy="45306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литература:</a:t>
            </a:r>
            <a:endParaRPr b="0" lang="en-US" sz="4400" spc="-1" strike="noStrike">
              <a:solidFill>
                <a:srgbClr val="000000"/>
              </a:solidFill>
              <a:latin typeface="Calibri"/>
            </a:endParaRPr>
          </a:p>
        </p:txBody>
      </p:sp>
      <p:sp>
        <p:nvSpPr>
          <p:cNvPr id="306"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В.Федосенко «Психологическое сопровождение подростков», С-Пб 200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В.Овчарова «Справочная книга школьного психолога», М.: «Просвещение», 199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Кон «Психология ранней юности», М.: «Просвещение», 198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Сельченок «Методы эффективной психокоррекции», М.: АСТ 200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ья и дети в антинаркотических программах профилактики, коррекции, реабилитации», под редакцией Н.В.Вострокнутова, М.: 2003.</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repl">
                                        <p:cTn id="7" dur="1000" fill="hold"/>
                                        <p:tgtEl>
                                          <p:spTgt spid="305"/>
                                        </p:tgtEl>
                                        <p:attrNameLst>
                                          <p:attrName>ppt_x</p:attrName>
                                        </p:attrNameLst>
                                      </p:cBhvr>
                                      <p:tavLst>
                                        <p:tav tm="0">
                                          <p:val>
                                            <p:strVal val="#ppt_x-.2"/>
                                          </p:val>
                                        </p:tav>
                                        <p:tav tm="100000">
                                          <p:val>
                                            <p:strVal val="#ppt_x"/>
                                          </p:val>
                                        </p:tav>
                                      </p:tavLst>
                                    </p:anim>
                                    <p:anim calcmode="lin" valueType="num">
                                      <p:cBhvr additive="repl">
                                        <p:cTn id="8"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9" dur="1000"/>
                                        <p:tgtEl>
                                          <p:spTgt spid="3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4" dur="500"/>
                                        <p:tgtEl>
                                          <p:spTgt spid="306">
                                            <p:txEl>
                                              <p:pRg st="0" end="0"/>
                                            </p:txEl>
                                          </p:spTgt>
                                        </p:tgtEl>
                                      </p:cBhvr>
                                    </p:animEffect>
                                    <p:anim calcmode="lin" valueType="num">
                                      <p:cBhvr additive="repl">
                                        <p:cTn id="1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306">
                                            <p:txEl>
                                              <p:pRg st="1" end="1"/>
                                            </p:txEl>
                                          </p:spTgt>
                                        </p:tgtEl>
                                        <p:attrNameLst>
                                          <p:attrName>style.visibility</p:attrName>
                                        </p:attrNameLst>
                                      </p:cBhvr>
                                      <p:to>
                                        <p:strVal val="visible"/>
                                      </p:to>
                                    </p:set>
                                    <p:animEffect filter="fade" transition="in">
                                      <p:cBhvr additive="repl">
                                        <p:cTn id="21" dur="500"/>
                                        <p:tgtEl>
                                          <p:spTgt spid="306">
                                            <p:txEl>
                                              <p:pRg st="1" end="1"/>
                                            </p:txEl>
                                          </p:spTgt>
                                        </p:tgtEl>
                                      </p:cBhvr>
                                    </p:animEffect>
                                    <p:anim calcmode="lin" valueType="num">
                                      <p:cBhvr additive="repl">
                                        <p:cTn id="22"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306">
                                            <p:txEl>
                                              <p:pRg st="2" end="2"/>
                                            </p:txEl>
                                          </p:spTgt>
                                        </p:tgtEl>
                                        <p:attrNameLst>
                                          <p:attrName>style.visibility</p:attrName>
                                        </p:attrNameLst>
                                      </p:cBhvr>
                                      <p:to>
                                        <p:strVal val="visible"/>
                                      </p:to>
                                    </p:set>
                                    <p:animEffect filter="fade" transition="in">
                                      <p:cBhvr additive="repl">
                                        <p:cTn id="28" dur="500"/>
                                        <p:tgtEl>
                                          <p:spTgt spid="306">
                                            <p:txEl>
                                              <p:pRg st="2" end="2"/>
                                            </p:txEl>
                                          </p:spTgt>
                                        </p:tgtEl>
                                      </p:cBhvr>
                                    </p:animEffect>
                                    <p:anim calcmode="lin" valueType="num">
                                      <p:cBhvr additive="repl">
                                        <p:cTn id="29"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306">
                                            <p:txEl>
                                              <p:pRg st="3" end="3"/>
                                            </p:txEl>
                                          </p:spTgt>
                                        </p:tgtEl>
                                        <p:attrNameLst>
                                          <p:attrName>style.visibility</p:attrName>
                                        </p:attrNameLst>
                                      </p:cBhvr>
                                      <p:to>
                                        <p:strVal val="visible"/>
                                      </p:to>
                                    </p:set>
                                    <p:animEffect filter="fade" transition="in">
                                      <p:cBhvr additive="repl">
                                        <p:cTn id="35" dur="500"/>
                                        <p:tgtEl>
                                          <p:spTgt spid="306">
                                            <p:txEl>
                                              <p:pRg st="3" end="3"/>
                                            </p:txEl>
                                          </p:spTgt>
                                        </p:tgtEl>
                                      </p:cBhvr>
                                    </p:animEffect>
                                    <p:anim calcmode="lin" valueType="num">
                                      <p:cBhvr additive="repl">
                                        <p:cTn id="36"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306">
                                            <p:txEl>
                                              <p:pRg st="4" end="4"/>
                                            </p:txEl>
                                          </p:spTgt>
                                        </p:tgtEl>
                                        <p:attrNameLst>
                                          <p:attrName>style.visibility</p:attrName>
                                        </p:attrNameLst>
                                      </p:cBhvr>
                                      <p:to>
                                        <p:strVal val="visible"/>
                                      </p:to>
                                    </p:set>
                                    <p:animEffect filter="fade" transition="in">
                                      <p:cBhvr additive="repl">
                                        <p:cTn id="42" dur="500"/>
                                        <p:tgtEl>
                                          <p:spTgt spid="306">
                                            <p:txEl>
                                              <p:pRg st="4" end="4"/>
                                            </p:txEl>
                                          </p:spTgt>
                                        </p:tgtEl>
                                      </p:cBhvr>
                                    </p:animEffect>
                                    <p:anim calcmode="lin" valueType="num">
                                      <p:cBhvr additive="repl">
                                        <p:cTn id="43" dur="5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Распознавание суицидальной опасности.</a:t>
            </a:r>
            <a:endParaRPr b="0" lang="en-US" sz="36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своевременного распознавания склонности к такой патологии и оказания своевременной помощи необходимо знать факторы суицидального риска, определять его степень, уметь оказывать экстренную помощь при потенциальном суициде.</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360"/>
            <a:ext cx="91440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Факторы суицидального риска:</a:t>
            </a:r>
            <a:br>
              <a:rPr sz="4000"/>
            </a:br>
            <a:r>
              <a:rPr b="0" lang="ru-RU" sz="3600" spc="-1" strike="noStrike">
                <a:solidFill>
                  <a:srgbClr val="d16349"/>
                </a:solidFill>
                <a:latin typeface="Calibri"/>
              </a:rPr>
              <a:t>Социально – демографические</a:t>
            </a:r>
            <a:br>
              <a:rPr sz="3600"/>
            </a:br>
            <a:endParaRPr b="0" lang="en-US" sz="3600" spc="-1" strike="noStrike">
              <a:solidFill>
                <a:srgbClr val="000000"/>
              </a:solidFill>
              <a:latin typeface="Calibri"/>
            </a:endParaRPr>
          </a:p>
        </p:txBody>
      </p:sp>
      <p:sp>
        <p:nvSpPr>
          <p:cNvPr id="269" name=""/>
          <p:cNvSpPr txBox="1"/>
          <p:nvPr/>
        </p:nvSpPr>
        <p:spPr>
          <a:xfrm>
            <a:off x="324000" y="1988640"/>
            <a:ext cx="8362800" cy="414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л – мужской (уровень суицидов у юношей в 3-4 раза выше, чем у девушек, в то время как у женщин уровень суицидальных попыток примерно в 3 раза выше чем у мужчин)</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зраст – подростки и молодые люди 14-24 ле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ейная ситуация (непонимание со стороны родителей, безразличное отношение друг к другу и т.п.).</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484280"/>
            <a:ext cx="8136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Медико – психологические факторы.</a:t>
            </a:r>
            <a:br>
              <a:rPr sz="4000"/>
            </a:br>
            <a:r>
              <a:rPr b="0" lang="ru-RU" sz="3600" spc="-1" strike="noStrike">
                <a:solidFill>
                  <a:srgbClr val="d16349"/>
                </a:solidFill>
                <a:latin typeface="DejaVu Serif Condensed"/>
              </a:rPr>
              <a:t>1.Психическая патология:</a:t>
            </a:r>
            <a:br>
              <a:rPr sz="3600"/>
            </a:br>
            <a:br>
              <a:rPr sz="4000"/>
            </a:br>
            <a:endParaRPr b="0" lang="en-US" sz="3600" spc="-1" strike="noStrike">
              <a:solidFill>
                <a:srgbClr val="000000"/>
              </a:solidFill>
              <a:latin typeface="Calibri"/>
            </a:endParaRPr>
          </a:p>
        </p:txBody>
      </p:sp>
      <p:sp>
        <p:nvSpPr>
          <p:cNvPr id="271" name=""/>
          <p:cNvSpPr txBox="1"/>
          <p:nvPr/>
        </p:nvSpPr>
        <p:spPr>
          <a:xfrm>
            <a:off x="395280" y="2636640"/>
            <a:ext cx="8291520" cy="3493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епрессия, особенно затяжной депрессивный эпизод в недавнем прошло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лкогольная зависимост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висимость от других психоактивных вещест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сстройство лич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иклоидная, сенситивная, эпилептоидная, истероидная акцентуации характера.</a:t>
            </a: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16349"/>
                </a:solidFill>
                <a:latin typeface="DejaVu Serif Condensed"/>
              </a:rPr>
              <a:t>2.Соматическая патология – тяжелое хроническое прогрессирующее заболевание:</a:t>
            </a:r>
            <a:endParaRPr b="0" lang="en-US" sz="3200" spc="-1" strike="noStrike">
              <a:solidFill>
                <a:srgbClr val="000000"/>
              </a:solidFill>
              <a:latin typeface="Calibri"/>
            </a:endParaRPr>
          </a:p>
        </p:txBody>
      </p:sp>
      <p:sp>
        <p:nvSpPr>
          <p:cNvPr id="273" name=""/>
          <p:cNvSpPr txBox="1"/>
          <p:nvPr/>
        </p:nvSpPr>
        <p:spPr>
          <a:xfrm>
            <a:off x="468000" y="1844640"/>
            <a:ext cx="8218440" cy="4286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рожденные и приобретенные уродств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теря физических функций (зрения, слуха, способности двигаться, утрата половой функции);</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ИЧ – инфекция.</a:t>
            </a:r>
            <a:endParaRPr b="0" lang="en-US" sz="3600" spc="-1" strike="noStrike">
              <a:solidFill>
                <a:srgbClr val="000000"/>
              </a:solidFill>
              <a:latin typeface="Calibri"/>
            </a:endParaRPr>
          </a:p>
        </p:txBody>
      </p:sp>
      <p:pic>
        <p:nvPicPr>
          <p:cNvPr id="274" name="Picture 4" descr="j0240719"/>
          <p:cNvPicPr/>
          <p:nvPr/>
        </p:nvPicPr>
        <p:blipFill>
          <a:blip r:embed="rId1"/>
          <a:stretch/>
        </p:blipFill>
        <p:spPr>
          <a:xfrm>
            <a:off x="6595920" y="2924280"/>
            <a:ext cx="2548080" cy="3933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Биографические факторы:</a:t>
            </a:r>
            <a:endParaRPr b="0" lang="en-US" sz="40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мосексуальная ориентация (подростки обоего по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ые мысли, намерения, попытки в прошл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ое поведение родственников, близких, друзей, других значимых лиц (музыкальные кумиры и т.д.).</a:t>
            </a:r>
            <a:endParaRPr b="0" lang="en-US" sz="32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1197000"/>
            <a:ext cx="8147160" cy="22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Индикаторы суицидального риска.</a:t>
            </a:r>
            <a:endParaRPr b="0" lang="en-US" sz="5400" spc="-1" strike="noStrike">
              <a:solidFill>
                <a:srgbClr val="000000"/>
              </a:solidFill>
              <a:latin typeface="Calibri"/>
            </a:endParaRPr>
          </a:p>
        </p:txBody>
      </p:sp>
      <p:sp>
        <p:nvSpPr>
          <p:cNvPr id="278" name=""/>
          <p:cNvSpPr txBox="1"/>
          <p:nvPr/>
        </p:nvSpPr>
        <p:spPr>
          <a:xfrm>
            <a:off x="539280" y="2706480"/>
            <a:ext cx="8147160" cy="34239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 особенности сложившейся ситуации, настроения, когнитивной деятельности и высказываний человека, которые увеличивают степень риска суицидального поведения.</a:t>
            </a:r>
            <a:endParaRPr b="0" lang="en-US" sz="3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итуационные индикаторы суицидального риска:</a:t>
            </a:r>
            <a:endParaRPr b="0" lang="en-US" sz="36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мерть любимого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ставание с любимой (ы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нужденная социальная изоляция, особенно от друзей или семь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ексуальное насил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желательная беременност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зор, унижение – «потеря лица».</a:t>
            </a:r>
            <a:endParaRPr b="0" lang="en-US" sz="3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5:18:16Z</dcterms:created>
  <dc:creator>Сава</dc:creator>
  <dc:description/>
  <dc:language>en-US</dc:language>
  <cp:lastModifiedBy>User</cp:lastModifiedBy>
  <dcterms:modified xsi:type="dcterms:W3CDTF">2019-03-21T08:59:28Z</dcterms:modified>
  <cp:revision>46</cp:revision>
  <dc:subject/>
  <dc:title>Суицидальное поведение как особый вид отклоняющегося поведения подростков.</dc:title>
</cp:coreProperties>
</file>