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03-9CA7-4A4B-9831-E6EBEEA7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6AA-5816-498D-8E82-4625AE6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7CE-B670-4E3A-B23A-1D19BEFC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A34-70EA-4A36-BAAF-E3C47639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323-E295-4010-8457-160ECDE5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EC6-C289-4267-8CB9-EED7420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877-AB3B-419B-A66B-4DE85DAC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17C-2692-4EB4-8BDD-5145D11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D5F-A954-4CD2-B1F2-2186C8C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BE8-1E9E-42E3-BB43-1237B20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C3F-0ECB-4E77-B1D8-B65D194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4D-6383-43A4-A2FB-04A30E1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92C-4D79-492A-9A6F-5E0162275D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92844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ение гласных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a”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и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e”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открытом и закрытом сло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57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tep 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00000" y="404280"/>
            <a:ext cx="360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st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404280"/>
            <a:ext cx="40273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2771640" y="3573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284328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2843280" y="522936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6227640" y="350028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7020000" y="350028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665964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6948360" y="5229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6300720" y="5229360"/>
            <a:ext cx="35892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03280" y="155700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æ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360" y="155700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ei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g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"/>
          <p:cNvSpPr/>
          <p:nvPr/>
        </p:nvSpPr>
        <p:spPr>
          <a:xfrm>
            <a:off x="3059280" y="371628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6"/>
          <p:cNvSpPr/>
          <p:nvPr/>
        </p:nvSpPr>
        <p:spPr>
          <a:xfrm>
            <a:off x="3059280" y="4365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7"/>
          <p:cNvSpPr/>
          <p:nvPr/>
        </p:nvSpPr>
        <p:spPr>
          <a:xfrm>
            <a:off x="3059280" y="4941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8"/>
          <p:cNvSpPr/>
          <p:nvPr/>
        </p:nvSpPr>
        <p:spPr>
          <a:xfrm>
            <a:off x="2771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9"/>
          <p:cNvSpPr/>
          <p:nvPr/>
        </p:nvSpPr>
        <p:spPr>
          <a:xfrm>
            <a:off x="2987640" y="6093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3059280" y="6669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6659640" y="3716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6804000" y="4365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3"/>
          <p:cNvSpPr/>
          <p:nvPr/>
        </p:nvSpPr>
        <p:spPr>
          <a:xfrm>
            <a:off x="6659640" y="4941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6659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>
            <a:off x="6732720" y="609300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1052280"/>
            <a:ext cx="345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 = [e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64000" y="1052280"/>
            <a:ext cx="33069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>
            <a:off x="2987640" y="3213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2916360" y="386064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7"/>
          <p:cNvSpPr/>
          <p:nvPr/>
        </p:nvSpPr>
        <p:spPr>
          <a:xfrm>
            <a:off x="2916360" y="4437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2987640" y="501336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9"/>
          <p:cNvSpPr/>
          <p:nvPr/>
        </p:nvSpPr>
        <p:spPr>
          <a:xfrm>
            <a:off x="2771640" y="5589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2987640" y="623736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>
            <a:off x="7020000" y="407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6659640" y="4724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4"/>
          <p:cNvSpPr/>
          <p:nvPr/>
        </p:nvSpPr>
        <p:spPr>
          <a:xfrm>
            <a:off x="7093080" y="5229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6"/>
          <p:cNvSpPr/>
          <p:nvPr/>
        </p:nvSpPr>
        <p:spPr>
          <a:xfrm>
            <a:off x="7020000" y="645336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230508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53224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47320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012000" y="263700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900000" y="2637000"/>
            <a:ext cx="249264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3333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2665440" cy="124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name - [n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1727280" cy="1349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276720" y="2060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ame - [g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1476360" y="3357720"/>
            <a:ext cx="170172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419640" y="3716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- [wi: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2808360" cy="1308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3635280" y="551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ne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[plein]–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ам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211644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lake - [l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41128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3419640" y="256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te - [pleit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р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24316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492360" y="4508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ake - [k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360" y="115560"/>
            <a:ext cx="5112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or [ɔ:] –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«и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3311640" cy="247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6"/>
          <p:cNvSpPr/>
          <p:nvPr/>
        </p:nvSpPr>
        <p:spPr>
          <a:xfrm rot="12964200">
            <a:off x="6781320" y="26618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3399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596360" y="2781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-облако 8"/>
          <p:cNvSpPr/>
          <p:nvPr/>
        </p:nvSpPr>
        <p:spPr>
          <a:xfrm rot="10800000">
            <a:off x="250920" y="3500280"/>
            <a:ext cx="3241440" cy="2881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1806480" cy="1727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3564000" y="4437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11"/>
          <p:cNvSpPr/>
          <p:nvPr/>
        </p:nvSpPr>
        <p:spPr>
          <a:xfrm rot="7609800">
            <a:off x="4701240" y="3381840"/>
            <a:ext cx="3182760" cy="299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1511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73484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6"/>
          <p:cNvSpPr/>
          <p:nvPr/>
        </p:nvSpPr>
        <p:spPr>
          <a:xfrm rot="10800000">
            <a:off x="5363640" y="3789360"/>
            <a:ext cx="2908440" cy="2481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9607400">
            <a:off x="5412240" y="45518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w!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9543800">
            <a:off x="6407280" y="4923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tud</cp:lastModifiedBy>
  <dcterms:modified xsi:type="dcterms:W3CDTF">2022-11-13T09:14:56Z</dcterms:modified>
  <cp:revision>527</cp:revision>
  <dc:subject/>
  <dc:title>Diapositiva 1</dc:title>
</cp:coreProperties>
</file>