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FDA-161A-4B3B-A009-54B555A5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0FE-9DA5-4E0B-BAFB-01C472C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7C1-5BDD-4DDC-A03C-16F569F9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686-D23E-4D3C-BB5D-391B4FAA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A4D-E67A-4821-80CE-4307CF8A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7A7-396E-484B-8B70-AAB56B4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B10-840C-4DE3-BB59-53CD7908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7C1-F4E7-4C72-9AFE-3DD63F6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5EC-ADCE-46C6-8DB5-8D7ABF5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998-89E6-485D-A937-FD1BCE1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9EB-40EC-47C6-B709-6EB8942A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1EA-5A56-491B-B8AA-5CA07A0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3F2-D24B-46E4-86DB-0C140FF849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определенный артикль, чтение буквы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6080" y="378936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EP</a:t>
            </a:r>
            <a:r>
              <a:rPr b="1" i="1" lang="es-E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es-E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2"/>
          <a:srcRect l="19784" t="35035" r="20449" b="29953"/>
          <a:stretch/>
        </p:blipFill>
        <p:spPr>
          <a:xfrm>
            <a:off x="71280" y="5173560"/>
            <a:ext cx="43372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23984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, Pete, cat, hat, cake, plat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, street, green, shelf, bench, tram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ke, he, she, map, see, grann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, rat, dress, place, me, leg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, left, ten, red, flag, face, be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, hand, flat, make,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Indefenite Article “a / an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Placeholder 4"/>
          <p:cNvSpPr/>
          <p:nvPr/>
        </p:nvSpPr>
        <p:spPr>
          <a:xfrm>
            <a:off x="179280" y="1125360"/>
            <a:ext cx="4040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a”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5"/>
          <p:cNvSpPr/>
          <p:nvPr/>
        </p:nvSpPr>
        <p:spPr>
          <a:xfrm>
            <a:off x="468360" y="2133720"/>
            <a:ext cx="320688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Placeholder 6"/>
          <p:cNvSpPr/>
          <p:nvPr/>
        </p:nvSpPr>
        <p:spPr>
          <a:xfrm>
            <a:off x="4932360" y="1197000"/>
            <a:ext cx="4041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a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7"/>
          <p:cNvSpPr/>
          <p:nvPr/>
        </p:nvSpPr>
        <p:spPr>
          <a:xfrm>
            <a:off x="4932360" y="2205000"/>
            <a:ext cx="4041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бери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”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ли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ец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tree. 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elf. 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___ ant.  2) It is ___ big ant.  3) I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___ egg. 4) I can see ___ black lam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It is ___ floor lamp. 6) We can see 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ry cake. 7) It is ___ good c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We can see ___ troll and ___ 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It is ___ ap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"/>
          <p:cNvSpPr txBox="1"/>
          <p:nvPr/>
        </p:nvSpPr>
        <p:spPr>
          <a:xfrm>
            <a:off x="1835280" y="2349360"/>
            <a:ext cx="576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4859280" y="2349360"/>
            <a:ext cx="360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332000" y="2924280"/>
            <a:ext cx="5760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6" name="WordArt 2"/>
          <p:cNvSpPr txBox="1"/>
          <p:nvPr/>
        </p:nvSpPr>
        <p:spPr>
          <a:xfrm>
            <a:off x="5651640" y="4724280"/>
            <a:ext cx="57600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7" name="WordArt 2"/>
          <p:cNvSpPr txBox="1"/>
          <p:nvPr/>
        </p:nvSpPr>
        <p:spPr>
          <a:xfrm>
            <a:off x="1763640" y="5300640"/>
            <a:ext cx="576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8" name="WordArt 2"/>
          <p:cNvSpPr txBox="1"/>
          <p:nvPr/>
        </p:nvSpPr>
        <p:spPr>
          <a:xfrm>
            <a:off x="5364000" y="2924280"/>
            <a:ext cx="360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9" name="WordArt 2"/>
          <p:cNvSpPr txBox="1"/>
          <p:nvPr/>
        </p:nvSpPr>
        <p:spPr>
          <a:xfrm>
            <a:off x="1908000" y="3500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0" name="WordArt 2"/>
          <p:cNvSpPr txBox="1"/>
          <p:nvPr/>
        </p:nvSpPr>
        <p:spPr>
          <a:xfrm>
            <a:off x="7380360" y="3500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1" name="WordArt 2"/>
          <p:cNvSpPr txBox="1"/>
          <p:nvPr/>
        </p:nvSpPr>
        <p:spPr>
          <a:xfrm>
            <a:off x="4211640" y="4149720"/>
            <a:ext cx="360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2" name="WordArt 2"/>
          <p:cNvSpPr txBox="1"/>
          <p:nvPr/>
        </p:nvSpPr>
        <p:spPr>
          <a:xfrm>
            <a:off x="3419640" y="4724280"/>
            <a:ext cx="3603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598760" cy="141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2411280" y="1197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7164360" y="3933720"/>
            <a:ext cx="1152720" cy="231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6"/>
          <a:stretch/>
        </p:blipFill>
        <p:spPr>
          <a:xfrm>
            <a:off x="179280" y="2708280"/>
            <a:ext cx="2305080" cy="238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7"/>
          <a:stretch/>
        </p:blipFill>
        <p:spPr>
          <a:xfrm>
            <a:off x="1979640" y="501336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8"/>
          <a:stretch/>
        </p:blipFill>
        <p:spPr>
          <a:xfrm>
            <a:off x="7093080" y="1268280"/>
            <a:ext cx="1809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19399200">
            <a:off x="614520" y="289080"/>
            <a:ext cx="10080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124000" y="1125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e -  [rəʊz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з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146700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124000" y="242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ne -  [st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ме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2124000" y="386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e -  [b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2772000" cy="1846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0"/>
          <p:cNvSpPr/>
          <p:nvPr/>
        </p:nvSpPr>
        <p:spPr>
          <a:xfrm>
            <a:off x="2627280" y="530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at -  [bəʊt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д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1512720" cy="1511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403280" y="981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t -  [kəʊt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льт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08000" y="1916280"/>
            <a:ext cx="1633320" cy="1296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1835280" y="2276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ne -  [fəʊn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008000" cy="1387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1692360" y="364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-  [kəʊld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1459080" cy="1512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1835280" y="501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-  [əʊld] 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р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Гласная буква </a:t>
            </a:r>
            <a:r>
              <a:rPr b="1" i="1" lang="en-US" sz="6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“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19700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а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 = [ɒ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f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35280" y="1196640"/>
            <a:ext cx="3306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ткрытый с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 = [əʊ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6804000" y="6669000"/>
            <a:ext cx="216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528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[əʊ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222268"/>
                </a:solidFill>
                <a:latin typeface="Arial"/>
              </a:rPr>
              <a:t>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00720" y="907560"/>
            <a:ext cx="4186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[əʊ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a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Гласная буква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“o” </a:t>
            </a:r>
            <a:r>
              <a:rPr b="1" i="1" lang="ru-RU" sz="36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букевосочет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низ 5"/>
          <p:cNvSpPr/>
          <p:nvPr/>
        </p:nvSpPr>
        <p:spPr>
          <a:xfrm>
            <a:off x="2268360" y="1773360"/>
            <a:ext cx="358920" cy="863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6"/>
          <p:cNvSpPr/>
          <p:nvPr/>
        </p:nvSpPr>
        <p:spPr>
          <a:xfrm>
            <a:off x="6372360" y="1628640"/>
            <a:ext cx="360360" cy="86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Крендясова</cp:lastModifiedBy>
  <dcterms:modified xsi:type="dcterms:W3CDTF">2022-11-02T07:55:03Z</dcterms:modified>
  <cp:revision>776</cp:revision>
  <dc:subject/>
  <dc:title>Diapositiva 1</dc:title>
</cp:coreProperties>
</file>