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jpeg" ContentType="image/jpeg"/>
  <Override PartName="/ppt/media/image23.jpeg" ContentType="image/jpeg"/>
  <Override PartName="/ppt/media/image24.png" ContentType="image/pn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D215-7C12-45B2-866B-512EB12C08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F8ED-5FA2-46D2-A1E4-9C50B016DD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07B-51D9-42B3-B213-5D9D2427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7E3-96EC-4712-920A-0A194873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66E7E-26D5-4157-9051-ED2A592B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6893B-BA91-4C1F-BAC1-B3913729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83F9B-783C-4C91-9E90-640BCA3B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B04CC-DD4D-4F4A-B362-7A4D5A4E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C46A0-2155-40F2-8A94-87234DA4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3013D-0874-449F-9E46-ECA2F6F0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59973-0741-4B92-9E9E-6F97E414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9F54F-64A5-4D97-85F6-64BCA333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4A613-DE59-4358-8DFB-06CF4411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3C3-41DE-436E-8534-715FB60C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FF8-B93B-4765-ADAF-AA49ED3B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F376-8EB2-4CEF-BB61-2D08CCCE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8F58-579F-49F6-A9E1-B53832DE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4142-51D9-40B2-811F-13DF164A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2046-276D-4BFD-8166-EAF49CD4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A411-648B-4D3D-A558-587D56EB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04AC-2641-4C13-8ED5-40D6E20A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DBBD-97E6-4891-B535-61E8B026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F54-7B9C-4A23-9B06-2CE1F497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3DE3-1EAA-49A5-BF88-309BE536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1918-5E78-4CBE-81AD-970159D1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FA67-ED4C-43FD-92A6-63C40911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9BAB-EB51-468A-8C9C-02A82025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1EB5-5872-4700-9041-B5171DD6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437C-B046-49D5-818A-D3EB4301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6127-E085-4B15-9F10-59898BEB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BEF6-725B-4136-BF4F-7887D676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94A1-E9B2-4C92-8E13-F1C9DA18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72EE1-2BDA-43E3-BD2D-403CE4BA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E25-6CEC-4E55-984A-9CF564FA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1D31-781B-4D7C-B906-1387551D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CDE07-DE78-4644-A438-243660AF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BAB3B-4247-47EA-B841-1D16131B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67DC4-03A8-4D34-8D57-B0F9D860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23F3-BDC4-4A78-9D77-CDD1AF02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CBCE-806D-40DB-9B68-48B5E1E7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826C-37C0-4A42-A78D-B02175C8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0079B-4E8F-4624-BC8B-FD89FC8D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F8207-6DB9-4E94-8CBE-B117FE7B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2A9E4-3697-400A-A58D-A5C7CF39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3A1-1ECD-4D4D-BC15-12C6E9FC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9953C-1E2B-4029-A3C9-0D073497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F1BA-DD88-4720-8EAF-4C13AC1F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753C-41B2-4EE2-903A-25AFB3D0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922CB-9D9B-4B65-A992-A774AACF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4C8AC-B872-471C-A42E-FCFF698A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0F6E-554F-4E6F-A21E-147EFEF4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0907-00D2-4347-B240-7F6C929C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81546-266A-4C5F-B118-A0583EA1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BB39-6422-43BD-8D5D-DDFAF47B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8A7C0-1133-4825-B27D-24E81E2C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F80-B57E-468F-9BD4-7256E6E0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540DB-5323-4A73-B526-E0DAD9C6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4481D-0827-483C-9088-0D2029E2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8CC93-B4B2-4356-9417-804D7FBA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0F421-1232-42DD-B5D0-4D7464A9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8E675-927A-4331-94E5-98D06E40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8C33A-DF92-4613-8391-C7B8A1BD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1A71B-C7BC-4E37-9722-CC10A4EC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B325E-9FC0-457F-A4A0-CC83D366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C63A4-5EFC-45CD-B687-DC25C9E1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D8730-E94D-42BE-B8A7-E85F3647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75C-97DD-45C1-88B1-8C4DF9EB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EA2E0-C92B-4FE6-A566-565A990A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3EC33-E4E9-458F-9F40-335DFF36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A7680-4D86-413B-AC71-31B88657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DE989-6CAE-4DB1-8111-8A18B67A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B064D-8591-491B-922C-CFB2EE05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D6333-746B-468E-A7A9-2B44CA01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553D3-E8C9-4F76-B61F-CECFF802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7888E-201C-41CC-9B40-0A520413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6F4EB-3435-4180-A42D-402C980E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CA6A0-E076-4DD6-A552-4D6E4896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B5F-8BB1-498C-B096-57A66E72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E5661-4BD2-4A7A-B15F-8026A1F5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D4ACD-0F90-45B8-813E-CBA4AC4A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D9E8F-3E48-492A-9ADC-9A937281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51006-40CB-45F3-9FA1-18036535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A075B-641B-419C-A4E1-5957790F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E2D63-0A3A-43B8-9699-A71DE85B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BDE2C-C544-4451-B63C-BC997C43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BA293-38CA-4266-B08B-5FAC2490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EEFEB-174A-48EC-AA81-A0872DAF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D8518-1FDC-4174-901B-A881FA4A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E6F-3443-4BE2-9FAB-4F4D7EC7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07C2E-9A7A-4D8F-B9FD-075BB999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BCA3C-F154-43C7-9C2C-B31751E1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667B6-7E92-47C2-A0D7-18311436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48420-0387-4F9A-A22C-4DF07148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3DBB3-D462-41D5-A478-680E0BD1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B8AB7-9AD9-42B7-B8D0-C4AC316E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BC867-5DD4-42A8-8795-3088B824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5B2C7-174D-426D-920C-4FB32C40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42011-9A59-41AB-80F9-F000E428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93629-B454-4046-9E8B-39BB8223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018-0D6C-41FF-BFDD-3D4B5ECD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140D8-C844-4742-9B4D-565760B8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85EB0-3817-4296-9772-8245D268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ADA4C-1E0B-4519-A2BC-86B010A1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D359F-BF5A-4305-8928-387E0084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3D4CF-330C-4727-A43A-145B5723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951F3-FBD8-410D-9E7D-AE3F5FF2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BC08E-98DE-4E92-A832-CA74C8C0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A9DBA-B909-408D-95B9-D2D5D49E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4F694-9658-4DDF-A0A8-80C7F19D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3A8A3-88EB-4952-AD32-2DED0576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159C-CEC5-4311-8034-DA6040F73D3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C1E6-6D8A-4A1B-B480-3A03B593DD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5174-DFD4-471A-AC59-2D5DAF3B43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A5EB-EFA3-4376-8FFE-1DAAD6ABBE4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0038-2858-4502-BA5B-ACC5497573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5E67-11F0-48E8-8B3A-2A344A811E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5769-2B58-4C36-B628-3D6196E22A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95D7-B8A3-4E64-AAD9-196136A0E0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AFD0-C758-4D6C-99C6-F3A445DD5A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8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s://www.youtube.com/watch?v=r681KOLdwU8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5"/>
          <p:cNvSpPr/>
          <p:nvPr/>
        </p:nvSpPr>
        <p:spPr>
          <a:xfrm>
            <a:off x="591984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WordArt 4"/>
          <p:cNvSpPr txBox="1"/>
          <p:nvPr/>
        </p:nvSpPr>
        <p:spPr>
          <a:xfrm>
            <a:off x="250920" y="260280"/>
            <a:ext cx="8497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66ff33"/>
                  </a:outerShdw>
                </a:effectLst>
                <a:latin typeface="Georgia"/>
              </a:rPr>
              <a:t>Урок</a:t>
            </a:r>
            <a:endParaRPr b="1" i="1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66ff33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66ff33"/>
                  </a:outerShdw>
                </a:effectLst>
                <a:latin typeface="Georgia"/>
              </a:rPr>
              <a:t>литературного</a:t>
            </a:r>
            <a:endParaRPr b="1" i="1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66ff33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66ff33"/>
                  </a:outerShdw>
                </a:effectLst>
                <a:latin typeface="Georgia"/>
              </a:rPr>
              <a:t>чтения</a:t>
            </a:r>
            <a:endParaRPr b="1" i="1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66ff33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859040" y="285840"/>
            <a:ext cx="3786120" cy="6048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85840" y="213840"/>
            <a:ext cx="16430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Medium"/>
              </a:rPr>
              <a:t>БАГРЯНЫЙ</a:t>
            </a:r>
            <a:r>
              <a:rPr b="1" lang="en-US" sz="18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Franklin Gothic Medium"/>
              </a:rPr>
              <a:t>–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85480" y="785520"/>
            <a:ext cx="1571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Franklin Gothic Medium"/>
              </a:rPr>
              <a:t>ЛИЛОВЫЙ</a:t>
            </a:r>
            <a:r>
              <a:rPr b="1" lang="en-US" sz="1800" spc="-1" strike="noStrike">
                <a:solidFill>
                  <a:srgbClr val="7030a0"/>
                </a:solidFill>
                <a:latin typeface="Franklin Gothic Medium"/>
              </a:rPr>
              <a:t>  -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642680" y="928800"/>
            <a:ext cx="72867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олетовый цвет, цвет фиалки и сирен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1" name="Содержимое 3" descr="http://www.mockelsnasherrgard.se/km/file/igl/46/fsz/Autumn_photos_5.jpg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635256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b05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8760" y="213840"/>
            <a:ext cx="25048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Franklin Gothic Medium"/>
              </a:rPr>
              <a:t>ТЕРЕМ</a:t>
            </a:r>
            <a:r>
              <a:rPr b="0" lang="ru-RU" sz="3200" spc="-1" strike="noStrike">
                <a:solidFill>
                  <a:srgbClr val="00b050"/>
                </a:solidFill>
                <a:latin typeface="Franklin Gothic Medium"/>
              </a:rPr>
              <a:t> –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642760" y="666360"/>
            <a:ext cx="6294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Franklin Gothic Medium"/>
              </a:rPr>
              <a:t>НА РУСИ ДОМ В ВИДЕ БАШН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80800" y="2714400"/>
            <a:ext cx="4005000" cy="38574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4647960" y="1315800"/>
            <a:ext cx="4289400" cy="3941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9" descr="22151982_file1485"/>
          <p:cNvPicPr/>
          <p:nvPr/>
        </p:nvPicPr>
        <p:blipFill>
          <a:blip r:embed="rId3"/>
          <a:stretch/>
        </p:blipFill>
        <p:spPr>
          <a:xfrm>
            <a:off x="4714920" y="1285920"/>
            <a:ext cx="4214880" cy="4000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2" descr="5902"/>
          <p:cNvPicPr/>
          <p:nvPr/>
        </p:nvPicPr>
        <p:blipFill>
          <a:blip r:embed="rId4"/>
          <a:stretch/>
        </p:blipFill>
        <p:spPr>
          <a:xfrm>
            <a:off x="214200" y="2714760"/>
            <a:ext cx="4071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219240" y="6345360"/>
            <a:ext cx="1688760" cy="793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280800" y="142920"/>
            <a:ext cx="429084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Medium"/>
              </a:rPr>
              <a:t>РЕЗЬБА</a:t>
            </a:r>
            <a:r>
              <a:rPr b="0" lang="ru-RU" sz="3200" spc="-1" strike="noStrike">
                <a:solidFill>
                  <a:srgbClr val="b0761f"/>
                </a:solidFill>
                <a:latin typeface="Franklin Gothic Medium"/>
              </a:rPr>
              <a:t> -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28880" y="571320"/>
            <a:ext cx="721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761f"/>
                </a:solidFill>
                <a:latin typeface="Times New Roman"/>
                <a:ea typeface="Times New Roman"/>
              </a:rPr>
              <a:t>УЗОРЧАТЫЙ РИСУНОК, ВЫРЕЗАННЫЙ НА КАКОМ-ЛИБО ТВЕРДОМ МАТЕРИАЛ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Содержимое 3" descr="http://xeloz.ru/ooo/37/tekstura_fon_uzory_obem_1920x1200.jpg"/>
          <p:cNvPicPr/>
          <p:nvPr/>
        </p:nvPicPr>
        <p:blipFill>
          <a:blip r:embed="rId2"/>
          <a:stretch/>
        </p:blipFill>
        <p:spPr>
          <a:xfrm>
            <a:off x="281160" y="1959120"/>
            <a:ext cx="4290840" cy="31845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4857840" y="3214440"/>
            <a:ext cx="4000320" cy="342900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3" descr="http://333v.ru/uploads/12/12ae6793e532d921d9d19b4c85788f72.jpg"/>
          <p:cNvPicPr/>
          <p:nvPr/>
        </p:nvPicPr>
        <p:blipFill>
          <a:blip r:embed="rId4"/>
          <a:stretch/>
        </p:blipFill>
        <p:spPr>
          <a:xfrm>
            <a:off x="4786200" y="3071880"/>
            <a:ext cx="4071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10177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Что напомнил осенний лес Бунину? Как подчёркнутые сравнения помогают нарисовать образ леса-терема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Осенний лес напомнил поэту…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Прямоугольник 6"/>
          <p:cNvSpPr/>
          <p:nvPr/>
        </p:nvSpPr>
        <p:spPr>
          <a:xfrm>
            <a:off x="4572000" y="2417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Georgia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расписной терем, очень красивый, нарядный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10177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Как подчёркнутые сравнения помогают нарисовать образ леса-терема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Лес стоит стеной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, словно __________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Ёлочки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напоминают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в________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по краям забор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Просветы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среди ветвей и листвы, в которые видно небо, напоминают поэту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__________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.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А пустая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поляна - _____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Эти сравнения помогают ярко представить себе ________________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80800" y="1315800"/>
            <a:ext cx="4290840" cy="3941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4647960" y="1315800"/>
            <a:ext cx="4289400" cy="39416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https://cf3.ppt-online.org/files3/slide/n/NfKUdphomrukiv9zwFZ8YqylOBMHWV6xEgtGaS/slide-5.jpg"/>
          <p:cNvPicPr/>
          <p:nvPr/>
        </p:nvPicPr>
        <p:blipFill>
          <a:blip r:embed="rId3"/>
          <a:stretch/>
        </p:blipFill>
        <p:spPr>
          <a:xfrm>
            <a:off x="33480" y="0"/>
            <a:ext cx="9570960" cy="71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1017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Какие эпитеты использует для этого автор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Расписной, весёлый, пёстрый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- описывают _________________.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Жёлтый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цвет берёз напоминает ________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В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сквозной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листве видны _________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Поляна словно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______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22"/>
                </a:solidFill>
                <a:latin typeface="Arial Black"/>
              </a:rPr>
              <a:t>Эпитеты дополняют сравнения и помогают составить целостную картину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6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10177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Почему слово Осень поэт пишет с большой буквы? Чего он достигает необычным изображением Осени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Поэт _______ Осень. Он сравнивает её с ______, а вдова всегда _________. </a:t>
            </a: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Таким изображением осени поэт достигает особого настроения стихотворения - груст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3" descr="http://kolyan.net/uploads/posts/2011-05/1306820663_image_049.jpg"/>
          <p:cNvPicPr/>
          <p:nvPr/>
        </p:nvPicPr>
        <p:blipFill>
          <a:blip r:embed="rId1"/>
          <a:stretch/>
        </p:blipFill>
        <p:spPr>
          <a:xfrm>
            <a:off x="0" y="0"/>
            <a:ext cx="3286080" cy="278604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3" descr="http://cs1.livemaster.ru/storage/3c/8c/5824e9edbf36d3b6bc127dc5fegt--kartiny-panno-kartina-maslom-vechernij-zvon.jpg"/>
          <p:cNvPicPr/>
          <p:nvPr/>
        </p:nvPicPr>
        <p:blipFill>
          <a:blip r:embed="rId2"/>
          <a:stretch/>
        </p:blipFill>
        <p:spPr>
          <a:xfrm>
            <a:off x="5643720" y="3786120"/>
            <a:ext cx="3500280" cy="307188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4"/>
          <p:cNvSpPr/>
          <p:nvPr/>
        </p:nvSpPr>
        <p:spPr>
          <a:xfrm>
            <a:off x="0" y="285768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И.И.Левитан Березовая роща                                      2. А.К.Саврасов Ос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И.И. Левитан                                                                  4. И.И.Леви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Рисунок 5" descr="http://migha.ru/imgs/svyaze-prirodi-i-narodnih-promislov/4742.jpg"/>
          <p:cNvPicPr/>
          <p:nvPr/>
        </p:nvPicPr>
        <p:blipFill>
          <a:blip r:embed="rId3"/>
          <a:stretch/>
        </p:blipFill>
        <p:spPr>
          <a:xfrm>
            <a:off x="5643720" y="0"/>
            <a:ext cx="3500280" cy="285768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6" descr="http://nevsepic.com.ua/uploads/posts/2011-02/1298387616_osen15-085.jpg"/>
          <p:cNvPicPr/>
          <p:nvPr/>
        </p:nvPicPr>
        <p:blipFill>
          <a:blip r:embed="rId4"/>
          <a:stretch/>
        </p:blipFill>
        <p:spPr>
          <a:xfrm>
            <a:off x="0" y="3786120"/>
            <a:ext cx="3286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242800" y="5143680"/>
            <a:ext cx="69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Franklin Gothic Medium"/>
              </a:rPr>
              <a:t>     </a:t>
            </a: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Листья с веток облетают,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Птицы к югу улетают,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«Что за время года?»-спросим.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Нам ответят: «Это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                                     </a:t>
            </a: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осень»!   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Рисунок 3" descr="http://www.ya-zemlyak.ru/images/zhivopis/pictures/max/uts009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Стр. 150-151. Выразительное чтение   стихотвор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В тетради выполнить задания 3, 5, на стр. 151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7" descr=""/>
          <p:cNvPicPr/>
          <p:nvPr/>
        </p:nvPicPr>
        <p:blipFill>
          <a:blip r:embed="rId1"/>
          <a:stretch/>
        </p:blipFill>
        <p:spPr>
          <a:xfrm>
            <a:off x="3260880" y="573120"/>
            <a:ext cx="245088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71320" y="2214360"/>
            <a:ext cx="5429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"/>
              </a:rPr>
              <a:t>      </a:t>
            </a:r>
            <a:r>
              <a:rPr b="0" lang="ru-RU" sz="2400" spc="-1" strike="noStrike">
                <a:solidFill>
                  <a:srgbClr val="ff9900"/>
                </a:solidFill>
                <a:latin typeface="Franklin Gothic Medium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Franklin Gothic Medium"/>
              </a:rPr>
              <a:t>ИВАН АЛЕКСЕЕВИЧ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Franklin Gothic Medium"/>
              </a:rPr>
              <a:t>БУНИН. 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571720" y="2428560"/>
            <a:ext cx="3079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Franklin Gothic Medium"/>
              </a:rPr>
              <a:t>ЛИСТОПАД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71320" y="4242960"/>
            <a:ext cx="40050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66Б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У754Н8967И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9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Содержимое 4" descr="http://festival.1september.ru/articles/574953/img1.jpg"/>
          <p:cNvPicPr/>
          <p:nvPr/>
        </p:nvPicPr>
        <p:blipFill>
          <a:blip r:embed="rId2"/>
          <a:stretch/>
        </p:blipFill>
        <p:spPr>
          <a:xfrm>
            <a:off x="5357880" y="3929040"/>
            <a:ext cx="33336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4" descr=""/>
          <p:cNvPicPr/>
          <p:nvPr/>
        </p:nvPicPr>
        <p:blipFill>
          <a:blip r:embed="rId1"/>
          <a:stretch/>
        </p:blipFill>
        <p:spPr>
          <a:xfrm>
            <a:off x="426960" y="665280"/>
            <a:ext cx="6145200" cy="981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213840" y="135720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РАЗИТЕЛЬНОЕ ЧТЕНИЕ СТИХОТВОРЕНИЯ И.А.БУНИНА «ЛИСТОПАД»</a:t>
            </a:r>
            <a:br>
              <a:rPr sz="2000"/>
            </a:b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28760" y="2428560"/>
            <a:ext cx="856296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 урока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Познакомиться с биографией Бунин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Познакомиться со стихотворением « Листопад»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Выяснить значение непонятных сл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Научиться читать стихотворение выразительн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Подвести итог проделанной работы, оценить свою работ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57120" y="4857840"/>
            <a:ext cx="84297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            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Иван Алексеевич Бунин родился  10 октября 1870 года в Воронеже, в дворянской семье, которая была бедной, но имела богатую родословную. В 1874 году Бунины решили перебраться из города  в  деревню, где было поместье семьи. Там и прошли детские годы поэта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14" descr="31-010"/>
          <p:cNvPicPr/>
          <p:nvPr/>
        </p:nvPicPr>
        <p:blipFill>
          <a:blip r:embed="rId1"/>
          <a:stretch/>
        </p:blipFill>
        <p:spPr>
          <a:xfrm>
            <a:off x="2357280" y="357120"/>
            <a:ext cx="4429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213840" y="4285800"/>
            <a:ext cx="86439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 19 лет Бунин работает корректором в газете, библиотекарем, журналистом, переходит к литературному творчеству. После революции Бунин покидает Россию, уезжает во Францию, в Париж. За границей писатель очень тосковал по родине, но не вернулся обратно - умер от тяжелой болез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Рисунок 3" descr="http://oboi.cc/uploads/11_05_2013/view/201209/oboik.ru_43001.jpg"/>
          <p:cNvPicPr/>
          <p:nvPr/>
        </p:nvPicPr>
        <p:blipFill>
          <a:blip r:embed="rId1"/>
          <a:stretch/>
        </p:blipFill>
        <p:spPr>
          <a:xfrm>
            <a:off x="2000160" y="214200"/>
            <a:ext cx="5286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3499920"/>
            <a:ext cx="840096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Book"/>
              </a:rPr>
              <a:t>Первое стихотворение Бунин написал в восемь лет. За свою долгую жизнь (83 года) Иван Алексеевич написал много стихотворений, а также прозаических произведений. За сборник "Листопад" награждён Пушкинской премие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Рисунок 3" descr="http://megabook.com.ua/upload/iblock/825/9785389012264_0001.jpg"/>
          <p:cNvPicPr/>
          <p:nvPr/>
        </p:nvPicPr>
        <p:blipFill>
          <a:blip r:embed="rId1"/>
          <a:stretch/>
        </p:blipFill>
        <p:spPr>
          <a:xfrm>
            <a:off x="214200" y="28584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" descr="http://hoodiesforsale.net/images/56166a3595109.jpg"/>
          <p:cNvPicPr/>
          <p:nvPr/>
        </p:nvPicPr>
        <p:blipFill>
          <a:blip r:embed="rId2"/>
          <a:stretch/>
        </p:blipFill>
        <p:spPr>
          <a:xfrm>
            <a:off x="1785960" y="1500120"/>
            <a:ext cx="1643040" cy="185760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5" descr="http://www.libex.ru/dimg/35110.jpg"/>
          <p:cNvPicPr/>
          <p:nvPr/>
        </p:nvPicPr>
        <p:blipFill>
          <a:blip r:embed="rId3"/>
          <a:stretch/>
        </p:blipFill>
        <p:spPr>
          <a:xfrm>
            <a:off x="5643720" y="150012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http://old.prodalit.ru/images/210000/207038.jpg"/>
          <p:cNvPicPr/>
          <p:nvPr/>
        </p:nvPicPr>
        <p:blipFill>
          <a:blip r:embed="rId4"/>
          <a:stretch/>
        </p:blipFill>
        <p:spPr>
          <a:xfrm>
            <a:off x="3786120" y="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http://www.directmedia.ru/file/88/888aac3a71ed9ca0a7327d91b9d016b41vftt999kb/11468.jpg"/>
          <p:cNvPicPr/>
          <p:nvPr/>
        </p:nvPicPr>
        <p:blipFill>
          <a:blip r:embed="rId5"/>
          <a:stretch/>
        </p:blipFill>
        <p:spPr>
          <a:xfrm>
            <a:off x="7286760" y="35712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s://www.youtube.com/watch?v=r681KOLdwU8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70c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160" y="571320"/>
            <a:ext cx="250488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АЗУРЬ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714400" y="642600"/>
            <a:ext cx="6151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СВЕТЛО- СИНИЙ ЦВЕ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280800" y="1315800"/>
            <a:ext cx="4290840" cy="3941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4647960" y="1315800"/>
            <a:ext cx="4289400" cy="394164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3" descr="http://www.nachalka.com/photo/d/95089-4/DSC09944.JPG"/>
          <p:cNvPicPr/>
          <p:nvPr/>
        </p:nvPicPr>
        <p:blipFill>
          <a:blip r:embed="rId3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58:33Z</dcterms:created>
  <dc:creator>Администратор</dc:creator>
  <dc:description/>
  <dc:language>en-US</dc:language>
  <cp:lastModifiedBy>Пользователь</cp:lastModifiedBy>
  <dcterms:modified xsi:type="dcterms:W3CDTF">2022-11-18T10:52:02Z</dcterms:modified>
  <cp:revision>196</cp:revision>
  <dc:subject/>
  <dc:title>Слайд 1</dc:title>
</cp:coreProperties>
</file>