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3.jpeg" ContentType="image/jpeg"/>
  <Override PartName="/ppt/media/image24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E42D-8A8F-4EB6-A05A-12978A599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53F4-F127-4A06-BF8D-7E98A2E41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7C6-FA4B-4144-8F98-DB302301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599-E2B7-417F-AB63-948E5F04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13E9D-795E-4B73-9AF4-1427EA6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85CDF-0993-464B-90DB-AF1DA87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46A5-8AA1-4D59-8D20-8FE08DB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C3CE8-7561-4BAE-9CCD-530B7CB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C48D2-4335-4765-8F02-D5BB2BDC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1B13E-EF5C-45B8-BF30-95E3CF38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977AE-5E59-484D-A904-DA0EF40B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533DE-DA97-40E9-9242-38A21D0F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3E525-7373-4EFD-B3F7-3000902B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3AE-FD14-48DF-9F0D-18660CCD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EA6-B3A1-438A-8161-7FA534B9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EF61-4366-4DDC-B5FD-B65839A3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EBF0-9970-4B21-8D53-CF7E61E8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F7D2-E64C-4EA7-AB73-2DF4642C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3E25-FAE5-4D4A-B086-83D82482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9D87-2677-4934-89EC-9EB5B026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80DC-D753-48DC-958B-A403962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20E5-9E79-4D95-84E6-67DEFC2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76B-8B25-4917-B5F4-3D701FD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A098-9909-4A55-81AC-CB414B4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1CAC-F991-40B7-8631-9E84BC0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B67-4A32-421F-A58A-C289622D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9F0C-2F95-4637-900B-C93C7514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A584-3CD5-479E-8FCD-017E644F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9F83-DF71-47CD-A0F8-28AEC008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93C1-D97B-4C09-92EF-4CE27DED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2D1C-5CCF-47C9-9F8A-CC0F8FF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9D9E-CF61-4125-AB18-E6B6CFF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9F90-9A42-4C88-960D-3633D82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8A9-9C87-4C64-BACA-8C2C445F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9F75-EEE3-41D9-BE6E-AB9E2440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CDD3-D683-43CC-A701-768CA31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C8823-7058-4C13-A01E-C0DE22DF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385E-8244-4B65-8856-AEFA3EB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24FB-F61A-4146-B5A9-E3C17416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D671-4B7D-46C9-A61B-68BB227D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CED0-CD8D-4BF9-8996-035E95CD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9BDC-E321-495D-BC62-1D671C33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2AEF-6650-41E9-B20F-1514CE4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059A-4F3E-4DA3-B722-FE512103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94E-C119-4BAA-9335-3750C023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353B-38CF-4F62-B235-D74A9221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850F-2699-48E0-8238-F96DB087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72F10-391F-4CA0-BEE1-64ED1FF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962B-9DD0-4127-A413-2C3C32E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6BE7-ECB8-4F6F-AEF3-778FA6ED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A12A-21D4-47D6-9EB6-9FFC8E8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CE6D-DCC3-48BF-8EF9-53C54C5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B6DB9-1868-4C2B-9624-0517D2D2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8CEB-79A1-4C60-A1B3-25A580A1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738C1-0B6E-4930-9DE5-CFD0F975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E96-E23E-4B59-9D3D-101B3891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7FAD-D020-410A-B2EC-52DDEB5E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7851-BBF9-4237-A860-1B007859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BCAD-28FD-4F94-A53F-1AD96B7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E0AA-0102-4013-B9B8-83BD0D6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E3F3-9CCA-4EBA-B373-E330F395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99BE-4CD7-432B-80E9-31AAFC2F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FA796-8623-4D6F-982C-C2F8574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B10C-7E83-4394-8B03-EE76482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35CB5-B4BC-4FED-AA8F-63F398DF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17CB-2327-47C8-940D-15BA06A3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76A-0DD0-4107-A41F-DB465BBA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DBC72-0F88-45B5-B409-5E4627D5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1C3F-7EC0-44AC-95F4-1099185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CBB6F-FD54-4BB3-B0B9-42E42D4A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D5E27-2CBC-4BC4-B38B-B125BD51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6725-7DC6-42F7-82BF-CA16DC6A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1CF8-96C5-4CC8-9686-6FE9E34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C13A2-94DD-4655-94AE-CFF7E0E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CB34-6F0F-4E24-B289-231E3AC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CD34-2E71-4D90-92EB-A685B59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0D38-5A4D-432E-B17A-2EC2598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03E-12D5-45D8-92CC-5240398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C15F-6A74-4C8B-A6F4-5286ADC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15E8A-2EB7-482E-AC12-1776BC5D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C20F7-8193-48DD-9D4D-432A7457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5564-AE12-4015-854B-63A8BBB8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903D-EF4D-4610-B890-AA591D9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EF4B-FB01-4074-9863-058C22A0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2B03-3B05-4AC7-A632-A81F851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FAE5F-A0F9-4939-9011-E2074A3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3C0B-E3BE-4EF0-A2EB-0486135E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4FF4D-E6FD-4DBF-8D0B-91E8280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366-B5CC-4815-B1B1-44D97BBF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1977C-3CD2-4661-983D-1890905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12AB-5C04-4493-97EE-4160842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A5C65-B5B2-4607-9F5B-97DA3772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BD4C-F3C2-490A-8ABE-4081D125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22950-7693-4C3B-972C-005242EE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0155C-62B8-46FD-BD92-11B3B572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07D73-F848-4865-BA2B-40B5F45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89CF-FBD0-4808-BD03-CAA18228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2846-3DFD-4339-BFFB-F303FFD4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13DE-A41B-4D0A-BE25-1CA67A23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66A-B21E-4721-9A62-EDD0695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D252-40A9-455B-8D60-0BEB6F6A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78EB-8FF9-43B2-BD1A-92AB6DF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B9AB-76C2-454E-A15D-F68AE51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A8B4-EFE9-43AC-9AE4-31B1A86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3522D-F885-45AC-A48C-5955E7B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4BF56-3E93-483F-91B8-C8E4757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66C85-2ED9-4EAF-9A7E-2228A1BB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82089-2843-46E6-9E23-57AE00A2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627E1-4D08-4273-950D-3DA17DF1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DEBA-E082-4D21-BB2A-0018EAB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0D6A-D11A-4A27-83CB-85D8497430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439-14C5-426D-9E9B-39B07B0DC3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EE3-FF9F-4CE4-B700-581BCBF38F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019F-90D2-404F-8BF3-A1F1D06750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DE5-CB5D-46C5-96A0-3D02F96266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4FE4-4E0A-49E5-993D-912EBEF141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C689-0617-44AE-8D73-CB4BFAE798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7CC3-A8E4-464E-A724-26B6C41C59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44A0-C154-4839-9ACB-F26D3975C6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www.youtube.com/watch?v=r681KOLdwU8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591984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250920" y="260280"/>
            <a:ext cx="849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Урок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литературного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чтения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859040" y="285840"/>
            <a:ext cx="3786120" cy="6048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16430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Medium"/>
              </a:rPr>
              <a:t>БАГРЯНЫЙ</a:t>
            </a:r>
            <a:r>
              <a:rPr b="1" lang="en-US" sz="18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–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1571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Franklin Gothic Medium"/>
              </a:rPr>
              <a:t>ЛИЛОВЫЙ</a:t>
            </a: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  -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642680" y="928800"/>
            <a:ext cx="7286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олетовый цвет, цвет фиалки и сирен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Содержимое 3" descr="http://www.mockelsnasherrgard.se/km/file/igl/46/fsz/Autumn_photos_5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635256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b05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760" y="213840"/>
            <a:ext cx="2504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Franklin Gothic Medium"/>
              </a:rPr>
              <a:t>ТЕРЕМ</a:t>
            </a:r>
            <a:r>
              <a:rPr b="0" lang="ru-RU" sz="3200" spc="-1" strike="noStrike">
                <a:solidFill>
                  <a:srgbClr val="00b050"/>
                </a:solidFill>
                <a:latin typeface="Franklin Gothic Medium"/>
              </a:rPr>
              <a:t> –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642760" y="666360"/>
            <a:ext cx="6294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Franklin Gothic Medium"/>
              </a:rPr>
              <a:t>НА РУСИ ДОМ В ВИДЕ БАШ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80800" y="2714400"/>
            <a:ext cx="4005000" cy="3857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22151982_file1485"/>
          <p:cNvPicPr/>
          <p:nvPr/>
        </p:nvPicPr>
        <p:blipFill>
          <a:blip r:embed="rId3"/>
          <a:stretch/>
        </p:blipFill>
        <p:spPr>
          <a:xfrm>
            <a:off x="4714920" y="1285920"/>
            <a:ext cx="4214880" cy="4000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5902"/>
          <p:cNvPicPr/>
          <p:nvPr/>
        </p:nvPicPr>
        <p:blipFill>
          <a:blip r:embed="rId4"/>
          <a:stretch/>
        </p:blipFill>
        <p:spPr>
          <a:xfrm>
            <a:off x="21420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19240" y="6345360"/>
            <a:ext cx="1688760" cy="793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80800" y="142920"/>
            <a:ext cx="42908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Medium"/>
              </a:rPr>
              <a:t>РЕЗЬБА</a:t>
            </a: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 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28880" y="571320"/>
            <a:ext cx="721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761f"/>
                </a:solidFill>
                <a:latin typeface="Times New Roman"/>
                <a:ea typeface="Times New Roman"/>
              </a:rPr>
              <a:t>УЗОРЧАТЫЙ РИСУНОК, ВЫРЕЗАННЫЙ НА КАКОМ-ЛИБО ТВЕРДОМ МАТЕРИАЛ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Содержимое 3" descr="http://xeloz.ru/ooo/37/tekstura_fon_uzory_obem_1920x1200.jpg"/>
          <p:cNvPicPr/>
          <p:nvPr/>
        </p:nvPicPr>
        <p:blipFill>
          <a:blip r:embed="rId2"/>
          <a:stretch/>
        </p:blipFill>
        <p:spPr>
          <a:xfrm>
            <a:off x="281160" y="1959120"/>
            <a:ext cx="4290840" cy="3184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857840" y="3214440"/>
            <a:ext cx="4000320" cy="34290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3" descr="http://333v.ru/uploads/12/12ae6793e532d921d9d19b4c85788f72.jpg"/>
          <p:cNvPicPr/>
          <p:nvPr/>
        </p:nvPicPr>
        <p:blipFill>
          <a:blip r:embed="rId4"/>
          <a:stretch/>
        </p:blipFill>
        <p:spPr>
          <a:xfrm>
            <a:off x="4786200" y="3071880"/>
            <a:ext cx="4071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Что напомнил осенний лес Бунину? Как подчёркнутые сравнения помогают нарисовать образ леса-терема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Осенний лес напомнил поэту…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Прямоугольник 6"/>
          <p:cNvSpPr/>
          <p:nvPr/>
        </p:nvSpPr>
        <p:spPr>
          <a:xfrm>
            <a:off x="4572000" y="241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списной терем, очень красивый, нарядн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Как подчёркнутые сравнения помогают нарисовать образ леса-терема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Лес стоит стено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, словно __________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Ёлочки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напоминают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в__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по краям забор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Просветы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среди ветвей и листвы, в которые видно небо, напоминают поэту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____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А пустая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поляна - 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Эти сравнения помогают ярко представить себе ________________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https://cf3.ppt-online.org/files3/slide/n/NfKUdphomrukiv9zwFZ8YqylOBMHWV6xEgtGaS/slide-5.jpg"/>
          <p:cNvPicPr/>
          <p:nvPr/>
        </p:nvPicPr>
        <p:blipFill>
          <a:blip r:embed="rId3"/>
          <a:stretch/>
        </p:blipFill>
        <p:spPr>
          <a:xfrm>
            <a:off x="33480" y="0"/>
            <a:ext cx="9570960" cy="71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Какие эпитеты использует для этого автор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Расписной, весёлый, пёстры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- описывают _________________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цвет берёз напоминает ________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В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сквозно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листве видны _________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оляна словно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22"/>
                </a:solidFill>
                <a:latin typeface="Arial Black"/>
              </a:rPr>
              <a:t>Эпитеты дополняют сравнения и помогают составить целостную картину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6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Почему слово Осень поэт пишет с большой буквы? Чего он достигает необычным изображением Осени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оэт _______ Осень. Он сравнивает её с ______, а вдова всегда _________. </a:t>
            </a: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Таким изображением осени поэт достигает особого настроения стихотворения - гру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http://kolyan.net/uploads/posts/2011-05/1306820663_image_049.jpg"/>
          <p:cNvPicPr/>
          <p:nvPr/>
        </p:nvPicPr>
        <p:blipFill>
          <a:blip r:embed="rId1"/>
          <a:stretch/>
        </p:blipFill>
        <p:spPr>
          <a:xfrm>
            <a:off x="0" y="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3" descr="http://cs1.livemaster.ru/storage/3c/8c/5824e9edbf36d3b6bc127dc5fegt--kartiny-panno-kartina-maslom-vechernij-zvon.jpg"/>
          <p:cNvPicPr/>
          <p:nvPr/>
        </p:nvPicPr>
        <p:blipFill>
          <a:blip r:embed="rId2"/>
          <a:stretch/>
        </p:blipFill>
        <p:spPr>
          <a:xfrm>
            <a:off x="5643720" y="3786120"/>
            <a:ext cx="3500280" cy="30718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4"/>
          <p:cNvSpPr/>
          <p:nvPr/>
        </p:nvSpPr>
        <p:spPr>
          <a:xfrm>
            <a:off x="0" y="285768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И.И.Левитан Березовая роща                                      2. А.К.Саврасов 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И.И. Левитан                                                                  4. И.И.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5" descr="http://migha.ru/imgs/svyaze-prirodi-i-narodnih-promislov/4742.jpg"/>
          <p:cNvPicPr/>
          <p:nvPr/>
        </p:nvPicPr>
        <p:blipFill>
          <a:blip r:embed="rId3"/>
          <a:stretch/>
        </p:blipFill>
        <p:spPr>
          <a:xfrm>
            <a:off x="5643720" y="0"/>
            <a:ext cx="3500280" cy="285768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6" descr="http://nevsepic.com.ua/uploads/posts/2011-02/1298387616_osen15-085.jpg"/>
          <p:cNvPicPr/>
          <p:nvPr/>
        </p:nvPicPr>
        <p:blipFill>
          <a:blip r:embed="rId4"/>
          <a:stretch/>
        </p:blipFill>
        <p:spPr>
          <a:xfrm>
            <a:off x="0" y="378612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42800" y="5143680"/>
            <a:ext cx="69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Franklin Gothic Medium"/>
              </a:rPr>
              <a:t>     </a:t>
            </a: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Листья с веток облетают,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Птицы к югу улетают,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«Что за время года?»-спросим.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Нам ответят: «Эт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                                     </a:t>
            </a: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осень»!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3" descr="http://www.ya-zemlyak.ru/images/zhivopis/pictures/max/uts009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Стр. 150-151. Выразительное чтение   стихотвор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В тетради выполнить задания 3, 5, на стр. 151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7" descr=""/>
          <p:cNvPicPr/>
          <p:nvPr/>
        </p:nvPicPr>
        <p:blipFill>
          <a:blip r:embed="rId1"/>
          <a:stretch/>
        </p:blipFill>
        <p:spPr>
          <a:xfrm>
            <a:off x="3260880" y="573120"/>
            <a:ext cx="245088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71320" y="2214360"/>
            <a:ext cx="5429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   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ИВАН АЛЕКСЕЕВИЧ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БУНИН.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571720" y="2428560"/>
            <a:ext cx="307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ЛИСТОПА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71320" y="4242960"/>
            <a:ext cx="40050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66Б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У754Н8967И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9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Содержимое 4" descr="http://festival.1september.ru/articles/574953/img1.jpg"/>
          <p:cNvPicPr/>
          <p:nvPr/>
        </p:nvPicPr>
        <p:blipFill>
          <a:blip r:embed="rId2"/>
          <a:stretch/>
        </p:blipFill>
        <p:spPr>
          <a:xfrm>
            <a:off x="5357880" y="3929040"/>
            <a:ext cx="3333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4" descr=""/>
          <p:cNvPicPr/>
          <p:nvPr/>
        </p:nvPicPr>
        <p:blipFill>
          <a:blip r:embed="rId1"/>
          <a:stretch/>
        </p:blipFill>
        <p:spPr>
          <a:xfrm>
            <a:off x="426960" y="665280"/>
            <a:ext cx="6145200" cy="981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213840" y="135720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РАЗИТЕЛЬНОЕ ЧТЕНИЕ СТИХОТВОРЕНИЯ И.А.БУНИНА «ЛИСТОПАД»</a:t>
            </a:r>
            <a:br>
              <a:rPr sz="2000"/>
            </a:b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760" y="2428560"/>
            <a:ext cx="856296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Познакомиться с биографией Бун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Познакомиться со стихотворением « Листопад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ыяснить значение непонятных сл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Научиться читать стихотворение выразительн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Подвести итог проделанной работы, оценить свою работ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57120" y="485784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      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Иван Алексеевич Бунин родился  10 октября 1870 года в Воронеже, в дворянской семье, которая была бедной, но имела богатую родословную. В 1874 году Бунины решили перебраться из города  в  деревню, где было поместье семьи. Там и прошли детские годы поэ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14" descr="31-010"/>
          <p:cNvPicPr/>
          <p:nvPr/>
        </p:nvPicPr>
        <p:blipFill>
          <a:blip r:embed="rId1"/>
          <a:stretch/>
        </p:blipFill>
        <p:spPr>
          <a:xfrm>
            <a:off x="2357280" y="357120"/>
            <a:ext cx="4429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13840" y="4285800"/>
            <a:ext cx="8643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 19 лет Бунин работает корректором в газете, библиотекарем, журналистом, переходит к литературному творчеству. После революции Бунин покидает Россию, уезжает во Францию, в Париж. За границей писатель очень тосковал по родине, но не вернулся обратно - умер от тяжелой болез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3" descr="http://oboi.cc/uploads/11_05_2013/view/201209/oboik.ru_43001.jpg"/>
          <p:cNvPicPr/>
          <p:nvPr/>
        </p:nvPicPr>
        <p:blipFill>
          <a:blip r:embed="rId1"/>
          <a:stretch/>
        </p:blipFill>
        <p:spPr>
          <a:xfrm>
            <a:off x="2000160" y="214200"/>
            <a:ext cx="5286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3499920"/>
            <a:ext cx="84009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Первое стихотворение Бунин написал в восемь лет. За свою долгую жизнь (83 года) Иван Алексеевич написал много стихотворений, а также прозаических произведений. За сборник "Листопад" награждён Пушкинской преми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Рисунок 3" descr="http://megabook.com.ua/upload/iblock/825/9785389012264_0001.jpg"/>
          <p:cNvPicPr/>
          <p:nvPr/>
        </p:nvPicPr>
        <p:blipFill>
          <a:blip r:embed="rId1"/>
          <a:stretch/>
        </p:blipFill>
        <p:spPr>
          <a:xfrm>
            <a:off x="214200" y="28584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http://hoodiesforsale.net/images/56166a3595109.jpg"/>
          <p:cNvPicPr/>
          <p:nvPr/>
        </p:nvPicPr>
        <p:blipFill>
          <a:blip r:embed="rId2"/>
          <a:stretch/>
        </p:blipFill>
        <p:spPr>
          <a:xfrm>
            <a:off x="1785960" y="150012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http://www.libex.ru/dimg/35110.jpg"/>
          <p:cNvPicPr/>
          <p:nvPr/>
        </p:nvPicPr>
        <p:blipFill>
          <a:blip r:embed="rId3"/>
          <a:stretch/>
        </p:blipFill>
        <p:spPr>
          <a:xfrm>
            <a:off x="5643720" y="150012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old.prodalit.ru/images/210000/207038.jpg"/>
          <p:cNvPicPr/>
          <p:nvPr/>
        </p:nvPicPr>
        <p:blipFill>
          <a:blip r:embed="rId4"/>
          <a:stretch/>
        </p:blipFill>
        <p:spPr>
          <a:xfrm>
            <a:off x="3786120" y="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http://www.directmedia.ru/file/88/888aac3a71ed9ca0a7327d91b9d016b41vftt999kb/11468.jpg"/>
          <p:cNvPicPr/>
          <p:nvPr/>
        </p:nvPicPr>
        <p:blipFill>
          <a:blip r:embed="rId5"/>
          <a:stretch/>
        </p:blipFill>
        <p:spPr>
          <a:xfrm>
            <a:off x="7286760" y="35712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s://www.youtube.com/watch?v=r681KOLdwU8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70c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160" y="571320"/>
            <a:ext cx="250488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ЗУР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14400" y="642600"/>
            <a:ext cx="6151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ВЕТЛО- СИНИЙ ЦВЕ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3" descr="http://www.nachalka.com/photo/d/95089-4/DSC09944.JPG"/>
          <p:cNvPicPr/>
          <p:nvPr/>
        </p:nvPicPr>
        <p:blipFill>
          <a:blip r:embed="rId3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58:33Z</dcterms:created>
  <dc:creator>Администратор</dc:creator>
  <dc:description/>
  <dc:language>en-US</dc:language>
  <cp:lastModifiedBy>Пользователь</cp:lastModifiedBy>
  <dcterms:modified xsi:type="dcterms:W3CDTF">2022-11-18T10:52:02Z</dcterms:modified>
  <cp:revision>196</cp:revision>
  <dc:subject/>
  <dc:title>Слайд 1</dc:title>
</cp:coreProperties>
</file>