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3.jpeg" ContentType="image/jpeg"/>
  <Override PartName="/ppt/media/image24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1C5-CDDA-4133-912B-28917C4C1E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1B62-AAA9-4277-824C-B2E92508D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A7F-6513-44C6-B2B4-A2F501C1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323-ACFC-41B7-82E2-AF94CF32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ACB20-CF87-4279-A5FF-FB4282B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4ACA4-9EEC-412B-BE26-40E36602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A1DD4-EDC3-4F21-9439-F9076FE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AA3F9-7AAF-49E6-AF3E-4B76FD1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465B0-0AD5-48EB-9512-4D5B259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E5C62-979B-4FC8-A6F3-ECC4DA1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C73F5-EB63-4A98-BED4-B31E979F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124B8-9E32-4433-831B-30A760ED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9245E-B68A-4B24-AD13-B74093AD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524-775D-4E77-B260-59CD7802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D53-8CC6-436C-8AD9-18C4F997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5469-59AC-4A09-848F-A9BBCB1A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C163-9299-4E1E-9A9F-3E8A52F7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4A61-CB79-4E56-88CE-52D2E12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F5F0-F91E-4F72-8657-6931DC80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8CB1-A9D3-48E4-86A1-82F9A376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73B8-B621-4A7D-9390-527BFBB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9017-D9DF-4DD1-A738-BDE47ED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49D-9F80-4F3F-94F8-CB338460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2F6-4638-4653-A377-D98F91ED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A6E-B0B7-4FD7-A638-15AA36A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5E4-B038-41DC-B0D3-1789F21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73BD-DC9A-4C5D-963F-5B66562E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B79-3453-424B-850D-D1697FFC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EE39-E6B7-4505-857A-A6B0F571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090E-6A9D-4AC5-9419-72C29FC5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4013-F027-43E2-A435-3EA857B4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BE49-90BA-4F90-9C94-D5E226CC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AFDD-D563-4B68-AB79-6F385665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D9F-FEB7-4FCD-A015-25DAB4D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60C2-F14A-456A-A26F-D53D0DB9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D062-D9C3-4A0E-86A5-CD702193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ED13-7ABD-4E2E-9716-A67447EC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7BF6-6F2D-475E-9FEE-193A16F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2126-95F7-49A3-8A81-4BBAD3E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0CB4-B328-4989-9B82-9AE316A2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7142-7248-4457-B19A-E8C184E5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309B-8B6C-46CA-ADA1-DD0B7306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9F92-C644-4A5D-9383-6A08D3C4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E4E5-C817-4B53-9FF3-3597CD2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5A8-243A-47F2-BE1E-B585936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DB81-29AF-4437-81D2-67B919A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1829-522B-42FE-BFF3-9D28131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8AF0-A01A-4E43-A880-AB6E6977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FF53-70A4-4683-906A-2882478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C208-E3EC-4EC5-B745-437BD8D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9178-FED2-4271-9DA7-88A9314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69B5-2E65-4905-B814-B81AA08C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A146-7938-45D3-BA63-7E379299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9EE6-AA44-4AC6-A705-8DC7E03F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F68A-9AC2-4D4A-B5A2-16AD69E7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EEC-5BFD-4878-A3BE-102BA25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140C9-D3E6-4607-BF8C-6FAE947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BBC5-2ED6-4832-B433-F753AC8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6E58-FAC5-4CEF-BAB5-FACD0FDC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1F66-11D8-48C6-A37C-498949E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348F-740F-4BC1-9442-35372CB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36DD9-C736-4B7E-850A-AC5BC26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3657-E6F8-4E5D-8715-24B5BC64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59CF-CB31-45C3-888D-AAC0EF6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5312-14AC-44FF-BD8E-8C9C3C68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CCD7-7B7F-4800-8272-F4D5970A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EDD-1C95-4D4A-9B9D-F263847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029B-14B9-4642-BF98-1F32630F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1F87A-2215-4685-BFDB-3B83D636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3C17-1F5E-472E-9AF2-0BDC8D89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6082B-B82C-4AE7-847D-42D4DE93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172D9-A664-4E61-9EEF-3A719DB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C39D-35BA-45DB-B611-FB2ADFCD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1371-88FF-4624-8157-BA471A2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DFC6-5631-43CF-AF7B-0067341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C189C-CB74-457A-B86E-9382243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007A-80BB-42C7-A508-C3C7FB2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A8F-250F-4B78-B4C1-C72E363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719A-0AE0-4291-A8B0-39F96A3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86F0-044B-43FA-BE2D-0FF2D31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E3043-616D-4634-B516-436027F6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6B7D8-4C40-430C-82B7-994BB201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F181-E96B-4A5F-88C9-C28578B4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E8545-C95F-4F21-99C1-26210EAF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FCFA-C1EF-452A-9E23-1AB67C7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1949-0807-4D83-A036-F608616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26FDE-2D93-41F8-BF49-DACED2F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4C5D6-61B3-4767-981E-FDBDE38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52E-E714-49A2-BD37-D01C05D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9234-FD91-432E-8302-10AD9CC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EBFA-9E61-4684-9B7A-3F6CD45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2B4FC-4E14-4185-9A60-D78443C9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2213-4585-41D2-98B6-B1A8F0D3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E4947-8A4F-47FE-9772-171B0570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8C4D5-6CF5-4A4A-B20B-E95FD089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155F-3339-4440-818D-3F57E026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D9F6-F7DA-453B-AEB9-001F78D6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5D310-8A43-4ED0-83D5-750561A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2AB8-909C-41E5-841C-0CC9F44B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D81-9107-4028-99F3-72D9F3B1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0771-7010-45FB-B058-FE9A1859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F24D8-1879-4569-8F09-E5B0204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58C6-1A8A-4107-BA41-DC55D04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9773-FFE7-4F12-A8D4-D53E16A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A22BD-E10E-4908-87FA-F326FA9E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DEA84-8337-40C7-85C2-2F11B7ED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F616D-E734-4EE3-AA8A-2B69309F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EA2E4-2951-45E1-B101-3A7FA825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DB50B-93C1-49C4-9CF0-C65E7FD8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658A9-B0FE-4DC4-990A-05EE672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1FC-7653-490C-8407-3E1B492D55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2498-3063-4AF4-A05A-120A9FF311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30F-A5EF-4882-B2D8-3C1EC4FD7A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FAC-782B-4F89-BFA1-A50453237A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2D3B-BE10-4117-9345-1AADDFC525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96C-1210-4D4A-A2EB-9DD77A973E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9C6-AC5A-4C54-8A32-86F1DE8291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BB0-33DD-47DE-8BDB-331EE674EE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142-0464-447E-A130-550ED6FF5A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www.youtube.com/watch?v=r681KOLdwU8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5"/>
          <p:cNvSpPr/>
          <p:nvPr/>
        </p:nvSpPr>
        <p:spPr>
          <a:xfrm>
            <a:off x="591984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250920" y="260280"/>
            <a:ext cx="849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Урок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литературного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ff33"/>
                  </a:outerShdw>
                </a:effectLst>
                <a:latin typeface="Georgia"/>
              </a:rPr>
              <a:t>чтения</a:t>
            </a:r>
            <a:endParaRPr b="1" i="1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ff33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859040" y="285840"/>
            <a:ext cx="3786120" cy="6048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16430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Medium"/>
              </a:rPr>
              <a:t>БАГРЯНЫЙ</a:t>
            </a:r>
            <a:r>
              <a:rPr b="1" lang="en-US" sz="18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–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1571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Franklin Gothic Medium"/>
              </a:rPr>
              <a:t>ЛИЛОВЫЙ</a:t>
            </a: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  -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642680" y="928800"/>
            <a:ext cx="7286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олетовый цвет, цвет фиалки и сирен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Содержимое 3" descr="http://www.mockelsnasherrgard.se/km/file/igl/46/fsz/Autumn_photos_5.jp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635256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b05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760" y="213840"/>
            <a:ext cx="2504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Franklin Gothic Medium"/>
              </a:rPr>
              <a:t>ТЕРЕМ</a:t>
            </a:r>
            <a:r>
              <a:rPr b="0" lang="ru-RU" sz="3200" spc="-1" strike="noStrike">
                <a:solidFill>
                  <a:srgbClr val="00b050"/>
                </a:solidFill>
                <a:latin typeface="Franklin Gothic Medium"/>
              </a:rPr>
              <a:t> –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642760" y="666360"/>
            <a:ext cx="6294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Franklin Gothic Medium"/>
              </a:rPr>
              <a:t>НА РУСИ ДОМ В ВИДЕ БАШ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80800" y="2714400"/>
            <a:ext cx="4005000" cy="3857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22151982_file1485"/>
          <p:cNvPicPr/>
          <p:nvPr/>
        </p:nvPicPr>
        <p:blipFill>
          <a:blip r:embed="rId3"/>
          <a:stretch/>
        </p:blipFill>
        <p:spPr>
          <a:xfrm>
            <a:off x="4714920" y="1285920"/>
            <a:ext cx="4214880" cy="4000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5902"/>
          <p:cNvPicPr/>
          <p:nvPr/>
        </p:nvPicPr>
        <p:blipFill>
          <a:blip r:embed="rId4"/>
          <a:stretch/>
        </p:blipFill>
        <p:spPr>
          <a:xfrm>
            <a:off x="21420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19240" y="6345360"/>
            <a:ext cx="1688760" cy="793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80800" y="142920"/>
            <a:ext cx="429084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Medium"/>
              </a:rPr>
              <a:t>РЕЗЬБА</a:t>
            </a: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 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28880" y="571320"/>
            <a:ext cx="721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761f"/>
                </a:solidFill>
                <a:latin typeface="Times New Roman"/>
                <a:ea typeface="Times New Roman"/>
              </a:rPr>
              <a:t>УЗОРЧАТЫЙ РИСУНОК, ВЫРЕЗАННЫЙ НА КАКОМ-ЛИБО ТВЕРДОМ МАТЕРИАЛ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Содержимое 3" descr="http://xeloz.ru/ooo/37/tekstura_fon_uzory_obem_1920x1200.jpg"/>
          <p:cNvPicPr/>
          <p:nvPr/>
        </p:nvPicPr>
        <p:blipFill>
          <a:blip r:embed="rId2"/>
          <a:stretch/>
        </p:blipFill>
        <p:spPr>
          <a:xfrm>
            <a:off x="281160" y="1959120"/>
            <a:ext cx="4290840" cy="3184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857840" y="3214440"/>
            <a:ext cx="4000320" cy="34290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3" descr="http://333v.ru/uploads/12/12ae6793e532d921d9d19b4c85788f72.jpg"/>
          <p:cNvPicPr/>
          <p:nvPr/>
        </p:nvPicPr>
        <p:blipFill>
          <a:blip r:embed="rId4"/>
          <a:stretch/>
        </p:blipFill>
        <p:spPr>
          <a:xfrm>
            <a:off x="4786200" y="3071880"/>
            <a:ext cx="4071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Что напомнил осенний лес Бунину? Как подчёркнутые сравнения помогают нарисовать образ леса-терема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Осенний лес напомнил поэту…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Прямоугольник 6"/>
          <p:cNvSpPr/>
          <p:nvPr/>
        </p:nvSpPr>
        <p:spPr>
          <a:xfrm>
            <a:off x="4572000" y="241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списной терем, очень красивый, нарядн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Как подчёркнутые сравнения помогают нарисовать образ леса-терема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Лес стоит стено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, словно __________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Ёлочки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напоминают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в__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по краям забор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Просветы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среди ветвей и листвы, в которые видно небо, напоминают поэту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____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А пустая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поляна - 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Эти сравнения помогают ярко представить себе ________________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https://cf3.ppt-online.org/files3/slide/n/NfKUdphomrukiv9zwFZ8YqylOBMHWV6xEgtGaS/slide-5.jpg"/>
          <p:cNvPicPr/>
          <p:nvPr/>
        </p:nvPicPr>
        <p:blipFill>
          <a:blip r:embed="rId3"/>
          <a:stretch/>
        </p:blipFill>
        <p:spPr>
          <a:xfrm>
            <a:off x="33480" y="0"/>
            <a:ext cx="9570960" cy="71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Какие эпитеты использует для этого автор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Расписной, весёлый, пёстры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- описывают _________________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Жёлты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цвет берёз напоминает ________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В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сквозной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 листве видны _________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оляна словно </a:t>
            </a:r>
            <a:r>
              <a:rPr b="0" i="1" lang="ru-RU" sz="2400" spc="-1" strike="noStrike">
                <a:solidFill>
                  <a:srgbClr val="222222"/>
                </a:solidFill>
                <a:latin typeface="Georgia"/>
              </a:rPr>
              <a:t>______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22"/>
                </a:solidFill>
                <a:latin typeface="Arial Black"/>
              </a:rPr>
              <a:t>Эпитеты дополняют сравнения и помогают составить целостную картину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6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10177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Почему слово Осень поэт пишет с большой буквы? Чего он достигает необычным изображением Осени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оэт _______ Осень. Он сравнивает её с ______, а вдова всегда _________. </a:t>
            </a:r>
            <a:r>
              <a:rPr b="1" lang="ru-RU" sz="2400" spc="-1" strike="noStrike">
                <a:solidFill>
                  <a:srgbClr val="222222"/>
                </a:solidFill>
                <a:latin typeface="Georgia"/>
              </a:rPr>
              <a:t>Таким изображением осени поэт достигает особого настроения стихотворения - гру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http://kolyan.net/uploads/posts/2011-05/1306820663_image_049.jpg"/>
          <p:cNvPicPr/>
          <p:nvPr/>
        </p:nvPicPr>
        <p:blipFill>
          <a:blip r:embed="rId1"/>
          <a:stretch/>
        </p:blipFill>
        <p:spPr>
          <a:xfrm>
            <a:off x="0" y="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3" descr="http://cs1.livemaster.ru/storage/3c/8c/5824e9edbf36d3b6bc127dc5fegt--kartiny-panno-kartina-maslom-vechernij-zvon.jpg"/>
          <p:cNvPicPr/>
          <p:nvPr/>
        </p:nvPicPr>
        <p:blipFill>
          <a:blip r:embed="rId2"/>
          <a:stretch/>
        </p:blipFill>
        <p:spPr>
          <a:xfrm>
            <a:off x="5643720" y="3786120"/>
            <a:ext cx="3500280" cy="30718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4"/>
          <p:cNvSpPr/>
          <p:nvPr/>
        </p:nvSpPr>
        <p:spPr>
          <a:xfrm>
            <a:off x="0" y="285768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И.И.Левитан Березовая роща                                      2. А.К.Саврасов 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И.И. Левитан                                                                  4. И.И.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5" descr="http://migha.ru/imgs/svyaze-prirodi-i-narodnih-promislov/4742.jpg"/>
          <p:cNvPicPr/>
          <p:nvPr/>
        </p:nvPicPr>
        <p:blipFill>
          <a:blip r:embed="rId3"/>
          <a:stretch/>
        </p:blipFill>
        <p:spPr>
          <a:xfrm>
            <a:off x="5643720" y="0"/>
            <a:ext cx="3500280" cy="285768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6" descr="http://nevsepic.com.ua/uploads/posts/2011-02/1298387616_osen15-085.jpg"/>
          <p:cNvPicPr/>
          <p:nvPr/>
        </p:nvPicPr>
        <p:blipFill>
          <a:blip r:embed="rId4"/>
          <a:stretch/>
        </p:blipFill>
        <p:spPr>
          <a:xfrm>
            <a:off x="0" y="3786120"/>
            <a:ext cx="328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42800" y="5143680"/>
            <a:ext cx="69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Franklin Gothic Medium"/>
              </a:rPr>
              <a:t>     </a:t>
            </a: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Листья с веток облетают,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Птицы к югу улетают,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«Что за время года?»-спросим.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Нам ответят: «Эт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                                     </a:t>
            </a:r>
            <a:r>
              <a:rPr b="0" lang="ru-RU" sz="2200" spc="-1" strike="noStrike">
                <a:solidFill>
                  <a:srgbClr val="c00000"/>
                </a:solidFill>
                <a:latin typeface="Franklin Gothic Medium"/>
              </a:rPr>
              <a:t>осень»!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3" descr="http://www.ya-zemlyak.ru/images/zhivopis/pictures/max/uts009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Стр. 150-151. Выразительное чтение   стихотвор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В тетради выполнить задания 3, 5, на стр. 151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7" descr=""/>
          <p:cNvPicPr/>
          <p:nvPr/>
        </p:nvPicPr>
        <p:blipFill>
          <a:blip r:embed="rId1"/>
          <a:stretch/>
        </p:blipFill>
        <p:spPr>
          <a:xfrm>
            <a:off x="3260880" y="573120"/>
            <a:ext cx="245088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71320" y="2214360"/>
            <a:ext cx="5429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   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ИВАН АЛЕКСЕЕВИЧ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БУНИН.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571720" y="2428560"/>
            <a:ext cx="307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ЛИСТОПА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71320" y="4242960"/>
            <a:ext cx="40050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66Б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У754Н8967И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9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Содержимое 4" descr="http://festival.1september.ru/articles/574953/img1.jpg"/>
          <p:cNvPicPr/>
          <p:nvPr/>
        </p:nvPicPr>
        <p:blipFill>
          <a:blip r:embed="rId2"/>
          <a:stretch/>
        </p:blipFill>
        <p:spPr>
          <a:xfrm>
            <a:off x="5357880" y="3929040"/>
            <a:ext cx="3333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4" descr=""/>
          <p:cNvPicPr/>
          <p:nvPr/>
        </p:nvPicPr>
        <p:blipFill>
          <a:blip r:embed="rId1"/>
          <a:stretch/>
        </p:blipFill>
        <p:spPr>
          <a:xfrm>
            <a:off x="426960" y="665280"/>
            <a:ext cx="6145200" cy="981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213840" y="135720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РАЗИТЕЛЬНОЕ ЧТЕНИЕ СТИХОТВОРЕНИЯ И.А.БУНИНА «ЛИСТОПАД»</a:t>
            </a:r>
            <a:br>
              <a:rPr sz="2000"/>
            </a:b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760" y="2428560"/>
            <a:ext cx="856296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</a:rPr>
              <a:t>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Познакомиться с биографией Бун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Познакомиться со стихотворением « Листопад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ыяснить значение непонятных сл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Научиться читать стихотворение выразительн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Подвести итог проделанной работы, оценить свою работ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57120" y="485784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            </a:t>
            </a: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Иван Алексеевич Бунин родился  10 октября 1870 года в Воронеже, в дворянской семье, которая была бедной, но имела богатую родословную. В 1874 году Бунины решили перебраться из города  в  деревню, где было поместье семьи. Там и прошли детские годы поэ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14" descr="31-010"/>
          <p:cNvPicPr/>
          <p:nvPr/>
        </p:nvPicPr>
        <p:blipFill>
          <a:blip r:embed="rId1"/>
          <a:stretch/>
        </p:blipFill>
        <p:spPr>
          <a:xfrm>
            <a:off x="2357280" y="357120"/>
            <a:ext cx="4429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13840" y="4285800"/>
            <a:ext cx="8643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 19 лет Бунин работает корректором в газете, библиотекарем, журналистом, переходит к литературному творчеству. После революции Бунин покидает Россию, уезжает во Францию, в Париж. За границей писатель очень тосковал по родине, но не вернулся обратно - умер от тяжелой болез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3" descr="http://oboi.cc/uploads/11_05_2013/view/201209/oboik.ru_43001.jpg"/>
          <p:cNvPicPr/>
          <p:nvPr/>
        </p:nvPicPr>
        <p:blipFill>
          <a:blip r:embed="rId1"/>
          <a:stretch/>
        </p:blipFill>
        <p:spPr>
          <a:xfrm>
            <a:off x="2000160" y="214200"/>
            <a:ext cx="5286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3499920"/>
            <a:ext cx="84009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Первое стихотворение Бунин написал в восемь лет. За свою долгую жизнь (83 года) Иван Алексеевич написал много стихотворений, а также прозаических произведений. За сборник "Листопад" награждён Пушкинской преми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Рисунок 3" descr="http://megabook.com.ua/upload/iblock/825/9785389012264_0001.jpg"/>
          <p:cNvPicPr/>
          <p:nvPr/>
        </p:nvPicPr>
        <p:blipFill>
          <a:blip r:embed="rId1"/>
          <a:stretch/>
        </p:blipFill>
        <p:spPr>
          <a:xfrm>
            <a:off x="214200" y="28584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http://hoodiesforsale.net/images/56166a3595109.jpg"/>
          <p:cNvPicPr/>
          <p:nvPr/>
        </p:nvPicPr>
        <p:blipFill>
          <a:blip r:embed="rId2"/>
          <a:stretch/>
        </p:blipFill>
        <p:spPr>
          <a:xfrm>
            <a:off x="1785960" y="150012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http://www.libex.ru/dimg/35110.jpg"/>
          <p:cNvPicPr/>
          <p:nvPr/>
        </p:nvPicPr>
        <p:blipFill>
          <a:blip r:embed="rId3"/>
          <a:stretch/>
        </p:blipFill>
        <p:spPr>
          <a:xfrm>
            <a:off x="5643720" y="150012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old.prodalit.ru/images/210000/207038.jpg"/>
          <p:cNvPicPr/>
          <p:nvPr/>
        </p:nvPicPr>
        <p:blipFill>
          <a:blip r:embed="rId4"/>
          <a:stretch/>
        </p:blipFill>
        <p:spPr>
          <a:xfrm>
            <a:off x="3786120" y="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http://www.directmedia.ru/file/88/888aac3a71ed9ca0a7327d91b9d016b41vftt999kb/11468.jpg"/>
          <p:cNvPicPr/>
          <p:nvPr/>
        </p:nvPicPr>
        <p:blipFill>
          <a:blip r:embed="rId5"/>
          <a:stretch/>
        </p:blipFill>
        <p:spPr>
          <a:xfrm>
            <a:off x="7286760" y="35712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s://www.youtube.com/watch?v=r681KOLdwU8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70c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160" y="571320"/>
            <a:ext cx="250488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ЗУР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714400" y="642600"/>
            <a:ext cx="6151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СВЕТЛО- СИНИЙ ЦВЕ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647960" y="1315800"/>
            <a:ext cx="4289400" cy="3941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3" descr="http://www.nachalka.com/photo/d/95089-4/DSC09944.JPG"/>
          <p:cNvPicPr/>
          <p:nvPr/>
        </p:nvPicPr>
        <p:blipFill>
          <a:blip r:embed="rId3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58:33Z</dcterms:created>
  <dc:creator>Администратор</dc:creator>
  <dc:description/>
  <dc:language>en-US</dc:language>
  <cp:lastModifiedBy>Пользователь</cp:lastModifiedBy>
  <dcterms:modified xsi:type="dcterms:W3CDTF">2022-11-18T10:52:02Z</dcterms:modified>
  <cp:revision>196</cp:revision>
  <dc:subject/>
  <dc:title>Слайд 1</dc:title>
</cp:coreProperties>
</file>