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20.jpeg" ContentType="image/jpeg"/>
  <Override PartName="/ppt/media/image10.png" ContentType="image/png"/>
  <Override PartName="/ppt/media/image5.wmf" ContentType="image/x-wmf"/>
  <Override PartName="/ppt/media/image27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gif" ContentType="image/gif"/>
  <Override PartName="/ppt/media/image26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29.jpeg" ContentType="image/jpeg"/>
  <Override PartName="/ppt/media/image28.png" ContentType="image/png"/>
  <Override PartName="/ppt/media/image16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C355-A67F-4609-A331-CE3E5DA74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330B-B015-42DF-B758-F9323697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403E-5CC5-42C1-964F-6BD395DE9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BE0F-F3DE-4698-AB56-6CD045187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6711-CDCA-4ED6-B30A-BE1E2E29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B653-6A37-4516-BDB6-89431118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AAEA-ECE5-41C9-98EA-CE9B7146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5C21-7C1B-4E91-AF2B-57F0CCE7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073D-C545-4CB9-8969-50D6C101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3DBA-1AFA-4A03-B3FD-9CEF77D9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D442-E8FE-433B-8FDB-B790FDF0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53E5-5901-411C-B740-381F51A5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8323-C066-4A57-81BB-868C70BB00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allforchildren.ru/pictures/showimg/school1/school0101jpg.htm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" Target="slide6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" Target="slide19.xm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kulttur.com/fotto/category/11-fmk.html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animashki.ucoz.com/photo/gorod/07951cfa30b9/73-0-2779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" Target="slide21.xml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" Target="slide6.xm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11.xml"/><Relationship Id="rId8" Type="http://schemas.openxmlformats.org/officeDocument/2006/relationships/slide" Target="slide13.xml"/><Relationship Id="rId9" Type="http://schemas.openxmlformats.org/officeDocument/2006/relationships/slide" Target="slide13.xml"/><Relationship Id="rId10" Type="http://schemas.openxmlformats.org/officeDocument/2006/relationships/slide" Target="slide13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-642960" y="0"/>
            <a:ext cx="978696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http://allforchildren.ru/pictures/school1_s/school010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7160" y="642960"/>
            <a:ext cx="6880320" cy="43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5"/>
          <p:cNvSpPr/>
          <p:nvPr/>
        </p:nvSpPr>
        <p:spPr>
          <a:xfrm>
            <a:off x="1143000" y="0"/>
            <a:ext cx="721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Monotype Corsiva"/>
              </a:rPr>
              <a:t>Проверк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5"/>
          <p:cNvSpPr/>
          <p:nvPr/>
        </p:nvSpPr>
        <p:spPr>
          <a:xfrm>
            <a:off x="1513440" y="1143000"/>
            <a:ext cx="25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,2   +  0,3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7"/>
          <p:cNvSpPr/>
          <p:nvPr/>
        </p:nvSpPr>
        <p:spPr>
          <a:xfrm>
            <a:off x="4214880" y="114300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1643040" y="192888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,5  -  1,5 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4143240" y="1928880"/>
            <a:ext cx="10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1643040" y="278604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 +  12,6 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2"/>
          <p:cNvSpPr/>
          <p:nvPr/>
        </p:nvSpPr>
        <p:spPr>
          <a:xfrm>
            <a:off x="4071960" y="271476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,6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3"/>
          <p:cNvSpPr/>
          <p:nvPr/>
        </p:nvSpPr>
        <p:spPr>
          <a:xfrm>
            <a:off x="1643040" y="3643200"/>
            <a:ext cx="271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,6  -  0,6  =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4"/>
          <p:cNvSpPr/>
          <p:nvPr/>
        </p:nvSpPr>
        <p:spPr>
          <a:xfrm>
            <a:off x="4286160" y="364320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1714680" y="4429080"/>
            <a:ext cx="27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 + 12,02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7"/>
          <p:cNvSpPr/>
          <p:nvPr/>
        </p:nvSpPr>
        <p:spPr>
          <a:xfrm>
            <a:off x="4357800" y="442908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0,0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http://allforchildren.ru/pictures/school1_s/school0101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143840" y="5572080"/>
            <a:ext cx="1692360" cy="10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5"/>
          <p:cNvSpPr/>
          <p:nvPr/>
        </p:nvSpPr>
        <p:spPr>
          <a:xfrm>
            <a:off x="1143000" y="0"/>
            <a:ext cx="721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Monotype Corsiva"/>
              </a:rPr>
              <a:t>Провер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5"/>
          <p:cNvSpPr/>
          <p:nvPr/>
        </p:nvSpPr>
        <p:spPr>
          <a:xfrm>
            <a:off x="1577160" y="1143000"/>
            <a:ext cx="272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2 – 11,2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4214880" y="114300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>
            <a:off x="1643040" y="1857240"/>
            <a:ext cx="24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+  11,7  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4000680" y="178596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0"/>
          <p:cNvSpPr/>
          <p:nvPr/>
        </p:nvSpPr>
        <p:spPr>
          <a:xfrm>
            <a:off x="1643040" y="257184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7  – 11,4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1"/>
          <p:cNvSpPr/>
          <p:nvPr/>
        </p:nvSpPr>
        <p:spPr>
          <a:xfrm>
            <a:off x="4143240" y="2571840"/>
            <a:ext cx="10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2"/>
          <p:cNvSpPr/>
          <p:nvPr/>
        </p:nvSpPr>
        <p:spPr>
          <a:xfrm>
            <a:off x="1643040" y="328608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3 +  111,2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4143240" y="3214800"/>
            <a:ext cx="12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2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4"/>
          <p:cNvSpPr/>
          <p:nvPr/>
        </p:nvSpPr>
        <p:spPr>
          <a:xfrm>
            <a:off x="1643040" y="4071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2,5  – 0,5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5"/>
          <p:cNvSpPr/>
          <p:nvPr/>
        </p:nvSpPr>
        <p:spPr>
          <a:xfrm>
            <a:off x="4143240" y="4000680"/>
            <a:ext cx="12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http://allforchildren.ru/pictures/school1_s/school0101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143840" y="5572080"/>
            <a:ext cx="1692360" cy="10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188" name="Прямоугольник 5"/>
          <p:cNvSpPr/>
          <p:nvPr/>
        </p:nvSpPr>
        <p:spPr>
          <a:xfrm>
            <a:off x="1143000" y="0"/>
            <a:ext cx="721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Monotype Corsiva"/>
              </a:rPr>
              <a:t>Провер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1512360" y="1143000"/>
            <a:ext cx="236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,8 -5,9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7"/>
          <p:cNvSpPr/>
          <p:nvPr/>
        </p:nvSpPr>
        <p:spPr>
          <a:xfrm>
            <a:off x="3786120" y="114300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,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9"/>
          <p:cNvSpPr/>
          <p:nvPr/>
        </p:nvSpPr>
        <p:spPr>
          <a:xfrm>
            <a:off x="1500120" y="1857240"/>
            <a:ext cx="264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,9  + 8,3 =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0"/>
          <p:cNvSpPr/>
          <p:nvPr/>
        </p:nvSpPr>
        <p:spPr>
          <a:xfrm>
            <a:off x="4000680" y="1785960"/>
            <a:ext cx="14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,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1"/>
          <p:cNvSpPr/>
          <p:nvPr/>
        </p:nvSpPr>
        <p:spPr>
          <a:xfrm>
            <a:off x="1571760" y="26431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,2 – 70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2"/>
          <p:cNvSpPr/>
          <p:nvPr/>
        </p:nvSpPr>
        <p:spPr>
          <a:xfrm>
            <a:off x="3929040" y="257184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3"/>
          <p:cNvSpPr/>
          <p:nvPr/>
        </p:nvSpPr>
        <p:spPr>
          <a:xfrm>
            <a:off x="1643040" y="342900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 + 12,5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4"/>
          <p:cNvSpPr/>
          <p:nvPr/>
        </p:nvSpPr>
        <p:spPr>
          <a:xfrm>
            <a:off x="4071960" y="328608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5"/>
          <p:cNvSpPr/>
          <p:nvPr/>
        </p:nvSpPr>
        <p:spPr>
          <a:xfrm>
            <a:off x="1571760" y="4214880"/>
            <a:ext cx="27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7 – 4,7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6"/>
          <p:cNvSpPr/>
          <p:nvPr/>
        </p:nvSpPr>
        <p:spPr>
          <a:xfrm>
            <a:off x="4000680" y="4143240"/>
            <a:ext cx="14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http://allforchildren.ru/pictures/school1_s/school0101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143840" y="5572080"/>
            <a:ext cx="1692360" cy="10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5"/>
          <p:cNvSpPr/>
          <p:nvPr/>
        </p:nvSpPr>
        <p:spPr>
          <a:xfrm>
            <a:off x="1143000" y="0"/>
            <a:ext cx="721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Monotype Corsiva"/>
              </a:rPr>
              <a:t>Провер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7"/>
          <p:cNvSpPr/>
          <p:nvPr/>
        </p:nvSpPr>
        <p:spPr>
          <a:xfrm>
            <a:off x="1798920" y="1214280"/>
            <a:ext cx="25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, 7 +0,3 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9"/>
          <p:cNvSpPr/>
          <p:nvPr/>
        </p:nvSpPr>
        <p:spPr>
          <a:xfrm>
            <a:off x="4357800" y="121428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0"/>
          <p:cNvSpPr/>
          <p:nvPr/>
        </p:nvSpPr>
        <p:spPr>
          <a:xfrm>
            <a:off x="1714680" y="1928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 - 12,5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1"/>
          <p:cNvSpPr/>
          <p:nvPr/>
        </p:nvSpPr>
        <p:spPr>
          <a:xfrm>
            <a:off x="3857760" y="1928880"/>
            <a:ext cx="9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2"/>
          <p:cNvSpPr/>
          <p:nvPr/>
        </p:nvSpPr>
        <p:spPr>
          <a:xfrm>
            <a:off x="1714680" y="2571840"/>
            <a:ext cx="235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,5  +  5,9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3"/>
          <p:cNvSpPr/>
          <p:nvPr/>
        </p:nvSpPr>
        <p:spPr>
          <a:xfrm>
            <a:off x="4143240" y="257184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4"/>
          <p:cNvSpPr/>
          <p:nvPr/>
        </p:nvSpPr>
        <p:spPr>
          <a:xfrm>
            <a:off x="1785960" y="3214800"/>
            <a:ext cx="23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,4 – 0,4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5"/>
          <p:cNvSpPr/>
          <p:nvPr/>
        </p:nvSpPr>
        <p:spPr>
          <a:xfrm>
            <a:off x="3929040" y="321480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6"/>
          <p:cNvSpPr/>
          <p:nvPr/>
        </p:nvSpPr>
        <p:spPr>
          <a:xfrm>
            <a:off x="1857240" y="3857760"/>
            <a:ext cx="22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 + 3,2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7"/>
          <p:cNvSpPr/>
          <p:nvPr/>
        </p:nvSpPr>
        <p:spPr>
          <a:xfrm>
            <a:off x="3857760" y="3857760"/>
            <a:ext cx="9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http://allforchildren.ru/pictures/school1_s/school0101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143840" y="5572080"/>
            <a:ext cx="1692360" cy="10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18" name="Прямоугольник 4"/>
          <p:cNvSpPr/>
          <p:nvPr/>
        </p:nvSpPr>
        <p:spPr>
          <a:xfrm>
            <a:off x="4357800" y="2143080"/>
            <a:ext cx="5286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 сегодня завершён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каждый должен знать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нание, упорство, труд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успеху в жизни привед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Блок-схема: ссылка на другую страницу 9"/>
          <p:cNvSpPr/>
          <p:nvPr/>
        </p:nvSpPr>
        <p:spPr>
          <a:xfrm>
            <a:off x="4929120" y="3357720"/>
            <a:ext cx="2000160" cy="1928520"/>
          </a:xfrm>
          <a:prstGeom prst="flowChartOffpage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стан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порти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2" descr="1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571840" y="4786200"/>
            <a:ext cx="1643040" cy="150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1.38778E-017 C 0.00504 0.00439 0.01007 0.00671 0.01511 0.01111 C 0.01597 0.01111 0.04705 0.00995 0.05504 0.00671 C 0.05695 0.00601 0.05816 0.00324 0.06007 0.00231 C 0.06268 0.00092 0.06563 0.00069 0.0684 1.38778E-017 C 0.07604 -0.00672 0.08472 -0.00926 0.0934 -0.0132 C 0.0967 -0.01459 0.1033 -0.01783 0.1033 -0.01783 C 0.11146 -0.02824 0.10052 -0.01598 0.11511 -0.02431 C 0.1165 -0.02524 0.11702 -0.02801 0.1184 -0.02894 C 0.12049 -0.03033 0.12292 -0.0301 0.125 -0.03102 C 0.12847 -0.03241 0.13507 -0.03542 0.13507 -0.03542 C 0.13785 -0.03912 0.14063 -0.04283 0.1434 -0.04653 C 0.14462 -0.04815 0.1441 -0.05116 0.14497 -0.05324 C 0.14584 -0.0551 0.14722 -0.05625 0.14844 -0.05764 C 0.15243 -0.075 0.16094 -0.09098 0.16997 -0.1044 E">
                                      <p:cBhvr>
                                        <p:cTn id="295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C:\Users\admin\Desktop\Рисунок1.jpg"/>
          <p:cNvPicPr/>
          <p:nvPr/>
        </p:nvPicPr>
        <p:blipFill>
          <a:blip r:embed="rId1"/>
          <a:stretch/>
        </p:blipFill>
        <p:spPr>
          <a:xfrm>
            <a:off x="-203040" y="0"/>
            <a:ext cx="9347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4"/>
          <p:cNvSpPr/>
          <p:nvPr/>
        </p:nvSpPr>
        <p:spPr>
          <a:xfrm>
            <a:off x="4357800" y="2143080"/>
            <a:ext cx="5286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 сегодня завершён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каждый должен знать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нание, упорство, труд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успеху в жизни привед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Блок-схема: ссылка на другую страницу 6"/>
          <p:cNvSpPr/>
          <p:nvPr/>
        </p:nvSpPr>
        <p:spPr>
          <a:xfrm>
            <a:off x="3929040" y="3071880"/>
            <a:ext cx="1571760" cy="1928880"/>
          </a:xfrm>
          <a:prstGeom prst="flowChartOffpage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Остановка Историче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2" descr="15"/>
          <p:cNvPicPr/>
          <p:nvPr/>
        </p:nvPicPr>
        <p:blipFill>
          <a:blip r:embed="rId4"/>
          <a:stretch/>
        </p:blipFill>
        <p:spPr>
          <a:xfrm>
            <a:off x="4357800" y="4357800"/>
            <a:ext cx="2327040" cy="150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43 0.07245 C -0.05434 0.06551 -0.05729 0.0618 -0.0592 0.05486 C -0.05573 0.0368 -0.04375 0.0331 -0.03906 0.01481 C -0.04063 -0.01181 -0.03611 -0.01412 -0.05087 -0.02084 C -0.05243 -0.02315 -0.05365 -0.02616 -0.05573 -0.02755 C -0.05833 -0.02917 -0.06215 -0.02686 -0.06406 -0.02963 C -0.07118 -0.04074 -0.05903 -0.04514 -0.0724 -0.04514 E">
                                      <p:cBhvr>
                                        <p:cTn id="306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F:\250px-Moscow_Kremlin_from_Kamenny_bridge.jpg"/>
          <p:cNvPicPr/>
          <p:nvPr/>
        </p:nvPicPr>
        <p:blipFill>
          <a:blip r:embed="rId2"/>
          <a:stretch/>
        </p:blipFill>
        <p:spPr>
          <a:xfrm>
            <a:off x="1214280" y="1000080"/>
            <a:ext cx="2944800" cy="2214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F:\red_square.jpg"/>
          <p:cNvPicPr/>
          <p:nvPr/>
        </p:nvPicPr>
        <p:blipFill>
          <a:blip r:embed="rId3"/>
          <a:stretch/>
        </p:blipFill>
        <p:spPr>
          <a:xfrm>
            <a:off x="4714920" y="1000080"/>
            <a:ext cx="3060720" cy="221472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5"/>
          <p:cNvSpPr/>
          <p:nvPr/>
        </p:nvSpPr>
        <p:spPr>
          <a:xfrm>
            <a:off x="1143000" y="0"/>
            <a:ext cx="721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Monotype Corsiva"/>
              </a:rPr>
              <a:t>Современная Моск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2" descr="F:\46400.jpg"/>
          <p:cNvPicPr/>
          <p:nvPr/>
        </p:nvPicPr>
        <p:blipFill>
          <a:blip r:embed="rId4"/>
          <a:stretch/>
        </p:blipFill>
        <p:spPr>
          <a:xfrm>
            <a:off x="1143000" y="3357720"/>
            <a:ext cx="3905280" cy="2928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3" descr="F:\Изображение\46398.jpg"/>
          <p:cNvPicPr/>
          <p:nvPr/>
        </p:nvPicPr>
        <p:blipFill>
          <a:blip r:embed="rId5"/>
          <a:stretch/>
        </p:blipFill>
        <p:spPr>
          <a:xfrm>
            <a:off x="5214960" y="3714840"/>
            <a:ext cx="3333600" cy="25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F:\_bbf3.jpg"/>
          <p:cNvPicPr/>
          <p:nvPr/>
        </p:nvPicPr>
        <p:blipFill>
          <a:blip r:embed="rId2"/>
          <a:stretch/>
        </p:blipFill>
        <p:spPr>
          <a:xfrm>
            <a:off x="357120" y="1214280"/>
            <a:ext cx="3929040" cy="25038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F:\MosArch02.jpg"/>
          <p:cNvPicPr/>
          <p:nvPr/>
        </p:nvPicPr>
        <p:blipFill>
          <a:blip r:embed="rId3"/>
          <a:stretch/>
        </p:blipFill>
        <p:spPr>
          <a:xfrm>
            <a:off x="2571840" y="3819600"/>
            <a:ext cx="4119480" cy="303840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5"/>
          <p:cNvSpPr/>
          <p:nvPr/>
        </p:nvSpPr>
        <p:spPr>
          <a:xfrm>
            <a:off x="1143000" y="0"/>
            <a:ext cx="721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Monotype Corsiva"/>
              </a:rPr>
              <a:t>Старая  Моск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F:\phoca_thumb_m_sfm1.jpg"/>
          <p:cNvPicPr/>
          <p:nvPr/>
        </p:nvPicPr>
        <p:blipFill>
          <a:blip r:embed="rId4"/>
          <a:stretch/>
        </p:blipFill>
        <p:spPr>
          <a:xfrm>
            <a:off x="4786200" y="1285920"/>
            <a:ext cx="3537000" cy="23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5"/>
          <p:cNvSpPr/>
          <p:nvPr/>
        </p:nvSpPr>
        <p:spPr>
          <a:xfrm>
            <a:off x="1143000" y="0"/>
            <a:ext cx="72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f497d"/>
                </a:solidFill>
                <a:latin typeface="Times New Roman"/>
              </a:rPr>
              <a:t>Историческая задач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1" descr="http://kulttur.com/images/stories/kr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28880" y="3094200"/>
            <a:ext cx="4500360" cy="376380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1"/>
          <p:cNvSpPr/>
          <p:nvPr/>
        </p:nvSpPr>
        <p:spPr>
          <a:xfrm>
            <a:off x="928800" y="1008000"/>
            <a:ext cx="8215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мль, построенный Иваном Калитой, имел стены длиной 1,67 км. Современный Кремль имеет стены на 0,565 км длиннее. Вычислите длину стен современного Кремля в километр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5"/>
          <p:cNvSpPr/>
          <p:nvPr/>
        </p:nvSpPr>
        <p:spPr>
          <a:xfrm>
            <a:off x="214200" y="1000080"/>
            <a:ext cx="7000920" cy="32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ru-RU" sz="2800" spc="-1" strike="noStrike">
                <a:solidFill>
                  <a:srgbClr val="1f497d"/>
                </a:solidFill>
                <a:latin typeface="Times New Roman"/>
              </a:rPr>
              <a:t>Три десятых...Скажи про такую ошибк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1f497d"/>
                </a:solidFill>
                <a:latin typeface="Times New Roman"/>
              </a:rPr>
              <a:t>И,пожалуй,на лицах увидишь улыб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</a:rPr>
              <a:t>...Три десятых -и стены возводятся кос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1f497d"/>
                </a:solidFill>
                <a:latin typeface="Times New Roman"/>
              </a:rPr>
              <a:t>Три десятых- и рухнут вагоны с откос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1f497d"/>
                </a:solidFill>
                <a:latin typeface="Times New Roman"/>
              </a:rPr>
              <a:t>Ошибись лишь на три десятых аптека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1f497d"/>
                </a:solidFill>
                <a:latin typeface="Times New Roman"/>
              </a:rPr>
              <a:t>Станет ядом лекарство ,убьет человека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animashki.ucoz.com/_ph/73/1/813300770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719760" y="142920"/>
            <a:ext cx="2424240" cy="2286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4"/>
          <a:stretch/>
        </p:blipFill>
        <p:spPr>
          <a:xfrm>
            <a:off x="1571760" y="4386240"/>
            <a:ext cx="5143320" cy="24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4"/>
          <p:cNvSpPr/>
          <p:nvPr/>
        </p:nvSpPr>
        <p:spPr>
          <a:xfrm>
            <a:off x="4357800" y="2143080"/>
            <a:ext cx="5286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 сегодня завершён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каждый должен знать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нание, упорство, труд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успеху в жизни привед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Блок-схема: ссылка на другую страницу 6"/>
          <p:cNvSpPr/>
          <p:nvPr/>
        </p:nvSpPr>
        <p:spPr>
          <a:xfrm>
            <a:off x="5072040" y="2786040"/>
            <a:ext cx="1571760" cy="1928880"/>
          </a:xfrm>
          <a:prstGeom prst="flowChartOffpage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становка Фермерское хозяйство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2" descr="1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143240" y="4143240"/>
            <a:ext cx="121464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6.66667E-006 C 0.02813 -0.00208 0.02101 0.00163 0.03507 -0.00439 C 0.05538 -0.01319 0.03507 -0.00439 0.05504 -0.01342 C 0.05677 -0.01411 0.06007 -0.0155 0.06007 -0.0155 C 0.06701 -0.02152 0.07066 -0.02731 0.07344 -0.03772 C 0.07101 -0.06874 0.07396 -0.05578 0.05677 -0.07106 C 0.05243 -0.07476 0.04653 -0.07337 0.04167 -0.07546 C 0.03837 -0.07685 0.03177 -0.08009 0.03177 -0.08009 C 0.02413 -0.08981 0.01684 -0.0912 0.00677 -0.09328 C 0.00851 -0.09397 0.01181 -0.0956 0.01181 -0.0956 E">
                                      <p:cBhvr>
                                        <p:cTn id="317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71000" cy="7072200"/>
          </a:xfrm>
          <a:prstGeom prst="rect">
            <a:avLst/>
          </a:prstGeom>
          <a:ln w="0">
            <a:noFill/>
          </a:ln>
        </p:spPr>
      </p:pic>
      <p:sp>
        <p:nvSpPr>
          <p:cNvPr id="262" name="TextBox 7"/>
          <p:cNvSpPr/>
          <p:nvPr/>
        </p:nvSpPr>
        <p:spPr>
          <a:xfrm>
            <a:off x="1500120" y="64882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Понеде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9"/>
          <p:cNvSpPr/>
          <p:nvPr/>
        </p:nvSpPr>
        <p:spPr>
          <a:xfrm>
            <a:off x="3429000" y="648828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тор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0"/>
          <p:cNvSpPr/>
          <p:nvPr/>
        </p:nvSpPr>
        <p:spPr>
          <a:xfrm>
            <a:off x="4572000" y="648828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1"/>
          <p:cNvSpPr/>
          <p:nvPr/>
        </p:nvSpPr>
        <p:spPr>
          <a:xfrm>
            <a:off x="5643720" y="648828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вер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2"/>
          <p:cNvSpPr/>
          <p:nvPr/>
        </p:nvSpPr>
        <p:spPr>
          <a:xfrm>
            <a:off x="6786720" y="648828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т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Овал 11"/>
          <p:cNvSpPr/>
          <p:nvPr/>
        </p:nvSpPr>
        <p:spPr>
          <a:xfrm>
            <a:off x="8358120" y="6429240"/>
            <a:ext cx="571680" cy="4287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271" name="TextBox 5"/>
          <p:cNvSpPr/>
          <p:nvPr/>
        </p:nvSpPr>
        <p:spPr>
          <a:xfrm>
            <a:off x="2286000" y="0"/>
            <a:ext cx="388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f497d"/>
                </a:solidFill>
                <a:latin typeface="Monotype Corsiva"/>
              </a:rPr>
              <a:t>Понедельн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F:\Изображение\понедельник.jpg"/>
          <p:cNvPicPr/>
          <p:nvPr/>
        </p:nvPicPr>
        <p:blipFill>
          <a:blip r:embed="rId2"/>
          <a:stretch/>
        </p:blipFill>
        <p:spPr>
          <a:xfrm>
            <a:off x="2071800" y="1643040"/>
            <a:ext cx="4659120" cy="3143160"/>
          </a:xfrm>
          <a:prstGeom prst="rect">
            <a:avLst/>
          </a:prstGeom>
          <a:ln w="0">
            <a:noFill/>
          </a:ln>
        </p:spPr>
      </p:pic>
      <p:sp>
        <p:nvSpPr>
          <p:cNvPr id="273" name="Овал 9"/>
          <p:cNvSpPr/>
          <p:nvPr/>
        </p:nvSpPr>
        <p:spPr>
          <a:xfrm>
            <a:off x="214200" y="214200"/>
            <a:ext cx="714600" cy="642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7"/>
          <p:cNvSpPr/>
          <p:nvPr/>
        </p:nvSpPr>
        <p:spPr>
          <a:xfrm>
            <a:off x="1428840" y="471492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,8+8,6=13,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,4+6,74=20,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2"/>
          <p:cNvSpPr/>
          <p:nvPr/>
        </p:nvSpPr>
        <p:spPr>
          <a:xfrm>
            <a:off x="341640" y="787680"/>
            <a:ext cx="87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f81bd"/>
                </a:solidFill>
                <a:latin typeface="Times New Roman"/>
                <a:ea typeface="Calibri"/>
              </a:rPr>
              <a:t>Осиновск – Дубиха – Пичугино  - Осиновс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279" name="TextBox 4"/>
          <p:cNvSpPr/>
          <p:nvPr/>
        </p:nvSpPr>
        <p:spPr>
          <a:xfrm>
            <a:off x="2286000" y="0"/>
            <a:ext cx="388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f497d"/>
                </a:solidFill>
                <a:latin typeface="Monotype Corsiva"/>
              </a:rPr>
              <a:t>Вторн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F:\Изображение\Вторник.jpg"/>
          <p:cNvPicPr/>
          <p:nvPr/>
        </p:nvPicPr>
        <p:blipFill>
          <a:blip r:embed="rId2"/>
          <a:stretch/>
        </p:blipFill>
        <p:spPr>
          <a:xfrm>
            <a:off x="2286000" y="1428840"/>
            <a:ext cx="4446720" cy="3000240"/>
          </a:xfrm>
          <a:prstGeom prst="rect">
            <a:avLst/>
          </a:prstGeom>
          <a:ln w="0">
            <a:noFill/>
          </a:ln>
        </p:spPr>
      </p:pic>
      <p:sp>
        <p:nvSpPr>
          <p:cNvPr id="281" name="Овал 6"/>
          <p:cNvSpPr/>
          <p:nvPr/>
        </p:nvSpPr>
        <p:spPr>
          <a:xfrm>
            <a:off x="357120" y="214200"/>
            <a:ext cx="571680" cy="571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7"/>
          <p:cNvSpPr/>
          <p:nvPr/>
        </p:nvSpPr>
        <p:spPr>
          <a:xfrm>
            <a:off x="1714680" y="4714920"/>
            <a:ext cx="5857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4,8+2,47=7,2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7,27+7,27=14,5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2"/>
          <p:cNvSpPr/>
          <p:nvPr/>
        </p:nvSpPr>
        <p:spPr>
          <a:xfrm>
            <a:off x="1029960" y="787320"/>
            <a:ext cx="76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Calibri"/>
              </a:rPr>
              <a:t>Осиновск – Сосновка (Через Дубиху)  и обрат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4"/>
          <p:cNvSpPr/>
          <p:nvPr/>
        </p:nvSpPr>
        <p:spPr>
          <a:xfrm>
            <a:off x="2286000" y="0"/>
            <a:ext cx="388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f497d"/>
                </a:solidFill>
                <a:latin typeface="Monotype Corsiva"/>
              </a:rPr>
              <a:t>Сре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F:\Изображение\Среда 001.jpg"/>
          <p:cNvPicPr/>
          <p:nvPr/>
        </p:nvPicPr>
        <p:blipFill>
          <a:blip r:embed="rId2"/>
          <a:stretch/>
        </p:blipFill>
        <p:spPr>
          <a:xfrm>
            <a:off x="2214720" y="1571760"/>
            <a:ext cx="4522680" cy="3214440"/>
          </a:xfrm>
          <a:prstGeom prst="rect">
            <a:avLst/>
          </a:prstGeom>
          <a:ln w="0">
            <a:noFill/>
          </a:ln>
        </p:spPr>
      </p:pic>
      <p:sp>
        <p:nvSpPr>
          <p:cNvPr id="289" name="Овал 6"/>
          <p:cNvSpPr/>
          <p:nvPr/>
        </p:nvSpPr>
        <p:spPr>
          <a:xfrm>
            <a:off x="214200" y="28584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7"/>
          <p:cNvSpPr/>
          <p:nvPr/>
        </p:nvSpPr>
        <p:spPr>
          <a:xfrm>
            <a:off x="1571760" y="4734000"/>
            <a:ext cx="6643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2,27+5,27=7,5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7,54 + 8,6=16,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16,14+6,74=22,8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2"/>
          <p:cNvSpPr/>
          <p:nvPr/>
        </p:nvSpPr>
        <p:spPr>
          <a:xfrm>
            <a:off x="539640" y="930240"/>
            <a:ext cx="833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Calibri"/>
              </a:rPr>
              <a:t>Осиновск – Ивкино – Дубиха – Пичугино – Осинов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295" name="TextBox 4"/>
          <p:cNvSpPr/>
          <p:nvPr/>
        </p:nvSpPr>
        <p:spPr>
          <a:xfrm>
            <a:off x="2286000" y="0"/>
            <a:ext cx="388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f497d"/>
                </a:solidFill>
                <a:latin typeface="Monotype Corsiva"/>
              </a:rPr>
              <a:t>Четвер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F:\Изображение\четверг 001.jpg"/>
          <p:cNvPicPr/>
          <p:nvPr/>
        </p:nvPicPr>
        <p:blipFill>
          <a:blip r:embed="rId2"/>
          <a:stretch/>
        </p:blipFill>
        <p:spPr>
          <a:xfrm>
            <a:off x="2500200" y="1303200"/>
            <a:ext cx="5000760" cy="3554640"/>
          </a:xfrm>
          <a:prstGeom prst="rect">
            <a:avLst/>
          </a:prstGeom>
          <a:ln w="0">
            <a:noFill/>
          </a:ln>
        </p:spPr>
      </p:pic>
      <p:sp>
        <p:nvSpPr>
          <p:cNvPr id="297" name="Овал 6"/>
          <p:cNvSpPr/>
          <p:nvPr/>
        </p:nvSpPr>
        <p:spPr>
          <a:xfrm>
            <a:off x="285840" y="214200"/>
            <a:ext cx="642960" cy="557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9"/>
          <p:cNvSpPr/>
          <p:nvPr/>
        </p:nvSpPr>
        <p:spPr>
          <a:xfrm>
            <a:off x="1857240" y="4714920"/>
            <a:ext cx="5786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,27+4,5=6,7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,77+1,9=8,6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,67+6,74=15,4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2"/>
          <p:cNvSpPr/>
          <p:nvPr/>
        </p:nvSpPr>
        <p:spPr>
          <a:xfrm>
            <a:off x="1114200" y="858240"/>
            <a:ext cx="813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Calibri"/>
              </a:rPr>
              <a:t>Осиновск – Ивкино – Малые болота – Пичугино – Осиновс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303" name="TextBox 4"/>
          <p:cNvSpPr/>
          <p:nvPr/>
        </p:nvSpPr>
        <p:spPr>
          <a:xfrm>
            <a:off x="2286000" y="0"/>
            <a:ext cx="388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f497d"/>
                </a:solidFill>
                <a:latin typeface="Monotype Corsiva"/>
              </a:rPr>
              <a:t>Пятниц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F:\Изображение\пятница.jpg"/>
          <p:cNvPicPr/>
          <p:nvPr/>
        </p:nvPicPr>
        <p:blipFill>
          <a:blip r:embed="rId2"/>
          <a:stretch/>
        </p:blipFill>
        <p:spPr>
          <a:xfrm>
            <a:off x="2857680" y="1481040"/>
            <a:ext cx="4286160" cy="3046680"/>
          </a:xfrm>
          <a:prstGeom prst="rect">
            <a:avLst/>
          </a:prstGeom>
          <a:ln w="0">
            <a:noFill/>
          </a:ln>
        </p:spPr>
      </p:pic>
      <p:sp>
        <p:nvSpPr>
          <p:cNvPr id="305" name="Овал 7"/>
          <p:cNvSpPr/>
          <p:nvPr/>
        </p:nvSpPr>
        <p:spPr>
          <a:xfrm>
            <a:off x="214200" y="285840"/>
            <a:ext cx="714600" cy="642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9"/>
          <p:cNvSpPr/>
          <p:nvPr/>
        </p:nvSpPr>
        <p:spPr>
          <a:xfrm>
            <a:off x="1785960" y="4572000"/>
            <a:ext cx="6143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,8+2,47=7,2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,27+4,9=12,1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,17+2,27=14,4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2"/>
          <p:cNvSpPr/>
          <p:nvPr/>
        </p:nvSpPr>
        <p:spPr>
          <a:xfrm>
            <a:off x="541440" y="930240"/>
            <a:ext cx="82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Calibri"/>
              </a:rPr>
              <a:t>Осиновск – Дубиха – Сосновка – Ивкино – Осинов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11" name="Прямоугольник 4"/>
          <p:cNvSpPr/>
          <p:nvPr/>
        </p:nvSpPr>
        <p:spPr>
          <a:xfrm>
            <a:off x="4357800" y="2143080"/>
            <a:ext cx="5286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 сегодня завершён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каждый должен знать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нание, упорство, труд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успеху в жизни привед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2" descr="15"/>
          <p:cNvPicPr/>
          <p:nvPr/>
        </p:nvPicPr>
        <p:blipFill>
          <a:blip r:embed="rId3"/>
          <a:stretch/>
        </p:blipFill>
        <p:spPr>
          <a:xfrm>
            <a:off x="1643040" y="2786040"/>
            <a:ext cx="1687680" cy="13334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"/>
          <p:cNvPicPr/>
          <p:nvPr/>
        </p:nvPicPr>
        <p:blipFill>
          <a:blip r:embed="rId4"/>
          <a:stretch/>
        </p:blipFill>
        <p:spPr>
          <a:xfrm>
            <a:off x="1357200" y="3857760"/>
            <a:ext cx="1357560" cy="67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5226 -0.00254 0.16441 -0.00416 0.33542 -0.00231 C 0.379 -0.00046 0.42257 0.00232 0.46615 0.00417 C 0.50174 0.00348 0.54288 0.02547 0.56927 -0.00856 C 0.57431 -0.02708 0.58073 -0.05764 0.56441 -0.06458 C 0.554 -0.07847 0.54827 -0.07361 0.53056 -0.07523 C 0.52466 -0.07801 0.52743 -0.07754 0.52257 -0.07754 E">
                                      <p:cBhvr>
                                        <p:cTn id="328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5226 -0.00254 0.16441 -0.00416 0.33542 -0.00231 C 0.379 -0.00046 0.42257 0.00232 0.46615 0.00417 C 0.50174 0.00348 0.54288 0.02547 0.56927 -0.00856 C 0.57431 -0.02708 0.58073 -0.05764 0.56441 -0.06458 C 0.554 -0.07847 0.54827 -0.07361 0.53056 -0.07523 C 0.52466 -0.07801 0.52743 -0.07754 0.52257 -0.07754 E">
                                      <p:cBhvr>
                                        <p:cTn id="330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3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318" name="TextBox 7"/>
          <p:cNvSpPr/>
          <p:nvPr/>
        </p:nvSpPr>
        <p:spPr>
          <a:xfrm>
            <a:off x="1500120" y="357120"/>
            <a:ext cx="650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Arial"/>
              </a:rPr>
              <a:t>Домашнее задани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9"/>
          <p:cNvSpPr/>
          <p:nvPr/>
        </p:nvSpPr>
        <p:spPr>
          <a:xfrm>
            <a:off x="1071720" y="2000160"/>
            <a:ext cx="7143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думать рекламу десятичным дробям, используя иллюстрации, слогон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323" name="TextBox 9"/>
          <p:cNvSpPr/>
          <p:nvPr/>
        </p:nvSpPr>
        <p:spPr>
          <a:xfrm>
            <a:off x="1071720" y="2000160"/>
            <a:ext cx="7143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2060"/>
                </a:solidFill>
                <a:latin typeface="Monotype Corsiva"/>
              </a:rPr>
              <a:t>Спасибо за внимание!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5"/>
          <p:cNvSpPr/>
          <p:nvPr/>
        </p:nvSpPr>
        <p:spPr>
          <a:xfrm>
            <a:off x="2660400" y="285840"/>
            <a:ext cx="3589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,2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5,5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2643120" y="1428840"/>
            <a:ext cx="4613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,04 &lt; 18,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7"/>
          <p:cNvSpPr/>
          <p:nvPr/>
        </p:nvSpPr>
        <p:spPr>
          <a:xfrm>
            <a:off x="2714760" y="2643120"/>
            <a:ext cx="426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3  &gt;  0,3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9"/>
          <p:cNvSpPr/>
          <p:nvPr/>
        </p:nvSpPr>
        <p:spPr>
          <a:xfrm>
            <a:off x="2786040" y="3786120"/>
            <a:ext cx="4613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806 &gt; 4,9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0"/>
          <p:cNvSpPr/>
          <p:nvPr/>
        </p:nvSpPr>
        <p:spPr>
          <a:xfrm>
            <a:off x="2857680" y="5000760"/>
            <a:ext cx="489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,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0  = 7,0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327" name="TextBox 4"/>
          <p:cNvSpPr/>
          <p:nvPr/>
        </p:nvSpPr>
        <p:spPr>
          <a:xfrm>
            <a:off x="1071720" y="642960"/>
            <a:ext cx="7429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нет – 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funforkids.ru/pictures/school1/school0101.gif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околь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animashki.ucoz.com/gorod.gif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kulttur.com/fotto/category/11-fmk.html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ем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61" name="Object 2"/>
          <p:cNvGraphicFramePr/>
          <p:nvPr/>
        </p:nvGraphicFramePr>
        <p:xfrm>
          <a:off x="-6480" y="0"/>
          <a:ext cx="915048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0"/>
                    <a:ext cx="91504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Прямоугольник 5"/>
          <p:cNvSpPr/>
          <p:nvPr/>
        </p:nvSpPr>
        <p:spPr>
          <a:xfrm>
            <a:off x="571680" y="571680"/>
            <a:ext cx="8143560" cy="30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Times New Roman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1f497d"/>
                </a:solidFill>
                <a:latin typeface="Monotype Corsiva"/>
              </a:rPr>
              <a:t>Путешествие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Monotype Corsiva"/>
              </a:rPr>
              <a:t>в зам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9"/>
          <p:cNvSpPr/>
          <p:nvPr/>
        </p:nvSpPr>
        <p:spPr>
          <a:xfrm>
            <a:off x="0" y="3714840"/>
            <a:ext cx="871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Monotype Corsiva"/>
              </a:rPr>
              <a:t>десятичных</a:t>
            </a:r>
            <a:r>
              <a:rPr b="1" lang="ru-RU" sz="6000" spc="-1" strike="noStrike">
                <a:solidFill>
                  <a:srgbClr val="1f497d"/>
                </a:solidFill>
                <a:latin typeface="Times New Roman"/>
              </a:rPr>
              <a:t>  </a:t>
            </a:r>
            <a:r>
              <a:rPr b="1" lang="ru-RU" sz="6000" spc="-1" strike="noStrike">
                <a:solidFill>
                  <a:srgbClr val="1f497d"/>
                </a:solidFill>
                <a:latin typeface="Monotype Corsiva"/>
              </a:rPr>
              <a:t>дробе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4"/>
          <p:cNvSpPr/>
          <p:nvPr/>
        </p:nvSpPr>
        <p:spPr>
          <a:xfrm>
            <a:off x="4357800" y="2143080"/>
            <a:ext cx="5286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 сегодня завершён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каждый должен знать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нание, упорство, труд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успеху в жизни привед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Блок-схема: ссылка на другую страницу 6"/>
          <p:cNvSpPr/>
          <p:nvPr/>
        </p:nvSpPr>
        <p:spPr>
          <a:xfrm>
            <a:off x="4714920" y="4286160"/>
            <a:ext cx="1285920" cy="1928880"/>
          </a:xfrm>
          <a:prstGeom prst="flowChartOffpage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станов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«Дружб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2" descr="15"/>
          <p:cNvPicPr/>
          <p:nvPr/>
        </p:nvPicPr>
        <p:blipFill>
          <a:blip r:embed="rId3"/>
          <a:stretch/>
        </p:blipFill>
        <p:spPr>
          <a:xfrm>
            <a:off x="6786720" y="4572000"/>
            <a:ext cx="35445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96296E-006 C -0.01216 0.00509 -0.02552 0.0044 -0.0382 0.00648 C -0.07604 0.00579 -0.11372 0.00579 -0.15157 0.0044 C -0.16042 0.00417 -0.17101 -0.00347 -0.17986 -0.00671 C -0.18542 -0.0088 -0.19497 -0.01782 -0.19497 -0.01782 C -0.19636 -0.02361 -0.19618 -0.03009 -0.19827 -0.03565 C -0.2007 -0.04213 -0.20643 -0.04398 -0.2099 -0.04907 E">
                                      <p:cBhvr>
                                        <p:cTn id="33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75" name="TextBox 7"/>
          <p:cNvSpPr/>
          <p:nvPr/>
        </p:nvSpPr>
        <p:spPr>
          <a:xfrm>
            <a:off x="1571760" y="428760"/>
            <a:ext cx="6357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34 + 6,7 = 104,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9"/>
          <p:cNvSpPr/>
          <p:nvPr/>
        </p:nvSpPr>
        <p:spPr>
          <a:xfrm>
            <a:off x="1530000" y="2071800"/>
            <a:ext cx="636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34 + 6,7 = 10,0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0"/>
          <p:cNvSpPr/>
          <p:nvPr/>
        </p:nvSpPr>
        <p:spPr>
          <a:xfrm>
            <a:off x="1706760" y="4000680"/>
            <a:ext cx="6159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34 + 6,7 = 100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4"/>
          <p:cNvSpPr/>
          <p:nvPr/>
        </p:nvSpPr>
        <p:spPr>
          <a:xfrm>
            <a:off x="4357800" y="2143080"/>
            <a:ext cx="5286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 сегодня завершён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каждый должен знать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нание, упорство, труд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успеху в жизни привед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Блок-схема: ссылка на другую страницу 8"/>
          <p:cNvSpPr/>
          <p:nvPr/>
        </p:nvSpPr>
        <p:spPr>
          <a:xfrm>
            <a:off x="2500200" y="3786120"/>
            <a:ext cx="1571760" cy="2143080"/>
          </a:xfrm>
          <a:prstGeom prst="flowChartOffpage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станов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то  быстрее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2" descr="1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72040" y="4786200"/>
            <a:ext cx="2214720" cy="18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22 -0.00277 C -0.09791 -0.00439 -0.07361 -0.0037 -0.11805 -0.00509 C -0.12309 -0.00509 -0.13454 -0.00532 -0.13454 -0.00509 C -0.15017 -0.00602 -0.16423 -0.00625 -0.18333 -0.00694 C -0.18836 -0.00717 -0.19513 -0.0074 -0.19947 -0.00764 C -0.22604 -0.01041 -0.1875 -0.01597 -0.24652 -0.01759 C -0.24201 -0.01828 -0.24236 -0.01805 -0.24236 -0.01828 E">
                                      <p:cBhvr>
                                        <p:cTn id="44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571680" y="214200"/>
          <a:ext cx="8358120" cy="6615360"/>
        </p:xfrm>
        <a:graphic>
          <a:graphicData uri="http://schemas.openxmlformats.org/drawingml/2006/table">
            <a:tbl>
              <a:tblPr/>
              <a:tblGrid>
                <a:gridCol w="2786040"/>
                <a:gridCol w="2786040"/>
                <a:gridCol w="2786040"/>
              </a:tblGrid>
              <a:tr h="3297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 action="ppaction://hlinksldjump"/>
                        </a:rPr>
                        <a:t>I </a:t>
                      </a:r>
                      <a:r>
                        <a:rPr b="0" lang="ru-RU" sz="2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групп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 4   +     3,2 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br>
                        <a:rPr sz="24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–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br>
                        <a:rPr sz="24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2, 4  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2 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0,2 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II</a:t>
                      </a: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 груп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2   +  0,3 =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1,5  =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12, 6 =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0,6 =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2 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III</a:t>
                      </a: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7" action="ppaction://hlinksldjump"/>
                        </a:rPr>
                        <a:t> груп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2 – 11,2 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1,7 =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1,4=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111,2 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0,5 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8" action="ppaction://hlinksldjump"/>
                        </a:rPr>
                        <a:t> </a:t>
                      </a:r>
                      <a:r>
                        <a:rPr b="0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9" action="ppaction://hlinksldjump"/>
                        </a:rPr>
                        <a:t>V</a:t>
                      </a:r>
                      <a:r>
                        <a:rPr b="0" lang="ru-RU" sz="2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0" action="ppaction://hlinksldjump"/>
                        </a:rPr>
                        <a:t> групп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,8 -5,9 =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8,3 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0  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2,5 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4,7 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1" action="ppaction://hlinksldjump"/>
                        </a:rPr>
                        <a:t>V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групп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 7 +0,3 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5 =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br>
                        <a:rPr sz="24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5,9  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br>
                        <a:rPr sz="24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0,4  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3,2 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9" name="TextBox 6"/>
          <p:cNvSpPr/>
          <p:nvPr/>
        </p:nvSpPr>
        <p:spPr>
          <a:xfrm>
            <a:off x="2143080" y="642960"/>
            <a:ext cx="35712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785880" y="2286000"/>
            <a:ext cx="35712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2143080" y="1714680"/>
            <a:ext cx="35712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785880" y="2786040"/>
            <a:ext cx="35712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1"/>
          <p:cNvSpPr/>
          <p:nvPr/>
        </p:nvSpPr>
        <p:spPr>
          <a:xfrm>
            <a:off x="2143080" y="2286000"/>
            <a:ext cx="35712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2143080" y="2786040"/>
            <a:ext cx="35712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4"/>
          <p:cNvSpPr/>
          <p:nvPr/>
        </p:nvSpPr>
        <p:spPr>
          <a:xfrm>
            <a:off x="4929120" y="714240"/>
            <a:ext cx="42876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5"/>
          <p:cNvSpPr/>
          <p:nvPr/>
        </p:nvSpPr>
        <p:spPr>
          <a:xfrm>
            <a:off x="3429000" y="1214280"/>
            <a:ext cx="42876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6"/>
          <p:cNvSpPr/>
          <p:nvPr/>
        </p:nvSpPr>
        <p:spPr>
          <a:xfrm>
            <a:off x="4929120" y="1285920"/>
            <a:ext cx="42876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7"/>
          <p:cNvSpPr/>
          <p:nvPr/>
        </p:nvSpPr>
        <p:spPr>
          <a:xfrm>
            <a:off x="3429000" y="1857240"/>
            <a:ext cx="42876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8"/>
          <p:cNvSpPr/>
          <p:nvPr/>
        </p:nvSpPr>
        <p:spPr>
          <a:xfrm>
            <a:off x="4929120" y="1785960"/>
            <a:ext cx="42876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9"/>
          <p:cNvSpPr/>
          <p:nvPr/>
        </p:nvSpPr>
        <p:spPr>
          <a:xfrm>
            <a:off x="3429000" y="2428920"/>
            <a:ext cx="42876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0"/>
          <p:cNvSpPr/>
          <p:nvPr/>
        </p:nvSpPr>
        <p:spPr>
          <a:xfrm>
            <a:off x="4929120" y="2357280"/>
            <a:ext cx="42876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1"/>
          <p:cNvSpPr/>
          <p:nvPr/>
        </p:nvSpPr>
        <p:spPr>
          <a:xfrm>
            <a:off x="7572240" y="714240"/>
            <a:ext cx="42876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2"/>
          <p:cNvSpPr/>
          <p:nvPr/>
        </p:nvSpPr>
        <p:spPr>
          <a:xfrm>
            <a:off x="6215040" y="1285920"/>
            <a:ext cx="42876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3"/>
          <p:cNvSpPr/>
          <p:nvPr/>
        </p:nvSpPr>
        <p:spPr>
          <a:xfrm>
            <a:off x="7572240" y="1285920"/>
            <a:ext cx="419400" cy="37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4"/>
          <p:cNvSpPr/>
          <p:nvPr/>
        </p:nvSpPr>
        <p:spPr>
          <a:xfrm>
            <a:off x="6215040" y="1857240"/>
            <a:ext cx="42876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5"/>
          <p:cNvSpPr/>
          <p:nvPr/>
        </p:nvSpPr>
        <p:spPr>
          <a:xfrm>
            <a:off x="7643880" y="1785960"/>
            <a:ext cx="42840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6"/>
          <p:cNvSpPr/>
          <p:nvPr/>
        </p:nvSpPr>
        <p:spPr>
          <a:xfrm>
            <a:off x="6286680" y="2428920"/>
            <a:ext cx="42840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7"/>
          <p:cNvSpPr/>
          <p:nvPr/>
        </p:nvSpPr>
        <p:spPr>
          <a:xfrm>
            <a:off x="7715160" y="2357280"/>
            <a:ext cx="42876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8"/>
          <p:cNvSpPr/>
          <p:nvPr/>
        </p:nvSpPr>
        <p:spPr>
          <a:xfrm>
            <a:off x="6357960" y="3857760"/>
            <a:ext cx="42876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9"/>
          <p:cNvSpPr/>
          <p:nvPr/>
        </p:nvSpPr>
        <p:spPr>
          <a:xfrm>
            <a:off x="6357960" y="4357800"/>
            <a:ext cx="42876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0"/>
          <p:cNvSpPr/>
          <p:nvPr/>
        </p:nvSpPr>
        <p:spPr>
          <a:xfrm>
            <a:off x="6429240" y="4929120"/>
            <a:ext cx="42876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1"/>
          <p:cNvSpPr/>
          <p:nvPr/>
        </p:nvSpPr>
        <p:spPr>
          <a:xfrm>
            <a:off x="6429240" y="5500800"/>
            <a:ext cx="42876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2"/>
          <p:cNvSpPr/>
          <p:nvPr/>
        </p:nvSpPr>
        <p:spPr>
          <a:xfrm>
            <a:off x="5072040" y="4286160"/>
            <a:ext cx="42876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3"/>
          <p:cNvSpPr/>
          <p:nvPr/>
        </p:nvSpPr>
        <p:spPr>
          <a:xfrm>
            <a:off x="5143680" y="4929120"/>
            <a:ext cx="42840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4"/>
          <p:cNvSpPr/>
          <p:nvPr/>
        </p:nvSpPr>
        <p:spPr>
          <a:xfrm>
            <a:off x="5143680" y="5500800"/>
            <a:ext cx="42840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5"/>
          <p:cNvSpPr/>
          <p:nvPr/>
        </p:nvSpPr>
        <p:spPr>
          <a:xfrm>
            <a:off x="2357280" y="3857760"/>
            <a:ext cx="28584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6"/>
          <p:cNvSpPr/>
          <p:nvPr/>
        </p:nvSpPr>
        <p:spPr>
          <a:xfrm>
            <a:off x="1143000" y="4357800"/>
            <a:ext cx="35712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7"/>
          <p:cNvSpPr/>
          <p:nvPr/>
        </p:nvSpPr>
        <p:spPr>
          <a:xfrm>
            <a:off x="2357280" y="4357800"/>
            <a:ext cx="28584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8"/>
          <p:cNvSpPr/>
          <p:nvPr/>
        </p:nvSpPr>
        <p:spPr>
          <a:xfrm flipV="1">
            <a:off x="2357280" y="4929120"/>
            <a:ext cx="28584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9"/>
          <p:cNvSpPr/>
          <p:nvPr/>
        </p:nvSpPr>
        <p:spPr>
          <a:xfrm>
            <a:off x="2428920" y="5429160"/>
            <a:ext cx="28584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0"/>
          <p:cNvSpPr/>
          <p:nvPr/>
        </p:nvSpPr>
        <p:spPr>
          <a:xfrm>
            <a:off x="1143000" y="5000760"/>
            <a:ext cx="42876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1"/>
          <p:cNvSpPr/>
          <p:nvPr/>
        </p:nvSpPr>
        <p:spPr>
          <a:xfrm>
            <a:off x="1143000" y="5500800"/>
            <a:ext cx="42876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787320" y="1116000"/>
            <a:ext cx="35712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2143080" y="1143000"/>
            <a:ext cx="35712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785880" y="1714680"/>
            <a:ext cx="35712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Прямая со стрелкой 45"/>
          <p:cNvCxnSpPr/>
          <p:nvPr/>
        </p:nvCxnSpPr>
        <p:spPr>
          <a:xfrm flipH="1">
            <a:off x="1357200" y="927720"/>
            <a:ext cx="64332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7" name="Прямая со стрелкой 47"/>
          <p:cNvCxnSpPr/>
          <p:nvPr/>
        </p:nvCxnSpPr>
        <p:spPr>
          <a:xfrm flipH="1">
            <a:off x="1213920" y="1428840"/>
            <a:ext cx="85824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8" name="Прямая со стрелкой 49"/>
          <p:cNvCxnSpPr/>
          <p:nvPr/>
        </p:nvCxnSpPr>
        <p:spPr>
          <a:xfrm flipH="1">
            <a:off x="1285200" y="2070720"/>
            <a:ext cx="786600" cy="28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Прямая со стрелкой 51"/>
          <p:cNvCxnSpPr/>
          <p:nvPr/>
        </p:nvCxnSpPr>
        <p:spPr>
          <a:xfrm flipH="1">
            <a:off x="1213920" y="2713680"/>
            <a:ext cx="92952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0" name="TextBox 19"/>
          <p:cNvSpPr/>
          <p:nvPr/>
        </p:nvSpPr>
        <p:spPr>
          <a:xfrm>
            <a:off x="3429000" y="2928960"/>
            <a:ext cx="42876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9"/>
          <p:cNvSpPr/>
          <p:nvPr/>
        </p:nvSpPr>
        <p:spPr>
          <a:xfrm>
            <a:off x="4929120" y="2857680"/>
            <a:ext cx="42876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6"/>
          <p:cNvSpPr/>
          <p:nvPr/>
        </p:nvSpPr>
        <p:spPr>
          <a:xfrm>
            <a:off x="6286680" y="2928960"/>
            <a:ext cx="42840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6"/>
          <p:cNvSpPr/>
          <p:nvPr/>
        </p:nvSpPr>
        <p:spPr>
          <a:xfrm>
            <a:off x="7715160" y="2928960"/>
            <a:ext cx="42876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41"/>
          <p:cNvSpPr/>
          <p:nvPr/>
        </p:nvSpPr>
        <p:spPr>
          <a:xfrm>
            <a:off x="1143000" y="5500800"/>
            <a:ext cx="42876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1"/>
          <p:cNvSpPr/>
          <p:nvPr/>
        </p:nvSpPr>
        <p:spPr>
          <a:xfrm>
            <a:off x="1143000" y="6000840"/>
            <a:ext cx="428760" cy="37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1"/>
          <p:cNvSpPr/>
          <p:nvPr/>
        </p:nvSpPr>
        <p:spPr>
          <a:xfrm>
            <a:off x="2500200" y="6000840"/>
            <a:ext cx="28584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4"/>
          <p:cNvSpPr/>
          <p:nvPr/>
        </p:nvSpPr>
        <p:spPr>
          <a:xfrm>
            <a:off x="5214960" y="6143760"/>
            <a:ext cx="42876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4"/>
          <p:cNvSpPr/>
          <p:nvPr/>
        </p:nvSpPr>
        <p:spPr>
          <a:xfrm>
            <a:off x="6500880" y="6072120"/>
            <a:ext cx="42840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http://allforchildren.ru/pictures/school1_s/school0101.jpg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7215120" y="5572080"/>
            <a:ext cx="1692360" cy="10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5"/>
          <p:cNvSpPr/>
          <p:nvPr/>
        </p:nvSpPr>
        <p:spPr>
          <a:xfrm>
            <a:off x="1143000" y="0"/>
            <a:ext cx="721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Monotype Corsiva"/>
              </a:rPr>
              <a:t>Проверк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0"/>
          <p:cNvSpPr/>
          <p:nvPr/>
        </p:nvSpPr>
        <p:spPr>
          <a:xfrm>
            <a:off x="1801440" y="1071720"/>
            <a:ext cx="30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 4   +     3,2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2"/>
          <p:cNvSpPr/>
          <p:nvPr/>
        </p:nvSpPr>
        <p:spPr>
          <a:xfrm>
            <a:off x="5000760" y="107172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,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3"/>
          <p:cNvSpPr/>
          <p:nvPr/>
        </p:nvSpPr>
        <p:spPr>
          <a:xfrm>
            <a:off x="1571760" y="1785960"/>
            <a:ext cx="30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,6   -      8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5"/>
          <p:cNvSpPr/>
          <p:nvPr/>
        </p:nvSpPr>
        <p:spPr>
          <a:xfrm>
            <a:off x="4433760" y="178596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6"/>
          <p:cNvSpPr/>
          <p:nvPr/>
        </p:nvSpPr>
        <p:spPr>
          <a:xfrm>
            <a:off x="1872000" y="2500200"/>
            <a:ext cx="28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6   +   12,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7"/>
          <p:cNvSpPr/>
          <p:nvPr/>
        </p:nvSpPr>
        <p:spPr>
          <a:xfrm>
            <a:off x="4790160" y="24289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8"/>
          <p:cNvSpPr/>
          <p:nvPr/>
        </p:nvSpPr>
        <p:spPr>
          <a:xfrm>
            <a:off x="1869120" y="32860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  - 5,2 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9"/>
          <p:cNvSpPr/>
          <p:nvPr/>
        </p:nvSpPr>
        <p:spPr>
          <a:xfrm>
            <a:off x="4219560" y="321480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,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0"/>
          <p:cNvSpPr/>
          <p:nvPr/>
        </p:nvSpPr>
        <p:spPr>
          <a:xfrm>
            <a:off x="1870560" y="4071960"/>
            <a:ext cx="263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,8   +  0,2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1"/>
          <p:cNvSpPr/>
          <p:nvPr/>
        </p:nvSpPr>
        <p:spPr>
          <a:xfrm>
            <a:off x="4286160" y="400068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http://allforchildren.ru/pictures/school1_s/school0101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143840" y="5572080"/>
            <a:ext cx="1692360" cy="10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0:50:52Z</dcterms:created>
  <dc:creator>1</dc:creator>
  <dc:description/>
  <dc:language>en-US</dc:language>
  <cp:lastModifiedBy>777</cp:lastModifiedBy>
  <dcterms:modified xsi:type="dcterms:W3CDTF">2022-02-18T07:37:43Z</dcterms:modified>
  <cp:revision>133</cp:revision>
  <dc:subject/>
  <dc:title>Слайд 1</dc:title>
</cp:coreProperties>
</file>