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9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B959-44C6-4C46-872F-769AAF2B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0DF-8F6F-4CE4-B1D5-0856738D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54D0-D031-4737-996B-14C64E6B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CB5F-FE2B-43CD-9687-0D6E2E68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CFBA-4A4D-4A7A-9582-B96AFD6B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46D6-8FB2-4790-9970-CEFBEE66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CC57-ADD0-4A7C-B3AF-EE1340E3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FF13-37E5-4329-8B9D-6307A2B2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8603-C0BD-432A-BCF4-24474258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F4D0-E791-4D0E-A177-5D9F63B6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D204-DFC2-4FEC-949D-1B8FCF23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DE03-BF96-4980-AA9F-338A8C52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1B1B-C264-4B92-B77E-DA86A336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3A40-09BD-4B52-9F87-E296EAB4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3AA3-D873-4675-9A87-8F60CD01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D82D-2DC2-4E31-9531-C31FE457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A182-33E6-410E-AF1E-96E4424C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5F10B-9CDD-4943-B285-28595151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40273-C01B-43C8-B894-F7F765D1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82D65-FA01-4264-9294-7FF929F2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66155-8DB8-40A1-A8A3-3D666B30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0000F-D962-4D68-8D2D-26CF5A38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34B5-1A04-4416-90BF-4BD7C079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E544B-DF44-4306-8F58-B34F32A9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1B252-6E0C-4365-8BAA-123A8185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C3F22-F4E6-45AF-B98E-A9DF0037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CC8C2-C664-4011-BC6D-F4D92CE5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3627C-28B7-46C7-BDD9-BB0F6518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915B2-8CC5-4F16-9C22-40C94E69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C5CD5-5A31-4FE9-9D47-F4B38519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13F4-B5BA-41E4-B4A2-35AFCA16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61A8-6ED2-4B1E-9FE2-FA4D7F10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52CB-6E7F-4F44-B4B3-BB6FBA55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7615-2587-4405-93D8-5E2AD9B1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49BF-5EA0-4D03-B9A7-27D9F00A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C69E-BA1A-44BE-B3ED-DF7BB450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1B4F-7DB1-4E30-8FF1-DCF470DF304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296D-E00F-4D0C-8082-FCD728B05E2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94F3-71C6-43EE-9521-BA3FB98C43B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tepka.ru/trud/59.jpg" TargetMode="External"/><Relationship Id="rId2" Type="http://schemas.openxmlformats.org/officeDocument/2006/relationships/hyperlink" Target="http://www.tepka.ru/trud/61.jpg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2349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Лобзик и его применение для выпиливания из древесины и фанер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340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Учитель технологии Фасхутдинов А.М.</a:t>
            </a:r>
            <a:r>
              <a:rPr b="0" lang="ru-RU" sz="20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Calibri"/>
              </a:rPr>
              <a:t>МОБУ «СОШ №13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59"/>
          <p:cNvPicPr/>
          <p:nvPr/>
        </p:nvPicPr>
        <p:blipFill>
          <a:blip r:embed="rId1"/>
          <a:stretch/>
        </p:blipFill>
        <p:spPr>
          <a:xfrm>
            <a:off x="250920" y="189000"/>
            <a:ext cx="86407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9" descr="61"/>
          <p:cNvPicPr/>
          <p:nvPr/>
        </p:nvPicPr>
        <p:blipFill>
          <a:blip r:embed="rId1"/>
          <a:stretch/>
        </p:blipFill>
        <p:spPr>
          <a:xfrm>
            <a:off x="2340000" y="476280"/>
            <a:ext cx="4546440" cy="4483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0"/>
          <p:cNvSpPr/>
          <p:nvPr/>
        </p:nvSpPr>
        <p:spPr>
          <a:xfrm>
            <a:off x="1817280" y="544032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Рис. 8. Прием работы лобзи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5" descr="62"/>
          <p:cNvPicPr/>
          <p:nvPr/>
        </p:nvPicPr>
        <p:blipFill>
          <a:blip r:embed="rId1"/>
          <a:stretch/>
        </p:blipFill>
        <p:spPr>
          <a:xfrm>
            <a:off x="1619280" y="404640"/>
            <a:ext cx="5765760" cy="40514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61" name="Rectangle 6"/>
          <p:cNvSpPr/>
          <p:nvPr/>
        </p:nvSpPr>
        <p:spPr>
          <a:xfrm>
            <a:off x="1749240" y="4929480"/>
            <a:ext cx="572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Рис. 9. Выпиливание острых угл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а – внутренних, б – внеш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5" descr="63"/>
          <p:cNvPicPr/>
          <p:nvPr/>
        </p:nvPicPr>
        <p:blipFill>
          <a:blip r:embed="rId1"/>
          <a:stretch/>
        </p:blipFill>
        <p:spPr>
          <a:xfrm>
            <a:off x="250920" y="765000"/>
            <a:ext cx="8642160" cy="38466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6"/>
          <p:cNvSpPr/>
          <p:nvPr/>
        </p:nvSpPr>
        <p:spPr>
          <a:xfrm>
            <a:off x="582840" y="5372280"/>
            <a:ext cx="814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Рис. 10. Выпиливание: а – по внутреннему контур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б – по внешнему конту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257840" y="5156280"/>
            <a:ext cx="686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Рис. 11. Технология вставки пилки лобз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во внутренний контур загот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Выпиливаем_из_фанеры_стр_0017"/>
          <p:cNvPicPr/>
          <p:nvPr/>
        </p:nvPicPr>
        <p:blipFill>
          <a:blip r:embed="rId1"/>
          <a:stretch/>
        </p:blipFill>
        <p:spPr>
          <a:xfrm>
            <a:off x="1692360" y="907920"/>
            <a:ext cx="58420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Задание 14 №2. В данных словах буквы перепутаны. Напиши слова правильн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кизбол, нефара, калип, товзагока, лош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461240" y="404640"/>
            <a:ext cx="61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Arial"/>
              </a:rPr>
              <a:t>Закрепление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Выпиливаем_из_фанеры_стр_0016"/>
          <p:cNvPicPr/>
          <p:nvPr/>
        </p:nvPicPr>
        <p:blipFill>
          <a:blip r:embed="rId1"/>
          <a:stretch/>
        </p:blipFill>
        <p:spPr>
          <a:xfrm>
            <a:off x="2987640" y="3357720"/>
            <a:ext cx="331308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628640"/>
            <a:ext cx="324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80000" y="836640"/>
            <a:ext cx="511776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Ответы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кизбол -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лобз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нефара -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фане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калип -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пил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товзагока –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заготов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лоши -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шил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5" descr="66"/>
          <p:cNvPicPr/>
          <p:nvPr/>
        </p:nvPicPr>
        <p:blipFill>
          <a:blip r:embed="rId1"/>
          <a:stretch/>
        </p:blipFill>
        <p:spPr>
          <a:xfrm>
            <a:off x="468360" y="981000"/>
            <a:ext cx="3722760" cy="4391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476280"/>
            <a:ext cx="822960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Задание 14 №3. Впиши недостающие буквы в следующих слова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р _ _ ка; з _ б _ я; з _ ж _ м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в _ н _ ; и _ де _ _ 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331128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ff"/>
                </a:solidFill>
                <a:latin typeface="Calibri"/>
              </a:rPr>
              <a:t>Ответы: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54756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р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у</a:t>
            </a:r>
            <a:r>
              <a:rPr b="1" lang="ru-RU" sz="37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ч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к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54756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з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у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б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ь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я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54756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з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а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ж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и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м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54756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в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и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н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т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54756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и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з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де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л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и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е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42920" y="836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6" descr="66"/>
          <p:cNvPicPr/>
          <p:nvPr/>
        </p:nvPicPr>
        <p:blipFill>
          <a:blip r:embed="rId1"/>
          <a:stretch/>
        </p:blipFill>
        <p:spPr>
          <a:xfrm>
            <a:off x="4788000" y="836640"/>
            <a:ext cx="3868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Работа моих учеников с лобзи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Объект 6" descr=""/>
          <p:cNvPicPr/>
          <p:nvPr/>
        </p:nvPicPr>
        <p:blipFill>
          <a:blip r:embed="rId1"/>
          <a:stretch/>
        </p:blipFill>
        <p:spPr>
          <a:xfrm>
            <a:off x="4211640" y="3898800"/>
            <a:ext cx="1920960" cy="233856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7" descr=""/>
          <p:cNvPicPr/>
          <p:nvPr/>
        </p:nvPicPr>
        <p:blipFill>
          <a:blip r:embed="rId2"/>
          <a:stretch/>
        </p:blipFill>
        <p:spPr>
          <a:xfrm>
            <a:off x="539640" y="2852640"/>
            <a:ext cx="2448000" cy="326412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8" descr=""/>
          <p:cNvPicPr/>
          <p:nvPr/>
        </p:nvPicPr>
        <p:blipFill>
          <a:blip r:embed="rId3"/>
          <a:stretch/>
        </p:blipFill>
        <p:spPr>
          <a:xfrm>
            <a:off x="6443640" y="1386000"/>
            <a:ext cx="2376360" cy="316836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9" descr=""/>
          <p:cNvPicPr/>
          <p:nvPr/>
        </p:nvPicPr>
        <p:blipFill>
          <a:blip r:embed="rId4"/>
          <a:stretch/>
        </p:blipFill>
        <p:spPr>
          <a:xfrm>
            <a:off x="3276720" y="1341360"/>
            <a:ext cx="17967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Делаем сами своими рук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Объект 4" descr=""/>
          <p:cNvPicPr/>
          <p:nvPr/>
        </p:nvPicPr>
        <p:blipFill>
          <a:blip r:embed="rId1"/>
          <a:stretch/>
        </p:blipFill>
        <p:spPr>
          <a:xfrm>
            <a:off x="6351480" y="1519200"/>
            <a:ext cx="2705040" cy="19954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"/>
          <p:cNvPicPr/>
          <p:nvPr/>
        </p:nvPicPr>
        <p:blipFill>
          <a:blip r:embed="rId2"/>
          <a:stretch/>
        </p:blipFill>
        <p:spPr>
          <a:xfrm>
            <a:off x="7280280" y="4105440"/>
            <a:ext cx="1832040" cy="24415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"/>
          <p:cNvPicPr/>
          <p:nvPr/>
        </p:nvPicPr>
        <p:blipFill>
          <a:blip r:embed="rId3"/>
          <a:stretch/>
        </p:blipFill>
        <p:spPr>
          <a:xfrm>
            <a:off x="4030560" y="4365720"/>
            <a:ext cx="3097440" cy="192240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7" descr=""/>
          <p:cNvPicPr/>
          <p:nvPr/>
        </p:nvPicPr>
        <p:blipFill>
          <a:blip r:embed="rId4"/>
          <a:stretch/>
        </p:blipFill>
        <p:spPr>
          <a:xfrm>
            <a:off x="4062240" y="1484280"/>
            <a:ext cx="2075040" cy="223992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8" descr=""/>
          <p:cNvPicPr/>
          <p:nvPr/>
        </p:nvPicPr>
        <p:blipFill>
          <a:blip r:embed="rId5"/>
          <a:stretch/>
        </p:blipFill>
        <p:spPr>
          <a:xfrm>
            <a:off x="250920" y="1700280"/>
            <a:ext cx="329868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Лобзик –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инструмент для выпиливания изделий из древесины и фане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Лобзик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представляет собой металлическую рамку, на концах которой имеются винтовые зажимы с гайками для креплени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илк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– узкой тонкой металлической полоски с мелкими зубь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26400" y="404640"/>
            <a:ext cx="78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  <a:ea typeface="Arial"/>
              </a:rPr>
              <a:t>Изучение нового учеб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Выпиливаем_из_фанеры_стр_0002"/>
          <p:cNvPicPr/>
          <p:nvPr/>
        </p:nvPicPr>
        <p:blipFill>
          <a:blip r:embed="rId1"/>
          <a:stretch/>
        </p:blipFill>
        <p:spPr>
          <a:xfrm>
            <a:off x="4859280" y="4076640"/>
            <a:ext cx="3600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23480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1.Глозман Е.С. Технология. Индустриальные технологии: 5 класс: учеб. для гор. общеобразоват. учреждений / Е.С. Глозман; под ред. Ю.Л. Хотунцева, Е.С. Глозмана. – 5-е изд., испр. и доп. – М.: Мнемозина, 201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.Е.Данкевич, В.Поляков. Выпиливаем из фанеры. Санкт-Петербург. – «Кристалл», 199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3.Тищенко А.Т. Технология. Индустриальные технологии: 5 класс: учебник для учащихся общеобразовательных учреждений /А.Т. Тищенко, В.Д. Симоненко – М.: Вентана-Граф, 201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4.Тищенко А.Т. Технология. Индустриальные технологии: 5 класс: рабочая тетрадь для учащихся общеобразовательных организаций/ А.Т. Тищенко, Н.А. Буглаева. – 2-е изд., дораб. – М.: Вентана-Граф, 201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271440" y="404640"/>
            <a:ext cx="85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Arial"/>
              </a:rPr>
              <a:t>Список использованных печатных исто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23480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изделия из фанер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epka.ru/trud/59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приём работы лобзико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tepka.ru/trud/61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выпиливание острых уг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http://www.tepka.ru/trud/62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выпилива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http://www.tepka.ru/trud/63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способы выпилив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http://www.tepka.ru/trud/64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мальчик выпиливает (цветное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http://www.tepka.ru/trud/66.4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вставка пилки в лобзи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http://narodna-osvita.com.ua/uploads/trud-5-tereshuk/tereskuk-trudove-5-klas-115.p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28760" y="455760"/>
            <a:ext cx="82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Активные ссылки на использованные изобра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(URL-адрес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23480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выпиливание лобзиком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http://bycinka.ru/img/359/image312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428760" y="455760"/>
            <a:ext cx="82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Активные ссылки на использованные изобра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(URL-адрес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2195640" y="476280"/>
            <a:ext cx="4835520" cy="41418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1193760" y="5216760"/>
            <a:ext cx="683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Рис. 1. Ручной лобзик: 1 – рамка; 2 – руч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3 – зажимные гайки; 4 – пилк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50960" y="548280"/>
            <a:ext cx="76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Пилку в лобзике закрепля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с наклоном зубьев в сторону руч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1"/>
          <a:stretch/>
        </p:blipFill>
        <p:spPr>
          <a:xfrm>
            <a:off x="-28440" y="1989000"/>
            <a:ext cx="9172440" cy="244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"/>
          <p:cNvSpPr/>
          <p:nvPr/>
        </p:nvSpPr>
        <p:spPr>
          <a:xfrm>
            <a:off x="755640" y="4941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Прав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419640" y="4941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Неправ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6227640" y="4941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Неправ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1619280" y="573264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Рис. 2. Положение пилки в лобз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401760" y="549000"/>
            <a:ext cx="842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Пилку в лобзике закрепля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сначала в нижнем, а затем в верхнем зажи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Выпиливаем_из_фанеры_стр_0011"/>
          <p:cNvPicPr/>
          <p:nvPr/>
        </p:nvPicPr>
        <p:blipFill>
          <a:blip r:embed="rId1"/>
          <a:stretch/>
        </p:blipFill>
        <p:spPr>
          <a:xfrm>
            <a:off x="1763640" y="1916280"/>
            <a:ext cx="5524560" cy="34797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0"/>
          <p:cNvSpPr/>
          <p:nvPr/>
        </p:nvSpPr>
        <p:spPr>
          <a:xfrm>
            <a:off x="1619280" y="56610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Рис. 3. Крепление пилки в лобз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834480" y="549000"/>
            <a:ext cx="7468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Для выпиливания лобзиком применя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выпиловочный столик, который креп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в крышке верстака струбциной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2484360" y="2133720"/>
            <a:ext cx="4272120" cy="33908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1322280" y="5907600"/>
            <a:ext cx="66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Рис. 4. 1 – ласточкин хвост; 2 – струбц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Рис. 5. Рабочие позы при выпиливан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сидя и сто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3552840" cy="360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"/>
          <p:cNvPicPr/>
          <p:nvPr/>
        </p:nvPicPr>
        <p:blipFill>
          <a:blip r:embed="rId2"/>
          <a:stretch/>
        </p:blipFill>
        <p:spPr>
          <a:xfrm>
            <a:off x="4643280" y="549360"/>
            <a:ext cx="38163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Рис. 6. Движение лобзика при работе.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7" descr="Выпиливаем_из_фанеры_стр_0015 - копия"/>
          <p:cNvPicPr/>
          <p:nvPr/>
        </p:nvPicPr>
        <p:blipFill>
          <a:blip r:embed="rId1"/>
          <a:stretch/>
        </p:blipFill>
        <p:spPr>
          <a:xfrm>
            <a:off x="1476360" y="981000"/>
            <a:ext cx="63565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5" descr="64"/>
          <p:cNvPicPr/>
          <p:nvPr/>
        </p:nvPicPr>
        <p:blipFill>
          <a:blip r:embed="rId1"/>
          <a:stretch/>
        </p:blipFill>
        <p:spPr>
          <a:xfrm>
            <a:off x="250920" y="765000"/>
            <a:ext cx="8642160" cy="42530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927000" y="5558040"/>
            <a:ext cx="751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Рис. 7. Способы выпил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а – в круглом отверстии; б – в вырезе стол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7T20:19:53Z</dcterms:created>
  <dc:creator>User</dc:creator>
  <dc:description/>
  <dc:language>en-US</dc:language>
  <cp:lastModifiedBy>Пользователь</cp:lastModifiedBy>
  <dcterms:modified xsi:type="dcterms:W3CDTF">2023-02-01T09:24:01Z</dcterms:modified>
  <cp:revision>33</cp:revision>
  <dc:subject/>
  <dc:title>Выпиливание лобзиком</dc:title>
</cp:coreProperties>
</file>