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189-5D12-4926-970F-DA45154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A01-A317-4C75-9C06-F79E128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652-8BB3-4C07-B1AB-6BB54AD5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3FD-EBD4-476D-985B-378EE01F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6DAF-50A8-4D07-BD90-E54BD731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744D-66E9-47C3-9DCE-4B23675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D14-D8AE-433F-9092-41E137EE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A20-3070-425E-BF19-375AB72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6CF9-3401-435A-8C1F-C3671B54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424-8125-4099-A8BE-E982B03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1E0-F385-4C85-A158-10A8F6F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30B-34E8-46D7-8986-CBB24C18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9E90-63F4-4E8B-BD2D-D54096A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9DB3-1A38-4644-AF6D-B49A50E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7F08-6482-40F1-A443-789F78E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E6D-2317-49EC-8622-334C5303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EA7A-68DB-465D-AB63-A14909A0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9AE8-D5EC-4860-9035-615A341F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8510-B60F-4CF8-8594-968A12D6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98B4-5ADF-4E59-BD00-E782CC0A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9315-7A8F-4179-844A-649E3956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FC12-15FE-41C6-A223-F67887F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410-1BE5-46DD-9316-1352D6A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3C46-625D-4F5E-A192-E20E46F8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2052-7982-4BAF-9F8F-99E9CE3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6F7B-FC4C-434F-866C-FCEB8D8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E7D6-F8B9-41DE-984E-64C5443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0550-3774-4C92-BFE8-F3D3497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53EA-6C0D-480A-8E66-924FD57F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AB7E-EF6D-40AF-B388-7C0D311E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50A-9257-4BE5-914C-1191832F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46B-1A36-49E0-A3C1-86BAB12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C47-CB0E-4B84-84FD-6659F20B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B42-67B5-4EA4-9B0C-3293E66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870-F46A-4D32-92D3-D9FE2F4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9BC-F814-486D-957D-66CE9CE0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D7DC-699F-4B48-8A80-3E166AD513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2D0-6BCD-44A6-946F-BC5A0EFF94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929-3DC4-4804-865A-41DDB8AE19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epka.ru/trud/59.jpg" TargetMode="External"/><Relationship Id="rId2" Type="http://schemas.openxmlformats.org/officeDocument/2006/relationships/hyperlink" Target="http://www.tepka.ru/trud/61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Лобзик и его применение для выпиливания из древесины и фане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читель технологии Фасхутдинов А.М.</a:t>
            </a: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МОБУ «СОШ №1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59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9" descr="61"/>
          <p:cNvPicPr/>
          <p:nvPr/>
        </p:nvPicPr>
        <p:blipFill>
          <a:blip r:embed="rId1"/>
          <a:stretch/>
        </p:blipFill>
        <p:spPr>
          <a:xfrm>
            <a:off x="2340000" y="476280"/>
            <a:ext cx="454644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1817280" y="54403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Рис. 8. Прием работы лобз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62"/>
          <p:cNvPicPr/>
          <p:nvPr/>
        </p:nvPicPr>
        <p:blipFill>
          <a:blip r:embed="rId1"/>
          <a:stretch/>
        </p:blipFill>
        <p:spPr>
          <a:xfrm>
            <a:off x="1619280" y="404640"/>
            <a:ext cx="5765760" cy="4051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1749240" y="49294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9. Выпиливание острых уг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нутренних, б – внеш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63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384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82840" y="5372280"/>
            <a:ext cx="81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0. Выпиливание: а – по внутреннему кон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 – по внешнему конт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57840" y="51562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1. Технология вставки пилки лоб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о внутренний контур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Выпиливаем_из_фанеры_стр_0017"/>
          <p:cNvPicPr/>
          <p:nvPr/>
        </p:nvPicPr>
        <p:blipFill>
          <a:blip r:embed="rId1"/>
          <a:stretch/>
        </p:blipFill>
        <p:spPr>
          <a:xfrm>
            <a:off x="1692360" y="907920"/>
            <a:ext cx="584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2. В данных словах буквы перепутаны. Напиши слова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кизбол, нефара, калип, товзагока, ло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61240" y="4046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Выпиливаем_из_фанеры_стр_0016"/>
          <p:cNvPicPr/>
          <p:nvPr/>
        </p:nvPicPr>
        <p:blipFill>
          <a:blip r:embed="rId1"/>
          <a:stretch/>
        </p:blipFill>
        <p:spPr>
          <a:xfrm>
            <a:off x="2987640" y="3357720"/>
            <a:ext cx="33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62864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1177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избол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бз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нефара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ан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алип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и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товзагока –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гот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лоши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ши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66"/>
          <p:cNvPicPr/>
          <p:nvPr/>
        </p:nvPicPr>
        <p:blipFill>
          <a:blip r:embed="rId1"/>
          <a:stretch/>
        </p:blipFill>
        <p:spPr>
          <a:xfrm>
            <a:off x="468360" y="981000"/>
            <a:ext cx="3722760" cy="439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7628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3. Впиши недостающие буквы в следующих сл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р _ _ ка; з _ б _ я; з _ ж _ 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 _ н _ ; и _ де _ _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3112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р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ч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б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ь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а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ж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в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н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т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и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з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де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л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66"/>
          <p:cNvPicPr/>
          <p:nvPr/>
        </p:nvPicPr>
        <p:blipFill>
          <a:blip r:embed="rId1"/>
          <a:stretch/>
        </p:blipFill>
        <p:spPr>
          <a:xfrm>
            <a:off x="4788000" y="836640"/>
            <a:ext cx="3868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та моих учеников с лобз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6" descr=""/>
          <p:cNvPicPr/>
          <p:nvPr/>
        </p:nvPicPr>
        <p:blipFill>
          <a:blip r:embed="rId1"/>
          <a:stretch/>
        </p:blipFill>
        <p:spPr>
          <a:xfrm>
            <a:off x="4211640" y="3898800"/>
            <a:ext cx="1920960" cy="2338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"/>
          <p:cNvPicPr/>
          <p:nvPr/>
        </p:nvPicPr>
        <p:blipFill>
          <a:blip r:embed="rId3"/>
          <a:stretch/>
        </p:blipFill>
        <p:spPr>
          <a:xfrm>
            <a:off x="6443640" y="1386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967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Делаем сам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6351480" y="1519200"/>
            <a:ext cx="2705040" cy="1995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280280" y="4105440"/>
            <a:ext cx="1832040" cy="2441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4030560" y="4365720"/>
            <a:ext cx="309744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062240" y="1484280"/>
            <a:ext cx="2075040" cy="2239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32986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 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нструмент для выпиливания изделий из древесины и фа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редставляет собой металлическую рамку, на концах которой имеются винтовые зажимы с гайками для крепл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л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– узкой тонкой металлической полоски с мелкими зуб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6400" y="40464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Изучение нового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Выпиливаем_из_фанеры_стр_0002"/>
          <p:cNvPicPr/>
          <p:nvPr/>
        </p:nvPicPr>
        <p:blipFill>
          <a:blip r:embed="rId1"/>
          <a:stretch/>
        </p:blipFill>
        <p:spPr>
          <a:xfrm>
            <a:off x="4859280" y="4076640"/>
            <a:ext cx="3600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Глозман Е.С. Технология. Индустриальные технологии: 5 класс: учеб. для гор. общеобразоват. учреждений / Е.С. Глозман; под ред. Ю.Л. Хотунцева, Е.С. Глозмана. – 5-е изд., испр. и доп. – М.: Мнемозина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Е.Данкевич, В.Поляков. Выпиливаем из фанеры. Санкт-Петербург. – «Кристалл»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Тищенко А.Т. Технология. Индустриальные технологии: 5 класс: учебник для учащихся общеобразовательных учреждений /А.Т. Тищенко, В.Д. Симоненко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ищенко А.Т. Технология. Индустриальные технологии: 5 класс: рабочая тетрадь для учащихся общеобразовательных организаций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71440" y="40464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изделия из фанер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pka.ru/trud/5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приём работы лобзи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epka.ru/trud/6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острых уг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3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мальчик выпиливает (цветно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6.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ставка пилки в лобз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narodna-osvita.com.ua/uploads/trud-5-tereshuk/tereskuk-trudove-5-klas-115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лобзик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http://bycinka.ru/img/359/image31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35520" cy="4141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193760" y="521676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1. Ручной лобзик: 1 – рамка; 2 – ру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3 – зажимные гайки; 4 – пил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50960" y="5482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с наклоном зубьев в сторону ру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-28440" y="1989000"/>
            <a:ext cx="917244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5564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19280" y="573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2. Полож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01760" y="549000"/>
            <a:ext cx="84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Пилку в лобзике закреп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сначала в нижнем, а затем в верхнем зажи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Выпиливаем_из_фанеры_стр_0011"/>
          <p:cNvPicPr/>
          <p:nvPr/>
        </p:nvPicPr>
        <p:blipFill>
          <a:blip r:embed="rId1"/>
          <a:stretch/>
        </p:blipFill>
        <p:spPr>
          <a:xfrm>
            <a:off x="1763640" y="1916280"/>
            <a:ext cx="5524560" cy="3479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619280" y="5661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3. Крепл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4480" y="549000"/>
            <a:ext cx="746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Для выпиливания лобзиком примен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ыпиловочный столик, который креп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в крышке верстака струбцино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27212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322280" y="590760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4. 1 – ласточкин хвост; 2 – струб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5. Рабочие позы при выпили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дя и ст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8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6. Движение лобзика при работе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Выпиливаем_из_фанеры_стр_0015 - копия"/>
          <p:cNvPicPr/>
          <p:nvPr/>
        </p:nvPicPr>
        <p:blipFill>
          <a:blip r:embed="rId1"/>
          <a:stretch/>
        </p:blipFill>
        <p:spPr>
          <a:xfrm>
            <a:off x="1476360" y="981000"/>
            <a:ext cx="63565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64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42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27000" y="55580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ис. 7.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 – в круглом отверстии; б – в вырезе сто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20:19:53Z</dcterms:created>
  <dc:creator>User</dc:creator>
  <dc:description/>
  <dc:language>en-US</dc:language>
  <cp:lastModifiedBy>Пользователь</cp:lastModifiedBy>
  <dcterms:modified xsi:type="dcterms:W3CDTF">2023-02-01T09:24:01Z</dcterms:modified>
  <cp:revision>33</cp:revision>
  <dc:subject/>
  <dc:title>Выпиливание лобзиком</dc:title>
</cp:coreProperties>
</file>