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0FF-25AD-4CD2-8B7E-C39C06A1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D86-2CFC-45E4-9270-EF2FCE99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36A-8A3E-4328-9BB8-26CD0625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605-2F23-4D0B-86F5-BC54D3FB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3D0E-2728-445E-9A85-57E8BAE5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D94A-27A9-455D-B8D2-CC7D7F5C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1D51-1D14-4458-963D-A08EB379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9874-FE9F-4FF4-8F7C-60DBB79F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C8ED-6A82-46DD-B3E0-D4F4A1F3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B69C-B1BC-47CC-9F7C-AAA68D25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4DB6-9D28-4FCC-B303-8E5CEE95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498-29CF-4CA0-977E-FE381145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68AD-7425-4695-8F8C-07D50315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B336-1BFC-4A82-908E-BBB01B5C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966E-8FE8-44F2-AA64-F35FAEEE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6F9B-C1C3-4471-9C50-1C48E3F8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44C4-5B77-4207-AD6D-85C6891D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E328-7DA6-4094-A52D-C27E5E43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D99CB-B863-4BFF-8223-47BE2DB2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C92A9-F367-4E9D-9B36-A46590D8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E0CAC-A66A-43E3-8EEE-F05CC1D7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448D1-B0E6-40D1-A537-2D26111B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282-88D7-45B6-8D10-30415D32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31D0E-1ABE-4785-AB79-0D3F31A9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6A4C9-AA37-4CF7-91F9-020D954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BB802-4451-487F-B56D-59B58FAD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7DE22-3ABF-400F-BA24-BCA29AAF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9AB08-D298-43C5-A2ED-68E0B988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3EC9B-402A-4084-8618-30A4D189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D784-06FF-4CEB-9FE1-41655EB6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47B-AC81-4DBF-B3E5-E819DE4E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0AD-8877-4A7F-A173-427A5553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83E-FE60-47D1-A73E-6B091FDD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F32-F6F3-421F-BECE-7676E5EF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E77-DFC6-45C9-B00E-9E32263A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7D6-6B6D-4926-A335-1303E674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3FF7-1D7E-4309-B361-6B79C69CBEC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CE5D-9B43-4883-A35F-3ED5648A959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1618-DC9A-4D1E-80D7-22632B7DE27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tepka.ru/trud/59.jpg" TargetMode="External"/><Relationship Id="rId2" Type="http://schemas.openxmlformats.org/officeDocument/2006/relationships/hyperlink" Target="http://www.tepka.ru/trud/61.jpg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Лобзик и его применение для выпиливания из древесины и фанер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340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Учитель технологии Фасхутдинов А.М.</a:t>
            </a: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МОБУ «СОШ №1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59"/>
          <p:cNvPicPr/>
          <p:nvPr/>
        </p:nvPicPr>
        <p:blipFill>
          <a:blip r:embed="rId1"/>
          <a:stretch/>
        </p:blipFill>
        <p:spPr>
          <a:xfrm>
            <a:off x="250920" y="189000"/>
            <a:ext cx="86407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9" descr="61"/>
          <p:cNvPicPr/>
          <p:nvPr/>
        </p:nvPicPr>
        <p:blipFill>
          <a:blip r:embed="rId1"/>
          <a:stretch/>
        </p:blipFill>
        <p:spPr>
          <a:xfrm>
            <a:off x="2340000" y="476280"/>
            <a:ext cx="4546440" cy="4483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0"/>
          <p:cNvSpPr/>
          <p:nvPr/>
        </p:nvSpPr>
        <p:spPr>
          <a:xfrm>
            <a:off x="1817280" y="544032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Рис. 8. Прием работы лобз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62"/>
          <p:cNvPicPr/>
          <p:nvPr/>
        </p:nvPicPr>
        <p:blipFill>
          <a:blip r:embed="rId1"/>
          <a:stretch/>
        </p:blipFill>
        <p:spPr>
          <a:xfrm>
            <a:off x="1619280" y="404640"/>
            <a:ext cx="5765760" cy="40514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61" name="Rectangle 6"/>
          <p:cNvSpPr/>
          <p:nvPr/>
        </p:nvSpPr>
        <p:spPr>
          <a:xfrm>
            <a:off x="1749240" y="4929480"/>
            <a:ext cx="572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9. Выпиливание острых угл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 – внутренних, б – внеш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63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3846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582840" y="5372280"/>
            <a:ext cx="81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10. Выпиливание: а – по внутреннему конту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б – по внешнему конт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57840" y="5156280"/>
            <a:ext cx="68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11. Технология вставки пилки лоб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о внутренний контур за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Выпиливаем_из_фанеры_стр_0017"/>
          <p:cNvPicPr/>
          <p:nvPr/>
        </p:nvPicPr>
        <p:blipFill>
          <a:blip r:embed="rId1"/>
          <a:stretch/>
        </p:blipFill>
        <p:spPr>
          <a:xfrm>
            <a:off x="1692360" y="907920"/>
            <a:ext cx="58420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Задание 14 №2. В данных словах буквы перепутаны. Напиши слова правиль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кизбол, нефара, калип, товзагока, лош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461240" y="40464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Выпиливаем_из_фанеры_стр_0016"/>
          <p:cNvPicPr/>
          <p:nvPr/>
        </p:nvPicPr>
        <p:blipFill>
          <a:blip r:embed="rId1"/>
          <a:stretch/>
        </p:blipFill>
        <p:spPr>
          <a:xfrm>
            <a:off x="2987640" y="3357720"/>
            <a:ext cx="3313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62864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80000" y="836640"/>
            <a:ext cx="511776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Ответы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кизбол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лобз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нефара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фане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калип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и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товзагока –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готов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лоши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шил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5" descr="66"/>
          <p:cNvPicPr/>
          <p:nvPr/>
        </p:nvPicPr>
        <p:blipFill>
          <a:blip r:embed="rId1"/>
          <a:stretch/>
        </p:blipFill>
        <p:spPr>
          <a:xfrm>
            <a:off x="468360" y="981000"/>
            <a:ext cx="3722760" cy="439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476280"/>
            <a:ext cx="82296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Задание 14 №3. Впиши недостающие буквы в следующих слова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р _ _ ка; з _ б _ я; з _ ж _ 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в _ н _ ; и _ де _ _ 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33112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ff"/>
                </a:solidFill>
                <a:latin typeface="Calibri"/>
              </a:rPr>
              <a:t>Ответы: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р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у</a:t>
            </a:r>
            <a:r>
              <a:rPr b="1" lang="ru-RU" sz="37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ч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к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з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у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б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ь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з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а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ж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и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м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в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и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н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т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и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з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де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л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и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292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66"/>
          <p:cNvPicPr/>
          <p:nvPr/>
        </p:nvPicPr>
        <p:blipFill>
          <a:blip r:embed="rId1"/>
          <a:stretch/>
        </p:blipFill>
        <p:spPr>
          <a:xfrm>
            <a:off x="4788000" y="836640"/>
            <a:ext cx="3868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Работа моих учеников с лобзи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Объект 6" descr=""/>
          <p:cNvPicPr/>
          <p:nvPr/>
        </p:nvPicPr>
        <p:blipFill>
          <a:blip r:embed="rId1"/>
          <a:stretch/>
        </p:blipFill>
        <p:spPr>
          <a:xfrm>
            <a:off x="4211640" y="3898800"/>
            <a:ext cx="1920960" cy="23385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7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2448000" cy="32641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8" descr=""/>
          <p:cNvPicPr/>
          <p:nvPr/>
        </p:nvPicPr>
        <p:blipFill>
          <a:blip r:embed="rId3"/>
          <a:stretch/>
        </p:blipFill>
        <p:spPr>
          <a:xfrm>
            <a:off x="6443640" y="1386000"/>
            <a:ext cx="2376360" cy="31683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9" descr=""/>
          <p:cNvPicPr/>
          <p:nvPr/>
        </p:nvPicPr>
        <p:blipFill>
          <a:blip r:embed="rId4"/>
          <a:stretch/>
        </p:blipFill>
        <p:spPr>
          <a:xfrm>
            <a:off x="3276720" y="1341360"/>
            <a:ext cx="17967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Делаем сами своими ру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Объект 4" descr=""/>
          <p:cNvPicPr/>
          <p:nvPr/>
        </p:nvPicPr>
        <p:blipFill>
          <a:blip r:embed="rId1"/>
          <a:stretch/>
        </p:blipFill>
        <p:spPr>
          <a:xfrm>
            <a:off x="6351480" y="1519200"/>
            <a:ext cx="2705040" cy="1995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"/>
          <p:cNvPicPr/>
          <p:nvPr/>
        </p:nvPicPr>
        <p:blipFill>
          <a:blip r:embed="rId2"/>
          <a:stretch/>
        </p:blipFill>
        <p:spPr>
          <a:xfrm>
            <a:off x="7280280" y="4105440"/>
            <a:ext cx="1832040" cy="24415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"/>
          <p:cNvPicPr/>
          <p:nvPr/>
        </p:nvPicPr>
        <p:blipFill>
          <a:blip r:embed="rId3"/>
          <a:stretch/>
        </p:blipFill>
        <p:spPr>
          <a:xfrm>
            <a:off x="4030560" y="4365720"/>
            <a:ext cx="3097440" cy="19224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7" descr=""/>
          <p:cNvPicPr/>
          <p:nvPr/>
        </p:nvPicPr>
        <p:blipFill>
          <a:blip r:embed="rId4"/>
          <a:stretch/>
        </p:blipFill>
        <p:spPr>
          <a:xfrm>
            <a:off x="4062240" y="1484280"/>
            <a:ext cx="2075040" cy="22399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8" descr=""/>
          <p:cNvPicPr/>
          <p:nvPr/>
        </p:nvPicPr>
        <p:blipFill>
          <a:blip r:embed="rId5"/>
          <a:stretch/>
        </p:blipFill>
        <p:spPr>
          <a:xfrm>
            <a:off x="250920" y="1700280"/>
            <a:ext cx="329868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обзик 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инструмент для выпиливания изделий из древесины и фан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обзи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представляет собой металлическую рамку, на концах которой имеются винтовые зажимы с гайками для креплен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илк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– узкой тонкой металлической полоски с мелкими зубь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26400" y="404640"/>
            <a:ext cx="78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  <a:ea typeface="Arial"/>
              </a:rPr>
              <a:t>Изучение нового учеб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Выпиливаем_из_фанеры_стр_0002"/>
          <p:cNvPicPr/>
          <p:nvPr/>
        </p:nvPicPr>
        <p:blipFill>
          <a:blip r:embed="rId1"/>
          <a:stretch/>
        </p:blipFill>
        <p:spPr>
          <a:xfrm>
            <a:off x="4859280" y="4076640"/>
            <a:ext cx="3600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2348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.Глозман Е.С. Технология. Индустриальные технологии: 5 класс: учеб. для гор. общеобразоват. учреждений / Е.С. Глозман; под ред. Ю.Л. Хотунцева, Е.С. Глозмана. – 5-е изд., испр. и доп. – М.: Мнемозина,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Е.Данкевич, В.Поляков. Выпиливаем из фанеры. Санкт-Петербург. – «Кристалл», 199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.Тищенко А.Т. Технология. Индустриальные технологии: 5 класс: учебник для учащихся общеобразовательных учреждений /А.Т. Тищенко, В.Д. Симоненко – М.: Вентана-Граф,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4.Тищенко А.Т. Технология. Индустриальные технологии: 5 класс: рабочая тетрадь для учащихся общеобразовательных организаций/ А.Т. Тищенко, Н.А. Буглаева. – 2-е изд., дораб. – М.: Вентана-Граф, 201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271440" y="404640"/>
            <a:ext cx="85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Arial"/>
              </a:rPr>
              <a:t>Список использованных печат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348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изделия из фанер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epka.ru/trud/59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приём работы лобзик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epka.ru/trud/61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ыпиливание острых уг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2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ыпилив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3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способы выпили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4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мальчик выпиливает (цветное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6.4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ставка пилки в лобзи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narodna-osvita.com.ua/uploads/trud-5-tereshuk/tereskuk-trudove-5-klas-115.p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28760" y="45576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Активные ссылки на использованные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(URL-адре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2348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ыпиливание лобзиком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http://bycinka.ru/img/359/image312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428760" y="45576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Активные ссылки на использованные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(URL-адре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835520" cy="4141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1193760" y="5216760"/>
            <a:ext cx="68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1. Ручной лобзик: 1 – рамка; 2 – руч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3 – зажимные гайки; 4 – пилк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50960" y="548280"/>
            <a:ext cx="76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Пилку в лобзике закреп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с наклоном зубьев в сторону ру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-28440" y="1989000"/>
            <a:ext cx="9172440" cy="244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755640" y="4941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419640" y="4941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6227640" y="4941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619280" y="5732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2. Положение пилки в лобз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01760" y="549000"/>
            <a:ext cx="842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Пилку в лобзике закрепл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сначала в нижнем, а затем в верхнем зажи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Выпиливаем_из_фанеры_стр_0011"/>
          <p:cNvPicPr/>
          <p:nvPr/>
        </p:nvPicPr>
        <p:blipFill>
          <a:blip r:embed="rId1"/>
          <a:stretch/>
        </p:blipFill>
        <p:spPr>
          <a:xfrm>
            <a:off x="1763640" y="1916280"/>
            <a:ext cx="5524560" cy="34797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1619280" y="5661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3. Крепление пилки в лобз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834480" y="549000"/>
            <a:ext cx="7468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Для выпиливания лобзиком примен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выпиловочный столик, который креп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в крышке верстака струбциной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272120" cy="33908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322280" y="5907600"/>
            <a:ext cx="66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4. 1 – ласточкин хвост; 2 – струбц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ис. 5. Рабочие позы при выпилива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идя и сто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552840" cy="36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38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ис. 6. Движение лобзика при работе.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7" descr="Выпиливаем_из_фанеры_стр_0015 - копия"/>
          <p:cNvPicPr/>
          <p:nvPr/>
        </p:nvPicPr>
        <p:blipFill>
          <a:blip r:embed="rId1"/>
          <a:stretch/>
        </p:blipFill>
        <p:spPr>
          <a:xfrm>
            <a:off x="1476360" y="981000"/>
            <a:ext cx="63565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5" descr="64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4253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927000" y="5558040"/>
            <a:ext cx="75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7. Способы выпил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 – в круглом отверстии; б – в вырезе стол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20:19:53Z</dcterms:created>
  <dc:creator>User</dc:creator>
  <dc:description/>
  <dc:language>en-US</dc:language>
  <cp:lastModifiedBy>Пользователь</cp:lastModifiedBy>
  <dcterms:modified xsi:type="dcterms:W3CDTF">2023-02-01T09:24:01Z</dcterms:modified>
  <cp:revision>33</cp:revision>
  <dc:subject/>
  <dc:title>Выпиливание лобзиком</dc:title>
</cp:coreProperties>
</file>