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F21D-BA3D-4284-8877-6902DEAF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C96-B20F-422B-8F06-D4E4AB33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B75-6C99-4CA2-9701-7EF3D8F4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612-DDFC-45C0-93B4-5B61DEF7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6CF-36C3-48C2-8D2A-38DC20FF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8E8-24D6-4B67-B5DF-A9EE5970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6C7-A76B-40F5-A048-B4A525C8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6346-83F7-446E-89D0-4BC33F5F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A20-880D-4F95-BD6B-1A82DD78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015-7B23-451E-9725-BA87BF6F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7A0-5F6B-4418-A8CE-826FC077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063F-3A8C-4534-B225-D7620D59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DBCA3-0449-4B4D-B8FF-6079079F7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image" Target="../media/image9.gi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"/>
          <p:cNvPicPr/>
          <p:nvPr/>
        </p:nvPicPr>
        <p:blipFill>
          <a:blip r:embed="rId2"/>
          <a:stretch/>
        </p:blipFill>
        <p:spPr>
          <a:xfrm rot="324600">
            <a:off x="1836360" y="3819240"/>
            <a:ext cx="4754520" cy="2259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"/>
          <p:cNvPicPr/>
          <p:nvPr/>
        </p:nvPicPr>
        <p:blipFill>
          <a:blip r:embed="rId3"/>
          <a:stretch/>
        </p:blipFill>
        <p:spPr>
          <a:xfrm rot="324600">
            <a:off x="4269960" y="270000"/>
            <a:ext cx="4353120" cy="18874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8" descr=""/>
          <p:cNvPicPr/>
          <p:nvPr/>
        </p:nvPicPr>
        <p:blipFill>
          <a:blip r:embed="rId4"/>
          <a:stretch/>
        </p:blipFill>
        <p:spPr>
          <a:xfrm>
            <a:off x="1279440" y="361800"/>
            <a:ext cx="3314880" cy="4286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008600" y="2208240"/>
            <a:ext cx="469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43a479"/>
                </a:solidFill>
                <a:latin typeface="Arial Black"/>
              </a:rPr>
              <a:t>ДОБРОЕ УТРО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5911920" y="4943520"/>
            <a:ext cx="30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ентация « Семейный бюджет»    3 клас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"/>
          <p:cNvPicPr/>
          <p:nvPr/>
        </p:nvPicPr>
        <p:blipFill>
          <a:blip r:embed="rId2"/>
          <a:stretch/>
        </p:blipFill>
        <p:spPr>
          <a:xfrm rot="324600">
            <a:off x="887040" y="3547800"/>
            <a:ext cx="6072120" cy="2631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"/>
          <p:cNvPicPr/>
          <p:nvPr/>
        </p:nvPicPr>
        <p:blipFill>
          <a:blip r:embed="rId3"/>
          <a:stretch/>
        </p:blipFill>
        <p:spPr>
          <a:xfrm rot="324600">
            <a:off x="4269960" y="270000"/>
            <a:ext cx="4353120" cy="1887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8" descr=""/>
          <p:cNvPicPr/>
          <p:nvPr/>
        </p:nvPicPr>
        <p:blipFill>
          <a:blip r:embed="rId4"/>
          <a:stretch/>
        </p:blipFill>
        <p:spPr>
          <a:xfrm>
            <a:off x="1279440" y="361800"/>
            <a:ext cx="3314880" cy="4286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4008600" y="2208240"/>
            <a:ext cx="469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43a479"/>
                </a:solidFill>
                <a:latin typeface="Arial Black"/>
              </a:rPr>
              <a:t>ДОБРОЕ УТРО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-185760" y="2335320"/>
            <a:ext cx="650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43a479"/>
                </a:solidFill>
                <a:latin typeface="Arial Black"/>
              </a:rPr>
              <a:t>СЕМЕЙН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43a479"/>
                </a:solidFill>
                <a:latin typeface="Arial Black"/>
              </a:rPr>
              <a:t>БЮДЖЕ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rcRect l="9759" t="38757" r="25629" b="6496"/>
          <a:stretch/>
        </p:blipFill>
        <p:spPr>
          <a:xfrm>
            <a:off x="1731960" y="933480"/>
            <a:ext cx="7209000" cy="3666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"/>
          <p:cNvPicPr/>
          <p:nvPr/>
        </p:nvPicPr>
        <p:blipFill>
          <a:blip r:embed="rId3"/>
          <a:stretch/>
        </p:blipFill>
        <p:spPr>
          <a:xfrm>
            <a:off x="457200" y="3975120"/>
            <a:ext cx="22305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"/>
          <p:cNvPicPr/>
          <p:nvPr/>
        </p:nvPicPr>
        <p:blipFill>
          <a:blip r:embed="rId2"/>
          <a:stretch/>
        </p:blipFill>
        <p:spPr>
          <a:xfrm>
            <a:off x="0" y="4214880"/>
            <a:ext cx="2230560" cy="28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2093760" y="523800"/>
          <a:ext cx="6077160" cy="1463760"/>
        </p:xfrm>
        <a:graphic>
          <a:graphicData uri="http://schemas.openxmlformats.org/drawingml/2006/table">
            <a:tbl>
              <a:tblPr/>
              <a:tblGrid>
                <a:gridCol w="3038760"/>
                <a:gridCol w="3038400"/>
              </a:tblGrid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па работает на заводе, получает зарпл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а работает поваром, получает зарпл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бушке платят пенс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шая дочь  учится в институте, получает стипенд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8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младшего сына выплачивают пособ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035080" y="3562200"/>
          <a:ext cx="6126120" cy="1463760"/>
        </p:xfrm>
        <a:graphic>
          <a:graphicData uri="http://schemas.openxmlformats.org/drawingml/2006/table">
            <a:tbl>
              <a:tblPr/>
              <a:tblGrid>
                <a:gridCol w="3038400"/>
                <a:gridCol w="30877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родукты данной семье необходи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обновки членам семьи приходится затрачивать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 на  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лекарства для бабуш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етради, ру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игрушки для малы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лата проживания в квартир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2103480" y="2241720"/>
            <a:ext cx="6067440" cy="48960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читайте доход семьи за месяц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? __________________________ ру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2035080" y="5168880"/>
            <a:ext cx="6135840" cy="64260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читайте расход семьи за месяц? ______________________________ ру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6" descr=""/>
          <p:cNvPicPr/>
          <p:nvPr/>
        </p:nvPicPr>
        <p:blipFill>
          <a:blip r:embed="rId2"/>
          <a:stretch/>
        </p:blipFill>
        <p:spPr>
          <a:xfrm rot="2519400">
            <a:off x="2690280" y="109080"/>
            <a:ext cx="2237040" cy="1782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9" descr=""/>
          <p:cNvPicPr/>
          <p:nvPr/>
        </p:nvPicPr>
        <p:blipFill>
          <a:blip r:embed="rId3"/>
          <a:stretch/>
        </p:blipFill>
        <p:spPr>
          <a:xfrm>
            <a:off x="2252520" y="2055960"/>
            <a:ext cx="3632400" cy="29588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1" descr=""/>
          <p:cNvPicPr/>
          <p:nvPr/>
        </p:nvPicPr>
        <p:blipFill>
          <a:blip r:embed="rId4"/>
          <a:stretch/>
        </p:blipFill>
        <p:spPr>
          <a:xfrm rot="20230800">
            <a:off x="4665600" y="544320"/>
            <a:ext cx="3521160" cy="28666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"/>
          <p:cNvPicPr/>
          <p:nvPr/>
        </p:nvPicPr>
        <p:blipFill>
          <a:blip r:embed="rId5"/>
          <a:stretch/>
        </p:blipFill>
        <p:spPr>
          <a:xfrm>
            <a:off x="5051520" y="-95400"/>
            <a:ext cx="5467320" cy="5978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0" descr=""/>
          <p:cNvPicPr/>
          <p:nvPr/>
        </p:nvPicPr>
        <p:blipFill>
          <a:blip r:embed="rId6"/>
          <a:stretch/>
        </p:blipFill>
        <p:spPr>
          <a:xfrm>
            <a:off x="2252520" y="3306600"/>
            <a:ext cx="5085000" cy="3813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1" descr=""/>
          <p:cNvPicPr/>
          <p:nvPr/>
        </p:nvPicPr>
        <p:blipFill>
          <a:blip r:embed="rId7"/>
          <a:stretch/>
        </p:blipFill>
        <p:spPr>
          <a:xfrm>
            <a:off x="-409680" y="-304920"/>
            <a:ext cx="5467320" cy="5980320"/>
          </a:xfrm>
          <a:prstGeom prst="rect">
            <a:avLst/>
          </a:prstGeom>
          <a:ln w="0">
            <a:noFill/>
          </a:ln>
        </p:spPr>
      </p:pic>
      <p:grpSp>
        <p:nvGrpSpPr>
          <p:cNvPr id="76" name="TextBox 2"/>
          <p:cNvGrpSpPr/>
          <p:nvPr/>
        </p:nvGrpSpPr>
        <p:grpSpPr>
          <a:xfrm>
            <a:off x="1590840" y="60480"/>
            <a:ext cx="7284960" cy="2298600"/>
            <a:chOff x="1590840" y="60480"/>
            <a:chExt cx="7284960" cy="2298600"/>
          </a:xfrm>
        </p:grpSpPr>
        <p:pic>
          <p:nvPicPr>
            <p:cNvPr id="77" name="TextBox 2" descr=""/>
            <p:cNvPicPr/>
            <p:nvPr/>
          </p:nvPicPr>
          <p:blipFill>
            <a:blip r:embed="rId8"/>
            <a:stretch/>
          </p:blipFill>
          <p:spPr>
            <a:xfrm>
              <a:off x="1590840" y="60480"/>
              <a:ext cx="728496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717560" y="287280"/>
              <a:ext cx="70390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 algn="ctr">
                <a:buClr>
                  <a:srgbClr val="ff0000"/>
                </a:buClr>
                <a:buFont typeface="Calibri"/>
                <a:buAutoNum type="arabicParenR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Calibri"/>
                </a:rPr>
                <a:t>ДОХОДЫ &gt;  </a:t>
              </a:r>
              <a:r>
                <a:rPr b="0" lang="ru-RU" sz="4000" spc="-1" strike="noStrike">
                  <a:solidFill>
                    <a:srgbClr val="4472c4"/>
                  </a:solidFill>
                  <a:latin typeface="Calibri"/>
                </a:rPr>
                <a:t>РАСХОД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743040" indent="-743040" algn="ctr"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Calibri"/>
                </a:rPr>
                <a:t>2)    ДОХОДЫ &lt; </a:t>
              </a:r>
              <a:r>
                <a:rPr b="0" lang="ru-RU" sz="4000" spc="-1" strike="noStrike">
                  <a:solidFill>
                    <a:srgbClr val="4472c4"/>
                  </a:solidFill>
                  <a:latin typeface="Calibri"/>
                </a:rPr>
                <a:t>РАСХОД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743040" indent="-743040" algn="ctr"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Calibri"/>
                </a:rPr>
                <a:t>3)  ДОХОДЫ =  </a:t>
              </a:r>
              <a:r>
                <a:rPr b="0" lang="ru-RU" sz="4000" spc="-1" strike="noStrike">
                  <a:solidFill>
                    <a:srgbClr val="4472c4"/>
                  </a:solidFill>
                  <a:latin typeface="Calibri"/>
                </a:rPr>
                <a:t>РАСХОД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3943440" y="920880"/>
            <a:ext cx="45720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12" descr=""/>
          <p:cNvPicPr/>
          <p:nvPr/>
        </p:nvPicPr>
        <p:blipFill>
          <a:blip r:embed="rId2"/>
          <a:stretch/>
        </p:blipFill>
        <p:spPr>
          <a:xfrm>
            <a:off x="1512720" y="201600"/>
            <a:ext cx="1862280" cy="2406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6" descr=""/>
          <p:cNvPicPr/>
          <p:nvPr/>
        </p:nvPicPr>
        <p:blipFill>
          <a:blip r:embed="rId3"/>
          <a:stretch/>
        </p:blipFill>
        <p:spPr>
          <a:xfrm>
            <a:off x="3598920" y="3892680"/>
            <a:ext cx="3682800" cy="32353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4" descr=""/>
          <p:cNvPicPr/>
          <p:nvPr/>
        </p:nvPicPr>
        <p:blipFill>
          <a:blip r:embed="rId4"/>
          <a:stretch/>
        </p:blipFill>
        <p:spPr>
          <a:xfrm>
            <a:off x="4135320" y="3489480"/>
            <a:ext cx="1516320" cy="1449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2" descr=""/>
          <p:cNvPicPr/>
          <p:nvPr/>
        </p:nvPicPr>
        <p:blipFill>
          <a:blip r:embed="rId5"/>
          <a:stretch/>
        </p:blipFill>
        <p:spPr>
          <a:xfrm>
            <a:off x="4338720" y="3691080"/>
            <a:ext cx="876240" cy="6616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5189400" y="2554200"/>
            <a:ext cx="34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е было не интересн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ничего не поня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Овал 7"/>
          <p:cNvSpPr/>
          <p:nvPr/>
        </p:nvSpPr>
        <p:spPr>
          <a:xfrm>
            <a:off x="4498920" y="808200"/>
            <a:ext cx="493920" cy="49356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022720" y="720720"/>
            <a:ext cx="31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е было интересно, я узнал много нов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15"/>
          <p:cNvSpPr/>
          <p:nvPr/>
        </p:nvSpPr>
        <p:spPr>
          <a:xfrm>
            <a:off x="4529160" y="1692360"/>
            <a:ext cx="493560" cy="522360"/>
          </a:xfrm>
          <a:prstGeom prst="ellipse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17"/>
          <p:cNvSpPr/>
          <p:nvPr/>
        </p:nvSpPr>
        <p:spPr>
          <a:xfrm>
            <a:off x="4498920" y="2608200"/>
            <a:ext cx="493920" cy="538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5165640" y="1692360"/>
            <a:ext cx="35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е было не очень интересно, было то, что я не поня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Объект 4" descr=""/>
          <p:cNvPicPr/>
          <p:nvPr/>
        </p:nvPicPr>
        <p:blipFill>
          <a:blip r:embed="rId1"/>
          <a:srcRect l="0" t="0" r="-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3943440" y="920880"/>
            <a:ext cx="45720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2" descr=""/>
          <p:cNvPicPr/>
          <p:nvPr/>
        </p:nvPicPr>
        <p:blipFill>
          <a:blip r:embed="rId2"/>
          <a:stretch/>
        </p:blipFill>
        <p:spPr>
          <a:xfrm>
            <a:off x="1512720" y="201600"/>
            <a:ext cx="1862280" cy="2406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2443320" y="2747880"/>
            <a:ext cx="609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7e20a0"/>
                </a:solidFill>
                <a:latin typeface="ArkonaC"/>
              </a:rPr>
              <a:t>Спасибо за работу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5T13:52:42Z</dcterms:created>
  <dc:creator>Малинка</dc:creator>
  <dc:description/>
  <dc:language>en-US</dc:language>
  <cp:lastModifiedBy>Admin</cp:lastModifiedBy>
  <dcterms:modified xsi:type="dcterms:W3CDTF">2023-02-01T09:25:46Z</dcterms:modified>
  <cp:revision>7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3104522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S9.1.2</vt:lpwstr>
  </property>
</Properties>
</file>