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7.wmf" ContentType="image/x-wmf"/>
  <Override PartName="/ppt/media/image31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0.wmf" ContentType="image/x-wmf"/>
  <Override PartName="/ppt/media/image59.wmf" ContentType="image/x-wmf"/>
  <Override PartName="/ppt/media/image8.png" ContentType="image/png"/>
  <Override PartName="/ppt/media/image58.png" ContentType="image/png"/>
  <Override PartName="/ppt/media/image80.wmf" ContentType="image/x-wmf"/>
  <Override PartName="/ppt/media/image23.png" ContentType="image/png"/>
  <Override PartName="/ppt/media/image63.wmf" ContentType="image/x-wmf"/>
  <Override PartName="/ppt/media/image67.gif" ContentType="image/gif"/>
  <Override PartName="/ppt/media/image24.png" ContentType="image/png"/>
  <Override PartName="/ppt/media/image62.wmf" ContentType="image/x-wmf"/>
  <Override PartName="/ppt/media/image22.png" ContentType="image/png"/>
  <Override PartName="/ppt/media/image64.png" ContentType="image/png"/>
  <Override PartName="/ppt/media/image77.wmf" ContentType="image/x-wmf"/>
  <Override PartName="/ppt/media/image19.png" ContentType="image/png"/>
  <Override PartName="/ppt/media/image7.png" ContentType="image/png"/>
  <Override PartName="/ppt/media/image65.wmf" ContentType="image/x-wmf"/>
  <Override PartName="/ppt/media/image25.png" ContentType="image/png"/>
  <Override PartName="/ppt/media/image76.wmf" ContentType="image/x-wmf"/>
  <Override PartName="/ppt/media/image3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0.png" ContentType="image/png"/>
  <Override PartName="/ppt/media/image68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66.wmf" ContentType="image/x-wmf"/>
  <Override PartName="/ppt/media/image26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28.png" ContentType="image/png"/>
  <Override PartName="/ppt/media/image50.wmf" ContentType="image/x-wmf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9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40.wmf" ContentType="image/x-wmf"/>
  <Override PartName="/ppt/media/image6.png" ContentType="image/png"/>
  <Override PartName="/ppt/media/image18.png" ContentType="image/png"/>
  <Override PartName="/ppt/media/image12.png" ContentType="image/png"/>
  <Override PartName="/ppt/media/image5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09A-05A3-4CC3-A1DD-1B0F57DF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955-2958-4019-9B71-E6928BE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2D8-DB1B-4475-808A-F2030F35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D12-EC53-4A93-98DC-2A0D4F5E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A53-6592-4E7D-A273-7C31C870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933D-52F9-4EA7-BD59-C20FC27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BE6C-B7C2-4B25-8A03-03482826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A12F-0C91-4AE3-965A-C39105AE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4D31-67AC-4E79-9304-8810228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24F-75E3-4521-B404-70493808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39D-DC4C-4184-BB5E-0DCFCF2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E5A-8B17-473B-9B0F-9FDABEC6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06CB-7510-4F2C-80AA-B5E4839F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78F-C973-4DD1-9A9B-A6007A3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06D3-7A56-44C9-81A8-0A5E4FD8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CC52-2795-4DAF-B433-C40F99C8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13C5-3EE3-4639-A65A-CB349280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CE0F-78F4-4A72-B92E-0F2B66A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3E94-C89B-4F8E-B551-0CEEEC0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F822-2687-4242-A2FB-60797605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FFDE-A948-412C-9B72-2D0C0DB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EED7-2747-46B6-90D8-C3D5BD1D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D35-84D9-487A-A010-F3AD93E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04CC-9EC6-44DB-84E1-B4C0874C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A18B-E1D6-495F-AA0A-BFE5640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61D7-DEDF-4F23-AB8B-8030342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F911-8F1D-4B3D-B421-BC83EE2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289F-EFBC-40A2-AC91-D400D77A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B272-49D6-4222-936B-50F33537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C2FB-0458-47A9-8CD8-B7EB68E0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4DAD-F99F-4A60-B3B7-6D71B062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4B88-7EBE-4329-90C1-EBFD9A7E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71B8-8DD7-4066-A909-DC3D3099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F1E-F95F-4DF5-93F1-398E89B3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2AC4-D14D-463E-8BC9-16570506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D200-9AB5-4BD2-8BDF-396EFA73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F509-F5A9-40DF-843E-8AE49029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97FE-7610-4361-86F0-DAE0EA37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A52C-656D-4616-9D5B-5396A6F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5F44-7F4E-48BA-BEA2-CC4CCD3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E224-9D65-4F65-895A-BC620FA3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61AA-9A1B-4A81-AEF3-BFDA8EC6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81DF-BB57-49F5-B916-F8B8D478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8701-77DB-4189-BF9E-0D905555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3F7-349C-4FA9-9B2C-CD3D453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94A4-C4DB-4581-9AB8-C8A3496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272C-16DC-4C54-843C-A28DAA6C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43A9-97DB-4109-B729-E9F5A86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FA2E5-73C2-4B6F-B6B6-89DED61B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EF02-3CD7-443D-B16C-664DCDE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03AD9-44A2-4C90-954D-B11641E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3AE3-9C0B-4F23-AB62-A2F23600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EACA-AE7A-4D8A-93DE-79776A0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9D366-6CC3-4367-937F-1257B2E6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A06B-1DB4-45D6-BDA1-5B90433B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A22-E06E-43A7-9CFD-9A3091C7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66A0-836B-4060-B14D-2220A4B0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C030-0388-42E2-954B-04BA18EE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F35D-15D7-477F-99FE-5E553384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369A-167F-4D0A-A2ED-81AD4C2A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505D-B07B-4DD0-A1B6-E9DD317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5EEC-693B-4D54-9D0A-8294982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34247-3AF7-462E-A6B9-81317AF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1C6F-6696-4CAB-94B5-E1A8279F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5FBBC-61F6-41D7-848E-CD8D53B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D5704-C16F-492B-8E4F-58F067F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B97-F27F-4288-8771-DBA884F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AD59-1BBE-4D12-B0E7-DFA170CE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2BE5-8396-4AF3-AAF0-2F272E5B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B8442-51F4-46B1-8AF4-6DD057A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E3D1-62AA-47E7-B176-FEE6C2E7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0B33-6556-4B40-8BC0-1BCA1D27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E230-065E-4A8D-B0EE-8C7108F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2A9E-09AE-4C0E-BB00-C98C6593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C771-E88F-4DE0-90DA-F78ED80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46C82-74E0-46EC-92F1-28818DC1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9EB7E-8F1F-4273-8A82-5E81515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74C-8135-48CE-AB74-6E87C2B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13C9-92C8-44F1-A840-8D3DA53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8A4EE-4DF8-4D76-AE39-3CB426DB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BF87-5257-475A-9B33-EB03096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56BFC-24AB-4FD7-89B4-CD4323F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9E43-CF93-4498-91F0-F0307292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364-18C8-4A71-AA11-58A3113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FFAA-0641-441C-8B06-B22A619927F3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6A13-F3AE-4800-8FFA-C855483FD1D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362A-1012-42A0-B303-EF0ED69DE2F7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018-119C-495E-BC57-246EB24492F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5A23-B238-400B-8792-961E950A934C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D76-BC3C-46C1-B74A-90E21D58B8B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CAC-7DA8-4AC0-9F46-F67419740AD0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FD1F-64A1-4B63-ABFC-EC7DF1EA800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5B38-945A-4BAE-9A6C-D7E723C3B341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A9E3-A53B-4BF8-9E91-5F8B0FC281C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E73-0E0C-48A4-A83F-1916C767B4EC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120-B511-4889-9E12-D229FFD7BF3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817A-4B38-4A76-9102-D4BB44497651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9128-289E-4337-802F-DEB6F396054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6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7.xml"/><Relationship Id="rId9" Type="http://schemas.openxmlformats.org/officeDocument/2006/relationships/image" Target="../media/image10.png"/><Relationship Id="rId10" Type="http://schemas.openxmlformats.org/officeDocument/2006/relationships/slide" Target="slide5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" Target="slide6.xml"/><Relationship Id="rId16" Type="http://schemas.openxmlformats.org/officeDocument/2006/relationships/image" Target="../media/image14.png"/><Relationship Id="rId17" Type="http://schemas.openxmlformats.org/officeDocument/2006/relationships/slide" Target="slide7.xml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slide" Target="slide1.xml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" Target="slide3.xml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slide" Target="slide20.xml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33.png"/><Relationship Id="rId40" Type="http://schemas.openxmlformats.org/officeDocument/2006/relationships/image" Target="../media/image34.png"/><Relationship Id="rId41" Type="http://schemas.openxmlformats.org/officeDocument/2006/relationships/image" Target="../media/image35.png"/><Relationship Id="rId4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6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tihi.ru/pics/2010/04/17/2909.jpg" TargetMode="External"/><Relationship Id="rId2" Type="http://schemas.openxmlformats.org/officeDocument/2006/relationships/hyperlink" Target="http://files.vector-images.com/clipart/teacher7.gif" TargetMode="External"/><Relationship Id="rId3" Type="http://schemas.openxmlformats.org/officeDocument/2006/relationships/hyperlink" Target="http://clipart.adelavida.com/?Option=Image&amp;Main=VArt&amp;FileName=1194267007" TargetMode="External"/><Relationship Id="rId4" Type="http://schemas.openxmlformats.org/officeDocument/2006/relationships/hyperlink" Target="http://www.yarfoto.ru/Download_v43_1.html" TargetMode="External"/><Relationship Id="rId5" Type="http://schemas.openxmlformats.org/officeDocument/2006/relationships/hyperlink" Target="http://files.vector-images.com/clipart/driver1.gif" TargetMode="External"/><Relationship Id="rId6" Type="http://schemas.openxmlformats.org/officeDocument/2006/relationships/hyperlink" Target="http://www.yarfoto.ru/klipart_v/497.gif" TargetMode="External"/><Relationship Id="rId7" Type="http://schemas.openxmlformats.org/officeDocument/2006/relationships/hyperlink" Target="http://vector-images.com/clipart.php?id=12928&amp;lang=rus" TargetMode="External"/><Relationship Id="rId8" Type="http://schemas.openxmlformats.org/officeDocument/2006/relationships/hyperlink" Target="http://files.vector-images.com/clipart/hairdresser5.gif" TargetMode="External"/><Relationship Id="rId9" Type="http://schemas.openxmlformats.org/officeDocument/2006/relationships/hyperlink" Target="http://files.vector-images.com/clipart/pilot1.gif" TargetMode="External"/><Relationship Id="rId10" Type="http://schemas.openxmlformats.org/officeDocument/2006/relationships/hyperlink" Target="http://t.foto.radikal.ru/0703/eb7453e62ef5t.jpg" TargetMode="External"/><Relationship Id="rId11" Type="http://schemas.openxmlformats.org/officeDocument/2006/relationships/hyperlink" Target="http://www.cartoonclipartfree.com/Cliparts_Free/Berufe_Free/Cartoon-Clipart-Free-10.gif" TargetMode="External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yarfoto.ru/klipart_v_big/124.gif" TargetMode="External"/><Relationship Id="rId2" Type="http://schemas.openxmlformats.org/officeDocument/2006/relationships/hyperlink" Target="http://www.cartoonclipartfree.com/Cliparts_Free/Schule_Free/Cartoon-Clipart-Free-03.gif" TargetMode="External"/><Relationship Id="rId3" Type="http://schemas.openxmlformats.org/officeDocument/2006/relationships/hyperlink" Target="http://0lik.ru/uploads/posts/2008-09/1221414799_0lik.ru_bd6bafacd6b9.jpg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2.xml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14264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uk-UA" sz="4800" spc="-1" strike="noStrike">
                <a:solidFill>
                  <a:srgbClr val="0070c0"/>
                </a:solidFill>
                <a:latin typeface="Georgia"/>
              </a:rPr>
              <a:t>Все профессии важн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0FF0-A3F1-4645-8168-EEC80C46902B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2071800" y="150012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Georgia"/>
              </a:rPr>
              <a:t>    </a:t>
            </a:r>
            <a:r>
              <a:rPr b="1" lang="uk-UA" sz="6000" spc="-1" strike="noStrike">
                <a:solidFill>
                  <a:srgbClr val="c00000"/>
                </a:solidFill>
                <a:latin typeface="Georgia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00080" y="2000160"/>
            <a:ext cx="7429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Вижу в небе само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Как светящийся комочек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Управляет им пилот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По другому просто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2223"/>
                </a:solidFill>
                <a:latin typeface="바탕"/>
                <a:ea typeface="바탕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5" descr="3"/>
          <p:cNvPicPr/>
          <p:nvPr/>
        </p:nvPicPr>
        <p:blipFill>
          <a:blip r:embed="rId1"/>
          <a:stretch/>
        </p:blipFill>
        <p:spPr>
          <a:xfrm>
            <a:off x="807228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C:\Documents and Settings\User\Local Settings\Temporary Internet Files\Content.IE5\IOTHVNJR\MC900370426[1].wmf"/>
          <p:cNvPicPr/>
          <p:nvPr/>
        </p:nvPicPr>
        <p:blipFill>
          <a:blip r:embed="rId3"/>
          <a:stretch/>
        </p:blipFill>
        <p:spPr>
          <a:xfrm flipH="1">
            <a:off x="6286320" y="3214800"/>
            <a:ext cx="24476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71360" y="1499760"/>
            <a:ext cx="7429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С сумкой тяжёлой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бходит район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Письма нам в ящи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кладёт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2223"/>
                </a:solidFill>
                <a:latin typeface="Georgia"/>
                <a:ea typeface="바탕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5" descr="4"/>
          <p:cNvPicPr/>
          <p:nvPr/>
        </p:nvPicPr>
        <p:blipFill>
          <a:blip r:embed="rId1"/>
          <a:stretch/>
        </p:blipFill>
        <p:spPr>
          <a:xfrm>
            <a:off x="7929720" y="357120"/>
            <a:ext cx="745920" cy="1019160"/>
          </a:xfrm>
          <a:prstGeom prst="rect">
            <a:avLst/>
          </a:prstGeom>
          <a:ln w="0">
            <a:noFill/>
          </a:ln>
        </p:spPr>
      </p:pic>
      <p:sp>
        <p:nvSpPr>
          <p:cNvPr id="408" name="Управляющая кнопка: домой 11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C:\Documents and Settings\User\Local Settings\Temporary Internet Files\Content.IE5\UHMT8DKJ\MC900297459[1].wmf"/>
          <p:cNvPicPr/>
          <p:nvPr/>
        </p:nvPicPr>
        <p:blipFill>
          <a:blip r:embed="rId3"/>
          <a:stretch/>
        </p:blipFill>
        <p:spPr>
          <a:xfrm flipH="1">
            <a:off x="5143680" y="2357280"/>
            <a:ext cx="3186000" cy="330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928440" y="160020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н работает, иг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(Есть профессия такая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н на сцене с давних п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Та профессия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Управляющая кнопка: домой 7">
            <a:hlinkClick r:id="rId1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5"/>
          <p:cNvPicPr/>
          <p:nvPr/>
        </p:nvPicPr>
        <p:blipFill>
          <a:blip r:embed="rId2"/>
          <a:stretch/>
        </p:blipFill>
        <p:spPr>
          <a:xfrm>
            <a:off x="7786800" y="285840"/>
            <a:ext cx="714240" cy="1035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Documents and Settings\User\Local Settings\Temporary Internet Files\Content.IE5\UHMT8DKJ\MC900332656[1].wmf"/>
          <p:cNvPicPr/>
          <p:nvPr/>
        </p:nvPicPr>
        <p:blipFill>
          <a:blip r:embed="rId3"/>
          <a:stretch/>
        </p:blipFill>
        <p:spPr>
          <a:xfrm flipH="1">
            <a:off x="6286320" y="3000240"/>
            <a:ext cx="21445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28800" y="1643040"/>
            <a:ext cx="418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Ножницы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Содержимое 2"/>
          <p:cNvSpPr/>
          <p:nvPr/>
        </p:nvSpPr>
        <p:spPr>
          <a:xfrm>
            <a:off x="1000080" y="2786040"/>
            <a:ext cx="4114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Весы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одержимое 2"/>
          <p:cNvSpPr/>
          <p:nvPr/>
        </p:nvSpPr>
        <p:spPr>
          <a:xfrm>
            <a:off x="1000080" y="3857760"/>
            <a:ext cx="48294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Зеркало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одержимое 2"/>
          <p:cNvSpPr/>
          <p:nvPr/>
        </p:nvSpPr>
        <p:spPr>
          <a:xfrm>
            <a:off x="1000080" y="5072040"/>
            <a:ext cx="4114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асчёска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500800" y="2286000"/>
            <a:ext cx="2685960" cy="3214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1"/>
          <p:cNvPicPr/>
          <p:nvPr/>
        </p:nvPicPr>
        <p:blipFill>
          <a:blip r:embed="rId2"/>
          <a:stretch/>
        </p:blipFill>
        <p:spPr>
          <a:xfrm>
            <a:off x="828684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421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3.93154E-006 L 5E-006 -0.18871 E">
                                      <p:cBhvr>
                                        <p:cTn id="345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6.47549E-007 L 5E-006 -0.20976 E">
                                      <p:cBhvr>
                                        <p:cTn id="347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999720" y="1643040"/>
            <a:ext cx="48294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Букварь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Содержимое 2"/>
          <p:cNvSpPr/>
          <p:nvPr/>
        </p:nvSpPr>
        <p:spPr>
          <a:xfrm>
            <a:off x="1071720" y="2786040"/>
            <a:ext cx="4757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Указка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одержимое 2"/>
          <p:cNvSpPr/>
          <p:nvPr/>
        </p:nvSpPr>
        <p:spPr>
          <a:xfrm>
            <a:off x="1071720" y="3929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Глобу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одержимое 2"/>
          <p:cNvSpPr/>
          <p:nvPr/>
        </p:nvSpPr>
        <p:spPr>
          <a:xfrm>
            <a:off x="1071720" y="5072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Кастрюля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D:\ПРОФЕССИИ КАРТИНКИ\Cartoon-Clipart-Free-17.gif"/>
          <p:cNvPicPr/>
          <p:nvPr/>
        </p:nvPicPr>
        <p:blipFill>
          <a:blip r:embed="rId1"/>
          <a:srcRect l="0" t="0" r="0" b="11180"/>
          <a:stretch/>
        </p:blipFill>
        <p:spPr>
          <a:xfrm>
            <a:off x="5500800" y="1928880"/>
            <a:ext cx="2657520" cy="315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2"/>
          <p:cNvPicPr/>
          <p:nvPr/>
        </p:nvPicPr>
        <p:blipFill>
          <a:blip r:embed="rId2"/>
          <a:stretch/>
        </p:blipFill>
        <p:spPr>
          <a:xfrm>
            <a:off x="821520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28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71360" y="1643040"/>
            <a:ext cx="4686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Пил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Содержимое 2"/>
          <p:cNvSpPr/>
          <p:nvPr/>
        </p:nvSpPr>
        <p:spPr>
          <a:xfrm>
            <a:off x="1071720" y="271476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Таблет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одержимое 2"/>
          <p:cNvSpPr/>
          <p:nvPr/>
        </p:nvSpPr>
        <p:spPr>
          <a:xfrm>
            <a:off x="1071720" y="4929120"/>
            <a:ext cx="4686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Термометр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одержимое 2"/>
          <p:cNvSpPr/>
          <p:nvPr/>
        </p:nvSpPr>
        <p:spPr>
          <a:xfrm>
            <a:off x="1071720" y="3929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Шпр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5857920" y="2057400"/>
            <a:ext cx="2438280" cy="3800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3"/>
          <p:cNvPicPr/>
          <p:nvPr/>
        </p:nvPicPr>
        <p:blipFill>
          <a:blip r:embed="rId2"/>
          <a:stretch/>
        </p:blipFill>
        <p:spPr>
          <a:xfrm>
            <a:off x="807228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36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97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2.84921E-006 L 5E-006 -0.18154 E">
                                      <p:cBhvr>
                                        <p:cTn id="40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1.71138E-006 L 2.5E-006 -0.17576 E">
                                      <p:cBhvr>
                                        <p:cTn id="403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9 0.00185 L -0.00782 -0.1561 E">
                                      <p:cBhvr>
                                        <p:cTn id="40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71360" y="1643040"/>
            <a:ext cx="4686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Сковород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Содержимое 2"/>
          <p:cNvSpPr/>
          <p:nvPr/>
        </p:nvSpPr>
        <p:spPr>
          <a:xfrm>
            <a:off x="1000080" y="2786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Нож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одержимое 2"/>
          <p:cNvSpPr/>
          <p:nvPr/>
        </p:nvSpPr>
        <p:spPr>
          <a:xfrm>
            <a:off x="1000080" y="3929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Полов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1000080" y="5072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асчёска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rcRect l="15696" t="0" r="15696" b="0"/>
          <a:stretch/>
        </p:blipFill>
        <p:spPr>
          <a:xfrm>
            <a:off x="6572160" y="1714680"/>
            <a:ext cx="2208240" cy="3786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4"/>
          <p:cNvPicPr/>
          <p:nvPr/>
        </p:nvPicPr>
        <p:blipFill>
          <a:blip r:embed="rId2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44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7" dur="2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000080" y="1643040"/>
            <a:ext cx="46864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Молоток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Содержимое 2"/>
          <p:cNvSpPr/>
          <p:nvPr/>
        </p:nvSpPr>
        <p:spPr>
          <a:xfrm>
            <a:off x="1071720" y="2786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Гвозд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одержимое 2"/>
          <p:cNvSpPr/>
          <p:nvPr/>
        </p:nvSpPr>
        <p:spPr>
          <a:xfrm>
            <a:off x="1000080" y="4000680"/>
            <a:ext cx="4757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Краски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одержимое 2"/>
          <p:cNvSpPr/>
          <p:nvPr/>
        </p:nvSpPr>
        <p:spPr>
          <a:xfrm>
            <a:off x="1071720" y="5072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убанок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643720" y="1928880"/>
            <a:ext cx="2803320" cy="3571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5"/>
          <p:cNvPicPr/>
          <p:nvPr/>
        </p:nvPicPr>
        <p:blipFill>
          <a:blip r:embed="rId2"/>
          <a:stretch/>
        </p:blipFill>
        <p:spPr>
          <a:xfrm>
            <a:off x="8001000" y="285840"/>
            <a:ext cx="714240" cy="1035000"/>
          </a:xfrm>
          <a:prstGeom prst="rect">
            <a:avLst/>
          </a:prstGeom>
          <a:ln w="0">
            <a:noFill/>
          </a:ln>
        </p:spPr>
      </p:pic>
      <p:sp>
        <p:nvSpPr>
          <p:cNvPr id="452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2.17391E-006 L 5E-006 -0.15796 E">
                                      <p:cBhvr>
                                        <p:cTn id="45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56800" y="1285920"/>
            <a:ext cx="82868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В мою сеть попало много рыбы!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5" name="Picture 4" descr="1"/>
          <p:cNvPicPr/>
          <p:nvPr/>
        </p:nvPicPr>
        <p:blipFill>
          <a:blip r:embed="rId1"/>
          <a:stretch/>
        </p:blipFill>
        <p:spPr>
          <a:xfrm>
            <a:off x="814392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456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C:\Documents and Settings\User\Local Settings\Temporary Internet Files\Content.IE5\C1EBG5Y3\MC900301250[1].wmf"/>
          <p:cNvPicPr/>
          <p:nvPr/>
        </p:nvPicPr>
        <p:blipFill>
          <a:blip r:embed="rId3"/>
          <a:stretch/>
        </p:blipFill>
        <p:spPr>
          <a:xfrm flipH="1">
            <a:off x="5357520" y="3000240"/>
            <a:ext cx="353196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00080" y="1571400"/>
            <a:ext cx="84297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Большое спасибо за покупку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0" name="Picture 5" descr="2"/>
          <p:cNvPicPr/>
          <p:nvPr/>
        </p:nvPicPr>
        <p:blipFill>
          <a:blip r:embed="rId1"/>
          <a:stretch/>
        </p:blipFill>
        <p:spPr>
          <a:xfrm>
            <a:off x="8143920" y="35712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61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C:\Documents and Settings\User\Local Settings\Temporary Internet Files\Content.IE5\JQDOHFF3\MC900318582[1].wmf"/>
          <p:cNvPicPr/>
          <p:nvPr/>
        </p:nvPicPr>
        <p:blipFill>
          <a:blip r:embed="rId3"/>
          <a:stretch/>
        </p:blipFill>
        <p:spPr>
          <a:xfrm>
            <a:off x="2571840" y="3500280"/>
            <a:ext cx="2143080" cy="2745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C:\Documents and Settings\User\Local Settings\Temporary Internet Files\Content.IE5\UHMT8DKJ\MC900233430[1].wmf"/>
          <p:cNvPicPr/>
          <p:nvPr/>
        </p:nvPicPr>
        <p:blipFill>
          <a:blip r:embed="rId4"/>
          <a:stretch/>
        </p:blipFill>
        <p:spPr>
          <a:xfrm>
            <a:off x="6572160" y="2286000"/>
            <a:ext cx="1984320" cy="26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8"/>
          <p:cNvSpPr/>
          <p:nvPr/>
        </p:nvSpPr>
        <p:spPr>
          <a:xfrm>
            <a:off x="142920" y="1285920"/>
            <a:ext cx="3786120" cy="785880"/>
          </a:xfrm>
          <a:custGeom>
            <a:avLst/>
            <a:gdLst>
              <a:gd name="textAreaLeft" fmla="*/ 50760 w 3786120"/>
              <a:gd name="textAreaRight" fmla="*/ 3735360 w 3786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104024" h="21600">
                <a:moveTo>
                  <a:pt x="0" y="0"/>
                </a:moveTo>
                <a:lnTo>
                  <a:pt x="104024" y="0"/>
                </a:lnTo>
                <a:lnTo>
                  <a:pt x="104024" y="21600"/>
                </a:lnTo>
                <a:lnTo>
                  <a:pt x="0" y="21600"/>
                </a:lnTo>
                <a:close/>
              </a:path>
              <a:path fill="lightenLess" w="104024" h="21600">
                <a:moveTo>
                  <a:pt x="0" y="0"/>
                </a:moveTo>
                <a:lnTo>
                  <a:pt x="104024" y="0"/>
                </a:lnTo>
                <a:lnTo>
                  <a:pt x="102624" y="1400"/>
                </a:lnTo>
                <a:lnTo>
                  <a:pt x="1400" y="1400"/>
                </a:lnTo>
                <a:close/>
              </a:path>
              <a:path fill="darken" w="104024" h="21600">
                <a:moveTo>
                  <a:pt x="104024" y="0"/>
                </a:moveTo>
                <a:lnTo>
                  <a:pt x="104024" y="21600"/>
                </a:lnTo>
                <a:lnTo>
                  <a:pt x="102624" y="20200"/>
                </a:lnTo>
                <a:lnTo>
                  <a:pt x="102624" y="1400"/>
                </a:lnTo>
                <a:close/>
              </a:path>
              <a:path fill="darkenLess" w="104024" h="21600">
                <a:moveTo>
                  <a:pt x="104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24" y="20200"/>
                </a:lnTo>
                <a:close/>
              </a:path>
              <a:path fill="lighten" w="104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тгад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9"/>
          <p:cNvSpPr/>
          <p:nvPr/>
        </p:nvSpPr>
        <p:spPr>
          <a:xfrm>
            <a:off x="142920" y="21430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нее словеч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AutoShape 92" descr=""/>
          <p:cNvPicPr/>
          <p:nvPr/>
        </p:nvPicPr>
        <p:blipFill>
          <a:blip r:embed="rId1"/>
          <a:stretch/>
        </p:blipFill>
        <p:spPr>
          <a:xfrm>
            <a:off x="3554280" y="974880"/>
            <a:ext cx="1809720" cy="1171440"/>
          </a:xfrm>
          <a:prstGeom prst="rect">
            <a:avLst/>
          </a:prstGeom>
          <a:ln w="0">
            <a:noFill/>
          </a:ln>
        </p:spPr>
      </p:pic>
      <p:pic>
        <p:nvPicPr>
          <p:cNvPr id="324" name="AutoShape 9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65600" y="987480"/>
            <a:ext cx="1792440" cy="115236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9"/>
          <p:cNvSpPr/>
          <p:nvPr/>
        </p:nvSpPr>
        <p:spPr>
          <a:xfrm>
            <a:off x="142920" y="30718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9"/>
          <p:cNvSpPr/>
          <p:nvPr/>
        </p:nvSpPr>
        <p:spPr>
          <a:xfrm>
            <a:off x="142920" y="40006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Кто так говор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2"/>
          <p:cNvSpPr txBox="1"/>
          <p:nvPr/>
        </p:nvSpPr>
        <p:spPr>
          <a:xfrm>
            <a:off x="1143000" y="214200"/>
            <a:ext cx="6858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СВОЯ 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328" name="AutoShape 92" descr=""/>
          <p:cNvPicPr/>
          <p:nvPr/>
        </p:nvPicPr>
        <p:blipFill>
          <a:blip r:embed="rId6"/>
          <a:stretch/>
        </p:blipFill>
        <p:spPr>
          <a:xfrm>
            <a:off x="356544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29" name="AutoShape 92" descr=""/>
          <p:cNvPicPr/>
          <p:nvPr/>
        </p:nvPicPr>
        <p:blipFill>
          <a:blip r:embed="rId7"/>
          <a:stretch/>
        </p:blipFill>
        <p:spPr>
          <a:xfrm>
            <a:off x="4565520" y="987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30" name="AutoShape 92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2809800"/>
            <a:ext cx="179244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49"/>
          <p:cNvSpPr/>
          <p:nvPr/>
        </p:nvSpPr>
        <p:spPr>
          <a:xfrm>
            <a:off x="142920" y="5786280"/>
            <a:ext cx="3786120" cy="85752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520"/>
              <a:gd name="textAreaBottom" fmla="*/ 802080 h 857520"/>
            </a:gdLst>
            <a:ahLst/>
            <a:rect l="textAreaLeft" t="textAreaTop" r="textAreaRight" b="textAreaBottom"/>
            <a:pathLst>
              <a:path w="95337" h="21600">
                <a:moveTo>
                  <a:pt x="0" y="0"/>
                </a:moveTo>
                <a:lnTo>
                  <a:pt x="95337" y="0"/>
                </a:lnTo>
                <a:lnTo>
                  <a:pt x="95337" y="21600"/>
                </a:lnTo>
                <a:lnTo>
                  <a:pt x="0" y="21600"/>
                </a:lnTo>
                <a:close/>
              </a:path>
              <a:path fill="lightenLess" w="95337" h="21600">
                <a:moveTo>
                  <a:pt x="0" y="0"/>
                </a:moveTo>
                <a:lnTo>
                  <a:pt x="95337" y="0"/>
                </a:lnTo>
                <a:lnTo>
                  <a:pt x="93937" y="1400"/>
                </a:lnTo>
                <a:lnTo>
                  <a:pt x="1400" y="1400"/>
                </a:lnTo>
                <a:close/>
              </a:path>
              <a:path fill="darken" w="95337" h="21600">
                <a:moveTo>
                  <a:pt x="95337" y="0"/>
                </a:moveTo>
                <a:lnTo>
                  <a:pt x="95337" y="21600"/>
                </a:lnTo>
                <a:lnTo>
                  <a:pt x="93937" y="20200"/>
                </a:lnTo>
                <a:lnTo>
                  <a:pt x="93937" y="1400"/>
                </a:lnTo>
                <a:close/>
              </a:path>
              <a:path fill="darkenLess" w="95337" h="21600">
                <a:moveTo>
                  <a:pt x="95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37" y="20200"/>
                </a:lnTo>
                <a:close/>
              </a:path>
              <a:path fill="lighten" w="95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ончи 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9"/>
          <p:cNvSpPr/>
          <p:nvPr/>
        </p:nvSpPr>
        <p:spPr>
          <a:xfrm>
            <a:off x="142920" y="4929120"/>
            <a:ext cx="3786120" cy="785880"/>
          </a:xfrm>
          <a:custGeom>
            <a:avLst/>
            <a:gdLst>
              <a:gd name="textAreaLeft" fmla="*/ 50760 w 3786120"/>
              <a:gd name="textAreaRight" fmla="*/ 3735360 w 3786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104024" h="21600">
                <a:moveTo>
                  <a:pt x="0" y="0"/>
                </a:moveTo>
                <a:lnTo>
                  <a:pt x="104024" y="0"/>
                </a:lnTo>
                <a:lnTo>
                  <a:pt x="104024" y="21600"/>
                </a:lnTo>
                <a:lnTo>
                  <a:pt x="0" y="21600"/>
                </a:lnTo>
                <a:close/>
              </a:path>
              <a:path fill="lightenLess" w="104024" h="21600">
                <a:moveTo>
                  <a:pt x="0" y="0"/>
                </a:moveTo>
                <a:lnTo>
                  <a:pt x="104024" y="0"/>
                </a:lnTo>
                <a:lnTo>
                  <a:pt x="102624" y="1400"/>
                </a:lnTo>
                <a:lnTo>
                  <a:pt x="1400" y="1400"/>
                </a:lnTo>
                <a:close/>
              </a:path>
              <a:path fill="darken" w="104024" h="21600">
                <a:moveTo>
                  <a:pt x="104024" y="0"/>
                </a:moveTo>
                <a:lnTo>
                  <a:pt x="104024" y="21600"/>
                </a:lnTo>
                <a:lnTo>
                  <a:pt x="102624" y="20200"/>
                </a:lnTo>
                <a:lnTo>
                  <a:pt x="102624" y="1400"/>
                </a:lnTo>
                <a:close/>
              </a:path>
              <a:path fill="darkenLess" w="104024" h="21600">
                <a:moveTo>
                  <a:pt x="104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24" y="20200"/>
                </a:lnTo>
                <a:close/>
              </a:path>
              <a:path fill="lighten" w="104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х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обм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utoShape 92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72160" y="987480"/>
            <a:ext cx="179064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AutoShape 92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570800" y="987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35" name="AutoShape 92" descr=""/>
          <p:cNvPicPr/>
          <p:nvPr/>
        </p:nvPicPr>
        <p:blipFill>
          <a:blip r:embed="rId14"/>
          <a:stretch/>
        </p:blipFill>
        <p:spPr>
          <a:xfrm>
            <a:off x="456552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6" name="AutoShape 9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6560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7" name="AutoShape 92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572160" y="1884240"/>
            <a:ext cx="1790640" cy="1150920"/>
          </a:xfrm>
          <a:prstGeom prst="rect">
            <a:avLst/>
          </a:prstGeom>
          <a:ln w="0">
            <a:noFill/>
          </a:ln>
        </p:spPr>
      </p:pic>
      <p:pic>
        <p:nvPicPr>
          <p:cNvPr id="338" name="AutoShape 92" descr=""/>
          <p:cNvPicPr/>
          <p:nvPr/>
        </p:nvPicPr>
        <p:blipFill>
          <a:blip r:embed="rId19"/>
          <a:stretch/>
        </p:blipFill>
        <p:spPr>
          <a:xfrm>
            <a:off x="757080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9" name="AutoShape 92" descr=""/>
          <p:cNvPicPr/>
          <p:nvPr/>
        </p:nvPicPr>
        <p:blipFill>
          <a:blip r:embed="rId20"/>
          <a:stretch/>
        </p:blipFill>
        <p:spPr>
          <a:xfrm>
            <a:off x="456552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0" name="AutoShape 92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56560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1" name="AutoShape 92" descr=""/>
          <p:cNvPicPr/>
          <p:nvPr/>
        </p:nvPicPr>
        <p:blipFill>
          <a:blip r:embed="rId23"/>
          <a:stretch/>
        </p:blipFill>
        <p:spPr>
          <a:xfrm>
            <a:off x="6572160" y="280980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AutoShape 92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57080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AutoShape 92" descr=""/>
          <p:cNvPicPr/>
          <p:nvPr/>
        </p:nvPicPr>
        <p:blipFill>
          <a:blip r:embed="rId26"/>
          <a:stretch/>
        </p:blipFill>
        <p:spPr>
          <a:xfrm>
            <a:off x="356544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4" name="AutoShape 92" descr=""/>
          <p:cNvPicPr/>
          <p:nvPr/>
        </p:nvPicPr>
        <p:blipFill>
          <a:blip r:embed="rId27"/>
          <a:stretch/>
        </p:blipFill>
        <p:spPr>
          <a:xfrm>
            <a:off x="456552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5" name="AutoShape 92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56560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AutoShape 92" descr=""/>
          <p:cNvPicPr/>
          <p:nvPr/>
        </p:nvPicPr>
        <p:blipFill>
          <a:blip r:embed="rId30"/>
          <a:stretch/>
        </p:blipFill>
        <p:spPr>
          <a:xfrm>
            <a:off x="6572160" y="374328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AutoShape 92" descr=""/>
          <p:cNvPicPr/>
          <p:nvPr/>
        </p:nvPicPr>
        <p:blipFill>
          <a:blip r:embed="rId31"/>
          <a:stretch/>
        </p:blipFill>
        <p:spPr>
          <a:xfrm>
            <a:off x="757080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8" name="AutoShape 92" descr=""/>
          <p:cNvPicPr/>
          <p:nvPr/>
        </p:nvPicPr>
        <p:blipFill>
          <a:blip r:embed="rId32"/>
          <a:stretch/>
        </p:blipFill>
        <p:spPr>
          <a:xfrm>
            <a:off x="356544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AutoShape 92" descr=""/>
          <p:cNvPicPr/>
          <p:nvPr/>
        </p:nvPicPr>
        <p:blipFill>
          <a:blip r:embed="rId33"/>
          <a:stretch/>
        </p:blipFill>
        <p:spPr>
          <a:xfrm>
            <a:off x="456552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0" name="AutoShape 92" descr=""/>
          <p:cNvPicPr/>
          <p:nvPr/>
        </p:nvPicPr>
        <p:blipFill>
          <a:blip r:embed="rId34"/>
          <a:stretch/>
        </p:blipFill>
        <p:spPr>
          <a:xfrm>
            <a:off x="556560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1" name="AutoShape 92" descr=""/>
          <p:cNvPicPr/>
          <p:nvPr/>
        </p:nvPicPr>
        <p:blipFill>
          <a:blip r:embed="rId35"/>
          <a:stretch/>
        </p:blipFill>
        <p:spPr>
          <a:xfrm>
            <a:off x="6572160" y="4632480"/>
            <a:ext cx="1790640" cy="1152360"/>
          </a:xfrm>
          <a:prstGeom prst="rect">
            <a:avLst/>
          </a:prstGeom>
          <a:ln w="0">
            <a:noFill/>
          </a:ln>
        </p:spPr>
      </p:pic>
      <p:pic>
        <p:nvPicPr>
          <p:cNvPr id="352" name="AutoShape 92" descr=""/>
          <p:cNvPicPr/>
          <p:nvPr/>
        </p:nvPicPr>
        <p:blipFill>
          <a:blip r:embed="rId36"/>
          <a:stretch/>
        </p:blipFill>
        <p:spPr>
          <a:xfrm>
            <a:off x="757080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3" name="AutoShape 92" descr=""/>
          <p:cNvPicPr/>
          <p:nvPr/>
        </p:nvPicPr>
        <p:blipFill>
          <a:blip r:embed="rId37"/>
          <a:stretch/>
        </p:blipFill>
        <p:spPr>
          <a:xfrm>
            <a:off x="356544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AutoShape 92" descr=""/>
          <p:cNvPicPr/>
          <p:nvPr/>
        </p:nvPicPr>
        <p:blipFill>
          <a:blip r:embed="rId38"/>
          <a:stretch/>
        </p:blipFill>
        <p:spPr>
          <a:xfrm>
            <a:off x="456552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5" name="AutoShape 92" descr=""/>
          <p:cNvPicPr/>
          <p:nvPr/>
        </p:nvPicPr>
        <p:blipFill>
          <a:blip r:embed="rId39"/>
          <a:stretch/>
        </p:blipFill>
        <p:spPr>
          <a:xfrm>
            <a:off x="556560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6" name="AutoShape 92" descr=""/>
          <p:cNvPicPr/>
          <p:nvPr/>
        </p:nvPicPr>
        <p:blipFill>
          <a:blip r:embed="rId40"/>
          <a:stretch/>
        </p:blipFill>
        <p:spPr>
          <a:xfrm>
            <a:off x="6572160" y="552924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AutoShape 92" descr=""/>
          <p:cNvPicPr/>
          <p:nvPr/>
        </p:nvPicPr>
        <p:blipFill>
          <a:blip r:embed="rId41"/>
          <a:stretch/>
        </p:blipFill>
        <p:spPr>
          <a:xfrm>
            <a:off x="7570800" y="5529240"/>
            <a:ext cx="1792440" cy="1152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38"/>
          <p:cNvSpPr/>
          <p:nvPr/>
        </p:nvSpPr>
        <p:spPr>
          <a:xfrm>
            <a:off x="4000680" y="1285920"/>
            <a:ext cx="5143320" cy="535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2880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Кому добавки?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Picture 5" descr="3"/>
          <p:cNvPicPr/>
          <p:nvPr/>
        </p:nvPicPr>
        <p:blipFill>
          <a:blip r:embed="rId1"/>
          <a:stretch/>
        </p:blipFill>
        <p:spPr>
          <a:xfrm>
            <a:off x="8001000" y="28584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6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C:\Documents and Settings\User\Local Settings\Temporary Internet Files\Content.IE5\UHMT8DKJ\MC900237360[1].wmf"/>
          <p:cNvPicPr/>
          <p:nvPr/>
        </p:nvPicPr>
        <p:blipFill>
          <a:blip r:embed="rId3"/>
          <a:stretch/>
        </p:blipFill>
        <p:spPr>
          <a:xfrm>
            <a:off x="5572080" y="3000240"/>
            <a:ext cx="288756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71720" y="1500120"/>
            <a:ext cx="5929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Вам посылка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436a"/>
                </a:solidFill>
                <a:latin typeface="Georgia"/>
                <a:ea typeface="바탕"/>
              </a:rPr>
              <a:t>Распишитесь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1" name="Picture 5" descr="4"/>
          <p:cNvPicPr/>
          <p:nvPr/>
        </p:nvPicPr>
        <p:blipFill>
          <a:blip r:embed="rId1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72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C:\Documents and Settings\User\Local Settings\Temporary Internet Files\Content.IE5\IOTHVNJR\MC900216678[1].wmf"/>
          <p:cNvPicPr/>
          <p:nvPr/>
        </p:nvPicPr>
        <p:blipFill>
          <a:blip r:embed="rId3"/>
          <a:stretch/>
        </p:blipFill>
        <p:spPr>
          <a:xfrm>
            <a:off x="6072120" y="2643120"/>
            <a:ext cx="214308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71720" y="1642680"/>
            <a:ext cx="59292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Какой зуб  Вас беспокоит?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5429160" y="228600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5"/>
          <p:cNvPicPr/>
          <p:nvPr/>
        </p:nvPicPr>
        <p:blipFill>
          <a:blip r:embed="rId2"/>
          <a:stretch/>
        </p:blipFill>
        <p:spPr>
          <a:xfrm>
            <a:off x="285840" y="103320"/>
            <a:ext cx="642960" cy="931680"/>
          </a:xfrm>
          <a:prstGeom prst="rect">
            <a:avLst/>
          </a:prstGeom>
          <a:ln w="0">
            <a:noFill/>
          </a:ln>
        </p:spPr>
      </p:pic>
      <p:sp>
        <p:nvSpPr>
          <p:cNvPr id="478" name="Управляющая кнопка: домой 9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99720" y="1499760"/>
            <a:ext cx="7072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Булки нам и калачи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Каждый день пекут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1" name="Picture 4" descr="1"/>
          <p:cNvPicPr/>
          <p:nvPr/>
        </p:nvPicPr>
        <p:blipFill>
          <a:blip r:embed="rId1"/>
          <a:stretch/>
        </p:blipFill>
        <p:spPr>
          <a:xfrm>
            <a:off x="8286840" y="357120"/>
            <a:ext cx="503280" cy="928800"/>
          </a:xfrm>
          <a:prstGeom prst="rect">
            <a:avLst/>
          </a:prstGeom>
          <a:ln w="0">
            <a:noFill/>
          </a:ln>
        </p:spPr>
      </p:pic>
      <p:sp>
        <p:nvSpPr>
          <p:cNvPr id="482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C:\Documents and Settings\User\Local Settings\Temporary Internet Files\Content.IE5\IOTHVNJR\MC900297479[1].wmf"/>
          <p:cNvPicPr/>
          <p:nvPr/>
        </p:nvPicPr>
        <p:blipFill>
          <a:blip r:embed="rId3"/>
          <a:stretch/>
        </p:blipFill>
        <p:spPr>
          <a:xfrm flipH="1">
            <a:off x="4428720" y="3214800"/>
            <a:ext cx="314316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1720" y="1642680"/>
            <a:ext cx="76435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Арий, опер сочинител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Называется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2"/>
          <p:cNvPicPr/>
          <p:nvPr/>
        </p:nvPicPr>
        <p:blipFill>
          <a:blip r:embed="rId1"/>
          <a:stretch/>
        </p:blipFill>
        <p:spPr>
          <a:xfrm>
            <a:off x="807228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8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7" descr="C:\Documents and Settings\User\Local Settings\Temporary Internet Files\Content.IE5\IOTHVNJR\MC900415238[1].wmf"/>
          <p:cNvPicPr/>
          <p:nvPr/>
        </p:nvPicPr>
        <p:blipFill>
          <a:blip r:embed="rId3"/>
          <a:stretch/>
        </p:blipFill>
        <p:spPr>
          <a:xfrm flipH="1">
            <a:off x="3214440" y="2857680"/>
            <a:ext cx="459900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99720" y="178596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Дрессирует львов соба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Храбрый, смелый наш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1" name="Picture 5" descr="3"/>
          <p:cNvPicPr/>
          <p:nvPr/>
        </p:nvPicPr>
        <p:blipFill>
          <a:blip r:embed="rId1"/>
          <a:stretch/>
        </p:blipFill>
        <p:spPr>
          <a:xfrm>
            <a:off x="800100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7" descr="C:\Documents and Settings\User\Local Settings\Temporary Internet Files\Content.IE5\JQDOHFF3\MM900336704[1].gif"/>
          <p:cNvPicPr/>
          <p:nvPr/>
        </p:nvPicPr>
        <p:blipFill>
          <a:blip r:embed="rId3"/>
          <a:stretch/>
        </p:blipFill>
        <p:spPr>
          <a:xfrm flipH="1">
            <a:off x="4929120" y="3857760"/>
            <a:ext cx="2595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00080" y="1499760"/>
            <a:ext cx="7500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33cc"/>
                </a:solidFill>
                <a:latin typeface="Georgia"/>
                <a:ea typeface="바탕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Кто пасёт коров, овец?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Ну, конечно,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6" name="Picture 5" descr="4"/>
          <p:cNvPicPr/>
          <p:nvPr/>
        </p:nvPicPr>
        <p:blipFill>
          <a:blip r:embed="rId1"/>
          <a:stretch/>
        </p:blipFill>
        <p:spPr>
          <a:xfrm>
            <a:off x="8072280" y="42876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9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C:\Documents and Settings\User\Local Settings\Temporary Internet Files\Content.IE5\UHMT8DKJ\MC900287456[1].wmf"/>
          <p:cNvPicPr/>
          <p:nvPr/>
        </p:nvPicPr>
        <p:blipFill>
          <a:blip r:embed="rId3"/>
          <a:stretch/>
        </p:blipFill>
        <p:spPr>
          <a:xfrm>
            <a:off x="4500720" y="3500280"/>
            <a:ext cx="267624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Подметает чисто двор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В шесть утра, конечно,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바탕"/>
                <a:ea typeface="바탕"/>
              </a:rPr>
              <a:t> </a:t>
            </a:r>
            <a:endParaRPr b="0" lang="en-US" sz="5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6072120" y="3143160"/>
            <a:ext cx="2305080" cy="3214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5"/>
          <p:cNvPicPr/>
          <p:nvPr/>
        </p:nvPicPr>
        <p:blipFill>
          <a:blip r:embed="rId2"/>
          <a:stretch/>
        </p:blipFill>
        <p:spPr>
          <a:xfrm>
            <a:off x="8072280" y="285840"/>
            <a:ext cx="714600" cy="1035000"/>
          </a:xfrm>
          <a:prstGeom prst="rect">
            <a:avLst/>
          </a:prstGeom>
          <a:ln w="0">
            <a:noFill/>
          </a:ln>
        </p:spPr>
      </p:pic>
      <p:sp>
        <p:nvSpPr>
          <p:cNvPr id="503" name="Управляющая кнопка: домой 9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5480" y="1599840"/>
            <a:ext cx="84294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Содержимое 5"/>
          <p:cNvSpPr/>
          <p:nvPr/>
        </p:nvSpPr>
        <p:spPr>
          <a:xfrm>
            <a:off x="928800" y="1500120"/>
            <a:ext cx="79293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Кто любит труд, того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143160" y="3857760"/>
            <a:ext cx="2895840" cy="25714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1"/>
          <p:cNvPicPr/>
          <p:nvPr/>
        </p:nvPicPr>
        <p:blipFill>
          <a:blip r:embed="rId2"/>
          <a:stretch/>
        </p:blipFill>
        <p:spPr>
          <a:xfrm>
            <a:off x="828684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509" name="Управляющая кнопка: домой 11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одержимое 5"/>
          <p:cNvSpPr/>
          <p:nvPr/>
        </p:nvSpPr>
        <p:spPr>
          <a:xfrm>
            <a:off x="2786040" y="2428920"/>
            <a:ext cx="6357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    </a:t>
            </a: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люди чт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385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385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28400" y="1356840"/>
            <a:ext cx="87152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Труд человека кормит,    а</a:t>
            </a:r>
            <a:r>
              <a:rPr b="1" lang="ru-RU" sz="5400" spc="-1" strike="noStrike">
                <a:solidFill>
                  <a:srgbClr val="f88631"/>
                </a:solidFill>
                <a:latin typeface="바탕"/>
                <a:ea typeface="바탕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Содержимое 5"/>
          <p:cNvSpPr/>
          <p:nvPr/>
        </p:nvSpPr>
        <p:spPr>
          <a:xfrm>
            <a:off x="1000080" y="2071800"/>
            <a:ext cx="7929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    </a:t>
            </a: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лень порт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4143240" y="3646440"/>
            <a:ext cx="3286440" cy="3211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2"/>
          <p:cNvPicPr/>
          <p:nvPr/>
        </p:nvPicPr>
        <p:blipFill>
          <a:blip r:embed="rId2"/>
          <a:stretch/>
        </p:blipFill>
        <p:spPr>
          <a:xfrm>
            <a:off x="814392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516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385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85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385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385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2860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Учит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99720" y="1571400"/>
            <a:ext cx="6715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Мелом пишет и рисует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И с ошибками воюет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Учит думать, размышля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Как его, ребята, звать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Содержимое 3"/>
          <p:cNvSpPr/>
          <p:nvPr/>
        </p:nvSpPr>
        <p:spPr>
          <a:xfrm>
            <a:off x="4857840" y="92880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домой 7">
            <a:hlinkClick r:id="rId1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1"/>
          <p:cNvPicPr/>
          <p:nvPr/>
        </p:nvPicPr>
        <p:blipFill>
          <a:blip r:embed="rId2"/>
          <a:stretch/>
        </p:blipFill>
        <p:spPr>
          <a:xfrm>
            <a:off x="8286840" y="214200"/>
            <a:ext cx="503280" cy="9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C:\Documents and Settings\User\Local Settings\Temporary Internet Files\Content.IE5\JQDOHFF3\MC900301252[1].wmf"/>
          <p:cNvPicPr/>
          <p:nvPr/>
        </p:nvPicPr>
        <p:blipFill>
          <a:blip r:embed="rId3"/>
          <a:stretch/>
        </p:blipFill>
        <p:spPr>
          <a:xfrm>
            <a:off x="6429240" y="2500200"/>
            <a:ext cx="23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C:\Documents and Settings\User\Local Settings\Temporary Internet Files\Content.IE5\IOTHVNJR\MC900301254[1].wmf"/>
          <p:cNvPicPr/>
          <p:nvPr/>
        </p:nvPicPr>
        <p:blipFill>
          <a:blip r:embed="rId4"/>
          <a:stretch/>
        </p:blipFill>
        <p:spPr>
          <a:xfrm>
            <a:off x="1500120" y="4295880"/>
            <a:ext cx="264312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85520" y="1571400"/>
            <a:ext cx="77151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Где охота и труд, там …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Содержимое 5"/>
          <p:cNvSpPr/>
          <p:nvPr/>
        </p:nvSpPr>
        <p:spPr>
          <a:xfrm>
            <a:off x="3571920" y="2500200"/>
            <a:ext cx="5572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поля цвет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4786200" y="3643200"/>
            <a:ext cx="2786040" cy="289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3"/>
          <p:cNvPicPr/>
          <p:nvPr/>
        </p:nvPicPr>
        <p:blipFill>
          <a:blip r:embed="rId2"/>
          <a:stretch/>
        </p:blipFill>
        <p:spPr>
          <a:xfrm>
            <a:off x="792972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522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385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385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385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9" dur="385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1" dur="385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6800" y="1285560"/>
            <a:ext cx="8286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Языком не торопись, а 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Содержимое 5"/>
          <p:cNvSpPr/>
          <p:nvPr/>
        </p:nvSpPr>
        <p:spPr>
          <a:xfrm>
            <a:off x="2428920" y="2143080"/>
            <a:ext cx="7143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делом не лен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428920" y="3429000"/>
            <a:ext cx="2786040" cy="3156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4"/>
          <p:cNvPicPr/>
          <p:nvPr/>
        </p:nvPicPr>
        <p:blipFill>
          <a:blip r:embed="rId2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528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385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385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385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385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385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21428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Кто любит трудиться,  тому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Содержимое 5"/>
          <p:cNvSpPr/>
          <p:nvPr/>
        </p:nvSpPr>
        <p:spPr>
          <a:xfrm>
            <a:off x="1000080" y="2857680"/>
            <a:ext cx="77868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без дела не сидится</a:t>
            </a:r>
            <a:r>
              <a:rPr b="1" lang="ru-RU" sz="5400" spc="-1" strike="noStrike">
                <a:solidFill>
                  <a:srgbClr val="f88631"/>
                </a:solidFill>
                <a:latin typeface="바탕"/>
                <a:ea typeface="바탕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571920" y="3643200"/>
            <a:ext cx="2214360" cy="3006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5"/>
          <p:cNvPicPr/>
          <p:nvPr/>
        </p:nvPicPr>
        <p:blipFill>
          <a:blip r:embed="rId2"/>
          <a:stretch/>
        </p:blipFill>
        <p:spPr>
          <a:xfrm>
            <a:off x="8001000" y="285840"/>
            <a:ext cx="64296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38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385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385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38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38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2071800"/>
            <a:ext cx="9572760" cy="25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10000" spc="-1" strike="noStrike">
                <a:solidFill>
                  <a:srgbClr val="0066ff"/>
                </a:solidFill>
                <a:latin typeface="Georgia"/>
              </a:rPr>
              <a:t>МОЛОДЦЫ</a:t>
            </a:r>
            <a:r>
              <a:rPr b="0" lang="ru-RU" sz="10000" spc="-1" strike="noStrike">
                <a:solidFill>
                  <a:srgbClr val="0066ff"/>
                </a:solidFill>
                <a:latin typeface="Georgia"/>
              </a:rPr>
              <a:t> !</a:t>
            </a:r>
            <a:endParaRPr b="0" lang="en-US" sz="10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6" name="апплодисменты.wav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C:\Documents and Settings\User\Local Settings\Temporary Internet Files\Content.IE5\IOTHVNJR\MC900437565[1].wmf"/>
          <p:cNvPicPr/>
          <p:nvPr/>
        </p:nvPicPr>
        <p:blipFill>
          <a:blip r:embed="rId2"/>
          <a:stretch/>
        </p:blipFill>
        <p:spPr>
          <a:xfrm>
            <a:off x="500040" y="285840"/>
            <a:ext cx="2502000" cy="1643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C:\Documents and Settings\User\Local Settings\Temporary Internet Files\Content.IE5\UHMT8DKJ\MC900440418[1].wmf"/>
          <p:cNvPicPr/>
          <p:nvPr/>
        </p:nvPicPr>
        <p:blipFill>
          <a:blip r:embed="rId3"/>
          <a:stretch/>
        </p:blipFill>
        <p:spPr>
          <a:xfrm flipH="1">
            <a:off x="6928920" y="4714920"/>
            <a:ext cx="1659240" cy="1827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C:\Documents and Settings\User\Local Settings\Temporary Internet Files\Content.IE5\C1EBG5Y3\MC900440420[1].wmf"/>
          <p:cNvPicPr/>
          <p:nvPr/>
        </p:nvPicPr>
        <p:blipFill>
          <a:blip r:embed="rId4"/>
          <a:stretch/>
        </p:blipFill>
        <p:spPr>
          <a:xfrm>
            <a:off x="1000080" y="4786200"/>
            <a:ext cx="1863720" cy="182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C:\Documents and Settings\User\Local Settings\Temporary Internet Files\Content.IE5\JQDOHFF3\MC900434391[1].wmf"/>
          <p:cNvPicPr/>
          <p:nvPr/>
        </p:nvPicPr>
        <p:blipFill>
          <a:blip r:embed="rId5"/>
          <a:stretch/>
        </p:blipFill>
        <p:spPr>
          <a:xfrm>
            <a:off x="6715080" y="285840"/>
            <a:ext cx="1886040" cy="1920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C:\Documents and Settings\User\Local Settings\Temporary Internet Files\Content.IE5\UHMT8DKJ\MC900435945[1].wmf"/>
          <p:cNvPicPr/>
          <p:nvPr/>
        </p:nvPicPr>
        <p:blipFill>
          <a:blip r:embed="rId6"/>
          <a:stretch/>
        </p:blipFill>
        <p:spPr>
          <a:xfrm>
            <a:off x="3500280" y="3500280"/>
            <a:ext cx="28353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3584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72314"/>
                </a:solidFill>
                <a:latin typeface="Corbel"/>
              </a:rPr>
              <a:t>Использованные материалы</a:t>
            </a:r>
            <a:br>
              <a:rPr sz="1600"/>
            </a:br>
            <a:br>
              <a:rPr sz="1600"/>
            </a:b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Внеклассные мероприятия. Мозаика детского отдыха. – Москва. Вако. 2005.</a:t>
            </a:r>
            <a:br>
              <a:rPr sz="1400"/>
            </a:br>
            <a:r>
              <a:rPr b="0" lang="ru-RU" sz="1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С. Н. Думанская. Классные часы. 1-4 классы. – Харьков. Основа. 2008 г._x000b_Кулик. О. О. Уроки этики. 1 – 4 классы. - Харьков. Основа. 2008 г.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Т. А. Бугаева. Сценарии праздников в начальной школе. –Харьков. Основа. 2007г.</a:t>
            </a:r>
            <a:br>
              <a:rPr sz="1400"/>
            </a:br>
            <a:r>
              <a:rPr b="0" lang="ru-RU" sz="1400" spc="-1" strike="noStrike" u="sng">
                <a:solidFill>
                  <a:srgbClr val="572314"/>
                </a:solidFill>
                <a:uFillTx/>
                <a:latin typeface="Corbel"/>
              </a:rPr>
              <a:t>Интернет ресурсы:</a:t>
            </a:r>
            <a:br>
              <a:rPr sz="1400"/>
            </a:br>
            <a:r>
              <a:rPr b="0" lang="ru-RU" sz="1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files.vector-images.com/clipart/teacher7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 учитель ница (слайд  4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clipart.adelavida.com/?Option=Image&amp;Main=VArt&amp;FileName=1194267007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повар (слайд 5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http://www.yarfoto.ru/Download_v43_1.html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клоун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http://files.vector-images.com/clipart/driver1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водитель 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http://www.yarfoto.ru/klipart_v/497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врач (слайд 8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http://vector-images.com/clipart.php?id=12928&amp;lang=rus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– пожарник (слайд 9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http://files.vector-images.com/clipart/hairdresser5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парикмахер (слайд 10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http://files.vector-images.com/clipart/pilot1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летчик (слайд 11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http://t.foto.radikal.ru/0703/eb7453e62ef5t.jpg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почтальон ( слайд 12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http://www.cartoonclipartfree.com/Cliparts_Free/Berufe_Free/Cartoon-Clipart-Free-10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артист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3B2A-34E1-4B08-82D0-38CD615FBC65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yarfoto.ru/klipart_v_big/124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арикмахер (слайд 14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www.cartoonclipartfree.com/Cliparts_Free/Schule_Free/Cartoon-Clipart-Free-03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учитель (слайд 15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0lik.ru/uploads/posts/2008-09/1221414799_0lik.ru_bd6bafacd6b9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октор (слайд 16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s43.radikal.ru/i102/0811/81/b5b1b994db64.pn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вар ( 17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946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лотн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_big/84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рыба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823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родавец (слайд 20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482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вар (слайд 21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files.vector-images.com/clipart/postman1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чтальон (слайд 22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solnushki.ru/images/clipart/multi/doctor1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октор Айболит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846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екарь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artsides.ru/mini/item_3737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 - композитор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files.vector-images.com/clipart/snake_z9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рессировщ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village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пастух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607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ворн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building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маляр, каменщик, рабочий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village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косарь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hobby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ртной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thumbnail056.mylivepage.com/chunk56/1352279/1000/small_аплодисменты.gif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аплодисменты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0CB-3C44-449C-AEFA-E877C6F47963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57400" y="213840"/>
            <a:ext cx="24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в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0080" y="2071800"/>
            <a:ext cx="55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바탕"/>
                <a:ea typeface="바탕"/>
              </a:rPr>
              <a:t>  </a:t>
            </a: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Скажи, кто так вкусно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Готовит щи капустные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Пахучие котлеты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Салаты, винегреты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Все завтраки, обеды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2"/>
          <p:cNvPicPr/>
          <p:nvPr/>
        </p:nvPicPr>
        <p:blipFill>
          <a:blip r:embed="rId1"/>
          <a:stretch/>
        </p:blipFill>
        <p:spPr>
          <a:xfrm>
            <a:off x="8143920" y="214200"/>
            <a:ext cx="576360" cy="954360"/>
          </a:xfrm>
          <a:prstGeom prst="rect">
            <a:avLst/>
          </a:prstGeom>
          <a:ln w="0">
            <a:noFill/>
          </a:ln>
        </p:spPr>
      </p:pic>
      <p:sp>
        <p:nvSpPr>
          <p:cNvPr id="370" name="Управляющая кнопка: домой 8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C:\Documents and Settings\User\Local Settings\Temporary Internet Files\Content.IE5\JQDOHFF3\MC900291988[1].wmf"/>
          <p:cNvPicPr/>
          <p:nvPr/>
        </p:nvPicPr>
        <p:blipFill>
          <a:blip r:embed="rId3"/>
          <a:stretch/>
        </p:blipFill>
        <p:spPr>
          <a:xfrm flipH="1">
            <a:off x="6000480" y="2643120"/>
            <a:ext cx="2917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57760" y="285480"/>
            <a:ext cx="192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Клоу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28800" y="2038320"/>
            <a:ext cx="585792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В цирке он смешнее все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У него – большой успе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Только вспомнить остаётся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Весельчак тот как зовёт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6500880" y="1785960"/>
            <a:ext cx="2384280" cy="3913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3"/>
          <p:cNvPicPr/>
          <p:nvPr/>
        </p:nvPicPr>
        <p:blipFill>
          <a:blip r:embed="rId2"/>
          <a:stretch/>
        </p:blipFill>
        <p:spPr>
          <a:xfrm>
            <a:off x="8072280" y="28584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омой 7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28960" y="356760"/>
            <a:ext cx="313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дит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28800" y="1857240"/>
            <a:ext cx="65721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таем мы очень ран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едь наша забота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ех отвозить по утра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на работу. 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4"/>
          <p:cNvPicPr/>
          <p:nvPr/>
        </p:nvPicPr>
        <p:blipFill>
          <a:blip r:embed="rId1"/>
          <a:stretch/>
        </p:blipFill>
        <p:spPr>
          <a:xfrm>
            <a:off x="8072280" y="28584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382" name="Управляющая кнопка: домой 8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C:\Documents and Settings\User\Local Settings\Temporary Internet Files\Content.IE5\JQDOHFF3\MC900292006[1].wmf"/>
          <p:cNvPicPr/>
          <p:nvPr/>
        </p:nvPicPr>
        <p:blipFill>
          <a:blip r:embed="rId3"/>
          <a:stretch/>
        </p:blipFill>
        <p:spPr>
          <a:xfrm flipH="1">
            <a:off x="6215040" y="2000160"/>
            <a:ext cx="2928960" cy="2130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C:\Documents and Settings\User\Local Settings\Temporary Internet Files\Content.IE5\C1EBG5Y3\MC900357099[1].wmf"/>
          <p:cNvPicPr/>
          <p:nvPr/>
        </p:nvPicPr>
        <p:blipFill>
          <a:blip r:embed="rId4"/>
          <a:stretch/>
        </p:blipFill>
        <p:spPr>
          <a:xfrm flipH="1">
            <a:off x="1285920" y="4143240"/>
            <a:ext cx="25178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71960" y="285480"/>
            <a:ext cx="163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рач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57160" y="1599840"/>
            <a:ext cx="557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Кто в дни б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ех п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И лечит нас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от всех болезней? 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5" descr="5"/>
          <p:cNvPicPr/>
          <p:nvPr/>
        </p:nvPicPr>
        <p:blipFill>
          <a:blip r:embed="rId1"/>
          <a:stretch/>
        </p:blipFill>
        <p:spPr>
          <a:xfrm>
            <a:off x="7929720" y="214200"/>
            <a:ext cx="714240" cy="103500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C:\Documents and Settings\User\Local Settings\Temporary Internet Files\Content.IE5\JQDOHFF3\MC900332566[1].wmf"/>
          <p:cNvPicPr/>
          <p:nvPr/>
        </p:nvPicPr>
        <p:blipFill>
          <a:blip r:embed="rId3"/>
          <a:stretch/>
        </p:blipFill>
        <p:spPr>
          <a:xfrm flipH="1">
            <a:off x="5928840" y="1714680"/>
            <a:ext cx="2590920" cy="2786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C:\Documents and Settings\User\Local Settings\Temporary Internet Files\Content.IE5\IOTHVNJR\MC900332576[1].wmf"/>
          <p:cNvPicPr/>
          <p:nvPr/>
        </p:nvPicPr>
        <p:blipFill>
          <a:blip r:embed="rId4"/>
          <a:stretch/>
        </p:blipFill>
        <p:spPr>
          <a:xfrm>
            <a:off x="1500120" y="3786120"/>
            <a:ext cx="221472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00080" y="1071720"/>
            <a:ext cx="7215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На пожаре много ды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Помощь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 здесь необходи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Тушит пламя кто-то смел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Держит он брандсбойт  уме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Рядом – опытный напарн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Борется с огнём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4" descr="1"/>
          <p:cNvPicPr/>
          <p:nvPr/>
        </p:nvPicPr>
        <p:blipFill>
          <a:blip r:embed="rId1"/>
          <a:stretch/>
        </p:blipFill>
        <p:spPr>
          <a:xfrm>
            <a:off x="8143920" y="28584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394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C:\Documents and Settings\User\Local Settings\Temporary Internet Files\Content.IE5\UHMT8DKJ\MC900318586[1].wmf"/>
          <p:cNvPicPr/>
          <p:nvPr/>
        </p:nvPicPr>
        <p:blipFill>
          <a:blip r:embed="rId3"/>
          <a:stretch/>
        </p:blipFill>
        <p:spPr>
          <a:xfrm flipH="1">
            <a:off x="6215040" y="3000240"/>
            <a:ext cx="253224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99720" y="1000080"/>
            <a:ext cx="53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У этой волшебниц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Этой художниц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Не кисти и краск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А гребень и ножниц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Она облад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Таинственной сило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К кому прикоснёт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Тот станет красивый</a:t>
            </a: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5" descr="2"/>
          <p:cNvPicPr/>
          <p:nvPr/>
        </p:nvPicPr>
        <p:blipFill>
          <a:blip r:embed="rId1"/>
          <a:stretch/>
        </p:blipFill>
        <p:spPr>
          <a:xfrm>
            <a:off x="814392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C:\Documents and Settings\User\Local Settings\Temporary Internet Files\Content.IE5\IOTHVNJR\MC900297453[1].wmf"/>
          <p:cNvPicPr/>
          <p:nvPr/>
        </p:nvPicPr>
        <p:blipFill>
          <a:blip r:embed="rId3"/>
          <a:stretch/>
        </p:blipFill>
        <p:spPr>
          <a:xfrm>
            <a:off x="5643720" y="1928880"/>
            <a:ext cx="27162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22:12:49Z</dcterms:created>
  <dc:creator>Оксана</dc:creator>
  <dc:description/>
  <dc:language>en-US</dc:language>
  <cp:lastModifiedBy>User</cp:lastModifiedBy>
  <dcterms:modified xsi:type="dcterms:W3CDTF">2011-11-09T23:34:01Z</dcterms:modified>
  <cp:revision>38</cp:revision>
  <dc:subject/>
  <dc:title>СВОЯ ИГРА.2-3 класс</dc:title>
</cp:coreProperties>
</file>