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49.wmf" ContentType="image/x-wmf"/>
  <Override PartName="/ppt/media/image48.wmf" ContentType="image/x-wmf"/>
  <Override PartName="/ppt/media/image47.wmf" ContentType="image/x-wmf"/>
  <Override PartName="/ppt/media/image46.png" ContentType="image/png"/>
  <Override PartName="/ppt/media/image45.wmf" ContentType="image/x-wmf"/>
  <Override PartName="/ppt/media/image44.wmf" ContentType="image/x-wmf"/>
  <Override PartName="/ppt/media/image43.png" ContentType="image/png"/>
  <Override PartName="/ppt/media/image42.png" ContentType="image/png"/>
  <Override PartName="/ppt/media/image41.png" ContentType="image/png"/>
  <Override PartName="/ppt/media/image38.wmf" ContentType="image/x-wmf"/>
  <Override PartName="/ppt/media/image37.wmf" ContentType="image/x-wmf"/>
  <Override PartName="/ppt/media/image31.png" ContentType="image/png"/>
  <Override PartName="/ppt/media/image30.png" ContentType="image/png"/>
  <Override PartName="/ppt/media/image39.png" ContentType="image/png"/>
  <Override PartName="/ppt/media/image61.wmf" ContentType="image/x-wmf"/>
  <Override PartName="/ppt/media/image9.png" ContentType="image/png"/>
  <Override PartName="/ppt/media/image53.wmf" ContentType="image/x-wmf"/>
  <Override PartName="/ppt/media/image1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60.wmf" ContentType="image/x-wmf"/>
  <Override PartName="/ppt/media/image59.wmf" ContentType="image/x-wmf"/>
  <Override PartName="/ppt/media/image8.png" ContentType="image/png"/>
  <Override PartName="/ppt/media/image58.png" ContentType="image/png"/>
  <Override PartName="/ppt/media/image80.wmf" ContentType="image/x-wmf"/>
  <Override PartName="/ppt/media/image23.png" ContentType="image/png"/>
  <Override PartName="/ppt/media/image63.wmf" ContentType="image/x-wmf"/>
  <Override PartName="/ppt/media/image67.gif" ContentType="image/gif"/>
  <Override PartName="/ppt/media/image24.png" ContentType="image/png"/>
  <Override PartName="/ppt/media/image62.wmf" ContentType="image/x-wmf"/>
  <Override PartName="/ppt/media/image22.png" ContentType="image/png"/>
  <Override PartName="/ppt/media/image64.png" ContentType="image/png"/>
  <Override PartName="/ppt/media/image77.wmf" ContentType="image/x-wmf"/>
  <Override PartName="/ppt/media/image19.png" ContentType="image/png"/>
  <Override PartName="/ppt/media/image7.png" ContentType="image/png"/>
  <Override PartName="/ppt/media/image65.wmf" ContentType="image/x-wmf"/>
  <Override PartName="/ppt/media/image25.png" ContentType="image/png"/>
  <Override PartName="/ppt/media/image76.wmf" ContentType="image/x-wmf"/>
  <Override PartName="/ppt/media/image3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0.png" ContentType="image/png"/>
  <Override PartName="/ppt/media/image68.wmf" ContentType="image/x-wmf"/>
  <Override PartName="/ppt/media/image72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66.wmf" ContentType="image/x-wmf"/>
  <Override PartName="/ppt/media/image26.png" ContentType="image/png"/>
  <Override PartName="/ppt/media/image78.wmf" ContentType="image/x-wmf"/>
  <Override PartName="/ppt/media/image10.png" ContentType="image/png"/>
  <Override PartName="/ppt/media/image21.png" ContentType="image/png"/>
  <Override PartName="/ppt/media/image1.jpeg" ContentType="image/jpeg"/>
  <Override PartName="/ppt/media/image28.png" ContentType="image/png"/>
  <Override PartName="/ppt/media/image50.wmf" ContentType="image/x-wmf"/>
  <Override PartName="/ppt/media/image2.png" ContentType="image/png"/>
  <Override PartName="/ppt/media/image1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79.wmf" ContentType="image/x-wmf"/>
  <Override PartName="/ppt/media/image11.png" ContentType="image/png"/>
  <Override PartName="/ppt/media/image29.png" ContentType="image/png"/>
  <Override PartName="/ppt/media/image51.wmf" ContentType="image/x-wmf"/>
  <Override PartName="/ppt/media/image40.wmf" ContentType="image/x-wmf"/>
  <Override PartName="/ppt/media/image6.png" ContentType="image/png"/>
  <Override PartName="/ppt/media/image18.png" ContentType="image/png"/>
  <Override PartName="/ppt/media/image12.png" ContentType="image/png"/>
  <Override PartName="/ppt/media/image52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9110-768E-4B0D-9649-369C5180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A87-1241-4148-A23E-606D5921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C82-03DD-49CC-91E0-C2B72025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52F-8A8D-4E0A-A191-5B172403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1199-8541-44FD-9AA4-8E6C01B6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75FE-E002-495F-9A4B-EC152929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931A-A784-4388-A724-DE46A2F3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FF5A-95A2-4CF7-B9C9-F3686FEA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1349-ED0C-4E1C-AD7B-53158B35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8D69-B16F-4C87-BD2E-1E5AA674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03D0-25EC-4AE8-A059-40ADD2C8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B0BB-0D3A-4F57-9B24-1703BD8E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2DE9-D4D6-468D-BF48-1EDE83CB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1313-9AF5-49EA-8CAE-4C293131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ECDA-CF0D-4AFA-98D3-CD894167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A014-16B4-43D9-ADC9-161A982C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A492-0A5A-415D-8AC3-8CD4C3E7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8A127-7A8B-4FCD-A969-8EEEBEC1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EBA65-0FDF-4CA0-A731-8AC0B6CC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BB368-E9E7-4B2B-9182-7E5B36A2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8589D-CEBD-4A65-AE20-1FC81911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9F2A5-06F3-41FC-96F1-BB2529FC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E7BD-0C6B-400C-848C-5CCE17AC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CAF35-3356-4C80-AF3C-400D031A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634A1-DE1A-4267-A462-002B565E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64E18-9C59-4CDA-B30E-68BEB1A0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1AC2E-6AC9-4C15-9606-0EDE93D8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90730-ADE4-421F-BC4A-790CFCAF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51D7C-D5D3-41C3-8ABA-93CE7D6B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8FCB0-C0D6-4FEC-8DAE-53AF9B4B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4CE01-69DA-42C9-8610-F10B4410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B6308-3F80-4E1E-ACFE-746490A7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2665F-A2B6-4BD5-A2A4-1A2BC995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488-81AC-4BD5-911E-4D28D8BF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7AC0F-6FB8-42B5-BBBC-7F7C00EE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F93A0-3C8F-4347-80B8-24D4123F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9343B-39FC-40A9-81DD-9AA9E6C8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BA5BA-9BD8-4BDD-9A90-C5DA85C2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C1D73-88EE-4576-AAE1-ADE31FF6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FB1AF-32D7-4D38-91F7-C3121549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D77D8-F84F-48C3-9116-806774B0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BD43D-A905-46B8-BAE6-BDF45D3C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B71C5-FA49-4B85-BC06-5AFDF77C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0DB94-076C-4A4D-8A9B-3FC39F38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3FB-426B-41C9-8B0A-03272FEC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64A19-F7BD-4823-9EBF-9BE2B603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AC91F-4B91-48A3-9F20-DA11E603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AF4DD-8676-4455-8767-16703CDE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AE0A2-5CA5-4CAC-AEFF-7A325101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E52D7-644F-4C35-8DF7-B1589ED4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0572D-DDEE-448E-8622-DDC05F58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80DBA-DD59-4871-B6EA-0B6C445E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8D910-CCFB-4805-9E97-915BD50E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1AC22-E4DF-4BDE-898D-37A7C14D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5E216-0041-49AF-829B-292B2785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2DD-630B-416A-901C-C6D111C3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703C6-CC71-40BE-82B7-B9CFB346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13A16-6FD5-4DFE-B75D-FA7CE92B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D1831-54EF-4B90-92D9-607A5060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BA730-BF9A-49F9-B9A2-F185A2A7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58354-ABBA-4EF0-9A7D-02CD388E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80B21-BEEA-421D-9C5E-B0E46B74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F97DF-F99D-4F51-9825-88A7EEEA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CCDF3-13F9-454F-9195-0C444FDC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B3705-6C28-44BE-B920-B9CCAEFA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CEE8D-1918-4C50-A549-EA25CEB5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F39A-18B6-4CA3-BDCD-95F95A6C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7A0DC-8204-448E-A2E7-144EA2A0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1368A-5C36-4EF6-BA70-4560281B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147AB-0175-4457-ABA6-11994E74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E88F6-E98B-4398-B059-780C86A4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4FBDD-8270-46FA-BEF2-A43B6F59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EB3EC-4426-45BF-9BC4-2442F130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133B9-2C0C-4F26-A30A-587B07FE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A1588-F93B-4088-A133-C98201FF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4E140-DB8E-46D9-80AA-D6AB7DED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F713F-50A3-4BFB-BFCA-53643B1B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C6B-3BB5-4B20-8926-CB8A3867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9B403-2821-41E6-B175-F10EFB36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AE5FB-1D5C-4C3E-951F-FCC204F0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4B3AA-1B88-440E-B56C-3285B4D4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93870-3F1A-4050-8E40-C18DFD31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B2CDE-ACB0-4999-AF99-DCF244A7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39C-F966-40FC-8838-E504A735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86AE-1583-4762-849A-F58AB073AA36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C9D2-18C2-4958-A5D2-BEE8282AE07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19F3-953C-4B24-9E42-63D57E2BFFB8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1BA0-6C99-42AC-8376-AEAF1FBC7DB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8890-6A1B-4480-8BC8-DD3A90F48063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3DAD-6862-4FCD-8D9B-00E740FCC7F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2DD4-0BED-46CE-925F-945BD1DDA7DD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BC4E-1597-48DC-AF96-57CF2B362A1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1C47-809C-4192-A68F-E10A434EEA85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695D-114C-43E6-AC6C-D9702E410E1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D795-9875-4A7F-B5B6-AD1EA419ED25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CF4E-933B-4D0E-AF1E-9EE83DA4129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6E19-0D27-4E9D-86A8-9DD25A3D4EB1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9DFD-3B58-4B23-8227-9152D8E5E98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.xml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2.xml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6.png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3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4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4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2.xml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slide7.xml"/><Relationship Id="rId9" Type="http://schemas.openxmlformats.org/officeDocument/2006/relationships/image" Target="../media/image10.png"/><Relationship Id="rId10" Type="http://schemas.openxmlformats.org/officeDocument/2006/relationships/slide" Target="slide5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" Target="slide6.xml"/><Relationship Id="rId16" Type="http://schemas.openxmlformats.org/officeDocument/2006/relationships/image" Target="../media/image14.png"/><Relationship Id="rId17" Type="http://schemas.openxmlformats.org/officeDocument/2006/relationships/slide" Target="slide7.xml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slide" Target="slide1.xml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" Target="slide3.xml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slide" Target="slide20.xml"/><Relationship Id="rId29" Type="http://schemas.openxmlformats.org/officeDocument/2006/relationships/image" Target="../media/image23.png"/><Relationship Id="rId30" Type="http://schemas.openxmlformats.org/officeDocument/2006/relationships/image" Target="../media/image24.png"/><Relationship Id="rId31" Type="http://schemas.openxmlformats.org/officeDocument/2006/relationships/image" Target="../media/image25.png"/><Relationship Id="rId32" Type="http://schemas.openxmlformats.org/officeDocument/2006/relationships/image" Target="../media/image26.png"/><Relationship Id="rId33" Type="http://schemas.openxmlformats.org/officeDocument/2006/relationships/image" Target="../media/image27.png"/><Relationship Id="rId34" Type="http://schemas.openxmlformats.org/officeDocument/2006/relationships/image" Target="../media/image28.png"/><Relationship Id="rId35" Type="http://schemas.openxmlformats.org/officeDocument/2006/relationships/image" Target="../media/image29.png"/><Relationship Id="rId36" Type="http://schemas.openxmlformats.org/officeDocument/2006/relationships/image" Target="../media/image30.png"/><Relationship Id="rId37" Type="http://schemas.openxmlformats.org/officeDocument/2006/relationships/image" Target="../media/image31.png"/><Relationship Id="rId38" Type="http://schemas.openxmlformats.org/officeDocument/2006/relationships/image" Target="../media/image32.png"/><Relationship Id="rId39" Type="http://schemas.openxmlformats.org/officeDocument/2006/relationships/image" Target="../media/image33.png"/><Relationship Id="rId40" Type="http://schemas.openxmlformats.org/officeDocument/2006/relationships/image" Target="../media/image34.png"/><Relationship Id="rId41" Type="http://schemas.openxmlformats.org/officeDocument/2006/relationships/image" Target="../media/image35.png"/><Relationship Id="rId4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.xml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2.xml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2.xml"/><Relationship Id="rId3" Type="http://schemas.openxmlformats.org/officeDocument/2006/relationships/image" Target="../media/image6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.xml"/><Relationship Id="rId3" Type="http://schemas.openxmlformats.org/officeDocument/2006/relationships/image" Target="../media/image67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2.xml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4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3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4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4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8.wmf"/><Relationship Id="rId5" Type="http://schemas.openxmlformats.org/officeDocument/2006/relationships/image" Target="../media/image79.wmf"/><Relationship Id="rId6" Type="http://schemas.openxmlformats.org/officeDocument/2006/relationships/image" Target="../media/image80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stihi.ru/pics/2010/04/17/2909.jpg" TargetMode="External"/><Relationship Id="rId2" Type="http://schemas.openxmlformats.org/officeDocument/2006/relationships/hyperlink" Target="http://files.vector-images.com/clipart/teacher7.gif" TargetMode="External"/><Relationship Id="rId3" Type="http://schemas.openxmlformats.org/officeDocument/2006/relationships/hyperlink" Target="http://clipart.adelavida.com/?Option=Image&amp;Main=VArt&amp;FileName=1194267007" TargetMode="External"/><Relationship Id="rId4" Type="http://schemas.openxmlformats.org/officeDocument/2006/relationships/hyperlink" Target="http://www.yarfoto.ru/Download_v43_1.html" TargetMode="External"/><Relationship Id="rId5" Type="http://schemas.openxmlformats.org/officeDocument/2006/relationships/hyperlink" Target="http://files.vector-images.com/clipart/driver1.gif" TargetMode="External"/><Relationship Id="rId6" Type="http://schemas.openxmlformats.org/officeDocument/2006/relationships/hyperlink" Target="http://www.yarfoto.ru/klipart_v/497.gif" TargetMode="External"/><Relationship Id="rId7" Type="http://schemas.openxmlformats.org/officeDocument/2006/relationships/hyperlink" Target="http://vector-images.com/clipart.php?id=12928&amp;lang=rus" TargetMode="External"/><Relationship Id="rId8" Type="http://schemas.openxmlformats.org/officeDocument/2006/relationships/hyperlink" Target="http://files.vector-images.com/clipart/hairdresser5.gif" TargetMode="External"/><Relationship Id="rId9" Type="http://schemas.openxmlformats.org/officeDocument/2006/relationships/hyperlink" Target="http://files.vector-images.com/clipart/pilot1.gif" TargetMode="External"/><Relationship Id="rId10" Type="http://schemas.openxmlformats.org/officeDocument/2006/relationships/hyperlink" Target="http://t.foto.radikal.ru/0703/eb7453e62ef5t.jpg" TargetMode="External"/><Relationship Id="rId11" Type="http://schemas.openxmlformats.org/officeDocument/2006/relationships/hyperlink" Target="http://www.cartoonclipartfree.com/Cliparts_Free/Berufe_Free/Cartoon-Clipart-Free-10.gif" TargetMode="External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yarfoto.ru/klipart_v_big/124.gif" TargetMode="External"/><Relationship Id="rId2" Type="http://schemas.openxmlformats.org/officeDocument/2006/relationships/hyperlink" Target="http://www.cartoonclipartfree.com/Cliparts_Free/Schule_Free/Cartoon-Clipart-Free-03.gif" TargetMode="External"/><Relationship Id="rId3" Type="http://schemas.openxmlformats.org/officeDocument/2006/relationships/hyperlink" Target="http://0lik.ru/uploads/posts/2008-09/1221414799_0lik.ru_bd6bafacd6b9.jpg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2.xml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" Target="slide2.xml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2.xml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4280" y="1142640"/>
            <a:ext cx="77868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uk-UA" sz="4800" spc="-1" strike="noStrike">
                <a:solidFill>
                  <a:srgbClr val="0070c0"/>
                </a:solidFill>
                <a:latin typeface="Georgia"/>
              </a:rPr>
              <a:t>Все профессии важны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Дата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CD97-9AD3-4FDC-ABBA-DC246FA5E0FA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7"/>
          <p:cNvSpPr/>
          <p:nvPr/>
        </p:nvSpPr>
        <p:spPr>
          <a:xfrm>
            <a:off x="2071800" y="1500120"/>
            <a:ext cx="507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00000"/>
                </a:solidFill>
                <a:latin typeface="Georgia"/>
              </a:rPr>
              <a:t>    </a:t>
            </a:r>
            <a:r>
              <a:rPr b="1" lang="uk-UA" sz="6000" spc="-1" strike="noStrike">
                <a:solidFill>
                  <a:srgbClr val="c00000"/>
                </a:solidFill>
                <a:latin typeface="Georgia"/>
              </a:rPr>
              <a:t>Своя иг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000080" y="2000160"/>
            <a:ext cx="74296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Вижу в небе самол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Как светящийся комочек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Управляет им пилот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По другому просто 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2223"/>
                </a:solidFill>
                <a:latin typeface="바탕"/>
                <a:ea typeface="바탕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2" name="Picture 5" descr="3"/>
          <p:cNvPicPr/>
          <p:nvPr/>
        </p:nvPicPr>
        <p:blipFill>
          <a:blip r:embed="rId1"/>
          <a:stretch/>
        </p:blipFill>
        <p:spPr>
          <a:xfrm>
            <a:off x="8072280" y="357120"/>
            <a:ext cx="693720" cy="1000080"/>
          </a:xfrm>
          <a:prstGeom prst="rect">
            <a:avLst/>
          </a:prstGeom>
          <a:ln w="0">
            <a:noFill/>
          </a:ln>
        </p:spPr>
      </p:pic>
      <p:sp>
        <p:nvSpPr>
          <p:cNvPr id="403" name="Управляющая кнопка: домой 10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7" descr="C:\Documents and Settings\User\Local Settings\Temporary Internet Files\Content.IE5\IOTHVNJR\MC900370426[1].wmf"/>
          <p:cNvPicPr/>
          <p:nvPr/>
        </p:nvPicPr>
        <p:blipFill>
          <a:blip r:embed="rId3"/>
          <a:stretch/>
        </p:blipFill>
        <p:spPr>
          <a:xfrm flipH="1">
            <a:off x="6286320" y="3214800"/>
            <a:ext cx="244764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071360" y="1499760"/>
            <a:ext cx="7429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С сумкой тяжёлой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обходит район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Письма нам в ящик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кладёт 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2223"/>
                </a:solidFill>
                <a:latin typeface="Georgia"/>
                <a:ea typeface="바탕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7" name="Picture 5" descr="4"/>
          <p:cNvPicPr/>
          <p:nvPr/>
        </p:nvPicPr>
        <p:blipFill>
          <a:blip r:embed="rId1"/>
          <a:stretch/>
        </p:blipFill>
        <p:spPr>
          <a:xfrm>
            <a:off x="7929720" y="357120"/>
            <a:ext cx="745920" cy="1019160"/>
          </a:xfrm>
          <a:prstGeom prst="rect">
            <a:avLst/>
          </a:prstGeom>
          <a:ln w="0">
            <a:noFill/>
          </a:ln>
        </p:spPr>
      </p:pic>
      <p:sp>
        <p:nvSpPr>
          <p:cNvPr id="408" name="Управляющая кнопка: домой 11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7" descr="C:\Documents and Settings\User\Local Settings\Temporary Internet Files\Content.IE5\UHMT8DKJ\MC900297459[1].wmf"/>
          <p:cNvPicPr/>
          <p:nvPr/>
        </p:nvPicPr>
        <p:blipFill>
          <a:blip r:embed="rId3"/>
          <a:stretch/>
        </p:blipFill>
        <p:spPr>
          <a:xfrm flipH="1">
            <a:off x="5143680" y="2357280"/>
            <a:ext cx="3186000" cy="330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928440" y="1600200"/>
            <a:ext cx="64292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Он работает, игр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(Есть профессия такая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Он на сцене с давних по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Georgia"/>
                <a:ea typeface="바탕"/>
              </a:rPr>
              <a:t>Та профессия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Управляющая кнопка: домой 7">
            <a:hlinkClick r:id="rId1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5" descr="5"/>
          <p:cNvPicPr/>
          <p:nvPr/>
        </p:nvPicPr>
        <p:blipFill>
          <a:blip r:embed="rId2"/>
          <a:stretch/>
        </p:blipFill>
        <p:spPr>
          <a:xfrm>
            <a:off x="7786800" y="285840"/>
            <a:ext cx="714240" cy="1035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C:\Documents and Settings\User\Local Settings\Temporary Internet Files\Content.IE5\UHMT8DKJ\MC900332656[1].wmf"/>
          <p:cNvPicPr/>
          <p:nvPr/>
        </p:nvPicPr>
        <p:blipFill>
          <a:blip r:embed="rId3"/>
          <a:stretch/>
        </p:blipFill>
        <p:spPr>
          <a:xfrm flipH="1">
            <a:off x="6286320" y="3000240"/>
            <a:ext cx="214452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28800" y="1643040"/>
            <a:ext cx="41860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Ножницы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Содержимое 2"/>
          <p:cNvSpPr/>
          <p:nvPr/>
        </p:nvSpPr>
        <p:spPr>
          <a:xfrm>
            <a:off x="1000080" y="2786040"/>
            <a:ext cx="4114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Весы 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Содержимое 2"/>
          <p:cNvSpPr/>
          <p:nvPr/>
        </p:nvSpPr>
        <p:spPr>
          <a:xfrm>
            <a:off x="1000080" y="3857760"/>
            <a:ext cx="48294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Зеркало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Содержимое 2"/>
          <p:cNvSpPr/>
          <p:nvPr/>
        </p:nvSpPr>
        <p:spPr>
          <a:xfrm>
            <a:off x="1000080" y="5072040"/>
            <a:ext cx="4114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Расчёска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5500800" y="2286000"/>
            <a:ext cx="2685960" cy="3214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1"/>
          <p:cNvPicPr/>
          <p:nvPr/>
        </p:nvPicPr>
        <p:blipFill>
          <a:blip r:embed="rId2"/>
          <a:stretch/>
        </p:blipFill>
        <p:spPr>
          <a:xfrm>
            <a:off x="8286840" y="428760"/>
            <a:ext cx="503280" cy="928440"/>
          </a:xfrm>
          <a:prstGeom prst="rect">
            <a:avLst/>
          </a:prstGeom>
          <a:ln w="0">
            <a:noFill/>
          </a:ln>
        </p:spPr>
      </p:pic>
      <p:sp>
        <p:nvSpPr>
          <p:cNvPr id="421" name="Управляющая кнопка: домой 13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41" dur="2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-3.93154E-006 L 5E-006 -0.18871 E">
                                      <p:cBhvr>
                                        <p:cTn id="345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6.47549E-007 L 5E-006 -0.20976 E">
                                      <p:cBhvr>
                                        <p:cTn id="347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999720" y="1643040"/>
            <a:ext cx="48294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Букварь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Содержимое 2"/>
          <p:cNvSpPr/>
          <p:nvPr/>
        </p:nvSpPr>
        <p:spPr>
          <a:xfrm>
            <a:off x="1071720" y="2786040"/>
            <a:ext cx="4757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Указка  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одержимое 2"/>
          <p:cNvSpPr/>
          <p:nvPr/>
        </p:nvSpPr>
        <p:spPr>
          <a:xfrm>
            <a:off x="1071720" y="3929040"/>
            <a:ext cx="4686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Глобу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одержимое 2"/>
          <p:cNvSpPr/>
          <p:nvPr/>
        </p:nvSpPr>
        <p:spPr>
          <a:xfrm>
            <a:off x="1071720" y="5072040"/>
            <a:ext cx="4686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Кастрюля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D:\ПРОФЕССИИ КАРТИНКИ\Cartoon-Clipart-Free-17.gif"/>
          <p:cNvPicPr/>
          <p:nvPr/>
        </p:nvPicPr>
        <p:blipFill>
          <a:blip r:embed="rId1"/>
          <a:srcRect l="0" t="0" r="0" b="11180"/>
          <a:stretch/>
        </p:blipFill>
        <p:spPr>
          <a:xfrm>
            <a:off x="5500800" y="1928880"/>
            <a:ext cx="2657520" cy="31575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2"/>
          <p:cNvPicPr/>
          <p:nvPr/>
        </p:nvPicPr>
        <p:blipFill>
          <a:blip r:embed="rId2"/>
          <a:stretch/>
        </p:blipFill>
        <p:spPr>
          <a:xfrm>
            <a:off x="8215200" y="285840"/>
            <a:ext cx="576360" cy="954000"/>
          </a:xfrm>
          <a:prstGeom prst="rect">
            <a:avLst/>
          </a:prstGeom>
          <a:ln w="0">
            <a:noFill/>
          </a:ln>
        </p:spPr>
      </p:pic>
      <p:sp>
        <p:nvSpPr>
          <p:cNvPr id="428" name="Управляющая кнопка: домой 13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071360" y="1643040"/>
            <a:ext cx="468612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Пила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Содержимое 2"/>
          <p:cNvSpPr/>
          <p:nvPr/>
        </p:nvSpPr>
        <p:spPr>
          <a:xfrm>
            <a:off x="1071720" y="2714760"/>
            <a:ext cx="4686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Таблетк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Содержимое 2"/>
          <p:cNvSpPr/>
          <p:nvPr/>
        </p:nvSpPr>
        <p:spPr>
          <a:xfrm>
            <a:off x="1071720" y="4929120"/>
            <a:ext cx="46861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Термометр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одержимое 2"/>
          <p:cNvSpPr/>
          <p:nvPr/>
        </p:nvSpPr>
        <p:spPr>
          <a:xfrm>
            <a:off x="1071720" y="3929040"/>
            <a:ext cx="4686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Шпри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5857920" y="2057400"/>
            <a:ext cx="2438280" cy="3800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3"/>
          <p:cNvPicPr/>
          <p:nvPr/>
        </p:nvPicPr>
        <p:blipFill>
          <a:blip r:embed="rId2"/>
          <a:stretch/>
        </p:blipFill>
        <p:spPr>
          <a:xfrm>
            <a:off x="8072280" y="357120"/>
            <a:ext cx="693720" cy="1000080"/>
          </a:xfrm>
          <a:prstGeom prst="rect">
            <a:avLst/>
          </a:prstGeom>
          <a:ln w="0">
            <a:noFill/>
          </a:ln>
        </p:spPr>
      </p:pic>
      <p:sp>
        <p:nvSpPr>
          <p:cNvPr id="436" name="Управляющая кнопка: домой 13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97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-2.84921E-006 L 5E-006 -0.18154 E">
                                      <p:cBhvr>
                                        <p:cTn id="401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5E-006 1.71138E-006 L 2.5E-006 -0.17576 E">
                                      <p:cBhvr>
                                        <p:cTn id="403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799 0.00185 L -0.00782 -0.1561 E">
                                      <p:cBhvr>
                                        <p:cTn id="405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071360" y="1643040"/>
            <a:ext cx="468612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Сковорода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Содержимое 2"/>
          <p:cNvSpPr/>
          <p:nvPr/>
        </p:nvSpPr>
        <p:spPr>
          <a:xfrm>
            <a:off x="1000080" y="2786040"/>
            <a:ext cx="4686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Нож  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одержимое 2"/>
          <p:cNvSpPr/>
          <p:nvPr/>
        </p:nvSpPr>
        <p:spPr>
          <a:xfrm>
            <a:off x="1000080" y="3929040"/>
            <a:ext cx="4686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Половни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одержимое 2"/>
          <p:cNvSpPr/>
          <p:nvPr/>
        </p:nvSpPr>
        <p:spPr>
          <a:xfrm>
            <a:off x="1000080" y="5072040"/>
            <a:ext cx="4686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Расчёска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rcRect l="15696" t="0" r="15696" b="0"/>
          <a:stretch/>
        </p:blipFill>
        <p:spPr>
          <a:xfrm>
            <a:off x="6572160" y="1714680"/>
            <a:ext cx="2208240" cy="37861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4"/>
          <p:cNvPicPr/>
          <p:nvPr/>
        </p:nvPicPr>
        <p:blipFill>
          <a:blip r:embed="rId2"/>
          <a:stretch/>
        </p:blipFill>
        <p:spPr>
          <a:xfrm>
            <a:off x="8001000" y="357120"/>
            <a:ext cx="746280" cy="1019160"/>
          </a:xfrm>
          <a:prstGeom prst="rect">
            <a:avLst/>
          </a:prstGeom>
          <a:ln w="0">
            <a:noFill/>
          </a:ln>
        </p:spPr>
      </p:pic>
      <p:sp>
        <p:nvSpPr>
          <p:cNvPr id="444" name="Управляющая кнопка: домой 13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27" dur="2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2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000080" y="1643040"/>
            <a:ext cx="46864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58d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Молоток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Содержимое 2"/>
          <p:cNvSpPr/>
          <p:nvPr/>
        </p:nvSpPr>
        <p:spPr>
          <a:xfrm>
            <a:off x="1071720" y="2786040"/>
            <a:ext cx="4686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Гвозд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Содержимое 2"/>
          <p:cNvSpPr/>
          <p:nvPr/>
        </p:nvSpPr>
        <p:spPr>
          <a:xfrm>
            <a:off x="1000080" y="4000680"/>
            <a:ext cx="4757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Краски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Содержимое 2"/>
          <p:cNvSpPr/>
          <p:nvPr/>
        </p:nvSpPr>
        <p:spPr>
          <a:xfrm>
            <a:off x="1071720" y="5072040"/>
            <a:ext cx="4686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58d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Georgia"/>
                <a:ea typeface="바탕"/>
              </a:rPr>
              <a:t>Рубанок  </a:t>
            </a:r>
            <a:r>
              <a:rPr b="0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5643720" y="1928880"/>
            <a:ext cx="2803320" cy="3571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5"/>
          <p:cNvPicPr/>
          <p:nvPr/>
        </p:nvPicPr>
        <p:blipFill>
          <a:blip r:embed="rId2"/>
          <a:stretch/>
        </p:blipFill>
        <p:spPr>
          <a:xfrm>
            <a:off x="8001000" y="285840"/>
            <a:ext cx="714240" cy="1035000"/>
          </a:xfrm>
          <a:prstGeom prst="rect">
            <a:avLst/>
          </a:prstGeom>
          <a:ln w="0">
            <a:noFill/>
          </a:ln>
        </p:spPr>
      </p:pic>
      <p:sp>
        <p:nvSpPr>
          <p:cNvPr id="452" name="Управляющая кнопка: домой 13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2.17391E-006 L 5E-006 -0.15796 E">
                                      <p:cBhvr>
                                        <p:cTn id="457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56800" y="1285920"/>
            <a:ext cx="828684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5436a"/>
                </a:solidFill>
                <a:latin typeface="바탕"/>
                <a:ea typeface="바탕"/>
              </a:rPr>
              <a:t>-</a:t>
            </a:r>
            <a:r>
              <a:rPr b="1" lang="ru-RU" sz="4800" spc="-1" strike="noStrike">
                <a:solidFill>
                  <a:srgbClr val="35436a"/>
                </a:solidFill>
                <a:latin typeface="Georgia"/>
                <a:ea typeface="바탕"/>
              </a:rPr>
              <a:t>В мою сеть попало много рыбы!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5" name="Picture 4" descr="1"/>
          <p:cNvPicPr/>
          <p:nvPr/>
        </p:nvPicPr>
        <p:blipFill>
          <a:blip r:embed="rId1"/>
          <a:stretch/>
        </p:blipFill>
        <p:spPr>
          <a:xfrm>
            <a:off x="8143920" y="428760"/>
            <a:ext cx="503280" cy="928440"/>
          </a:xfrm>
          <a:prstGeom prst="rect">
            <a:avLst/>
          </a:prstGeom>
          <a:ln w="0">
            <a:noFill/>
          </a:ln>
        </p:spPr>
      </p:pic>
      <p:sp>
        <p:nvSpPr>
          <p:cNvPr id="456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8" descr="C:\Documents and Settings\User\Local Settings\Temporary Internet Files\Content.IE5\C1EBG5Y3\MC900301250[1].wmf"/>
          <p:cNvPicPr/>
          <p:nvPr/>
        </p:nvPicPr>
        <p:blipFill>
          <a:blip r:embed="rId3"/>
          <a:stretch/>
        </p:blipFill>
        <p:spPr>
          <a:xfrm flipH="1">
            <a:off x="5357520" y="3000240"/>
            <a:ext cx="353196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000080" y="1571400"/>
            <a:ext cx="842976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5436a"/>
                </a:solidFill>
                <a:latin typeface="바탕"/>
                <a:ea typeface="바탕"/>
              </a:rPr>
              <a:t>-</a:t>
            </a:r>
            <a:r>
              <a:rPr b="1" lang="ru-RU" sz="4800" spc="-1" strike="noStrike">
                <a:solidFill>
                  <a:srgbClr val="35436a"/>
                </a:solidFill>
                <a:latin typeface="Georgia"/>
                <a:ea typeface="바탕"/>
              </a:rPr>
              <a:t>Большое спасибо за покупку!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0" name="Picture 5" descr="2"/>
          <p:cNvPicPr/>
          <p:nvPr/>
        </p:nvPicPr>
        <p:blipFill>
          <a:blip r:embed="rId1"/>
          <a:stretch/>
        </p:blipFill>
        <p:spPr>
          <a:xfrm>
            <a:off x="8143920" y="357120"/>
            <a:ext cx="576360" cy="954000"/>
          </a:xfrm>
          <a:prstGeom prst="rect">
            <a:avLst/>
          </a:prstGeom>
          <a:ln w="0">
            <a:noFill/>
          </a:ln>
        </p:spPr>
      </p:pic>
      <p:sp>
        <p:nvSpPr>
          <p:cNvPr id="461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7" descr="C:\Documents and Settings\User\Local Settings\Temporary Internet Files\Content.IE5\JQDOHFF3\MC900318582[1].wmf"/>
          <p:cNvPicPr/>
          <p:nvPr/>
        </p:nvPicPr>
        <p:blipFill>
          <a:blip r:embed="rId3"/>
          <a:stretch/>
        </p:blipFill>
        <p:spPr>
          <a:xfrm>
            <a:off x="2571840" y="3500280"/>
            <a:ext cx="2143080" cy="2745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C:\Documents and Settings\User\Local Settings\Temporary Internet Files\Content.IE5\UHMT8DKJ\MC900233430[1].wmf"/>
          <p:cNvPicPr/>
          <p:nvPr/>
        </p:nvPicPr>
        <p:blipFill>
          <a:blip r:embed="rId4"/>
          <a:stretch/>
        </p:blipFill>
        <p:spPr>
          <a:xfrm>
            <a:off x="6572160" y="2286000"/>
            <a:ext cx="1984320" cy="26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8"/>
          <p:cNvSpPr/>
          <p:nvPr/>
        </p:nvSpPr>
        <p:spPr>
          <a:xfrm>
            <a:off x="142920" y="1285920"/>
            <a:ext cx="3786120" cy="785880"/>
          </a:xfrm>
          <a:custGeom>
            <a:avLst/>
            <a:gdLst>
              <a:gd name="textAreaLeft" fmla="*/ 50760 w 3786120"/>
              <a:gd name="textAreaRight" fmla="*/ 3735360 w 378612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104024" h="21600">
                <a:moveTo>
                  <a:pt x="0" y="0"/>
                </a:moveTo>
                <a:lnTo>
                  <a:pt x="104024" y="0"/>
                </a:lnTo>
                <a:lnTo>
                  <a:pt x="104024" y="21600"/>
                </a:lnTo>
                <a:lnTo>
                  <a:pt x="0" y="21600"/>
                </a:lnTo>
                <a:close/>
              </a:path>
              <a:path fill="lightenLess" w="104024" h="21600">
                <a:moveTo>
                  <a:pt x="0" y="0"/>
                </a:moveTo>
                <a:lnTo>
                  <a:pt x="104024" y="0"/>
                </a:lnTo>
                <a:lnTo>
                  <a:pt x="102624" y="1400"/>
                </a:lnTo>
                <a:lnTo>
                  <a:pt x="1400" y="1400"/>
                </a:lnTo>
                <a:close/>
              </a:path>
              <a:path fill="darken" w="104024" h="21600">
                <a:moveTo>
                  <a:pt x="104024" y="0"/>
                </a:moveTo>
                <a:lnTo>
                  <a:pt x="104024" y="21600"/>
                </a:lnTo>
                <a:lnTo>
                  <a:pt x="102624" y="20200"/>
                </a:lnTo>
                <a:lnTo>
                  <a:pt x="102624" y="1400"/>
                </a:lnTo>
                <a:close/>
              </a:path>
              <a:path fill="darkenLess" w="104024" h="21600">
                <a:moveTo>
                  <a:pt x="104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624" y="20200"/>
                </a:lnTo>
                <a:close/>
              </a:path>
              <a:path fill="lighten" w="104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тгад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9"/>
          <p:cNvSpPr/>
          <p:nvPr/>
        </p:nvSpPr>
        <p:spPr>
          <a:xfrm>
            <a:off x="142920" y="2143080"/>
            <a:ext cx="3786120" cy="857160"/>
          </a:xfrm>
          <a:custGeom>
            <a:avLst/>
            <a:gdLst>
              <a:gd name="textAreaLeft" fmla="*/ 55440 w 3786120"/>
              <a:gd name="textAreaRight" fmla="*/ 3730680 w 378612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95377" h="21600">
                <a:moveTo>
                  <a:pt x="0" y="0"/>
                </a:moveTo>
                <a:lnTo>
                  <a:pt x="95377" y="0"/>
                </a:lnTo>
                <a:lnTo>
                  <a:pt x="95377" y="21600"/>
                </a:lnTo>
                <a:lnTo>
                  <a:pt x="0" y="21600"/>
                </a:lnTo>
                <a:close/>
              </a:path>
              <a:path fill="lightenLess" w="95377" h="21600">
                <a:moveTo>
                  <a:pt x="0" y="0"/>
                </a:moveTo>
                <a:lnTo>
                  <a:pt x="95377" y="0"/>
                </a:lnTo>
                <a:lnTo>
                  <a:pt x="93977" y="1400"/>
                </a:lnTo>
                <a:lnTo>
                  <a:pt x="1400" y="1400"/>
                </a:lnTo>
                <a:close/>
              </a:path>
              <a:path fill="darken" w="95377" h="21600">
                <a:moveTo>
                  <a:pt x="95377" y="0"/>
                </a:moveTo>
                <a:lnTo>
                  <a:pt x="95377" y="21600"/>
                </a:lnTo>
                <a:lnTo>
                  <a:pt x="93977" y="20200"/>
                </a:lnTo>
                <a:lnTo>
                  <a:pt x="93977" y="1400"/>
                </a:lnTo>
                <a:close/>
              </a:path>
              <a:path fill="darkenLess" w="95377" h="21600">
                <a:moveTo>
                  <a:pt x="95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977" y="20200"/>
                </a:lnTo>
                <a:close/>
              </a:path>
              <a:path fill="lighten" w="95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шнее словеч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AutoShape 92" descr=""/>
          <p:cNvPicPr/>
          <p:nvPr/>
        </p:nvPicPr>
        <p:blipFill>
          <a:blip r:embed="rId1"/>
          <a:stretch/>
        </p:blipFill>
        <p:spPr>
          <a:xfrm>
            <a:off x="3554280" y="974880"/>
            <a:ext cx="1809720" cy="1171440"/>
          </a:xfrm>
          <a:prstGeom prst="rect">
            <a:avLst/>
          </a:prstGeom>
          <a:ln w="0">
            <a:noFill/>
          </a:ln>
        </p:spPr>
      </p:pic>
      <p:pic>
        <p:nvPicPr>
          <p:cNvPr id="324" name="AutoShape 9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565600" y="987480"/>
            <a:ext cx="1792440" cy="115236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49"/>
          <p:cNvSpPr/>
          <p:nvPr/>
        </p:nvSpPr>
        <p:spPr>
          <a:xfrm>
            <a:off x="142920" y="3071880"/>
            <a:ext cx="3786120" cy="857160"/>
          </a:xfrm>
          <a:custGeom>
            <a:avLst/>
            <a:gdLst>
              <a:gd name="textAreaLeft" fmla="*/ 55440 w 3786120"/>
              <a:gd name="textAreaRight" fmla="*/ 3730680 w 378612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95377" h="21600">
                <a:moveTo>
                  <a:pt x="0" y="0"/>
                </a:moveTo>
                <a:lnTo>
                  <a:pt x="95377" y="0"/>
                </a:lnTo>
                <a:lnTo>
                  <a:pt x="95377" y="21600"/>
                </a:lnTo>
                <a:lnTo>
                  <a:pt x="0" y="21600"/>
                </a:lnTo>
                <a:close/>
              </a:path>
              <a:path fill="lightenLess" w="95377" h="21600">
                <a:moveTo>
                  <a:pt x="0" y="0"/>
                </a:moveTo>
                <a:lnTo>
                  <a:pt x="95377" y="0"/>
                </a:lnTo>
                <a:lnTo>
                  <a:pt x="93977" y="1400"/>
                </a:lnTo>
                <a:lnTo>
                  <a:pt x="1400" y="1400"/>
                </a:lnTo>
                <a:close/>
              </a:path>
              <a:path fill="darken" w="95377" h="21600">
                <a:moveTo>
                  <a:pt x="95377" y="0"/>
                </a:moveTo>
                <a:lnTo>
                  <a:pt x="95377" y="21600"/>
                </a:lnTo>
                <a:lnTo>
                  <a:pt x="93977" y="20200"/>
                </a:lnTo>
                <a:lnTo>
                  <a:pt x="93977" y="1400"/>
                </a:lnTo>
                <a:close/>
              </a:path>
              <a:path fill="darkenLess" w="95377" h="21600">
                <a:moveTo>
                  <a:pt x="95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977" y="20200"/>
                </a:lnTo>
                <a:close/>
              </a:path>
              <a:path fill="lighten" w="95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оскажи словеч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9"/>
          <p:cNvSpPr/>
          <p:nvPr/>
        </p:nvSpPr>
        <p:spPr>
          <a:xfrm>
            <a:off x="142920" y="4000680"/>
            <a:ext cx="3786120" cy="857160"/>
          </a:xfrm>
          <a:custGeom>
            <a:avLst/>
            <a:gdLst>
              <a:gd name="textAreaLeft" fmla="*/ 55440 w 3786120"/>
              <a:gd name="textAreaRight" fmla="*/ 3730680 w 378612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95377" h="21600">
                <a:moveTo>
                  <a:pt x="0" y="0"/>
                </a:moveTo>
                <a:lnTo>
                  <a:pt x="95377" y="0"/>
                </a:lnTo>
                <a:lnTo>
                  <a:pt x="95377" y="21600"/>
                </a:lnTo>
                <a:lnTo>
                  <a:pt x="0" y="21600"/>
                </a:lnTo>
                <a:close/>
              </a:path>
              <a:path fill="lightenLess" w="95377" h="21600">
                <a:moveTo>
                  <a:pt x="0" y="0"/>
                </a:moveTo>
                <a:lnTo>
                  <a:pt x="95377" y="0"/>
                </a:lnTo>
                <a:lnTo>
                  <a:pt x="93977" y="1400"/>
                </a:lnTo>
                <a:lnTo>
                  <a:pt x="1400" y="1400"/>
                </a:lnTo>
                <a:close/>
              </a:path>
              <a:path fill="darken" w="95377" h="21600">
                <a:moveTo>
                  <a:pt x="95377" y="0"/>
                </a:moveTo>
                <a:lnTo>
                  <a:pt x="95377" y="21600"/>
                </a:lnTo>
                <a:lnTo>
                  <a:pt x="93977" y="20200"/>
                </a:lnTo>
                <a:lnTo>
                  <a:pt x="93977" y="1400"/>
                </a:lnTo>
                <a:close/>
              </a:path>
              <a:path fill="darkenLess" w="95377" h="21600">
                <a:moveTo>
                  <a:pt x="95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977" y="20200"/>
                </a:lnTo>
                <a:close/>
              </a:path>
              <a:path fill="lighten" w="95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58d01"/>
                </a:solidFill>
                <a:latin typeface="Times New Roman"/>
                <a:ea typeface="Times New Roman"/>
              </a:rPr>
              <a:t>Кто так говори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WordArt 2"/>
          <p:cNvSpPr txBox="1"/>
          <p:nvPr/>
        </p:nvSpPr>
        <p:spPr>
          <a:xfrm>
            <a:off x="1143000" y="214200"/>
            <a:ext cx="68580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+mn-lt"/>
              </a:rPr>
              <a:t>СВОЯ ИГРА</a:t>
            </a:r>
            <a:endParaRPr b="1" lang="en-US" sz="44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pic>
        <p:nvPicPr>
          <p:cNvPr id="328" name="AutoShape 92" descr=""/>
          <p:cNvPicPr/>
          <p:nvPr/>
        </p:nvPicPr>
        <p:blipFill>
          <a:blip r:embed="rId6"/>
          <a:stretch/>
        </p:blipFill>
        <p:spPr>
          <a:xfrm>
            <a:off x="3565440" y="1884240"/>
            <a:ext cx="1792440" cy="1150920"/>
          </a:xfrm>
          <a:prstGeom prst="rect">
            <a:avLst/>
          </a:prstGeom>
          <a:ln w="0">
            <a:noFill/>
          </a:ln>
        </p:spPr>
      </p:pic>
      <p:pic>
        <p:nvPicPr>
          <p:cNvPr id="329" name="AutoShape 92" descr=""/>
          <p:cNvPicPr/>
          <p:nvPr/>
        </p:nvPicPr>
        <p:blipFill>
          <a:blip r:embed="rId7"/>
          <a:stretch/>
        </p:blipFill>
        <p:spPr>
          <a:xfrm>
            <a:off x="4565520" y="987480"/>
            <a:ext cx="1792440" cy="1152360"/>
          </a:xfrm>
          <a:prstGeom prst="rect">
            <a:avLst/>
          </a:prstGeom>
          <a:ln w="0">
            <a:noFill/>
          </a:ln>
        </p:spPr>
      </p:pic>
      <p:pic>
        <p:nvPicPr>
          <p:cNvPr id="330" name="AutoShape 92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565440" y="2809800"/>
            <a:ext cx="1792440" cy="115272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49"/>
          <p:cNvSpPr/>
          <p:nvPr/>
        </p:nvSpPr>
        <p:spPr>
          <a:xfrm>
            <a:off x="142920" y="5786280"/>
            <a:ext cx="3786120" cy="857520"/>
          </a:xfrm>
          <a:custGeom>
            <a:avLst/>
            <a:gdLst>
              <a:gd name="textAreaLeft" fmla="*/ 55440 w 3786120"/>
              <a:gd name="textAreaRight" fmla="*/ 3730680 w 3786120"/>
              <a:gd name="textAreaTop" fmla="*/ 55440 h 857520"/>
              <a:gd name="textAreaBottom" fmla="*/ 802080 h 857520"/>
            </a:gdLst>
            <a:ahLst/>
            <a:rect l="textAreaLeft" t="textAreaTop" r="textAreaRight" b="textAreaBottom"/>
            <a:pathLst>
              <a:path w="95337" h="21600">
                <a:moveTo>
                  <a:pt x="0" y="0"/>
                </a:moveTo>
                <a:lnTo>
                  <a:pt x="95337" y="0"/>
                </a:lnTo>
                <a:lnTo>
                  <a:pt x="95337" y="21600"/>
                </a:lnTo>
                <a:lnTo>
                  <a:pt x="0" y="21600"/>
                </a:lnTo>
                <a:close/>
              </a:path>
              <a:path fill="lightenLess" w="95337" h="21600">
                <a:moveTo>
                  <a:pt x="0" y="0"/>
                </a:moveTo>
                <a:lnTo>
                  <a:pt x="95337" y="0"/>
                </a:lnTo>
                <a:lnTo>
                  <a:pt x="93937" y="1400"/>
                </a:lnTo>
                <a:lnTo>
                  <a:pt x="1400" y="1400"/>
                </a:lnTo>
                <a:close/>
              </a:path>
              <a:path fill="darken" w="95337" h="21600">
                <a:moveTo>
                  <a:pt x="95337" y="0"/>
                </a:moveTo>
                <a:lnTo>
                  <a:pt x="95337" y="21600"/>
                </a:lnTo>
                <a:lnTo>
                  <a:pt x="93937" y="20200"/>
                </a:lnTo>
                <a:lnTo>
                  <a:pt x="93937" y="1400"/>
                </a:lnTo>
                <a:close/>
              </a:path>
              <a:path fill="darkenLess" w="95337" h="21600">
                <a:moveTo>
                  <a:pt x="95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937" y="20200"/>
                </a:lnTo>
                <a:close/>
              </a:path>
              <a:path fill="lighten" w="95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кончи послов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9"/>
          <p:cNvSpPr/>
          <p:nvPr/>
        </p:nvSpPr>
        <p:spPr>
          <a:xfrm>
            <a:off x="142920" y="4929120"/>
            <a:ext cx="3786120" cy="785880"/>
          </a:xfrm>
          <a:custGeom>
            <a:avLst/>
            <a:gdLst>
              <a:gd name="textAreaLeft" fmla="*/ 50760 w 3786120"/>
              <a:gd name="textAreaRight" fmla="*/ 3735360 w 378612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104024" h="21600">
                <a:moveTo>
                  <a:pt x="0" y="0"/>
                </a:moveTo>
                <a:lnTo>
                  <a:pt x="104024" y="0"/>
                </a:lnTo>
                <a:lnTo>
                  <a:pt x="104024" y="21600"/>
                </a:lnTo>
                <a:lnTo>
                  <a:pt x="0" y="21600"/>
                </a:lnTo>
                <a:close/>
              </a:path>
              <a:path fill="lightenLess" w="104024" h="21600">
                <a:moveTo>
                  <a:pt x="0" y="0"/>
                </a:moveTo>
                <a:lnTo>
                  <a:pt x="104024" y="0"/>
                </a:lnTo>
                <a:lnTo>
                  <a:pt x="102624" y="1400"/>
                </a:lnTo>
                <a:lnTo>
                  <a:pt x="1400" y="1400"/>
                </a:lnTo>
                <a:close/>
              </a:path>
              <a:path fill="darken" w="104024" h="21600">
                <a:moveTo>
                  <a:pt x="104024" y="0"/>
                </a:moveTo>
                <a:lnTo>
                  <a:pt x="104024" y="21600"/>
                </a:lnTo>
                <a:lnTo>
                  <a:pt x="102624" y="20200"/>
                </a:lnTo>
                <a:lnTo>
                  <a:pt x="102624" y="1400"/>
                </a:lnTo>
                <a:close/>
              </a:path>
              <a:path fill="darkenLess" w="104024" h="21600">
                <a:moveTo>
                  <a:pt x="104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624" y="20200"/>
                </a:lnTo>
                <a:close/>
              </a:path>
              <a:path fill="lighten" w="104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ихи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обма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AutoShape 92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572160" y="987480"/>
            <a:ext cx="1790640" cy="1152360"/>
          </a:xfrm>
          <a:prstGeom prst="rect">
            <a:avLst/>
          </a:prstGeom>
          <a:ln w="0">
            <a:noFill/>
          </a:ln>
        </p:spPr>
      </p:pic>
      <p:pic>
        <p:nvPicPr>
          <p:cNvPr id="334" name="AutoShape 92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570800" y="987480"/>
            <a:ext cx="1792440" cy="1152360"/>
          </a:xfrm>
          <a:prstGeom prst="rect">
            <a:avLst/>
          </a:prstGeom>
          <a:ln w="0">
            <a:noFill/>
          </a:ln>
        </p:spPr>
      </p:pic>
      <p:pic>
        <p:nvPicPr>
          <p:cNvPr id="335" name="AutoShape 92" descr=""/>
          <p:cNvPicPr/>
          <p:nvPr/>
        </p:nvPicPr>
        <p:blipFill>
          <a:blip r:embed="rId14"/>
          <a:stretch/>
        </p:blipFill>
        <p:spPr>
          <a:xfrm>
            <a:off x="4565520" y="1884240"/>
            <a:ext cx="1792440" cy="1150920"/>
          </a:xfrm>
          <a:prstGeom prst="rect">
            <a:avLst/>
          </a:prstGeom>
          <a:ln w="0">
            <a:noFill/>
          </a:ln>
        </p:spPr>
      </p:pic>
      <p:pic>
        <p:nvPicPr>
          <p:cNvPr id="336" name="AutoShape 92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565600" y="1884240"/>
            <a:ext cx="1792440" cy="1150920"/>
          </a:xfrm>
          <a:prstGeom prst="rect">
            <a:avLst/>
          </a:prstGeom>
          <a:ln w="0">
            <a:noFill/>
          </a:ln>
        </p:spPr>
      </p:pic>
      <p:pic>
        <p:nvPicPr>
          <p:cNvPr id="337" name="AutoShape 92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6572160" y="1884240"/>
            <a:ext cx="1790640" cy="1150920"/>
          </a:xfrm>
          <a:prstGeom prst="rect">
            <a:avLst/>
          </a:prstGeom>
          <a:ln w="0">
            <a:noFill/>
          </a:ln>
        </p:spPr>
      </p:pic>
      <p:pic>
        <p:nvPicPr>
          <p:cNvPr id="338" name="AutoShape 92" descr=""/>
          <p:cNvPicPr/>
          <p:nvPr/>
        </p:nvPicPr>
        <p:blipFill>
          <a:blip r:embed="rId19"/>
          <a:stretch/>
        </p:blipFill>
        <p:spPr>
          <a:xfrm>
            <a:off x="7570800" y="1884240"/>
            <a:ext cx="1792440" cy="1150920"/>
          </a:xfrm>
          <a:prstGeom prst="rect">
            <a:avLst/>
          </a:prstGeom>
          <a:ln w="0">
            <a:noFill/>
          </a:ln>
        </p:spPr>
      </p:pic>
      <p:pic>
        <p:nvPicPr>
          <p:cNvPr id="339" name="AutoShape 92" descr=""/>
          <p:cNvPicPr/>
          <p:nvPr/>
        </p:nvPicPr>
        <p:blipFill>
          <a:blip r:embed="rId20"/>
          <a:stretch/>
        </p:blipFill>
        <p:spPr>
          <a:xfrm>
            <a:off x="4565520" y="280980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40" name="AutoShape 92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5565600" y="280980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41" name="AutoShape 92" descr=""/>
          <p:cNvPicPr/>
          <p:nvPr/>
        </p:nvPicPr>
        <p:blipFill>
          <a:blip r:embed="rId23"/>
          <a:stretch/>
        </p:blipFill>
        <p:spPr>
          <a:xfrm>
            <a:off x="6572160" y="2809800"/>
            <a:ext cx="1790640" cy="1152720"/>
          </a:xfrm>
          <a:prstGeom prst="rect">
            <a:avLst/>
          </a:prstGeom>
          <a:ln w="0">
            <a:noFill/>
          </a:ln>
        </p:spPr>
      </p:pic>
      <p:pic>
        <p:nvPicPr>
          <p:cNvPr id="342" name="AutoShape 92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7570800" y="280980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43" name="AutoShape 92" descr=""/>
          <p:cNvPicPr/>
          <p:nvPr/>
        </p:nvPicPr>
        <p:blipFill>
          <a:blip r:embed="rId26"/>
          <a:stretch/>
        </p:blipFill>
        <p:spPr>
          <a:xfrm>
            <a:off x="3565440" y="374328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44" name="AutoShape 92" descr=""/>
          <p:cNvPicPr/>
          <p:nvPr/>
        </p:nvPicPr>
        <p:blipFill>
          <a:blip r:embed="rId27"/>
          <a:stretch/>
        </p:blipFill>
        <p:spPr>
          <a:xfrm>
            <a:off x="4565520" y="374328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45" name="AutoShape 92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5565600" y="374328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46" name="AutoShape 92" descr=""/>
          <p:cNvPicPr/>
          <p:nvPr/>
        </p:nvPicPr>
        <p:blipFill>
          <a:blip r:embed="rId30"/>
          <a:stretch/>
        </p:blipFill>
        <p:spPr>
          <a:xfrm>
            <a:off x="6572160" y="3743280"/>
            <a:ext cx="1790640" cy="1152720"/>
          </a:xfrm>
          <a:prstGeom prst="rect">
            <a:avLst/>
          </a:prstGeom>
          <a:ln w="0">
            <a:noFill/>
          </a:ln>
        </p:spPr>
      </p:pic>
      <p:pic>
        <p:nvPicPr>
          <p:cNvPr id="347" name="AutoShape 92" descr=""/>
          <p:cNvPicPr/>
          <p:nvPr/>
        </p:nvPicPr>
        <p:blipFill>
          <a:blip r:embed="rId31"/>
          <a:stretch/>
        </p:blipFill>
        <p:spPr>
          <a:xfrm>
            <a:off x="7570800" y="374328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48" name="AutoShape 92" descr=""/>
          <p:cNvPicPr/>
          <p:nvPr/>
        </p:nvPicPr>
        <p:blipFill>
          <a:blip r:embed="rId32"/>
          <a:stretch/>
        </p:blipFill>
        <p:spPr>
          <a:xfrm>
            <a:off x="3565440" y="4632480"/>
            <a:ext cx="1792440" cy="1152360"/>
          </a:xfrm>
          <a:prstGeom prst="rect">
            <a:avLst/>
          </a:prstGeom>
          <a:ln w="0">
            <a:noFill/>
          </a:ln>
        </p:spPr>
      </p:pic>
      <p:pic>
        <p:nvPicPr>
          <p:cNvPr id="349" name="AutoShape 92" descr=""/>
          <p:cNvPicPr/>
          <p:nvPr/>
        </p:nvPicPr>
        <p:blipFill>
          <a:blip r:embed="rId33"/>
          <a:stretch/>
        </p:blipFill>
        <p:spPr>
          <a:xfrm>
            <a:off x="4565520" y="4632480"/>
            <a:ext cx="1792440" cy="1152360"/>
          </a:xfrm>
          <a:prstGeom prst="rect">
            <a:avLst/>
          </a:prstGeom>
          <a:ln w="0">
            <a:noFill/>
          </a:ln>
        </p:spPr>
      </p:pic>
      <p:pic>
        <p:nvPicPr>
          <p:cNvPr id="350" name="AutoShape 92" descr=""/>
          <p:cNvPicPr/>
          <p:nvPr/>
        </p:nvPicPr>
        <p:blipFill>
          <a:blip r:embed="rId34"/>
          <a:stretch/>
        </p:blipFill>
        <p:spPr>
          <a:xfrm>
            <a:off x="5565600" y="4632480"/>
            <a:ext cx="1792440" cy="1152360"/>
          </a:xfrm>
          <a:prstGeom prst="rect">
            <a:avLst/>
          </a:prstGeom>
          <a:ln w="0">
            <a:noFill/>
          </a:ln>
        </p:spPr>
      </p:pic>
      <p:pic>
        <p:nvPicPr>
          <p:cNvPr id="351" name="AutoShape 92" descr=""/>
          <p:cNvPicPr/>
          <p:nvPr/>
        </p:nvPicPr>
        <p:blipFill>
          <a:blip r:embed="rId35"/>
          <a:stretch/>
        </p:blipFill>
        <p:spPr>
          <a:xfrm>
            <a:off x="6572160" y="4632480"/>
            <a:ext cx="1790640" cy="1152360"/>
          </a:xfrm>
          <a:prstGeom prst="rect">
            <a:avLst/>
          </a:prstGeom>
          <a:ln w="0">
            <a:noFill/>
          </a:ln>
        </p:spPr>
      </p:pic>
      <p:pic>
        <p:nvPicPr>
          <p:cNvPr id="352" name="AutoShape 92" descr=""/>
          <p:cNvPicPr/>
          <p:nvPr/>
        </p:nvPicPr>
        <p:blipFill>
          <a:blip r:embed="rId36"/>
          <a:stretch/>
        </p:blipFill>
        <p:spPr>
          <a:xfrm>
            <a:off x="7570800" y="4632480"/>
            <a:ext cx="1792440" cy="1152360"/>
          </a:xfrm>
          <a:prstGeom prst="rect">
            <a:avLst/>
          </a:prstGeom>
          <a:ln w="0">
            <a:noFill/>
          </a:ln>
        </p:spPr>
      </p:pic>
      <p:pic>
        <p:nvPicPr>
          <p:cNvPr id="353" name="AutoShape 92" descr=""/>
          <p:cNvPicPr/>
          <p:nvPr/>
        </p:nvPicPr>
        <p:blipFill>
          <a:blip r:embed="rId37"/>
          <a:stretch/>
        </p:blipFill>
        <p:spPr>
          <a:xfrm>
            <a:off x="3565440" y="552924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54" name="AutoShape 92" descr=""/>
          <p:cNvPicPr/>
          <p:nvPr/>
        </p:nvPicPr>
        <p:blipFill>
          <a:blip r:embed="rId38"/>
          <a:stretch/>
        </p:blipFill>
        <p:spPr>
          <a:xfrm>
            <a:off x="4565520" y="552924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55" name="AutoShape 92" descr=""/>
          <p:cNvPicPr/>
          <p:nvPr/>
        </p:nvPicPr>
        <p:blipFill>
          <a:blip r:embed="rId39"/>
          <a:stretch/>
        </p:blipFill>
        <p:spPr>
          <a:xfrm>
            <a:off x="5565600" y="5529240"/>
            <a:ext cx="1792440" cy="1152720"/>
          </a:xfrm>
          <a:prstGeom prst="rect">
            <a:avLst/>
          </a:prstGeom>
          <a:ln w="0">
            <a:noFill/>
          </a:ln>
        </p:spPr>
      </p:pic>
      <p:pic>
        <p:nvPicPr>
          <p:cNvPr id="356" name="AutoShape 92" descr=""/>
          <p:cNvPicPr/>
          <p:nvPr/>
        </p:nvPicPr>
        <p:blipFill>
          <a:blip r:embed="rId40"/>
          <a:stretch/>
        </p:blipFill>
        <p:spPr>
          <a:xfrm>
            <a:off x="6572160" y="5529240"/>
            <a:ext cx="1790640" cy="1152720"/>
          </a:xfrm>
          <a:prstGeom prst="rect">
            <a:avLst/>
          </a:prstGeom>
          <a:ln w="0">
            <a:noFill/>
          </a:ln>
        </p:spPr>
      </p:pic>
      <p:pic>
        <p:nvPicPr>
          <p:cNvPr id="357" name="AutoShape 92" descr=""/>
          <p:cNvPicPr/>
          <p:nvPr/>
        </p:nvPicPr>
        <p:blipFill>
          <a:blip r:embed="rId41"/>
          <a:stretch/>
        </p:blipFill>
        <p:spPr>
          <a:xfrm>
            <a:off x="7570800" y="5529240"/>
            <a:ext cx="1792440" cy="115272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38"/>
          <p:cNvSpPr/>
          <p:nvPr/>
        </p:nvSpPr>
        <p:spPr>
          <a:xfrm>
            <a:off x="4000680" y="1285920"/>
            <a:ext cx="5143320" cy="5357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92880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5436a"/>
                </a:solidFill>
                <a:latin typeface="바탕"/>
                <a:ea typeface="바탕"/>
              </a:rPr>
              <a:t>-</a:t>
            </a:r>
            <a:r>
              <a:rPr b="1" lang="ru-RU" sz="4800" spc="-1" strike="noStrike">
                <a:solidFill>
                  <a:srgbClr val="35436a"/>
                </a:solidFill>
                <a:latin typeface="Georgia"/>
                <a:ea typeface="바탕"/>
              </a:rPr>
              <a:t>Кому добавки?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6" name="Picture 5" descr="3"/>
          <p:cNvPicPr/>
          <p:nvPr/>
        </p:nvPicPr>
        <p:blipFill>
          <a:blip r:embed="rId1"/>
          <a:stretch/>
        </p:blipFill>
        <p:spPr>
          <a:xfrm>
            <a:off x="8001000" y="285840"/>
            <a:ext cx="693720" cy="1000080"/>
          </a:xfrm>
          <a:prstGeom prst="rect">
            <a:avLst/>
          </a:prstGeom>
          <a:ln w="0">
            <a:noFill/>
          </a:ln>
        </p:spPr>
      </p:pic>
      <p:sp>
        <p:nvSpPr>
          <p:cNvPr id="467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7" descr="C:\Documents and Settings\User\Local Settings\Temporary Internet Files\Content.IE5\UHMT8DKJ\MC900237360[1].wmf"/>
          <p:cNvPicPr/>
          <p:nvPr/>
        </p:nvPicPr>
        <p:blipFill>
          <a:blip r:embed="rId3"/>
          <a:stretch/>
        </p:blipFill>
        <p:spPr>
          <a:xfrm>
            <a:off x="5572080" y="3000240"/>
            <a:ext cx="2887560" cy="23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71720" y="1500120"/>
            <a:ext cx="5929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5436a"/>
                </a:solidFill>
                <a:latin typeface="바탕"/>
                <a:ea typeface="바탕"/>
              </a:rPr>
              <a:t>-</a:t>
            </a:r>
            <a:r>
              <a:rPr b="1" lang="ru-RU" sz="4800" spc="-1" strike="noStrike">
                <a:solidFill>
                  <a:srgbClr val="35436a"/>
                </a:solidFill>
                <a:latin typeface="Georgia"/>
                <a:ea typeface="바탕"/>
              </a:rPr>
              <a:t>Вам посылка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436a"/>
                </a:solidFill>
                <a:latin typeface="Georgia"/>
                <a:ea typeface="바탕"/>
              </a:rPr>
              <a:t>Распишитесь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1" name="Picture 5" descr="4"/>
          <p:cNvPicPr/>
          <p:nvPr/>
        </p:nvPicPr>
        <p:blipFill>
          <a:blip r:embed="rId1"/>
          <a:stretch/>
        </p:blipFill>
        <p:spPr>
          <a:xfrm>
            <a:off x="8001000" y="357120"/>
            <a:ext cx="746280" cy="1019160"/>
          </a:xfrm>
          <a:prstGeom prst="rect">
            <a:avLst/>
          </a:prstGeom>
          <a:ln w="0">
            <a:noFill/>
          </a:ln>
        </p:spPr>
      </p:pic>
      <p:sp>
        <p:nvSpPr>
          <p:cNvPr id="472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7" descr="C:\Documents and Settings\User\Local Settings\Temporary Internet Files\Content.IE5\IOTHVNJR\MC900216678[1].wmf"/>
          <p:cNvPicPr/>
          <p:nvPr/>
        </p:nvPicPr>
        <p:blipFill>
          <a:blip r:embed="rId3"/>
          <a:stretch/>
        </p:blipFill>
        <p:spPr>
          <a:xfrm>
            <a:off x="6072120" y="2643120"/>
            <a:ext cx="2143080" cy="27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1071720" y="1642680"/>
            <a:ext cx="5929200" cy="688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5436a"/>
                </a:solidFill>
                <a:latin typeface="바탕"/>
                <a:ea typeface="바탕"/>
              </a:rPr>
              <a:t>-</a:t>
            </a:r>
            <a:r>
              <a:rPr b="1" lang="ru-RU" sz="4800" spc="-1" strike="noStrike">
                <a:solidFill>
                  <a:srgbClr val="35436a"/>
                </a:solidFill>
                <a:latin typeface="Georgia"/>
                <a:ea typeface="바탕"/>
              </a:rPr>
              <a:t>Какой зуб  Вас беспокоит?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1"/>
          <a:stretch/>
        </p:blipFill>
        <p:spPr>
          <a:xfrm>
            <a:off x="5429160" y="2286000"/>
            <a:ext cx="3382920" cy="43578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5"/>
          <p:cNvPicPr/>
          <p:nvPr/>
        </p:nvPicPr>
        <p:blipFill>
          <a:blip r:embed="rId2"/>
          <a:stretch/>
        </p:blipFill>
        <p:spPr>
          <a:xfrm>
            <a:off x="285840" y="103320"/>
            <a:ext cx="642960" cy="931680"/>
          </a:xfrm>
          <a:prstGeom prst="rect">
            <a:avLst/>
          </a:prstGeom>
          <a:ln w="0">
            <a:noFill/>
          </a:ln>
        </p:spPr>
      </p:pic>
      <p:sp>
        <p:nvSpPr>
          <p:cNvPr id="478" name="Управляющая кнопка: домой 9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999720" y="1499760"/>
            <a:ext cx="70722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cc"/>
                </a:solidFill>
                <a:latin typeface="Georgia"/>
                <a:ea typeface="바탕"/>
              </a:rPr>
              <a:t>  </a:t>
            </a: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Булки нам и калачи 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  </a:t>
            </a: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Каждый день пекут ..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1" name="Picture 4" descr="1"/>
          <p:cNvPicPr/>
          <p:nvPr/>
        </p:nvPicPr>
        <p:blipFill>
          <a:blip r:embed="rId1"/>
          <a:stretch/>
        </p:blipFill>
        <p:spPr>
          <a:xfrm>
            <a:off x="8286840" y="357120"/>
            <a:ext cx="503280" cy="928800"/>
          </a:xfrm>
          <a:prstGeom prst="rect">
            <a:avLst/>
          </a:prstGeom>
          <a:ln w="0">
            <a:noFill/>
          </a:ln>
        </p:spPr>
      </p:pic>
      <p:sp>
        <p:nvSpPr>
          <p:cNvPr id="482" name="Управляющая кнопка: домой 10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7" descr="C:\Documents and Settings\User\Local Settings\Temporary Internet Files\Content.IE5\IOTHVNJR\MC900297479[1].wmf"/>
          <p:cNvPicPr/>
          <p:nvPr/>
        </p:nvPicPr>
        <p:blipFill>
          <a:blip r:embed="rId3"/>
          <a:stretch/>
        </p:blipFill>
        <p:spPr>
          <a:xfrm flipH="1">
            <a:off x="4428720" y="3214800"/>
            <a:ext cx="3143160" cy="265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8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8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71720" y="1642680"/>
            <a:ext cx="76435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Арий, опер сочинитель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Называется ..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6" name="Picture 5" descr="2"/>
          <p:cNvPicPr/>
          <p:nvPr/>
        </p:nvPicPr>
        <p:blipFill>
          <a:blip r:embed="rId1"/>
          <a:stretch/>
        </p:blipFill>
        <p:spPr>
          <a:xfrm>
            <a:off x="8072280" y="285840"/>
            <a:ext cx="576360" cy="954000"/>
          </a:xfrm>
          <a:prstGeom prst="rect">
            <a:avLst/>
          </a:prstGeom>
          <a:ln w="0">
            <a:noFill/>
          </a:ln>
        </p:spPr>
      </p:pic>
      <p:sp>
        <p:nvSpPr>
          <p:cNvPr id="487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7" descr="C:\Documents and Settings\User\Local Settings\Temporary Internet Files\Content.IE5\IOTHVNJR\MC900415238[1].wmf"/>
          <p:cNvPicPr/>
          <p:nvPr/>
        </p:nvPicPr>
        <p:blipFill>
          <a:blip r:embed="rId3"/>
          <a:stretch/>
        </p:blipFill>
        <p:spPr>
          <a:xfrm flipH="1">
            <a:off x="3214440" y="2857680"/>
            <a:ext cx="4599000" cy="33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8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8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8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8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999720" y="1785960"/>
            <a:ext cx="80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Дрессирует львов собак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Храбрый, смелый наш ..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1" name="Picture 5" descr="3"/>
          <p:cNvPicPr/>
          <p:nvPr/>
        </p:nvPicPr>
        <p:blipFill>
          <a:blip r:embed="rId1"/>
          <a:stretch/>
        </p:blipFill>
        <p:spPr>
          <a:xfrm>
            <a:off x="8001000" y="357120"/>
            <a:ext cx="693720" cy="1000080"/>
          </a:xfrm>
          <a:prstGeom prst="rect">
            <a:avLst/>
          </a:prstGeom>
          <a:ln w="0">
            <a:noFill/>
          </a:ln>
        </p:spPr>
      </p:pic>
      <p:sp>
        <p:nvSpPr>
          <p:cNvPr id="492" name="Управляющая кнопка: домой 10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7" descr="C:\Documents and Settings\User\Local Settings\Temporary Internet Files\Content.IE5\JQDOHFF3\MM900336704[1].gif"/>
          <p:cNvPicPr/>
          <p:nvPr/>
        </p:nvPicPr>
        <p:blipFill>
          <a:blip r:embed="rId3"/>
          <a:stretch/>
        </p:blipFill>
        <p:spPr>
          <a:xfrm flipH="1">
            <a:off x="4929120" y="3857760"/>
            <a:ext cx="25956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8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8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000080" y="1499760"/>
            <a:ext cx="75009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33cc"/>
                </a:solidFill>
                <a:latin typeface="Georgia"/>
                <a:ea typeface="바탕"/>
              </a:rPr>
              <a:t> </a:t>
            </a: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Кто пасёт коров, овец? 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 </a:t>
            </a: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Ну, конечно, ..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6" name="Picture 5" descr="4"/>
          <p:cNvPicPr/>
          <p:nvPr/>
        </p:nvPicPr>
        <p:blipFill>
          <a:blip r:embed="rId1"/>
          <a:stretch/>
        </p:blipFill>
        <p:spPr>
          <a:xfrm>
            <a:off x="8072280" y="428760"/>
            <a:ext cx="746280" cy="1019160"/>
          </a:xfrm>
          <a:prstGeom prst="rect">
            <a:avLst/>
          </a:prstGeom>
          <a:ln w="0">
            <a:noFill/>
          </a:ln>
        </p:spPr>
      </p:pic>
      <p:sp>
        <p:nvSpPr>
          <p:cNvPr id="497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7" descr="C:\Documents and Settings\User\Local Settings\Temporary Internet Files\Content.IE5\UHMT8DKJ\MC900287456[1].wmf"/>
          <p:cNvPicPr/>
          <p:nvPr/>
        </p:nvPicPr>
        <p:blipFill>
          <a:blip r:embed="rId3"/>
          <a:stretch/>
        </p:blipFill>
        <p:spPr>
          <a:xfrm>
            <a:off x="4500720" y="3500280"/>
            <a:ext cx="2676240" cy="24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8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8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8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00080" y="1285920"/>
            <a:ext cx="81439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cc"/>
                </a:solidFill>
                <a:latin typeface="Georgia"/>
                <a:ea typeface="바탕"/>
              </a:rPr>
              <a:t>  </a:t>
            </a: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Подметает чисто двор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  </a:t>
            </a:r>
            <a:r>
              <a:rPr b="1" lang="ru-RU" sz="4400" spc="-1" strike="noStrike">
                <a:solidFill>
                  <a:srgbClr val="0066ff"/>
                </a:solidFill>
                <a:latin typeface="Georgia"/>
                <a:ea typeface="바탕"/>
              </a:rPr>
              <a:t>В шесть утра, конечно, ..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ffff"/>
                </a:solidFill>
                <a:latin typeface="바탕"/>
                <a:ea typeface="바탕"/>
              </a:rPr>
              <a:t> </a:t>
            </a:r>
            <a:endParaRPr b="0" lang="en-US" sz="5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6072120" y="3143160"/>
            <a:ext cx="2305080" cy="32148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5"/>
          <p:cNvPicPr/>
          <p:nvPr/>
        </p:nvPicPr>
        <p:blipFill>
          <a:blip r:embed="rId2"/>
          <a:stretch/>
        </p:blipFill>
        <p:spPr>
          <a:xfrm>
            <a:off x="8072280" y="285840"/>
            <a:ext cx="714600" cy="1035000"/>
          </a:xfrm>
          <a:prstGeom prst="rect">
            <a:avLst/>
          </a:prstGeom>
          <a:ln w="0">
            <a:noFill/>
          </a:ln>
        </p:spPr>
      </p:pic>
      <p:sp>
        <p:nvSpPr>
          <p:cNvPr id="503" name="Управляющая кнопка: домой 9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8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8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85480" y="1599840"/>
            <a:ext cx="84294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eorgia"/>
                <a:ea typeface="바탕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Содержимое 5"/>
          <p:cNvSpPr/>
          <p:nvPr/>
        </p:nvSpPr>
        <p:spPr>
          <a:xfrm>
            <a:off x="928800" y="1500120"/>
            <a:ext cx="792936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88631"/>
                </a:solidFill>
                <a:latin typeface="Georgia"/>
                <a:ea typeface="바탕"/>
              </a:rPr>
              <a:t>Кто любит труд, того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3143160" y="3857760"/>
            <a:ext cx="2895840" cy="25714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1"/>
          <p:cNvPicPr/>
          <p:nvPr/>
        </p:nvPicPr>
        <p:blipFill>
          <a:blip r:embed="rId2"/>
          <a:stretch/>
        </p:blipFill>
        <p:spPr>
          <a:xfrm>
            <a:off x="8286840" y="428760"/>
            <a:ext cx="503280" cy="928440"/>
          </a:xfrm>
          <a:prstGeom prst="rect">
            <a:avLst/>
          </a:prstGeom>
          <a:ln w="0">
            <a:noFill/>
          </a:ln>
        </p:spPr>
      </p:pic>
      <p:sp>
        <p:nvSpPr>
          <p:cNvPr id="509" name="Управляющая кнопка: домой 11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одержимое 5"/>
          <p:cNvSpPr/>
          <p:nvPr/>
        </p:nvSpPr>
        <p:spPr>
          <a:xfrm>
            <a:off x="2786040" y="2428920"/>
            <a:ext cx="6357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eorgia"/>
                <a:ea typeface="바탕"/>
              </a:rPr>
              <a:t>       </a:t>
            </a:r>
            <a:r>
              <a:rPr b="1" lang="ru-RU" sz="6000" spc="-1" strike="noStrike">
                <a:solidFill>
                  <a:srgbClr val="f88631"/>
                </a:solidFill>
                <a:latin typeface="Georgia"/>
                <a:ea typeface="바탕"/>
              </a:rPr>
              <a:t>люди чту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385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8" dur="385" fill="hold"/>
                                        <p:tgtEl>
                                          <p:spTgt spid="5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0" dur="385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2" dur="385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385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9" dur="385" fill="hold"/>
                                        <p:tgtEl>
                                          <p:spTgt spid="5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1" dur="385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3" dur="385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28400" y="1356840"/>
            <a:ext cx="87152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8631"/>
                </a:solidFill>
                <a:latin typeface="Georgia"/>
                <a:ea typeface="바탕"/>
              </a:rPr>
              <a:t>Труд человека кормит,    а</a:t>
            </a:r>
            <a:r>
              <a:rPr b="1" lang="ru-RU" sz="5400" spc="-1" strike="noStrike">
                <a:solidFill>
                  <a:srgbClr val="f88631"/>
                </a:solidFill>
                <a:latin typeface="바탕"/>
                <a:ea typeface="바탕"/>
              </a:rPr>
              <a:t> ..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Содержимое 5"/>
          <p:cNvSpPr/>
          <p:nvPr/>
        </p:nvSpPr>
        <p:spPr>
          <a:xfrm>
            <a:off x="1000080" y="2071800"/>
            <a:ext cx="79297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eorgia"/>
                <a:ea typeface="바탕"/>
              </a:rPr>
              <a:t>       </a:t>
            </a:r>
            <a:r>
              <a:rPr b="1" lang="ru-RU" sz="5400" spc="-1" strike="noStrike">
                <a:solidFill>
                  <a:srgbClr val="f88631"/>
                </a:solidFill>
                <a:latin typeface="Georgia"/>
                <a:ea typeface="바탕"/>
              </a:rPr>
              <a:t>лень порти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4143240" y="3646440"/>
            <a:ext cx="3286440" cy="3211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2"/>
          <p:cNvPicPr/>
          <p:nvPr/>
        </p:nvPicPr>
        <p:blipFill>
          <a:blip r:embed="rId2"/>
          <a:stretch/>
        </p:blipFill>
        <p:spPr>
          <a:xfrm>
            <a:off x="8143920" y="285840"/>
            <a:ext cx="576360" cy="954000"/>
          </a:xfrm>
          <a:prstGeom prst="rect">
            <a:avLst/>
          </a:prstGeom>
          <a:ln w="0">
            <a:noFill/>
          </a:ln>
        </p:spPr>
      </p:pic>
      <p:sp>
        <p:nvSpPr>
          <p:cNvPr id="516" name="Управляющая кнопка: домой 10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385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2" dur="385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4" dur="385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6" dur="385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385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3" dur="385" fill="hold"/>
                                        <p:tgtEl>
                                          <p:spTgt spid="5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5" dur="385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7" dur="385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92860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Учите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99720" y="1571400"/>
            <a:ext cx="67150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Мелом пишет и рисует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И с ошибками воюет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Учит думать, размышлять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Как его, ребята, звать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Содержимое 3"/>
          <p:cNvSpPr/>
          <p:nvPr/>
        </p:nvSpPr>
        <p:spPr>
          <a:xfrm>
            <a:off x="4857840" y="928800"/>
            <a:ext cx="390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Управляющая кнопка: домой 7">
            <a:hlinkClick r:id="rId1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1"/>
          <p:cNvPicPr/>
          <p:nvPr/>
        </p:nvPicPr>
        <p:blipFill>
          <a:blip r:embed="rId2"/>
          <a:stretch/>
        </p:blipFill>
        <p:spPr>
          <a:xfrm>
            <a:off x="8286840" y="214200"/>
            <a:ext cx="503280" cy="928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C:\Documents and Settings\User\Local Settings\Temporary Internet Files\Content.IE5\JQDOHFF3\MC900301252[1].wmf"/>
          <p:cNvPicPr/>
          <p:nvPr/>
        </p:nvPicPr>
        <p:blipFill>
          <a:blip r:embed="rId3"/>
          <a:stretch/>
        </p:blipFill>
        <p:spPr>
          <a:xfrm>
            <a:off x="6429240" y="2500200"/>
            <a:ext cx="2314800" cy="2286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C:\Documents and Settings\User\Local Settings\Temporary Internet Files\Content.IE5\IOTHVNJR\MC900301254[1].wmf"/>
          <p:cNvPicPr/>
          <p:nvPr/>
        </p:nvPicPr>
        <p:blipFill>
          <a:blip r:embed="rId4"/>
          <a:stretch/>
        </p:blipFill>
        <p:spPr>
          <a:xfrm>
            <a:off x="1500120" y="4295880"/>
            <a:ext cx="2643120" cy="25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785520" y="1571400"/>
            <a:ext cx="771516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88631"/>
                </a:solidFill>
                <a:latin typeface="Georgia"/>
                <a:ea typeface="바탕"/>
              </a:rPr>
              <a:t>Где охота и труд, там …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Содержимое 5"/>
          <p:cNvSpPr/>
          <p:nvPr/>
        </p:nvSpPr>
        <p:spPr>
          <a:xfrm>
            <a:off x="3571920" y="2500200"/>
            <a:ext cx="5572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88631"/>
                </a:solidFill>
                <a:latin typeface="Georgia"/>
                <a:ea typeface="바탕"/>
              </a:rPr>
              <a:t>поля цвету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4786200" y="3643200"/>
            <a:ext cx="2786040" cy="289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3"/>
          <p:cNvPicPr/>
          <p:nvPr/>
        </p:nvPicPr>
        <p:blipFill>
          <a:blip r:embed="rId2"/>
          <a:stretch/>
        </p:blipFill>
        <p:spPr>
          <a:xfrm>
            <a:off x="7929720" y="357120"/>
            <a:ext cx="693720" cy="1000080"/>
          </a:xfrm>
          <a:prstGeom prst="rect">
            <a:avLst/>
          </a:prstGeom>
          <a:ln w="0">
            <a:noFill/>
          </a:ln>
        </p:spPr>
      </p:pic>
      <p:sp>
        <p:nvSpPr>
          <p:cNvPr id="522" name="Управляющая кнопка: домой 10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385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6" dur="385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8" dur="385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0" dur="385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385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7" dur="385" fill="hold"/>
                                        <p:tgtEl>
                                          <p:spTgt spid="5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9" dur="385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1" dur="385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856800" y="1285560"/>
            <a:ext cx="8286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8631"/>
                </a:solidFill>
                <a:latin typeface="Georgia"/>
                <a:ea typeface="바탕"/>
              </a:rPr>
              <a:t>Языком не торопись, а ..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Содержимое 5"/>
          <p:cNvSpPr/>
          <p:nvPr/>
        </p:nvSpPr>
        <p:spPr>
          <a:xfrm>
            <a:off x="2428920" y="2143080"/>
            <a:ext cx="71438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8631"/>
                </a:solidFill>
                <a:latin typeface="Georgia"/>
                <a:ea typeface="바탕"/>
              </a:rPr>
              <a:t>делом не ленис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2428920" y="3429000"/>
            <a:ext cx="2786040" cy="31561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4"/>
          <p:cNvPicPr/>
          <p:nvPr/>
        </p:nvPicPr>
        <p:blipFill>
          <a:blip r:embed="rId2"/>
          <a:stretch/>
        </p:blipFill>
        <p:spPr>
          <a:xfrm>
            <a:off x="8001000" y="357120"/>
            <a:ext cx="746280" cy="1019160"/>
          </a:xfrm>
          <a:prstGeom prst="rect">
            <a:avLst/>
          </a:prstGeom>
          <a:ln w="0">
            <a:noFill/>
          </a:ln>
        </p:spPr>
      </p:pic>
      <p:sp>
        <p:nvSpPr>
          <p:cNvPr id="528" name="Управляющая кнопка: домой 10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385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0" dur="385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2" dur="385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4" dur="385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385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1" dur="385" fill="hold"/>
                                        <p:tgtEl>
                                          <p:spTgt spid="5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3" dur="385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5" dur="385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14240" y="1214280"/>
            <a:ext cx="8429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8631"/>
                </a:solidFill>
                <a:latin typeface="Georgia"/>
                <a:ea typeface="바탕"/>
              </a:rPr>
              <a:t>Кто любит трудиться,  тому..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Содержимое 5"/>
          <p:cNvSpPr/>
          <p:nvPr/>
        </p:nvSpPr>
        <p:spPr>
          <a:xfrm>
            <a:off x="1000080" y="2857680"/>
            <a:ext cx="77868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8631"/>
                </a:solidFill>
                <a:latin typeface="Georgia"/>
                <a:ea typeface="바탕"/>
              </a:rPr>
              <a:t>без дела не сидится</a:t>
            </a:r>
            <a:r>
              <a:rPr b="1" lang="ru-RU" sz="5400" spc="-1" strike="noStrike">
                <a:solidFill>
                  <a:srgbClr val="f88631"/>
                </a:solidFill>
                <a:latin typeface="바탕"/>
                <a:ea typeface="바탕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3571920" y="3643200"/>
            <a:ext cx="2214360" cy="30067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5"/>
          <p:cNvPicPr/>
          <p:nvPr/>
        </p:nvPicPr>
        <p:blipFill>
          <a:blip r:embed="rId2"/>
          <a:stretch/>
        </p:blipFill>
        <p:spPr>
          <a:xfrm>
            <a:off x="8001000" y="285840"/>
            <a:ext cx="642960" cy="93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38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4" dur="385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6" dur="385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8" dur="385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385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385" fill="hold"/>
                                        <p:tgtEl>
                                          <p:spTgt spid="5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385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385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2071800"/>
            <a:ext cx="9572760" cy="25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10000" spc="-1" strike="noStrike">
                <a:solidFill>
                  <a:srgbClr val="0066ff"/>
                </a:solidFill>
                <a:latin typeface="Georgia"/>
              </a:rPr>
              <a:t>МОЛОДЦЫ</a:t>
            </a:r>
            <a:r>
              <a:rPr b="0" lang="ru-RU" sz="10000" spc="-1" strike="noStrike">
                <a:solidFill>
                  <a:srgbClr val="0066ff"/>
                </a:solidFill>
                <a:latin typeface="Georgia"/>
              </a:rPr>
              <a:t> !</a:t>
            </a:r>
            <a:endParaRPr b="0" lang="en-US" sz="10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36" name="апплодисменты.wav" descr=""/>
          <p:cNvPicPr/>
          <p:nvPr/>
        </p:nvPicPr>
        <p:blipFill>
          <a:blip r:embed="rId1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6" descr="C:\Documents and Settings\User\Local Settings\Temporary Internet Files\Content.IE5\IOTHVNJR\MC900437565[1].wmf"/>
          <p:cNvPicPr/>
          <p:nvPr/>
        </p:nvPicPr>
        <p:blipFill>
          <a:blip r:embed="rId2"/>
          <a:stretch/>
        </p:blipFill>
        <p:spPr>
          <a:xfrm>
            <a:off x="500040" y="285840"/>
            <a:ext cx="2502000" cy="16430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C:\Documents and Settings\User\Local Settings\Temporary Internet Files\Content.IE5\UHMT8DKJ\MC900440418[1].wmf"/>
          <p:cNvPicPr/>
          <p:nvPr/>
        </p:nvPicPr>
        <p:blipFill>
          <a:blip r:embed="rId3"/>
          <a:stretch/>
        </p:blipFill>
        <p:spPr>
          <a:xfrm flipH="1">
            <a:off x="6928920" y="4714920"/>
            <a:ext cx="1659240" cy="18270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C:\Documents and Settings\User\Local Settings\Temporary Internet Files\Content.IE5\C1EBG5Y3\MC900440420[1].wmf"/>
          <p:cNvPicPr/>
          <p:nvPr/>
        </p:nvPicPr>
        <p:blipFill>
          <a:blip r:embed="rId4"/>
          <a:stretch/>
        </p:blipFill>
        <p:spPr>
          <a:xfrm>
            <a:off x="1000080" y="4786200"/>
            <a:ext cx="1863720" cy="1827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C:\Documents and Settings\User\Local Settings\Temporary Internet Files\Content.IE5\JQDOHFF3\MC900434391[1].wmf"/>
          <p:cNvPicPr/>
          <p:nvPr/>
        </p:nvPicPr>
        <p:blipFill>
          <a:blip r:embed="rId5"/>
          <a:stretch/>
        </p:blipFill>
        <p:spPr>
          <a:xfrm>
            <a:off x="6715080" y="285840"/>
            <a:ext cx="1886040" cy="19209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0" descr="C:\Documents and Settings\User\Local Settings\Temporary Internet Files\Content.IE5\UHMT8DKJ\MC900435945[1].wmf"/>
          <p:cNvPicPr/>
          <p:nvPr/>
        </p:nvPicPr>
        <p:blipFill>
          <a:blip r:embed="rId6"/>
          <a:stretch/>
        </p:blipFill>
        <p:spPr>
          <a:xfrm>
            <a:off x="3500280" y="3500280"/>
            <a:ext cx="283536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6" dur="3584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572314"/>
                </a:solidFill>
                <a:latin typeface="Corbel"/>
              </a:rPr>
              <a:t>Использованные материалы</a:t>
            </a:r>
            <a:br>
              <a:rPr sz="1600"/>
            </a:br>
            <a:br>
              <a:rPr sz="1600"/>
            </a:b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Внеклассные мероприятия. Мозаика детского отдыха. – Москва. Вако. 2005.</a:t>
            </a:r>
            <a:br>
              <a:rPr sz="1400"/>
            </a:br>
            <a:r>
              <a:rPr b="0" lang="ru-RU" sz="14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С. Н. Думанская. Классные часы. 1-4 классы. – Харьков. Основа. 2008 г._x000b_Кулик. О. О. Уроки этики. 1 – 4 классы. - Харьков. Основа. 2008 г.</a:t>
            </a: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Corbel"/>
              </a:rPr>
              <a:t>Т. А. Бугаева. Сценарии праздников в начальной школе. –Харьков. Основа. 2007г.</a:t>
            </a:r>
            <a:br>
              <a:rPr sz="1400"/>
            </a:br>
            <a:r>
              <a:rPr b="0" lang="ru-RU" sz="1400" spc="-1" strike="noStrike" u="sng">
                <a:solidFill>
                  <a:srgbClr val="572314"/>
                </a:solidFill>
                <a:uFillTx/>
                <a:latin typeface="Corbel"/>
              </a:rPr>
              <a:t>Интернет ресурсы:</a:t>
            </a:r>
            <a:br>
              <a:rPr sz="1400"/>
            </a:br>
            <a:r>
              <a:rPr b="0" lang="ru-RU" sz="14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http://files.vector-images.com/clipart/teacher7.gif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 учитель ница (слайд  4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http://clipart.adelavida.com/?Option=Image&amp;Main=VArt&amp;FileName=1194267007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повар (слайд 5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4"/>
              </a:rPr>
              <a:t>http://www.yarfoto.ru/Download_v43_1.html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- клоун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5"/>
              </a:rPr>
              <a:t>http://files.vector-images.com/clipart/driver1.gif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- водитель 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6"/>
              </a:rPr>
              <a:t>http://www.yarfoto.ru/klipart_v/497.gif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- врач (слайд 8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7"/>
              </a:rPr>
              <a:t>http://vector-images.com/clipart.php?id=12928&amp;lang=rus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– пожарник (слайд 9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8"/>
              </a:rPr>
              <a:t>http://files.vector-images.com/clipart/hairdresser5.gif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- парикмахер (слайд 10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9"/>
              </a:rPr>
              <a:t>http://files.vector-images.com/clipart/pilot1.gif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- летчик (слайд 11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10"/>
              </a:rPr>
              <a:t>http://t.foto.radikal.ru/0703/eb7453e62ef5t.jpg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почтальон ( слайд 12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11"/>
              </a:rPr>
              <a:t>http://www.cartoonclipartfree.com/Cliparts_Free/Berufe_Free/Cartoon-Clipart-Free-10.gif</a:t>
            </a:r>
            <a:r>
              <a:rPr b="0" lang="uk-UA" sz="1400" spc="-1" strike="noStrike">
                <a:solidFill>
                  <a:srgbClr val="572314"/>
                </a:solidFill>
                <a:latin typeface="Corbel"/>
              </a:rPr>
              <a:t> - артист</a:t>
            </a:r>
            <a:br>
              <a:rPr sz="1400"/>
            </a:b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3" name="Дата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A34F-67FA-471B-95BF-EDE49B51DBEE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http://www.yarfoto.ru/klipart_v_big/124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арикмахер (слайд 14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http://www.cartoonclipartfree.com/Cliparts_Free/Schule_Free/Cartoon-Clipart-Free-03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учитель (слайд 15)</a:t>
            </a:r>
            <a:br>
              <a:rPr sz="1400"/>
            </a:br>
            <a:r>
              <a:rPr b="0" lang="uk-UA" sz="14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http://0lik.ru/uploads/posts/2008-09/1221414799_0lik.ru_bd6bafacd6b9.jpg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доктор (слайд 16)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s43.radikal.ru/i102/0811/81/b5b1b994db64.png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овар ( 17)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klipart_v/946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лотник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klipart_v_big/84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рыбак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klipart_v/823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родавец (слайд 20)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klipart_v/482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овар (слайд 21)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files.vector-images.com/clipart/postman1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очтальон (слайд 22)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solnushki.ru/images/clipart/multi/doctor1.jpg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доктор Айболит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klipart_v/846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екарь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artsides.ru/mini/item_3737.jpg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 - композитор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files.vector-images.com/clipart/snake_z9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дрессировщик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V-village.html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пастух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klipart_v/607.gif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дворник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V-building.html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маляр, каменщик, рабочий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V-village.html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косарь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www.yarfoto.ru/V-hobby.html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портной</a:t>
            </a:r>
            <a:br>
              <a:rPr sz="14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orbel"/>
              </a:rPr>
              <a:t>http://thumbnail056.mylivepage.com/chunk56/1352279/1000/small_аплодисменты.gif.jpg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 - аплодисменты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Corbel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Дата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F563-607B-4BE1-9685-1CF6CF949424}" type="datetime">
              <a:rPr b="0" lang="ru-RU" sz="1200" spc="-1" strike="noStrike">
                <a:solidFill>
                  <a:srgbClr val="b5a788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57400" y="213840"/>
            <a:ext cx="242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Пова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00080" y="2071800"/>
            <a:ext cx="55008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바탕"/>
                <a:ea typeface="바탕"/>
              </a:rPr>
              <a:t>  </a:t>
            </a:r>
            <a:r>
              <a:rPr b="1" lang="ru-RU" sz="3000" spc="-1" strike="noStrike">
                <a:solidFill>
                  <a:srgbClr val="002060"/>
                </a:solidFill>
                <a:latin typeface="Georgia"/>
                <a:ea typeface="바탕"/>
              </a:rPr>
              <a:t>Скажи, кто так вкусно </a:t>
            </a:r>
            <a:br>
              <a:rPr sz="3000"/>
            </a:br>
            <a:r>
              <a:rPr b="1" lang="ru-RU" sz="3000" spc="-1" strike="noStrike">
                <a:solidFill>
                  <a:srgbClr val="002060"/>
                </a:solidFill>
                <a:latin typeface="Georgia"/>
                <a:ea typeface="바탕"/>
              </a:rPr>
              <a:t>Готовит щи капустные, </a:t>
            </a:r>
            <a:br>
              <a:rPr sz="3000"/>
            </a:br>
            <a:r>
              <a:rPr b="1" lang="ru-RU" sz="3000" spc="-1" strike="noStrike">
                <a:solidFill>
                  <a:srgbClr val="002060"/>
                </a:solidFill>
                <a:latin typeface="Georgia"/>
                <a:ea typeface="바탕"/>
              </a:rPr>
              <a:t>Пахучие котлеты, </a:t>
            </a:r>
            <a:br>
              <a:rPr sz="3000"/>
            </a:br>
            <a:r>
              <a:rPr b="1" lang="ru-RU" sz="3000" spc="-1" strike="noStrike">
                <a:solidFill>
                  <a:srgbClr val="002060"/>
                </a:solidFill>
                <a:latin typeface="Georgia"/>
                <a:ea typeface="바탕"/>
              </a:rPr>
              <a:t>Салаты, винегреты, </a:t>
            </a:r>
            <a:br>
              <a:rPr sz="3000"/>
            </a:br>
            <a:r>
              <a:rPr b="1" lang="ru-RU" sz="3000" spc="-1" strike="noStrike">
                <a:solidFill>
                  <a:srgbClr val="002060"/>
                </a:solidFill>
                <a:latin typeface="Georgia"/>
                <a:ea typeface="바탕"/>
              </a:rPr>
              <a:t>Все завтраки, обеды?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Содержимое 3"/>
          <p:cNvSpPr/>
          <p:nvPr/>
        </p:nvSpPr>
        <p:spPr>
          <a:xfrm>
            <a:off x="4857840" y="785880"/>
            <a:ext cx="390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5" descr="2"/>
          <p:cNvPicPr/>
          <p:nvPr/>
        </p:nvPicPr>
        <p:blipFill>
          <a:blip r:embed="rId1"/>
          <a:stretch/>
        </p:blipFill>
        <p:spPr>
          <a:xfrm>
            <a:off x="8143920" y="214200"/>
            <a:ext cx="576360" cy="954360"/>
          </a:xfrm>
          <a:prstGeom prst="rect">
            <a:avLst/>
          </a:prstGeom>
          <a:ln w="0">
            <a:noFill/>
          </a:ln>
        </p:spPr>
      </p:pic>
      <p:sp>
        <p:nvSpPr>
          <p:cNvPr id="370" name="Управляющая кнопка: домой 8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8" descr="C:\Documents and Settings\User\Local Settings\Temporary Internet Files\Content.IE5\JQDOHFF3\MC900291988[1].wmf"/>
          <p:cNvPicPr/>
          <p:nvPr/>
        </p:nvPicPr>
        <p:blipFill>
          <a:blip r:embed="rId3"/>
          <a:stretch/>
        </p:blipFill>
        <p:spPr>
          <a:xfrm flipH="1">
            <a:off x="6000480" y="2643120"/>
            <a:ext cx="291780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57760" y="285480"/>
            <a:ext cx="192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Клоу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28800" y="2038320"/>
            <a:ext cx="585792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В цирке он смешнее всех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У него – большой успех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Только вспомнить остаётся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바탕"/>
              </a:rPr>
              <a:t>Весельчак тот как зовётс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Содержимое 3"/>
          <p:cNvSpPr/>
          <p:nvPr/>
        </p:nvSpPr>
        <p:spPr>
          <a:xfrm>
            <a:off x="4857840" y="785880"/>
            <a:ext cx="390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"/>
          <p:cNvPicPr/>
          <p:nvPr/>
        </p:nvPicPr>
        <p:blipFill>
          <a:blip r:embed="rId1"/>
          <a:stretch/>
        </p:blipFill>
        <p:spPr>
          <a:xfrm>
            <a:off x="6500880" y="1785960"/>
            <a:ext cx="2384280" cy="3913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3"/>
          <p:cNvPicPr/>
          <p:nvPr/>
        </p:nvPicPr>
        <p:blipFill>
          <a:blip r:embed="rId2"/>
          <a:stretch/>
        </p:blipFill>
        <p:spPr>
          <a:xfrm>
            <a:off x="8072280" y="285840"/>
            <a:ext cx="693720" cy="1000080"/>
          </a:xfrm>
          <a:prstGeom prst="rect">
            <a:avLst/>
          </a:prstGeom>
          <a:ln w="0">
            <a:noFill/>
          </a:ln>
        </p:spPr>
      </p:pic>
      <p:sp>
        <p:nvSpPr>
          <p:cNvPr id="377" name="Управляющая кнопка: домой 7">
            <a:hlinkClick r:id="rId3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928960" y="356760"/>
            <a:ext cx="313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Водите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28800" y="1857240"/>
            <a:ext cx="65721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Встаем мы очень рано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Ведь наша забота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Всех отвозить по утрам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на работу. </a:t>
            </a:r>
            <a:br>
              <a:rPr sz="54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Содержимое 3"/>
          <p:cNvSpPr/>
          <p:nvPr/>
        </p:nvSpPr>
        <p:spPr>
          <a:xfrm>
            <a:off x="4857840" y="785880"/>
            <a:ext cx="390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4"/>
          <p:cNvPicPr/>
          <p:nvPr/>
        </p:nvPicPr>
        <p:blipFill>
          <a:blip r:embed="rId1"/>
          <a:stretch/>
        </p:blipFill>
        <p:spPr>
          <a:xfrm>
            <a:off x="8072280" y="285840"/>
            <a:ext cx="746280" cy="1019160"/>
          </a:xfrm>
          <a:prstGeom prst="rect">
            <a:avLst/>
          </a:prstGeom>
          <a:ln w="0">
            <a:noFill/>
          </a:ln>
        </p:spPr>
      </p:pic>
      <p:sp>
        <p:nvSpPr>
          <p:cNvPr id="382" name="Управляющая кнопка: домой 8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8" descr="C:\Documents and Settings\User\Local Settings\Temporary Internet Files\Content.IE5\JQDOHFF3\MC900292006[1].wmf"/>
          <p:cNvPicPr/>
          <p:nvPr/>
        </p:nvPicPr>
        <p:blipFill>
          <a:blip r:embed="rId3"/>
          <a:stretch/>
        </p:blipFill>
        <p:spPr>
          <a:xfrm flipH="1">
            <a:off x="6215040" y="2000160"/>
            <a:ext cx="2928960" cy="21304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9" descr="C:\Documents and Settings\User\Local Settings\Temporary Internet Files\Content.IE5\C1EBG5Y3\MC900357099[1].wmf"/>
          <p:cNvPicPr/>
          <p:nvPr/>
        </p:nvPicPr>
        <p:blipFill>
          <a:blip r:embed="rId4"/>
          <a:stretch/>
        </p:blipFill>
        <p:spPr>
          <a:xfrm flipH="1">
            <a:off x="1285920" y="4143240"/>
            <a:ext cx="251784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Содержимое 3"/>
          <p:cNvSpPr/>
          <p:nvPr/>
        </p:nvSpPr>
        <p:spPr>
          <a:xfrm>
            <a:off x="4857840" y="785880"/>
            <a:ext cx="390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071960" y="285480"/>
            <a:ext cx="163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Врач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57160" y="1599840"/>
            <a:ext cx="5572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Кто в дни болезне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всех полезне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И лечит нас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바탕"/>
              </a:rPr>
              <a:t>от всех болезней? </a:t>
            </a: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8" name="Picture 5" descr="5"/>
          <p:cNvPicPr/>
          <p:nvPr/>
        </p:nvPicPr>
        <p:blipFill>
          <a:blip r:embed="rId1"/>
          <a:stretch/>
        </p:blipFill>
        <p:spPr>
          <a:xfrm>
            <a:off x="7929720" y="214200"/>
            <a:ext cx="714240" cy="1035000"/>
          </a:xfrm>
          <a:prstGeom prst="rect">
            <a:avLst/>
          </a:prstGeom>
          <a:ln w="0">
            <a:noFill/>
          </a:ln>
        </p:spPr>
      </p:pic>
      <p:sp>
        <p:nvSpPr>
          <p:cNvPr id="389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8" descr="C:\Documents and Settings\User\Local Settings\Temporary Internet Files\Content.IE5\JQDOHFF3\MC900332566[1].wmf"/>
          <p:cNvPicPr/>
          <p:nvPr/>
        </p:nvPicPr>
        <p:blipFill>
          <a:blip r:embed="rId3"/>
          <a:stretch/>
        </p:blipFill>
        <p:spPr>
          <a:xfrm flipH="1">
            <a:off x="5928840" y="1714680"/>
            <a:ext cx="2590920" cy="2786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9" descr="C:\Documents and Settings\User\Local Settings\Temporary Internet Files\Content.IE5\IOTHVNJR\MC900332576[1].wmf"/>
          <p:cNvPicPr/>
          <p:nvPr/>
        </p:nvPicPr>
        <p:blipFill>
          <a:blip r:embed="rId4"/>
          <a:stretch/>
        </p:blipFill>
        <p:spPr>
          <a:xfrm>
            <a:off x="1500120" y="3786120"/>
            <a:ext cx="2214720" cy="27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000080" y="1071720"/>
            <a:ext cx="7215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바탕"/>
              </a:rPr>
              <a:t>На пожаре много дым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Помощь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바탕"/>
              </a:rPr>
              <a:t> здесь необходим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바탕"/>
              </a:rPr>
              <a:t>Тушит пламя кто-то смело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바탕"/>
              </a:rPr>
              <a:t>Держит он брандсбойт  умел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바탕"/>
              </a:rPr>
              <a:t>Рядом – опытный напарни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바탕"/>
              </a:rPr>
              <a:t>Борется с огнём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3" name="Picture 4" descr="1"/>
          <p:cNvPicPr/>
          <p:nvPr/>
        </p:nvPicPr>
        <p:blipFill>
          <a:blip r:embed="rId1"/>
          <a:stretch/>
        </p:blipFill>
        <p:spPr>
          <a:xfrm>
            <a:off x="8143920" y="285840"/>
            <a:ext cx="503280" cy="928440"/>
          </a:xfrm>
          <a:prstGeom prst="rect">
            <a:avLst/>
          </a:prstGeom>
          <a:ln w="0">
            <a:noFill/>
          </a:ln>
        </p:spPr>
      </p:pic>
      <p:sp>
        <p:nvSpPr>
          <p:cNvPr id="394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6" descr="C:\Documents and Settings\User\Local Settings\Temporary Internet Files\Content.IE5\UHMT8DKJ\MC900318586[1].wmf"/>
          <p:cNvPicPr/>
          <p:nvPr/>
        </p:nvPicPr>
        <p:blipFill>
          <a:blip r:embed="rId3"/>
          <a:stretch/>
        </p:blipFill>
        <p:spPr>
          <a:xfrm flipH="1">
            <a:off x="6215040" y="3000240"/>
            <a:ext cx="2532240" cy="297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999720" y="1000080"/>
            <a:ext cx="53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У этой волшебницы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Этой художницы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Не кисти и краск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А гребень и ножниц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Она облада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Таинственной силой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К кому прикоснётся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바탕"/>
              </a:rPr>
              <a:t>Тот станет красивый</a:t>
            </a: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7" name="Picture 5" descr="2"/>
          <p:cNvPicPr/>
          <p:nvPr/>
        </p:nvPicPr>
        <p:blipFill>
          <a:blip r:embed="rId1"/>
          <a:stretch/>
        </p:blipFill>
        <p:spPr>
          <a:xfrm>
            <a:off x="8143920" y="285840"/>
            <a:ext cx="576360" cy="954000"/>
          </a:xfrm>
          <a:prstGeom prst="rect">
            <a:avLst/>
          </a:prstGeom>
          <a:ln w="0">
            <a:noFill/>
          </a:ln>
        </p:spPr>
      </p:pic>
      <p:sp>
        <p:nvSpPr>
          <p:cNvPr id="398" name="Управляющая кнопка: домой 9">
            <a:hlinkClick r:id="rId2" action="ppaction://hlinksldjump"/>
          </p:cNvPr>
          <p:cNvSpPr/>
          <p:nvPr/>
        </p:nvSpPr>
        <p:spPr>
          <a:xfrm>
            <a:off x="8286840" y="60721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C:\Documents and Settings\User\Local Settings\Temporary Internet Files\Content.IE5\IOTHVNJR\MC900297453[1].wmf"/>
          <p:cNvPicPr/>
          <p:nvPr/>
        </p:nvPicPr>
        <p:blipFill>
          <a:blip r:embed="rId3"/>
          <a:stretch/>
        </p:blipFill>
        <p:spPr>
          <a:xfrm>
            <a:off x="5643720" y="1928880"/>
            <a:ext cx="271620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22:12:49Z</dcterms:created>
  <dc:creator>Оксана</dc:creator>
  <dc:description/>
  <dc:language>en-US</dc:language>
  <cp:lastModifiedBy>User</cp:lastModifiedBy>
  <dcterms:modified xsi:type="dcterms:W3CDTF">2011-11-09T23:34:01Z</dcterms:modified>
  <cp:revision>38</cp:revision>
  <dc:subject/>
  <dc:title>СВОЯ ИГРА.2-3 класс</dc:title>
</cp:coreProperties>
</file>