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40C-19B9-41A4-9B77-C5EB4846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D1D-F2F1-498F-8E07-FA79410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EFF-E523-4BD6-983D-CA314BA0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A57-CF4F-44AF-BE1E-6EF3B17E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DD36-E3A2-4A8E-A7C5-8694DDE4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41A2-F13B-470F-8B85-C71A916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B6D5-4296-40A0-B87C-29B12335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6276-C9E3-418D-971F-A5876B8A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283E-94EF-4E42-AC90-4F9F758D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7790-B7C5-4BDF-9D80-8C341B54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B5FE-2E32-414E-8E6E-F2AC5EC2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BE6-8B5B-4B58-B578-14E4D550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D0FC-2407-4CA0-B362-265A63A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526B-FA3C-4584-BE90-717FB8B6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F95A-36EB-49DA-93FB-ED2E2DB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66E6-C825-4E9F-A68F-E8C6971D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320"/>
            <a:ext cx="2649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0EB-D1E4-41BE-AB59-37E7AE8D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AC9-EE4E-4930-AE33-CF3F9E93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61A-5DE7-4ED5-B2DA-5FC7CB21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8E7-8709-4DCE-94CC-6ECEE83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24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1E8-FDB1-4590-A55E-762EB9E5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8DB-65B4-4009-9E57-458BD5A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2A9-913F-4642-B2D7-CDC2EB5F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822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770-0425-49AD-B013-30F0B5F4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9B5E8B-CF69-465D-830E-7438717BA7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SzPct val="120000"/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80000"/>
              <a:buFont typeface="Wingdings" charset="2"/>
              <a:buChar char=""/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552C58-8B0D-4001-80A9-F986EFEB27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209680" y="1905120"/>
            <a:ext cx="5105160" cy="1904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az-Cyrl-AZ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День Земл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80880" y="-744480"/>
            <a:ext cx="845784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Учёные подсчитали, что каждый год во всём мире в водоёмы попадает столько вредных веществ, что ими можно было бы заполнить 10 тысяч товарных поездов. Даже в водах Арктики нашли стиральный порошок, а в теле пингвинов, живущих в Антарктиде – ДДТ. В результате деятельности человека в реках Европы – Сене, Дунае, Рейне и Волге – нельзя куп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загрязнение воды 3"/>
          <p:cNvPicPr/>
          <p:nvPr/>
        </p:nvPicPr>
        <p:blipFill>
          <a:blip r:embed="rId1"/>
          <a:stretch/>
        </p:blipFill>
        <p:spPr>
          <a:xfrm>
            <a:off x="0" y="3714840"/>
            <a:ext cx="4571640" cy="314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волга"/>
          <p:cNvPicPr/>
          <p:nvPr/>
        </p:nvPicPr>
        <p:blipFill>
          <a:blip r:embed="rId2"/>
          <a:stretch/>
        </p:blipFill>
        <p:spPr>
          <a:xfrm>
            <a:off x="4572000" y="3714840"/>
            <a:ext cx="457164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838080" y="-1597680"/>
            <a:ext cx="761976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Усиленно идёт «облысение» планеты. За последние 20 лет человек вырубил столько леса, сколько было уничтожено за всё его предыдущее существование, не говоря уже о пожарах, которые возникают по вине человека. Для многих животных лес – родной дом. А лесов становится всё меньше и меньше. Значит, животные теряют свой дом, они обречены на гиб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лес"/>
          <p:cNvPicPr/>
          <p:nvPr/>
        </p:nvPicPr>
        <p:blipFill>
          <a:blip r:embed="rId1"/>
          <a:stretch/>
        </p:blipFill>
        <p:spPr>
          <a:xfrm>
            <a:off x="0" y="3790800"/>
            <a:ext cx="4647960" cy="306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лисв"/>
          <p:cNvPicPr/>
          <p:nvPr/>
        </p:nvPicPr>
        <p:blipFill>
          <a:blip r:embed="rId2"/>
          <a:stretch/>
        </p:blipFill>
        <p:spPr>
          <a:xfrm>
            <a:off x="4648320" y="3790800"/>
            <a:ext cx="4495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52280" y="93240"/>
            <a:ext cx="899136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4d"/>
                </a:solidFill>
                <a:latin typeface="Tahoma"/>
              </a:rPr>
              <a:t>Почва образуется очень медленно, 1 мм – 200 лет. А вот разрушить её можно очень быстро. За последние 100 лет на Земле уничтожена примерно ¼ часть всех плодородных земель.</a:t>
            </a:r>
            <a:r>
              <a:rPr b="0" lang="ru-RU" sz="2000" spc="-1" strike="noStrike">
                <a:solidFill>
                  <a:srgbClr val="0000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земля"/>
          <p:cNvPicPr/>
          <p:nvPr/>
        </p:nvPicPr>
        <p:blipFill>
          <a:blip r:embed="rId1"/>
          <a:stretch/>
        </p:blipFill>
        <p:spPr>
          <a:xfrm>
            <a:off x="1143000" y="1600200"/>
            <a:ext cx="678132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609480" y="1509480"/>
            <a:ext cx="807696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Все затронутые проблемы очень актуальны. И я надеюсь, что вы не будете безразличны в таких ситуациях, а придёте на помощь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Будем же беречь нашу Землю! Повсюду, на каждом шагу, все вместе и каждый в отдельности, другого нам не дано. Земля с её биосферой – величайшее чудо, она у нас одна. Завтрашний день Земли будет таким, каким мы его создадим сего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2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73"/>
                </a:solidFill>
                <a:latin typeface="Tahoma"/>
              </a:rPr>
              <a:t>Спасибо за внимание !</a:t>
            </a: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Международный день Земли_6"/>
          <p:cNvPicPr/>
          <p:nvPr/>
        </p:nvPicPr>
        <p:blipFill>
          <a:blip r:embed="rId1"/>
          <a:stretch/>
        </p:blipFill>
        <p:spPr>
          <a:xfrm>
            <a:off x="5486400" y="3124080"/>
            <a:ext cx="3428640" cy="342864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6248520" y="4267080"/>
            <a:ext cx="2114280" cy="761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az-Cyrl-AZ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День Земл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852"/>
          <p:cNvPicPr/>
          <p:nvPr/>
        </p:nvPicPr>
        <p:blipFill>
          <a:blip r:embed="rId2"/>
          <a:stretch/>
        </p:blipFill>
        <p:spPr>
          <a:xfrm>
            <a:off x="304920" y="380880"/>
            <a:ext cx="2204640" cy="2895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3124080" y="184680"/>
            <a:ext cx="563832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22 апреля </a:t>
            </a: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- Международный день Земли - праздник чистой Воды, Земли и Воздуха. День напоминания о страшных экологических катастрофах, день когда каждый человек может задуматься над тем, что он может сделать в решении экологических проблем, поборов равнодушие в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762120" y="3552840"/>
            <a:ext cx="395712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В этот день в разных странах звучит Колокол Мира, призывающий людей беречь мир и жизнь на Планете, способствовать дружбе и взаимопониманию всех на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572000"/>
            <a:ext cx="8457840" cy="213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Первый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Колокол Мира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был установлен в июне 1954 года в штаб-квартире ООН, в японском дворике. Он был отлит в Японии из монет, собранных детьми из 60 стран. Надпись на Колоколе гласит:</a:t>
            </a:r>
            <a:r>
              <a:rPr b="1" lang="ru-RU" sz="24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«Да здравствует всеобщий мир во всем мире».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Колокол Мира в Японии"/>
          <p:cNvPicPr/>
          <p:nvPr/>
        </p:nvPicPr>
        <p:blipFill>
          <a:blip r:embed="rId1"/>
          <a:stretch/>
        </p:blipFill>
        <p:spPr>
          <a:xfrm>
            <a:off x="1752480" y="304920"/>
            <a:ext cx="5562360" cy="41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895480" y="3048120"/>
            <a:ext cx="5866920" cy="33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80000"/>
              </a:lnSpc>
              <a:spcBef>
                <a:spcPts val="400"/>
              </a:spcBef>
            </a:pPr>
            <a:endParaRPr b="1" lang="ru-RU" sz="2000" spc="-1" strike="noStrike">
              <a:solidFill>
                <a:schemeClr val="hlink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394080" y="17280"/>
            <a:ext cx="57495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История этого праздника связана с именем жителя американского континента Джона Мортона. В конце 19 века Дж. Стерлинг Мортон переехал на пустынную территорию, на которые одинокие деревья усиленно вырубались на строительство домов и на дрова. Мортон предложил устроить день, посвященный озеленению, и учредить призы для тех, кто высадит большее количество деревьев. Этот день назвали Днем дер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стерлингш"/>
          <p:cNvPicPr/>
          <p:nvPr/>
        </p:nvPicPr>
        <p:blipFill>
          <a:blip r:embed="rId1"/>
          <a:stretch/>
        </p:blipFill>
        <p:spPr>
          <a:xfrm>
            <a:off x="1676520" y="3506760"/>
            <a:ext cx="5714640" cy="312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земля"/>
          <p:cNvPicPr/>
          <p:nvPr/>
        </p:nvPicPr>
        <p:blipFill>
          <a:blip r:embed="rId2"/>
          <a:stretch/>
        </p:blipFill>
        <p:spPr>
          <a:xfrm>
            <a:off x="533520" y="609480"/>
            <a:ext cx="24379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семирное движение</a:t>
            </a: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ece5e72ca04f4253f8c1179c14012c44"/>
          <p:cNvPicPr/>
          <p:nvPr/>
        </p:nvPicPr>
        <p:blipFill>
          <a:blip r:embed="rId1"/>
          <a:stretch/>
        </p:blipFill>
        <p:spPr>
          <a:xfrm>
            <a:off x="380880" y="1447920"/>
            <a:ext cx="4212720" cy="4200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257800" y="1922040"/>
            <a:ext cx="310968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В 1970 году свыше 20 млн человек в разных странах мира приняли участие в акции, которая получила название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День Земли</a:t>
            </a: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В 1990 году праздник стал международным, в акции участвовали уже 200 млн человек из 141 страны. В России День Земли отмечается с 1992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657600"/>
            <a:ext cx="8381520" cy="3200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 этот день все желающие принимают участие в благоустройстве и озеленении своих дворов и улиц, различных экологических мероприятиях, фестивалях и акциях. 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vf_25_2"/>
          <p:cNvPicPr/>
          <p:nvPr/>
        </p:nvPicPr>
        <p:blipFill>
          <a:blip r:embed="rId1"/>
          <a:stretch/>
        </p:blipFill>
        <p:spPr>
          <a:xfrm>
            <a:off x="4952880" y="152280"/>
            <a:ext cx="3657240" cy="2742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OINARUS-2006-238"/>
          <p:cNvPicPr/>
          <p:nvPr/>
        </p:nvPicPr>
        <p:blipFill>
          <a:blip r:embed="rId2"/>
          <a:stretch/>
        </p:blipFill>
        <p:spPr>
          <a:xfrm>
            <a:off x="533520" y="152280"/>
            <a:ext cx="3657240" cy="27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1066680" y="-914400"/>
            <a:ext cx="7295760" cy="20570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4980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z-Cyrl-AZ" sz="3600" spc="-1" strike="noStrike">
                <a:ln w="0">
                  <a:noFill/>
                </a:ln>
                <a:solidFill>
                  <a:srgbClr val="729fcf"/>
                </a:solidFill>
                <a:latin typeface="Arial"/>
              </a:rPr>
              <a:t>Экологические проблемы мира</a:t>
            </a:r>
            <a:endParaRPr b="0" lang="en-US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pic>
        <p:nvPicPr>
          <p:cNvPr id="101" name="Picture 4" descr="загрязнение воздуха"/>
          <p:cNvPicPr/>
          <p:nvPr/>
        </p:nvPicPr>
        <p:blipFill>
          <a:blip r:embed="rId1"/>
          <a:stretch/>
        </p:blipFill>
        <p:spPr>
          <a:xfrm>
            <a:off x="1676520" y="1371600"/>
            <a:ext cx="6400440" cy="3352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5"/>
          <p:cNvSpPr/>
          <p:nvPr/>
        </p:nvSpPr>
        <p:spPr>
          <a:xfrm>
            <a:off x="609480" y="4798080"/>
            <a:ext cx="838152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4d"/>
                </a:solidFill>
                <a:latin typeface="Arial"/>
              </a:rPr>
              <a:t>За год в атмосферу только одного углекислого газа выбрасывается 5 млрд. тонн. В результате возникает «парниковый эффект», истончается озоновый слой, появляются озоновые дыры. Постоянная озоновая «дыра» - над Антарктидой. Временами, то расширяющаяся, то уменьшающаяся – над Арктикой, Европой, Моск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240" cy="138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5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 эти «дыры» устремляются ультрафиолетовые лучи, от которых у людей возникают раковые заболевания. Кислорода на Земле становится всё меньше и меньше, а выхлопных газов автомобилей и различных отраслей промышленности всё больше и больше.</a:t>
            </a: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озон"/>
          <p:cNvPicPr/>
          <p:nvPr/>
        </p:nvPicPr>
        <p:blipFill>
          <a:blip r:embed="rId1"/>
          <a:stretch/>
        </p:blipFill>
        <p:spPr>
          <a:xfrm>
            <a:off x="685800" y="3809880"/>
            <a:ext cx="2971440" cy="275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оз"/>
          <p:cNvPicPr/>
          <p:nvPr/>
        </p:nvPicPr>
        <p:blipFill>
          <a:blip r:embed="rId2"/>
          <a:stretch/>
        </p:blipFill>
        <p:spPr>
          <a:xfrm>
            <a:off x="5715000" y="3809880"/>
            <a:ext cx="304776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990720" y="304920"/>
            <a:ext cx="7219440" cy="456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19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az-Cyrl-AZ" sz="3600" spc="-1" strike="noStrike">
                <a:ln w="0">
                  <a:noFill/>
                </a:ln>
                <a:solidFill>
                  <a:srgbClr val="00004d"/>
                </a:solidFill>
                <a:latin typeface="Arial"/>
              </a:rPr>
              <a:t>Экологические проблемы мира</a:t>
            </a:r>
            <a:endParaRPr b="0" lang="en-US" sz="3600" spc="-1" strike="noStrike">
              <a:ln w="0">
                <a:noFill/>
              </a:ln>
              <a:solidFill>
                <a:srgbClr val="00004d"/>
              </a:solidFill>
              <a:latin typeface="Arial"/>
            </a:endParaRPr>
          </a:p>
        </p:txBody>
      </p:sp>
      <p:pic>
        <p:nvPicPr>
          <p:cNvPr id="107" name="Picture 9" descr="мусор 3"/>
          <p:cNvPicPr/>
          <p:nvPr/>
        </p:nvPicPr>
        <p:blipFill>
          <a:blip r:embed="rId1"/>
          <a:stretch/>
        </p:blipFill>
        <p:spPr>
          <a:xfrm>
            <a:off x="1600200" y="990720"/>
            <a:ext cx="6248160" cy="3580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"/>
          <p:cNvSpPr/>
          <p:nvPr/>
        </p:nvSpPr>
        <p:spPr>
          <a:xfrm>
            <a:off x="228600" y="4650480"/>
            <a:ext cx="906732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004d"/>
                </a:solidFill>
                <a:latin typeface="Arial"/>
              </a:rPr>
              <a:t>Сегодняшнее население Земли – общество супер-потребителей. Подсчитано: на каждого из нас в год затрачивается 20 тонн сырья, правда, большая его часть – 97% - идёт в отходы. Мусор постепенно становится монстром цивил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кеан">
  <a:themeElements>
    <a:clrScheme name="Океан 1">
      <a:dk1>
        <a:srgbClr val="010199"/>
      </a:dk1>
      <a:lt1>
        <a:srgbClr val="ffffff"/>
      </a:lt1>
      <a:dk2>
        <a:srgbClr val="000099"/>
      </a:dk2>
      <a:lt2>
        <a:srgbClr val="ffffff"/>
      </a:lt2>
      <a:accent1>
        <a:srgbClr val="33cccc"/>
      </a:accent1>
      <a:accent2>
        <a:srgbClr val="00c600"/>
      </a:accent2>
      <a:accent3>
        <a:srgbClr val="aaaaca"/>
      </a:accent3>
      <a:accent4>
        <a:srgbClr val="dadada"/>
      </a:accent4>
      <a:accent5>
        <a:srgbClr val="ade2e2"/>
      </a:accent5>
      <a:accent6>
        <a:srgbClr val="00b300"/>
      </a:accent6>
      <a:hlink>
        <a:srgbClr val="ffcc00"/>
      </a:hlink>
      <a:folHlink>
        <a:srgbClr val="6699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cean</Template>
  <TotalTime>0</TotalTime>
  <Application>LibreOffice/7.4.7.2$Linux_X86_64 LibreOffice_project/40$Build-2</Application>
  <AppVersion>15.0000</AppVersion>
  <Words>642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/>
  <dc:description/>
  <dc:language>en-US</dc:language>
  <cp:lastModifiedBy>Natalia Petrina</cp:lastModifiedBy>
  <cp:lastPrinted>1601-01-01T00:00:00Z</cp:lastPrinted>
  <dcterms:modified xsi:type="dcterms:W3CDTF">2021-04-20T09:07:2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  <property fmtid="{D5CDD505-2E9C-101B-9397-08002B2CF9AE}" pid="4" name="Version">
    <vt:r8>1</vt:r8>
  </property>
</Properties>
</file>