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3BA-93F4-497D-8B52-FD28CD89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052-6269-4113-B18C-337E836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534-4FD3-41AD-B5B2-AA13F3A3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2BA-945C-4B3B-BD4E-DB16F457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83E6-298B-4960-AAFA-8821B583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4166-A4D8-4E7A-A9CF-805A8C57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A185-405A-4669-836E-64380F1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3B74-D163-4A5D-BD69-AC9F70A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8ED9-DE04-437D-9263-ACF810BE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D905-ABED-4336-979B-1BC2AED2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2F7E-EE06-466F-9CA8-50E1530C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CC6-411F-4864-81A1-053B00F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7E41-9079-456A-93D8-2FA36FB6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52F1-6D62-43F4-A054-36EA901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9FCC-A986-421F-AEFA-AABDCFA8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2C63-D91A-4265-B33E-9B921A88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6EAF-F726-43DC-9308-90C6BF80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D1BF-1F83-41B7-9465-AE6DEE1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390A-BEAC-4015-AA24-5D87DCAE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3FBF-7698-4E68-A3D7-30B8D94D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8B38-07EC-4A82-B942-B25C64E5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ADCE-A5C1-4178-B86A-F3D4F2EA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355-DFE7-4887-B0DA-0B8CF75A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BF45-B16E-42C7-AC77-7E1D5CE6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D78E-9C3A-473E-9F45-DE80B5E1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4E45-F606-4D54-AC11-3FB5CABB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489FE-B1A0-483E-9304-99623095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E820-2176-4641-BFAE-3F54DFF7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153E-FABC-48B4-97ED-D65A4E19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C7D4-D519-4254-9BEF-A87785AF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9D94-A116-4BF8-8ECA-639FE92B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4DB7-4D9D-4C60-98B7-E691F06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30FF-F10C-437D-9EAF-6995641D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05A-0870-48DB-84D6-523A642E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4DDA7-DE72-4426-8119-E7695736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6EC43-1FB7-456A-A42F-1D998FB3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72DE-F3F5-475C-B6E4-96677F1E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32C7-CBBD-405A-8397-547E5CAC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3F96-FD7C-4B07-A024-84BE618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0A654-58BF-45EA-BCDB-F82001B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2E61-46FA-41E9-8DD9-9C9EBFA6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2912-4FD8-46EA-9C98-4C115DAB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F47E-A8E0-456D-86B9-31D97A89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BA7-2A10-46AB-B569-FE9B0698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CE4-4B22-45F5-B453-433DB17F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ACA-ACB2-4415-9D4D-2F71539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617-A5BB-4DF3-8550-896F8C95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3D2-3A5C-4070-BBCA-09DB9BC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7BC7-6103-476C-A6DA-50614085EE3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A2AD-F1C1-4833-85C6-8327FA219D4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875F-F8B8-46DA-9D02-F89488DCA35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E08C-B9D2-401E-B4F7-6F74A8AE1F2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Управле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88920" y="1828800"/>
            <a:ext cx="739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Листва на деревьях; сохраняют листья; устлана листьями; выступают в изобилии;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в изобилии красок.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мык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88920" y="1828800"/>
            <a:ext cx="739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Давно облетела; еще сохраняют; ярко выступают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2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Ключ к тест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0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6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onstantia"/>
              </a:rPr>
              <a:t>1 согласование: легкий туман, обжигающий ветер, в свою юность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onstantia"/>
              </a:rPr>
              <a:t>2 управление: начать жизнь, кастрюля борща, рассуждающий о жизни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onstantia"/>
              </a:rPr>
              <a:t>3 примыкание: доносились издалека, запрещали летать, двинулся прихрамывая, двинулся навстречу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лександр Сергеевич  Пушк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Унылая пора! Очей очарованье!.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ылая пора! Очей очарованье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ятна мне твоя прощальная краса —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лю я пышное природы увяданье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багрец и в золото одетые лес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их сенях ветра шум и свежее дыханье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мглой волнистою покрыты небес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редкий солнца луч, и первые морозы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отдаленные седой зимы угроз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457200" y="835200"/>
            <a:ext cx="746748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свою работу на урок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 уроке я работал                                      активно / пасси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воей работой на уроке я                         доволен / не довол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Урок для меня показался                           коротким / длинны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 урок я                                                               не устал / уста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Мое настроение                                        стало лучше / стало хуж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Материал урока мне был                          понятен / не понят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полезен / бесполез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интересен / скуче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Microsoft Sans Serif"/>
              </a:rPr>
              <a:t>Повторение и обобщение знаний учащихся о словосочетании, видах словосочетаний, способах связи слов в словосочетан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Microsoft Sans Serif"/>
              </a:rPr>
              <a:t>Отработка умения определять способы связи слов в словосочетания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Microsoft Sans Serif"/>
              </a:rPr>
              <a:t>Закрепление навыков правопис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Microsoft Sans Serif"/>
              </a:rPr>
              <a:t>Подготовка к ОГЭ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609480" y="838080"/>
            <a:ext cx="8229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..тать книгу, сле..ка пр..к..снуться, га(л, лл)ереи и музеи, предл..жить помощь, очень хорош.., вчера и сегодня, к..сательная линия, (не)далеко от дома, с..деть прямо, слушать вн..мательно, не (по) летнему холодно, выб..рать подарок, обж..гающий жар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менны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8288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Mangal"/>
              </a:rPr>
              <a:t>касательная лини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Mangal"/>
              </a:rPr>
              <a:t>обжигающий жар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гольны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88920" y="1828800"/>
            <a:ext cx="716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ч</a:t>
            </a: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итать книгу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слегка прикоснуть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предложить помощ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сидеть прям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слушать внимательн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выбирать подаро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речны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993300"/>
                </a:solidFill>
                <a:latin typeface="Constantia"/>
              </a:rPr>
              <a:t>чень хорошо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onstantia"/>
              </a:rPr>
              <a:t>недалеко от дом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onstantia"/>
              </a:rPr>
              <a:t>не по-летнему холодно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609480"/>
          <a:ext cx="8229600" cy="5851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2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глас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а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имык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ИЗМЕНЯЕМАЯ ЧАСТЬ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 ИЗМЕ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АДЕЖ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дает нужный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дло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ре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епричас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фини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тоимения (ЕГЭ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еленый б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лая бе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ял руч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ял за руч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ел не спе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ворил улыбая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отел уч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3495c"/>
                </a:solidFill>
                <a:latin typeface="Calibri"/>
              </a:rPr>
              <a:t>Поздняя осень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61760" y="1143000"/>
            <a:ext cx="8380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Constantia"/>
              </a:rPr>
              <a:t>Осень, глубокая осень! Серое небо, низкие, тяжёлые, влажные облака. Голы и прозрачны становятся сады, рощи и лес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Constantia"/>
              </a:rPr>
              <a:t>Листва на старых деревьях давно облетела, и только молодые отдельные берёзки сохраняют ещё свои увядшие желтоватые листь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Constantia"/>
              </a:rPr>
              <a:t>Ярко выступают в этом изобилии красок вечнозелёные ели и сосн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Constantia"/>
              </a:rPr>
              <a:t>Устлана земля сухими разноцветными листь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ff"/>
                </a:solidFill>
                <a:latin typeface="Calibri"/>
              </a:rPr>
              <a:t>Согласование: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7016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убокая осень; серое небо; низкие, тяжелые, влажные облака; молодые березки; отдельные березки; свои листья; увядшие листья; желтоватые листья; вечнозеленые сосны и ели; сухими листьями; разноцветными листьями; в этом изобил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4:30:39Z</dcterms:created>
  <dc:creator>Максимова</dc:creator>
  <dc:description/>
  <dc:language>en-US</dc:language>
  <cp:lastModifiedBy>Галина Н. Петкус</cp:lastModifiedBy>
  <dcterms:modified xsi:type="dcterms:W3CDTF">2022-12-30T09:45:53Z</dcterms:modified>
  <cp:revision>39</cp:revision>
  <dc:subject/>
  <dc:title>Типы и виды словосочетаний</dc:title>
</cp:coreProperties>
</file>