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DA5-7ADC-4076-931A-7E4CE90C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4F2-C725-45EB-9FEE-25F17E21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F5C-4E0F-4036-9E64-C30F0FBD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836-0257-4CF7-BCEF-239767E5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E9F2-9954-41DB-AA1D-04B947F2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3352-162B-442F-AE3F-ACFDB79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E920-4E7C-4E9D-B740-F23352D7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08CE-3B03-4E74-89E1-25C01445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07B9-8DED-45CF-B5F4-81963A68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7013-1297-4BF3-BB9F-90339D1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0587-8441-4586-A168-B6CE3F96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4C0-3159-46FD-8A81-DFEBC0F2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9268-909B-49A8-96F8-62C93DBA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CD02-81CD-4F71-BB3D-86B27BF9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8356-C689-4894-A74B-49163CB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5487-E2E1-4E3F-B850-FAB89611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3000-6E29-4C02-86B1-38DD091D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9605C-F29B-456B-A116-E61A00E1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87DD-A5A1-4DA8-8CCE-48298024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827C-C870-4EEA-90DE-4BD60A06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2D3B-6FAC-469B-B483-75A32476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A3D1-4E70-450F-A078-50F7D613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A75-69A3-47D5-8243-406C8373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4671-E93D-4627-88AE-6197A69B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DF08-BCB7-4F02-953D-B5C0AFA8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F298-694A-4638-9153-6F151095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4CE8-4EDA-4454-BBD2-4D1E619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D351-3A96-461E-A73E-54CC8431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E546-A306-4358-A72F-C6F87695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B841-A8BA-4CB8-B37A-B9F3B50C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463D0-65C7-4483-8AAF-4D20F68E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D477-2C6B-4E6D-9678-68C5163B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80A3-2579-4862-96BE-9D993E0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8EC-35CE-4ECE-B5C6-CFB584A4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D365C-5C9C-4EBA-8E05-117ABE1C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912C-B23E-4DD5-90BC-F64B95E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FB1D-ED6E-4C50-A317-26FA7ECC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3E45-EAC1-42DF-9CC6-27AFBE29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A4F6-7C5A-48B5-BC74-1522985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82D58-B7D1-44CC-8597-B6A9EFD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62A5-F20B-40D0-AA68-EA953A72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2BEB-1A0A-4490-AF13-36240F87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67604-0451-4FDF-A62E-958625EE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A75-8CD6-4C48-9BC7-E5A15E2D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914-20A1-43E6-9CE4-DD024181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299-446D-4088-8CC7-6935E5D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A39-2A89-477E-86CC-04D2E0F8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39C-E288-436A-A312-2065C52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95D-86F1-4434-A4FE-E4786212EA9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1049-FC87-4AA5-BD65-092D2405C42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DEE1-559D-43C7-A9CE-4B17F4B0DAE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C6AF-D2F1-4E0C-B6AA-8CF473A855F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Управле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88920" y="1828800"/>
            <a:ext cx="739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Листва на деревьях; сохраняют листья; устлана листьями; выступают в изобилии;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в изобилии красок.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мык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88920" y="1828800"/>
            <a:ext cx="739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Давно облетела; еще сохраняют; ярко выступают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2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Ключ к тест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0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6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onstantia"/>
              </a:rPr>
              <a:t>1 согласование: легкий туман, обжигающий ветер, в свою юность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onstantia"/>
              </a:rPr>
              <a:t>2 управление: начать жизнь, кастрюля борща, рассуждающий о жизни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6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onstantia"/>
              </a:rPr>
              <a:t>3 примыкание: доносились издалека, запрещали летать, двинулся прихрамывая, двинулся навстречу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лександр Сергеевич  Пушк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Унылая пора! Очей очарованье!.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нылая пора! Очей очарованье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ятна мне твоя прощальная краса —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лю я пышное природы увяданье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багрец и в золото одетые лес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их сенях ветра шум и свежее дыханье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мглой волнистою покрыты небес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редкий солнца луч, и первые морозы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отдаленные седой зимы угроз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457200" y="835200"/>
            <a:ext cx="746748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свою работу на урок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 уроке я работал                                      активно / пасси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воей работой на уроке я                         доволен / не довол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Урок для меня показался                           коротким / длинны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 урок я                                                               не устал / уста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Мое настроение                                        стало лучше / стало хуж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Материал урока мне был                          понятен / не понят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полезен / бесполез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интересен / скуче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и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Microsoft Sans Serif"/>
              </a:rPr>
              <a:t>Повторение и обобщение знаний учащихся о словосочетании, видах словосочетаний, способах связи слов в словосочетан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Microsoft Sans Serif"/>
              </a:rPr>
              <a:t>Отработка умения определять способы связи слов в словосочетания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Microsoft Sans Serif"/>
              </a:rPr>
              <a:t>Закрепление навыков правопис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Microsoft Sans Serif"/>
              </a:rPr>
              <a:t>Подготовка к ОГЭ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609480" y="838080"/>
            <a:ext cx="8229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..тать книгу, сле..ка пр..к..снуться, га(л, лл)ереи и музеи, предл..жить помощь, очень хорош.., вчера и сегодня, к..сательная линия, (не)далеко от дома, с..деть прямо, слушать вн..мательно, не (по) летнему холодно, выб..рать подарок, обж..гающий жар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менны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8288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Mangal"/>
              </a:rPr>
              <a:t>касательная линия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Mangal"/>
              </a:rPr>
              <a:t>обжигающий жар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гольны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88920" y="1828800"/>
            <a:ext cx="716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ч</a:t>
            </a: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итать книгу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слегка прикоснуть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предложить помощ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сидеть прям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слушать внимательн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Constantia"/>
              </a:rPr>
              <a:t>выбирать подаро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речны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993300"/>
                </a:solidFill>
                <a:latin typeface="Constantia"/>
              </a:rPr>
              <a:t>чень хорошо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onstantia"/>
              </a:rPr>
              <a:t>недалеко от дом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onstantia"/>
              </a:rPr>
              <a:t>не по-летнему холодно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609480"/>
          <a:ext cx="8229600" cy="5851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2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глас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а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имык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ИЗМЕНЯЕМАЯ ЧАСТЬ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 ИЗМЕ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АДЕЖ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дает нужный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едло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ре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еепричас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фини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стоимения (ЕГЭ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еленый б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лая бе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ял руч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зял за руч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ел не спе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ворил улыбая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отел уч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3495c"/>
                </a:solidFill>
                <a:latin typeface="Calibri"/>
              </a:rPr>
              <a:t>Поздняя осень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61760" y="1143000"/>
            <a:ext cx="8380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Constantia"/>
              </a:rPr>
              <a:t>Осень, глубокая осень! Серое небо, низкие, тяжёлые, влажные облака. Голы и прозрачны становятся сады, рощи и лес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Constantia"/>
              </a:rPr>
              <a:t>Листва на старых деревьях давно облетела, и только молодые отдельные берёзки сохраняют ещё свои увядшие желтоватые листь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Constantia"/>
              </a:rPr>
              <a:t>Ярко выступают в этом изобилии красок вечнозелёные ели и сосн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Constantia"/>
              </a:rPr>
              <a:t>Устлана земля сухими разноцветными листь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ff"/>
                </a:solidFill>
                <a:latin typeface="Calibri"/>
              </a:rPr>
              <a:t>Согласование: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7016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убокая осень; серое небо; низкие, тяжелые, влажные облака; молодые березки; отдельные березки; свои листья; увядшие листья; желтоватые листья; вечнозеленые сосны и ели; сухими листьями; разноцветными листьями; в этом изобил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4:30:39Z</dcterms:created>
  <dc:creator>Максимова</dc:creator>
  <dc:description/>
  <dc:language>en-US</dc:language>
  <cp:lastModifiedBy>Галина Н. Петкус</cp:lastModifiedBy>
  <dcterms:modified xsi:type="dcterms:W3CDTF">2022-12-30T09:45:53Z</dcterms:modified>
  <cp:revision>39</cp:revision>
  <dc:subject/>
  <dc:title>Типы и виды словосочетаний</dc:title>
</cp:coreProperties>
</file>