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A01-497B-4FB6-B843-0C21C851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78E-6EBD-4754-8196-A5758E48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4B1-0595-41A4-B519-B21D37AA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D0E-E84F-4723-9058-E7FDE1E7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6B0B-A97E-4A59-BD91-79BF487E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2757-E1CE-4EC5-9730-BDBBA7B0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9B79-D534-4D14-A61A-1CB8101D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75E1-6EE5-46AC-A26D-3C4616AD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FAB7-09D6-46F0-8948-C145CA2C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7A44-7BBC-4870-BCF6-60BBF0A4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8EA1-130C-4CDA-A4AC-21E58E1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7BC-EB0D-481B-AADE-B350D290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950F-88D0-49F8-86B1-C1133E11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DF7D-DE91-4D07-BE1B-35E803B8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61DA-6B50-4685-85B7-D890BDBE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E071-FE95-4DE6-A7C9-1E355733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4021-F04E-4BFE-93D6-BAA50A49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526-742D-457A-B30C-C7ADDADE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4A4-9BCE-4AFE-8FC7-EBF883A8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722-49FE-42EA-8061-DAB98055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EE2-B3B6-4AD0-AB1A-23F83296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9E1-7C44-4D43-846D-123E7541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C88-FE50-4E2A-8CAD-1539AB7F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576-D423-4FD1-95B5-18BAFC5A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A5EE-A0F7-4937-BF79-5DF31E418B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2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D1DD-50E1-4AB1-9D2F-7131E7D0CB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4" descr="balloons17"/>
          <p:cNvPicPr/>
          <p:nvPr/>
        </p:nvPicPr>
        <p:blipFill>
          <a:blip r:embed="rId1"/>
          <a:stretch/>
        </p:blipFill>
        <p:spPr>
          <a:xfrm>
            <a:off x="684360" y="260280"/>
            <a:ext cx="1747800" cy="3406680"/>
          </a:xfrm>
          <a:prstGeom prst="rect">
            <a:avLst/>
          </a:prstGeom>
          <a:ln w="0">
            <a:noFill/>
          </a:ln>
        </p:spPr>
      </p:pic>
      <p:sp>
        <p:nvSpPr>
          <p:cNvPr id="86" name="WordArt 27"/>
          <p:cNvSpPr txBox="1"/>
          <p:nvPr/>
        </p:nvSpPr>
        <p:spPr>
          <a:xfrm rot="20752200">
            <a:off x="611280" y="2276280"/>
            <a:ext cx="7775640" cy="20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 А Р Е Ч И Е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7" name="Picture 28" descr="balloons17"/>
          <p:cNvPicPr/>
          <p:nvPr/>
        </p:nvPicPr>
        <p:blipFill>
          <a:blip r:embed="rId2"/>
          <a:stretch/>
        </p:blipFill>
        <p:spPr>
          <a:xfrm>
            <a:off x="6732720" y="3141720"/>
            <a:ext cx="17478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ой словарь и найди  слова, которые НЕ являются существительными, глаголами, прилагательны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авь к ним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обозначают эти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5300640"/>
            <a:ext cx="3384720" cy="1368360"/>
          </a:xfrm>
          <a:prstGeom prst="cloudCallout">
            <a:avLst>
              <a:gd name="adj1" fmla="val 65046"/>
              <a:gd name="adj2" fmla="val -9362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Время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Oval 3"/>
          <p:cNvSpPr/>
          <p:nvPr/>
        </p:nvSpPr>
        <p:spPr>
          <a:xfrm>
            <a:off x="2987640" y="3716280"/>
            <a:ext cx="3276720" cy="1441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6084720" y="1916280"/>
            <a:ext cx="2743200" cy="1512720"/>
          </a:xfrm>
          <a:prstGeom prst="cloudCallout">
            <a:avLst>
              <a:gd name="adj1" fmla="val -68578"/>
              <a:gd name="adj2" fmla="val 675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Место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6084720" y="4941720"/>
            <a:ext cx="2951280" cy="1727280"/>
          </a:xfrm>
          <a:prstGeom prst="cloudCallout">
            <a:avLst>
              <a:gd name="adj1" fmla="val -80907"/>
              <a:gd name="adj2" fmla="val -618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Образ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179280" y="3068640"/>
            <a:ext cx="2743200" cy="1295280"/>
          </a:xfrm>
          <a:prstGeom prst="cloudCallout">
            <a:avLst>
              <a:gd name="adj1" fmla="val 60648"/>
              <a:gd name="adj2" fmla="val 14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Степень качества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132000" y="4076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РЕЧИЕ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18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Что такое наречие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964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ареч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самостоятельная часть речи, которая отвечает на вопросы: как? куда? когда? откуда? зачем? где? в какой степени?                                и обозначает признак действия или признак призна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50920" y="3284640"/>
            <a:ext cx="86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о, вдребезги, вдруг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гда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годня, рано, сейчас, потом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дали, наверху, слева, справа, вблизи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уда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мой, направо, вниз, налево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ткуда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али, оттуда, справа, свысока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чему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горяча, сослепу, поневоле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чем?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очно, назло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какой степени?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шком, вполне, довольно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4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63640" y="1483920"/>
            <a:ext cx="4753080" cy="4969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ba4212"/>
            </a:solidFill>
            <a:prstDash val="dash"/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покойно и важ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Идёт по перр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 большим чемод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Большая во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А рядом с воро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Чуть сзади и сб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Её, провожая, шагает со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И всё б это бы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овсем хорош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Если б их поез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Давно не ушё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395280" y="260280"/>
            <a:ext cx="821520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561f08"/>
                    </a:gs>
                    <a:gs pos="50000">
                      <a:srgbClr val="ba4212"/>
                    </a:gs>
                    <a:gs pos="100000">
                      <a:srgbClr val="561f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Lucida Console"/>
              </a:rPr>
              <a:t>Найди наречия,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561f08"/>
                  </a:gs>
                  <a:gs pos="50000">
                    <a:srgbClr val="ba4212"/>
                  </a:gs>
                  <a:gs pos="100000">
                    <a:srgbClr val="561f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Lucida Console"/>
              <a:ea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561f08"/>
                    </a:gs>
                    <a:gs pos="50000">
                      <a:srgbClr val="ba4212"/>
                    </a:gs>
                    <a:gs pos="100000">
                      <a:srgbClr val="561f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Lucida Console"/>
              </a:rPr>
              <a:t>выпиши их в тетрадь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561f08"/>
                  </a:gs>
                  <a:gs pos="50000">
                    <a:srgbClr val="ba4212"/>
                  </a:gs>
                  <a:gs pos="100000">
                    <a:srgbClr val="561f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100" name="Picture 6" descr="72764692"/>
          <p:cNvPicPr/>
          <p:nvPr/>
        </p:nvPicPr>
        <p:blipFill>
          <a:blip r:embed="rId2"/>
          <a:srcRect l="15756" t="8646" r="24012" b="0"/>
          <a:stretch/>
        </p:blipFill>
        <p:spPr>
          <a:xfrm>
            <a:off x="324000" y="1557360"/>
            <a:ext cx="27702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5"/>
          <p:cNvSpPr txBox="1"/>
          <p:nvPr/>
        </p:nvSpPr>
        <p:spPr>
          <a:xfrm>
            <a:off x="457200" y="38088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ccff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де наречие?</a:t>
            </a:r>
            <a:endParaRPr b="1" i="1" lang="en-US" sz="44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ccff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0920" y="1268280"/>
            <a:ext cx="4495680" cy="541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333399"/>
            </a:solidFill>
            <a:prstDash val="dash"/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Тепло, светл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пальто, легк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седло, метк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сладко, гладк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решето, бревн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красиво, умел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ведро, заметн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близко, звено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648320" y="1268280"/>
            <a:ext cx="4244760" cy="541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333399"/>
            </a:solidFill>
            <a:prstDash val="dash"/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Тепло, светло, легко,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сладко, гладко, 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красиво, умело, заметн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близко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39:48Z</dcterms:created>
  <dc:creator>Учитель</dc:creator>
  <dc:description/>
  <dc:language>en-US</dc:language>
  <cp:lastModifiedBy>PC</cp:lastModifiedBy>
  <dcterms:modified xsi:type="dcterms:W3CDTF">2022-05-02T09:06:03Z</dcterms:modified>
  <cp:revision>42</cp:revision>
  <dc:subject/>
  <dc:title>НАРЕЧИЕ</dc:title>
</cp:coreProperties>
</file>