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23F-7D50-41A4-A130-1B083663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F0C-AA78-43F3-A61D-3CD911CA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09F-CA0F-4177-BF4F-2A80D22B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22D-79FB-434F-89AD-102B5EDC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6C39-3298-4C9C-BD9C-809296E3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AEB4-E8D0-4C3F-89AE-9044E417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72B8-F494-4FBD-B9AF-C383D393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1B26-676C-446F-B1F9-8A41E819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2A80-FD6B-40E0-A7E4-A44930C0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BC83-DA72-46FF-8057-8F28E0CC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F97B-045C-4BE7-986F-F0B14919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0DD-E95E-4B9A-8FEA-085B128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F028-1CCB-4297-A2B6-A28CBC6E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9A43-4EFE-4E84-B8CE-808BD78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B5E5-5337-433F-A0DA-54F52EC1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D00C-4DEC-4B84-933F-767BAED5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5C33-ABB4-4487-8FE3-913BF765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726-1E95-4DD2-B6DF-7E91CFC8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5DC-1400-4E49-A1F6-C1465581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CF3-2AFA-4788-B61E-06C6C534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A0E-803D-49F2-A8FF-1ABF6CA6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FFB-DB4A-445E-9733-01A26C8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EBF-5B18-4C37-BE5E-D78E4BA8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9D6-AF03-4056-8DBA-3526CC15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9EF2-7CFA-4813-AD84-126C02C3F9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2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4D86-8D12-4728-AB24-808AC2C097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4" descr="balloons17"/>
          <p:cNvPicPr/>
          <p:nvPr/>
        </p:nvPicPr>
        <p:blipFill>
          <a:blip r:embed="rId1"/>
          <a:stretch/>
        </p:blipFill>
        <p:spPr>
          <a:xfrm>
            <a:off x="684360" y="260280"/>
            <a:ext cx="1747800" cy="3406680"/>
          </a:xfrm>
          <a:prstGeom prst="rect">
            <a:avLst/>
          </a:prstGeom>
          <a:ln w="0">
            <a:noFill/>
          </a:ln>
        </p:spPr>
      </p:pic>
      <p:sp>
        <p:nvSpPr>
          <p:cNvPr id="86" name="WordArt 27"/>
          <p:cNvSpPr txBox="1"/>
          <p:nvPr/>
        </p:nvSpPr>
        <p:spPr>
          <a:xfrm rot="20752200">
            <a:off x="611280" y="2276280"/>
            <a:ext cx="7775640" cy="20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 А Р Е Ч И Е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7" name="Picture 28" descr="balloons17"/>
          <p:cNvPicPr/>
          <p:nvPr/>
        </p:nvPicPr>
        <p:blipFill>
          <a:blip r:embed="rId2"/>
          <a:stretch/>
        </p:blipFill>
        <p:spPr>
          <a:xfrm>
            <a:off x="6732720" y="3141720"/>
            <a:ext cx="17478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ой словарь и найди  слова, которые НЕ являются существительными, глаголами, прилагательны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авь к ним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обозначают эти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5300640"/>
            <a:ext cx="3384720" cy="1368360"/>
          </a:xfrm>
          <a:prstGeom prst="cloudCallout">
            <a:avLst>
              <a:gd name="adj1" fmla="val 65046"/>
              <a:gd name="adj2" fmla="val -9362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Время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Oval 3"/>
          <p:cNvSpPr/>
          <p:nvPr/>
        </p:nvSpPr>
        <p:spPr>
          <a:xfrm>
            <a:off x="2987640" y="3716280"/>
            <a:ext cx="3276720" cy="1441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6084720" y="1916280"/>
            <a:ext cx="2743200" cy="1512720"/>
          </a:xfrm>
          <a:prstGeom prst="cloudCallout">
            <a:avLst>
              <a:gd name="adj1" fmla="val -68578"/>
              <a:gd name="adj2" fmla="val 675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Место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6084720" y="4941720"/>
            <a:ext cx="2951280" cy="1727280"/>
          </a:xfrm>
          <a:prstGeom prst="cloudCallout">
            <a:avLst>
              <a:gd name="adj1" fmla="val -80907"/>
              <a:gd name="adj2" fmla="val -618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Образ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179280" y="3068640"/>
            <a:ext cx="2743200" cy="1295280"/>
          </a:xfrm>
          <a:prstGeom prst="cloudCallout">
            <a:avLst>
              <a:gd name="adj1" fmla="val 60648"/>
              <a:gd name="adj2" fmla="val 14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Степень качества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132000" y="4076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РЕЧИЕ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18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Что такое наречие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964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ареч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самостоятельная часть речи, которая отвечает на вопросы: как? куда? когда? откуда? зачем? где? в какой степени?                                и обозначает признак действия или признак призна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50920" y="3284640"/>
            <a:ext cx="86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о, вдребезги, вдруг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гда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годня, рано, сейчас, потом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дали, наверху, слева, справа, вблизи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уда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мой, направо, вниз, налево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ткуда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али, оттуда, справа, свысока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чему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горяча, сослепу, поневоле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чем?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очно, назло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какой степени?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шком, вполне, довольно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63640" y="1483920"/>
            <a:ext cx="4753080" cy="4969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ba4212"/>
            </a:solidFill>
            <a:prstDash val="dash"/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покойно и важ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Идёт по перр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 большим чемод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Большая во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А рядом с воро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Чуть сзади и сб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Её, провожая, шагает со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И всё б это бы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овсем хорош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Если б их поез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Давно не ушё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395280" y="260280"/>
            <a:ext cx="821520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561f08"/>
                    </a:gs>
                    <a:gs pos="50000">
                      <a:srgbClr val="ba4212"/>
                    </a:gs>
                    <a:gs pos="100000">
                      <a:srgbClr val="561f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Lucida Console"/>
              </a:rPr>
              <a:t>Найди наречия,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561f08"/>
                  </a:gs>
                  <a:gs pos="50000">
                    <a:srgbClr val="ba4212"/>
                  </a:gs>
                  <a:gs pos="100000">
                    <a:srgbClr val="561f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Lucida Console"/>
              <a:ea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561f08"/>
                    </a:gs>
                    <a:gs pos="50000">
                      <a:srgbClr val="ba4212"/>
                    </a:gs>
                    <a:gs pos="100000">
                      <a:srgbClr val="561f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Lucida Console"/>
              </a:rPr>
              <a:t>выпиши их в тетрадь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561f08"/>
                  </a:gs>
                  <a:gs pos="50000">
                    <a:srgbClr val="ba4212"/>
                  </a:gs>
                  <a:gs pos="100000">
                    <a:srgbClr val="561f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100" name="Picture 6" descr="72764692"/>
          <p:cNvPicPr/>
          <p:nvPr/>
        </p:nvPicPr>
        <p:blipFill>
          <a:blip r:embed="rId2"/>
          <a:srcRect l="15756" t="8646" r="24012" b="0"/>
          <a:stretch/>
        </p:blipFill>
        <p:spPr>
          <a:xfrm>
            <a:off x="324000" y="1557360"/>
            <a:ext cx="27702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5"/>
          <p:cNvSpPr txBox="1"/>
          <p:nvPr/>
        </p:nvSpPr>
        <p:spPr>
          <a:xfrm>
            <a:off x="457200" y="38088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ccff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де наречие?</a:t>
            </a:r>
            <a:endParaRPr b="1" i="1" lang="en-US" sz="44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ccff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0920" y="1268280"/>
            <a:ext cx="4495680" cy="541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333399"/>
            </a:solidFill>
            <a:prstDash val="dash"/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Тепло, светл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пальто, легк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седло, метк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сладко, гладк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решето, бревн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красиво, умел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ведро, заметн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близко, звено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648320" y="1268280"/>
            <a:ext cx="4244760" cy="541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333399"/>
            </a:solidFill>
            <a:prstDash val="dash"/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Тепло, светло, легко,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сладко, гладко, 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красиво, умело, заметно, 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близко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39:48Z</dcterms:created>
  <dc:creator>Учитель</dc:creator>
  <dc:description/>
  <dc:language>en-US</dc:language>
  <cp:lastModifiedBy>PC</cp:lastModifiedBy>
  <dcterms:modified xsi:type="dcterms:W3CDTF">2022-05-02T09:06:03Z</dcterms:modified>
  <cp:revision>42</cp:revision>
  <dc:subject/>
  <dc:title>НАРЕЧИЕ</dc:title>
</cp:coreProperties>
</file>