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713C-C8B2-4D4C-9368-97390935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34D-EA76-4A77-8A49-731DAA9C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316-7EAD-46D8-BAB4-670005A1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53C-9D56-43F6-8A70-EF533F22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B6F-CEE4-49A0-9559-9C9C47F6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10BE-F15D-4FB1-87F7-D419502C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396-FD18-45D1-B564-974609DB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E16-55FB-43B8-844F-DDE9A6DF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671B-36BE-458A-8A11-53A83657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ECA7-359E-430D-8756-52CA74D0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D1CC-92E7-4C2E-ACF4-6BE1C2B2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744-BA96-490B-94E8-97A4E67B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2FBC-65F8-4CFB-9214-8A4489B10F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4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9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9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0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1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3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4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6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1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47640" y="260280"/>
            <a:ext cx="63374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1"/>
          <a:stretch/>
        </p:blipFill>
        <p:spPr>
          <a:xfrm>
            <a:off x="0" y="1197000"/>
            <a:ext cx="4214880" cy="44640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4429080" y="612720"/>
            <a:ext cx="450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центре герба изображена птица Хумо с простертыми крыльями - в узбекской мифологии символ счастья и свободолюбия. Узбекский поэт Алишер Навои характеризовал птицу Хумо как самое доброе из всех живых сущест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верхней части герба находится восьмигранник, символизирующий утверждение республики, внутри - полумесяц со звездой. Изображение солнца символизирует свет, озаряющий путь узбекского государства. Две реки, изображенные под птицей, - это Амударья и Сырдарья. Колосья являются символом хлеба, стебли с раскрытыми коробочками хлопка характеризуют главное богатство Узбекистана. Вместе, колосья и коробочки хлопка, перевитые лентой Государственного флага, символизируют консолидацию народов, проживающих в республик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2071800" y="357120"/>
            <a:ext cx="35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30e58"/>
                </a:solidFill>
                <a:latin typeface="Times New Roman"/>
              </a:rPr>
              <a:t>Герб Узбекиста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0" y="1143000"/>
            <a:ext cx="4214880" cy="4464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0" y="1285920"/>
            <a:ext cx="4367160" cy="4464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"/>
          <p:cNvPicPr/>
          <p:nvPr/>
        </p:nvPicPr>
        <p:blipFill>
          <a:blip r:embed="rId4"/>
          <a:stretch/>
        </p:blipFill>
        <p:spPr>
          <a:xfrm>
            <a:off x="152280" y="1438200"/>
            <a:ext cx="43671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2-cotton.jpg"/>
          <p:cNvPicPr/>
          <p:nvPr/>
        </p:nvPicPr>
        <p:blipFill>
          <a:blip r:embed="rId2"/>
          <a:stretch/>
        </p:blipFill>
        <p:spPr>
          <a:xfrm>
            <a:off x="324000" y="549360"/>
            <a:ext cx="5543280" cy="5832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6012000" y="1916280"/>
            <a:ext cx="291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дущие страны, которые выращивают хлопок – это Индия, Узбекистан, США, Бразилия, Пакист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870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3897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1226322381_cotton1.jpg"/>
          <p:cNvPicPr/>
          <p:nvPr/>
        </p:nvPicPr>
        <p:blipFill>
          <a:blip r:embed="rId2"/>
          <a:stretch/>
        </p:blipFill>
        <p:spPr>
          <a:xfrm>
            <a:off x="0" y="476280"/>
            <a:ext cx="5867280" cy="614052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6012000" y="1484280"/>
            <a:ext cx="288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тение это очень капризное, ему нужно много тепла, света, удобрений. Оно не  выносит тени, чуть приморозит, задует ветром – урожая не ж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1875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2581594020089334789adKhwt_ph.jpg"/>
          <p:cNvPicPr/>
          <p:nvPr/>
        </p:nvPicPr>
        <p:blipFill>
          <a:blip r:embed="rId2"/>
          <a:stretch/>
        </p:blipFill>
        <p:spPr>
          <a:xfrm>
            <a:off x="324000" y="404640"/>
            <a:ext cx="5832360" cy="604872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6300720" y="2060640"/>
            <a:ext cx="25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веты хлопчатника- крупные, белого, желтого или кремового цв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6054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575640" cy="7101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2094526510089334789VPQGcf_ph.jpg"/>
          <p:cNvPicPr/>
          <p:nvPr/>
        </p:nvPicPr>
        <p:blipFill>
          <a:blip r:embed="rId2"/>
          <a:stretch/>
        </p:blipFill>
        <p:spPr>
          <a:xfrm>
            <a:off x="395280" y="549360"/>
            <a:ext cx="5832360" cy="61196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6407280" y="278136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од – коробочка, разделен на 3-5 гнез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4794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Содержимое 8" descr="4.jpg"/>
          <p:cNvPicPr/>
          <p:nvPr/>
        </p:nvPicPr>
        <p:blipFill>
          <a:blip r:embed="rId1"/>
          <a:stretch/>
        </p:blipFill>
        <p:spPr>
          <a:xfrm>
            <a:off x="395280" y="692280"/>
            <a:ext cx="5689440" cy="5832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green-abstract-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6156360" y="1989000"/>
            <a:ext cx="273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каждом гнезде от 5до11 семян. На каждом семени развивается от 5до 15 тысяч волокон длиной 3-5см. Ради этих волокон и выращивают хлопчатн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8" descr="4.jpg"/>
          <p:cNvPicPr/>
          <p:nvPr/>
        </p:nvPicPr>
        <p:blipFill>
          <a:blip r:embed="rId4"/>
          <a:stretch/>
        </p:blipFill>
        <p:spPr>
          <a:xfrm>
            <a:off x="179280" y="844560"/>
            <a:ext cx="5832720" cy="58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4892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[wallcoo]_flower_photography_A085071.jpg"/>
          <p:cNvPicPr/>
          <p:nvPr/>
        </p:nvPicPr>
        <p:blipFill>
          <a:blip r:embed="rId2"/>
          <a:stretch/>
        </p:blipFill>
        <p:spPr>
          <a:xfrm>
            <a:off x="395280" y="476280"/>
            <a:ext cx="5899320" cy="5905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6443640" y="1844640"/>
            <a:ext cx="244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обочки созревают не одновременно, поэтому хлопок собирают в 3-4 прие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7212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pima_cotton_wh-is.jpg"/>
          <p:cNvPicPr/>
          <p:nvPr/>
        </p:nvPicPr>
        <p:blipFill>
          <a:blip r:embed="rId2"/>
          <a:stretch/>
        </p:blipFill>
        <p:spPr>
          <a:xfrm>
            <a:off x="468360" y="620640"/>
            <a:ext cx="5398920" cy="59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6012000" y="2205000"/>
            <a:ext cx="28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борку хлопка начинают, когда коробочка лопнет и из нее покажется белое, пушистое волок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8695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482794AD-E00E-44CC-A2D6-031D36A38474_mw800_mh600_s.jpg"/>
          <p:cNvPicPr/>
          <p:nvPr/>
        </p:nvPicPr>
        <p:blipFill>
          <a:blip r:embed="rId2"/>
          <a:stretch/>
        </p:blipFill>
        <p:spPr>
          <a:xfrm>
            <a:off x="250920" y="476280"/>
            <a:ext cx="5473440" cy="60753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5867280" y="234936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бирать хлопок под палящим солнцем очень труд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483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post-3374-1197574190_thumb.jpg"/>
          <p:cNvPicPr/>
          <p:nvPr/>
        </p:nvPicPr>
        <p:blipFill>
          <a:blip r:embed="rId2"/>
          <a:stretch/>
        </p:blipFill>
        <p:spPr>
          <a:xfrm>
            <a:off x="395280" y="476280"/>
            <a:ext cx="5689440" cy="5905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6156360" y="2421000"/>
            <a:ext cx="29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 сборщиков облегчают хлопкоуборочные маши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5059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A88DE706-8823-4D2F-9AEA-C7E7E6B2927F_mw800_mh600.jpg"/>
          <p:cNvPicPr/>
          <p:nvPr/>
        </p:nvPicPr>
        <p:blipFill>
          <a:blip r:embed="rId2"/>
          <a:stretch/>
        </p:blipFill>
        <p:spPr>
          <a:xfrm>
            <a:off x="250920" y="333360"/>
            <a:ext cx="5400720" cy="6120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5724360" y="1916280"/>
            <a:ext cx="31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бранный урожай  отправляют на хлопкоочистительный завод, где хлопок очищают от веток, листьев и другого с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947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5"/>
          <p:cNvSpPr/>
          <p:nvPr/>
        </p:nvSpPr>
        <p:spPr>
          <a:xfrm>
            <a:off x="3529080" y="21420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 Узбекиста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11472436222919.jpg"/>
          <p:cNvPicPr/>
          <p:nvPr/>
        </p:nvPicPr>
        <p:blipFill>
          <a:blip r:embed="rId2"/>
          <a:stretch/>
        </p:blipFill>
        <p:spPr>
          <a:xfrm>
            <a:off x="539640" y="549360"/>
            <a:ext cx="5616720" cy="5904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6372360" y="1341360"/>
            <a:ext cx="252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ле очистки пресованный хлопок отправляют на прядильные фабрики, где из него делают нит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746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tkatckij_tceh_3.jpg"/>
          <p:cNvPicPr/>
          <p:nvPr/>
        </p:nvPicPr>
        <p:blipFill>
          <a:blip r:embed="rId2"/>
          <a:stretch/>
        </p:blipFill>
        <p:spPr>
          <a:xfrm>
            <a:off x="468360" y="549360"/>
            <a:ext cx="5543640" cy="59752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"/>
          <p:cNvSpPr/>
          <p:nvPr/>
        </p:nvSpPr>
        <p:spPr>
          <a:xfrm>
            <a:off x="6084720" y="170028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тем пряжу хлопка отправляют на ткацкие фабрики, где из нее делают тка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681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ыы.jpg"/>
          <p:cNvPicPr/>
          <p:nvPr/>
        </p:nvPicPr>
        <p:blipFill>
          <a:blip r:embed="rId2"/>
          <a:stretch/>
        </p:blipFill>
        <p:spPr>
          <a:xfrm>
            <a:off x="324000" y="404640"/>
            <a:ext cx="5400360" cy="60487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6012000" y="2205000"/>
            <a:ext cx="28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лопковая ткань лидирует по популярности во всем ми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4957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g1865118092.jpg"/>
          <p:cNvPicPr/>
          <p:nvPr/>
        </p:nvPicPr>
        <p:blipFill>
          <a:blip r:embed="rId2"/>
          <a:stretch/>
        </p:blipFill>
        <p:spPr>
          <a:xfrm>
            <a:off x="395280" y="549360"/>
            <a:ext cx="2265480" cy="25192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5" descr="www.ukrbiznes.com.jpg"/>
          <p:cNvPicPr/>
          <p:nvPr/>
        </p:nvPicPr>
        <p:blipFill>
          <a:blip r:embed="rId3"/>
          <a:stretch/>
        </p:blipFill>
        <p:spPr>
          <a:xfrm>
            <a:off x="3059280" y="549360"/>
            <a:ext cx="2376360" cy="25192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6" descr="ее.jpg"/>
          <p:cNvPicPr/>
          <p:nvPr/>
        </p:nvPicPr>
        <p:blipFill>
          <a:blip r:embed="rId4"/>
          <a:stretch/>
        </p:blipFill>
        <p:spPr>
          <a:xfrm>
            <a:off x="3132000" y="4005360"/>
            <a:ext cx="2232000" cy="2448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7" descr="1042982298_1.jpg"/>
          <p:cNvPicPr/>
          <p:nvPr/>
        </p:nvPicPr>
        <p:blipFill>
          <a:blip r:embed="rId5"/>
          <a:stretch/>
        </p:blipFill>
        <p:spPr>
          <a:xfrm>
            <a:off x="324000" y="3933720"/>
            <a:ext cx="2376360" cy="25416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8"/>
          <p:cNvSpPr/>
          <p:nvPr/>
        </p:nvSpPr>
        <p:spPr>
          <a:xfrm>
            <a:off x="5651640" y="2781360"/>
            <a:ext cx="316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 хлопка делают искуственую кожу, фетр, пластмассу, фотопленку, бумагу, лаки для метал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834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lopkovoe_maslo.jpg"/>
          <p:cNvPicPr/>
          <p:nvPr/>
        </p:nvPicPr>
        <p:blipFill>
          <a:blip r:embed="rId2"/>
          <a:stretch/>
        </p:blipFill>
        <p:spPr>
          <a:xfrm>
            <a:off x="250920" y="260280"/>
            <a:ext cx="5041800" cy="62643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580000" y="2421000"/>
            <a:ext cx="33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сло, порох, деньги, строительные материалы. Всего свыше 1200 наимено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8299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" descr="pressa_1446.jpg"/>
          <p:cNvPicPr/>
          <p:nvPr/>
        </p:nvPicPr>
        <p:blipFill>
          <a:blip r:embed="rId2"/>
          <a:stretch/>
        </p:blipFill>
        <p:spPr>
          <a:xfrm>
            <a:off x="395280" y="549360"/>
            <a:ext cx="5761080" cy="58323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5"/>
          <p:cNvSpPr/>
          <p:nvPr/>
        </p:nvSpPr>
        <p:spPr>
          <a:xfrm>
            <a:off x="6300720" y="263700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даром хлопок называют – «белое золот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4124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Второе богатство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утовый шелкопря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4" descr="самка и самец шелк"/>
          <p:cNvPicPr/>
          <p:nvPr/>
        </p:nvPicPr>
        <p:blipFill>
          <a:blip r:embed="rId1"/>
          <a:stretch/>
        </p:blipFill>
        <p:spPr>
          <a:xfrm>
            <a:off x="4606920" y="1979640"/>
            <a:ext cx="3048120" cy="2438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 гусеница сама себя «одевает», cплетает свой кокон из множества ниток – шелковинок. 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6435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бабочки не умеют летать.  У них нет хоботка, и они не питаются. Поэтому живут недолго. После откладки яиц они погибают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32000" y="3068640"/>
            <a:ext cx="73548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4" descr="тутовый"/>
          <p:cNvPicPr/>
          <p:nvPr/>
        </p:nvPicPr>
        <p:blipFill>
          <a:blip r:embed="rId1"/>
          <a:stretch/>
        </p:blipFill>
        <p:spPr>
          <a:xfrm>
            <a:off x="2771640" y="2060640"/>
            <a:ext cx="3524400" cy="4098960"/>
          </a:xfrm>
          <a:prstGeom prst="rect">
            <a:avLst/>
          </a:prstGeom>
          <a:ln w="0">
            <a:noFill/>
          </a:ln>
        </p:spPr>
      </p:pic>
      <p:pic>
        <p:nvPicPr>
          <p:cNvPr id="175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6435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яиц появляются гусеницы. Они поедают листья тутового дер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111"/>
          <p:cNvPicPr/>
          <p:nvPr/>
        </p:nvPicPr>
        <p:blipFill>
          <a:blip r:embed="rId1"/>
          <a:stretch/>
        </p:blipFill>
        <p:spPr>
          <a:xfrm>
            <a:off x="1547640" y="1628640"/>
            <a:ext cx="5950080" cy="4702320"/>
          </a:xfrm>
          <a:prstGeom prst="rect">
            <a:avLst/>
          </a:prstGeom>
          <a:ln w="0">
            <a:noFill/>
          </a:ln>
        </p:spPr>
      </p:pic>
      <p:pic>
        <p:nvPicPr>
          <p:cNvPr id="179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6435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ез месяц гусеницы превращаются в куколку. В конце развития у гусеницы сильно развивается пара шелковыделительных желёз. Они усиленно выделяют жидкость, которая на воздухе быстро густеет, превращаясь в шелковую нить. Из этой тончайшей нити, достигающей 1000 м длины, гусеница свивает шелковый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кокон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42560" y="3141360"/>
            <a:ext cx="7643880" cy="29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коконы"/>
          <p:cNvPicPr/>
          <p:nvPr/>
        </p:nvPicPr>
        <p:blipFill>
          <a:blip r:embed="rId1"/>
          <a:stretch/>
        </p:blipFill>
        <p:spPr>
          <a:xfrm>
            <a:off x="1763640" y="2338560"/>
            <a:ext cx="5472360" cy="4414680"/>
          </a:xfrm>
          <a:prstGeom prst="rect">
            <a:avLst/>
          </a:prstGeom>
          <a:ln w="0">
            <a:noFill/>
          </a:ln>
        </p:spPr>
      </p:pic>
      <p:pic>
        <p:nvPicPr>
          <p:cNvPr id="183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69483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6435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272880"/>
            <a:ext cx="321444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Алгоритм знакомства с государством  УЗБЕКИСТ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4" descr="http://quorum.kz/user_uploads/news/08022012195337/images/08022012195337.jpg"/>
          <p:cNvPicPr/>
          <p:nvPr/>
        </p:nvPicPr>
        <p:blipFill>
          <a:blip r:embed="rId1"/>
          <a:stretch/>
        </p:blipFill>
        <p:spPr>
          <a:xfrm>
            <a:off x="3635280" y="404640"/>
            <a:ext cx="4969080" cy="4680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2962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звание государ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толи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сел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Язы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циональной костю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циональные блю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Богатства Узбекист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3564000" y="508464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Столица Узбекистана -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Ташкен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4" descr="http://im7-tub-ru.yandex.net/i?id=74130644-46-72&amp;n=21"/>
          <p:cNvPicPr/>
          <p:nvPr/>
        </p:nvPicPr>
        <p:blipFill>
          <a:blip r:embed="rId2"/>
          <a:srcRect l="6387" t="0" r="0" b="2394"/>
          <a:stretch/>
        </p:blipFill>
        <p:spPr>
          <a:xfrm>
            <a:off x="179280" y="3789360"/>
            <a:ext cx="3384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112"/>
          <p:cNvPicPr/>
          <p:nvPr/>
        </p:nvPicPr>
        <p:blipFill>
          <a:blip r:embed="rId1"/>
          <a:stretch/>
        </p:blipFill>
        <p:spPr>
          <a:xfrm>
            <a:off x="2484360" y="549360"/>
            <a:ext cx="4029120" cy="5761080"/>
          </a:xfrm>
          <a:prstGeom prst="rect">
            <a:avLst/>
          </a:prstGeom>
          <a:ln w="0">
            <a:noFill/>
          </a:ln>
        </p:spPr>
      </p:pic>
      <p:pic>
        <p:nvPicPr>
          <p:cNvPr id="185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6372360" y="60930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86" name="TextBox 3"/>
          <p:cNvSpPr/>
          <p:nvPr/>
        </p:nvSpPr>
        <p:spPr>
          <a:xfrm>
            <a:off x="250920" y="40464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коны обрабатывают горячим пар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6435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тем сушат и разматывают на стан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шелкопряд1"/>
          <p:cNvPicPr/>
          <p:nvPr/>
        </p:nvPicPr>
        <p:blipFill>
          <a:blip r:embed="rId1"/>
          <a:stretch/>
        </p:blipFill>
        <p:spPr>
          <a:xfrm>
            <a:off x="900000" y="1654200"/>
            <a:ext cx="6778800" cy="4514760"/>
          </a:xfrm>
          <a:prstGeom prst="rect">
            <a:avLst/>
          </a:prstGeom>
          <a:ln w="0">
            <a:noFill/>
          </a:ln>
        </p:spPr>
      </p:pic>
      <p:pic>
        <p:nvPicPr>
          <p:cNvPr id="190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7451640" y="595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6435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коконе гусеница превращается в куколку. Оболочка кокона защищает куколку от различных неблагоприятных услови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Коконы бывают различной окраски: розовые, зеленоватые, желтые . Но для нужд промышленности в настоящее время разводят исключительно породы с белыми коконам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асть коконов оставляют для получения бабочек. Которые опять отложат яйца и процесс повторит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тутовый"/>
          <p:cNvPicPr/>
          <p:nvPr/>
        </p:nvPicPr>
        <p:blipFill>
          <a:blip r:embed="rId1"/>
          <a:stretch/>
        </p:blipFill>
        <p:spPr>
          <a:xfrm>
            <a:off x="1692360" y="2421000"/>
            <a:ext cx="5543640" cy="4176720"/>
          </a:xfrm>
          <a:prstGeom prst="rect">
            <a:avLst/>
          </a:prstGeom>
          <a:ln w="0">
            <a:noFill/>
          </a:ln>
        </p:spPr>
      </p:pic>
      <p:pic>
        <p:nvPicPr>
          <p:cNvPr id="194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6435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 шёлковых нитей делают красивые тка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4" descr="шёлк"/>
          <p:cNvPicPr/>
          <p:nvPr/>
        </p:nvPicPr>
        <p:blipFill>
          <a:blip r:embed="rId1"/>
          <a:stretch/>
        </p:blipFill>
        <p:spPr>
          <a:xfrm>
            <a:off x="1835280" y="14130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98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7236000" y="544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6435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из тканей шьют красивую одежду, постельное бельё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наряд из шёлка"/>
          <p:cNvPicPr/>
          <p:nvPr/>
        </p:nvPicPr>
        <p:blipFill>
          <a:blip r:embed="rId1"/>
          <a:stretch/>
        </p:blipFill>
        <p:spPr>
          <a:xfrm>
            <a:off x="2050920" y="1628640"/>
            <a:ext cx="46818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Третье богатство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 – овцы,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Содержимое 4" descr="Пастух и стадо"/>
          <p:cNvPicPr/>
          <p:nvPr/>
        </p:nvPicPr>
        <p:blipFill>
          <a:blip r:embed="rId1"/>
          <a:stretch/>
        </p:blipFill>
        <p:spPr>
          <a:xfrm>
            <a:off x="3348000" y="549360"/>
            <a:ext cx="5472000" cy="5400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торые дают людям и шерсть, и мясо. Они нетребовательны, довольны той пищей, которую находят даже в пустынной зоне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8459640" y="566100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6435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300816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Четвёртое богатство – 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одземная кладова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Содержимое 4" descr="http://sdelanounas.ru/i/c/z/czU2LnJhZGlrYWwucnUvaTE1NC8xMTA2LzE0LzRmNjUxMGUyN2Y3ZS5qcGc=.jpg"/>
          <p:cNvPicPr/>
          <p:nvPr/>
        </p:nvPicPr>
        <p:blipFill>
          <a:blip r:embed="rId1"/>
          <a:stretch/>
        </p:blipFill>
        <p:spPr>
          <a:xfrm>
            <a:off x="3564000" y="692280"/>
            <a:ext cx="5040360" cy="51130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3008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сё здесь есть: нефть, медь, уголь, строительные материалы. Вот какой богатый Узбекистан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6435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Узбекист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Содержимое 4" descr="http://im7-tub-ru.yandex.net/i?id=74130644-46-72&amp;n=21"/>
          <p:cNvPicPr/>
          <p:nvPr/>
        </p:nvPicPr>
        <p:blipFill>
          <a:blip r:embed="rId1"/>
          <a:srcRect l="5713" t="0" r="0" b="0"/>
          <a:stretch/>
        </p:blipFill>
        <p:spPr>
          <a:xfrm>
            <a:off x="3492360" y="189000"/>
            <a:ext cx="5400720" cy="30956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008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 мой Родной Узбекистан ! Полей бескрайних карав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Ты самый солнечный, красивый. Гостеприимный край, любимы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Рисунок 5" descr="http://im3-tub-ru.yandex.net/i?id=19812053-24-72&amp;n=21"/>
          <p:cNvPicPr/>
          <p:nvPr/>
        </p:nvPicPr>
        <p:blipFill>
          <a:blip r:embed="rId2"/>
          <a:stretch/>
        </p:blipFill>
        <p:spPr>
          <a:xfrm>
            <a:off x="3492360" y="3500280"/>
            <a:ext cx="54594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i="1" lang="ru-RU" sz="2200" spc="-1" strike="noStrike">
                <a:solidFill>
                  <a:srgbClr val="ff0000"/>
                </a:solidFill>
                <a:latin typeface="Calibri"/>
              </a:rPr>
              <a:t>Узбекистан – многонациональное государство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Здесь проживают десятки национальностей. Население Узбекистана превышает 29 млн. человек.Современное население Узбекистана - узбеки, на территории Узбекистана проживают представители других народов Средней Азии – таджики ,  – казахи, – каракалпаки, – киргизы, а также туркмены и  другие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2" descr="Население Узбекистана"/>
          <p:cNvPicPr/>
          <p:nvPr/>
        </p:nvPicPr>
        <p:blipFill>
          <a:blip r:embed="rId1"/>
          <a:stretch/>
        </p:blipFill>
        <p:spPr>
          <a:xfrm>
            <a:off x="539640" y="2565360"/>
            <a:ext cx="7848720" cy="3888000"/>
          </a:xfrm>
          <a:prstGeom prst="rect">
            <a:avLst/>
          </a:prstGeom>
          <a:ln w="0">
            <a:noFill/>
          </a:ln>
        </p:spPr>
      </p:pic>
      <p:pic>
        <p:nvPicPr>
          <p:cNvPr id="56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7308720" y="63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435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ff0000"/>
                </a:solidFill>
                <a:latin typeface="Bookman Old Style"/>
              </a:rPr>
              <a:t>Узбекскому языку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придан статус государственного языка Республики Узбекистан.</a:t>
            </a:r>
            <a:br>
              <a:rPr sz="40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http://uzxalqharakati.com/wp-content/uploads/2012/03/uzbek-6.jpg"/>
          <p:cNvPicPr/>
          <p:nvPr/>
        </p:nvPicPr>
        <p:blipFill>
          <a:blip r:embed="rId1"/>
          <a:stretch/>
        </p:blipFill>
        <p:spPr>
          <a:xfrm>
            <a:off x="1601640" y="1454040"/>
            <a:ext cx="5940720" cy="3949920"/>
          </a:xfrm>
          <a:prstGeom prst="rect">
            <a:avLst/>
          </a:prstGeom>
          <a:ln w="0">
            <a:noFill/>
          </a:ln>
        </p:spPr>
      </p:pic>
      <p:pic>
        <p:nvPicPr>
          <p:cNvPr id="59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7308720" y="501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435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http://im4-tub-ru.yandex.net/i?id=65948204-61-72&amp;n=21"/>
          <p:cNvPicPr/>
          <p:nvPr/>
        </p:nvPicPr>
        <p:blipFill>
          <a:blip r:embed="rId1"/>
          <a:stretch/>
        </p:blipFill>
        <p:spPr>
          <a:xfrm>
            <a:off x="250920" y="1989000"/>
            <a:ext cx="3241440" cy="3600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0" y="-470520"/>
            <a:ext cx="51958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20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циональный мужской узбекский костюм состоял из верхнего и нижнего халат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вязанного платком или платками, широкой рубахи - куйлак, штанов – иштон, сапог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деланных из тонкой кожи и головного убора – тюбетей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http://im7-tub-ru.yandex.net/i?id=474099807-39-72&amp;n=21"/>
          <p:cNvPicPr/>
          <p:nvPr/>
        </p:nvPicPr>
        <p:blipFill>
          <a:blip r:embed="rId2"/>
          <a:stretch/>
        </p:blipFill>
        <p:spPr>
          <a:xfrm>
            <a:off x="5076720" y="1268280"/>
            <a:ext cx="3816360" cy="28767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3635280" y="439884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ациональная одежда  женщин состояла из платья – куйлак и шаровар – лозим.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Узбекская народная мелодия  - домбра (mp3ostrov.com).mp3" descr=""/>
          <p:cNvPicPr/>
          <p:nvPr/>
        </p:nvPicPr>
        <p:blipFill>
          <a:blip r:embed="rId3"/>
          <a:stretch/>
        </p:blipFill>
        <p:spPr>
          <a:xfrm>
            <a:off x="5867280" y="400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435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250920" y="5868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Book Antiqua"/>
              </a:rPr>
              <a:t>Узбекская кухня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 содержит в себе многовековые традиции народа, умения готовить наивкуснейшие блюда. Самыми известными блюдами узбекской кухни является </a:t>
            </a:r>
            <a:r>
              <a:rPr b="0" lang="ru-RU" sz="1800" spc="-1" strike="noStrike">
                <a:solidFill>
                  <a:srgbClr val="ff0000"/>
                </a:solidFill>
                <a:latin typeface="Book Antiqua"/>
              </a:rPr>
              <a:t>узбекский плов, манты,  шашлык, лагман и самса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 Это самые распространённые блюда. А вы знаете, что такое </a:t>
            </a:r>
            <a:r>
              <a:rPr b="0" lang="ru-RU" sz="1800" spc="-1" strike="noStrike">
                <a:solidFill>
                  <a:srgbClr val="ff0000"/>
                </a:solidFill>
                <a:latin typeface="Book Antiqua"/>
              </a:rPr>
              <a:t>«чойхона»?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Это самая главная из традиций узбекского народа. Эта церемония для мужчин. Около воды, где прохладно, они собираются, готовят на костре плов, шашлыки и пьют ароматный зелёный чай из больших красивых пиал. Чайная церемония одна из интереснейших, даже можно сказать уникальных традиций этого народа. Чай означает примирение, гостеприимство. Можно пить чай с молоком или с сахарным песком, кто как предпочитает. Чайная церемония может включать в себя подачу на стол ароматных мясных, луковых или сырных лепёшек, называемых самсой. Очень вкусны хлебные лепёшки выпекают в печах из глины, которые называются танды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http://im8-tub-ru.yandex.net/i?id=278905801-19-72&amp;n=21"/>
          <p:cNvPicPr/>
          <p:nvPr/>
        </p:nvPicPr>
        <p:blipFill>
          <a:blip r:embed="rId1"/>
          <a:stretch/>
        </p:blipFill>
        <p:spPr>
          <a:xfrm>
            <a:off x="179280" y="5273640"/>
            <a:ext cx="2016360" cy="15843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http://im5-tub-ru.yandex.net/i?id=364133057-39-72&amp;n=21"/>
          <p:cNvPicPr/>
          <p:nvPr/>
        </p:nvPicPr>
        <p:blipFill>
          <a:blip r:embed="rId2"/>
          <a:stretch/>
        </p:blipFill>
        <p:spPr>
          <a:xfrm>
            <a:off x="2268360" y="3716280"/>
            <a:ext cx="2159280" cy="15130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http://im3-tub-ru.yandex.net/i?id=70678188-11-72&amp;n=21"/>
          <p:cNvPicPr/>
          <p:nvPr/>
        </p:nvPicPr>
        <p:blipFill>
          <a:blip r:embed="rId3"/>
          <a:stretch/>
        </p:blipFill>
        <p:spPr>
          <a:xfrm>
            <a:off x="2124000" y="5229360"/>
            <a:ext cx="2808360" cy="1431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http://im3-tub-ru.yandex.net/i?id=149562203-56-72&amp;n=21"/>
          <p:cNvPicPr/>
          <p:nvPr/>
        </p:nvPicPr>
        <p:blipFill>
          <a:blip r:embed="rId4"/>
          <a:stretch/>
        </p:blipFill>
        <p:spPr>
          <a:xfrm>
            <a:off x="6875640" y="3573360"/>
            <a:ext cx="1900080" cy="14320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http://im3-tub-ru.yandex.net/i?id=77062476-59-72&amp;n=21"/>
          <p:cNvPicPr/>
          <p:nvPr/>
        </p:nvPicPr>
        <p:blipFill>
          <a:blip r:embed="rId5"/>
          <a:stretch/>
        </p:blipFill>
        <p:spPr>
          <a:xfrm>
            <a:off x="179280" y="3789360"/>
            <a:ext cx="1900440" cy="14320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http://im6-tub-ru.yandex.net/i?id=549861132-54-72&amp;n=21"/>
          <p:cNvPicPr/>
          <p:nvPr/>
        </p:nvPicPr>
        <p:blipFill>
          <a:blip r:embed="rId6"/>
          <a:stretch/>
        </p:blipFill>
        <p:spPr>
          <a:xfrm>
            <a:off x="4427640" y="3716280"/>
            <a:ext cx="1930320" cy="16574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http://im7-tub-ru.yandex.net/i?id=468426505-34-72&amp;n=21"/>
          <p:cNvPicPr/>
          <p:nvPr/>
        </p:nvPicPr>
        <p:blipFill>
          <a:blip r:embed="rId7"/>
          <a:stretch/>
        </p:blipFill>
        <p:spPr>
          <a:xfrm>
            <a:off x="5148360" y="5202360"/>
            <a:ext cx="2519280" cy="16556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2" descr="http://im4-tub-ru.yandex.net/i?id=243078672-15-72&amp;n=21"/>
          <p:cNvPicPr/>
          <p:nvPr/>
        </p:nvPicPr>
        <p:blipFill>
          <a:blip r:embed="rId8"/>
          <a:stretch/>
        </p:blipFill>
        <p:spPr>
          <a:xfrm>
            <a:off x="7236000" y="5084640"/>
            <a:ext cx="1717560" cy="1433520"/>
          </a:xfrm>
          <a:prstGeom prst="rect">
            <a:avLst/>
          </a:prstGeom>
          <a:ln w="0">
            <a:noFill/>
          </a:ln>
        </p:spPr>
      </p:pic>
      <p:pic>
        <p:nvPicPr>
          <p:cNvPr id="74" name="Узбекская народная мелодия  - домбра (mp3ostrov.com).mp3" descr=""/>
          <p:cNvPicPr/>
          <p:nvPr/>
        </p:nvPicPr>
        <p:blipFill>
          <a:blip r:embed="rId9"/>
          <a:stretch/>
        </p:blipFill>
        <p:spPr>
          <a:xfrm>
            <a:off x="6948360" y="62373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75" name="Узбекская народная мелодия  - домбра (mp3ostrov.com).mp3" descr=""/>
          <p:cNvPicPr/>
          <p:nvPr/>
        </p:nvPicPr>
        <p:blipFill>
          <a:blip r:embed="rId10"/>
          <a:stretch/>
        </p:blipFill>
        <p:spPr>
          <a:xfrm>
            <a:off x="781200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435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6435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Узбекистане много природных богатств. 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Первое богатство –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 хлопок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н изображён даже в государственном гербе.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http://im7-tub-ru.yandex.net/i?id=291419809-16-72&amp;n=21"/>
          <p:cNvPicPr/>
          <p:nvPr/>
        </p:nvPicPr>
        <p:blipFill>
          <a:blip r:embed="rId1"/>
          <a:stretch/>
        </p:blipFill>
        <p:spPr>
          <a:xfrm>
            <a:off x="1979640" y="1844640"/>
            <a:ext cx="5761080" cy="4321080"/>
          </a:xfrm>
          <a:prstGeom prst="rect">
            <a:avLst/>
          </a:prstGeom>
          <a:ln w="0">
            <a:noFill/>
          </a:ln>
        </p:spPr>
      </p:pic>
      <p:pic>
        <p:nvPicPr>
          <p:cNvPr id="78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5867280" y="544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6435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Рисунок 3" descr="ano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1289880" y="836640"/>
            <a:ext cx="6964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Как растёт хлопок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Записанный звук" descr=""/>
          <p:cNvPicPr/>
          <p:nvPr/>
        </p:nvPicPr>
        <p:blipFill>
          <a:blip r:embed="rId2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338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9:17:46Z</dcterms:created>
  <dc:creator>Андрей</dc:creator>
  <dc:description/>
  <dc:language>en-US</dc:language>
  <cp:lastModifiedBy>HP</cp:lastModifiedBy>
  <dcterms:modified xsi:type="dcterms:W3CDTF">2019-11-20T16:19:30Z</dcterms:modified>
  <cp:revision>104</cp:revision>
  <dc:subject/>
  <dc:title>Слайд 1</dc:title>
</cp:coreProperties>
</file>