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53D-76F4-4969-B4E4-BEEFE2C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60D-7F7C-4330-9C89-F5ED6174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01A-04E8-4E55-AD91-F583049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AFE-79D0-43FF-BDED-DCA74B84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1F9-B12A-456D-A880-4CC4D557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A22-82D2-4273-BB6E-3FB9CB6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9ED-2DF5-47A3-B31B-6E85DE4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FCB-45B4-447C-8337-5E726F04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0FA-1456-45EE-80AA-04638D21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9D8-0ED3-47FD-9B8A-4BAA830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FF0-4705-4DA0-B230-4DAFB57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559-9952-460D-98FC-A7C41EA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286-8FE7-4601-A78B-9509418F03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59;&#1089;&#1084;&#1072;&#1085;&#1100;" TargetMode="External"/><Relationship Id="rId3" Type="http://schemas.openxmlformats.org/officeDocument/2006/relationships/hyperlink" Target="https://ru.wikipedia.org/wiki/&#1051;&#1080;&#1087;&#1077;&#1094;&#1082;&#1072;&#1103;_&#1086;&#1073;&#1083;&#1072;&#1089;&#1090;&#1100;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59;&#1089;&#1084;&#1072;&#1085;&#1100;" TargetMode="External"/><Relationship Id="rId3" Type="http://schemas.openxmlformats.org/officeDocument/2006/relationships/hyperlink" Target="https://ru.wikipedia.org/wiki/&#1051;&#1080;&#1087;&#1077;&#1094;&#1082;&#1072;&#1103;_&#1086;&#1073;&#1083;&#1072;&#1089;&#1090;&#1100;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44280" y="1760040"/>
            <a:ext cx="7561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Times New Roman"/>
              </a:rPr>
              <a:t>Математический 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857680"/>
            <a:ext cx="5929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ка жюри подводит итоги. Ответьте на  вопрос. В этом году двум известным российским ученым исполнилось бы 100 лет. Кто эти учены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Basov.jpg"/>
          <p:cNvPicPr/>
          <p:nvPr/>
        </p:nvPicPr>
        <p:blipFill>
          <a:blip r:embed="rId1"/>
          <a:stretch/>
        </p:blipFill>
        <p:spPr>
          <a:xfrm>
            <a:off x="436680" y="1434960"/>
            <a:ext cx="2286000" cy="32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59280" y="476280"/>
            <a:ext cx="562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14 декабря 1922 года в городе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сма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(ныне — в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Липецк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ский и российский физик, лауреат Нобелевской премии по физике, Ленинской премии и Государственной премии СССР. Дважды Герой Социалистического Труда. Внёс значительный вклад в развитие квантовой электроники и создание лазерных установок. Создатель микроволнового аммиачного генератора - маз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й Геннадиевич Ба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Basov.jpg"/>
          <p:cNvPicPr/>
          <p:nvPr/>
        </p:nvPicPr>
        <p:blipFill>
          <a:blip r:embed="rId1"/>
          <a:stretch/>
        </p:blipFill>
        <p:spPr>
          <a:xfrm>
            <a:off x="457200" y="1268280"/>
            <a:ext cx="2286000" cy="322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059280" y="1125000"/>
            <a:ext cx="56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ился 14 декабря 1922 года в городе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сма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(ныне — в 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Липецк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Советский и российский физик, лауреат Нобелевской премии по физике, Ленинской премии и Государственной премии СССР. Дважды Герой Социалистического Труда. Внёс значительный вклад в развитие квантовой электроники и создание лазерных установок. Создатель микроволнового аммиачного генератора - маз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708000" y="1558440"/>
            <a:ext cx="497844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26 августа 1922 г.,  Моск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ский и российский математик, педагог, методист, кандидат педагогических наук, руководитель авторского коллектива учебников по алгебре под редакцией С. А. Теляковского, лауреат первой премии К. Д. Ушинского, «Отличник народного просвеще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s://www.mathedu.ru/img/person-makarychev_yu_n.jpg"/>
          <p:cNvPicPr/>
          <p:nvPr/>
        </p:nvPicPr>
        <p:blipFill>
          <a:blip r:embed="rId1"/>
          <a:stretch/>
        </p:blipFill>
        <p:spPr>
          <a:xfrm>
            <a:off x="452520" y="846000"/>
            <a:ext cx="2695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Юрий Николаевич Макарыч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08000" y="1534680"/>
            <a:ext cx="49784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26 августа 1922 г.,  Моск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ский и российский математик, педагог, методист, кандидат педагогических наук, руководитель авторского коллектива учебников по алгебре под редакцией С. А. Теляковского, лауреат первой премии К. Д. Ушинского, «Отличник народного просвеще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s://www.mathedu.ru/img/person-makarychev_yu_n.jpg"/>
          <p:cNvPicPr/>
          <p:nvPr/>
        </p:nvPicPr>
        <p:blipFill>
          <a:blip r:embed="rId1"/>
          <a:stretch/>
        </p:blipFill>
        <p:spPr>
          <a:xfrm>
            <a:off x="309600" y="1197000"/>
            <a:ext cx="269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полнительные 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30080" y="157176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шляпу нося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724680" y="22147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чем мы едим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23600" y="285768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ую цепь нельзя подня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706680" y="3571920"/>
            <a:ext cx="74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акого полотна не сошьешь рубашку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723240" y="4214880"/>
            <a:ext cx="75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чему можно ходить, но нельзя ездить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Спасибо за игр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img0.liveinternet.ru/images/attach/c/0/38/268/38268272_Wise20Owl.gif"/>
          <p:cNvPicPr/>
          <p:nvPr/>
        </p:nvPicPr>
        <p:blipFill>
          <a:blip r:embed="rId1"/>
          <a:stretch/>
        </p:blipFill>
        <p:spPr>
          <a:xfrm>
            <a:off x="2928960" y="2071800"/>
            <a:ext cx="2886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 рау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8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Математическая гонк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 раунд «Заморочки из боч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7520" y="5353200"/>
            <a:ext cx="288288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s://static.vecteezy.com/ti/vecteur-libre/p2/416618-numero-1-10-gratuit-vectoriel.jpg"/>
          <p:cNvPicPr/>
          <p:nvPr/>
        </p:nvPicPr>
        <p:blipFill>
          <a:blip r:embed="rId1"/>
          <a:stretch/>
        </p:blipFill>
        <p:spPr>
          <a:xfrm>
            <a:off x="539640" y="1700280"/>
            <a:ext cx="77025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I раунд «Рассеянный математ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274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еянный математик обязательно в любом слове делает по ошибке, превращая его в математический термин. Отгадайте по подсказкам слова, которые математик хотел написать и которые у него получились, если известно, что он добавлял, убирал или заменял в слове ровно по одной бук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II раунд "Рассеянный математик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название зимнего христианского праздника, а получилось равенст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синоним слова "лучший товарищ", а получилась геометрическая фигура без углов.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тел написать синоним слова "дорога", а получилась цифра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IV раунд «Математические анаграммы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547640" y="1859040"/>
            <a:ext cx="626436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ставьте буквы в предложенных словах так, чтобы из них получились математические термины и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       </a:t>
            </a: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ЛИЧОС  ТИР   </a:t>
            </a:r>
            <a:br>
              <a:rPr sz="4000"/>
            </a:b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     БРОМ   СКОРО</a:t>
            </a:r>
            <a:br>
              <a:rPr sz="4000"/>
            </a:br>
            <a:r>
              <a:rPr b="0" lang="ru-RU" sz="4000" spc="-1" strike="noStrike">
                <a:solidFill>
                  <a:srgbClr val="222222"/>
                </a:solidFill>
                <a:latin typeface="Times New Roman"/>
              </a:rPr>
              <a:t>      СПЛЮ   МАМУС</a:t>
            </a:r>
            <a:r>
              <a:rPr b="0" lang="ru-RU" sz="1800" spc="-1" strike="noStrike">
                <a:solidFill>
                  <a:srgbClr val="222222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7822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V раунд «</a:t>
            </a:r>
            <a:r>
              <a:rPr b="1" lang="ru-RU" sz="4400" spc="-1" strike="noStrike">
                <a:solidFill>
                  <a:srgbClr val="222222"/>
                </a:solidFill>
                <a:latin typeface="Times New Roman"/>
              </a:rPr>
              <a:t>Конкурс капитанов»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116000" y="14032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22"/>
                </a:solidFill>
                <a:latin typeface="Times New Roman"/>
              </a:rPr>
              <a:t>В русском языке встречаются пословицы и поговорки, в которых встречаются числа. Капитаны называют по одной пословице. Выигрывает та команда, капитан которой последний назовёт пословиц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WiZaRd</cp:lastModifiedBy>
  <dcterms:modified xsi:type="dcterms:W3CDTF">2022-12-30T13:02:48Z</dcterms:modified>
  <cp:revision>110</cp:revision>
  <dc:subject/>
  <dc:title>Слайд 1</dc:title>
</cp:coreProperties>
</file>