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696A-F5EE-4D9B-8897-860ACC5C3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5640" y="262080"/>
            <a:ext cx="87487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874872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640" y="3747240"/>
            <a:ext cx="874872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F754-37CA-4FD4-B3A8-67897386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85640" y="262080"/>
            <a:ext cx="87487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9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68720" y="1510920"/>
            <a:ext cx="4269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5640" y="3747240"/>
            <a:ext cx="4269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68720" y="3747240"/>
            <a:ext cx="4269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B640-F84A-4937-9B58-7507DDE50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85640" y="262080"/>
            <a:ext cx="87487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28170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43760" y="1510920"/>
            <a:ext cx="28170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2240" y="1510920"/>
            <a:ext cx="28170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5640" y="3747240"/>
            <a:ext cx="28170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43760" y="3747240"/>
            <a:ext cx="28170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2240" y="3747240"/>
            <a:ext cx="28170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7371-C999-4EFC-BB41-6AA3E4D67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9C5A5-CF51-45D7-869D-2701B2126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5640" y="262080"/>
            <a:ext cx="87487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85640" y="1510920"/>
            <a:ext cx="874872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03B1-D2DB-412B-9E6F-5FAFD634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85640" y="262080"/>
            <a:ext cx="87487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874872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774D-AD97-409C-BD90-A82127C09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5640" y="262080"/>
            <a:ext cx="87487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924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68720" y="1510920"/>
            <a:ext cx="426924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AE0B-AC0F-41F4-A0F2-8F0A5331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85640" y="262080"/>
            <a:ext cx="87487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B052-2C46-41CC-BF12-86CD4C02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85640" y="262080"/>
            <a:ext cx="874872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46D1-3BE5-4B91-A6EB-798F8431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85640" y="262080"/>
            <a:ext cx="87487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9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8720" y="1510920"/>
            <a:ext cx="426924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5640" y="3747240"/>
            <a:ext cx="4269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E7FED-9B9B-4FC4-B27A-1E3D293B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640" y="262080"/>
            <a:ext cx="87487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85640" y="1510920"/>
            <a:ext cx="874872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7CB6-9E85-4FF5-BAE5-48B5460D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85640" y="262080"/>
            <a:ext cx="87487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924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8720" y="1510920"/>
            <a:ext cx="4269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68720" y="3747240"/>
            <a:ext cx="4269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B8C5-45B6-4E72-A542-804BB156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85640" y="262080"/>
            <a:ext cx="87487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9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68720" y="1510920"/>
            <a:ext cx="4269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5640" y="3747240"/>
            <a:ext cx="874872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702F-81B9-40D4-A108-6EC58A5D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85640" y="262080"/>
            <a:ext cx="87487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874872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5640" y="3747240"/>
            <a:ext cx="874872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D6BA-52A6-42A7-8641-8A0DBDC8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85640" y="262080"/>
            <a:ext cx="87487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9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68720" y="1510920"/>
            <a:ext cx="4269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5640" y="3747240"/>
            <a:ext cx="4269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68720" y="3747240"/>
            <a:ext cx="4269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5EA8-5E01-4E84-B154-32EE7940F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85640" y="262080"/>
            <a:ext cx="87487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28170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43760" y="1510920"/>
            <a:ext cx="28170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02240" y="1510920"/>
            <a:ext cx="28170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5640" y="3747240"/>
            <a:ext cx="28170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43760" y="3747240"/>
            <a:ext cx="28170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02240" y="3747240"/>
            <a:ext cx="28170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634A-D423-459E-856A-F1E0DDAC1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640" y="262080"/>
            <a:ext cx="87487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874872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1D83-BE64-42C2-BF47-EE6A1639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85640" y="262080"/>
            <a:ext cx="87487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924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68720" y="1510920"/>
            <a:ext cx="426924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AD4A-BABB-4499-B46E-04121F0C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640" y="262080"/>
            <a:ext cx="87487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DCFD-BDF0-45B8-BB26-270479B9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85640" y="262080"/>
            <a:ext cx="874872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8949-639A-4F30-AF24-0350BD8C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5640" y="262080"/>
            <a:ext cx="87487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9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68720" y="1510920"/>
            <a:ext cx="426924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640" y="3747240"/>
            <a:ext cx="4269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4FF7-48BE-4B3D-A0B8-E5674FCC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5640" y="262080"/>
            <a:ext cx="87487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924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68720" y="1510920"/>
            <a:ext cx="4269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68720" y="3747240"/>
            <a:ext cx="4269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B54F-87E0-4A35-A0B2-F559CF40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5640" y="262080"/>
            <a:ext cx="87487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9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68720" y="1510920"/>
            <a:ext cx="4269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5640" y="3747240"/>
            <a:ext cx="874872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143C-4953-4D73-96CC-F9F6F489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640" y="262080"/>
            <a:ext cx="87487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640" y="1510920"/>
            <a:ext cx="874872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5898960"/>
            <a:ext cx="2268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0640" y="5903640"/>
            <a:ext cx="3078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5640" y="5898960"/>
            <a:ext cx="2268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6D66740-5EC0-463B-820E-9BA805655708}" type="slidenum">
              <a: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04640" y="216000"/>
            <a:ext cx="8748720" cy="5760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85640" y="5832360"/>
            <a:ext cx="874872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47640" y="1152360"/>
            <a:ext cx="8425080" cy="8636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2106720" y="3743280"/>
            <a:ext cx="692136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5640" y="262080"/>
            <a:ext cx="87487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85640" y="1510920"/>
            <a:ext cx="874872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85640" y="5898960"/>
            <a:ext cx="2268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320640" y="5898960"/>
            <a:ext cx="3078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965640" y="5898960"/>
            <a:ext cx="2268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2C838F2-598F-46DB-9B77-86DE242BCE38}" type="slidenum">
              <a: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006.radikal.ru/0711/50/7395277f1da5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1015560"/>
            <a:ext cx="6767640" cy="13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33"/>
                </a:solidFill>
                <a:latin typeface="Lucida Console"/>
              </a:rPr>
              <a:t>Драматургия в творчестве Маяковского</a:t>
            </a:r>
            <a:br>
              <a:rPr sz="4800"/>
            </a:br>
            <a:br>
              <a:rPr sz="1400"/>
            </a:b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23640" y="3960360"/>
            <a:ext cx="5832360" cy="20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своих драматических произведениях Маяковский развивал ту линию агитационно-плакатного искусства, которая возникла в первые годы после революции и отражала стремление демократизировать театр.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Картинка 7 из 1997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1295280"/>
            <a:ext cx="3564000" cy="3932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i"/>
          <p:cNvPicPr/>
          <p:nvPr/>
        </p:nvPicPr>
        <p:blipFill>
          <a:blip r:embed="rId3"/>
          <a:stretch/>
        </p:blipFill>
        <p:spPr>
          <a:xfrm>
            <a:off x="0" y="0"/>
            <a:ext cx="1305000" cy="10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468360" y="287280"/>
            <a:ext cx="273528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В будущем все играющие, ставящие, читающие, печатающие "Мистерию-буфф", меняйте содержание, - делайте содержание ее современным, сегодняшним, сиюминутным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.В.Маяковск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7054920" y="2735280"/>
            <a:ext cx="266544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ыми для современной России представляются строки из этой пье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ещали и делим поровн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му - бубли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му - дырку от бублика.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и есть демократическая республи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dag6"/>
          <p:cNvPicPr/>
          <p:nvPr/>
        </p:nvPicPr>
        <p:blipFill>
          <a:blip r:embed="rId1"/>
          <a:stretch/>
        </p:blipFill>
        <p:spPr>
          <a:xfrm>
            <a:off x="252360" y="2664000"/>
            <a:ext cx="3888000" cy="3060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demok_big"/>
          <p:cNvPicPr/>
          <p:nvPr/>
        </p:nvPicPr>
        <p:blipFill>
          <a:blip r:embed="rId2"/>
          <a:stretch/>
        </p:blipFill>
        <p:spPr>
          <a:xfrm>
            <a:off x="4284720" y="360360"/>
            <a:ext cx="276372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24360" y="216000"/>
            <a:ext cx="338472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Пьесы Маяковского отличает политическая заостренность, сатирическая сила в изображении обывательщины и бюрократизма, реалистическая убедительность и симпатия к положительным героям, умение органически включать в развитие, действия фантастику. Сила обобщения и мастерство, присущие пьесам Маяковского, проверены временем.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5" name="Picture 5" descr="mayak_radio"/>
          <p:cNvPicPr/>
          <p:nvPr/>
        </p:nvPicPr>
        <p:blipFill>
          <a:blip r:embed="rId1"/>
          <a:stretch/>
        </p:blipFill>
        <p:spPr>
          <a:xfrm>
            <a:off x="3060720" y="287280"/>
            <a:ext cx="2581200" cy="3809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m1_b"/>
          <p:cNvPicPr/>
          <p:nvPr/>
        </p:nvPicPr>
        <p:blipFill>
          <a:blip r:embed="rId2"/>
          <a:stretch/>
        </p:blipFill>
        <p:spPr>
          <a:xfrm>
            <a:off x="252360" y="1944720"/>
            <a:ext cx="29527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85280" y="262080"/>
            <a:ext cx="87505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Пьесы Маяковского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6720" y="1295280"/>
            <a:ext cx="4127760" cy="28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omic Sans MS"/>
              </a:rPr>
              <a:t>Кло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omic Sans MS"/>
              </a:rPr>
              <a:t>Бан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omic Sans MS"/>
              </a:rPr>
              <a:t>Мистерия-Буф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900000" y="1224000"/>
            <a:ext cx="3157560" cy="42321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611280" y="5832360"/>
            <a:ext cx="8569080" cy="9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х драматургию в целом отличала романтическая трактовка революционных событий, сочетание трагедии с социальным оптимизмо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5280" y="307800"/>
            <a:ext cx="875052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Пьеса «Баня»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511280"/>
            <a:ext cx="427032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«А чтоб смешнее было, а второе, разве мало бюрократов, и разве это не драма нашего Союза? Смешно – да, как в цирке, но то, над чем смеемся, - драма нашей жизни, ее уродство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49"/>
              </a:spcBef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В.В. Маяковский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39314"/>
          <p:cNvPicPr/>
          <p:nvPr/>
        </p:nvPicPr>
        <p:blipFill>
          <a:blip r:embed="rId1"/>
          <a:stretch/>
        </p:blipFill>
        <p:spPr>
          <a:xfrm>
            <a:off x="6084720" y="1152360"/>
            <a:ext cx="2994120" cy="454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8360" y="286920"/>
            <a:ext cx="874872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тема пьесы — борьба против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бюрократизм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шлост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дхалимств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других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роко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унаследованных от старого 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95280" y="1295280"/>
            <a:ext cx="3097080" cy="45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яковский вывел в "Бане" сатирические образы бюрократов, засевших в учреждениях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бедоносик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главный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бюрокра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чванливый и тупой, восхваляющий себя, как "ответственного государственного деятеля". Его понятия лишены реальности; он много говорит, но ничего не делает. Образ Победоносикова дополняется такими же бюрократами, как Оптимистенко, Мезальянсова, Иван Иваныч.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У них у всех ограниченное мышлен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они становятся на пути тех, кто стремится к новому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image060"/>
          <p:cNvPicPr/>
          <p:nvPr/>
        </p:nvPicPr>
        <p:blipFill>
          <a:blip r:embed="rId1"/>
          <a:stretch/>
        </p:blipFill>
        <p:spPr>
          <a:xfrm>
            <a:off x="3492360" y="1224000"/>
            <a:ext cx="2667240" cy="4324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272"/>
          <p:cNvPicPr/>
          <p:nvPr/>
        </p:nvPicPr>
        <p:blipFill>
          <a:blip r:embed="rId2"/>
          <a:stretch/>
        </p:blipFill>
        <p:spPr>
          <a:xfrm>
            <a:off x="6443640" y="1224000"/>
            <a:ext cx="3041640" cy="40323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8"/>
          <p:cNvSpPr/>
          <p:nvPr/>
        </p:nvSpPr>
        <p:spPr>
          <a:xfrm>
            <a:off x="6443640" y="5327640"/>
            <a:ext cx="327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аксим Штраух в роли Победоносикова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velosipedkin_s"/>
          <p:cNvPicPr/>
          <p:nvPr/>
        </p:nvPicPr>
        <p:blipFill>
          <a:blip r:embed="rId1"/>
          <a:stretch/>
        </p:blipFill>
        <p:spPr>
          <a:xfrm>
            <a:off x="5076720" y="360360"/>
            <a:ext cx="4105440" cy="52578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5400720" y="5904000"/>
            <a:ext cx="431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елосипедкин - А. Мирон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68360" y="287280"/>
            <a:ext cx="4248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ругие персонажи пьесы, такие как изобретатель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удаков, Велосипедки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хотят людям добра. Чудаков говорит о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"машине времени"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46eaee0e6d4a5"/>
          <p:cNvPicPr/>
          <p:nvPr/>
        </p:nvPicPr>
        <p:blipFill>
          <a:blip r:embed="rId2"/>
          <a:stretch/>
        </p:blipFill>
        <p:spPr>
          <a:xfrm>
            <a:off x="539640" y="122400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9"/>
          <p:cNvSpPr/>
          <p:nvPr/>
        </p:nvSpPr>
        <p:spPr>
          <a:xfrm>
            <a:off x="611280" y="4392720"/>
            <a:ext cx="388944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 моей машиной ты можешь взвихрить растянутые тягучие годы горя, втянуть голову в плечи, и над тобой, не задевая и не роняя, сто раз в минуту будет проноситься снаряд солнца, приканчивая черные дни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280" y="1439640"/>
            <a:ext cx="810396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>
                <a:solidFill>
                  <a:srgbClr val="006633"/>
                </a:solidFill>
                <a:latin typeface="Garamond"/>
              </a:rPr>
              <a:t>Пьеса «Клоп»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03280" y="2447640"/>
            <a:ext cx="4302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В пьесе “Клоп” 1929 года поэт объявляет непримиримую войну мещанству во всех его проявлениях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bug_posters"/>
          <p:cNvPicPr/>
          <p:nvPr/>
        </p:nvPicPr>
        <p:blipFill>
          <a:blip r:embed="rId1"/>
          <a:stretch/>
        </p:blipFill>
        <p:spPr>
          <a:xfrm>
            <a:off x="900000" y="3745080"/>
            <a:ext cx="80964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000" y="287280"/>
            <a:ext cx="237492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икроб мещанства, сатирически разоблаченный в пьесе, представляется как античеловеческая, антиобщественная сила, страшная своей способностью заражать общество.</a:t>
            </a:r>
            <a:br>
              <a:rPr sz="1400"/>
            </a:br>
            <a:br>
              <a:rPr sz="26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39640" y="5832360"/>
            <a:ext cx="8712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Беспощадность в разоблачении мещанства придает пьесе боевой наступательный характе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k-gl-5-2"/>
          <p:cNvPicPr/>
          <p:nvPr/>
        </p:nvPicPr>
        <p:blipFill>
          <a:blip r:embed="rId1"/>
          <a:stretch/>
        </p:blipFill>
        <p:spPr>
          <a:xfrm>
            <a:off x="826920" y="3816360"/>
            <a:ext cx="7848720" cy="1882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23-4"/>
          <p:cNvPicPr/>
          <p:nvPr/>
        </p:nvPicPr>
        <p:blipFill>
          <a:blip r:embed="rId2"/>
          <a:stretch/>
        </p:blipFill>
        <p:spPr>
          <a:xfrm>
            <a:off x="2987640" y="287280"/>
            <a:ext cx="29084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8360" y="1800000"/>
            <a:ext cx="583236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>
                <a:solidFill>
                  <a:srgbClr val="006633"/>
                </a:solidFill>
                <a:latin typeface="Garamond"/>
              </a:rPr>
              <a:t>Мистерия-Буфф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427640" y="3887640"/>
            <a:ext cx="44640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"Революция расплавила все, - нет никаких законченных рисунков, не может быть и законченной пьесы". Ощущая "неоформленность" времени, его "двуличие", поэт записал: "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Мистерия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- великое в революции,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буфф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- смешное в ней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Le7-054"/>
          <p:cNvPicPr/>
          <p:nvPr/>
        </p:nvPicPr>
        <p:blipFill>
          <a:blip r:embed="rId1"/>
          <a:stretch/>
        </p:blipFill>
        <p:spPr>
          <a:xfrm>
            <a:off x="755640" y="1295280"/>
            <a:ext cx="3610080" cy="47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4360" y="503280"/>
            <a:ext cx="87487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эт верил в идеалы революции и возлагал на нее большие надеж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Эта  же вера от лица нового класса прозвучала в пьесе "Мистерия-буфф". Когда семь пар нечистых оказываются перед "дверью" будущего, машинист провозглашае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68360" y="1584360"/>
            <a:ext cx="230328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Сего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то лишь бутафорские двер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зав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ылью сменится театральный с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ы это зна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ы в это вери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cvt30823"/>
          <p:cNvPicPr/>
          <p:nvPr/>
        </p:nvPicPr>
        <p:blipFill>
          <a:blip r:embed="rId1"/>
          <a:stretch/>
        </p:blipFill>
        <p:spPr>
          <a:xfrm>
            <a:off x="2700360" y="1511280"/>
            <a:ext cx="6480000" cy="3816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 1</dc:creator>
  <dc:description/>
  <dc:language>en-US</dc:language>
  <cp:lastModifiedBy>Oleg Buikin</cp:lastModifiedBy>
  <dcterms:modified xsi:type="dcterms:W3CDTF">2022-12-30T14:56:24Z</dcterms:modified>
  <cp:revision>6</cp:revision>
  <dc:subject/>
  <dc:title>Драматургия в творчестве Маяковского.</dc:title>
</cp:coreProperties>
</file>